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61F1-8E2F-4AAF-B793-BCE4278E2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0BFF-977F-4AB8-892A-C18C1FF00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C3F9-E549-4853-8E06-01CC7D961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51AC-F9EC-4ECA-89E0-F12A95E1D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66C0-A2FA-4325-B732-25DFDB402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7045-98E8-4DCA-83A5-53C6F3456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3EC8-EC5C-4301-872B-BC62216F0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7FC5-273C-4E9F-A87A-39DAABBB9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502C-DF54-4B12-A259-A3BE16023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36B5-751D-4D87-A207-BFE9B1EA2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86F1-0A0A-4A45-A8BD-18857ECC5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5204-A39A-4FD8-B0AB-86E677708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397C5-DFC7-4836-9B04-2B5486E7B8A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Авария на Чернобыльской АЭС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6553440" cy="46119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462800" y="6216480"/>
            <a:ext cx="168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полнил: Аблов М.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АВАРИЯ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имерно в 1:24 26 апреля 1986 года на 4-м энергоблоке Чернобыльской АЭС произошёл взрыв, который полностью разрушил реактор. Причиной этого стало проведение испытаний на безопасность на сверхнизкой мощности в 200 МВт, в то время как норма- 700 МВт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огда уровень мощности упал слишком низко, нажатием кнопки аварийного отключения был спровоцирован неудержимый рост мощности, приведший к разрушению 4 блок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Здание энергоблока частично обрушилось. Впоследствии остатки активной зоны расплавились. Смесь из расплавленного металла, песка, бетона и частичек топлива растеклась по подреакторным помещениям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результате аварии произошёл выброс в окружающую среду радиоактивных веществ, в том числе изотопов урана, плутония, иода-131 (период полураспада 8 дней), цезия-134 (период полураспада 2 года), цезия-137 (период полураспада 33 года), стронция-90 (период полураспада 28 лет)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038480" y="1600200"/>
            <a:ext cx="51055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bf1"/>
                </a:solidFill>
                <a:latin typeface="Arial"/>
              </a:rPr>
              <a:t>Некоторые факты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становка реактора фактически не соответствовала действовавшим нормам безопасности во время проектирования и даже имела небезопасные конструктивные особен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едостаточный анализ безопас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едостаточное внимание к независимому рассмотрению безопас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егламенты по эксплуатации надлежащим образом не обоснованы в анализе безопас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едостаточный и неэффективный обмен важной информацией по безопасности, как между операторами, так и между операторами и проектировщика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едостаточное понимание персоналом аспектов их станции, связанных с безопасность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именение СГОРАЕМЫХ материалов в строительстве, с целью удешевления конструкции, что и сказалось на тушении здания энергоблока (тушение продолжалось всю ночь, многие пожарные получили смертельные дозы излучения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1066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bf1"/>
                </a:solidFill>
                <a:latin typeface="Arial"/>
              </a:rPr>
              <a:t>Безопасность была на 2-ом плане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Недостатки реактора РБМК-1000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191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еактор становится практически неуправляемым на сверхнизкой мощности, необходимо сразу его глушить, но результат был непредвиденным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ольшое количество трубопроводов и различных вспомогательных подсистем требует наличия большого количества высококвалифицированного персонала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еобходимость проведения поканального регулирования расходов, что может повлечь за собой аварии, связанные с прекращением расхода теплоносителя через канал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олее высокая нагрузка на оперативный персонал, связанная с большим количеством узлов (например запорно-регулирующей арматуры)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ольшее количество активированных конструкционных материалов из-за больших размеров АЗ и металлоёмкости РБМК, остающихся после вывода из эксплуатации и требующих утилизац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343400" y="1600200"/>
            <a:ext cx="480060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-360" y="456840"/>
            <a:ext cx="4419720" cy="60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первые часы после аварии, многие не сознавали, насколько сильно повреждён реактор, поэтому было принято ошибочное решение обеспечить подачу воды в активную зону реактора для её охлаждения. Эти усилия оказались бесполезны, так как и трубопроводы, и сама активная зона были разрушены, из-за чего требовалось вести работы в зонах с высокой радиацией. Другие действия персонала станции, такие как тушение локальных очагов пожаров в помещениях станции, меры, направленные на предотвращение возможного взрыва напротив, были необходимыми. Возможно, они предотвратили ещё более серьёзные последствия. При выполнении этих работ многие сотрудники станции получили большие дозы радиации, а некоторые даже смертельные. Выброс привёл к гибели деревьев рядом с АЭС на площади около 10 км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724280" y="533520"/>
            <a:ext cx="41655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-360" y="228240"/>
            <a:ext cx="8915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жарные не дали огню перекинуться на третий блок (у 3-го и 4-го энергоблоков единые переходы). Из средств защиты у пожарных была только боёвка (брезентовая роба), каска и рукавицы. В противогазах работать было невозможно из-за высокой температуры горения, их пожарные сняли уже в первые 10 минут. Вместо огнестойкого покрытия, как было положено по инструкции, крыша машинного зала была залита обычным горючим битумом. Примерно к 2 часам ночи появились первые поражённые из числа пожарных. У них стала проявляться слабость, рвота, «ядерный загар», а после снятия рукавиц снималась и кожа с рук. Помощь им оказывали на месте, в медпункте станции, после чего переправляли в городскую больницу Припяти. 27 апреля первую группу пострадавших из 28 человек отправили самолетом в Москву, в 6-ю радиологическую больницу. Практически не пострадали водители пожарных автомобил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905120" y="3276720"/>
            <a:ext cx="57531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8088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ервое официальное сообщение было сделано по телевидению 28 апреля. В довольно сухом сообщении сообщалось о факте аварии и двух погибших, об истинных масштабах катастрофы стали сообщать позж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осле оценки масштабов радиоактивного загрязнения стало понятно, что потребуется эвакуация города Припять, которая была проведена 27 апреля. В первые дни после аварии было эвакуировано население 10-километровой зоны. В последующие дни было эвакуировано население других населённых пунктов 30-километровой зоны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Запрещалось брать с собой вещи, многие были эвакуированы в домашней одежде. Чтобы не раздувать панику, сообщалось, что эвакуированные вернутся домой через три дня. Безопасные пути движения колонн эвакуированного населения определялись с учётом уже полученных данных радиационной разведки. Несмотря на это, ни 26, ни 27 апреля жителей не предупредили о существующей опасности и не дали никаких рекомендаций о том, как следует себя вести, чтобы уменьшить влияние радиоактивного загрязнен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371600" y="3276720"/>
            <a:ext cx="64008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53352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30-километровую зону вокруг ЧАЭС стали прибывать специалисты, командированные для проведения работ на аварийном блоке и вокруг него, а также воинские части, как регулярные, так и составленные из срочно призванных резервистов. Их всех позднее стали называть «ликвидаторами». Ликвидаторы работали в опасной зоне посменно: те, кто набрал максимально допустимую дозу радиации, уезжали, а на их место приезжали другие. Основная часть работ была выполнена в 1986—1987 годах, в них приняли участие примерно 240 000 человек. Общее количество ликвидаторов (включая последующие годы) составило около 600 00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" y="2392200"/>
            <a:ext cx="5410080" cy="4465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715000" y="6248520"/>
            <a:ext cx="4495680" cy="38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ВЕТЛАЯ ИМ ПАМЯТЬ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ростой пользователь</cp:lastModifiedBy>
  <dcterms:modified xsi:type="dcterms:W3CDTF">2011-03-11T06:07:58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