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B17-A06C-4732-9F66-B292C5EB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ED2-A041-4B17-8839-AC8FDE18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601-7ED3-405B-985E-11D87F18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12F-43DC-4E46-8062-25C87684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E67-4C48-44D4-BE66-5F40B412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7AD-A1C5-43CB-837F-10394FB0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D13-5C65-4368-897F-B2B119F1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6E7-3CCE-49DA-BC00-F7C671D6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67A-6B93-45EC-B8E9-CD660E83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E24-8A59-450E-89EA-BFE4278F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EA5-0634-49DC-B0E0-2392AA43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215-D2CF-4548-A336-F7A76EF9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032C-6222-4765-80FB-921A2211A9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adiacia"/>
          <p:cNvPicPr/>
          <p:nvPr/>
        </p:nvPicPr>
        <p:blipFill>
          <a:blip r:embed="rId1"/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62120" y="1295280"/>
            <a:ext cx="784836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be0e3"/>
                </a:solidFill>
                <a:latin typeface="Arial"/>
              </a:rPr>
              <a:t>Аварии на радиационных объекта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733920" y="152280"/>
            <a:ext cx="1600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09480" y="9144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о, что, находясь в зоне радиоактивного заражения, человек облучается, и у него может возник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евая болез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в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ковое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специфический резкий запах нашатырного спи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лется по земле на небольшой высо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меет запаха, цвета, вк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движении по зараженной радиоактивными веществами местности необходи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гаться по высокой траве и кустарнику; периодически снимать средства индивидуальной защиты и отряхивать их от пыли; принимать пищу и пить только при ясной безветренной пог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ться в средствах индивидуальной защиты органов дыхания и кожи; без надобности не садиться и не прикасаться к местным предметам; избегать движения по высокой траве и кустарнику; не принимать пищу, не пить, не курить; не поднимать пыль и не ставить вещи на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>
            <a:hlinkClick r:id="rId2" action="ppaction://hlinksldjump"/>
          </p:cNvPr>
          <p:cNvSpPr/>
          <p:nvPr/>
        </p:nvSpPr>
        <p:spPr>
          <a:xfrm>
            <a:off x="533520" y="1523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>
            <a:hlinkClick r:id="rId3" action="ppaction://hlinksldjump"/>
          </p:cNvPr>
          <p:cNvSpPr/>
          <p:nvPr/>
        </p:nvSpPr>
        <p:spPr>
          <a:xfrm>
            <a:off x="533520" y="1828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>
            <a:hlinkClick r:id="rId4" action="ppaction://hlinksldjump"/>
          </p:cNvPr>
          <p:cNvSpPr/>
          <p:nvPr/>
        </p:nvSpPr>
        <p:spPr>
          <a:xfrm>
            <a:off x="533520" y="2133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>
            <a:hlinkClick r:id="rId5" action="ppaction://hlinksldjump"/>
          </p:cNvPr>
          <p:cNvSpPr/>
          <p:nvPr/>
        </p:nvSpPr>
        <p:spPr>
          <a:xfrm>
            <a:off x="53352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533520" y="3200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533520" y="3505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533520" y="4572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533520" y="5410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85345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371600" y="2666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ьно, молодец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82296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533520" y="281952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правильно. Подумай ещё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8229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286000" y="380880"/>
            <a:ext cx="4648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85800" y="1371600"/>
            <a:ext cx="77724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О – радиационно-опасный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при оповещении о радиационной ава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аш дом попал в зону радиоактивного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евая боле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ижение по зараженной радиоактивными веществами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ы по защите населения от радиационной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>
            <a:hlinkClick r:id="rId2" action="ppaction://hlinksldjump"/>
          </p:cNvPr>
          <p:cNvSpPr/>
          <p:nvPr/>
        </p:nvSpPr>
        <p:spPr>
          <a:xfrm>
            <a:off x="380880" y="2362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>
            <a:hlinkClick r:id="rId3" action="ppaction://hlinksldjump"/>
          </p:cNvPr>
          <p:cNvSpPr/>
          <p:nvPr/>
        </p:nvSpPr>
        <p:spPr>
          <a:xfrm>
            <a:off x="38088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>
            <a:hlinkClick r:id="rId4" action="ppaction://hlinksldjump"/>
          </p:cNvPr>
          <p:cNvSpPr/>
          <p:nvPr/>
        </p:nvSpPr>
        <p:spPr>
          <a:xfrm>
            <a:off x="380880" y="2819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>
            <a:hlinkClick r:id="rId5" action="ppaction://hlinksldjump"/>
          </p:cNvPr>
          <p:cNvSpPr/>
          <p:nvPr/>
        </p:nvSpPr>
        <p:spPr>
          <a:xfrm>
            <a:off x="380880" y="3276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>
            <a:hlinkClick r:id="rId6" action="ppaction://hlinksldjump"/>
          </p:cNvPr>
          <p:cNvSpPr/>
          <p:nvPr/>
        </p:nvSpPr>
        <p:spPr>
          <a:xfrm>
            <a:off x="380880" y="4952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>
            <a:hlinkClick r:id="rId7" action="ppaction://hlinksldjump"/>
          </p:cNvPr>
          <p:cNvSpPr/>
          <p:nvPr/>
        </p:nvSpPr>
        <p:spPr>
          <a:xfrm>
            <a:off x="380880" y="3733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>
            <a:hlinkClick r:id="rId8" action="ppaction://hlinksldjump"/>
          </p:cNvPr>
          <p:cNvSpPr/>
          <p:nvPr/>
        </p:nvSpPr>
        <p:spPr>
          <a:xfrm>
            <a:off x="380880" y="4191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>
            <a:hlinkClick r:id="rId9" action="ppaction://hlinksldjump"/>
          </p:cNvPr>
          <p:cNvSpPr/>
          <p:nvPr/>
        </p:nvSpPr>
        <p:spPr>
          <a:xfrm>
            <a:off x="380880" y="5410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>
            <a:hlinkClick r:id="" action="ppaction://hlinkshowjump?jump=endshow"/>
          </p:cNvPr>
          <p:cNvSpPr/>
          <p:nvPr/>
        </p:nvSpPr>
        <p:spPr>
          <a:xfrm>
            <a:off x="8305920" y="6172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14400" y="4267080"/>
            <a:ext cx="739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о-опасный объект (РОО) - объект, на котором хранят, перерабатывают, используют или транспортируют радиоактивные вещества, при аварии на котором или его разрушении может произойти облучение ионизирующим излучением или радиоактивное загрязнение людей, сельскохозяйственных животных и растений, объектов экономики, а также окружающей природно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914400" y="533520"/>
            <a:ext cx="7391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О – радиационно-опасный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Radiacia_AES"/>
          <p:cNvPicPr/>
          <p:nvPr/>
        </p:nvPicPr>
        <p:blipFill>
          <a:blip r:embed="rId2"/>
          <a:stretch/>
        </p:blipFill>
        <p:spPr>
          <a:xfrm>
            <a:off x="2133720" y="1143000"/>
            <a:ext cx="5105160" cy="296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9" name="AutoShape 8">
            <a:hlinkClick r:id="rId3" action="ppaction://hlinksldjump"/>
          </p:cNvPr>
          <p:cNvSpPr/>
          <p:nvPr/>
        </p:nvSpPr>
        <p:spPr>
          <a:xfrm>
            <a:off x="83818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914400" y="121932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вария на радиационно-опасном объекте, приводящая к выходу или выбросу радиоактивных веществ и (или) ионизирующих излучений за предусмотренные проектом для нормальной эксплуатации данного объекта границы в количествах, превышающих установленные пределы безопасности его эксплуат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38080" y="380880"/>
            <a:ext cx="746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314520" cy="3038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4" name="AutoShape 9">
            <a:hlinkClick r:id="rId3" action="ppaction://hlinksldjump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57200" y="22860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я при оповещении о радиационной ав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438280" y="167652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сь на улице, немедленно защитите органы дыхания и поспешите в укрытие. Для защиты органов дыхания используйте респиратор, ватно-марлевую повязку (ВМП) или подручные изделия из ткани, смоченные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1568160" cy="2133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9" name="Picture 8" descr="{39441403-C54E-4212-8271-6BC6585C1045}"/>
          <p:cNvPicPr/>
          <p:nvPr/>
        </p:nvPicPr>
        <p:blipFill>
          <a:blip r:embed="rId3"/>
          <a:stretch/>
        </p:blipFill>
        <p:spPr>
          <a:xfrm>
            <a:off x="6172200" y="4038480"/>
            <a:ext cx="2305080" cy="1843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Text Box 9"/>
          <p:cNvSpPr/>
          <p:nvPr/>
        </p:nvSpPr>
        <p:spPr>
          <a:xfrm>
            <a:off x="457200" y="3962520"/>
            <a:ext cx="5715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ите йодную профилактику. Принимайте в течение 7 дней по одной таблетке (0,125г) йодистого калия, детям до 2-х лет – ¼ таблетки (0,04г) или йодистый раствор: 3-5 капель 5% раствора йода на стакан воды, детям – 1-2 кап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>
            <a:hlinkClick r:id="rId4" action="ppaction://hlinksldjump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752480" y="228600"/>
            <a:ext cx="5867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аш дом попал в зону радиоактивного за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{55FE17F1-1123-4EDA-AC18-C100F72C4D2C}"/>
          <p:cNvPicPr/>
          <p:nvPr/>
        </p:nvPicPr>
        <p:blipFill>
          <a:blip r:embed="rId2"/>
          <a:stretch/>
        </p:blipFill>
        <p:spPr>
          <a:xfrm>
            <a:off x="1371600" y="1523880"/>
            <a:ext cx="6629400" cy="497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AutoShape 8">
            <a:hlinkClick r:id="rId3" action="ppaction://hlinksldjump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{1050A855-ED3A-4226-A7EA-7DBDCEBF61EA}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8" name="AutoShape 7">
            <a:hlinkClick r:id="rId3" action="ppaction://hlinksldjump"/>
          </p:cNvPr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33520" y="2209680"/>
            <a:ext cx="4724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ться в средствах индивидуальной защиты органов дыхания и ко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надобности не садиться и не прикасаться к местным предм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ть движения по высокой траве и кустарн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ринимать пищу, не пить, не кур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однимать пыль и не ставить вещи на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90720" y="5335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04920" y="380880"/>
            <a:ext cx="83818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е по зараженной радиоактивными веществами м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3581280" cy="2478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4" name="Text Box 10"/>
          <p:cNvSpPr/>
          <p:nvPr/>
        </p:nvSpPr>
        <p:spPr>
          <a:xfrm>
            <a:off x="533520" y="5410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ясь в зоне радиоактивного заражения, человек облучается и в результате у него может возникнуть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уче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533520" y="13716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 движении по зараженной радиоактивными веществами местности необходи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>
            <a:hlinkClick r:id="rId3" action="ppaction://hlinksldjump"/>
          </p:cNvPr>
          <p:cNvSpPr/>
          <p:nvPr/>
        </p:nvSpPr>
        <p:spPr>
          <a:xfrm>
            <a:off x="83059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{08C53A3D-C782-41DD-9954-1D121ACA6A80}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9" name="AutoShape 6">
            <a:hlinkClick r:id="rId3" action="ppaction://hlinksldjump"/>
          </p:cNvPr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2-02-11T08:03:2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