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AB0D-D7A9-4A2D-A45A-D8E6D573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75AB-CED1-4B2A-AD9F-CDB48329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04ED-2297-4B98-A6C5-01ED5052B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6D76-5FC6-40D5-B279-C1B3CB4D4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26D8-DE76-4812-B752-12A6A971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452E-B558-4D67-96AF-FD5B49EE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0869-A8E4-490D-BA9A-7918F38A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0F52-9562-43B7-983D-282A0D3E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387A-D3B3-4814-B9F3-CC00FD52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339E-0610-4B1A-B3A5-85C94F96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7CB5-A1F0-4878-9CAE-0C10DEB9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B2C4-F881-4E70-8AB2-2893F78A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EC49-EF4F-4E3A-88D9-710D1281B8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9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0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Radiacia"/>
          <p:cNvPicPr/>
          <p:nvPr/>
        </p:nvPicPr>
        <p:blipFill>
          <a:blip r:embed="rId1"/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762120" y="1295280"/>
            <a:ext cx="784836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bbe0e3"/>
                </a:solidFill>
                <a:latin typeface="Arial"/>
              </a:rPr>
              <a:t>Аварии на радиационных объекта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3733920" y="152280"/>
            <a:ext cx="1600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09480" y="914400"/>
            <a:ext cx="8305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вестно, что, находясь в зоне радиоактивного заражения, человек облучается, и у него может возникн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чевая болезн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авл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ковое заболе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и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ет специфический резкий запах нашатырного спир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лется по земле на небольшой высо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имеет запаха, цвета, вку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движении по зараженной радиоактивными веществами местности необходи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игаться по высокой траве и кустарнику; периодически снимать средства индивидуальной защиты и отряхивать их от пыли; принимать пищу и пить только при ясной безветренной пого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диться в средствах индивидуальной защиты органов дыхания и кожи; без надобности не садиться и не прикасаться к местным предметам; избегать движения по высокой траве и кустарнику; не принимать пищу, не пить, не курить; не поднимать пыль и не ставить вещи на зем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>
            <a:hlinkClick r:id="rId2" action="ppaction://hlinksldjump"/>
          </p:cNvPr>
          <p:cNvSpPr/>
          <p:nvPr/>
        </p:nvSpPr>
        <p:spPr>
          <a:xfrm>
            <a:off x="533520" y="15238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8">
            <a:hlinkClick r:id="rId3" action="ppaction://hlinksldjump"/>
          </p:cNvPr>
          <p:cNvSpPr/>
          <p:nvPr/>
        </p:nvSpPr>
        <p:spPr>
          <a:xfrm>
            <a:off x="533520" y="1828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>
            <a:hlinkClick r:id="rId4" action="ppaction://hlinksldjump"/>
          </p:cNvPr>
          <p:cNvSpPr/>
          <p:nvPr/>
        </p:nvSpPr>
        <p:spPr>
          <a:xfrm>
            <a:off x="533520" y="21337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0">
            <a:hlinkClick r:id="rId5" action="ppaction://hlinksldjump"/>
          </p:cNvPr>
          <p:cNvSpPr/>
          <p:nvPr/>
        </p:nvSpPr>
        <p:spPr>
          <a:xfrm>
            <a:off x="533520" y="28954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1"/>
          <p:cNvSpPr/>
          <p:nvPr/>
        </p:nvSpPr>
        <p:spPr>
          <a:xfrm>
            <a:off x="533520" y="3200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2"/>
          <p:cNvSpPr/>
          <p:nvPr/>
        </p:nvSpPr>
        <p:spPr>
          <a:xfrm>
            <a:off x="533520" y="35053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3"/>
          <p:cNvSpPr/>
          <p:nvPr/>
        </p:nvSpPr>
        <p:spPr>
          <a:xfrm>
            <a:off x="533520" y="45720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4"/>
          <p:cNvSpPr/>
          <p:nvPr/>
        </p:nvSpPr>
        <p:spPr>
          <a:xfrm>
            <a:off x="533520" y="5410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5"/>
          <p:cNvSpPr/>
          <p:nvPr/>
        </p:nvSpPr>
        <p:spPr>
          <a:xfrm>
            <a:off x="853452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1371600" y="26668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авильно, молодец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8229600" y="60958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533520" y="281952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еправильно. Подумай ещё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82296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2286000" y="380880"/>
            <a:ext cx="4648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685800" y="1371600"/>
            <a:ext cx="777240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ди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О – радиационно-опасный о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диационная ава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ия при оповещении о радиационной ава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аш дом попал в зону радиоактивного за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учевая болез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вижение по зараженной радиоактивными веществами мес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ры по защите населения от радиационной 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>
            <a:hlinkClick r:id="rId2" action="ppaction://hlinksldjump"/>
          </p:cNvPr>
          <p:cNvSpPr/>
          <p:nvPr/>
        </p:nvSpPr>
        <p:spPr>
          <a:xfrm>
            <a:off x="380880" y="23623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>
            <a:hlinkClick r:id="rId3" action="ppaction://hlinksldjump"/>
          </p:cNvPr>
          <p:cNvSpPr/>
          <p:nvPr/>
        </p:nvSpPr>
        <p:spPr>
          <a:xfrm>
            <a:off x="380880" y="1905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">
            <a:hlinkClick r:id="rId4" action="ppaction://hlinksldjump"/>
          </p:cNvPr>
          <p:cNvSpPr/>
          <p:nvPr/>
        </p:nvSpPr>
        <p:spPr>
          <a:xfrm>
            <a:off x="380880" y="28195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>
            <a:hlinkClick r:id="rId5" action="ppaction://hlinksldjump"/>
          </p:cNvPr>
          <p:cNvSpPr/>
          <p:nvPr/>
        </p:nvSpPr>
        <p:spPr>
          <a:xfrm>
            <a:off x="380880" y="32767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>
            <a:hlinkClick r:id="rId6" action="ppaction://hlinksldjump"/>
          </p:cNvPr>
          <p:cNvSpPr/>
          <p:nvPr/>
        </p:nvSpPr>
        <p:spPr>
          <a:xfrm>
            <a:off x="380880" y="49528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3">
            <a:hlinkClick r:id="rId7" action="ppaction://hlinksldjump"/>
          </p:cNvPr>
          <p:cNvSpPr/>
          <p:nvPr/>
        </p:nvSpPr>
        <p:spPr>
          <a:xfrm>
            <a:off x="380880" y="37339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4">
            <a:hlinkClick r:id="rId8" action="ppaction://hlinksldjump"/>
          </p:cNvPr>
          <p:cNvSpPr/>
          <p:nvPr/>
        </p:nvSpPr>
        <p:spPr>
          <a:xfrm>
            <a:off x="380880" y="4191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>
            <a:hlinkClick r:id="rId9" action="ppaction://hlinksldjump"/>
          </p:cNvPr>
          <p:cNvSpPr/>
          <p:nvPr/>
        </p:nvSpPr>
        <p:spPr>
          <a:xfrm>
            <a:off x="380880" y="5410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6">
            <a:hlinkClick r:id="" action="ppaction://hlinkshowjump?jump=endshow"/>
          </p:cNvPr>
          <p:cNvSpPr/>
          <p:nvPr/>
        </p:nvSpPr>
        <p:spPr>
          <a:xfrm>
            <a:off x="8305920" y="61722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914400" y="4267080"/>
            <a:ext cx="7391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диационно-опасный объект (РОО) - объект, на котором хранят, перерабатывают, используют или транспортируют радиоактивные вещества, при аварии на котором или его разрушении может произойти облучение ионизирующим излучением или радиоактивное загрязнение людей, сельскохозяйственных животных и растений, объектов экономики, а также окружающей природной сре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914400" y="533520"/>
            <a:ext cx="7391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О – радиационно-опасный объ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Radiacia_AES"/>
          <p:cNvPicPr/>
          <p:nvPr/>
        </p:nvPicPr>
        <p:blipFill>
          <a:blip r:embed="rId2"/>
          <a:stretch/>
        </p:blipFill>
        <p:spPr>
          <a:xfrm>
            <a:off x="2133720" y="1143000"/>
            <a:ext cx="5105160" cy="2962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9" name="AutoShape 8">
            <a:hlinkClick r:id="rId3" action="ppaction://hlinksldjump"/>
          </p:cNvPr>
          <p:cNvSpPr/>
          <p:nvPr/>
        </p:nvSpPr>
        <p:spPr>
          <a:xfrm>
            <a:off x="83818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914400" y="1219320"/>
            <a:ext cx="3809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диационная авар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авария на радиационно-опасном объекте, приводящая к выходу или выбросу радиоактивных веществ и (или) ионизирующих излучений за предусмотренные проектом для нормальной эксплуатации данного объекта границы в количествах, превышающих установленные пределы безопасности его эксплуат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838080" y="380880"/>
            <a:ext cx="7467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диационная ав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3314520" cy="3038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4" name="AutoShape 9">
            <a:hlinkClick r:id="rId3" action="ppaction://hlinksldjump"/>
          </p:cNvPr>
          <p:cNvSpPr/>
          <p:nvPr/>
        </p:nvSpPr>
        <p:spPr>
          <a:xfrm>
            <a:off x="8381880" y="617220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7493"/>
                </a:moveTo>
                <a:lnTo>
                  <a:pt x="8845" y="7493"/>
                </a:lnTo>
                <a:lnTo>
                  <a:pt x="8845" y="12828"/>
                </a:lnTo>
                <a:cubicBezTo>
                  <a:pt x="8845" y="13751"/>
                  <a:pt x="9646" y="14482"/>
                  <a:pt x="10681" y="14482"/>
                </a:cubicBezTo>
                <a:lnTo>
                  <a:pt x="12344" y="14482"/>
                </a:lnTo>
                <a:cubicBezTo>
                  <a:pt x="13380" y="14482"/>
                  <a:pt x="14180" y="13751"/>
                  <a:pt x="14180" y="12828"/>
                </a:cubicBezTo>
                <a:lnTo>
                  <a:pt x="14180" y="7493"/>
                </a:lnTo>
                <a:lnTo>
                  <a:pt x="12344" y="7493"/>
                </a:lnTo>
                <a:lnTo>
                  <a:pt x="15851" y="3985"/>
                </a:lnTo>
                <a:lnTo>
                  <a:pt x="19524" y="7493"/>
                </a:lnTo>
                <a:lnTo>
                  <a:pt x="17688" y="7493"/>
                </a:lnTo>
                <a:lnTo>
                  <a:pt x="17688" y="12828"/>
                </a:lnTo>
                <a:cubicBezTo>
                  <a:pt x="17688" y="15596"/>
                  <a:pt x="15112" y="18155"/>
                  <a:pt x="12344" y="18155"/>
                </a:cubicBezTo>
                <a:lnTo>
                  <a:pt x="10681" y="18155"/>
                </a:lnTo>
                <a:cubicBezTo>
                  <a:pt x="7914" y="18155"/>
                  <a:pt x="5337" y="15596"/>
                  <a:pt x="5337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457200" y="228600"/>
            <a:ext cx="8229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йствия при оповещении о радиационной ава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2438280" y="1676520"/>
            <a:ext cx="6172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ходясь на улице, немедленно защитите органы дыхания и поспешите в укрытие. Для защиты органов дыхания используйте респиратор, ватно-марлевую повязку (ВМП) или подручные изделия из ткани, смоченные во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1568160" cy="2133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9" name="Picture 8" descr="{39441403-C54E-4212-8271-6BC6585C1045}"/>
          <p:cNvPicPr/>
          <p:nvPr/>
        </p:nvPicPr>
        <p:blipFill>
          <a:blip r:embed="rId3"/>
          <a:stretch/>
        </p:blipFill>
        <p:spPr>
          <a:xfrm>
            <a:off x="6172200" y="4038480"/>
            <a:ext cx="2305080" cy="1843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0" name="Text Box 9"/>
          <p:cNvSpPr/>
          <p:nvPr/>
        </p:nvSpPr>
        <p:spPr>
          <a:xfrm>
            <a:off x="457200" y="3962520"/>
            <a:ext cx="5715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дите йодную профилактику. Принимайте в течение 7 дней по одной таблетке (0,125г) йодистого калия, детям до 2-х лет – ¼ таблетки (0,04г) или йодистый раствор: 3-5 капель 5% раствора йода на стакан воды, детям – 1-2 кап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>
            <a:hlinkClick r:id="rId4" action="ppaction://hlinksldjump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1752480" y="228600"/>
            <a:ext cx="58676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ваш дом попал в зону радиоактивного за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{55FE17F1-1123-4EDA-AC18-C100F72C4D2C}"/>
          <p:cNvPicPr/>
          <p:nvPr/>
        </p:nvPicPr>
        <p:blipFill>
          <a:blip r:embed="rId2"/>
          <a:stretch/>
        </p:blipFill>
        <p:spPr>
          <a:xfrm>
            <a:off x="1371600" y="1523880"/>
            <a:ext cx="6629400" cy="4972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AutoShape 8">
            <a:hlinkClick r:id="rId3" action="ppaction://hlinksldjump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{1050A855-ED3A-4226-A7EA-7DBDCEBF61EA}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8" name="AutoShape 7">
            <a:hlinkClick r:id="rId3" action="ppaction://hlinksldjump"/>
          </p:cNvPr>
          <p:cNvSpPr/>
          <p:nvPr/>
        </p:nvSpPr>
        <p:spPr>
          <a:xfrm>
            <a:off x="845820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533520" y="2209680"/>
            <a:ext cx="4724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диться в средствах индивидуальной защиты органов дыхания и кож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 надобности не садиться и не прикасаться к местным предмет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бегать движения по высокой траве и кустарни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принимать пищу, не пить, не кури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поднимать пыль и не ставить вещи на зем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90720" y="533520"/>
            <a:ext cx="7162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04920" y="380880"/>
            <a:ext cx="83818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ижение по зараженной радиоактивными веществами мес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5257800" y="2209680"/>
            <a:ext cx="3581280" cy="2478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4" name="Text Box 10"/>
          <p:cNvSpPr/>
          <p:nvPr/>
        </p:nvSpPr>
        <p:spPr>
          <a:xfrm>
            <a:off x="533520" y="54100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дясь в зоне радиоактивного заражения, человек облучается и в результате у него может возникнуть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учевая боле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533520" y="13716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 движении по зараженной радиоактивными веществами местности необходи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>
            <a:hlinkClick r:id="rId3" action="ppaction://hlinksldjump"/>
          </p:cNvPr>
          <p:cNvSpPr/>
          <p:nvPr/>
        </p:nvSpPr>
        <p:spPr>
          <a:xfrm>
            <a:off x="830592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7493"/>
                </a:moveTo>
                <a:lnTo>
                  <a:pt x="9094" y="7493"/>
                </a:lnTo>
                <a:lnTo>
                  <a:pt x="9094" y="12828"/>
                </a:lnTo>
                <a:cubicBezTo>
                  <a:pt x="9094" y="13751"/>
                  <a:pt x="9895" y="14482"/>
                  <a:pt x="10931" y="14482"/>
                </a:cubicBezTo>
                <a:lnTo>
                  <a:pt x="12593" y="14482"/>
                </a:lnTo>
                <a:cubicBezTo>
                  <a:pt x="13629" y="14482"/>
                  <a:pt x="14429" y="13751"/>
                  <a:pt x="14429" y="12828"/>
                </a:cubicBezTo>
                <a:lnTo>
                  <a:pt x="14429" y="7493"/>
                </a:lnTo>
                <a:lnTo>
                  <a:pt x="12593" y="7493"/>
                </a:lnTo>
                <a:lnTo>
                  <a:pt x="16101" y="3985"/>
                </a:lnTo>
                <a:lnTo>
                  <a:pt x="19773" y="7493"/>
                </a:lnTo>
                <a:lnTo>
                  <a:pt x="17937" y="7493"/>
                </a:lnTo>
                <a:lnTo>
                  <a:pt x="17937" y="12828"/>
                </a:lnTo>
                <a:cubicBezTo>
                  <a:pt x="17937" y="15596"/>
                  <a:pt x="15361" y="18155"/>
                  <a:pt x="12593" y="18155"/>
                </a:cubicBezTo>
                <a:lnTo>
                  <a:pt x="10931" y="18155"/>
                </a:lnTo>
                <a:cubicBezTo>
                  <a:pt x="8163" y="18155"/>
                  <a:pt x="5586" y="15596"/>
                  <a:pt x="5586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{08C53A3D-C782-41DD-9954-1D121ACA6A80}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9" name="AutoShape 6">
            <a:hlinkClick r:id="rId3" action="ppaction://hlinksldjump"/>
          </p:cNvPr>
          <p:cNvSpPr/>
          <p:nvPr/>
        </p:nvSpPr>
        <p:spPr>
          <a:xfrm>
            <a:off x="84582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колай</cp:lastModifiedBy>
  <dcterms:modified xsi:type="dcterms:W3CDTF">2012-02-11T08:03:22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