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A4B-BFB2-46F9-9F68-5B2AA5E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2A6-C0FC-4E4C-BBDF-5CBAF184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307-D81E-4FBA-B3BB-ACF3DA29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E6F-0F80-4478-BAA0-D1E0D912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938-6A48-4E7C-A9FB-ECF7E5B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0F3-4B43-406D-9284-01AA312B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5F6-FCA8-4A8A-BF16-81097030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812-1E3F-4D64-83FD-57F3A8BC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C5D-F909-4593-9C58-77825D8D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734-072E-4D1D-9A90-B67BBD6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0AC-055E-4935-BC92-2AC4D67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3B7-6DE5-445D-80AF-739DFD4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D17A-F037-4E07-A286-10F659C72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62120" y="1295280"/>
            <a:ext cx="7848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Аварии на радиационных объект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4" action="ppaction://hlinksldjump"/>
          </p:cNvPr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>
            <a:hlinkClick r:id="rId5" action="ppaction://hlinksldjump"/>
          </p:cNvPr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2-11T08:03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