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F23E-F661-43E9-94AE-076E9433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35F6-0495-4978-87D7-A4D30A63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0DDE-DB1F-4580-9916-285BBCDD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0430-3CA5-423B-BA87-A26C163A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F7E-04B4-48C9-883B-660490DF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E56B-671F-4088-A85F-23D7B44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B6E3-C565-41EF-A5A7-1BA0DD5D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796-5B27-4570-848A-DB128FD4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843A-7E31-4913-AC3F-5E2D402D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8ED9-E5E4-4521-BC8B-760B014B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CBA4-F26F-49F3-956A-C3792AF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4418-B8EB-4020-BD7E-AD2E0EF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E764-D38B-433E-9C71-54D863A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B45C-3F4E-4095-8551-B0D3613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040-8398-4A91-8C36-4A6CB132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147-56C1-4FFF-AC9E-719A46D9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B9AF-8C36-4CB8-A894-05BD85C7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2AE4-3D0D-418E-BE7E-C20FEE53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1CF5-2B4B-46F9-919F-6461299E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D302-C221-42D8-8DCE-53DDDA3B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C587-C472-47DF-A9FC-A5CEB6C5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F4AF-D495-4AE1-82F5-5BCD080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6CC6-EB6E-42F7-948C-943C6F5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2B01-EF75-430E-8286-FB899063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F473-8597-4FD0-A86A-505A46B09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36FD-EEB8-4EF9-ABAC-D4C9C3DEC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варии на химически опасных объектах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579920"/>
            <a:ext cx="3817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айнова Е.В.,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У Помогаловская ООШ Тутае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невозможности покинуть зону поражения плотно закройте двери, окна, вентиляционные отверстия и дымоходы, щели заклейте бумагой. При заражении аммиаком нужно укрываться в полуподвальных и подвальных помещениях. При заражении хлором и фосгеном необходимо подняться на верхние этажи 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аварии на ж/д и автомобильных магистралях опасная зона устанавливается в радиусе 200 м от места ав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сле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лючить любые физические нагрузки, принять обильное питьё и немедленно обратиться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пали под непосредственное воздействие АХОВ, то при первой возможности снять зараженную одежду и выбросить, принять душ (не менее 15 минут), промыть глаза 1%-ным раствором борной кислоты, провести влажную уборку помещения и обратиться к в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и опасный объ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ъект, при аварии на котором или при его разрушении могут произойти массовые поражения людей, животных и растений аварийно-химическими опасными веществами (АОХ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 РФ функционируют свыше 3,3 химически опасных объектов экономики, располагающих значительными количествами АОХВ, суммарный запас на которых достигает 700 тыс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территории России, на которой может возникнуть химическое заражение, составляет около 300 тыс.кв.км с населением около 59 млн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пасное химическое вещество, применяемое в промышленности и в сельском хозяйстве, при аварийном выбросе которого может произойти заражение окружающей среды в поражающих живой организм концентр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асные 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ХВ, используемых в настоящее время в промышленности, существует более 600 тыс. наименований, но только немногим более 100 относятся к аварийно химически опасным. Наиболее распространенными из этих ста являются 10: аммиак, гидразин, диоксин, окись углерода, окись этилена, сероуглерод, сернистый ангидрит, фосген, хлор, цианистый угле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чем на 50% химически опасных объектах используется и хранится аммиак, на 35%- хлор, на 5%- соляная кислота. Значительные запасы аммиака и хлора сосредоточены на объектах пищевой, мясомолочной промышленности, в холодильниках торговых баз, в жилищно- коммунальн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ыми поражающими факторами всех АХОВ являются их токсичес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оздействие на организм человека и животного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и животные получают поражения в результате попадания АХОВ в организм через органы дыхания, кожные покровы, слизистые оболочки, раны и желудочно-кишечный тракт ( с пи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же к поражающим факторам можно отнести возникновение высокой или низкой температуры и при взрыве- ударную вол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авария на химически опасном объекте, сопровождающаяся проливом или выбросом аварийно химически опасного вещества (АХОВ), способная привести к гибели или химическому заражению людей, сельскохозяйственных животных и растений, химическому заражению окружающей среды. В результате аварии образу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чаг химического пора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территория, в пределах которой в результате воздействия АХОВ произошли массовые поражения людей, животных и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и причинами химических аварий специалисты МЧС считают нарушение технологии производственных работ и «человеческий фактор» ( нарушение производственной дисциплины и техники безопасности, неэффективность производственного контроля за соблюдением требований безопасности производства химически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оприятия по химической защите нас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евременное обнаружение возникновения химической аварии и оповещение о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населения, персонала аварийного объекта и участников ликвидации последствий химической аварии средствами индивидуальной защиты органов дыхания ( противогазов, респираторов, ватно-марлевых повязок и др.) и кожи (плащи, накидки из прорезиненной ткани, резиновые сапоги, перчатки) и применение эти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рытие населения и персонала в убежищах, обеспечивающих защиту от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 сигналу при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сигнале «Внимание вс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ить радиоприемник или телевизор для получения рекомендаций по действиям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ь окна, отключить электроприборы и г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ть резиновые сапоги, плащ, взять документы, деньги, трехсуточный запас продуктов и воды, оповестить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ить из зоны возможного заражения перпендикулярно направлению ветра на расстояние не менее 1,5 км от места пре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5:18:49Z</dcterms:created>
  <dc:creator>User</dc:creator>
  <dc:description/>
  <dc:language>en-US</dc:language>
  <cp:lastModifiedBy>Света</cp:lastModifiedBy>
  <dcterms:modified xsi:type="dcterms:W3CDTF">2009-03-23T19:43:10Z</dcterms:modified>
  <cp:revision>3</cp:revision>
  <dc:subject/>
  <dc:title>Аварии на химически опасных объектах и их возможные последствия</dc:title>
</cp:coreProperties>
</file>