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F1A0-0A9B-4268-B28D-8996265B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08D9F-1473-4491-A11A-767B6F24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CFB7D-03D8-42B6-8D24-97699B0B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FD62-6B3C-4B2B-AF27-94646A5A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84C7-DF80-4DD5-BF78-FA83B0A3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6B63-72E9-4573-8DA3-C7E02D84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2CFE-73A1-4A1C-8FC9-55D57124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7CF2-614A-4559-9CF1-EE62A34F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15A6-C19D-4A94-B664-9AB3A409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EA82-8F7C-4D79-85D7-665E1C5C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B5CF-5C94-47A5-8BC9-F72D6C3E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0007-509A-4693-BAC1-25084053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1BD3-504D-49BA-9008-8BC6ED3F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BA4D-F6CD-42E7-A426-9D8DC095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974A-0D63-405A-BF06-287379EE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F3AB-B2FB-43D2-8E7C-A906ADA1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A9D8-0535-49E9-82C9-24D5D878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4241-CB4A-444B-AAF0-1A0D29BB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565A-C47D-4FE1-B428-DAF12208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C048-0E04-4879-BACB-1637EC98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C6A1-7EA2-4445-94BB-62BC2B27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5E8F-DEAD-4567-A8DA-6E9A80B7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6E29-3101-484E-9B2C-9247F15F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931F-CD87-415C-B624-D7D3EDF9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547B-819E-434C-8462-D7EC49105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41BE-8244-48DF-8EAF-26CA754B2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Аварии на химически опасных объектах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1640" y="4579920"/>
            <a:ext cx="38178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райнова Е.В.,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ОУ Помогаловская ООШ Тутаевского райо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8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невозможности покинуть зону поражения плотно закройте двери, окна, вентиляционные отверстия и дымоходы, щели заклейте бумагой. При заражении аммиаком нужно укрываться в полуподвальных и подвальных помещениях. При заражении хлором и фосгеном необходимо подняться на верхние этажи з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аварии на ж/д и автомобильных магистралях опасная зона устанавливается в радиусе 200 м от места ав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йствия после химической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ключить любые физические нагрузки, принять обильное питьё и немедленно обратиться к вр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ы попали под непосредственное воздействие АХОВ, то при первой возможности снять зараженную одежду и выбросить, принять душ (не менее 15 минут), промыть глаза 1%-ным раствором борной кислоты, провести влажную уборку помещения и обратиться к вр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имически опасный объ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бъект, при аварии на котором или при его разрушении могут произойти массовые поражения людей, животных и растений аварийно-химическими опасными веществами (АОХ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ист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в РФ функционируют свыше 3,3 химически опасных объектов экономики, располагающих значительными количествами АОХВ, суммарный запас на которых достигает 700 тыс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ая площадь территории России, на которой может возникнуть химическое заражение, составляет около 300 тыс.кв.км с населением около 59 млн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варийно химически опасное ве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опасное химическое вещество, применяемое в промышленности и в сельском хозяйстве, при аварийном выбросе которого может произойти заражение окружающей среды в поражающих живой организм концентрац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асные химически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о ОХВ, используемых в настоящее время в промышленности, существует более 600 тыс. наименований, но только немногим более 100 относятся к аварийно химически опасным. Наиболее распространенными из этих ста являются 10: аммиак, гидразин, диоксин, окись углерода, окись этилена, сероуглерод, сернистый ангидрит, фосген, хлор, цианистый угле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чем на 50% химически опасных объектах используется и хранится аммиак, на 35%- хлор, на 5%- соляная кислота. Значительные запасы аммиака и хлора сосредоточены на объектах пищевой, мясомолочной промышленности, в холодильниках торговых баз, в жилищно- коммунальн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авными поражающими факторами всех АХОВ являются их токсическо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оздействие на организм человека и животного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ди и животные получают поражения в результате попадания АХОВ в организм через органы дыхания, кожные покровы, слизистые оболочки, раны и желудочно-кишечный тракт ( с пищ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кже к поражающим факторам можно отнести возникновение высокой или низкой температуры и при взрыве- ударную вол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имическая ав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авария на химически опасном объекте, сопровождающаяся проливом или выбросом аварийно химически опасного вещества (АХОВ), способная привести к гибели или химическому заражению людей, сельскохозяйственных животных и растений, химическому заражению окружающей среды. В результате аварии образуе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чаг химического пораж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территория, в пределах которой в результате воздействия АХОВ произошли массовые поражения людей, животных и раст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ми причинами химических аварий специалисты МЧС считают нарушение технологии производственных работ и «человеческий фактор» ( нарушение производственной дисциплины и техники безопасности, неэффективность производственного контроля за соблюдением требований безопасности производства химических веще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роприятия по химической защите насе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оевременное обнаружение возникновения химической аварии и оповещение о 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ение населения, персонала аварийного объекта и участников ликвидации последствий химической аварии средствами индивидуальной защиты органов дыхания ( противогазов, респираторов, ватно-марлевых повязок и др.) и кожи (плащи, накидки из прорезиненной ткани, резиновые сапоги, перчатки) и применение эти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крытие населения и персонала в убежищах, обеспечивающих защиту от 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йствия по сигналу при химической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сигнале «Внимание все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ключить радиоприемник или телевизор для получения рекомендаций по действиям сиг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ыть окна, отключить электроприборы и г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деть резиновые сапоги, плащ, взять документы, деньги, трехсуточный запас продуктов и воды, оповестить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ить из зоны возможного заражения перпендикулярно направлению ветра на расстояние не менее 1,5 км от места преб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5:18:49Z</dcterms:created>
  <dc:creator>User</dc:creator>
  <dc:description/>
  <dc:language>en-US</dc:language>
  <cp:lastModifiedBy>Света</cp:lastModifiedBy>
  <dcterms:modified xsi:type="dcterms:W3CDTF">2009-03-23T19:43:10Z</dcterms:modified>
  <cp:revision>3</cp:revision>
  <dc:subject/>
  <dc:title>Аварии на химически опасных объектах и их возможные последствия</dc:title>
</cp:coreProperties>
</file>