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63EF-B87D-469A-986D-E4D0EFFC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3D9F-707A-4CB6-866E-18CDCF14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FAA2-573E-4F43-A70E-7CB42511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2399-24C1-4944-BCB5-9D84C1CB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CA1-83B3-4D16-A61D-D71A9D91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B00F-75DA-4940-8937-80950490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CF7B-EB35-447C-9ABC-B6F7A73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5BE5-85E5-4D96-8CC6-5F98D1C1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0D7C-35C2-4BF9-AE63-17D28B14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BB56-8BE4-49BB-9B65-DF60305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3C0F-4AAC-4E6F-9B7A-414899E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9501-0DF1-4FCF-8441-2A5C13F4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A3F9-56F2-41EC-BFBD-DCAACD7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B4DF-9D17-4A28-B96B-7158D157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EFE7-9938-414B-A7C3-A2EF9050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8BFB-162C-4714-AF0D-1E3ACA85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B1F-0C9A-4940-9FFC-E77E4B65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4ED6-6B6F-4168-9B03-A345CB1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1771-B367-4AF1-B537-07A77095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7FD2-A6F4-4CA1-9610-C62C07DA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CE33-1E75-4E51-9E5C-038524A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7E7F-E51D-4904-B2DA-E7BBAEF3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527A-5C64-47DC-B6F6-B8708B84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DCA9-AA2A-44A0-ADA1-116227FE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83ED-1E1C-499A-8CD9-0304B5CC5A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2849-B3BD-4A0C-901C-9E84F407F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Аварии на химически опасных объектах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1640" y="4579920"/>
            <a:ext cx="38178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райнова Е.В.,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ОУ Помогаловская ООШ Тутаевского райо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невозможности покинуть зону поражения плотно закройте двери, окна, вентиляционные отверстия и дымоходы, щели заклейте бумагой. При заражении аммиаком нужно укрываться в полуподвальных и подвальных помещениях. При заражении хлором и фосгеном необходимо подняться на верхние этажи з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аварии на ж/д и автомобильных магистралях опасная зона устанавливается в радиусе 200 м от места ав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сле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ключить любые физические нагрузки, принять обильное питьё и немедленно обратиться к вр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ы попали под непосредственное воздействие АХОВ, то при первой возможности снять зараженную одежду и выбросить, принять душ (не менее 15 минут), промыть глаза 1%-ным раствором борной кислоты, провести влажную уборку помещения и обратиться к вр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и опасный объ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бъект, при аварии на котором или при его разрушении могут произойти массовые поражения людей, животных и растений аварийно-химическими опасными веществами (АОХ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ист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в РФ функционируют свыше 3,3 химически опасных объектов экономики, располагающих значительными количествами АОХВ, суммарный запас на которых достигает 700 тыс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ая площадь территории России, на которой может возникнуть химическое заражение, составляет около 300 тыс.кв.км с населением около 59 млн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варийно химически опасное ве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опасное химическое вещество, применяемое в промышленности и в сельском хозяйстве, при аварийном выбросе которого может произойти заражение окружающей среды в поражающих живой организм концентрац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асные химически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о ОХВ, используемых в настоящее время в промышленности, существует более 600 тыс. наименований, но только немногим более 100 относятся к аварийно химически опасным. Наиболее распространенными из этих ста являются 10: аммиак, гидразин, диоксин, окись углерода, окись этилена, сероуглерод, сернистый ангидрит, фосген, хлор, цианистый угле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чем на 50% химически опасных объектах используется и хранится аммиак, на 35%- хлор, на 5%- соляная кислота. Значительные запасы аммиака и хлора сосредоточены на объектах пищевой, мясомолочной промышленности, в холодильниках торговых баз, в жилищно- коммунальном хозяй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лавными поражающими факторами всех АХОВ являются их токсическо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оздействие на организм человека и животного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юди и животные получают поражения в результате попадания АХОВ в организм через органы дыхания, кожные покровы, слизистые оболочки, раны и желудочно-кишечный тракт ( с пищ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кже к поражающим факторам можно отнести возникновение высокой или низкой температуры и при взрыве- ударную вол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имическ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авария на химически опасном объекте, сопровождающаяся проливом или выбросом аварийно химически опасного вещества (АХОВ), способная привести к гибели или химическому заражению людей, сельскохозяйственных животных и растений, химическому заражению окружающей среды. В результате аварии образуетс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очаг химического пораж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территория, в пределах которой в результате воздействия АХОВ произошли массовые поражения людей, животных и раст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ми причинами химических аварий специалисты МЧС считают нарушение технологии производственных работ и «человеческий фактор» ( нарушение производственной дисциплины и техники безопасности, неэффективность производственного контроля за соблюдением требований безопасности производства химически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ероприятия по химической защите насе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евременное обнаружение возникновения химической аварии и оповещение о н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еспечение населения, персонала аварийного объекта и участников ликвидации последствий химической аварии средствами индивидуальной защиты органов дыхания ( противогазов, респираторов, ватно-марлевых повязок и др.) и кожи (плащи, накидки из прорезиненной ткани, резиновые сапоги, перчатки) и применение эти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рытие населения и персонала в убежищах, обеспечивающих защиту от А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йствия по сигналу при химической ав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сигнале «Внимание вс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ключить радиоприемник или телевизор для получения рекомендаций по действиям 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ыть окна, отключить электроприборы и г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деть резиновые сапоги, плащ, взять документы, деньги, трехсуточный запас продуктов и воды, оповестить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ить из зоны возможного заражения перпендикулярно направлению ветра на расстояние не менее 1,5 км от места преб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5:18:49Z</dcterms:created>
  <dc:creator>User</dc:creator>
  <dc:description/>
  <dc:language>en-US</dc:language>
  <cp:lastModifiedBy>Света</cp:lastModifiedBy>
  <dcterms:modified xsi:type="dcterms:W3CDTF">2009-03-23T19:43:10Z</dcterms:modified>
  <cp:revision>3</cp:revision>
  <dc:subject/>
  <dc:title>Аварии на химически опасных объектах и их возможные последствия</dc:title>
</cp:coreProperties>
</file>