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B63-CF1F-4657-AB56-50D20081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8B6-D00C-400A-8B51-7C22C84C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7EB-910E-4FF1-903D-2FF0A8E4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4B9-EC79-4A3D-922C-41580E6A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1D6-AAFB-4D6C-A91F-C0B439FE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61A-6E8B-420B-910C-371E36E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A85-90F4-47A6-9C04-7327FB14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B81-73FA-45BC-AE55-040CAC0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C23-62BC-4C75-BD57-A680A99E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A1A-0CDE-4B18-BDFF-2FA2168C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E8D-3FE4-4F89-B998-DB44672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B7D-A127-425A-B3A6-A1778DD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D6AE-E6A6-4FB2-842C-CA4DF75C83A0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1414440"/>
            <a:ext cx="9150480" cy="293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603400" y="578628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зан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СОШ №8г.Влади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Чили (2010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4786200"/>
            <a:ext cx="87152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7 февраля произошло землетрясение магнитудой 8,8. В следующие два дня после первого землетрясения были зафиксированы повторные подземные толчки магнитудой от 4,8 до 6,1.Жертвами землетрясения стали 279 человек. Около 2 миллионов чилийцев остались без крова, около 500 ранены, повреждены 1,5 миллиона дом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14" descr="Картинка 13 из 3194"/>
          <p:cNvPicPr/>
          <p:nvPr/>
        </p:nvPicPr>
        <p:blipFill>
          <a:blip r:embed="rId1"/>
          <a:stretch/>
        </p:blipFill>
        <p:spPr>
          <a:xfrm>
            <a:off x="285840" y="1500120"/>
            <a:ext cx="4321080" cy="2970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1" name="Picture 9" descr="Картинка 59 из 1262"/>
          <p:cNvPicPr/>
          <p:nvPr/>
        </p:nvPicPr>
        <p:blipFill>
          <a:blip r:embed="rId2"/>
          <a:stretch/>
        </p:blipFill>
        <p:spPr>
          <a:xfrm>
            <a:off x="4857840" y="1500120"/>
            <a:ext cx="4124160" cy="3000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Гаити (2010г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642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Два мощных подземных толчка сотрясли столицу Республики Гаити Порт-о-Пренс 12 января. Магнитуда толчков составила 7,0 и 5,9 баллов по шкале Рихтера. Точных данных о погибших нет (от 50 тыс. до 500 тыс. человек).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6" descr="Картинка 1 из 6639"/>
          <p:cNvPicPr/>
          <p:nvPr/>
        </p:nvPicPr>
        <p:blipFill>
          <a:blip r:embed="rId1"/>
          <a:stretch/>
        </p:blipFill>
        <p:spPr>
          <a:xfrm>
            <a:off x="285840" y="1500120"/>
            <a:ext cx="439560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5" name="Picture 16" descr="Картинка 13 из 7766"/>
          <p:cNvPicPr/>
          <p:nvPr/>
        </p:nvPicPr>
        <p:blipFill>
          <a:blip r:embed="rId2"/>
          <a:stretch/>
        </p:blipFill>
        <p:spPr>
          <a:xfrm>
            <a:off x="4857840" y="1500120"/>
            <a:ext cx="3871800" cy="2903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Японии (2011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457164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1 марта в Японии произошло два мощных землетрясения. Магнитуда первого составила 8,8 балла, а второго -7,1. В результате землетрясения произошло смещение Тихоокеанской плиты и северной части Японских островов  в сторону Северной Америки на 2,4 метра.  Землетрясение вызвало цунами, которое распространилось по всему Тихому океану. В Японии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ысота волн была  7,3 метра. Официальное число погибших в результате землетрясения и цунами составляет 15 815 человек, 3966 человек числятся пропавшими без вести, 5940 человек ранены.Произошли аварии на АЭС, зафиксирован выброс радиоактивных вещест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Картинка 3 из 5764"/>
          <p:cNvPicPr/>
          <p:nvPr/>
        </p:nvPicPr>
        <p:blipFill>
          <a:blip r:embed="rId1"/>
          <a:stretch/>
        </p:blipFill>
        <p:spPr>
          <a:xfrm>
            <a:off x="357120" y="1428840"/>
            <a:ext cx="4429080" cy="2949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9" name="Picture 4" descr="Картинка 87 из 5764"/>
          <p:cNvPicPr/>
          <p:nvPr/>
        </p:nvPicPr>
        <p:blipFill>
          <a:blip r:embed="rId2"/>
          <a:stretch/>
        </p:blipFill>
        <p:spPr>
          <a:xfrm>
            <a:off x="5715000" y="1428840"/>
            <a:ext cx="219708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Как вы думаете, опасно ли землетрясение, произошедшее в мор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4" descr="Картинка 1 из 10"/>
          <p:cNvPicPr/>
          <p:nvPr/>
        </p:nvPicPr>
        <p:blipFill>
          <a:blip r:embed="rId1"/>
          <a:stretch/>
        </p:blipFill>
        <p:spPr>
          <a:xfrm>
            <a:off x="1587600" y="2500200"/>
            <a:ext cx="5699160" cy="3934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 в Юго-Восточной Азии (2004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4857480"/>
            <a:ext cx="8300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ясение силой 8,9 баллов по шкале Рихтера вызвало мощное цунам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 более 300 тыс. человек. Волны цунами обрушились на страны Южной Азии: Индонезию, Шри-Ланку, Индию, Малайзию, Таиланд, Бангладеш, Мьянму, Мальдивские и Сейшельские острова,  докатилась до Сомали, находящегося на расстоянии 5 000 километров от эпицентра землетряс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" name="Picture 3" descr="Картинка 4 из 667"/>
          <p:cNvPicPr/>
          <p:nvPr/>
        </p:nvPicPr>
        <p:blipFill>
          <a:blip r:embed="rId1"/>
          <a:stretch/>
        </p:blipFill>
        <p:spPr>
          <a:xfrm>
            <a:off x="500040" y="1643040"/>
            <a:ext cx="301932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75" name="Picture 5" descr="Картинка 19 из 1164"/>
          <p:cNvPicPr/>
          <p:nvPr/>
        </p:nvPicPr>
        <p:blipFill>
          <a:blip r:embed="rId2"/>
          <a:stretch/>
        </p:blipFill>
        <p:spPr>
          <a:xfrm>
            <a:off x="3929040" y="1643040"/>
            <a:ext cx="461160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Можно ли предсказать землетряс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5429160"/>
            <a:ext cx="85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бор, способный улавливать  колебания земной поверхности (132 г., Китай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Picture 5" descr="Картинка 7 из 47"/>
          <p:cNvPicPr/>
          <p:nvPr/>
        </p:nvPicPr>
        <p:blipFill>
          <a:blip r:embed="rId1"/>
          <a:srcRect l="2498" t="1860" r="2498" b="3185"/>
          <a:stretch/>
        </p:blipFill>
        <p:spPr>
          <a:xfrm>
            <a:off x="3071880" y="1714680"/>
            <a:ext cx="2714400" cy="36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4714920"/>
            <a:ext cx="83008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йсмограф</a:t>
            </a:r>
            <a:r>
              <a:rPr b="1" lang="ru-RU" sz="3200" spc="-1" strike="noStrike">
                <a:solidFill>
                  <a:srgbClr val="ff66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— прибор для записи колебаний земной поверхности во время землетрясений или при взрывах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i-main-pic" descr="Картинка 1 из 731"/>
          <p:cNvPicPr/>
          <p:nvPr/>
        </p:nvPicPr>
        <p:blipFill>
          <a:blip r:embed="rId1"/>
          <a:stretch/>
        </p:blipFill>
        <p:spPr>
          <a:xfrm>
            <a:off x="1571760" y="642960"/>
            <a:ext cx="5140080" cy="3857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чему людям, даже живущим в районах, где не бывает землетрясений, нужно знать об этом явлении природы и правилах поведения во время землетрясения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1292400"/>
            <a:ext cx="82659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285840"/>
            <a:ext cx="7429320" cy="89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я земля сотрясла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уч метнулась г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отрясенье земли унесло го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е оковы небес разомкнуться смо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вел разгул сотрясенья суставы 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жал он бедную землю в такие т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огромные скалы разбил на ку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емлетрясение -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599840"/>
            <a:ext cx="81867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зкие, внезапные толчки и колебания земной поверхности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озникающие в земных глубина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Очаг и эпицентр землетряс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i-main-pic" descr="Картинка 31 из 5316"/>
          <p:cNvPicPr/>
          <p:nvPr/>
        </p:nvPicPr>
        <p:blipFill>
          <a:blip r:embed="rId1"/>
          <a:stretch/>
        </p:blipFill>
        <p:spPr>
          <a:xfrm>
            <a:off x="1000080" y="1428840"/>
            <a:ext cx="6705720" cy="5006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42560"/>
            <a:ext cx="4643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Очаг-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то в земной коре или мантии, где происходит разрыв и смещение горных пор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240" y="3499920"/>
            <a:ext cx="47577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Эпицентр-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рритория на земной поверхности, которая располагается над очагом землетряс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арта районов извержений вулканов и землетрясений</a:t>
            </a:r>
            <a:r>
              <a:rPr b="0" lang="ru-RU" sz="4000" spc="-1" strike="noStrike">
                <a:solidFill>
                  <a:srgbClr val="604a7b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i-main-pic" descr="Картинка 99 из 1423"/>
          <p:cNvPicPr/>
          <p:nvPr/>
        </p:nvPicPr>
        <p:blipFill>
          <a:blip r:embed="rId1"/>
          <a:stretch/>
        </p:blipFill>
        <p:spPr>
          <a:xfrm>
            <a:off x="571680" y="1785960"/>
            <a:ext cx="7772400" cy="4708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</a:rPr>
              <a:t>С И Л А   З Е М Л Е Т Р Я С Е Н И Й </a:t>
            </a:r>
            <a:br>
              <a:rPr sz="31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2-бальная международная сейсмическая шкала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(Шкала Рихтера).</a:t>
            </a:r>
            <a:r>
              <a:rPr b="0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-2 балла- слабые толчки, не ощущаются человеком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-4 балла- толчки ощущаются , но разрушений не происходит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-6 баллов- легкие повреждения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7-8 баллов- частичное повреждение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9-10 баллов- трещины 10-20 см., обвалы в гора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1-12 баллов- разрушается все на земной поверхности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r>
              <a:rPr b="0" lang="ru-RU" sz="4400" spc="-1" strike="noStrike">
                <a:solidFill>
                  <a:srgbClr val="604a7b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ля определения силы землетрясения японский ученый Вадати в 1931 году предложил шкалу, которую позже, в 1935 году, усовершенствовал Рихтер. Сегодня это 12-ти бальная шкала Рихтера. Почему японцы первыми создали шкалу, определяющую силу землетрясени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Сильные землетрясения 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онца 20- начала 21 ве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г. 7 декабря -  Армения. Землетрясение силой около 7 баллов по шкале Рихтера уничтожило г. Спитак, разрушило города Ленинакан, Степанаван, Кировакан. Погибло 25 тысяч человек, ранено 17 тысяч, остались без крова 514 тысяч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 г. 27 мая, Россия, о. Сахалин, г. Нефтегорск. Землетрясение силой 9 баллов по шкале Рихтера полностью разрушило г. Нефтегорск. Погибло около 3 тыс.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 г. 17 августа, Турция. Погибло более 14 тыс. человек. Первоначально оно было оценено в 6,7 балла, но позднее сейсмологи признали, что в эпицентре сила толчка составила 7,7 балла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г. 26 января, Индия, штат Гуджарат. В результате землетрясения силой 7,9 балла по шкале Рихтера за 30 сек. пострадали 8,8 тыс. деревень в 171 районе штата, где проживало около 37 млн человек. 16 тыс. 435 человек погибли и 68,5 тыс. были ранены. Полностью разрушено 228,9 тыс. домов и 397,5 тыс. – поврежден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08:51Z</dcterms:created>
  <dc:creator>USER</dc:creator>
  <dc:description/>
  <dc:language>en-US</dc:language>
  <cp:lastModifiedBy>USER</cp:lastModifiedBy>
  <dcterms:modified xsi:type="dcterms:W3CDTF">2011-12-07T07:43:07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120000000000010250300207f7000400038000</vt:lpwstr>
  </property>
</Properties>
</file>