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1AA-4073-4643-B424-A695D276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CAF-5B5A-4C60-92FA-72BED141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67A-B44C-44B6-B087-1704725F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20D-DE9C-4209-96B1-4BE150A1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A9D-A848-4AF0-8E11-CB42B918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6EA-97CE-4AF0-AD4C-DC548919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08C-87B6-4754-ABD2-3DC7CADB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1CC-78F9-4982-AAD0-7830B9DC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BB3-4196-4198-B984-65E7498B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646-DC41-4D13-81F4-FC2DB75B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7A8-1241-4955-B602-2A9FF338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FE1-D390-40C7-AB39-9D07FA20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70A0-9BE4-4498-98B0-019F1432343F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19080" y="1414440"/>
            <a:ext cx="9150480" cy="2938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5603400" y="578628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азанова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БОУ СОШ №8г.Влади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Чили (2010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560" y="4786200"/>
            <a:ext cx="871524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7 февраля произошло землетрясение магнитудой 8,8. В следующие два дня после первого землетрясения были зафиксированы повторные подземные толчки магнитудой от 4,8 до 6,1.Жертвами землетрясения стали 279 человек. Около 2 миллионов чилийцев остались без крова, около 500 ранены, повреждены 1,5 миллиона дом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" name="Picture 14" descr="Картинка 13 из 3194"/>
          <p:cNvPicPr/>
          <p:nvPr/>
        </p:nvPicPr>
        <p:blipFill>
          <a:blip r:embed="rId1"/>
          <a:stretch/>
        </p:blipFill>
        <p:spPr>
          <a:xfrm>
            <a:off x="285840" y="1500120"/>
            <a:ext cx="4321080" cy="2970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1" name="Picture 9" descr="Картинка 59 из 1262"/>
          <p:cNvPicPr/>
          <p:nvPr/>
        </p:nvPicPr>
        <p:blipFill>
          <a:blip r:embed="rId2"/>
          <a:stretch/>
        </p:blipFill>
        <p:spPr>
          <a:xfrm>
            <a:off x="4857840" y="1500120"/>
            <a:ext cx="4124160" cy="30006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Гаити (2010г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642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Два мощных подземных толчка сотрясли столицу Республики Гаити Порт-о-Пренс 12 января. Магнитуда толчков составила 7,0 и 5,9 баллов по шкале Рихтера. Точных данных о погибших нет (от 50 тыс. до 500 тыс. человек). 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Picture 6" descr="Картинка 1 из 6639"/>
          <p:cNvPicPr/>
          <p:nvPr/>
        </p:nvPicPr>
        <p:blipFill>
          <a:blip r:embed="rId1"/>
          <a:stretch/>
        </p:blipFill>
        <p:spPr>
          <a:xfrm>
            <a:off x="285840" y="1500120"/>
            <a:ext cx="439560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5" name="Picture 16" descr="Картинка 13 из 7766"/>
          <p:cNvPicPr/>
          <p:nvPr/>
        </p:nvPicPr>
        <p:blipFill>
          <a:blip r:embed="rId2"/>
          <a:stretch/>
        </p:blipFill>
        <p:spPr>
          <a:xfrm>
            <a:off x="4857840" y="1500120"/>
            <a:ext cx="3871800" cy="2903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009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Японии (2011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840" y="4571640"/>
            <a:ext cx="85723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1 марта в Японии произошло два мощных землетрясения. Магнитуда первого составила 8,8 балла, а второго -7,1. В результате землетрясения произошло смещение Тихоокеанской плиты и северной части Японских островов  в сторону Северной Америки на 2,4 метра.  Землетрясение вызвало цунами, которое распространилось по всему Тихому океану. В Японии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высота волн была  7,3 метра. Официальное число погибших в результате землетрясения и цунами составляет 15 815 человек, 3966 человек числятся пропавшими без вести, 5940 человек ранены.Произошли аварии на АЭС, зафиксирован выброс радиоактивных веществ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8" name="Picture 2" descr="Картинка 3 из 5764"/>
          <p:cNvPicPr/>
          <p:nvPr/>
        </p:nvPicPr>
        <p:blipFill>
          <a:blip r:embed="rId1"/>
          <a:stretch/>
        </p:blipFill>
        <p:spPr>
          <a:xfrm>
            <a:off x="357120" y="1428840"/>
            <a:ext cx="4429080" cy="29494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9" name="Picture 4" descr="Картинка 87 из 5764"/>
          <p:cNvPicPr/>
          <p:nvPr/>
        </p:nvPicPr>
        <p:blipFill>
          <a:blip r:embed="rId2"/>
          <a:stretch/>
        </p:blipFill>
        <p:spPr>
          <a:xfrm>
            <a:off x="5715000" y="1428840"/>
            <a:ext cx="219708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Как вы думаете, опасно ли землетрясение, произошедшее в мор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1" name="Picture 4" descr="Картинка 1 из 10"/>
          <p:cNvPicPr/>
          <p:nvPr/>
        </p:nvPicPr>
        <p:blipFill>
          <a:blip r:embed="rId1"/>
          <a:stretch/>
        </p:blipFill>
        <p:spPr>
          <a:xfrm>
            <a:off x="1587600" y="2500200"/>
            <a:ext cx="5699160" cy="39340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 в Юго-Восточной Азии (2004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4857480"/>
            <a:ext cx="83008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трясение силой 8,9 баллов по шкале Рихтера вызвало мощное цунам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ло более 300 тыс. человек. Волны цунами обрушились на страны Южной Азии: Индонезию, Шри-Ланку, Индию, Малайзию, Таиланд, Бангладеш, Мьянму, Мальдивские и Сейшельские острова,  докатилась до Сомали, находящегося на расстоянии 5 000 километров от эпицентра землетрясения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4" name="Picture 3" descr="Картинка 4 из 667"/>
          <p:cNvPicPr/>
          <p:nvPr/>
        </p:nvPicPr>
        <p:blipFill>
          <a:blip r:embed="rId1"/>
          <a:stretch/>
        </p:blipFill>
        <p:spPr>
          <a:xfrm>
            <a:off x="500040" y="1643040"/>
            <a:ext cx="301932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75" name="Picture 5" descr="Картинка 19 из 1164"/>
          <p:cNvPicPr/>
          <p:nvPr/>
        </p:nvPicPr>
        <p:blipFill>
          <a:blip r:embed="rId2"/>
          <a:stretch/>
        </p:blipFill>
        <p:spPr>
          <a:xfrm>
            <a:off x="3929040" y="1643040"/>
            <a:ext cx="461160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Можно ли предсказать землетрясени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5429160"/>
            <a:ext cx="85010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рибор, способный улавливать  колебания земной поверхности (132 г., Китай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8" name="Picture 5" descr="Картинка 7 из 47"/>
          <p:cNvPicPr/>
          <p:nvPr/>
        </p:nvPicPr>
        <p:blipFill>
          <a:blip r:embed="rId1"/>
          <a:srcRect l="2498" t="1860" r="2498" b="3185"/>
          <a:stretch/>
        </p:blipFill>
        <p:spPr>
          <a:xfrm>
            <a:off x="3071880" y="1714680"/>
            <a:ext cx="2714400" cy="36432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4714920"/>
            <a:ext cx="830088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ейсмограф</a:t>
            </a:r>
            <a:r>
              <a:rPr b="1" lang="ru-RU" sz="3200" spc="-1" strike="noStrike">
                <a:solidFill>
                  <a:srgbClr val="ff66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— прибор для записи колебаний земной поверхности во время землетрясений или при взрывах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i-main-pic" descr="Картинка 1 из 731"/>
          <p:cNvPicPr/>
          <p:nvPr/>
        </p:nvPicPr>
        <p:blipFill>
          <a:blip r:embed="rId1"/>
          <a:stretch/>
        </p:blipFill>
        <p:spPr>
          <a:xfrm>
            <a:off x="1571760" y="642960"/>
            <a:ext cx="5140080" cy="3857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очему людям, даже живущим в районах, где не бывает землетрясений, нужно знать об этом явлении природы и правилах поведения во время землетрясения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549360" y="1292400"/>
            <a:ext cx="82659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28800" y="285840"/>
            <a:ext cx="7429320" cy="89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я земля сотрясла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туч метнулась г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отрясенье земли унесло горо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е оковы небес разомкнуться смог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вел разгул сотрясенья суставы 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жал он бедную землю в такие тис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Что огромные скалы разбил на кус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Ни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Землетрясение -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9680" y="1599840"/>
            <a:ext cx="81867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езкие, внезапные толчки и колебания земной поверхности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озникающие в земных глубинах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Очаг и эпицентр землетрясени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7" name="i-main-pic" descr="Картинка 31 из 5316"/>
          <p:cNvPicPr/>
          <p:nvPr/>
        </p:nvPicPr>
        <p:blipFill>
          <a:blip r:embed="rId1"/>
          <a:stretch/>
        </p:blipFill>
        <p:spPr>
          <a:xfrm>
            <a:off x="1000080" y="1428840"/>
            <a:ext cx="6705720" cy="5006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840" y="142560"/>
            <a:ext cx="46432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Очаг-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сто в земной коре или мантии, где происходит разрыв и смещение горных пород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240" y="3499920"/>
            <a:ext cx="475776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Эпицентр-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ерритория на земной поверхности, которая располагается над очагом землетряс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арта районов извержений вулканов и землетрясений</a:t>
            </a:r>
            <a:r>
              <a:rPr b="0" lang="ru-RU" sz="4000" spc="-1" strike="noStrike">
                <a:solidFill>
                  <a:srgbClr val="604a7b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" name="i-main-pic" descr="Картинка 99 из 1423"/>
          <p:cNvPicPr/>
          <p:nvPr/>
        </p:nvPicPr>
        <p:blipFill>
          <a:blip r:embed="rId1"/>
          <a:stretch/>
        </p:blipFill>
        <p:spPr>
          <a:xfrm>
            <a:off x="571680" y="1785960"/>
            <a:ext cx="7772400" cy="47084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001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04a7b"/>
                </a:solidFill>
                <a:latin typeface="Times New Roman"/>
              </a:rPr>
              <a:t>С И Л А   З Е М Л Е Т Р Я С Е Н И Й </a:t>
            </a:r>
            <a:br>
              <a:rPr sz="31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2-бальная международная сейсмическая шкала.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(Шкала Рихтера).</a:t>
            </a:r>
            <a:r>
              <a:rPr b="0" lang="ru-RU" sz="2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207180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-2 балла- слабые толчки, не ощущаются человеком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-4 балла- толчки ощущаются , но разрушений не происходит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5-6 баллов- легкие повреждения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7-8 баллов- частичное повреждение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9-10 баллов- трещины 10-20 см., обвалы в горах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1-12 баллов- разрушается все на земной поверхности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r>
              <a:rPr b="0" lang="ru-RU" sz="4400" spc="-1" strike="noStrike">
                <a:solidFill>
                  <a:srgbClr val="604a7b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ля определения силы землетрясения японский ученый Вадати в 1931 году предложил шкалу, которую позже, в 1935 году, усовершенствовал Рихтер. Сегодня это 12-ти бальная шкала Рихтера. Почему японцы первыми создали шкалу, определяющую силу землетрясения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Сильные землетрясения 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онца 20- начала 21 ве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8 г. 7 декабря -  Армения. Землетрясение силой около 7 баллов по шкале Рихтера уничтожило г. Спитак, разрушило города Ленинакан, Степанаван, Кировакан. Погибло 25 тысяч человек, ранено 17 тысяч, остались без крова 514 тысяч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 г. 27 мая, Россия, о. Сахалин, г. Нефтегорск. Землетрясение силой 9 баллов по шкале Рихтера полностью разрушило г. Нефтегорск. Погибло около 3 тыс.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 г. 17 августа, Турция. Погибло более 14 тыс. человек. Первоначально оно было оценено в 6,7 балла, но позднее сейсмологи признали, что в эпицентре сила толчка составила 7,7 балла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г. 26 января, Индия, штат Гуджарат. В результате землетрясения силой 7,9 балла по шкале Рихтера за 30 сек. пострадали 8,8 тыс. деревень в 171 районе штата, где проживало около 37 млн человек. 16 тыс. 435 человек погибли и 68,5 тыс. были ранены. Полностью разрушено 228,9 тыс. домов и 397,5 тыс. – повреждены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08:51Z</dcterms:created>
  <dc:creator>USER</dc:creator>
  <dc:description/>
  <dc:language>en-US</dc:language>
  <cp:lastModifiedBy>USER</cp:lastModifiedBy>
  <dcterms:modified xsi:type="dcterms:W3CDTF">2011-12-07T07:43:07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120000000000010250300207f7000400038000</vt:lpwstr>
  </property>
</Properties>
</file>