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5E4-F1F0-48C9-B93F-B9E8664A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04A-B76A-40C3-BD1A-48D1D814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C3B-70FC-4C7E-91F7-0593594D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6B8-9F1D-4D06-AE30-C27D1C4F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7382-8C6F-481A-9505-6FB850D5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063C-A43D-460A-BE4B-DF38BFD2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552D-5FAF-4D62-82AB-02A49164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877A-D2EF-4D8D-BAB0-1F218478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0332-8527-41CF-9522-BFA48FEB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CF8E-835A-4E76-B30E-8E5182E9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7629-DA30-4104-82CD-0B47A1DD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47D-4FD3-4E95-AD14-27F7AC59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4A23-32D5-4C7D-BD92-6A27D273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5BD7-96FF-488E-8EF0-B0755138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A95E-D2B8-48A4-A873-8DB23C64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2C4C-2357-4FBD-B3F9-63BB016F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7B70-83AA-477D-8DAE-1CBAC6CD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993-8BF4-458D-B772-BF62A002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A1C-26A7-40EB-B257-BF8D2D22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3F3-A225-4C44-8DE4-EAB3FA1D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3F4-94CC-4BE5-92B6-2FBE29B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119-A5F7-4B33-BE5E-71FFC437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150-7766-411A-98C5-ADF09C9F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2E6-5D6A-41F4-B261-B7D2F23A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d4d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B33DA4-B343-4A1A-8197-3A2C148583A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d4d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F6DA5D-8DAB-48EA-9D21-390A3A1EA7F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640" y="119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на тему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Весна. Праздник поэзии.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228360" y="5157360"/>
            <a:ext cx="2768040" cy="1633320"/>
          </a:xfrm>
          <a:prstGeom prst="rect">
            <a:avLst/>
          </a:prstGeom>
          <a:solidFill>
            <a:schemeClr val="lt1"/>
          </a:solidFill>
          <a:ln w="255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ьщикова М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с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одно из четырёх времён года, после зимы и до лет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022120" y="2061000"/>
            <a:ext cx="4571640" cy="20098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остоит из трёх месяцев— марта, апреля и ма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есна — переходный сезон, когда заметно увеличение светового дня, повышается температура окружающей среды и активизируется природная деятельность живых существ 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743760" y="5013000"/>
            <a:ext cx="7128360" cy="9126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России и в мире множество поэтов пишут стихи об этом прекрасном времени года. С некоторыми произведениями я хочу вас познакоми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3466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а недаром злит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шла ее пора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на в окно стучит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гонит со дво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се засуетилос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нудит Зиму вон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жаворонки в неб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ж подняли трезво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а еще хлопоч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а Весну ворчи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 ей в глаза хохоч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уще лишь шумит.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бесилась ведьма зл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, снегу захват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ила, убега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екрасное дит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не и горя мало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ылася в снег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лишь румяней стала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ерекор враг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дор Тютче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funforkids.ru/art/spring/spring199.jpg"/>
          <p:cNvPicPr/>
          <p:nvPr/>
        </p:nvPicPr>
        <p:blipFill>
          <a:blip r:embed="rId1"/>
          <a:stretch/>
        </p:blipFill>
        <p:spPr>
          <a:xfrm>
            <a:off x="4572000" y="1628640"/>
            <a:ext cx="397404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0" y="332640"/>
            <a:ext cx="41040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сн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лубенький, чист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снежник-цветок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подле сквозисты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й снежок..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е слез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горе был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ервые грез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счастье ином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поллон Майк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savepic.ru/4320838.jpg"/>
          <p:cNvPicPr/>
          <p:nvPr/>
        </p:nvPicPr>
        <p:blipFill>
          <a:blip r:embed="rId1"/>
          <a:stretch/>
        </p:blipFill>
        <p:spPr>
          <a:xfrm>
            <a:off x="395640" y="3717000"/>
            <a:ext cx="4067640" cy="30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75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ж тает снег, бегут ручь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кно повеяло весно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вищут скоро соловь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лес оденется листвою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та небесная лазур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плей и ярче солнце ста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а метелей злых и бур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ять надолго миновала..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ей Плещеев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xn----8sbiecm6bhdx8i.xn--p1ai/sites/default/files/poslovici_vesna_6.jpg"/>
          <p:cNvPicPr/>
          <p:nvPr/>
        </p:nvPicPr>
        <p:blipFill>
          <a:blip r:embed="rId1"/>
          <a:stretch/>
        </p:blipFill>
        <p:spPr>
          <a:xfrm>
            <a:off x="5076000" y="3200040"/>
            <a:ext cx="360000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908640"/>
            <a:ext cx="2890440" cy="39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ле половодья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шли дожди, апрель тепле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ю ночь - туман, а поутр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сенний воздух точно мле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мягкой дымкою сине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далёких просеках в бор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тихо дремлет бор зелё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в серебре лесных озё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щё стройней его колонны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щё свежее сосен крон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нежных лиственниц узор!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ван Бунин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cs7011.vk.me/c7007/v7007679/1402e/Q4A7ODUsPGE.jpg"/>
          <p:cNvPicPr/>
          <p:nvPr/>
        </p:nvPicPr>
        <p:blipFill>
          <a:blip r:embed="rId1"/>
          <a:stretch/>
        </p:blipFill>
        <p:spPr>
          <a:xfrm>
            <a:off x="4302720" y="3069000"/>
            <a:ext cx="4222080" cy="33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88000" y="260640"/>
            <a:ext cx="375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ёмух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ёмуха душис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весною расцве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етки золотисты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кудри, завил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гом роса медвя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лзает по кор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нею зелень пря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яет в серебр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рядом, у проталин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аве, между корн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жит, струится малень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ебряный руч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ёмуха душиста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есившись, стои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зелень золотис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олнышке гори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чей волной гремучею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ветки обд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крадчиво под кручею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й песенки пое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гей Есен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s013.radikal.ru/i323/1105/16/9e9fab501501.jpg"/>
          <p:cNvPicPr/>
          <p:nvPr/>
        </p:nvPicPr>
        <p:blipFill>
          <a:blip r:embed="rId1"/>
          <a:srcRect l="4465" t="3305" r="4223" b="4556"/>
          <a:stretch/>
        </p:blipFill>
        <p:spPr>
          <a:xfrm>
            <a:off x="377640" y="2421000"/>
            <a:ext cx="4419000" cy="30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  <Words>52</Words>
  <Paragraphs>19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3:13:28Z</dcterms:created>
  <dc:creator>Катерина</dc:creator>
  <dc:description/>
  <dc:language>en-US</dc:language>
  <cp:lastModifiedBy>Катерина</cp:lastModifiedBy>
  <cp:lastPrinted>2014-03-28T13:36:37Z</cp:lastPrinted>
  <dcterms:modified xsi:type="dcterms:W3CDTF">2014-03-28T13:37:00Z</dcterms:modified>
  <cp:revision>3</cp:revision>
  <dc:subject/>
  <dc:title>Проект на тему: «Весна. Праздник поэзии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