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F4C-749B-49EC-B721-E049FBFF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A06-CDC8-4C5C-8380-8DA00BDF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030-32E3-424E-B657-0200A318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803-0B55-403D-BFCC-F97F6513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9BFF-3D43-47DE-B28F-2B001E3A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047D-633D-4F2E-8D0A-867D14EA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9ADA-E1B0-4E3D-957A-42348227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80C8-01FE-43A6-8832-CCE6B971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2327-3738-4C7D-A524-B88B96B2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943E-76F8-424C-A6B9-D37E17B1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FDCF-E809-4DA4-8BF6-3A53DC22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5EB-86C5-40B8-B81B-EFC6AF64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4496-22B8-41A9-89CC-E9E4F795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1008-3E6B-4FD0-B58B-B0291182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BBDD-6ACD-4889-B7CA-5BD443DA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D0EB-B338-4109-A285-6B7A6345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F56D-9443-4A8E-9DA7-E5DDE9F7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C4A-8655-48B0-9738-1E1F27CA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19F-0503-4309-A2E8-6B38EE91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908-C774-46AA-88AC-316EC2BD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EC7-2687-4DC9-843D-E36A3E6B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B74-9C37-4DE9-865C-8E1B8F43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D77-F114-4BDB-99F7-C00C53BF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326-695E-47D6-A69B-65877FB5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d4d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C49B06-C968-4CBC-9392-7A77B373461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d4d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CF0242-16D2-424E-9C8B-E0B6B10D6F7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640" y="1196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 на тему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Весна. Праздник поэзии.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228360" y="5157360"/>
            <a:ext cx="2768040" cy="1633320"/>
          </a:xfrm>
          <a:prstGeom prst="rect">
            <a:avLst/>
          </a:prstGeom>
          <a:solidFill>
            <a:schemeClr val="lt1"/>
          </a:solidFill>
          <a:ln w="2556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у 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ньщикова М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с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одно из четырёх времён года, после зимы и до лет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2022120" y="2061000"/>
            <a:ext cx="4571640" cy="200988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остоит из трёх месяцев— марта, апреля и ма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есна — переходный сезон, когда заметно увеличение светового дня, повышается температура окружающей среды и активизируется природная деятельность живых существ и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743760" y="5013000"/>
            <a:ext cx="7128360" cy="9126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 России и в мире множество поэтов пишут стихи об этом прекрасном времени года. С некоторыми произведениями я хочу вас познакоми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7640" y="620640"/>
            <a:ext cx="3466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ма недаром злитс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шла ее пора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на в окно стучит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гонит со двор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се засуетилос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нудит Зиму вон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жаворонки в неб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ж подняли трезвон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ма еще хлопоч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на Весну ворчи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 ей в глаза хохоч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уще лишь шумит.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бесилась ведьма зл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, снегу захват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стила, убега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екрасное дит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не и горя мало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ылася в снег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лишь румяней стала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ерекор враг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дор Тютче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funforkids.ru/art/spring/spring199.jpg"/>
          <p:cNvPicPr/>
          <p:nvPr/>
        </p:nvPicPr>
        <p:blipFill>
          <a:blip r:embed="rId1"/>
          <a:stretch/>
        </p:blipFill>
        <p:spPr>
          <a:xfrm>
            <a:off x="4572000" y="1628640"/>
            <a:ext cx="397404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0" y="332640"/>
            <a:ext cx="41040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сн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лубенький, чист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снежник-цветок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подле сквозисты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ний снежок..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ние слез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горе был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первые грез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счастье ином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поллон Майков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savepic.ru/4320838.jpg"/>
          <p:cNvPicPr/>
          <p:nvPr/>
        </p:nvPicPr>
        <p:blipFill>
          <a:blip r:embed="rId1"/>
          <a:stretch/>
        </p:blipFill>
        <p:spPr>
          <a:xfrm>
            <a:off x="395640" y="3717000"/>
            <a:ext cx="4067640" cy="30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754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ж тает снег, бегут ручь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кно повеяло весно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вищут скоро соловь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лес оденется листвою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ста небесная лазур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плей и ярче солнце стал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а метелей злых и бур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ять надолго миновала..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сей Плещеев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xn----8sbiecm6bhdx8i.xn--p1ai/sites/default/files/poslovici_vesna_6.jpg"/>
          <p:cNvPicPr/>
          <p:nvPr/>
        </p:nvPicPr>
        <p:blipFill>
          <a:blip r:embed="rId1"/>
          <a:stretch/>
        </p:blipFill>
        <p:spPr>
          <a:xfrm>
            <a:off x="5076000" y="3200040"/>
            <a:ext cx="3600000" cy="27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908640"/>
            <a:ext cx="2890440" cy="39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ле половодья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шли дожди, апрель тепле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ю ночь - туман, а поутр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сенний воздух точно мле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мягкой дымкою сине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далёких просеках в бор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тихо дремлет бор зелёны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в серебре лесных озёр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щё стройней его колонны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щё свежее сосен крон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нежных лиственниц узор!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ван Бунин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cs7011.vk.me/c7007/v7007679/1402e/Q4A7ODUsPGE.jpg"/>
          <p:cNvPicPr/>
          <p:nvPr/>
        </p:nvPicPr>
        <p:blipFill>
          <a:blip r:embed="rId1"/>
          <a:stretch/>
        </p:blipFill>
        <p:spPr>
          <a:xfrm>
            <a:off x="4302720" y="3069000"/>
            <a:ext cx="4222080" cy="33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788000" y="260640"/>
            <a:ext cx="3754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ёмух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ёмуха душис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весною расцве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етки золотисты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кудри, завил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гом роса медвян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лзает по кор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нею зелень прян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яет в серебр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рядом, у проталинк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раве, между корне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жит, струится маленьк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ебряный руч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ёмуха душиста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есившись, стои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зелень золотис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олнышке гори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чей волной гремучею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ветки обда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крадчиво под кручею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й песенки пое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гей Есен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s013.radikal.ru/i323/1105/16/9e9fab501501.jpg"/>
          <p:cNvPicPr/>
          <p:nvPr/>
        </p:nvPicPr>
        <p:blipFill>
          <a:blip r:embed="rId1"/>
          <a:srcRect l="4465" t="3305" r="4223" b="4556"/>
          <a:stretch/>
        </p:blipFill>
        <p:spPr>
          <a:xfrm>
            <a:off x="377640" y="2421000"/>
            <a:ext cx="4419000" cy="30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  <Words>52</Words>
  <Paragraphs>19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13:13:28Z</dcterms:created>
  <dc:creator>Катерина</dc:creator>
  <dc:description/>
  <dc:language>en-US</dc:language>
  <cp:lastModifiedBy>Катерина</cp:lastModifiedBy>
  <cp:lastPrinted>2014-03-28T13:36:37Z</cp:lastPrinted>
  <dcterms:modified xsi:type="dcterms:W3CDTF">2014-03-28T13:37:00Z</dcterms:modified>
  <cp:revision>3</cp:revision>
  <dc:subject/>
  <dc:title>Проект на тему: «Весна. Праздник поэзии.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