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1A9-F753-4ED1-923A-A1A8EB1E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9F1-0EDD-4EEA-935F-5989A11C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B33-9224-4C64-BFCB-513E8307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70F-5A34-4EB0-B641-6D1491EE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8423-04D7-47EC-96D4-9153CC70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2B0C-C32F-49A8-8F31-4B0667A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2B57-0D29-46F0-A3A7-FE74684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601C-DC90-4A89-B8E6-9A58C1F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C56-2E54-4FE0-96BC-824D420C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9AB-3D2B-4437-9A23-D601436E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602-A8B7-4C66-ABF7-059BF92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135-96CC-49C6-891F-F750FCA8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BB77-D872-429E-BACD-A5377BD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5CBD-DA6C-4B89-B0FA-D36101C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9357-4BAB-4670-AB4F-74189A91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D20-D455-4E92-8D88-8CE70783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DAA-CB6A-4651-ADC0-1FF0B81B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804-AF0F-4CE0-8CC5-FCC80E8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D9B-1276-413B-AD05-4C8C499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9B9-2D3E-4EAD-9CBF-CD07642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14E-4E82-4187-B365-D7C97B3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E43-5608-496E-B9AF-0D921F8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DA2-14BC-4FD1-AAA9-2BC5CDE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1E4-C6FB-4ABF-AC9C-7D73A16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141AF-932B-408C-A883-25E78209E23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029E1-3669-4A37-88D9-523F8F0CE3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есна. Праздник поэзии.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28360" y="5157360"/>
            <a:ext cx="2768040" cy="163332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щикова М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одно из четырёх времён года, после зимы и до лет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22120" y="2061000"/>
            <a:ext cx="4571640" cy="20098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остоит из трёх месяцев— марта, апреля и ма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есна — переходный сезон, когда заметно увеличение светового дня, повышается температура окружающей среды и активизируется природная деятельность живых существ 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743760" y="5013000"/>
            <a:ext cx="7128360" cy="9126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России и в мире множество поэтов пишут стихи об этом прекрасном времени года. С некоторыми произведениями я хочу вас познаком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346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недаром зли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ла ее пор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в окно стучи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гонит со дв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се засуетило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нудит Зиму вон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жаворонки в неб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 подняли трезв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еще хлоп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Весну ворч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 ей в глаза хох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уще лишь шумит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бесилась ведьма зл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, снегу захват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ила, убег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екрасное дит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е и горя мал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ылася в снег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ишь румяней стал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ерекор враг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unforkids.ru/art/spring/spring199.jpg"/>
          <p:cNvPicPr/>
          <p:nvPr/>
        </p:nvPicPr>
        <p:blipFill>
          <a:blip r:embed="rId1"/>
          <a:stretch/>
        </p:blipFill>
        <p:spPr>
          <a:xfrm>
            <a:off x="4572000" y="1628640"/>
            <a:ext cx="39740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0" y="332640"/>
            <a:ext cx="4104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н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убенький, чист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нежник-цвето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подле сквозист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й снежок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сл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горе был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ервые гр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счастье ином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оллон Майк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savepic.ru/4320838.jpg"/>
          <p:cNvPicPr/>
          <p:nvPr/>
        </p:nvPicPr>
        <p:blipFill>
          <a:blip r:embed="rId1"/>
          <a:stretch/>
        </p:blipFill>
        <p:spPr>
          <a:xfrm>
            <a:off x="395640" y="3717000"/>
            <a:ext cx="4067640" cy="30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 тает снег, бегут руч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кно повеяло весно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вищут скоро солов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лес оденется листво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та небесная лазур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лей и ярче солнце ст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а метелей злых и бур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ять надолго миновала..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й Плещее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xn----8sbiecm6bhdx8i.xn--p1ai/sites/default/files/poslovici_vesna_6.jpg"/>
          <p:cNvPicPr/>
          <p:nvPr/>
        </p:nvPicPr>
        <p:blipFill>
          <a:blip r:embed="rId1"/>
          <a:stretch/>
        </p:blipFill>
        <p:spPr>
          <a:xfrm>
            <a:off x="5076000" y="3200040"/>
            <a:ext cx="360000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908640"/>
            <a:ext cx="2890440" cy="39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ле половодья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шли дожди, апрель тепл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ю ночь - туман, а поутр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сенний воздух точно мл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мягкой дымкою син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далёких просеках в бор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ихо дремлет бор зелё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серебре лесных озё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тройней его колонн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вежее сосен кро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жных лиственниц узор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s7011.vk.me/c7007/v7007679/1402e/Q4A7ODUsPGE.jpg"/>
          <p:cNvPicPr/>
          <p:nvPr/>
        </p:nvPicPr>
        <p:blipFill>
          <a:blip r:embed="rId1"/>
          <a:stretch/>
        </p:blipFill>
        <p:spPr>
          <a:xfrm>
            <a:off x="4302720" y="3069000"/>
            <a:ext cx="4222080" cy="33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88000" y="26064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ёмух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есною расцв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етки золотисты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удри, зав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ом роса медв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лзает по ко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нею зелень пр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яет в серебр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рядом, у проталин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аве, между корн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жит, струится малень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ебряный руч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сившись, стои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елень золот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лнышке гор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ей волной грем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ветки обд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крадчиво под кр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 песенки пое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гей Есе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s013.radikal.ru/i323/1105/16/9e9fab501501.jpg"/>
          <p:cNvPicPr/>
          <p:nvPr/>
        </p:nvPicPr>
        <p:blipFill>
          <a:blip r:embed="rId1"/>
          <a:srcRect l="4465" t="3305" r="4223" b="4556"/>
          <a:stretch/>
        </p:blipFill>
        <p:spPr>
          <a:xfrm>
            <a:off x="377640" y="2421000"/>
            <a:ext cx="4419000" cy="30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52</Words>
  <Paragraphs>1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3:13:28Z</dcterms:created>
  <dc:creator>Катерина</dc:creator>
  <dc:description/>
  <dc:language>en-US</dc:language>
  <cp:lastModifiedBy>Катерина</cp:lastModifiedBy>
  <cp:lastPrinted>2014-03-28T13:36:37Z</cp:lastPrinted>
  <dcterms:modified xsi:type="dcterms:W3CDTF">2014-03-28T13:37:00Z</dcterms:modified>
  <cp:revision>3</cp:revision>
  <dc:subject/>
  <dc:title>Проект на тему: «Весна. Праздник поэзии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