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7.wmf" ContentType="image/x-wmf"/>
  <Override PartName="/ppt/media/image16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8E9-9E81-4111-8675-F0EF152D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241-62F9-4C77-A50E-584604A2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E75-FCDF-4420-BF2A-5C2884B8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6AD-A08A-49C7-9034-DA22CA24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1A3-3B36-442F-90AB-C459DF5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D8F-7F36-40B1-B8C8-106C9B13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8B0-D69D-458D-94DB-F1C4C72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C1A-7C35-456D-ABAA-9B64AA82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05D-5252-4E3E-BA94-B0F66096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F1D-CF3D-480A-9181-54B80E7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055-D52A-4949-BDC4-021F0B1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601-197E-4D70-809A-39FA488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1CB-FD4C-467B-B07E-08D0E11E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200" y="77760"/>
            <a:ext cx="43164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остав и значение Д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011480"/>
            <a:ext cx="72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дезоксирибонуклеинов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нуклеотидами в одной цеп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16360" cy="544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628640"/>
            <a:ext cx="44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тем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оэфи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язей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зоксирибозой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уклеотида и остат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ной кислоты другого  нуклео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цепями в молекул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0872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51280" y="1577880"/>
            <a:ext cx="5076720" cy="5280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6200" y="1574640"/>
            <a:ext cx="364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дородны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жду азотис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ан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ходящими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зных це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омплементар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283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ментарность    -  это   принцип взаимного соответствия парных нуклеотидов или способность нуклеотидов объединяться попа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8280" y="5373720"/>
            <a:ext cx="1008000" cy="4316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22400" y="5308560"/>
            <a:ext cx="1073160" cy="52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30680" y="5361120"/>
            <a:ext cx="1103400" cy="425160"/>
          </a:xfrm>
          <a:prstGeom prst="flowChartOnlineStorage">
            <a:avLst/>
          </a:prstGeom>
          <a:solidFill>
            <a:srgbClr val="ff0000">
              <a:alpha val="7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75680" y="5373720"/>
            <a:ext cx="1071000" cy="425520"/>
            <a:chOff x="7375680" y="5373720"/>
            <a:chExt cx="1071000" cy="425520"/>
          </a:xfrm>
        </p:grpSpPr>
        <p:sp>
          <p:nvSpPr>
            <p:cNvPr id="106" name=""/>
            <p:cNvSpPr/>
            <p:nvPr/>
          </p:nvSpPr>
          <p:spPr>
            <a:xfrm>
              <a:off x="7375680" y="5373720"/>
              <a:ext cx="911160" cy="42552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9920" y="5373720"/>
              <a:ext cx="356760" cy="4222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7400" y="5396040"/>
              <a:ext cx="2520" cy="379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280" y="44280"/>
            <a:ext cx="90554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916320" y="3333240"/>
            <a:ext cx="1157400" cy="23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74072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080" y="36720"/>
            <a:ext cx="90698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05 г. Эдвин Чаргафф обнаруж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пуриновых оснований равно числу пиримидиновых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«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, число «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7280" y="3429000"/>
            <a:ext cx="8532720" cy="2021400"/>
            <a:chOff x="287280" y="3429000"/>
            <a:chExt cx="8532720" cy="2021400"/>
          </a:xfrm>
        </p:grpSpPr>
        <p:sp>
          <p:nvSpPr>
            <p:cNvPr id="115" name=""/>
            <p:cNvSpPr/>
            <p:nvPr/>
          </p:nvSpPr>
          <p:spPr>
            <a:xfrm>
              <a:off x="5382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92240" y="343224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342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98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928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3892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9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856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59640" y="3716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7280" y="371628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20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7964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9640" y="486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9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3892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856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157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80" y="515772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84360" y="4149720"/>
              <a:ext cx="142560" cy="647640"/>
              <a:chOff x="684360" y="4149720"/>
              <a:chExt cx="14256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4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148360" y="4149720"/>
              <a:ext cx="142560" cy="647640"/>
              <a:chOff x="5148360" y="4149720"/>
              <a:chExt cx="142560" cy="647640"/>
            </a:xfrm>
          </p:grpSpPr>
          <p:sp>
            <p:nvSpPr>
              <p:cNvPr id="145" name=""/>
              <p:cNvSpPr/>
              <p:nvPr/>
            </p:nvSpPr>
            <p:spPr>
              <a:xfrm>
                <a:off x="5148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90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88000" y="4149720"/>
              <a:ext cx="142560" cy="647640"/>
              <a:chOff x="6588000" y="4149720"/>
              <a:chExt cx="142560" cy="647640"/>
            </a:xfrm>
          </p:grpSpPr>
          <p:sp>
            <p:nvSpPr>
              <p:cNvPr id="148" name=""/>
              <p:cNvSpPr/>
              <p:nvPr/>
            </p:nvSpPr>
            <p:spPr>
              <a:xfrm>
                <a:off x="658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3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028000" y="4149720"/>
              <a:ext cx="142560" cy="647640"/>
              <a:chOff x="8028000" y="4149720"/>
              <a:chExt cx="142560" cy="647640"/>
            </a:xfrm>
          </p:grpSpPr>
          <p:sp>
            <p:nvSpPr>
              <p:cNvPr id="151" name=""/>
              <p:cNvSpPr/>
              <p:nvPr/>
            </p:nvSpPr>
            <p:spPr>
              <a:xfrm>
                <a:off x="802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7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124000" y="4149720"/>
              <a:ext cx="287280" cy="647640"/>
              <a:chOff x="2124000" y="4149720"/>
              <a:chExt cx="287280" cy="647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2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6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1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64000" y="4149720"/>
              <a:ext cx="287280" cy="647640"/>
              <a:chOff x="3564000" y="4149720"/>
              <a:chExt cx="287280" cy="647640"/>
            </a:xfrm>
          </p:grpSpPr>
          <p:sp>
            <p:nvSpPr>
              <p:cNvPr id="158" name=""/>
              <p:cNvSpPr/>
              <p:nvPr/>
            </p:nvSpPr>
            <p:spPr>
              <a:xfrm>
                <a:off x="356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0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48240" y="0"/>
            <a:ext cx="5495760" cy="682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24280" y="61200"/>
            <a:ext cx="38163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851120"/>
            <a:ext cx="464328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епликация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процесс копирования дезоксирибонуклеиновой кислоты, который происходит в процессе деления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 генетический материал, зашифрованный в ДНК, удваивается и делится между дочерними кл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360" y="84240"/>
            <a:ext cx="8972640" cy="6821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69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репа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57360"/>
            <a:ext cx="9144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пара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способность молекулы ДНК исправлять возникающие в её цепях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осстановлении исходной структуры ДНК участвует не менее 20 бел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зн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менённые участки Д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даля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х из цеп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осстанавл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авильную последовательность нуклеотид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ш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осстановленный фрагмент с остальной молекулой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2374920" cy="3240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1000"/>
            <a:ext cx="4422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81592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очитав текст учебника, заполните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3394080"/>
          <a:ext cx="9144000" cy="2477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ДН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функции, особенности её осущест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4400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18160" y="549360"/>
            <a:ext cx="25178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" y="333360"/>
            <a:ext cx="3240000" cy="244800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2205000"/>
            <a:ext cx="4246560" cy="2952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еред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05720" y="421560"/>
            <a:ext cx="47545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Функци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3284640"/>
            <a:ext cx="4465800" cy="3529080"/>
          </a:xfrm>
          <a:prstGeom prst="ellipse">
            <a:avLst/>
          </a:prstGeom>
          <a:solidFill>
            <a:srgbClr val="ccff66"/>
          </a:soli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Роль матриц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т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месту син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43480" y="1217520"/>
            <a:ext cx="3698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35560" y="65736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аров В.Б. и д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винский А.О. Моск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993 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в таблицах и схем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ф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00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Goo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2440" y="33120"/>
            <a:ext cx="7857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История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5651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9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ридрих Миш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наружил НК и дал им название («нуклеус»-ядр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05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двин Чаргаф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учил нуклеотидный состав 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0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залинда Франкл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а, двухцепочечность 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3 г. американские биохимик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ж. Уот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.Кр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163800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165564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0360" y="4869000"/>
            <a:ext cx="1871640" cy="198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94720" y="133524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ргаф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330516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али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68520" y="5032440"/>
            <a:ext cx="12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ж.Уот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 К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26320" y="69120"/>
            <a:ext cx="80913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естонахождение ДНК в кле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3320" y="1758960"/>
            <a:ext cx="250020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6000" y="4653000"/>
            <a:ext cx="313056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3816360" cy="213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9640" y="6184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лоропл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0920" y="625644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64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400536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1830240"/>
            <a:ext cx="4033800" cy="590760"/>
          </a:xfrm>
          <a:custGeom>
            <a:avLst/>
            <a:gdLst/>
            <a:ahLst/>
            <a:rect l="l" t="t" r="r" b="b"/>
            <a:pathLst>
              <a:path w="2541" h="371">
                <a:moveTo>
                  <a:pt x="0" y="53"/>
                </a:moveTo>
                <a:cubicBezTo>
                  <a:pt x="537" y="26"/>
                  <a:pt x="1074" y="0"/>
                  <a:pt x="1497" y="53"/>
                </a:cubicBezTo>
                <a:cubicBezTo>
                  <a:pt x="1920" y="106"/>
                  <a:pt x="2367" y="318"/>
                  <a:pt x="2541" y="3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397240"/>
            <a:ext cx="2808360" cy="2471760"/>
          </a:xfrm>
          <a:custGeom>
            <a:avLst/>
            <a:gdLst/>
            <a:ahLst/>
            <a:rect l="l" t="t" r="r" b="b"/>
            <a:pathLst>
              <a:path w="1769" h="1557">
                <a:moveTo>
                  <a:pt x="0" y="15"/>
                </a:moveTo>
                <a:cubicBezTo>
                  <a:pt x="49" y="7"/>
                  <a:pt x="99" y="0"/>
                  <a:pt x="182" y="15"/>
                </a:cubicBezTo>
                <a:cubicBezTo>
                  <a:pt x="265" y="30"/>
                  <a:pt x="393" y="53"/>
                  <a:pt x="499" y="106"/>
                </a:cubicBezTo>
                <a:cubicBezTo>
                  <a:pt x="605" y="159"/>
                  <a:pt x="711" y="226"/>
                  <a:pt x="817" y="332"/>
                </a:cubicBezTo>
                <a:cubicBezTo>
                  <a:pt x="923" y="438"/>
                  <a:pt x="975" y="537"/>
                  <a:pt x="1134" y="741"/>
                </a:cubicBezTo>
                <a:cubicBezTo>
                  <a:pt x="1293" y="945"/>
                  <a:pt x="1663" y="1421"/>
                  <a:pt x="1769" y="15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2911320"/>
            <a:ext cx="888840" cy="1670040"/>
          </a:xfrm>
          <a:custGeom>
            <a:avLst/>
            <a:gdLst/>
            <a:ahLst/>
            <a:rect l="l" t="t" r="r" b="b"/>
            <a:pathLst>
              <a:path w="560" h="1052">
                <a:moveTo>
                  <a:pt x="0" y="8"/>
                </a:moveTo>
                <a:cubicBezTo>
                  <a:pt x="19" y="4"/>
                  <a:pt x="38" y="0"/>
                  <a:pt x="91" y="8"/>
                </a:cubicBezTo>
                <a:cubicBezTo>
                  <a:pt x="144" y="16"/>
                  <a:pt x="250" y="9"/>
                  <a:pt x="318" y="54"/>
                </a:cubicBezTo>
                <a:cubicBezTo>
                  <a:pt x="386" y="99"/>
                  <a:pt x="461" y="198"/>
                  <a:pt x="499" y="281"/>
                </a:cubicBezTo>
                <a:cubicBezTo>
                  <a:pt x="537" y="364"/>
                  <a:pt x="560" y="425"/>
                  <a:pt x="545" y="553"/>
                </a:cubicBezTo>
                <a:cubicBezTo>
                  <a:pt x="530" y="681"/>
                  <a:pt x="432" y="969"/>
                  <a:pt x="409" y="10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223560"/>
            <a:ext cx="81597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молекулы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224000"/>
            <a:ext cx="50371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нуклеотидов образуют правозакрученные объемные спирали по 10 пар оснований в каждом в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закручиваются вокруг друг друга, а также вокруг общей оси и образуют двойную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антипараллельны или разнонаправленны. Последовательность соединения нуклеотидов одной цепи противоположно таковой в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51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53239" t="25781" r="21075" b="18526"/>
          <a:stretch/>
        </p:blipFill>
        <p:spPr>
          <a:xfrm>
            <a:off x="5003640" y="1125360"/>
            <a:ext cx="4140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71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уклеот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Нуклеот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738600"/>
            <a:ext cx="2160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Азо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нования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Аденин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Гуан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Цит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Ти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2708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троение нуклео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3726000"/>
            <a:ext cx="252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Углевод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Дезокси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726000"/>
            <a:ext cx="3203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таток фосфорной кислоты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(Ф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32080" y="3284640"/>
            <a:ext cx="295200" cy="44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284640"/>
            <a:ext cx="144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3284640"/>
            <a:ext cx="35568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28464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320" y="219960"/>
            <a:ext cx="9081360" cy="5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а состава нуклеотида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90440" y="3332160"/>
            <a:ext cx="8031240" cy="288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21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5520" y="57960"/>
            <a:ext cx="811296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ы строения азотистых основ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состав ДНК входят следующие азотистые осн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ур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. А</a:t>
            </a:r>
            <a:r>
              <a:rPr b="0" i="1" lang="en-US" sz="3200" spc="-1" strike="noStrike">
                <a:solidFill>
                  <a:srgbClr val="0066cc"/>
                </a:solidFill>
                <a:latin typeface="Arial"/>
              </a:rPr>
              <a:t>де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a800"/>
                </a:solidFill>
                <a:latin typeface="Arial"/>
              </a:rPr>
              <a:t>2. Гу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иримид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3. Ти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4. Цит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25880" y="1413000"/>
            <a:ext cx="3894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хематическое 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65160"/>
            <a:ext cx="48718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уклеоти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ы друг от друга на расстояни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0,34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сса одного нуклеотида рав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345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Ширина спирал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и величины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21200" y="739800"/>
            <a:ext cx="422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25:31Z</dcterms:created>
  <dc:creator>Home</dc:creator>
  <dc:description/>
  <dc:language>en-US</dc:language>
  <cp:lastModifiedBy>Sergey</cp:lastModifiedBy>
  <dcterms:modified xsi:type="dcterms:W3CDTF">2007-11-18T20:09:51Z</dcterms:modified>
  <cp:revision>89</cp:revision>
  <dc:subject/>
  <dc:title>Дезоксирибонуклеиновая кислота — ДНК. </dc:title>
</cp:coreProperties>
</file>