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7.wmf" ContentType="image/x-wmf"/>
  <Override PartName="/ppt/media/image16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07F-F673-49A2-BB4A-1DB97064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A98-5C08-41C3-ADF8-A4932436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90C-200B-418E-A5EF-41AE7DB0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F35-FD44-4B7B-B304-4CC15C4B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C71-30E1-46FD-A574-8582CA08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354-4C13-4C03-A873-CFAA15D2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E33-F141-4ED3-AB51-797FCB15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0DB-47AA-46A5-B523-8ACD221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961-3DFE-427A-8801-706767E3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78C-2E6B-48D6-A7E9-98BC04D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CF3-31ED-441C-8E14-95E664BC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A02-59B6-4E03-8340-2FFA087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CC6-D45D-4AFF-8385-4AC60CB1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200" y="77760"/>
            <a:ext cx="43164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остав и значение Д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011480"/>
            <a:ext cx="72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дезоксирибонуклеинов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язи между нуклеотидами в одной цепи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16360" cy="544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628640"/>
            <a:ext cx="44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уществ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тем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оэфи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язей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зоксирибозой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уклеотида и остат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ной кислоты другого  нуклео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вязи между цепями в молекул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0872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51280" y="1577880"/>
            <a:ext cx="5076720" cy="5280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6200" y="1574640"/>
            <a:ext cx="364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ущест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дородны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ежду азотис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ан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ходящими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зных це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ef6f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омплементар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2831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ментарность    -  это   принцип взаимного соответствия парных нуклеотидов или способность нуклеотидов объединяться попа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08280" y="5373720"/>
            <a:ext cx="1008000" cy="4316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22400" y="5308560"/>
            <a:ext cx="1073160" cy="52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530680" y="5361120"/>
            <a:ext cx="1103400" cy="425160"/>
          </a:xfrm>
          <a:prstGeom prst="flowChartOnlineStorage">
            <a:avLst/>
          </a:prstGeom>
          <a:solidFill>
            <a:srgbClr val="ff0000">
              <a:alpha val="7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75680" y="5373720"/>
            <a:ext cx="1071000" cy="425520"/>
            <a:chOff x="7375680" y="5373720"/>
            <a:chExt cx="1071000" cy="425520"/>
          </a:xfrm>
        </p:grpSpPr>
        <p:sp>
          <p:nvSpPr>
            <p:cNvPr id="106" name=""/>
            <p:cNvSpPr/>
            <p:nvPr/>
          </p:nvSpPr>
          <p:spPr>
            <a:xfrm>
              <a:off x="7375680" y="5373720"/>
              <a:ext cx="911160" cy="42552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9920" y="5373720"/>
              <a:ext cx="356760" cy="42228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7400" y="5396040"/>
              <a:ext cx="2520" cy="379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ef6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280" y="44280"/>
            <a:ext cx="90554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инцип комплемент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916320" y="3333240"/>
            <a:ext cx="1157400" cy="23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740720" cy="55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080" y="36720"/>
            <a:ext cx="906984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инцип комплемента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5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05 г. Эдвин Чаргафф обнаруж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пуриновых оснований равно числу пиримидиновых осн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«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= «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, число «</a:t>
            </a:r>
            <a:r>
              <a:rPr b="1" lang="ru-RU" sz="2800" spc="-1" strike="noStrike">
                <a:solidFill>
                  <a:srgbClr val="00a8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= «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1" lang="ru-RU" sz="2800" spc="-1" strike="noStrike">
                <a:solidFill>
                  <a:srgbClr val="00a8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7280" y="3429000"/>
            <a:ext cx="8532720" cy="2021400"/>
            <a:chOff x="287280" y="3429000"/>
            <a:chExt cx="8532720" cy="2021400"/>
          </a:xfrm>
        </p:grpSpPr>
        <p:sp>
          <p:nvSpPr>
            <p:cNvPr id="115" name=""/>
            <p:cNvSpPr/>
            <p:nvPr/>
          </p:nvSpPr>
          <p:spPr>
            <a:xfrm>
              <a:off x="53820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92240" y="343224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8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3429000"/>
              <a:ext cx="62676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980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928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38920" y="342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892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9892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856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20000" y="3716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59640" y="3716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7280" y="371628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820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7964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9640" y="4869000"/>
              <a:ext cx="62676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a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8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928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9928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c6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38920" y="4869000"/>
              <a:ext cx="62712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892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892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856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000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20000" y="51577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9640" y="5157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80" y="5157720"/>
              <a:ext cx="1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84360" y="4149720"/>
              <a:ext cx="142560" cy="647640"/>
              <a:chOff x="684360" y="4149720"/>
              <a:chExt cx="14256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43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148360" y="4149720"/>
              <a:ext cx="142560" cy="647640"/>
              <a:chOff x="5148360" y="4149720"/>
              <a:chExt cx="142560" cy="647640"/>
            </a:xfrm>
          </p:grpSpPr>
          <p:sp>
            <p:nvSpPr>
              <p:cNvPr id="145" name=""/>
              <p:cNvSpPr/>
              <p:nvPr/>
            </p:nvSpPr>
            <p:spPr>
              <a:xfrm>
                <a:off x="51483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90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588000" y="4149720"/>
              <a:ext cx="142560" cy="647640"/>
              <a:chOff x="6588000" y="4149720"/>
              <a:chExt cx="142560" cy="647640"/>
            </a:xfrm>
          </p:grpSpPr>
          <p:sp>
            <p:nvSpPr>
              <p:cNvPr id="148" name=""/>
              <p:cNvSpPr/>
              <p:nvPr/>
            </p:nvSpPr>
            <p:spPr>
              <a:xfrm>
                <a:off x="6588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305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028000" y="4149720"/>
              <a:ext cx="142560" cy="647640"/>
              <a:chOff x="8028000" y="4149720"/>
              <a:chExt cx="142560" cy="647640"/>
            </a:xfrm>
          </p:grpSpPr>
          <p:sp>
            <p:nvSpPr>
              <p:cNvPr id="151" name=""/>
              <p:cNvSpPr/>
              <p:nvPr/>
            </p:nvSpPr>
            <p:spPr>
              <a:xfrm>
                <a:off x="8028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7056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124000" y="4149720"/>
              <a:ext cx="287280" cy="647640"/>
              <a:chOff x="2124000" y="4149720"/>
              <a:chExt cx="287280" cy="647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24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6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1128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564000" y="4149720"/>
              <a:ext cx="287280" cy="647640"/>
              <a:chOff x="3564000" y="4149720"/>
              <a:chExt cx="287280" cy="647640"/>
            </a:xfrm>
          </p:grpSpPr>
          <p:sp>
            <p:nvSpPr>
              <p:cNvPr id="158" name=""/>
              <p:cNvSpPr/>
              <p:nvPr/>
            </p:nvSpPr>
            <p:spPr>
              <a:xfrm>
                <a:off x="356400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70692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14972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ff"/>
            </a:gs>
            <a:gs pos="100000">
              <a:srgbClr val="def6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48240" y="0"/>
            <a:ext cx="5495760" cy="6821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24280" y="61200"/>
            <a:ext cx="38163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реплик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851120"/>
            <a:ext cx="464328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епликация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процесс копирования дезоксирибонуклеиновой кислоты, который происходит в процессе деления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том генетический материал, зашифрованный в ДНК, удваивается и делится между дочерними кл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1360" y="84240"/>
            <a:ext cx="8972640" cy="6821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реплик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6904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войство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репа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57360"/>
            <a:ext cx="9144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пара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способность молекулы ДНК исправлять возникающие в её цепях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восстановлении исходной структуры ДНК участвует не менее 20 бел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зн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зменённые участки ДН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даля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х из цеп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Восстанавлив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авильную последовательность нуклеотид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шив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восстановленный фрагмент с остальной молекулой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2374920" cy="3240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1000"/>
            <a:ext cx="4422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81592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очитав текст учебника, заполните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3394080"/>
          <a:ext cx="9144000" cy="2477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ДН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функции, особенности её осущест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4400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18160" y="549360"/>
            <a:ext cx="25178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920" y="333360"/>
            <a:ext cx="3240000" cy="244800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2205000"/>
            <a:ext cx="4246560" cy="2952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еред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олени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05720" y="421560"/>
            <a:ext cx="47545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Функции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3284640"/>
            <a:ext cx="4465800" cy="3529080"/>
          </a:xfrm>
          <a:prstGeom prst="ellipse">
            <a:avLst/>
          </a:prstGeom>
          <a:solidFill>
            <a:srgbClr val="ccff66"/>
          </a:soli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Роль матриц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е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т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месту син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43480" y="1217520"/>
            <a:ext cx="3698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35560" y="65736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аров В.Б. и д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би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винский А.О. Москв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993 г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биолог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в таблицах и схем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ф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005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Goog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2440" y="33120"/>
            <a:ext cx="7857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История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5651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9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ридрих Миш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наружил НК и дал им название («нуклеус»-ядр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05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двин Чаргаф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учил нуклеотидный состав 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50 г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залинда Франкл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овила, двухцепочечность 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53 г. американские биохимик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ж. Уотс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.Кр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163800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165564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0360" y="4869000"/>
            <a:ext cx="1871640" cy="198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94720" y="133524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ргаф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3305160"/>
            <a:ext cx="16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али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68520" y="5032440"/>
            <a:ext cx="12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ж.Уот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 К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26320" y="69120"/>
            <a:ext cx="80913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естонахождение ДНК в кле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83320" y="1758960"/>
            <a:ext cx="250020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6000" y="4653000"/>
            <a:ext cx="313056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32000" y="4437000"/>
            <a:ext cx="3816360" cy="2130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9640" y="6184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лоропл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20920" y="625644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итохо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64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400536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1830240"/>
            <a:ext cx="4033800" cy="590760"/>
          </a:xfrm>
          <a:custGeom>
            <a:avLst/>
            <a:gdLst/>
            <a:ahLst/>
            <a:rect l="l" t="t" r="r" b="b"/>
            <a:pathLst>
              <a:path w="2541" h="371">
                <a:moveTo>
                  <a:pt x="0" y="53"/>
                </a:moveTo>
                <a:cubicBezTo>
                  <a:pt x="537" y="26"/>
                  <a:pt x="1074" y="0"/>
                  <a:pt x="1497" y="53"/>
                </a:cubicBezTo>
                <a:cubicBezTo>
                  <a:pt x="1920" y="106"/>
                  <a:pt x="2367" y="318"/>
                  <a:pt x="2541" y="3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397240"/>
            <a:ext cx="2808360" cy="2471760"/>
          </a:xfrm>
          <a:custGeom>
            <a:avLst/>
            <a:gdLst/>
            <a:ahLst/>
            <a:rect l="l" t="t" r="r" b="b"/>
            <a:pathLst>
              <a:path w="1769" h="1557">
                <a:moveTo>
                  <a:pt x="0" y="15"/>
                </a:moveTo>
                <a:cubicBezTo>
                  <a:pt x="49" y="7"/>
                  <a:pt x="99" y="0"/>
                  <a:pt x="182" y="15"/>
                </a:cubicBezTo>
                <a:cubicBezTo>
                  <a:pt x="265" y="30"/>
                  <a:pt x="393" y="53"/>
                  <a:pt x="499" y="106"/>
                </a:cubicBezTo>
                <a:cubicBezTo>
                  <a:pt x="605" y="159"/>
                  <a:pt x="711" y="226"/>
                  <a:pt x="817" y="332"/>
                </a:cubicBezTo>
                <a:cubicBezTo>
                  <a:pt x="923" y="438"/>
                  <a:pt x="975" y="537"/>
                  <a:pt x="1134" y="741"/>
                </a:cubicBezTo>
                <a:cubicBezTo>
                  <a:pt x="1293" y="945"/>
                  <a:pt x="1663" y="1421"/>
                  <a:pt x="1769" y="15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2911320"/>
            <a:ext cx="888840" cy="1670040"/>
          </a:xfrm>
          <a:custGeom>
            <a:avLst/>
            <a:gdLst/>
            <a:ahLst/>
            <a:rect l="l" t="t" r="r" b="b"/>
            <a:pathLst>
              <a:path w="560" h="1052">
                <a:moveTo>
                  <a:pt x="0" y="8"/>
                </a:moveTo>
                <a:cubicBezTo>
                  <a:pt x="19" y="4"/>
                  <a:pt x="38" y="0"/>
                  <a:pt x="91" y="8"/>
                </a:cubicBezTo>
                <a:cubicBezTo>
                  <a:pt x="144" y="16"/>
                  <a:pt x="250" y="9"/>
                  <a:pt x="318" y="54"/>
                </a:cubicBezTo>
                <a:cubicBezTo>
                  <a:pt x="386" y="99"/>
                  <a:pt x="461" y="198"/>
                  <a:pt x="499" y="281"/>
                </a:cubicBezTo>
                <a:cubicBezTo>
                  <a:pt x="537" y="364"/>
                  <a:pt x="560" y="425"/>
                  <a:pt x="545" y="553"/>
                </a:cubicBezTo>
                <a:cubicBezTo>
                  <a:pt x="530" y="681"/>
                  <a:pt x="432" y="969"/>
                  <a:pt x="409" y="10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223560"/>
            <a:ext cx="81597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троение молекулы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224000"/>
            <a:ext cx="50371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нуклеотидов образуют правозакрученные объемные спирали по 10 пар оснований в каждом в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закручиваются вокруг друг друга, а также вокруг общей оси и образуют двойную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епи антипараллельны или разнонаправленны. Последовательность соединения нуклеотидов одной цепи противоположно таковой в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887640" cy="51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53239" t="25781" r="21075" b="18526"/>
          <a:stretch/>
        </p:blipFill>
        <p:spPr>
          <a:xfrm>
            <a:off x="5003640" y="1125360"/>
            <a:ext cx="4140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троени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71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уклеот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Нуклеот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738600"/>
            <a:ext cx="2160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Азот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основания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Аденин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Гуан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Цит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Ти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2708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троение нуклео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3726000"/>
            <a:ext cx="252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Углевод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- Дезокси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726000"/>
            <a:ext cx="3203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Остаток фосфорной кислоты</a:t>
            </a: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 (Ф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332080" y="3284640"/>
            <a:ext cx="295200" cy="44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284640"/>
            <a:ext cx="144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3284640"/>
            <a:ext cx="35568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328464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320" y="219960"/>
            <a:ext cx="9081360" cy="5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хема состава нуклеотида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90440" y="3332160"/>
            <a:ext cx="8031240" cy="288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217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5520" y="57960"/>
            <a:ext cx="811296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хемы строения азотистых основ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состав ДНК входят следующие азотистые осн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ури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1. А</a:t>
            </a:r>
            <a:r>
              <a:rPr b="0" i="1" lang="en-US" sz="3200" spc="-1" strike="noStrike">
                <a:solidFill>
                  <a:srgbClr val="0066cc"/>
                </a:solidFill>
                <a:latin typeface="Arial"/>
              </a:rPr>
              <a:t>де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a800"/>
                </a:solidFill>
                <a:latin typeface="Arial"/>
              </a:rPr>
              <a:t>2. Гу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иримиди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3. Ти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4. Цит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25880" y="1413000"/>
            <a:ext cx="3894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хематическое строение Д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65160"/>
            <a:ext cx="48718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уклеоти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положены друг от друга на расстоянии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0,34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сса одного нуклеотида равн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345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Ширина спирали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2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и величины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посто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21200" y="739800"/>
            <a:ext cx="422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7:25:31Z</dcterms:created>
  <dc:creator>Home</dc:creator>
  <dc:description/>
  <dc:language>en-US</dc:language>
  <cp:lastModifiedBy>Sergey</cp:lastModifiedBy>
  <dcterms:modified xsi:type="dcterms:W3CDTF">2007-11-18T20:09:51Z</dcterms:modified>
  <cp:revision>89</cp:revision>
  <dc:subject/>
  <dc:title>Дезоксирибонуклеиновая кислота — ДНК. </dc:title>
</cp:coreProperties>
</file>