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050C-B5D4-44E6-A56B-A1C621575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AC4A-19AB-4714-A6A0-C86012BF2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B40E-79FD-418D-A73C-82524A995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B76F-4CAD-41CA-9E41-64D4BC148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C90C7-3649-4062-931F-D33C498F2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EF466-87B7-40A7-879D-F6494647D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367D1-FBE7-4372-8BC8-F501E937D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FAAF3-02E4-4D67-A766-11568D144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42120-6D5F-424D-843C-BD74D9A83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FA27B-7881-4B50-BF09-E3D02B289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2BA34-1B16-48F8-A305-C313E4FB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3B0B-12E4-4E43-B4BF-05B0F007E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E6616-A6B8-429D-8A20-686F89871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14E15-4D65-41F5-9EB6-7E7965923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E996F-6AC8-4C8B-9DAA-B5FD7202C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64E17-604A-4738-8F02-7B214ADCA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E651D-F193-4850-8251-09BF24718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26AD-BDB0-47F8-BE50-7461B26DB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9F82-C0E3-4280-8489-CF5B1F84E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9562-387D-443D-8A00-668F9DC6A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9807-F2DA-4286-A76A-2FC99B242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C176-D368-48A3-A31F-7B0947076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F323-39BE-4B10-A989-B635F1950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5C68-D6CB-48C4-8EC5-F7E26660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CE4EA-6528-4F79-A40D-DACF82E95A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27A05-29FD-46CF-BEE1-1B4F91FC62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1.wmf"/><Relationship Id="rId12" Type="http://schemas.openxmlformats.org/officeDocument/2006/relationships/image" Target="../media/image12.jpeg"/><Relationship Id="rId13" Type="http://schemas.openxmlformats.org/officeDocument/2006/relationships/slideLayout" Target="../slideLayouts/slideLayout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4.wmf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5.png"/><Relationship Id="rId2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Добро пожаловать на урок –тренинг 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3059280" y="3716280"/>
            <a:ext cx="2627280" cy="22478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 txBox="1"/>
          <p:nvPr/>
        </p:nvSpPr>
        <p:spPr>
          <a:xfrm>
            <a:off x="0" y="1844640"/>
            <a:ext cx="8964720" cy="128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245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«Стресс и пути его преодоления»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Социально-психологическая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                        совместимость – </a:t>
            </a: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следствие оптимального сочетания типов поведения людей в группах,  также общности их социальных установок, потребностей  интересов, ценностных ориентаций.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979640" y="1773360"/>
            <a:ext cx="4968720" cy="5084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-360" y="188640"/>
            <a:ext cx="8373960" cy="62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Социально –– психологический климат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–– 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это преобладающий в группе или коллективе относительно устойчивый психологический настрой его членов, проявляющийся в отношени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друг к другу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к труду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к окружающим событиям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к организации в цело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                                                        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на основании индивидуальных, личностных ценностей и ориентаци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Факторы, оказывающие влияние на формировани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пределённого социально-психологического климата в коллективе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Комплектование коллектива с учётом психологической совместимости работников. В зависимости от целей работы в коллективе надо сочетать разные типы поведения люде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Стиль поведения руководителя, менеджера, хозяина предприят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Соблюдение служебного этикета, который начинается с внешнего вид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Полная информация о льготах</a:t>
            </a: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, </a:t>
            </a: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вытекающих из принадлежности к фирм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Чёткая политика продвижения по службе, предусматривающая возможность для каждого работника профессионального и служебного рост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Политика «открытых дверей»,</a:t>
            </a: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которая состоит в том, что работники наделяются правом доступа к любому руководителю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Немедленное вознаграждение, означающее, что оплата труда не должна быть оторвана во времени от самого труда, иначе она теряет стимулирующий смысл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Справедливое отношение к работникам, то есть поддержание соответствия между</a:t>
            </a: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тем, что работник даёт фирме и тем, что он от неё получае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Учёт предпочтений в потребностях различных работников</a:t>
            </a: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. С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Успешный или неуспешный ход производительного процесс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Применяемая шкала поощрений и наказани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Условия труд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Обстановка в семье, вне работы, условия проведения свободного времен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404316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Кодекс поведения в конфликте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492000" y="260280"/>
            <a:ext cx="56516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Дайте партнёру «выпустить пар», в это время ведите себя спокойно, уверенно, но не высокомерно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Потребуйте от него спокойно обосновать претензии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Сбивайте агрессию неожиданными приёмами(попросите совета. Сделайте комплимент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Не давайте отрицательных оценок, а говорите о чувствах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Попросите сказать желаемый результат и проблему как цель препятствий; нельзя позволять эмоциям управлять; необходимо определить проблему и сосредоточиться на ней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Предложите ему высказать свои соображения по разрешению проблемы и свои варианты решения; не ищите виновных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Дайте ему сохранить «лицо»; не отвечайте агрессией на агрессию; оценивайте не партнёра, а его поступки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Иногда переспрашивайте его высказывания: «вы хотели сказать...?»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9"/>
          <a:stretch/>
        </p:blipFill>
        <p:spPr>
          <a:xfrm>
            <a:off x="569880" y="1773360"/>
            <a:ext cx="3284640" cy="5084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4900680" y="0"/>
            <a:ext cx="4243320" cy="656892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78920" y="189000"/>
            <a:ext cx="475308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ержитесь в позиции «на равных»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 бойтесь извиниться. Если чувствуете свою вину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ичего не доказывайте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молчите первым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 характеризуйте состояние оппонента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ходя, не хлопайте дверью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 говорите, если он «остыл»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зависимо от результата противоречия старайтесь не разрушать отношения, выразив своё уважеие и расположение к партнёр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6600"/>
                </a:solidFill>
                <a:uFillTx/>
                <a:latin typeface="Times New Roman"/>
              </a:rPr>
              <a:t>В конфликтной ситуации нельзя</a:t>
            </a: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imes New Roman"/>
              </a:rPr>
              <a:t>Критически  оценивать  партнёр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imes New Roman"/>
              </a:rPr>
              <a:t>Приписывать  ему  низменные  или  плохие  намере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imes New Roman"/>
              </a:rPr>
              <a:t>Демонстрировать  знаки  превосходств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imes New Roman"/>
              </a:rPr>
              <a:t>Обвинять  и  приписывать  ответственность  только  оппонент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imes New Roman"/>
              </a:rPr>
              <a:t>Игнорировать  интересы  партнёр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imes New Roman"/>
              </a:rPr>
              <a:t>Видеть  всё  только  со  своей  позици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imes New Roman"/>
              </a:rPr>
              <a:t>Уменьшать  заслуги  партнёра  и  его  вкла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imes New Roman"/>
              </a:rPr>
              <a:t>Преувеличивать  свои  заслуг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imes New Roman"/>
              </a:rPr>
              <a:t>Раздражаться,  кричать,  нападат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imes New Roman"/>
              </a:rPr>
              <a:t>Задевать  «болевые  точки»  и  уязвимые  места  партнёр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imes New Roman"/>
              </a:rPr>
              <a:t>Обрушивать  на  партнёра  множество  претензи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Пути предотвращения конфликта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е говорите и не делайте того, что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обидит, заденет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собеседника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Не отвечайт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конфликтным поведением на его поведение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оявляйте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понимание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 собеседнику, поставив себя на его место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елайте больше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благожелательных обращений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дружеская улыбка, поддержка, сочувствие, похвала и т.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5"/>
          <a:stretch/>
        </p:blipFill>
        <p:spPr>
          <a:xfrm>
            <a:off x="66600" y="1341360"/>
            <a:ext cx="4675320" cy="4751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Несколько минут релаксации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8000" y="3357360"/>
            <a:ext cx="8218440" cy="35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ef2b8"/>
                </a:solidFill>
                <a:latin typeface="Times New Roman"/>
              </a:rPr>
              <a:t>Не принимайте никаких решений(исключение:сихийное бедствие, спасение жизни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ef2b8"/>
                </a:solidFill>
                <a:latin typeface="Times New Roman"/>
              </a:rPr>
              <a:t>Сосчитайте до 10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ef2b8"/>
                </a:solidFill>
                <a:latin typeface="Times New Roman"/>
              </a:rPr>
              <a:t>Вдохните через нос и задержите дыхание, медленно выдохните, сосредоточившись на ощущениях дыхания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ef2b8"/>
                </a:solidFill>
                <a:latin typeface="Times New Roman"/>
              </a:rPr>
              <a:t>Останьтесь один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ef2b8"/>
                </a:solidFill>
                <a:latin typeface="Times New Roman"/>
              </a:rPr>
              <a:t>Смочите лоб, виски и артерии на руках холодой водой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ef2b8"/>
                </a:solidFill>
                <a:latin typeface="Times New Roman"/>
              </a:rPr>
              <a:t>Медленно осмотрите помещение, мысленно описав его и находящиеся в нём предметы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ef2b8"/>
                </a:solidFill>
                <a:latin typeface="Times New Roman"/>
              </a:rPr>
              <a:t>Посмотрте вокно, небо, осознайте красоту мра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ef2b8"/>
                </a:solidFill>
                <a:latin typeface="Times New Roman"/>
              </a:rPr>
              <a:t>Медленно и сосредоточенно выпейте стакан воды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ef2b8"/>
                </a:solidFill>
                <a:latin typeface="Times New Roman"/>
              </a:rPr>
              <a:t>Сосредоточьтесь на ощущениях, когда вода будет течь по голу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ef2b8"/>
                </a:solidFill>
                <a:latin typeface="Times New Roman"/>
              </a:rPr>
              <a:t>Сделайте наклоны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1"/>
          <a:stretch/>
        </p:blipFill>
        <p:spPr>
          <a:xfrm>
            <a:off x="684360" y="1125360"/>
            <a:ext cx="3382920" cy="22323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12"/>
          <a:stretch/>
        </p:blipFill>
        <p:spPr>
          <a:xfrm>
            <a:off x="4572000" y="1197000"/>
            <a:ext cx="3745080" cy="21891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9640" y="0"/>
            <a:ext cx="78422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Times New Roman"/>
              </a:rPr>
              <a:t>Рекомендации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99"/>
                </a:solidFill>
                <a:latin typeface="Times New Roman"/>
              </a:rPr>
              <a:t>Один  из  способов  предотвращения  конфликтов –– воспитание,  а  вернее,  самовоспитание  эмоций.  Это  означает,  что  человек  может  поверить  в  силы  и  возможности  своей  «эмоциональной  сферы»,  внушить  самому  себе  ощущение  оптимизма,  сформировать  способности  вести  себя  в  эмоциональном  плане  логично  и  адекватно  обстановке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765000"/>
            <a:ext cx="769608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Чтобы  не  «выплескивать»  свои  эмоции,  работнику  сферы  обслуживания  нужны  своеобразная  профессиональная  маска,  приветливо –– вежливое  выражение  лица,  лёгкая  полуулыбка.  «Маска»  будет  формой  эмоциональной  защиты  от  возможных  «уколов»  со  стороны  потребителе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</a:rPr>
              <a:t>Мудрые  мысл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99"/>
                </a:solidFill>
                <a:latin typeface="Times New Roman"/>
              </a:rPr>
              <a:t>Любовь –– великий  учитель.      (Мольер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99"/>
                </a:solidFill>
                <a:latin typeface="Times New Roman"/>
              </a:rPr>
              <a:t>Лишь  тот  испытывает  радость,кто  может  ближнему  помочь. (Гёте)                                                                                                                 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99"/>
                </a:solidFill>
                <a:latin typeface="Times New Roman"/>
              </a:rPr>
              <a:t>Умеренность –– здоровье  души.    (Левис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99"/>
                </a:solidFill>
                <a:latin typeface="Times New Roman"/>
              </a:rPr>
              <a:t>Нельзя  врачевать  тело,  не  врачуя  душу.    (Сократ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99"/>
                </a:solidFill>
                <a:latin typeface="Times New Roman"/>
              </a:rPr>
              <a:t>То,  что  идёт  от  сердца,  до  сердца  и  доходит.    (Пайэтт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99"/>
                </a:solidFill>
                <a:latin typeface="Times New Roman"/>
              </a:rPr>
              <a:t>Ничто  не  обходится  нам  так  дёшево  и  не  ценится  так  дорого,  как  вежливость  и  доброта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99"/>
                </a:solidFill>
                <a:latin typeface="Times New Roman"/>
              </a:rPr>
              <a:t>   </a:t>
            </a:r>
            <a:r>
              <a:rPr b="1" lang="ru-RU" sz="2200" spc="-1" strike="noStrike">
                <a:solidFill>
                  <a:srgbClr val="ffff99"/>
                </a:solidFill>
                <a:latin typeface="Times New Roman"/>
              </a:rPr>
              <a:t>(Мигель  Сервантес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99"/>
                </a:solidFill>
                <a:latin typeface="Times New Roman"/>
              </a:rPr>
              <a:t>Юмор –– это  спасательный  круг  на  волнах  жизни.   (Раабе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99"/>
                </a:solidFill>
                <a:latin typeface="Times New Roman"/>
              </a:rPr>
              <a:t>Здоровый  нищий  счастливее  больного  короля.    (Шопенгауэр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99"/>
                </a:solidFill>
                <a:latin typeface="Times New Roman"/>
              </a:rPr>
              <a:t>Самый  счастливый  человек  тот,  кто  дарит  счастье наибольшему числу  людей. (Дидро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99"/>
                </a:solidFill>
                <a:latin typeface="Times New Roman"/>
              </a:rPr>
              <a:t>Жажда  достижений  даёт  человеку  радость  жизни.    (Монтень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6560" y="620280"/>
            <a:ext cx="769644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Следует  приучить  себя  осмысливать  собственное  поведение,  постараться  понять  причины  появления  избыточных  эмоциональных  реакций.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Не  забывайте  поговорку,  что  </a:t>
            </a:r>
            <a:r>
              <a:rPr b="1" lang="en-US" sz="2400" spc="-1" strike="noStrike" u="sng">
                <a:solidFill>
                  <a:srgbClr val="feec94"/>
                </a:solidFill>
                <a:uFillTx/>
                <a:latin typeface="Times New Roman"/>
              </a:rPr>
              <a:t>«Деловые  люди,  которые  не  знают,  как  бороться  со  стрессами,  умирают  молодыми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Помните,  что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*  Самое  важное  в  жизни ––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это  умение  вырабатывать  у  себя  определённое  умонастроение,  положительное  отношение  к  окружающему  мир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*  Человек  страдает  не  столько  от  того,  что  происходит,  сколько  от  того,  как  он  оценивает  происходяще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Выводы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Каждый  человек  обладает  способностью  АУТОРЕГУЛЯЦИИ –– нужно  лишь  уметь  своевременно  воспользоваться  ею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Человек  не  беспомощен  перед  стрессом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193840" y="1371600"/>
            <a:ext cx="3902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75080" y="1066680"/>
            <a:ext cx="4663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90720" y="457200"/>
            <a:ext cx="7848360" cy="57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В России за  последние  </a:t>
            </a:r>
            <a:r>
              <a:rPr b="1" i="1" lang="en-US" sz="2800" spc="-1" strike="noStrike">
                <a:solidFill>
                  <a:srgbClr val="ffffcc"/>
                </a:solidFill>
                <a:latin typeface="Arial"/>
              </a:rPr>
              <a:t>10  лет</a:t>
            </a: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нуждающихся  в  помощи  психиатр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стало  гораздо  больше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(пограничных  расстройств,  связанных  со  стрессами –  </a:t>
            </a:r>
            <a:r>
              <a:rPr b="1" i="1" lang="en-US" sz="2800" spc="-1" strike="noStrike">
                <a:solidFill>
                  <a:srgbClr val="ffffcc"/>
                </a:solidFill>
                <a:latin typeface="Arial"/>
              </a:rPr>
              <a:t>на 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30%;</a:t>
            </a: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  случаев  умственной  отсталости – на 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25%;</a:t>
            </a: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  алкоголизма – на 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40%;</a:t>
            </a: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  наркомании – в 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 раз</a:t>
            </a: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В  Калининградской  области  в  </a:t>
            </a:r>
            <a:r>
              <a:rPr b="1" i="1" lang="en-US" sz="2800" spc="-1" strike="noStrike">
                <a:solidFill>
                  <a:srgbClr val="ffffcc"/>
                </a:solidFill>
                <a:latin typeface="Arial"/>
              </a:rPr>
              <a:t>2005  году</a:t>
            </a: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  по  статистике  обращения  к  врачам  хроников  и  новичков  с  расстройствами  занимают  </a:t>
            </a:r>
            <a:r>
              <a:rPr b="1" i="1" lang="en-US" sz="2800" spc="-1" strike="noStrike">
                <a:solidFill>
                  <a:srgbClr val="ffffcc"/>
                </a:solidFill>
                <a:latin typeface="Arial"/>
              </a:rPr>
              <a:t>второе  место  после  травм</a:t>
            </a: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-92160" y="426564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04920" y="304920"/>
            <a:ext cx="8458200" cy="66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Результаты  исследований  свидетельствуют,  что  причиной  стресса  в  </a:t>
            </a: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61%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 случаев  являются  служебные  проблемы,  семейные  переживания  и  финансовые  трудности,  </a:t>
            </a: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22%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 случаев  вызваны  причинами  «психологического  характера»,  а  </a:t>
            </a: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7%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––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серьёзными  заболеваниями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Стресс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53640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Это эмоциональное состояние, вызываемое необычными ситуациями;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трицательно сказывается на психике и здоровье в целом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едёт к срыву в поведени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ухудшает восприятие, память, внимание, мышление и координация движени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5"/>
          <a:stretch/>
        </p:blipFill>
        <p:spPr>
          <a:xfrm>
            <a:off x="4859280" y="1268280"/>
            <a:ext cx="4105440" cy="43164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541440" y="259920"/>
            <a:ext cx="100821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Причины стресса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780000" y="907920"/>
            <a:ext cx="53640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езкий звонок будильника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автрак в спешке – стресс для желудка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езкие смены погоды и часовых поясов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Езда в переполненном транспорте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еправильно выбранный режим дня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помещении душно; недружелюбность окружающих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течение дня – непредвиденные обстоятельства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едостаток отдыха, переутомление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.к. другие тоже подвержены стрессу, возникают конфликты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0"/>
          <a:stretch/>
        </p:blipFill>
        <p:spPr>
          <a:xfrm>
            <a:off x="61920" y="1125360"/>
            <a:ext cx="3693960" cy="43912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716000" y="260280"/>
            <a:ext cx="397044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Профилактика стресса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-360" y="0"/>
            <a:ext cx="54356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ыясните причины стресса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Не забывайте хвалить себя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Осваивайте методы релаксации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едите дневник наблюдений, записывая своё стрессовое состояние, а затем обсудите его с близким человеком, чтобы найти выход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Хорошо и регулярно питайтесь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Активно работайте. Но выматывайте себя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Задумывайтесь о смысле жизни, ставьте ближайшие и отдалённые цели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Старайтесь заслужить любовь ближнего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Активно отдыхайте и бегайте трусцой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ырабатывайте правильную походку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Занимайтесь спортом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олноценный глубокий сон (7-9 часов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Закаливание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роявляйте добрые и положительные эмоции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Чаще шутите, проявляйте чувство юмора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Стремясь к хорошим отношениям, избегайте дружбы с «трудными», не сдержанными людьми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Цените радость простоты жизненного уклада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С какой бы жизненной ситуацией не столкнулись, подумайте. Стоит ли сражаться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Сосредотачивайтесь на светлых сторонах жизни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Используйте профилактику «радости дня и выполняемой мной работы»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1"/>
          <a:srcRect l="0" t="5305" r="0" b="0"/>
          <a:stretch/>
        </p:blipFill>
        <p:spPr>
          <a:xfrm>
            <a:off x="5076720" y="1920960"/>
            <a:ext cx="4067280" cy="29257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Аффект – </a:t>
            </a:r>
            <a:r>
              <a:rPr b="1" lang="en-US" sz="2400" spc="-1" strike="noStrike">
                <a:solidFill>
                  <a:srgbClr val="fef2b4"/>
                </a:solidFill>
                <a:latin typeface="Times New Roman"/>
              </a:rPr>
              <a:t>сильная эмоциональная, бурно протекающая реакция, носящая характер взрыва– ужаса, ярости, страха и т.д.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785960" y="1700280"/>
            <a:ext cx="5002200" cy="51577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Суицид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-360" y="1341360"/>
            <a:ext cx="447516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лат.- самоубийство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кт самоубийства, связанный с продолжительными стрессами или неответственным отношением к своей жизн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4140360" y="2637000"/>
            <a:ext cx="4643280" cy="35589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5T18:12:18Z</dcterms:created>
  <dc:creator>Шойган А.А.</dc:creator>
  <dc:description/>
  <dc:language>en-US</dc:language>
  <cp:lastModifiedBy>Teacher</cp:lastModifiedBy>
  <dcterms:modified xsi:type="dcterms:W3CDTF">2007-05-10T10:58:32Z</dcterms:modified>
  <cp:revision>30</cp:revision>
  <dc:subject/>
  <dc:title>Тема  урока: «Эмоциональные состояния в работе менеджера: причины, особенности проявления, способы самоконтроля, самоуправления и пути по их профилактике и предупреждению»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