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5D1-BEDC-4F6B-9712-8B5DAE0F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B9DD-D211-48AF-B62E-C7115CB1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975-0971-4B6B-92BE-3FB5CED8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C28-312F-450E-B0BF-EB34E16A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9025-9C1A-421A-8ADB-B9DF14EC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7926-F10D-4B93-9341-162788A5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D6D6-D8E5-41C0-93AC-C7EC8FD3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66C5-DEB0-4391-8A11-D8E200CA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76CA-E076-436C-8473-2942E1B8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C853-2F7A-4913-BB7B-A7EB623F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8D90-BB2F-4001-8153-172BC472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305-AC35-4608-8CEA-433AFAAF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53A1-4CA6-4314-8C76-49829CE4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E7F1-1C2F-46FA-A8B5-4A97AACF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74E1-BF79-4D3E-A2B3-9DCDC077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1FFF-1705-47B7-AAD3-DB977CFC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CEF6-BE54-411D-AC49-B05F695B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27B4-9913-4E13-9CA7-C9FE1F84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0163-58D4-4B6B-9B5F-659709F6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6ED-2DBC-4CCF-8383-73ECE1CC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EAB0-ACFE-446D-83A6-02E4AA4B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7D5-1FA9-48F4-91B2-236CA2B4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AD8-4A24-4FAF-83D3-CB2746E8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362-B454-4594-B3F2-B3100EA8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6E79-FB7A-4AA8-97DA-7ED7990E0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2EF7-9493-4F75-A6B4-1B07112F8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1.wmf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5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обро пожаловать на урок –тренинг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59280" y="3716280"/>
            <a:ext cx="2627280" cy="22478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0" y="1844640"/>
            <a:ext cx="896472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4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«Стресс и пути его преодоления»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оциально-психологическая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                       совместимость – 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следствие оптимального сочетания типов поведения людей в группах,  также общности их социальных установок, потребностей  интересов, ценностных ориентаций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4968720" cy="508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37396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Социально –– психологический клима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––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это преобладающий в группе или коллективе относительно устойчивый психологический настрой его членов, проявляющийся в отношен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друг к другу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к труду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к окружающим события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к организации в цел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на основании индивидуальных, личностных ценностей и ориентац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акторы, оказывающие влияние на формирова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пределённого социально-психологического климата в коллектив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Комплектование коллектива с учётом психологической совместимости работников. В зависимости от целей работы в коллективе надо сочетать разные типы поведения люд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Стиль поведения руководителя, менеджера, хозяина предприя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Соблюдение служебного этикета, который начинается с внешнего ви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Полная информация о льготах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вытекающих из принадлежности к фирм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Чёткая политика продвижения по службе, предусматривающая возможность для каждого работника профессионального и служебного рос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Политика «открытых дверей»,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которая состоит в том, что работники наделяются правом доступа к любому руководите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Немедленное вознаграждение, означающее, что оплата труда не должна быть оторвана во времени от самого труда, иначе она теряет стимулирующий смыс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Справедливое отношение к работникам, то есть поддержание соответствия между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тем, что работник даёт фирме и тем, что он от неё получа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Учёт предпочтений в потребностях различных работников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. С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Успешный или неуспешный ход производительного процесс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Применяемая шкала поощрений и наказа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Условия тру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Обстановка в семье, вне работы, условия проведения свободного времен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404316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одекс поведения в конфликт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92000" y="260280"/>
            <a:ext cx="5651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Дайте партнёру «выпустить пар», в это время ведите себя спокойно, уверенно, но не высокомерно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Потребуйте от него спокойно обосновать претенз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Сбивайте агрессию неожиданными приёмами(попросите совета. Сделайте комплимент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Не давайте отрицательных оценок, а говорите о чувствах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Попросите сказать желаемый результат и проблему как цель препятствий; нельзя позволять эмоциям управлять; необходимо определить проблему и сосредоточиться на не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Предложите ему высказать свои соображения по разрешению проблемы и свои варианты решения; не ищите виновных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Дайте ему сохранить «лицо»; не отвечайте агрессией на агрессию; оценивайте не партнёра, а его поступк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Иногда переспрашивайте его высказывания: «вы хотели сказать...?»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9"/>
          <a:stretch/>
        </p:blipFill>
        <p:spPr>
          <a:xfrm>
            <a:off x="569880" y="1773360"/>
            <a:ext cx="3284640" cy="508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900680" y="0"/>
            <a:ext cx="4243320" cy="6568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4753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ржитесь в позиции «на равных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бойтесь извиниться. Если чувствуете свою вин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чего не доказывайт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молчите первы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характеризуйте состояние оппонент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ходя, не хлопайте дверью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говорите, если он «остыл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зависимо от результата противоречия старайтесь не разрушать отношения, выразив своё уважеие и расположение к партнё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В конфликтной ситуации нельзя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Критически  оценивать  партнё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Приписывать  ему  низменные  или  плохие  намер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Демонстрировать  знаки  превосход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Обвинять  и  приписывать  ответственность  только  оппонен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Игнорировать  интересы  партнё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Видеть  всё  только  со  своей  пози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Уменьшать  заслуги  партнёра  и  его  вкл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Преувеличивать  свои  заслуг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Раздражаться,  кричать,  напад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Задевать  «болевые  точки»  и  уязвимые  места  партнё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Обрушивать  на  партнёра  множество  претенз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ути предотвращения конфликта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говорите и не делайте того, что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обидит, задене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собеседни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Не отвечайт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конфликтным поведением на его поведени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являйте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понимани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 собеседнику, поставив себя на его место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лайте больше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благожелательных обращени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дружеская улыбка, поддержка, сочувствие, похвала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66600" y="1341360"/>
            <a:ext cx="4675320" cy="4751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есколько минут релаксаци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3357360"/>
            <a:ext cx="821844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Не принимайте никаких решений(исключение:сихийное бедствие, спасение жизни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Сосчитайте до 1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Вдохните через нос и задержите дыхание, медленно выдохните, сосредоточившись на ощущениях дыхани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Останьтесь один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Смочите лоб, виски и артерии на руках холодой водо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Медленно осмотрите помещение, мысленно описав его и находящиеся в нём предметы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Посмотрте вокно, небо, осознайте красоту мр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Медленно и сосредоточенно выпейте стакан воды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Сосредоточьтесь на ощущениях, когда вода будет течь по гол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2b8"/>
                </a:solidFill>
                <a:latin typeface="Times New Roman"/>
              </a:rPr>
              <a:t>Сделайте накл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684360" y="1125360"/>
            <a:ext cx="3382920" cy="2232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4572000" y="1197000"/>
            <a:ext cx="3745080" cy="218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640" y="0"/>
            <a:ext cx="78422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Times New Roman"/>
              </a:rPr>
              <a:t>Рекомендаци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Times New Roman"/>
              </a:rPr>
              <a:t>Один  из  способов  предотвращения  конфликтов –– воспитание,  а  вернее,  самовоспитание  эмоций.  Это  означает,  что  человек  может  поверить  в  силы  и  возможности  своей  «эмоциональной  сферы»,  внушить  самому  себе  ощущение  оптимизма,  сформировать  способности  вести  себя  в  эмоциональном  плане  логично  и  адекватно  обстановк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тобы  не  «выплескивать»  свои  эмоции,  работнику  сферы  обслуживания  нужны  своеобразная  профессиональная  маска,  приветливо –– вежливое  выражение  лица,  лёгкая  полуулыбка.  «Маска»  будет  формой  эмоциональной  защиты  от  возможных  «уколов»  со  стороны  потребите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Мудрые  мыс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Любовь –– великий  учитель.      (Мольер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Лишь  тот  испытывает  радость,кто  может  ближнему  помочь. (Гёте)                                                               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Умеренность –– здоровье  души.    (Левис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Нельзя  врачевать  тело,  не  врачуя  душу.    (Сократ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То,  что  идёт  от  сердца,  до  сердца  и  доходит.    (Пайэтт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Ничто  не  обходится  нам  так  дёшево  и  не  ценится  так  дорого,  как  вежливость  и  доброт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(Мигель  Сервантес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Юмор –– это  спасательный  круг  на  волнах  жизни.   (Раабе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Здоровый  нищий  счастливее  больного  короля.    (Шопенгауэр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Самый  счастливый  человек  тот,  кто  дарит  счастье наибольшему числу  людей. (Дидро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99"/>
                </a:solidFill>
                <a:latin typeface="Times New Roman"/>
              </a:rPr>
              <a:t>Жажда  достижений  даёт  человеку  радость  жизни.    (Монтень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6560" y="620280"/>
            <a:ext cx="76964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Следует  приучить  себя  осмысливать  собственное  поведение,  постараться  понять  причины  появления  избыточных  эмоциональных  реакций.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е  забывайте  поговорку,  что 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«Деловые  люди,  которые  не  знают,  как  бороться  со  стрессами,  умирают  молодыми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мните,  что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  Самое  важное  в  жизни ––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это  умение  вырабатывать  у  себя  определённое  умонастроение,  положительное  отношение  к  окружающему  ми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  Человек  страдает  не  столько  от  того,  что  происходит,  сколько  от  того,  как  он  оценивает  происходяще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Каждый  человек  обладает  способностью  АУТОРЕГУЛЯЦИИ –– нужно  лишь  уметь  своевременно  воспользоваться  е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еловек  не  беспомощен  перед  стрессом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193840" y="1371600"/>
            <a:ext cx="3902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75080" y="1066680"/>
            <a:ext cx="466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457200"/>
            <a:ext cx="784836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В России за  последние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10  лет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нуждающихся  в  помощи  психиатр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стало  гораздо  больш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(пограничных  расстройств,  связанных  со  стрессами –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на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0%;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 случаев  умственной  отсталости – на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5%;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 алкоголизма – на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40%;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 наркомании – в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раз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В  Калининградской  области  в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2005  году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 по  статистике  обращения  к  врачам  хроников  и  новичков  с  расстройствами  занимают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второе  место  после  травм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92160" y="42656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20" y="304920"/>
            <a:ext cx="845820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Результаты  исследований  свидетельствуют,  что  причиной  стресса  в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61%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 случаев  являются  служебные  проблемы,  семейные  переживания  и  финансовые  трудности,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22%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 случаев  вызваны  причинами  «психологического  характера»,  а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7%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–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серьёзными  заболеваниям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тресс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3640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то эмоциональное состояние, вызываемое необычными ситуациями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рицательно сказывается на психике и здоровье в цело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дёт к срыву в поведен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худшает восприятие, память, внимание, мышление и координация движ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859280" y="1268280"/>
            <a:ext cx="4105440" cy="4316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541440" y="259920"/>
            <a:ext cx="10082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ичины стресс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780000" y="907920"/>
            <a:ext cx="53640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зкий звонок буди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втрак в спешке – стресс для желуд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зкие смены погоды и часовых пояс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зда в переполненном транспорт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правильно выбранный режим дн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помещении душно; недружелюбность окружающи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течение дня – непредвиденные обстоятельств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достаток отдыха, переутомлени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.к. другие тоже подвержены стрессу, возникают конфликт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0"/>
          <a:stretch/>
        </p:blipFill>
        <p:spPr>
          <a:xfrm>
            <a:off x="61920" y="1125360"/>
            <a:ext cx="3693960" cy="4391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97044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офилактика стресс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360" y="0"/>
            <a:ext cx="5435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ыясните причины стресс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 забывайте хвалить себ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сваивайте методы релаксац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едите дневник наблюдений, записывая своё стрессовое состояние, а затем обсудите его с близким человеком, чтобы найти выход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Хорошо и регулярно питайтес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ктивно работайте. Но выматывайте себ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думывайтесь о смысле жизни, ставьте ближайшие и отдалённые цел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арайтесь заслужить любовь ближнего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ктивно отдыхайте и бегайте трусцой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ырабатывайте правильную походк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нимайтесь спорто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лноценный глубокий сон (7-9 часов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Закаливани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оявляйте добрые и положительные эмоц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аще шутите, проявляйте чувство юмор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тремясь к хорошим отношениям, избегайте дружбы с «трудными», не сдержанными людьм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Цените радость простоты жизненного уклад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 какой бы жизненной ситуацией не столкнулись, подумайте. Стоит ли сражатьс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осредотачивайтесь на светлых сторонах жизн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спользуйте профилактику «радости дня и выполняемой мной работы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1"/>
          <a:srcRect l="0" t="5305" r="0" b="0"/>
          <a:stretch/>
        </p:blipFill>
        <p:spPr>
          <a:xfrm>
            <a:off x="5076720" y="1920960"/>
            <a:ext cx="4067280" cy="2925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Аффект – </a:t>
            </a:r>
            <a:r>
              <a:rPr b="1" lang="en-US" sz="2400" spc="-1" strike="noStrike">
                <a:solidFill>
                  <a:srgbClr val="fef2b4"/>
                </a:solidFill>
                <a:latin typeface="Times New Roman"/>
              </a:rPr>
              <a:t>сильная эмоциональная, бурно протекающая реакция, носящая характер взрыва– ужаса, ярости, страха и т.д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85960" y="1700280"/>
            <a:ext cx="5002200" cy="5157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уици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44751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лат.- самоубийств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т самоубийства, связанный с продолжительными стрессами или неответственным отношением к своей жиз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643280" cy="3558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8:12:18Z</dcterms:created>
  <dc:creator>Шойган А.А.</dc:creator>
  <dc:description/>
  <dc:language>en-US</dc:language>
  <cp:lastModifiedBy>Teacher</cp:lastModifiedBy>
  <dcterms:modified xsi:type="dcterms:W3CDTF">2007-05-10T10:58:32Z</dcterms:modified>
  <cp:revision>30</cp:revision>
  <dc:subject/>
  <dc:title>Тема  урока: «Эмоциональные состояния в работе менеджера: причины, особенности проявления, способы самоконтроля, самоуправления и пути по их профилактике и предупреждению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