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13D-798D-4802-ADA5-A75D0F4F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8DB-AF29-48D2-B3E1-1312434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EA8-0C7C-4EB1-B414-3271800D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F47-6D80-44B6-8E97-31E5704B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B3E3-B4F6-492F-8B70-952977A8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974F-D49B-49DF-94D5-2611B94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41A7-0E38-49EE-AE9D-F0FF6FF8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B40-A381-4794-9525-F89C5DFA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4D36-B34F-4B55-B1BD-EE5BAF5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3FB-C7A0-462C-BB8D-1B4A7A90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BE2B-95A4-4129-AFBE-DD26D31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EDF-2482-4B0E-9AEC-B35F7D77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EFBC-3847-4F29-90CA-61810B2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1F4-6F76-4F1D-9B62-FA6C7E7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4761-0741-46C9-83FA-0A8BE11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4238-6B52-4866-9C81-10823F68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4331-8808-4C6F-A283-FDE3DEC7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C29-C6CF-475D-86AE-FDAC7367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C57-7BAA-4C75-BC34-341F6943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189-D938-4A8E-A64E-9217F2D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DDD-762A-42DE-B1B1-6C228686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ADF-C34E-4BAE-B59D-1E98DDB2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372-C012-4083-829C-DB0A012A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EFB-8A5E-4C47-8744-41C58A5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E4D-5219-46B0-B1AB-95713B248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5C6E-17D4-4820-BB85-BD7A59130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обро пожаловать на урок –тренинг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2627280" cy="2247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0" y="1844640"/>
            <a:ext cx="896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Стресс и пути его преодоления»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оциально-психологическая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               совместимость –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ледствие оптимального сочетания типов поведения людей в группах,  также общности их социальных установок, потребностей  интересов, ценностных ориентаций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96872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37396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циально –– психологический клима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––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это преобладающий в группе или коллективе относительно устойчивый психологический настрой его членов, проявляющийся в отношен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друг к друг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труду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окружающим события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организации в цел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а основании индивидуальных, личностных ценностей и ориента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акторы, оказывающие влияние на формир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ределённого социально-психологического климата в коллектив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Комплектование коллектива с учётом психологической совместимости работников. В зависимости от целей работы в коллективе надо сочетать разные типы поведения люд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тиль поведения руководителя, менеджера, хозяина предприя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облюдение служебного этикета, который начинается с внешнего ви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олная информация о льготах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вытекающих из принадлежности к фир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Чёткая политика продвижения по службе, предусматривающая возможность для каждого работника профессионального и служебн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олитика «открытых дверей»,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которая состоит в том, что работники наделяются правом доступа к любому руковод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Немедленное вознаграждение, означающее, что оплата труда не должна быть оторвана во времени от самого труда, иначе она теряет стимулирующий смыс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праведливое отношение к работникам, то есть поддержание соответствия между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тем, что работник даёт фирме и тем, что он от неё получа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чёт предпочтений в потребностях различных работников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 С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спешный или неуспешный ход производительного процес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рименяемая шкала поощрений и наказ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словия тру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Обстановка в семье, вне работы, условия проведения свободного време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40431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декс поведения в конфликт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92000" y="26028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Дайте партнёру «выпустить пар», в это время ведите себя спокойно, уверенно, но не высокомерн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отребуйте от него спокойно обосновать претенз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Сбивайте агрессию неожиданными приёмами(попросите совета. Сделайте комплимен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Не давайте отрицательных оценок, а говорите о чувства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опросите сказать желаемый результат и проблему как цель препятствий; нельзя позволять эмоциям управлять; необходимо определить проблему и сосредоточиться на не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редложите ему высказать свои соображения по разрешению проблемы и свои варианты решения; не ищите виновных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Дайте ему сохранить «лицо»; не отвечайте агрессией на агрессию; оценивайте не партнёра, а его поступ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Иногда переспрашивайте его высказывания: «вы хотели сказать...?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569880" y="1773360"/>
            <a:ext cx="328464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900680" y="0"/>
            <a:ext cx="4243320" cy="6568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475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житесь в позиции «на равных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бойтесь извиниться. Если чувствуете свою вин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чего не доказывайт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олчите первы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характеризуйте состояние оппонен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ходя, не хлопайте дверью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говорите, если он «остыл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зависимо от результата противоречия старайтесь не разрушать отношения, выразив своё уважеие и расположение к партнё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В конфликтной ситуации нельзя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Критически  оценивать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Приписывать  ему  низменные  или  плохие  намер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Демонстрировать  знаки  превосход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Обвинять  и  приписывать  ответственность  только  оппонен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Игнорировать  интересы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Видеть  всё  только  со  своей  пози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Уменьшать  заслуги  партнёра  и  его  вкл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Преувеличивать  свои  заслуг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Раздражаться,  кричать,  напад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Задевать  «болевые  точки»  и  уязвимые  места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Обрушивать  на  партнёра  множество  претенз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ути предотвращения конфликт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говорите и не делайте того, что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обидит, заден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обеседн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Не отвечай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конфликтным поведением на его повед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являйте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понима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собеседнику, поставив себя на его мест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лайте больше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благожелательных обращен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дружеская улыбка, поддержка, сочувствие, похвала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66600" y="1341360"/>
            <a:ext cx="4675320" cy="475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сколько минут релакс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3357360"/>
            <a:ext cx="821844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Не принимайте никаких решений(исключение:сихийное бедствие, спасение жизни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осчитайте до 1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Вдохните через нос и задержите дыхание, медленно выдохните, сосредоточившись на ощущениях дыха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Останьтесь оди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мочите лоб, виски и артерии на руках холодой вод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Медленно осмотрите помещение, мысленно описав его и находящиеся в нём предмет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Посмотрте вокно, небо, осознайте красоту мр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Медленно и сосредоточенно выпейте стакан вод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осредоточьтесь на ощущениях, когда вода будет течь по гол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делайте накл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684360" y="1125360"/>
            <a:ext cx="3382920" cy="22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4572000" y="1197000"/>
            <a:ext cx="3745080" cy="218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0"/>
            <a:ext cx="7842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Times New Roman"/>
              </a:rPr>
              <a:t>Рекомендаци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Times New Roman"/>
              </a:rPr>
              <a:t>Один  из  способов  предотвращения  конфликтов –– воспитание,  а  вернее,  самовоспитание  эмоций.  Это  означает,  что  человек  может  поверить  в  силы  и  возможности  своей  «эмоциональной  сферы»,  внушить  самому  себе  ощущение  оптимизма,  сформировать  способности  вести  себя  в  эмоциональном  плане  логично  и  адекватно  обстановк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бы  не  «выплескивать»  свои  эмоции,  работнику  сферы  обслуживания  нужны  своеобразная  профессиональная  маска,  приветливо –– вежливое  выражение  лица,  лёгкая  полуулыбка.  «Маска»  будет  формой  эмоциональной  защиты  от  возможных  «уколов»  со  стороны  потреб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удрые  мыс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Любовь –– великий  учитель.      (Молье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Лишь  тот  испытывает  радость,кто  может  ближнему  помочь. (Гёте)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Умеренность –– здоровье  души.    (Леви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Нельзя  врачевать  тело,  не  врачуя  душу.    (Сокра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То,  что  идёт  от  сердца,  до  сердца  и  доходит.    (Пайэт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Ничто  не  обходится  нам  так  дёшево  и  не  ценится  так  дорого,  как  вежливость  и  добро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(Мигель  Серванте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Юмор –– это  спасательный  круг  на  волнах  жизни.   (Раабе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Здоровый  нищий  счастливее  больного  короля.    (Шопенгауэ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Самый  счастливый  человек  тот,  кто  дарит  счастье наибольшему числу  людей. (Дидро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Жажда  достижений  даёт  человеку  радость  жизни.    (Монтень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6560" y="620280"/>
            <a:ext cx="7696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Следует  приучить  себя  осмысливать  собственное  поведение,  постараться  понять  причины  появления  избыточных  эмоциональных  реакций.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 забывайте  поговорку,  что 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«Деловые  люди,  которые  не  знают,  как  бороться  со  стрессами,  умирают  молодым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мните,  ч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 Самое  важное  в  жизни ––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это  умение  вырабатывать  у  себя  определённое  умонастроение,  положительное  отношение  к  окружающему  ми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 Человек  страдает  не  столько  от  того,  что  происходит,  сколько  от  того,  как  он  оценивает  происходящ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аждый  человек  обладает  способностью  АУТОРЕГУЛЯЦИИ –– нужно  лишь  уметь  своевременно  воспользоваться  е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ловек  не  беспомощен  перед  стрессом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93840" y="1371600"/>
            <a:ext cx="3902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5080" y="1066680"/>
            <a:ext cx="466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57200"/>
            <a:ext cx="78483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В России за  последние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10  лет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нуждающихся  в  помощи  психиатр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стало  гораздо  больш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пограничных  расстройств,  связанных  со  стрессами –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случаев  умственной  отсталости – 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алкоголизма – 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0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наркомании – в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раз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В  Калининградской  области  в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2005  году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по  статистике  обращения  к  врачам  хроников  и  новичков  с  расстройствами  занимают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второе  место  после  травм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92160" y="42656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304920"/>
            <a:ext cx="84582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Результаты  исследований  свидетельствуют,  что  причиной  стресса  в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1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случаев  являются  служебные  проблемы,  семейные  переживания  и  финансовые  трудности,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22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случаев  вызваны  причинами  «психологического  характера»,  а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–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серьёзными  заболевания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ресс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36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эмоциональное состояние, вызываемое необычными ситуациями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о сказывается на психике и здоровье в цел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дёт к срыву в повед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худшает восприятие, память, внимание, мышление и координация дви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859280" y="1268280"/>
            <a:ext cx="4105440" cy="431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1008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чины стрес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80000" y="907920"/>
            <a:ext cx="5364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кий звонок буди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втрак в спешке – стресс для желуд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кие смены погоды и часовых пояс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зда в переполненном транспорт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льно выбранный режим дн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мещении душно; недружелюбность окружающи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ечение дня – непредвиденные обстоятель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достаток отдыха, переутомлени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.к. другие тоже подвержены стрессу, возникают конфликт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61920" y="1125360"/>
            <a:ext cx="3693960" cy="439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9704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филактика стрес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5435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ясните причины стресс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забывайте хвалить себ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ваивайте методы релакс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дите дневник наблюдений, записывая своё стрессовое состояние, а затем обсудите его с близким человеком, чтобы найти выход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Хорошо и регулярно питайт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 работайте. Но выматывайте себ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думывайтесь о смысле жизни, ставьте ближайшие и отдалённые цел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райтесь заслужить любовь ближ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 отдыхайте и бегайте трусц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рабатывайте правильную поход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йтесь спор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лноценный глубокий сон (7-9 часов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кали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являйте добрые и положительные эмо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аще шутите, проявляйте чувство юмор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емясь к хорошим отношениям, избегайте дружбы с «трудными», не сдержанными людь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ните радость простоты жизненного уклад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 какой бы жизненной ситуацией не столкнулись, подумайте. Стоит ли сражать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средотачивайтесь на светлых сторонах жизн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спользуйте профилактику «радости дня и выполняемой мной работы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1"/>
          <a:srcRect l="0" t="5305" r="0" b="0"/>
          <a:stretch/>
        </p:blipFill>
        <p:spPr>
          <a:xfrm>
            <a:off x="5076720" y="1920960"/>
            <a:ext cx="4067280" cy="2925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ффект – </a:t>
            </a:r>
            <a:r>
              <a:rPr b="1" lang="en-US" sz="2400" spc="-1" strike="noStrike">
                <a:solidFill>
                  <a:srgbClr val="fef2b4"/>
                </a:solidFill>
                <a:latin typeface="Times New Roman"/>
              </a:rPr>
              <a:t>сильная эмоциональная, бурно протекающая реакция, носящая характер взрыва– ужаса, ярости, страха и т.д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85960" y="1700280"/>
            <a:ext cx="5002200" cy="5157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уици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475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лат.- самоубий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 самоубийства, связанный с продолжительными стрессами или неответственным отношением к своей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643280" cy="3558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12:18Z</dcterms:created>
  <dc:creator>Шойган А.А.</dc:creator>
  <dc:description/>
  <dc:language>en-US</dc:language>
  <cp:lastModifiedBy>Teacher</cp:lastModifiedBy>
  <dcterms:modified xsi:type="dcterms:W3CDTF">2007-05-10T10:58:32Z</dcterms:modified>
  <cp:revision>30</cp:revision>
  <dc:subject/>
  <dc:title>Тема  урока: «Эмоциональные состояния в работе менеджера: причины, особенности проявления, способы самоконтроля, самоуправления и пути по их профилактике и предупреждению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