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Love%20Is%20Blu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B3C3-EB74-4EAE-9894-7EA6A72A6C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B313-84E8-4449-A34E-56224DC55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E2F3-777F-458D-B1F1-77793AD70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893-36CF-4E5F-BC8C-4A09859B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262-ABF5-4C74-B93A-A16978DF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80CDA-C7B2-4D8B-801B-EAECE7EC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E8D4C-E204-4B75-9658-F79890BB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C6BA4-BC43-4EE1-B088-D41F234B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48B8C-D072-46C1-BE7C-19BBF104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0AFC1-CD21-4F6C-8189-C90E8AC9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B5E22-202B-4509-B1B8-DDF8E90F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C5981-ED0B-43A3-836B-2C1AFB6F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54651-BEBA-4B91-9509-22DADA66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BABBF-7EC6-4777-A92F-9CAEAE89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CE9D6-97FB-4164-A69B-0FC6C812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5B8-BD5D-4192-8E04-F72B9110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6E556-F280-48C6-A485-50FAE415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A0D92-87C3-478C-B910-AE438668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61E82-A131-4CE7-A881-79D4EB55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FAA56-0F9F-4C6C-B9D9-2403CE53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348AA-7350-43FA-9958-029E64F3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937CC-06BB-42CF-B4EA-45C64A33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5EF9F-3FF7-412A-A9D4-2CD641B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8BF4A-F9E7-46F0-AF9F-02D6BFA1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00BE5-B5B1-4DD9-8B34-C99756CC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04C42-CB9F-4757-81ED-8436C905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0E5-2B49-4303-8067-9D2B0049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808FF-4192-4E14-826F-0DD90F6A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BCBAB-F3AE-4C59-94B9-5272460F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425D4-C11B-4DF7-9010-7180F7CA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AC7FB-F413-4F6D-B288-3D13D806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1BA31-FD87-4605-812E-9E913EA9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0F718-709E-43E4-8D45-15A392E4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56597-3F83-4030-B5D4-BBFAE3C7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CB5EE-A47D-417D-90F3-32D9E6FD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DF157-D87B-4C49-B6EE-C8E7DAC1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84A3B-687E-447B-8567-04D4411C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AC9F-FF57-46C3-8EDC-1AC61492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D5039-69DA-4B10-9F10-0ACAE278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19F7A-DD7A-4323-A788-47C552A9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B658F-DC1A-4C57-9813-B2CE04D4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3EBB0-4CF3-427B-8F3F-FF52EB4A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73F42-BF74-48ED-889F-0655ECB2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3EB82-061D-4A55-965E-B60334CB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F350E-7456-4B02-B719-CFCEAE42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4F378-B135-4952-A052-254F0D15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EC886-223D-43C0-ACF7-78BE55BF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DDACA-2817-4439-9B34-633EAC85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6E19-31C8-47ED-8979-AFC3F738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91619-A8EA-47CE-859D-6C82928C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716AC-D96D-4AD7-B441-220B5CE7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0F9E9-6521-4CD4-A41B-F88A15B4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0C82D-46D0-4E98-8782-702B1AB4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91D49-AA84-4288-A82B-3117246B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00E3-4681-44C4-B1C6-E5ABA89C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3A21-315A-4915-881C-CC000F00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A6F1-F2D5-45C9-BA68-8A920F9B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8325-D279-4D7D-B678-D79EF74C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7FDC-8862-4B97-AEC1-F1090900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F4D-E38E-4791-AFA4-30F39207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B5DE-BD92-43C1-9158-E69F9B09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8B55-16D8-418E-80F7-6F37EB5A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26FE-E6B2-4838-9BF2-F0D9354A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D653-C54C-47F8-AB26-79FBCB79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1B3B-D8B6-4BC3-99BE-CD1C5EE3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048F-801C-49EF-BF3E-34FD8121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0B07-DD29-402E-B474-44AD27B0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01A7-1616-4788-BE0C-20CA7F92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19C4-4A5D-4FAA-8E8B-FD27A431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58B0-D4BB-495B-8D9D-9DC1E110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D1F-93A8-450A-990F-3CFCCA38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95A07-AD2B-4C0D-A487-163F527D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51D0-E7D7-437C-A70D-2CF0A4C7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E75CD-6635-4F9E-9898-E7E37AC3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F63A-EFB6-46EC-853B-BD57282B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0EB7-AFD9-49A8-B3F2-0C2DF8F2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0495-1797-44A0-A31E-E1EBA108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D2FE3-AD67-475C-836D-55AD9F82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5834-3F97-4F16-A804-9AD7582A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A9018-4237-4B3F-B5FE-78BAD7A7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24BB1-F671-418F-99A9-1A466C38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8CE-DBFD-4E36-B823-F4E9BBE3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C2308-3FD3-469D-9403-2FF8A041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3E9F-2B86-43B0-A008-A7174EFF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5604-57FB-4A3B-9022-E55A7563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BFB7E-56AD-4EF6-9AF6-5F6C1501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BDBB5-D61F-4E0F-88F4-7EA8D960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DD1E8-1141-4FAD-8FA1-9F0B3423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B136-5AF2-4F8B-8D23-80BD50DD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ECC0-F98C-4FAF-AD8A-2A3594CC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0813A-5DD8-4237-B44C-BB83984C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4E9D1-2630-4E38-A2E7-ACF3FEA1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D4C-9CE0-4DFA-9AF7-B1664223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15BF1-025C-42C9-BE4B-EDD2F47B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DFB83-AEEF-48E9-98AC-7B57F685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D32BF-5A8F-4624-86BC-4BFB83B9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D8B56-4EF5-41D5-895B-4BF54A6B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9A63-FC17-4169-B7E0-4DFB8639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E361-8DBC-42AA-B716-296D3AB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7505E-B078-4CA6-8E1E-CCF9C884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421FE-F68A-44A4-86BB-ED4B74AC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C761A-C898-40B6-BB86-742D853A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182EC-7159-49EB-83AB-CBDED26D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DD2-DE34-4343-895C-6F64BBBA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2088-EDDF-4E36-A67E-9BDDA746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073D7-5CF7-4D0B-8CF3-E83850BD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766AC-7C46-4894-8D3B-9FECDA74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A2885-4328-4562-913D-D916F3E5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E4413-4E1F-418F-B209-55ADEB06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A9F7A-E87A-4A90-A8F7-CE17579F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47C5A-C8AD-4979-BAD3-F2D6E5A3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2180B-459C-49A3-B487-0FCC4723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2BD3A-F6E5-4676-A794-A5096A0B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ACDE0-D77D-43D9-A644-31C20A6B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527-C3AA-4AE0-B5D6-E1AFD5A6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07777-F16C-49D8-A7B2-E52CF6CD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D80A-C39E-4D3B-8CAC-9B9C36AB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31368-19D3-4EE7-B14D-333373F4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7029D-1267-41EE-AAAD-9748330F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9096D-D7D8-493E-8212-5C7BECAD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16049-13F0-4627-87EA-9A527B12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19BD9-9EC8-4836-805B-3AF338AE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AECC1-E592-4E08-BFA2-11882A73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6C863-6602-41D6-977F-34431D99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4690A-5179-48E8-8207-9566CB46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EAA-95BB-41A3-8F1D-1A0B8013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6CEA6-EBC9-4128-9204-CFDFC755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E3301-3452-40E4-B416-D444CD12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1E8A7-B10D-4BF5-B72D-22F926DE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31373-2BEB-420C-9376-14D56AA8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5A04A-84D9-4ED9-81B2-B167098B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AC9D1-5CA2-40C1-82BF-B857E12A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B0B94-758C-426A-B4CE-5832BBC7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C0930-6DC6-46F9-849A-2043BBB6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CC23A-F3D8-497D-9A79-4A63839F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2D87E-2FEA-453C-BA3A-E3E98167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BB8-6411-4642-9361-153BE346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E78C7-5451-425A-852F-6C871BCA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1209A-11AE-435F-A480-AF966AAC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A481B-11DF-4937-99D7-0AE6F23E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8E1D1-3618-4BC3-A913-1DD4D2A8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378E0-B688-4D10-A813-E9914074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94DDF-330C-4F6C-BC8B-BEED9434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18427-C276-48DA-B07D-7DDF29F0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A1F93-D172-45E2-BADC-45EA8B01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A25DE-1B3C-44A3-A72C-00D24FD5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E179A-6230-489D-82E0-1AB6424B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5B42-2355-4776-B7C8-67D12A6A48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1318-A350-4F48-BE5A-C3E32530FE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E08C-3629-42C7-BFFF-191EB3C348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3AA5-42BB-48C0-8318-9B93F8F838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E079-FDBA-4119-8949-658B80C3DE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A6D8-2760-4C0D-90F6-4AE589EE31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A035-DAF4-4B8F-9847-2710948FA6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B36A-21FB-4092-9B42-B008C34909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B917-B422-469E-86CD-9E1EC60676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AF5E-0D1A-4642-B297-04AF32A8D9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BDA6-C753-4034-BB67-58C588F395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E8CF-39FF-4A1B-AF60-B5FDB61C99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ove%20Is%20Blu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ove%20Is%20Blue.wav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ежные и вертикаль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  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-76320" y="6172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ернова Галина Пет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  <p:sndAc>
      <p:stSnd>
        <p:snd r:embed="rId1" name="Love%20Is%20Blu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ерно ли утверждение: если смежные углы равны, то они прямы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ужд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AutoShape 4"/>
          <p:cNvCxnSpPr>
            <a:stCxn id="562" idx="1"/>
            <a:endCxn id="562" idx="1"/>
          </p:cNvCxnSpPr>
          <p:nvPr/>
        </p:nvCxnSpPr>
        <p:spPr>
          <a:xfrm>
            <a:off x="45684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AutoShape 6"/>
          <p:cNvCxnSpPr>
            <a:stCxn id="562" idx="1"/>
            <a:endCxn id="562" idx="1"/>
          </p:cNvCxnSpPr>
          <p:nvPr/>
        </p:nvCxnSpPr>
        <p:spPr>
          <a:xfrm>
            <a:off x="45684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AutoShape 7"/>
          <p:cNvCxnSpPr/>
          <p:nvPr/>
        </p:nvCxnSpPr>
        <p:spPr>
          <a:xfrm flipH="1" flipV="1">
            <a:off x="990360" y="2894760"/>
            <a:ext cx="4115520" cy="2264760"/>
          </a:xfrm>
          <a:prstGeom prst="straightConnector1">
            <a:avLst/>
          </a:prstGeom>
          <a:ln w="25560">
            <a:solidFill>
              <a:srgbClr val="009999"/>
            </a:solidFill>
            <a:miter/>
          </a:ln>
        </p:spPr>
      </p:cxnSp>
      <p:sp>
        <p:nvSpPr>
          <p:cNvPr id="566" name="Line 8"/>
          <p:cNvSpPr/>
          <p:nvPr/>
        </p:nvSpPr>
        <p:spPr>
          <a:xfrm flipV="1">
            <a:off x="2743200" y="2895480"/>
            <a:ext cx="2438280" cy="9907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"/>
          <p:cNvSpPr/>
          <p:nvPr/>
        </p:nvSpPr>
        <p:spPr>
          <a:xfrm>
            <a:off x="7315200" y="2514600"/>
            <a:ext cx="76320" cy="3733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 flipV="1">
            <a:off x="5867280" y="4419360"/>
            <a:ext cx="3048120" cy="75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йдите угол, смежный с углом, ес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   АСО=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   ДСВ=1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5"/>
          <p:cNvSpPr/>
          <p:nvPr/>
        </p:nvSpPr>
        <p:spPr>
          <a:xfrm>
            <a:off x="685800" y="4038480"/>
            <a:ext cx="312408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6"/>
          <p:cNvSpPr/>
          <p:nvPr/>
        </p:nvSpPr>
        <p:spPr>
          <a:xfrm flipH="1">
            <a:off x="1981080" y="3124080"/>
            <a:ext cx="1447920" cy="9144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5486400" y="4038480"/>
            <a:ext cx="29718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0"/>
          <p:cNvSpPr/>
          <p:nvPr/>
        </p:nvSpPr>
        <p:spPr>
          <a:xfrm flipH="1" flipV="1">
            <a:off x="5715000" y="2590560"/>
            <a:ext cx="1371600" cy="14475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1"/>
          <p:cNvSpPr/>
          <p:nvPr/>
        </p:nvSpPr>
        <p:spPr>
          <a:xfrm>
            <a:off x="533520" y="4191120"/>
            <a:ext cx="3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343080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8"/>
          <p:cNvSpPr/>
          <p:nvPr/>
        </p:nvSpPr>
        <p:spPr>
          <a:xfrm>
            <a:off x="2896560" y="266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9"/>
          <p:cNvSpPr/>
          <p:nvPr/>
        </p:nvSpPr>
        <p:spPr>
          <a:xfrm>
            <a:off x="5945400" y="22096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6920640" y="400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8291880" y="4002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54118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rc 33"/>
          <p:cNvSpPr/>
          <p:nvPr/>
        </p:nvSpPr>
        <p:spPr>
          <a:xfrm>
            <a:off x="2362320" y="380988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rc 34"/>
          <p:cNvSpPr/>
          <p:nvPr/>
        </p:nvSpPr>
        <p:spPr>
          <a:xfrm>
            <a:off x="6858000" y="3733920"/>
            <a:ext cx="4572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35"/>
          <p:cNvSpPr/>
          <p:nvPr/>
        </p:nvSpPr>
        <p:spPr>
          <a:xfrm>
            <a:off x="1219320" y="16765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36"/>
          <p:cNvSpPr/>
          <p:nvPr/>
        </p:nvSpPr>
        <p:spPr>
          <a:xfrm>
            <a:off x="5410080" y="1676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о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острый уг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делим его дугой и    обозначим цифрой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продолжение сторон угла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тим дугой угол, стороны которого являются продолжением сторон угла 1 и обозначим его цифрой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22"/>
          <p:cNvSpPr/>
          <p:nvPr/>
        </p:nvSpPr>
        <p:spPr>
          <a:xfrm rot="17292600">
            <a:off x="5410080" y="1904760"/>
            <a:ext cx="1752480" cy="838440"/>
          </a:xfrm>
          <a:prstGeom prst="pie">
            <a:avLst/>
          </a:pr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rc 25"/>
          <p:cNvSpPr/>
          <p:nvPr/>
        </p:nvSpPr>
        <p:spPr>
          <a:xfrm>
            <a:off x="6248520" y="2743200"/>
            <a:ext cx="223560" cy="7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7"/>
          <p:cNvSpPr/>
          <p:nvPr/>
        </p:nvSpPr>
        <p:spPr>
          <a:xfrm>
            <a:off x="6249960" y="2286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34"/>
          <p:cNvSpPr/>
          <p:nvPr/>
        </p:nvSpPr>
        <p:spPr>
          <a:xfrm rot="6636600">
            <a:off x="5333760" y="3733920"/>
            <a:ext cx="1752480" cy="838080"/>
          </a:xfrm>
          <a:prstGeom prst="pie">
            <a:avLst/>
          </a:pr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rc 37"/>
          <p:cNvSpPr/>
          <p:nvPr/>
        </p:nvSpPr>
        <p:spPr>
          <a:xfrm flipH="1" flipV="1">
            <a:off x="6095160" y="3582360"/>
            <a:ext cx="228600" cy="74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8"/>
          <p:cNvSpPr/>
          <p:nvPr/>
        </p:nvSpPr>
        <p:spPr>
          <a:xfrm>
            <a:off x="6021360" y="3733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Love%20Is%20Blue.wav"/>
      </p:stSnd>
    </p:sndAc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угла называются вертикальными, если стороны одного угла являются  продолжением сторон друг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"/>
          <p:cNvSpPr/>
          <p:nvPr/>
        </p:nvSpPr>
        <p:spPr>
          <a:xfrm>
            <a:off x="2057400" y="3581280"/>
            <a:ext cx="4952880" cy="1752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6"/>
          <p:cNvSpPr/>
          <p:nvPr/>
        </p:nvSpPr>
        <p:spPr>
          <a:xfrm flipH="1">
            <a:off x="2057040" y="3657600"/>
            <a:ext cx="4267080" cy="1523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2881440" y="417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54882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4100760" y="364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0"/>
          <p:cNvSpPr/>
          <p:nvPr/>
        </p:nvSpPr>
        <p:spPr>
          <a:xfrm>
            <a:off x="4176720" y="47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rc 43"/>
          <p:cNvSpPr/>
          <p:nvPr/>
        </p:nvSpPr>
        <p:spPr>
          <a:xfrm rot="1935000">
            <a:off x="4723920" y="4265280"/>
            <a:ext cx="2257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rc 45"/>
          <p:cNvSpPr/>
          <p:nvPr/>
        </p:nvSpPr>
        <p:spPr>
          <a:xfrm rot="13568400">
            <a:off x="3589920" y="4194360"/>
            <a:ext cx="293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rc 46"/>
          <p:cNvSpPr/>
          <p:nvPr/>
        </p:nvSpPr>
        <p:spPr>
          <a:xfrm rot="18489000">
            <a:off x="4011120" y="4016160"/>
            <a:ext cx="532080" cy="591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rc 47"/>
          <p:cNvSpPr/>
          <p:nvPr/>
        </p:nvSpPr>
        <p:spPr>
          <a:xfrm rot="19603200">
            <a:off x="3924360" y="4169880"/>
            <a:ext cx="671400" cy="56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rc 48"/>
          <p:cNvSpPr/>
          <p:nvPr/>
        </p:nvSpPr>
        <p:spPr>
          <a:xfrm rot="8103600">
            <a:off x="3961800" y="3962520"/>
            <a:ext cx="703080" cy="604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rc 50"/>
          <p:cNvSpPr/>
          <p:nvPr/>
        </p:nvSpPr>
        <p:spPr>
          <a:xfrm rot="8151600">
            <a:off x="3841920" y="3871800"/>
            <a:ext cx="852480" cy="85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1"/>
          <p:cNvSpPr/>
          <p:nvPr/>
        </p:nvSpPr>
        <p:spPr>
          <a:xfrm>
            <a:off x="976320" y="54752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2"/>
          <p:cNvSpPr/>
          <p:nvPr/>
        </p:nvSpPr>
        <p:spPr>
          <a:xfrm>
            <a:off x="2046240" y="5475240"/>
            <a:ext cx="39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вертикальные уг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53"/>
          <p:cNvSpPr/>
          <p:nvPr/>
        </p:nvSpPr>
        <p:spPr>
          <a:xfrm>
            <a:off x="685800" y="5562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54"/>
          <p:cNvSpPr/>
          <p:nvPr/>
        </p:nvSpPr>
        <p:spPr>
          <a:xfrm>
            <a:off x="1752480" y="5562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9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2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6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0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о вертикальных уг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1371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тикальные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4"/>
          <p:cNvSpPr/>
          <p:nvPr/>
        </p:nvSpPr>
        <p:spPr>
          <a:xfrm flipH="1">
            <a:off x="5562720" y="3581280"/>
            <a:ext cx="274320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5486400" y="4114800"/>
            <a:ext cx="32004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6"/>
          <p:cNvSpPr/>
          <p:nvPr/>
        </p:nvSpPr>
        <p:spPr>
          <a:xfrm>
            <a:off x="6174000" y="44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7"/>
          <p:cNvSpPr/>
          <p:nvPr/>
        </p:nvSpPr>
        <p:spPr>
          <a:xfrm>
            <a:off x="7392960" y="4267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8"/>
          <p:cNvSpPr/>
          <p:nvPr/>
        </p:nvSpPr>
        <p:spPr>
          <a:xfrm>
            <a:off x="6707160" y="4038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9"/>
          <p:cNvSpPr/>
          <p:nvPr/>
        </p:nvSpPr>
        <p:spPr>
          <a:xfrm>
            <a:off x="68598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0"/>
          <p:cNvSpPr/>
          <p:nvPr/>
        </p:nvSpPr>
        <p:spPr>
          <a:xfrm>
            <a:off x="1828800" y="1676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41"/>
          <p:cNvSpPr/>
          <p:nvPr/>
        </p:nvSpPr>
        <p:spPr>
          <a:xfrm>
            <a:off x="1828800" y="2133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43"/>
          <p:cNvSpPr/>
          <p:nvPr/>
        </p:nvSpPr>
        <p:spPr>
          <a:xfrm>
            <a:off x="2590920" y="21337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4"/>
          <p:cNvSpPr/>
          <p:nvPr/>
        </p:nvSpPr>
        <p:spPr>
          <a:xfrm>
            <a:off x="457200" y="30481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45"/>
          <p:cNvSpPr/>
          <p:nvPr/>
        </p:nvSpPr>
        <p:spPr>
          <a:xfrm>
            <a:off x="1066680" y="30481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46"/>
          <p:cNvSpPr/>
          <p:nvPr/>
        </p:nvSpPr>
        <p:spPr>
          <a:xfrm>
            <a:off x="457200" y="35053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47"/>
          <p:cNvSpPr/>
          <p:nvPr/>
        </p:nvSpPr>
        <p:spPr>
          <a:xfrm>
            <a:off x="457200" y="3962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48"/>
          <p:cNvSpPr/>
          <p:nvPr/>
        </p:nvSpPr>
        <p:spPr>
          <a:xfrm>
            <a:off x="1143000" y="3962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49"/>
          <p:cNvSpPr/>
          <p:nvPr/>
        </p:nvSpPr>
        <p:spPr>
          <a:xfrm>
            <a:off x="457200" y="44956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50"/>
          <p:cNvSpPr/>
          <p:nvPr/>
        </p:nvSpPr>
        <p:spPr>
          <a:xfrm>
            <a:off x="457200" y="49528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51"/>
          <p:cNvSpPr/>
          <p:nvPr/>
        </p:nvSpPr>
        <p:spPr>
          <a:xfrm>
            <a:off x="1219320" y="495288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52"/>
          <p:cNvSpPr/>
          <p:nvPr/>
        </p:nvSpPr>
        <p:spPr>
          <a:xfrm>
            <a:off x="380880" y="54100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53"/>
          <p:cNvSpPr/>
          <p:nvPr/>
        </p:nvSpPr>
        <p:spPr>
          <a:xfrm>
            <a:off x="1219320" y="541008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5"/>
          <p:cNvSpPr/>
          <p:nvPr/>
        </p:nvSpPr>
        <p:spPr>
          <a:xfrm>
            <a:off x="2059920" y="160020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=35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7"/>
          <p:cNvSpPr/>
          <p:nvPr/>
        </p:nvSpPr>
        <p:spPr>
          <a:xfrm>
            <a:off x="459720" y="205740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9"/>
          <p:cNvSpPr/>
          <p:nvPr/>
        </p:nvSpPr>
        <p:spPr>
          <a:xfrm>
            <a:off x="459000" y="152388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60"/>
          <p:cNvSpPr/>
          <p:nvPr/>
        </p:nvSpPr>
        <p:spPr>
          <a:xfrm>
            <a:off x="2135160" y="2057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1"/>
          <p:cNvSpPr/>
          <p:nvPr/>
        </p:nvSpPr>
        <p:spPr>
          <a:xfrm>
            <a:off x="289728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2"/>
          <p:cNvSpPr/>
          <p:nvPr/>
        </p:nvSpPr>
        <p:spPr>
          <a:xfrm>
            <a:off x="459720" y="251460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4"/>
          <p:cNvSpPr/>
          <p:nvPr/>
        </p:nvSpPr>
        <p:spPr>
          <a:xfrm>
            <a:off x="687240" y="2971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5"/>
          <p:cNvSpPr/>
          <p:nvPr/>
        </p:nvSpPr>
        <p:spPr>
          <a:xfrm>
            <a:off x="1298520" y="29718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сме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6"/>
          <p:cNvSpPr/>
          <p:nvPr/>
        </p:nvSpPr>
        <p:spPr>
          <a:xfrm>
            <a:off x="750240" y="341784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=180˚-35˚=145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7"/>
          <p:cNvSpPr/>
          <p:nvPr/>
        </p:nvSpPr>
        <p:spPr>
          <a:xfrm>
            <a:off x="671400" y="38750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8"/>
          <p:cNvSpPr/>
          <p:nvPr/>
        </p:nvSpPr>
        <p:spPr>
          <a:xfrm>
            <a:off x="1374840" y="38862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сме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69"/>
          <p:cNvSpPr/>
          <p:nvPr/>
        </p:nvSpPr>
        <p:spPr>
          <a:xfrm>
            <a:off x="674280" y="440856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=180˚-35˚=145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70"/>
          <p:cNvSpPr/>
          <p:nvPr/>
        </p:nvSpPr>
        <p:spPr>
          <a:xfrm>
            <a:off x="672120" y="4865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1"/>
          <p:cNvSpPr/>
          <p:nvPr/>
        </p:nvSpPr>
        <p:spPr>
          <a:xfrm>
            <a:off x="1450080" y="480060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=145˚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2"/>
          <p:cNvSpPr/>
          <p:nvPr/>
        </p:nvSpPr>
        <p:spPr>
          <a:xfrm>
            <a:off x="597600" y="5322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3"/>
          <p:cNvSpPr/>
          <p:nvPr/>
        </p:nvSpPr>
        <p:spPr>
          <a:xfrm>
            <a:off x="1436760" y="532296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вертик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77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770" fill="hold"/>
                                        <p:tgtEl>
                                          <p:spTgt spid="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77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7" dur="770" fill="hold"/>
                                        <p:tgtEl>
                                          <p:spTgt spid="6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9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77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1" dur="770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3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77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1" dur="77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5" dur="77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пересечении двух прямых а и в сумма каких-то углов равна 6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. Какие это уг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 вертикальные углы, т.к. сумма смежных углов равна 180˚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и пересечении двух прямых а и в разность каких-то углов равна 3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. Какие это уг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 смежные, т.к. разность вертикальных углов равна 0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3" dur="10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4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"/>
          <p:cNvSpPr/>
          <p:nvPr/>
        </p:nvSpPr>
        <p:spPr>
          <a:xfrm flipH="1">
            <a:off x="5105520" y="2133720"/>
            <a:ext cx="304776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"/>
          <p:cNvSpPr/>
          <p:nvPr/>
        </p:nvSpPr>
        <p:spPr>
          <a:xfrm>
            <a:off x="4876920" y="2590920"/>
            <a:ext cx="33526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564048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7088400" y="2666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326280" y="236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6478560" y="312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34"/>
          <p:cNvSpPr/>
          <p:nvPr/>
        </p:nvSpPr>
        <p:spPr>
          <a:xfrm>
            <a:off x="1676520" y="160020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7"/>
          <p:cNvSpPr/>
          <p:nvPr/>
        </p:nvSpPr>
        <p:spPr>
          <a:xfrm>
            <a:off x="611640" y="152388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8"/>
          <p:cNvSpPr/>
          <p:nvPr/>
        </p:nvSpPr>
        <p:spPr>
          <a:xfrm>
            <a:off x="1983960" y="152388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=117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12000" y="205740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40"/>
          <p:cNvSpPr/>
          <p:nvPr/>
        </p:nvSpPr>
        <p:spPr>
          <a:xfrm>
            <a:off x="1905120" y="21337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41"/>
          <p:cNvSpPr/>
          <p:nvPr/>
        </p:nvSpPr>
        <p:spPr>
          <a:xfrm>
            <a:off x="1523880" y="47242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2119320" y="2046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43"/>
          <p:cNvSpPr/>
          <p:nvPr/>
        </p:nvSpPr>
        <p:spPr>
          <a:xfrm>
            <a:off x="2514600" y="2133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4"/>
          <p:cNvSpPr/>
          <p:nvPr/>
        </p:nvSpPr>
        <p:spPr>
          <a:xfrm>
            <a:off x="2728800" y="2046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45"/>
          <p:cNvSpPr/>
          <p:nvPr/>
        </p:nvSpPr>
        <p:spPr>
          <a:xfrm>
            <a:off x="3124080" y="2133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3338280" y="2046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7"/>
          <p:cNvSpPr/>
          <p:nvPr/>
        </p:nvSpPr>
        <p:spPr>
          <a:xfrm>
            <a:off x="612360" y="259092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48"/>
          <p:cNvSpPr/>
          <p:nvPr/>
        </p:nvSpPr>
        <p:spPr>
          <a:xfrm>
            <a:off x="685800" y="31240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9"/>
          <p:cNvSpPr/>
          <p:nvPr/>
        </p:nvSpPr>
        <p:spPr>
          <a:xfrm>
            <a:off x="840960" y="304812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=180˚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50"/>
          <p:cNvSpPr/>
          <p:nvPr/>
        </p:nvSpPr>
        <p:spPr>
          <a:xfrm>
            <a:off x="2133720" y="312408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1"/>
          <p:cNvSpPr/>
          <p:nvPr/>
        </p:nvSpPr>
        <p:spPr>
          <a:xfrm>
            <a:off x="2365920" y="304812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=180˚-117˚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2"/>
          <p:cNvSpPr/>
          <p:nvPr/>
        </p:nvSpPr>
        <p:spPr>
          <a:xfrm>
            <a:off x="687960" y="3581280"/>
            <a:ext cx="40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63˚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во смеж.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53"/>
          <p:cNvSpPr/>
          <p:nvPr/>
        </p:nvSpPr>
        <p:spPr>
          <a:xfrm>
            <a:off x="762120" y="41911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54"/>
          <p:cNvSpPr/>
          <p:nvPr/>
        </p:nvSpPr>
        <p:spPr>
          <a:xfrm>
            <a:off x="1523880" y="41911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5"/>
          <p:cNvSpPr/>
          <p:nvPr/>
        </p:nvSpPr>
        <p:spPr>
          <a:xfrm>
            <a:off x="992880" y="411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6"/>
          <p:cNvSpPr/>
          <p:nvPr/>
        </p:nvSpPr>
        <p:spPr>
          <a:xfrm>
            <a:off x="1756800" y="411480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=63˚-вертикаль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57"/>
          <p:cNvSpPr/>
          <p:nvPr/>
        </p:nvSpPr>
        <p:spPr>
          <a:xfrm>
            <a:off x="762120" y="472428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8"/>
          <p:cNvSpPr/>
          <p:nvPr/>
        </p:nvSpPr>
        <p:spPr>
          <a:xfrm>
            <a:off x="992880" y="4648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9"/>
          <p:cNvSpPr/>
          <p:nvPr/>
        </p:nvSpPr>
        <p:spPr>
          <a:xfrm>
            <a:off x="1832760" y="46483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=117˚-вертик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0"/>
          <p:cNvSpPr/>
          <p:nvPr/>
        </p:nvSpPr>
        <p:spPr>
          <a:xfrm>
            <a:off x="688680" y="525780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63˚;63˚117˚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4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2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2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77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7" dur="770" fill="hold"/>
                                        <p:tgtEl>
                                          <p:spTgt spid="6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9" dur="77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1" dur="77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0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6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914400" y="243828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7"/>
          <p:cNvSpPr/>
          <p:nvPr/>
        </p:nvSpPr>
        <p:spPr>
          <a:xfrm flipH="1">
            <a:off x="1371600" y="2438280"/>
            <a:ext cx="9144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671760" y="2503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2424240" y="2198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0"/>
          <p:cNvSpPr/>
          <p:nvPr/>
        </p:nvSpPr>
        <p:spPr>
          <a:xfrm>
            <a:off x="1676520" y="387504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1"/>
          <p:cNvSpPr/>
          <p:nvPr/>
        </p:nvSpPr>
        <p:spPr>
          <a:xfrm>
            <a:off x="5105520" y="3124080"/>
            <a:ext cx="297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2"/>
          <p:cNvSpPr/>
          <p:nvPr/>
        </p:nvSpPr>
        <p:spPr>
          <a:xfrm flipH="1">
            <a:off x="5181480" y="2743200"/>
            <a:ext cx="24386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5091840" y="25034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5396040" y="395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7225560" y="296064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250920" y="6240600"/>
            <a:ext cx="828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365040" y="6161040"/>
            <a:ext cx="245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0"/>
          <p:cNvSpPr/>
          <p:nvPr/>
        </p:nvSpPr>
        <p:spPr>
          <a:xfrm>
            <a:off x="289080" y="579132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ересечении двух прямых известен один из углов. Найти остальные уг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8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8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Итог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419360" y="272520"/>
            <a:ext cx="4267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просы 17-1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р. 21-22 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(доказательство записать в тетрадь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№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54, №56, ;№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 7-9, под ред. Л.С.Атанас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пределение смежных и вертикальных углов и их свой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) Если углы смежные, то их сумма равна 180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˚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2) Если углы вертикальные, то он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2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2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20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20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20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20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7" dur="20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0" dur="20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3" dur="20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6" dur="20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9" dur="2000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Цель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вести понятие смежных и вертикальных углов, рассмотреть их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торение: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дерево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луч? Как он обознач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фигура называется уг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ой угол называется развёрнут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 сравнить два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ой луч называется биссектрисой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градусная мера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угол называется остр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м? Туп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50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ЕЖ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о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остроить острый угол А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овести луч ОС, являющийся продолжением луча О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0"/>
          <p:cNvSpPr/>
          <p:nvPr/>
        </p:nvSpPr>
        <p:spPr>
          <a:xfrm flipH="1">
            <a:off x="3581280" y="3352680"/>
            <a:ext cx="1981440" cy="106704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7850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548784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8215560" y="3389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28"/>
          <p:cNvSpPr/>
          <p:nvPr/>
        </p:nvSpPr>
        <p:spPr>
          <a:xfrm>
            <a:off x="5562720" y="1981080"/>
            <a:ext cx="2743200" cy="137160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9"/>
          <p:cNvSpPr/>
          <p:nvPr/>
        </p:nvSpPr>
        <p:spPr>
          <a:xfrm>
            <a:off x="4405680" y="392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0"/>
          <p:cNvSpPr/>
          <p:nvPr/>
        </p:nvSpPr>
        <p:spPr>
          <a:xfrm>
            <a:off x="4876920" y="48006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В 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33"/>
          <p:cNvSpPr/>
          <p:nvPr/>
        </p:nvSpPr>
        <p:spPr>
          <a:xfrm>
            <a:off x="5867280" y="487692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34"/>
          <p:cNvSpPr/>
          <p:nvPr/>
        </p:nvSpPr>
        <p:spPr>
          <a:xfrm>
            <a:off x="4724280" y="487692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rc 36"/>
          <p:cNvSpPr/>
          <p:nvPr/>
        </p:nvSpPr>
        <p:spPr>
          <a:xfrm>
            <a:off x="6019920" y="3124080"/>
            <a:ext cx="7596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9"/>
          <p:cNvSpPr/>
          <p:nvPr/>
        </p:nvSpPr>
        <p:spPr>
          <a:xfrm>
            <a:off x="6158520" y="476100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 – смежные у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Ink 37"/>
          <p:cNvSpPr/>
          <p:nvPr/>
        </p:nvSpPr>
        <p:spPr>
          <a:xfrm>
            <a:off x="982800" y="615312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2729" y="17090"/>
                </a:moveTo>
                <a:cubicBezTo>
                  <a:pt x="2737" y="17090"/>
                  <a:pt x="2745" y="17090"/>
                  <a:pt x="2753" y="1709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Ink 38"/>
          <p:cNvSpPr/>
          <p:nvPr/>
        </p:nvSpPr>
        <p:spPr>
          <a:xfrm>
            <a:off x="1009800" y="6116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803" y="16991"/>
                </a:moveTo>
                <a:lnTo>
                  <a:pt x="2803" y="16991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угла, у которых одна сторона общая и две другие являются продолжением одна другой называются смежными уг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2438280" y="5943600"/>
            <a:ext cx="55627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 flipV="1">
            <a:off x="4876920" y="4191120"/>
            <a:ext cx="1523880" cy="17524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2364120" y="60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4648320" y="60958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5869080" y="38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7621920" y="601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rc 17"/>
          <p:cNvSpPr/>
          <p:nvPr/>
        </p:nvSpPr>
        <p:spPr>
          <a:xfrm>
            <a:off x="5105520" y="571500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rc 18"/>
          <p:cNvSpPr/>
          <p:nvPr/>
        </p:nvSpPr>
        <p:spPr>
          <a:xfrm>
            <a:off x="4952880" y="5791320"/>
            <a:ext cx="228600" cy="152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rc 19"/>
          <p:cNvSpPr/>
          <p:nvPr/>
        </p:nvSpPr>
        <p:spPr>
          <a:xfrm flipH="1">
            <a:off x="4657680" y="5791320"/>
            <a:ext cx="29376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" dur="2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о смежных  уг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кой угол А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ему равна градусная мера уг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какие углы делит луч ОВ этот уго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ему равна сумма этих уг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АОС - развёрну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АОВ и    В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8"/>
          <p:cNvSpPr/>
          <p:nvPr/>
        </p:nvSpPr>
        <p:spPr>
          <a:xfrm>
            <a:off x="5410080" y="1676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19"/>
          <p:cNvSpPr/>
          <p:nvPr/>
        </p:nvSpPr>
        <p:spPr>
          <a:xfrm>
            <a:off x="5410080" y="365760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0"/>
          <p:cNvSpPr/>
          <p:nvPr/>
        </p:nvSpPr>
        <p:spPr>
          <a:xfrm>
            <a:off x="6858000" y="365760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4" dur="2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ОВ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534240" y="4038480"/>
            <a:ext cx="801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мма смежных углов равна 180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2670120" y="160020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 =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6"/>
          <p:cNvSpPr/>
          <p:nvPr/>
        </p:nvSpPr>
        <p:spPr>
          <a:xfrm>
            <a:off x="914400" y="1676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17"/>
          <p:cNvSpPr/>
          <p:nvPr/>
        </p:nvSpPr>
        <p:spPr>
          <a:xfrm>
            <a:off x="2362320" y="16765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ертите три угла: острый, прямой, тупой. Для каждого из этих углов начертите смежный уг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10"/>
          <p:cNvSpPr/>
          <p:nvPr/>
        </p:nvSpPr>
        <p:spPr>
          <a:xfrm>
            <a:off x="1676520" y="3809880"/>
            <a:ext cx="1828800" cy="1219320"/>
          </a:xfrm>
          <a:prstGeom prst="pie">
            <a:avLst/>
          </a:pr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1"/>
          <p:cNvSpPr/>
          <p:nvPr/>
        </p:nvSpPr>
        <p:spPr>
          <a:xfrm>
            <a:off x="3886200" y="3733920"/>
            <a:ext cx="2057400" cy="1295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2"/>
          <p:cNvSpPr/>
          <p:nvPr/>
        </p:nvSpPr>
        <p:spPr>
          <a:xfrm>
            <a:off x="7086600" y="3505320"/>
            <a:ext cx="1828800" cy="1523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rc 13"/>
          <p:cNvSpPr/>
          <p:nvPr/>
        </p:nvSpPr>
        <p:spPr>
          <a:xfrm>
            <a:off x="2057400" y="4724280"/>
            <a:ext cx="74520" cy="38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rc 15"/>
          <p:cNvSpPr/>
          <p:nvPr/>
        </p:nvSpPr>
        <p:spPr>
          <a:xfrm flipH="1">
            <a:off x="4952160" y="4800600"/>
            <a:ext cx="30492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7"/>
          <p:cNvSpPr/>
          <p:nvPr/>
        </p:nvSpPr>
        <p:spPr>
          <a:xfrm>
            <a:off x="7086600" y="4800600"/>
            <a:ext cx="1522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8"/>
          <p:cNvSpPr/>
          <p:nvPr/>
        </p:nvSpPr>
        <p:spPr>
          <a:xfrm flipH="1">
            <a:off x="456840" y="50292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9"/>
          <p:cNvSpPr/>
          <p:nvPr/>
        </p:nvSpPr>
        <p:spPr>
          <a:xfrm>
            <a:off x="5181480" y="5029200"/>
            <a:ext cx="1219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0"/>
          <p:cNvSpPr/>
          <p:nvPr/>
        </p:nvSpPr>
        <p:spPr>
          <a:xfrm>
            <a:off x="7086600" y="5105520"/>
            <a:ext cx="0" cy="12189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дин из смежных углов прямой. Каким (острым, прямым, тупым) является другой уго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0"/>
          <p:cNvSpPr/>
          <p:nvPr/>
        </p:nvSpPr>
        <p:spPr>
          <a:xfrm flipV="1">
            <a:off x="762120" y="3428640"/>
            <a:ext cx="3429000" cy="685800"/>
          </a:xfrm>
          <a:prstGeom prst="line">
            <a:avLst/>
          </a:prstGeom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 flipH="1">
            <a:off x="2057040" y="1981080"/>
            <a:ext cx="304920" cy="1905120"/>
          </a:xfrm>
          <a:prstGeom prst="line">
            <a:avLst/>
          </a:prstGeom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>
            <a:off x="4724280" y="4343400"/>
            <a:ext cx="3124440" cy="167652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3"/>
          <p:cNvSpPr/>
          <p:nvPr/>
        </p:nvSpPr>
        <p:spPr>
          <a:xfrm flipH="1">
            <a:off x="6248520" y="3124080"/>
            <a:ext cx="1218960" cy="20574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4"/>
          <p:cNvSpPr/>
          <p:nvPr/>
        </p:nvSpPr>
        <p:spPr>
          <a:xfrm flipV="1">
            <a:off x="1752480" y="4724280"/>
            <a:ext cx="2362320" cy="18288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5"/>
          <p:cNvSpPr/>
          <p:nvPr/>
        </p:nvSpPr>
        <p:spPr>
          <a:xfrm>
            <a:off x="1143000" y="5638680"/>
            <a:ext cx="1828800" cy="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09-12-20T07:34:31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