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Love%20Is%20Blu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A063-D995-4960-AAA1-5CE20FF3FB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452A-FFCE-4EA4-8E78-56E3148D32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7498-F0F0-457A-A7EB-35D723A3C7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7C2F-4B2F-472C-B261-E68B3EC8F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3436-1355-40EB-B4F7-168593F6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A5447-5E74-48AA-823B-AB9C5814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5AAD5-99F6-4B84-846E-8519EDA9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71E105-8530-4768-9E87-631822C7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FE323-DFB8-4FCC-AFAC-4EED10B4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8D2B0-8E8D-41BA-8256-C5AC602B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B81A4-1CCD-4940-B242-752143C2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C3566-59F8-4DC0-90A4-7EFBDAC2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A3592-DBFB-4B33-AD44-96CE65A3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56D6F-11E1-4B4D-8941-092A765B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CAE57-2037-4065-A00F-549493C9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902F-A9A0-416C-8D5C-E9E3086F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C7970-0AE5-4534-9231-181E97FF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478E4-60E5-42BF-949D-42F0B4BD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84C14-1884-4D4C-AFCA-921EE257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E872C-6B24-4A43-80FA-F903CE1B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50C530-1320-40F4-BC32-EE87D9CC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57BD6-940B-452C-B432-E922CB08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9C276-B86F-4D66-8A2B-6F30E316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B012B-73AB-4399-8469-25FE632E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3E4F9-8AA6-492E-8364-9B0EB3C7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F1E65E-40F7-4577-84C5-6BC5B4D7D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E762-B48F-4AA6-A753-65FF29E98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5CBEF-7090-43FF-8CE0-E94C0065F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2C7C4-AAC7-424E-83A1-D473E232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8D1DD-B8A9-4C68-8496-86E8533D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73B99-9310-4267-ADE5-9EB18043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B1ABF-5FC9-40EA-95DE-22294454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E20A8-6354-49E6-9783-529B6DC1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05A7F-C42A-404E-B22E-B182479F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9398B-4B28-4F29-802F-82485FB5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C33E3-6969-484E-83A1-0FE0A6D7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0BE50-850B-47E2-A3C7-4153E1D3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416F-809A-46DA-8329-9BA0C1E5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AEEBD-A32A-4D20-90B6-55E8D72D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E0196-2F03-4A57-BEA1-90581D623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E347F-9B5C-4F69-B5E5-4C638A354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62A361-56B5-45DB-95CE-3F7B508C0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623DC-3ED8-49FA-942B-91CDE328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D5CBBE-10EF-4400-BC0B-4580BF7F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B35942-1B4C-457F-BEA6-E0A1CD32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E5D701-38D1-430C-A7E5-2D3FB50C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FFA740-7C11-4BAB-A535-40927749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E956F-0BEE-4BBF-8150-18BA2F8D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F9BE-2663-4DF0-A27D-992C0CF8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E847FF-33B4-4263-BC67-9F7B7C73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CEBA13-7F9F-46BC-8EF3-4AB299C7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684DB2-7020-4E5F-9F77-52E40150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07052A-85C1-4C2A-AB5B-F329E914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7CF6F2-E395-4D13-AC52-6F4BC124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C952-008D-4447-A598-BDB7EB58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344C-E209-4C8F-8D6A-E1623979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3525-8209-41D8-8AA5-739BD2EF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4F1A-EF2B-4F85-80CE-8A6089AE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8AA8-1D16-40F6-BFF0-D8E13322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BF60-6519-4308-932A-2737D3EB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4D7C-230D-4BF2-A8CF-7DC7FCF2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4236-08CC-438C-9CED-84599D8D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6D95-7604-4746-B0AC-3A073B60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CAB9-1237-449F-8CC3-E34236671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EB0D-53AF-4594-96D6-4E826E04D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ED5B3-0E7A-472C-BB1C-530EFE01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5819B-0096-4106-8ECC-19518C68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EF99F-3B80-4E69-9E3D-5F4BC78D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F23AB-1CC1-4252-8395-32554B59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440C3-2D3C-4E25-A31C-504D1E75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96BB-551F-4E33-844B-4F90F295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94C5F-4AE8-4447-83F4-5276B2AE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1606F-15EA-48F1-9458-6AA9B89F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E9B03-7B00-4F00-8F15-76D74303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CEB48-BB01-47E6-BBBB-AE304998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0FBC6-A48A-498B-A17A-1A57B7AE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1B597-B125-48A4-B874-AC67DA2CC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F663E-ADB3-4AAA-BE00-37664CC4E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1B0C9-7912-49C7-A73D-5798B42A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1879B-8737-426C-A209-67540EA7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539E3-649E-4848-B3CD-EDA3AD01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0850-099C-457D-A6C3-5E2D0087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C6643-D7AF-4CE5-8D0C-86657FBC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FF02A-2203-4D7C-9FD6-3FC8BAF3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4FAB8-8387-46EB-AF16-AB234032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509A1-BCA4-493C-9DC4-2A0DD5CF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630FB-F19F-4829-8165-1EDE7915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9AAD4-B922-4A3E-8754-3D263AF5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9FCFC-2197-457A-8BA2-15530F88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55D97-2971-4281-8240-A4E8C63F3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98896-6628-49F7-8850-B067614B6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268C3-45E5-4539-9657-BCB1836E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0BFF-5AE9-4883-8886-71F9FEF8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7825E-3C16-414B-9AC1-0DD93532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108FB-2B2F-4BE7-8118-50A2C9A1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5223D-30EA-4E7F-B3BC-0323826A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71B7C-4124-48B3-96E2-B4227A64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ED001-FD45-49FD-9E87-DA191742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C5CF3-A96D-4E4C-8CF1-7287FB2C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575C8-26EF-4C73-BCA4-AA21367E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8EE47-FEA8-435B-9852-A20B45EF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DB4C9-029B-43E8-9D21-6384B5B7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DB602-F459-4AB4-9A49-597A60093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4DBD-596D-4E1D-A159-A1017443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2ACFD-738D-4B7A-B85C-564E03119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FF12D-F633-49EC-B736-35DF042F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9E25B-3BFA-4263-BC8A-B2BD57BB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2F425-B934-455B-93AF-06C0C5D1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4E8F5-92E8-4030-885C-04C83310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9B39C-E7CF-49D4-B586-002A27FD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4A476-3CC4-499F-86CD-44E0D00F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6E246-2D79-4920-ADB6-30B392E0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18CB8-3954-4AFC-B68A-F06DD087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69F46-8A78-428B-9589-55326EE7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26E5-2515-4902-8DFE-DFE1C5B6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A7D85-80AF-491F-95B9-101B3F93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DD679-ACC0-47D2-A011-698BA454F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44779-D805-432F-B095-10555AF3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295D8-A6B3-470D-846F-D2EB601D7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0C044-D08B-4905-AAAB-D1416C10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D8EE8-D15C-4FE7-9D1D-D2D41A7D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74719-6451-4E36-A3B0-734C96F3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C3439-FD17-454A-99D1-8A074896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7F9DA-8BB6-4ACF-8969-D7A7027C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548E2-81D7-41D8-A143-97B24999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F01B-8EB2-4D09-8413-95372584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288D5-1731-473F-80C0-3F548825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36BD2-DD84-4C4E-BFF3-2B33D863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91879-B0C7-4F40-B42D-5102EF71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47DCC-99C3-41E9-9732-4B04377B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DAE33-B78E-47A5-A6ED-52ECEB633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A9253-DA11-45C8-9E1F-03377442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E6EFA-4754-4FC1-8EC2-9AF99CB3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8C74C-A433-4CB5-B997-A2967999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04ED0-6296-432E-B0C1-85ECAF06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31E40-A5CA-4E2F-BBAC-BA2CE899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C886-4DF6-4A8A-87BE-231C759A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AC425-39F1-42AF-8DA9-3CA1FDB6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5967E-E013-4A1C-A0E7-5521910F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89520-0B96-4EBC-9AD5-22E9D0CC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32D1A-4C5F-428E-B59D-9F06C42E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DC398-3935-46A6-AA21-F7D85268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7C582-7612-46C4-B9A8-D98C2C7C4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6938A-73C5-472D-8167-12C129FA2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A7F19-BF89-4960-974A-3C5D3F3D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E9C47-A1BE-451F-8185-62D94FC7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EF32E-3FB9-4EAF-B9E4-ECAAC035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8D7D-81D7-41D4-B939-8E58B9FFA4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0AE7-DBFB-438B-AD1D-CC881CA3CA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51D1-A585-46F1-801A-604E25D038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0ECC-014C-4964-A98E-DD9247B8DB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71E4-4964-46C1-AF55-8B5F057CB1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BD95-BB93-47D1-A80F-C6BCB8C19E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BA6C-AE76-4C34-99BE-7563ADAE18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2972-27B6-466E-AE88-CB7918A182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F109-1D1C-4B5C-8D7C-BF097BD7E1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19A5-4929-4680-ADB5-445F830E0F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746E-1E24-4D8E-944B-DF8588CAAA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D7A6-223C-4F17-9C08-F6AE305FEA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ove%20Is%20Blue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ove%20Is%20Blue.wav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межные и вертикальные уг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метрия  7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-76320" y="617220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Чернова Галина Петро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  <p:sndAc>
      <p:stSnd>
        <p:snd r:embed="rId1" name="Love%20Is%20Blu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Верно ли утверждение: если смежные углы равны, то они прямы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ужда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3" name="AutoShape 4"/>
          <p:cNvCxnSpPr>
            <a:stCxn id="562" idx="1"/>
            <a:endCxn id="562" idx="1"/>
          </p:cNvCxnSpPr>
          <p:nvPr/>
        </p:nvCxnSpPr>
        <p:spPr>
          <a:xfrm>
            <a:off x="456840" y="38635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4" name="AutoShape 6"/>
          <p:cNvCxnSpPr>
            <a:stCxn id="562" idx="1"/>
            <a:endCxn id="562" idx="1"/>
          </p:cNvCxnSpPr>
          <p:nvPr/>
        </p:nvCxnSpPr>
        <p:spPr>
          <a:xfrm>
            <a:off x="456840" y="38635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5" name="AutoShape 7"/>
          <p:cNvCxnSpPr/>
          <p:nvPr/>
        </p:nvCxnSpPr>
        <p:spPr>
          <a:xfrm flipH="1" flipV="1">
            <a:off x="990360" y="2894760"/>
            <a:ext cx="4115520" cy="2264760"/>
          </a:xfrm>
          <a:prstGeom prst="straightConnector1">
            <a:avLst/>
          </a:prstGeom>
          <a:ln w="25560">
            <a:solidFill>
              <a:srgbClr val="009999"/>
            </a:solidFill>
            <a:miter/>
          </a:ln>
        </p:spPr>
      </p:cxnSp>
      <p:sp>
        <p:nvSpPr>
          <p:cNvPr id="566" name="Line 8"/>
          <p:cNvSpPr/>
          <p:nvPr/>
        </p:nvSpPr>
        <p:spPr>
          <a:xfrm flipV="1">
            <a:off x="2743200" y="2895480"/>
            <a:ext cx="2438280" cy="99072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"/>
          <p:cNvSpPr/>
          <p:nvPr/>
        </p:nvSpPr>
        <p:spPr>
          <a:xfrm>
            <a:off x="7315200" y="2514600"/>
            <a:ext cx="76320" cy="3733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0"/>
          <p:cNvSpPr/>
          <p:nvPr/>
        </p:nvSpPr>
        <p:spPr>
          <a:xfrm flipV="1">
            <a:off x="5867280" y="4419360"/>
            <a:ext cx="3048120" cy="75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2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2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2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8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3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Найдите угол, смежный с углом, есл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   АСО=1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   ДСВ=11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15"/>
          <p:cNvSpPr/>
          <p:nvPr/>
        </p:nvSpPr>
        <p:spPr>
          <a:xfrm>
            <a:off x="685800" y="4038480"/>
            <a:ext cx="312408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16"/>
          <p:cNvSpPr/>
          <p:nvPr/>
        </p:nvSpPr>
        <p:spPr>
          <a:xfrm flipH="1">
            <a:off x="1981080" y="3124080"/>
            <a:ext cx="1447920" cy="9144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19"/>
          <p:cNvSpPr/>
          <p:nvPr/>
        </p:nvSpPr>
        <p:spPr>
          <a:xfrm>
            <a:off x="5486400" y="4038480"/>
            <a:ext cx="297180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20"/>
          <p:cNvSpPr/>
          <p:nvPr/>
        </p:nvSpPr>
        <p:spPr>
          <a:xfrm flipH="1" flipV="1">
            <a:off x="5715000" y="2590560"/>
            <a:ext cx="1371600" cy="144756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1"/>
          <p:cNvSpPr/>
          <p:nvPr/>
        </p:nvSpPr>
        <p:spPr>
          <a:xfrm>
            <a:off x="533520" y="4191120"/>
            <a:ext cx="3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3"/>
          <p:cNvSpPr/>
          <p:nvPr/>
        </p:nvSpPr>
        <p:spPr>
          <a:xfrm>
            <a:off x="17524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6"/>
          <p:cNvSpPr/>
          <p:nvPr/>
        </p:nvSpPr>
        <p:spPr>
          <a:xfrm>
            <a:off x="3430800" y="4191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8"/>
          <p:cNvSpPr/>
          <p:nvPr/>
        </p:nvSpPr>
        <p:spPr>
          <a:xfrm>
            <a:off x="2896560" y="2666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29"/>
          <p:cNvSpPr/>
          <p:nvPr/>
        </p:nvSpPr>
        <p:spPr>
          <a:xfrm>
            <a:off x="5945400" y="220968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30"/>
          <p:cNvSpPr/>
          <p:nvPr/>
        </p:nvSpPr>
        <p:spPr>
          <a:xfrm>
            <a:off x="6920640" y="4002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31"/>
          <p:cNvSpPr/>
          <p:nvPr/>
        </p:nvSpPr>
        <p:spPr>
          <a:xfrm>
            <a:off x="8291880" y="4002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32"/>
          <p:cNvSpPr/>
          <p:nvPr/>
        </p:nvSpPr>
        <p:spPr>
          <a:xfrm>
            <a:off x="5411880" y="411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rc 33"/>
          <p:cNvSpPr/>
          <p:nvPr/>
        </p:nvSpPr>
        <p:spPr>
          <a:xfrm>
            <a:off x="2362320" y="3809880"/>
            <a:ext cx="22860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rc 34"/>
          <p:cNvSpPr/>
          <p:nvPr/>
        </p:nvSpPr>
        <p:spPr>
          <a:xfrm>
            <a:off x="6858000" y="3733920"/>
            <a:ext cx="45720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35"/>
          <p:cNvSpPr/>
          <p:nvPr/>
        </p:nvSpPr>
        <p:spPr>
          <a:xfrm>
            <a:off x="1219320" y="1676520"/>
            <a:ext cx="30456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36"/>
          <p:cNvSpPr/>
          <p:nvPr/>
        </p:nvSpPr>
        <p:spPr>
          <a:xfrm>
            <a:off x="5410080" y="1676520"/>
            <a:ext cx="30492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7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2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7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0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5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0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РТИКАЛЬНЫЕ УГ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ческое за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строим острый уго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делим его дугой и    обозначим цифрой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строим продолжение сторон угла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метим дугой угол, стороны которого являются продолжением сторон угла 1 и обозначим его цифрой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22"/>
          <p:cNvSpPr/>
          <p:nvPr/>
        </p:nvSpPr>
        <p:spPr>
          <a:xfrm rot="17292600">
            <a:off x="5410080" y="1904760"/>
            <a:ext cx="1752480" cy="838440"/>
          </a:xfrm>
          <a:prstGeom prst="pie">
            <a:avLst/>
          </a:prstGeom>
          <a:noFill/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rc 25"/>
          <p:cNvSpPr/>
          <p:nvPr/>
        </p:nvSpPr>
        <p:spPr>
          <a:xfrm>
            <a:off x="6248520" y="2743200"/>
            <a:ext cx="223560" cy="76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27"/>
          <p:cNvSpPr/>
          <p:nvPr/>
        </p:nvSpPr>
        <p:spPr>
          <a:xfrm>
            <a:off x="6249960" y="2286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34"/>
          <p:cNvSpPr/>
          <p:nvPr/>
        </p:nvSpPr>
        <p:spPr>
          <a:xfrm rot="6636600">
            <a:off x="5333760" y="3733920"/>
            <a:ext cx="1752480" cy="838080"/>
          </a:xfrm>
          <a:prstGeom prst="pie">
            <a:avLst/>
          </a:prstGeom>
          <a:noFill/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rc 37"/>
          <p:cNvSpPr/>
          <p:nvPr/>
        </p:nvSpPr>
        <p:spPr>
          <a:xfrm flipH="1" flipV="1">
            <a:off x="6095160" y="3582360"/>
            <a:ext cx="228600" cy="74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38"/>
          <p:cNvSpPr/>
          <p:nvPr/>
        </p:nvSpPr>
        <p:spPr>
          <a:xfrm>
            <a:off x="6021360" y="3733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1" name="Love%20Is%20Blue.wav"/>
      </p:stSnd>
    </p:sndAc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9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3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8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0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3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а угла называются вертикальными, если стороны одного угла являются  продолжением сторон друг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5"/>
          <p:cNvSpPr/>
          <p:nvPr/>
        </p:nvSpPr>
        <p:spPr>
          <a:xfrm>
            <a:off x="2057400" y="3581280"/>
            <a:ext cx="4952880" cy="17528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6"/>
          <p:cNvSpPr/>
          <p:nvPr/>
        </p:nvSpPr>
        <p:spPr>
          <a:xfrm flipH="1">
            <a:off x="2057040" y="3657600"/>
            <a:ext cx="4267080" cy="15238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2881440" y="4175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1"/>
          <p:cNvSpPr/>
          <p:nvPr/>
        </p:nvSpPr>
        <p:spPr>
          <a:xfrm>
            <a:off x="5488200" y="4191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8"/>
          <p:cNvSpPr/>
          <p:nvPr/>
        </p:nvSpPr>
        <p:spPr>
          <a:xfrm>
            <a:off x="4100760" y="3641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20"/>
          <p:cNvSpPr/>
          <p:nvPr/>
        </p:nvSpPr>
        <p:spPr>
          <a:xfrm>
            <a:off x="4176720" y="47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rc 43"/>
          <p:cNvSpPr/>
          <p:nvPr/>
        </p:nvSpPr>
        <p:spPr>
          <a:xfrm rot="1935000">
            <a:off x="4723920" y="4265280"/>
            <a:ext cx="22572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rc 45"/>
          <p:cNvSpPr/>
          <p:nvPr/>
        </p:nvSpPr>
        <p:spPr>
          <a:xfrm rot="13568400">
            <a:off x="3589920" y="4194360"/>
            <a:ext cx="29376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rc 46"/>
          <p:cNvSpPr/>
          <p:nvPr/>
        </p:nvSpPr>
        <p:spPr>
          <a:xfrm rot="18489000">
            <a:off x="4011120" y="4016160"/>
            <a:ext cx="532080" cy="591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rc 47"/>
          <p:cNvSpPr/>
          <p:nvPr/>
        </p:nvSpPr>
        <p:spPr>
          <a:xfrm rot="19603200">
            <a:off x="3924360" y="4169880"/>
            <a:ext cx="671400" cy="568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rc 48"/>
          <p:cNvSpPr/>
          <p:nvPr/>
        </p:nvSpPr>
        <p:spPr>
          <a:xfrm rot="8103600">
            <a:off x="3961800" y="3962520"/>
            <a:ext cx="703080" cy="604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rc 50"/>
          <p:cNvSpPr/>
          <p:nvPr/>
        </p:nvSpPr>
        <p:spPr>
          <a:xfrm rot="8151600">
            <a:off x="3841920" y="3871800"/>
            <a:ext cx="852480" cy="858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51"/>
          <p:cNvSpPr/>
          <p:nvPr/>
        </p:nvSpPr>
        <p:spPr>
          <a:xfrm>
            <a:off x="976320" y="547524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52"/>
          <p:cNvSpPr/>
          <p:nvPr/>
        </p:nvSpPr>
        <p:spPr>
          <a:xfrm>
            <a:off x="2046240" y="5475240"/>
            <a:ext cx="398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– вертикальные уг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53"/>
          <p:cNvSpPr/>
          <p:nvPr/>
        </p:nvSpPr>
        <p:spPr>
          <a:xfrm>
            <a:off x="685800" y="5562720"/>
            <a:ext cx="30492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54"/>
          <p:cNvSpPr/>
          <p:nvPr/>
        </p:nvSpPr>
        <p:spPr>
          <a:xfrm>
            <a:off x="1752480" y="5562720"/>
            <a:ext cx="30492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6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1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0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4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9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3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8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2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3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войство вертикальных уг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1371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1055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ртикальные углы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34"/>
          <p:cNvSpPr/>
          <p:nvPr/>
        </p:nvSpPr>
        <p:spPr>
          <a:xfrm flipH="1">
            <a:off x="5562720" y="3581280"/>
            <a:ext cx="2743200" cy="18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35"/>
          <p:cNvSpPr/>
          <p:nvPr/>
        </p:nvSpPr>
        <p:spPr>
          <a:xfrm>
            <a:off x="5486400" y="4114800"/>
            <a:ext cx="32004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36"/>
          <p:cNvSpPr/>
          <p:nvPr/>
        </p:nvSpPr>
        <p:spPr>
          <a:xfrm>
            <a:off x="6174000" y="4495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37"/>
          <p:cNvSpPr/>
          <p:nvPr/>
        </p:nvSpPr>
        <p:spPr>
          <a:xfrm>
            <a:off x="7392960" y="4267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8"/>
          <p:cNvSpPr/>
          <p:nvPr/>
        </p:nvSpPr>
        <p:spPr>
          <a:xfrm>
            <a:off x="6707160" y="4038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39"/>
          <p:cNvSpPr/>
          <p:nvPr/>
        </p:nvSpPr>
        <p:spPr>
          <a:xfrm>
            <a:off x="6859800" y="4648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40"/>
          <p:cNvSpPr/>
          <p:nvPr/>
        </p:nvSpPr>
        <p:spPr>
          <a:xfrm>
            <a:off x="1828800" y="1676520"/>
            <a:ext cx="30492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41"/>
          <p:cNvSpPr/>
          <p:nvPr/>
        </p:nvSpPr>
        <p:spPr>
          <a:xfrm>
            <a:off x="1828800" y="2133720"/>
            <a:ext cx="30492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43"/>
          <p:cNvSpPr/>
          <p:nvPr/>
        </p:nvSpPr>
        <p:spPr>
          <a:xfrm>
            <a:off x="2590920" y="2133720"/>
            <a:ext cx="30456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44"/>
          <p:cNvSpPr/>
          <p:nvPr/>
        </p:nvSpPr>
        <p:spPr>
          <a:xfrm>
            <a:off x="457200" y="3048120"/>
            <a:ext cx="30492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45"/>
          <p:cNvSpPr/>
          <p:nvPr/>
        </p:nvSpPr>
        <p:spPr>
          <a:xfrm>
            <a:off x="1066680" y="3048120"/>
            <a:ext cx="30492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46"/>
          <p:cNvSpPr/>
          <p:nvPr/>
        </p:nvSpPr>
        <p:spPr>
          <a:xfrm>
            <a:off x="457200" y="3505320"/>
            <a:ext cx="30492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47"/>
          <p:cNvSpPr/>
          <p:nvPr/>
        </p:nvSpPr>
        <p:spPr>
          <a:xfrm>
            <a:off x="457200" y="3962520"/>
            <a:ext cx="30492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48"/>
          <p:cNvSpPr/>
          <p:nvPr/>
        </p:nvSpPr>
        <p:spPr>
          <a:xfrm>
            <a:off x="1143000" y="3962520"/>
            <a:ext cx="30492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49"/>
          <p:cNvSpPr/>
          <p:nvPr/>
        </p:nvSpPr>
        <p:spPr>
          <a:xfrm>
            <a:off x="457200" y="4495680"/>
            <a:ext cx="30492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 50"/>
          <p:cNvSpPr/>
          <p:nvPr/>
        </p:nvSpPr>
        <p:spPr>
          <a:xfrm>
            <a:off x="457200" y="4952880"/>
            <a:ext cx="30492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reeform 51"/>
          <p:cNvSpPr/>
          <p:nvPr/>
        </p:nvSpPr>
        <p:spPr>
          <a:xfrm>
            <a:off x="1219320" y="4952880"/>
            <a:ext cx="30456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52"/>
          <p:cNvSpPr/>
          <p:nvPr/>
        </p:nvSpPr>
        <p:spPr>
          <a:xfrm>
            <a:off x="380880" y="5410080"/>
            <a:ext cx="30492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53"/>
          <p:cNvSpPr/>
          <p:nvPr/>
        </p:nvSpPr>
        <p:spPr>
          <a:xfrm>
            <a:off x="1219320" y="5410080"/>
            <a:ext cx="30456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55"/>
          <p:cNvSpPr/>
          <p:nvPr/>
        </p:nvSpPr>
        <p:spPr>
          <a:xfrm>
            <a:off x="2059920" y="1600200"/>
            <a:ext cx="110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=35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57"/>
          <p:cNvSpPr/>
          <p:nvPr/>
        </p:nvSpPr>
        <p:spPr>
          <a:xfrm>
            <a:off x="459720" y="2057400"/>
            <a:ext cx="129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59"/>
          <p:cNvSpPr/>
          <p:nvPr/>
        </p:nvSpPr>
        <p:spPr>
          <a:xfrm>
            <a:off x="459000" y="1523880"/>
            <a:ext cx="11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60"/>
          <p:cNvSpPr/>
          <p:nvPr/>
        </p:nvSpPr>
        <p:spPr>
          <a:xfrm>
            <a:off x="2135160" y="2057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61"/>
          <p:cNvSpPr/>
          <p:nvPr/>
        </p:nvSpPr>
        <p:spPr>
          <a:xfrm>
            <a:off x="2897280" y="2057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62"/>
          <p:cNvSpPr/>
          <p:nvPr/>
        </p:nvSpPr>
        <p:spPr>
          <a:xfrm>
            <a:off x="459720" y="2514600"/>
            <a:ext cx="178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4"/>
          <p:cNvSpPr/>
          <p:nvPr/>
        </p:nvSpPr>
        <p:spPr>
          <a:xfrm>
            <a:off x="687240" y="29718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5"/>
          <p:cNvSpPr/>
          <p:nvPr/>
        </p:nvSpPr>
        <p:spPr>
          <a:xfrm>
            <a:off x="1298520" y="297180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-смеж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66"/>
          <p:cNvSpPr/>
          <p:nvPr/>
        </p:nvSpPr>
        <p:spPr>
          <a:xfrm>
            <a:off x="750240" y="3417840"/>
            <a:ext cx="285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=180˚-35˚=145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67"/>
          <p:cNvSpPr/>
          <p:nvPr/>
        </p:nvSpPr>
        <p:spPr>
          <a:xfrm>
            <a:off x="671400" y="38750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8"/>
          <p:cNvSpPr/>
          <p:nvPr/>
        </p:nvSpPr>
        <p:spPr>
          <a:xfrm>
            <a:off x="1374840" y="388620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-смеж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69"/>
          <p:cNvSpPr/>
          <p:nvPr/>
        </p:nvSpPr>
        <p:spPr>
          <a:xfrm>
            <a:off x="674280" y="4408560"/>
            <a:ext cx="285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=180˚-35˚=145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70"/>
          <p:cNvSpPr/>
          <p:nvPr/>
        </p:nvSpPr>
        <p:spPr>
          <a:xfrm>
            <a:off x="672120" y="48657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71"/>
          <p:cNvSpPr/>
          <p:nvPr/>
        </p:nvSpPr>
        <p:spPr>
          <a:xfrm>
            <a:off x="1450080" y="4800600"/>
            <a:ext cx="189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=145˚, 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72"/>
          <p:cNvSpPr/>
          <p:nvPr/>
        </p:nvSpPr>
        <p:spPr>
          <a:xfrm>
            <a:off x="597600" y="53229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73"/>
          <p:cNvSpPr/>
          <p:nvPr/>
        </p:nvSpPr>
        <p:spPr>
          <a:xfrm>
            <a:off x="1436760" y="5322960"/>
            <a:ext cx="28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-вертик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77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5" dur="770" fill="hold"/>
                                        <p:tgtEl>
                                          <p:spTgt spid="6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7" dur="77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9" dur="77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77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9" dur="770" fill="hold"/>
                                        <p:tgtEl>
                                          <p:spTgt spid="6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1" dur="77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3" dur="77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77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3" dur="770" fill="hold"/>
                                        <p:tgtEl>
                                          <p:spTgt spid="6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5" dur="77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7" dur="77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6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8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77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3" dur="77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5" dur="77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7" dur="77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9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4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пражнения для закреп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ри пересечении двух прямых а и в сумма каких-то углов равна 6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˚. Какие это угл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вет: вертикальные углы, т.к. сумма смежных углов равна 180˚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ри пересечении двух прямых а и в разность каких-то углов равна 3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˚. Какие это угл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вет: смежные, т.к. разность вертикальных углов равна 0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5" dur="1000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1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100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64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6"/>
          <p:cNvSpPr/>
          <p:nvPr/>
        </p:nvSpPr>
        <p:spPr>
          <a:xfrm flipH="1">
            <a:off x="5105520" y="2133720"/>
            <a:ext cx="304776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7"/>
          <p:cNvSpPr/>
          <p:nvPr/>
        </p:nvSpPr>
        <p:spPr>
          <a:xfrm>
            <a:off x="4876920" y="2590920"/>
            <a:ext cx="335268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8"/>
          <p:cNvSpPr/>
          <p:nvPr/>
        </p:nvSpPr>
        <p:spPr>
          <a:xfrm>
            <a:off x="5640480" y="2819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9"/>
          <p:cNvSpPr/>
          <p:nvPr/>
        </p:nvSpPr>
        <p:spPr>
          <a:xfrm>
            <a:off x="7088400" y="2666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0"/>
          <p:cNvSpPr/>
          <p:nvPr/>
        </p:nvSpPr>
        <p:spPr>
          <a:xfrm>
            <a:off x="6326280" y="2362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1"/>
          <p:cNvSpPr/>
          <p:nvPr/>
        </p:nvSpPr>
        <p:spPr>
          <a:xfrm>
            <a:off x="6478560" y="3124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34"/>
          <p:cNvSpPr/>
          <p:nvPr/>
        </p:nvSpPr>
        <p:spPr>
          <a:xfrm>
            <a:off x="1676520" y="1600200"/>
            <a:ext cx="30456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37"/>
          <p:cNvSpPr/>
          <p:nvPr/>
        </p:nvSpPr>
        <p:spPr>
          <a:xfrm>
            <a:off x="611640" y="1523880"/>
            <a:ext cx="11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38"/>
          <p:cNvSpPr/>
          <p:nvPr/>
        </p:nvSpPr>
        <p:spPr>
          <a:xfrm>
            <a:off x="1983960" y="1523880"/>
            <a:ext cx="129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=117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9"/>
          <p:cNvSpPr/>
          <p:nvPr/>
        </p:nvSpPr>
        <p:spPr>
          <a:xfrm>
            <a:off x="612000" y="2057400"/>
            <a:ext cx="129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40"/>
          <p:cNvSpPr/>
          <p:nvPr/>
        </p:nvSpPr>
        <p:spPr>
          <a:xfrm>
            <a:off x="1905120" y="2133720"/>
            <a:ext cx="30456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41"/>
          <p:cNvSpPr/>
          <p:nvPr/>
        </p:nvSpPr>
        <p:spPr>
          <a:xfrm>
            <a:off x="1523880" y="4724280"/>
            <a:ext cx="30492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42"/>
          <p:cNvSpPr/>
          <p:nvPr/>
        </p:nvSpPr>
        <p:spPr>
          <a:xfrm>
            <a:off x="2119320" y="20462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reeform 43"/>
          <p:cNvSpPr/>
          <p:nvPr/>
        </p:nvSpPr>
        <p:spPr>
          <a:xfrm>
            <a:off x="2514600" y="2133720"/>
            <a:ext cx="30492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44"/>
          <p:cNvSpPr/>
          <p:nvPr/>
        </p:nvSpPr>
        <p:spPr>
          <a:xfrm>
            <a:off x="2728800" y="20462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45"/>
          <p:cNvSpPr/>
          <p:nvPr/>
        </p:nvSpPr>
        <p:spPr>
          <a:xfrm>
            <a:off x="3124080" y="2133720"/>
            <a:ext cx="30492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46"/>
          <p:cNvSpPr/>
          <p:nvPr/>
        </p:nvSpPr>
        <p:spPr>
          <a:xfrm>
            <a:off x="3338280" y="20462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47"/>
          <p:cNvSpPr/>
          <p:nvPr/>
        </p:nvSpPr>
        <p:spPr>
          <a:xfrm>
            <a:off x="612360" y="2590920"/>
            <a:ext cx="178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48"/>
          <p:cNvSpPr/>
          <p:nvPr/>
        </p:nvSpPr>
        <p:spPr>
          <a:xfrm>
            <a:off x="685800" y="3124080"/>
            <a:ext cx="30492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49"/>
          <p:cNvSpPr/>
          <p:nvPr/>
        </p:nvSpPr>
        <p:spPr>
          <a:xfrm>
            <a:off x="840960" y="304812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=180˚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50"/>
          <p:cNvSpPr/>
          <p:nvPr/>
        </p:nvSpPr>
        <p:spPr>
          <a:xfrm>
            <a:off x="2133720" y="3124080"/>
            <a:ext cx="30456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51"/>
          <p:cNvSpPr/>
          <p:nvPr/>
        </p:nvSpPr>
        <p:spPr>
          <a:xfrm>
            <a:off x="2365920" y="3048120"/>
            <a:ext cx="23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=180˚-117˚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52"/>
          <p:cNvSpPr/>
          <p:nvPr/>
        </p:nvSpPr>
        <p:spPr>
          <a:xfrm>
            <a:off x="687960" y="3581280"/>
            <a:ext cx="405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63˚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-во смеж. уг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53"/>
          <p:cNvSpPr/>
          <p:nvPr/>
        </p:nvSpPr>
        <p:spPr>
          <a:xfrm>
            <a:off x="762120" y="4191120"/>
            <a:ext cx="30456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54"/>
          <p:cNvSpPr/>
          <p:nvPr/>
        </p:nvSpPr>
        <p:spPr>
          <a:xfrm>
            <a:off x="1523880" y="4191120"/>
            <a:ext cx="30492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55"/>
          <p:cNvSpPr/>
          <p:nvPr/>
        </p:nvSpPr>
        <p:spPr>
          <a:xfrm>
            <a:off x="992880" y="41148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56"/>
          <p:cNvSpPr/>
          <p:nvPr/>
        </p:nvSpPr>
        <p:spPr>
          <a:xfrm>
            <a:off x="1756800" y="4114800"/>
            <a:ext cx="320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=63˚-вертикаль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57"/>
          <p:cNvSpPr/>
          <p:nvPr/>
        </p:nvSpPr>
        <p:spPr>
          <a:xfrm>
            <a:off x="762120" y="4724280"/>
            <a:ext cx="30456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58"/>
          <p:cNvSpPr/>
          <p:nvPr/>
        </p:nvSpPr>
        <p:spPr>
          <a:xfrm>
            <a:off x="992880" y="46483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59"/>
          <p:cNvSpPr/>
          <p:nvPr/>
        </p:nvSpPr>
        <p:spPr>
          <a:xfrm>
            <a:off x="1832760" y="464832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=117˚-вертик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60"/>
          <p:cNvSpPr/>
          <p:nvPr/>
        </p:nvSpPr>
        <p:spPr>
          <a:xfrm>
            <a:off x="688680" y="5257800"/>
            <a:ext cx="32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63˚;63˚117˚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6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4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9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4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77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9" dur="770" fill="hold"/>
                                        <p:tgtEl>
                                          <p:spTgt spid="6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1" dur="77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3" dur="77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2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90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98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0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7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8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5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2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ар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вар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6"/>
          <p:cNvSpPr/>
          <p:nvPr/>
        </p:nvSpPr>
        <p:spPr>
          <a:xfrm>
            <a:off x="914400" y="2438280"/>
            <a:ext cx="220968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7"/>
          <p:cNvSpPr/>
          <p:nvPr/>
        </p:nvSpPr>
        <p:spPr>
          <a:xfrm flipH="1">
            <a:off x="1371600" y="2438280"/>
            <a:ext cx="9144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8"/>
          <p:cNvSpPr/>
          <p:nvPr/>
        </p:nvSpPr>
        <p:spPr>
          <a:xfrm>
            <a:off x="671760" y="2503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9"/>
          <p:cNvSpPr/>
          <p:nvPr/>
        </p:nvSpPr>
        <p:spPr>
          <a:xfrm>
            <a:off x="2424240" y="2198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10"/>
          <p:cNvSpPr/>
          <p:nvPr/>
        </p:nvSpPr>
        <p:spPr>
          <a:xfrm>
            <a:off x="1676520" y="387504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11"/>
          <p:cNvSpPr/>
          <p:nvPr/>
        </p:nvSpPr>
        <p:spPr>
          <a:xfrm>
            <a:off x="5105520" y="3124080"/>
            <a:ext cx="2971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12"/>
          <p:cNvSpPr/>
          <p:nvPr/>
        </p:nvSpPr>
        <p:spPr>
          <a:xfrm flipH="1">
            <a:off x="5181480" y="2743200"/>
            <a:ext cx="243864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13"/>
          <p:cNvSpPr/>
          <p:nvPr/>
        </p:nvSpPr>
        <p:spPr>
          <a:xfrm>
            <a:off x="5091840" y="250344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5"/>
          <p:cNvSpPr/>
          <p:nvPr/>
        </p:nvSpPr>
        <p:spPr>
          <a:xfrm>
            <a:off x="5396040" y="3951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6"/>
          <p:cNvSpPr/>
          <p:nvPr/>
        </p:nvSpPr>
        <p:spPr>
          <a:xfrm>
            <a:off x="7225560" y="2960640"/>
            <a:ext cx="90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7"/>
          <p:cNvSpPr/>
          <p:nvPr/>
        </p:nvSpPr>
        <p:spPr>
          <a:xfrm>
            <a:off x="250920" y="6240600"/>
            <a:ext cx="8283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365040" y="6161040"/>
            <a:ext cx="245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20"/>
          <p:cNvSpPr/>
          <p:nvPr/>
        </p:nvSpPr>
        <p:spPr>
          <a:xfrm>
            <a:off x="289080" y="5791320"/>
            <a:ext cx="809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ересечении двух прямых известен один из углов. Найти остальные уг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6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1" dur="20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2" dur="20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8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7" dur="20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8" dur="2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8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5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8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3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2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2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2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2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8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1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6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20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20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Итог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4419360" y="272520"/>
            <a:ext cx="426708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опросы 17-18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стр. 21-22 </a:t>
            </a: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(доказательство записать в тетрадь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  №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54, №56, ;№6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метрия 7-9, под ред. Л.С.Атанася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30085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Определение смежных и вертикальных углов и их свойст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) Если углы смежные, то их сумма равна 180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˚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2) Если углы вертикальные, то он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20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20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2000" fill="hold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2000" fill="hold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2000" fill="hold"/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2000" fill="hold"/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9" dur="20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2" dur="2000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5" dur="2000"/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8" dur="2000"/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1" dur="2000"/>
                                        <p:tgtEl>
                                          <p:spTgt spid="7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Цель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ввести понятие смежных и вертикальных углов, рассмотреть их св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вторение: 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дерево зн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луч? Как он обозначае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ая фигура называется угл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акой угол называется развёрнут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ак сравнить два уг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акой луч называется биссектрисой уг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градусная мера уг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й угол называется остры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ым? Туп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500" autoRev="1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8" dur="500" autoRev="1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9" dur="500" autoRev="1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МЕЖНЫЕ УГ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ктическое 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остроить острый угол А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ровести луч ОС, являющийся продолжением луча О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0"/>
          <p:cNvSpPr/>
          <p:nvPr/>
        </p:nvSpPr>
        <p:spPr>
          <a:xfrm flipH="1">
            <a:off x="3581280" y="3352680"/>
            <a:ext cx="1981440" cy="106704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2"/>
          <p:cNvSpPr/>
          <p:nvPr/>
        </p:nvSpPr>
        <p:spPr>
          <a:xfrm>
            <a:off x="785052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7"/>
          <p:cNvSpPr/>
          <p:nvPr/>
        </p:nvSpPr>
        <p:spPr>
          <a:xfrm>
            <a:off x="5487840" y="3429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8"/>
          <p:cNvSpPr/>
          <p:nvPr/>
        </p:nvSpPr>
        <p:spPr>
          <a:xfrm>
            <a:off x="8215560" y="3389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28"/>
          <p:cNvSpPr/>
          <p:nvPr/>
        </p:nvSpPr>
        <p:spPr>
          <a:xfrm>
            <a:off x="5562720" y="1981080"/>
            <a:ext cx="2743200" cy="1371600"/>
          </a:xfrm>
          <a:prstGeom prst="pi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9"/>
          <p:cNvSpPr/>
          <p:nvPr/>
        </p:nvSpPr>
        <p:spPr>
          <a:xfrm>
            <a:off x="4405680" y="3922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30"/>
          <p:cNvSpPr/>
          <p:nvPr/>
        </p:nvSpPr>
        <p:spPr>
          <a:xfrm>
            <a:off x="4876920" y="480060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ОВ 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33"/>
          <p:cNvSpPr/>
          <p:nvPr/>
        </p:nvSpPr>
        <p:spPr>
          <a:xfrm>
            <a:off x="5867280" y="4876920"/>
            <a:ext cx="22860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34"/>
          <p:cNvSpPr/>
          <p:nvPr/>
        </p:nvSpPr>
        <p:spPr>
          <a:xfrm>
            <a:off x="4724280" y="4876920"/>
            <a:ext cx="22860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rc 36"/>
          <p:cNvSpPr/>
          <p:nvPr/>
        </p:nvSpPr>
        <p:spPr>
          <a:xfrm>
            <a:off x="6019920" y="3124080"/>
            <a:ext cx="7596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9"/>
          <p:cNvSpPr/>
          <p:nvPr/>
        </p:nvSpPr>
        <p:spPr>
          <a:xfrm>
            <a:off x="6158520" y="4761000"/>
            <a:ext cx="24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 – смежные уг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Ink 37"/>
          <p:cNvSpPr/>
          <p:nvPr/>
        </p:nvSpPr>
        <p:spPr>
          <a:xfrm>
            <a:off x="982800" y="6153120"/>
            <a:ext cx="9360" cy="1440"/>
          </a:xfrm>
          <a:custGeom>
            <a:avLst/>
            <a:gdLst/>
            <a:ahLst/>
            <a:rect l="l" t="t" r="r" b="b"/>
            <a:pathLst>
              <a:path w="25" h="1">
                <a:moveTo>
                  <a:pt x="2729" y="17090"/>
                </a:moveTo>
                <a:cubicBezTo>
                  <a:pt x="2737" y="17090"/>
                  <a:pt x="2745" y="17090"/>
                  <a:pt x="2753" y="1709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Ink 38"/>
          <p:cNvSpPr/>
          <p:nvPr/>
        </p:nvSpPr>
        <p:spPr>
          <a:xfrm>
            <a:off x="1009800" y="6116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803" y="16991"/>
                </a:moveTo>
                <a:lnTo>
                  <a:pt x="2803" y="16991"/>
                </a:ln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а угла, у которых одна сторона общая и две другие являются продолжением одна другой называются смежными угл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4"/>
          <p:cNvSpPr/>
          <p:nvPr/>
        </p:nvSpPr>
        <p:spPr>
          <a:xfrm>
            <a:off x="2438280" y="5943600"/>
            <a:ext cx="556272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"/>
          <p:cNvSpPr/>
          <p:nvPr/>
        </p:nvSpPr>
        <p:spPr>
          <a:xfrm flipV="1">
            <a:off x="4876920" y="4191120"/>
            <a:ext cx="1523880" cy="17524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2364120" y="6095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2"/>
          <p:cNvSpPr/>
          <p:nvPr/>
        </p:nvSpPr>
        <p:spPr>
          <a:xfrm>
            <a:off x="4648320" y="609588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4"/>
          <p:cNvSpPr/>
          <p:nvPr/>
        </p:nvSpPr>
        <p:spPr>
          <a:xfrm>
            <a:off x="5869080" y="3809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6"/>
          <p:cNvSpPr/>
          <p:nvPr/>
        </p:nvSpPr>
        <p:spPr>
          <a:xfrm>
            <a:off x="7621920" y="6019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rc 17"/>
          <p:cNvSpPr/>
          <p:nvPr/>
        </p:nvSpPr>
        <p:spPr>
          <a:xfrm>
            <a:off x="5105520" y="5715000"/>
            <a:ext cx="22860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rc 18"/>
          <p:cNvSpPr/>
          <p:nvPr/>
        </p:nvSpPr>
        <p:spPr>
          <a:xfrm>
            <a:off x="4952880" y="5791320"/>
            <a:ext cx="228600" cy="152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rc 19"/>
          <p:cNvSpPr/>
          <p:nvPr/>
        </p:nvSpPr>
        <p:spPr>
          <a:xfrm flipH="1">
            <a:off x="4657680" y="5791320"/>
            <a:ext cx="29376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8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войство смежных  уг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акой угол А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Чему равна градусная мера уг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какие углы делит луч ОВ этот уго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Чему равна сумма этих угл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АОС - развёрну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АОВ и    В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18"/>
          <p:cNvSpPr/>
          <p:nvPr/>
        </p:nvSpPr>
        <p:spPr>
          <a:xfrm>
            <a:off x="5410080" y="1676520"/>
            <a:ext cx="30492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19"/>
          <p:cNvSpPr/>
          <p:nvPr/>
        </p:nvSpPr>
        <p:spPr>
          <a:xfrm>
            <a:off x="5410080" y="3657600"/>
            <a:ext cx="30492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20"/>
          <p:cNvSpPr/>
          <p:nvPr/>
        </p:nvSpPr>
        <p:spPr>
          <a:xfrm>
            <a:off x="6858000" y="3657600"/>
            <a:ext cx="30492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0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5" dur="2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3" dur="2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8" dur="20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3" dur="2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8" dur="20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6" dur="20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4" dur="20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9" dur="20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1337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ОВ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3"/>
          <p:cNvSpPr/>
          <p:nvPr/>
        </p:nvSpPr>
        <p:spPr>
          <a:xfrm>
            <a:off x="534240" y="4038480"/>
            <a:ext cx="801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умма смежных углов равна 180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4"/>
          <p:cNvSpPr/>
          <p:nvPr/>
        </p:nvSpPr>
        <p:spPr>
          <a:xfrm>
            <a:off x="2670120" y="1600200"/>
            <a:ext cx="196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 =18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16"/>
          <p:cNvSpPr/>
          <p:nvPr/>
        </p:nvSpPr>
        <p:spPr>
          <a:xfrm>
            <a:off x="914400" y="1676520"/>
            <a:ext cx="30492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reeform 17"/>
          <p:cNvSpPr/>
          <p:nvPr/>
        </p:nvSpPr>
        <p:spPr>
          <a:xfrm>
            <a:off x="2362320" y="1676520"/>
            <a:ext cx="30456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пражнения для закреп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ертите три угла: острый, прямой, тупой. Для каждого из этих углов начертите смежный уг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10"/>
          <p:cNvSpPr/>
          <p:nvPr/>
        </p:nvSpPr>
        <p:spPr>
          <a:xfrm>
            <a:off x="1676520" y="3809880"/>
            <a:ext cx="1828800" cy="1219320"/>
          </a:xfrm>
          <a:prstGeom prst="pie">
            <a:avLst/>
          </a:pr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11"/>
          <p:cNvSpPr/>
          <p:nvPr/>
        </p:nvSpPr>
        <p:spPr>
          <a:xfrm>
            <a:off x="3886200" y="3733920"/>
            <a:ext cx="2057400" cy="129528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12"/>
          <p:cNvSpPr/>
          <p:nvPr/>
        </p:nvSpPr>
        <p:spPr>
          <a:xfrm>
            <a:off x="7086600" y="3505320"/>
            <a:ext cx="1828800" cy="15238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rc 13"/>
          <p:cNvSpPr/>
          <p:nvPr/>
        </p:nvSpPr>
        <p:spPr>
          <a:xfrm>
            <a:off x="2057400" y="4724280"/>
            <a:ext cx="74520" cy="381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rc 15"/>
          <p:cNvSpPr/>
          <p:nvPr/>
        </p:nvSpPr>
        <p:spPr>
          <a:xfrm flipH="1">
            <a:off x="4952160" y="4800600"/>
            <a:ext cx="30492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17"/>
          <p:cNvSpPr/>
          <p:nvPr/>
        </p:nvSpPr>
        <p:spPr>
          <a:xfrm>
            <a:off x="7086600" y="4800600"/>
            <a:ext cx="15228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8"/>
          <p:cNvSpPr/>
          <p:nvPr/>
        </p:nvSpPr>
        <p:spPr>
          <a:xfrm flipH="1">
            <a:off x="456840" y="502920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19"/>
          <p:cNvSpPr/>
          <p:nvPr/>
        </p:nvSpPr>
        <p:spPr>
          <a:xfrm>
            <a:off x="5181480" y="5029200"/>
            <a:ext cx="12193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20"/>
          <p:cNvSpPr/>
          <p:nvPr/>
        </p:nvSpPr>
        <p:spPr>
          <a:xfrm>
            <a:off x="7086600" y="5105520"/>
            <a:ext cx="0" cy="12189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8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3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3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3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Один из смежных углов прямой. Каким (острым, прямым, тупым) является другой уго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10"/>
          <p:cNvSpPr/>
          <p:nvPr/>
        </p:nvSpPr>
        <p:spPr>
          <a:xfrm flipV="1">
            <a:off x="762120" y="3428640"/>
            <a:ext cx="3429000" cy="685800"/>
          </a:xfrm>
          <a:prstGeom prst="line">
            <a:avLst/>
          </a:prstGeom>
          <a:ln w="255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1"/>
          <p:cNvSpPr/>
          <p:nvPr/>
        </p:nvSpPr>
        <p:spPr>
          <a:xfrm flipH="1">
            <a:off x="2057040" y="1981080"/>
            <a:ext cx="304920" cy="1905120"/>
          </a:xfrm>
          <a:prstGeom prst="line">
            <a:avLst/>
          </a:prstGeom>
          <a:ln w="255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2"/>
          <p:cNvSpPr/>
          <p:nvPr/>
        </p:nvSpPr>
        <p:spPr>
          <a:xfrm>
            <a:off x="4724280" y="4343400"/>
            <a:ext cx="3124440" cy="167652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3"/>
          <p:cNvSpPr/>
          <p:nvPr/>
        </p:nvSpPr>
        <p:spPr>
          <a:xfrm flipH="1">
            <a:off x="6248520" y="3124080"/>
            <a:ext cx="1218960" cy="205740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4"/>
          <p:cNvSpPr/>
          <p:nvPr/>
        </p:nvSpPr>
        <p:spPr>
          <a:xfrm flipV="1">
            <a:off x="1752480" y="4724280"/>
            <a:ext cx="2362320" cy="1828800"/>
          </a:xfrm>
          <a:prstGeom prst="line">
            <a:avLst/>
          </a:prstGeom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5"/>
          <p:cNvSpPr/>
          <p:nvPr/>
        </p:nvSpPr>
        <p:spPr>
          <a:xfrm>
            <a:off x="1143000" y="5638680"/>
            <a:ext cx="1828800" cy="0"/>
          </a:xfrm>
          <a:prstGeom prst="line">
            <a:avLst/>
          </a:prstGeom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0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5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0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5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0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4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09-12-20T07:34:31Z</dcterms:modified>
  <cp:revision>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