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Love%20Is%20Blu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0CD-7233-4A3A-9AB5-8F7F31CF0B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99BD-5F59-4833-85F6-2FE5944DD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0A10-5A40-42DA-B42B-C2CF04CCF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087-F42D-49B9-82C6-61F48289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D99-8F25-43EC-AAE7-DE182822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C1367-B1AA-4C5E-9DE8-4974AD71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F925D-8DE3-439F-A683-0974138E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2958F-6B99-4022-846F-8ECBAE8C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82661-A0C3-4171-A24F-B214EE8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B48BB-9B66-4F5A-9637-A0E5172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6B10D-099A-4D20-8F20-4CFE38A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9DFE0-FF82-47B4-B4C4-861A9519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3ED13-6473-49A6-86C0-2BE20408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37413-8E99-4EBB-AC43-15E7F698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B35D9-5300-418E-836D-8E4BCAA8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7F7-05CC-42C7-9F22-CD0B0A27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DB01F-5E06-4A05-85A8-304749ED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AC416-EFA2-4E73-9001-E0E10C98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3105C-E4BD-490B-B99A-282C8231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339B6-C60C-4FCF-B85E-C4A66207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40DAC-153C-49E1-A51D-3470BA0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0B664-613E-4D88-BE85-037C898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14845-82B9-4AEB-9C35-675BD5F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5F74E-6C1D-482D-9F44-80BB0F2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1EA78-ADFE-4A15-BE52-2A0ABAB8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CB648-F937-458E-B7C4-26559F46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8F4-C28A-47EC-9785-61B9E326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583B8-5CD9-4841-8A3C-E728893C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52284-BAC2-42C6-B5BA-1ACA378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65ADF-80C3-4FC8-80BC-A79A7AE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40F36-36CE-4C92-ADD6-691E6304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DD698-AE20-49D7-A4F6-1D45148F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91DB3-067D-4045-B0E4-8C1503A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DC2E2-438C-473E-BB67-0B6FDB05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B714C-77E6-4624-B0C3-52E947E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42FA1-2051-46B1-A8BC-7BCDB11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E5649-D76E-4973-A26E-13EAC93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9F02-28A7-41E7-AD5B-8DC44171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40E21-3612-4181-B7EE-7EDF6795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3B8DE-CB8A-4584-83F5-A653FF22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13994-7AC2-42F2-812D-8D5EE91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206FE-213E-4E1B-A38E-0B609926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BCF9D-EA34-44B2-A359-62DDB0DA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70570-40EA-4357-A2D6-1A070CF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C13D3-5D24-4BC4-A6AD-21BDF64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5296D-E694-4CF2-B019-7B92BC64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2D3A3-C7A9-4BA0-8644-C0D23C33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6E1D5-3F90-43AE-A910-4390CC5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B8F-371A-4E13-94EF-B7A20FCA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2707C-72CB-4078-9E53-7594BB22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ED7F6-F988-4FFB-B528-65AD0325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BFB1B-E21F-4427-BE66-4D5386D9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C2A3F-F04E-40EB-8EA5-0F8BE0B1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98829-3D66-4B26-A8E3-9EA46852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C37-D66D-44AF-BDA4-1CAA662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594F-8C54-4DD7-BBF4-4F1614FD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870B-BA14-4281-AE42-C487C89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D88-DFFB-4698-BBC5-29873162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34D9-FFF9-45F5-80B7-EE088E8E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1F1-F7CB-4051-A316-016382F0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9D92-1DB7-44B9-89F0-77397F8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B878-604A-409B-812E-374E95D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9B24-D3B2-497A-A4E6-805F2314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E457-4FA5-4CC1-9952-A6394213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BE44-4BC7-462B-9A41-0BCDC1B2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39BF-E29B-40C9-92A1-8C05795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837C-867B-4D25-A24C-69C951E6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D8726-C972-430D-A2D2-51974DB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183A-0EC1-4804-8C79-F5C99AC2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BCE9-E6C9-449C-90B8-DF13D692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8AB-A14E-4A4D-8434-D64BE356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41A9-2937-4F77-AD51-41B815AE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C224-45D6-4E3C-9E4B-6FF39A9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4AE8-7155-4672-B009-F018449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88AC-ECF4-44B9-A941-EC06FCD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BF51-8AF2-4CCF-A8A0-B1F4FFD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5ED6-9D34-45CB-A760-004EEF1D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CFCC-C3B0-496F-AD03-3C472716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8904-DC9D-4747-864E-E1761602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9B68-1A98-431F-AEBE-04EC0F3A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03BA-38B3-4004-8E1E-F16AC370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A4D-1B66-48DD-9D49-41AEB6B8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B525-4A9E-410C-A263-8E842E8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6119E-ED0F-4AD9-A373-64C675CB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2EC9-5CF0-4E08-86BD-F573B19D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9345-A9CB-47F8-AD9A-5A2BB768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14B2-C6DE-4A95-9DA9-8C258A1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451C-48F3-47D6-A7DC-EE00836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8555-E10D-4DFA-B5BC-3CDC59DE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EA3E-206B-404C-A0A1-572D6785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58CC-D5B1-48E1-BA96-B76A4731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049E-2DD1-47DC-9B49-33979B03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83F-900C-496F-B2F0-B53597BD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A46B7-B2F0-4FC7-88B6-8669E27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8024-454B-4F8C-9A6E-6DD7EF1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1F27-8928-4833-9ADD-9240BE1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3B33-7F2E-4159-918F-7A39F87A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EE922-42C0-4BC3-92A7-A8119AB9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DE400-A7C3-4D3A-9728-F5B18F4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4C25-4AC1-4B5C-BDF1-44E2073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5261-D7B0-4E3A-92FB-8F54675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A2B7-2C92-42B2-889C-0EA8E52E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5992-8F7A-44C8-AEE1-D1A40A8B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134-F25C-4CA5-91AF-6F8BA9B2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A8ED1-F891-44AF-97C1-D5FD6AD5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2B53E-BED8-44CA-AB46-D4844075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CA45-7C0D-44D6-9F12-FF9AE461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BFD1-995C-45DE-BB40-0C94D76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01D4F-9F0B-4791-B9DE-5C0B1DB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630D-84FA-4052-B570-2BC81BA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09349-FBF6-46B7-A22C-1F7AF717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2DC8-23A0-431E-B2D8-5C6D8E7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B2141-ED4B-4E7E-8AC5-D95EDE21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7707-EB21-40E5-B246-2E0755A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895-E1E9-42C8-AC11-275B62E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33EAA-94C8-4309-B744-1BBD06F1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8DA6-7798-4853-861D-C7A1E679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AF49F-F704-4347-A996-634513C8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DAFBA-7DB6-43B0-AB3D-9D88E249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2399D-E794-4363-AE10-F481A9A2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79383-049A-4F98-95EE-8EB20707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888C-8120-48AF-B6DA-99487CC2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D16F-8029-4051-B71B-CF93492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E246C-BCF4-4796-BCE8-46F5C539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11F3-2834-4445-B706-00DBBC6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DE4-ECDF-40AA-A548-EB0C63F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4FFD1-6083-4F03-AA35-D2CDEF9A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BF479-2036-4EB8-93C8-E315BA4B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1233-2F2A-46ED-8868-993777A6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33ED-4248-4843-A234-F3BDA804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C197-71D1-442E-9011-8282AEA0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6F636-8701-47B8-8970-6A7BB002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253D9-C04E-4A90-8D63-B83029A9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5B4F-D125-4B37-8872-D13F7860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BE1C-659E-417D-B8EB-5E40DEAB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25C0D-FFE0-496A-8386-6896ECD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F75-59E2-43AE-AC14-B99708F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0BF0F-F898-43EB-A0CA-65085045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427B2-618A-4466-B950-65F5BF2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26990-49DF-4A30-BFA9-7503316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49BF0-79CD-4981-8C16-F6A1C65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6C43-D119-4699-A41C-1A2827F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0B388-CD10-4056-9C0E-E61BA7AD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199FB-FD89-4FE0-BAA8-CEE3471B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D50FC-D8EA-42D8-8064-56EA9C0C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F9BA-CE28-49D6-ADC7-A793FAC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C8FEC-CB7D-46D6-AC83-22777A9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8B1-C3CE-4EF3-A9A8-88D454AE3E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56CB-56FB-44F7-8F64-B6D00EBD3D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23A-7C6E-4663-A43C-8861DEC53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1B6F-1650-40CB-9179-24E20479B1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6FCB-D76E-444D-9A64-30DDD8CB5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9F53-C20C-4E9B-B543-7B8D982C23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4BC5-B66E-483A-AD9B-517B4CE64E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9F3B-76E1-4036-800B-E51B444EA8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F2A8-EBC8-4A69-AF09-83C1EDB2CB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BDB1-BD08-4146-B094-1C7EF9D06D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D55-357F-484C-93B4-BD513FE91B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EDDC-0840-4930-997F-69FD51183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Is%20Blu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ove%20Is%20Blue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жные и 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-76320" y="6172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ернова Галина Пет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" name="Love%20Is%20Blu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ерно ли утверждение: если смежные углы равны, то они пря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ужд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4"/>
          <p:cNvCxnSpPr>
            <a:stCxn id="562" idx="1"/>
            <a:endCxn id="562" idx="1"/>
          </p:cNvCxnSpPr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AutoShape 6"/>
          <p:cNvCxnSpPr>
            <a:stCxn id="562" idx="1"/>
            <a:endCxn id="562" idx="1"/>
          </p:cNvCxnSpPr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AutoShape 7"/>
          <p:cNvCxnSpPr/>
          <p:nvPr/>
        </p:nvCxnSpPr>
        <p:spPr>
          <a:xfrm flipH="1" flipV="1">
            <a:off x="990360" y="2894760"/>
            <a:ext cx="4115520" cy="2264760"/>
          </a:xfrm>
          <a:prstGeom prst="straightConnector1">
            <a:avLst/>
          </a:prstGeom>
          <a:ln w="25560">
            <a:solidFill>
              <a:srgbClr val="009999"/>
            </a:solidFill>
            <a:miter/>
          </a:ln>
        </p:spPr>
      </p:cxnSp>
      <p:sp>
        <p:nvSpPr>
          <p:cNvPr id="566" name="Line 8"/>
          <p:cNvSpPr/>
          <p:nvPr/>
        </p:nvSpPr>
        <p:spPr>
          <a:xfrm flipV="1">
            <a:off x="2743200" y="2895480"/>
            <a:ext cx="2438280" cy="9907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7315200" y="2514600"/>
            <a:ext cx="76320" cy="3733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V="1">
            <a:off x="5867280" y="4419360"/>
            <a:ext cx="304812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йдите угол, смежный с углом,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  АСО=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   ДСВ=1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685800" y="4038480"/>
            <a:ext cx="3124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6"/>
          <p:cNvSpPr/>
          <p:nvPr/>
        </p:nvSpPr>
        <p:spPr>
          <a:xfrm flipH="1">
            <a:off x="1981080" y="3124080"/>
            <a:ext cx="1447920" cy="9144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486400" y="4038480"/>
            <a:ext cx="29718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0"/>
          <p:cNvSpPr/>
          <p:nvPr/>
        </p:nvSpPr>
        <p:spPr>
          <a:xfrm flipH="1" flipV="1">
            <a:off x="5715000" y="2590560"/>
            <a:ext cx="1371600" cy="14475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1"/>
          <p:cNvSpPr/>
          <p:nvPr/>
        </p:nvSpPr>
        <p:spPr>
          <a:xfrm>
            <a:off x="533520" y="4191120"/>
            <a:ext cx="3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43080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289656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5945400" y="22096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6920640" y="400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8291880" y="400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5411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33"/>
          <p:cNvSpPr/>
          <p:nvPr/>
        </p:nvSpPr>
        <p:spPr>
          <a:xfrm>
            <a:off x="2362320" y="380988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34"/>
          <p:cNvSpPr/>
          <p:nvPr/>
        </p:nvSpPr>
        <p:spPr>
          <a:xfrm>
            <a:off x="6858000" y="3733920"/>
            <a:ext cx="4572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35"/>
          <p:cNvSpPr/>
          <p:nvPr/>
        </p:nvSpPr>
        <p:spPr>
          <a:xfrm>
            <a:off x="1219320" y="16765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6"/>
          <p:cNvSpPr/>
          <p:nvPr/>
        </p:nvSpPr>
        <p:spPr>
          <a:xfrm>
            <a:off x="541008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острый уг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елим его дугой и    обозначим цифрой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продолжение сторон угла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м дугой угол, стороны которого являются продолжением сторон угла 1 и обозначим его цифрой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22"/>
          <p:cNvSpPr/>
          <p:nvPr/>
        </p:nvSpPr>
        <p:spPr>
          <a:xfrm rot="17292600">
            <a:off x="5410080" y="1904760"/>
            <a:ext cx="1752480" cy="83844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25"/>
          <p:cNvSpPr/>
          <p:nvPr/>
        </p:nvSpPr>
        <p:spPr>
          <a:xfrm>
            <a:off x="6248520" y="2743200"/>
            <a:ext cx="22356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6249960" y="228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4"/>
          <p:cNvSpPr/>
          <p:nvPr/>
        </p:nvSpPr>
        <p:spPr>
          <a:xfrm rot="6636600">
            <a:off x="5333760" y="3733920"/>
            <a:ext cx="1752480" cy="83808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37"/>
          <p:cNvSpPr/>
          <p:nvPr/>
        </p:nvSpPr>
        <p:spPr>
          <a:xfrm flipH="1" flipV="1">
            <a:off x="6095160" y="3582360"/>
            <a:ext cx="228600" cy="7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6021360" y="3733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Love%20Is%20Blue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гла называются вертикальными, если стороны одного угла являются  продолжением сторон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2057400" y="3581280"/>
            <a:ext cx="4952880" cy="1752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 flipH="1">
            <a:off x="2057040" y="3657600"/>
            <a:ext cx="4267080" cy="1523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88144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54882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410076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4176720" y="47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43"/>
          <p:cNvSpPr/>
          <p:nvPr/>
        </p:nvSpPr>
        <p:spPr>
          <a:xfrm rot="1935000">
            <a:off x="4723920" y="4265280"/>
            <a:ext cx="2257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45"/>
          <p:cNvSpPr/>
          <p:nvPr/>
        </p:nvSpPr>
        <p:spPr>
          <a:xfrm rot="13568400">
            <a:off x="3589920" y="4194360"/>
            <a:ext cx="293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rc 46"/>
          <p:cNvSpPr/>
          <p:nvPr/>
        </p:nvSpPr>
        <p:spPr>
          <a:xfrm rot="18489000">
            <a:off x="4011120" y="4016160"/>
            <a:ext cx="532080" cy="591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rc 47"/>
          <p:cNvSpPr/>
          <p:nvPr/>
        </p:nvSpPr>
        <p:spPr>
          <a:xfrm rot="19603200">
            <a:off x="3924360" y="4169880"/>
            <a:ext cx="671400" cy="56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rc 48"/>
          <p:cNvSpPr/>
          <p:nvPr/>
        </p:nvSpPr>
        <p:spPr>
          <a:xfrm rot="8103600">
            <a:off x="3961800" y="3962520"/>
            <a:ext cx="703080" cy="60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rc 50"/>
          <p:cNvSpPr/>
          <p:nvPr/>
        </p:nvSpPr>
        <p:spPr>
          <a:xfrm rot="8151600">
            <a:off x="3841920" y="3871800"/>
            <a:ext cx="852480" cy="85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1"/>
          <p:cNvSpPr/>
          <p:nvPr/>
        </p:nvSpPr>
        <p:spPr>
          <a:xfrm>
            <a:off x="976320" y="54752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2"/>
          <p:cNvSpPr/>
          <p:nvPr/>
        </p:nvSpPr>
        <p:spPr>
          <a:xfrm>
            <a:off x="2046240" y="547524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вертикальные уг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3"/>
          <p:cNvSpPr/>
          <p:nvPr/>
        </p:nvSpPr>
        <p:spPr>
          <a:xfrm>
            <a:off x="685800" y="5562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4"/>
          <p:cNvSpPr/>
          <p:nvPr/>
        </p:nvSpPr>
        <p:spPr>
          <a:xfrm>
            <a:off x="1752480" y="5562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о вертикальных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1371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тикальные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 flipH="1">
            <a:off x="5562720" y="3581280"/>
            <a:ext cx="274320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486400" y="4114800"/>
            <a:ext cx="3200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6"/>
          <p:cNvSpPr/>
          <p:nvPr/>
        </p:nvSpPr>
        <p:spPr>
          <a:xfrm>
            <a:off x="617400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7"/>
          <p:cNvSpPr/>
          <p:nvPr/>
        </p:nvSpPr>
        <p:spPr>
          <a:xfrm>
            <a:off x="7392960" y="4267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8"/>
          <p:cNvSpPr/>
          <p:nvPr/>
        </p:nvSpPr>
        <p:spPr>
          <a:xfrm>
            <a:off x="6707160" y="403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9"/>
          <p:cNvSpPr/>
          <p:nvPr/>
        </p:nvSpPr>
        <p:spPr>
          <a:xfrm>
            <a:off x="68598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0"/>
          <p:cNvSpPr/>
          <p:nvPr/>
        </p:nvSpPr>
        <p:spPr>
          <a:xfrm>
            <a:off x="182880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1"/>
          <p:cNvSpPr/>
          <p:nvPr/>
        </p:nvSpPr>
        <p:spPr>
          <a:xfrm>
            <a:off x="182880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3"/>
          <p:cNvSpPr/>
          <p:nvPr/>
        </p:nvSpPr>
        <p:spPr>
          <a:xfrm>
            <a:off x="2590920" y="21337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4"/>
          <p:cNvSpPr/>
          <p:nvPr/>
        </p:nvSpPr>
        <p:spPr>
          <a:xfrm>
            <a:off x="457200" y="3048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5"/>
          <p:cNvSpPr/>
          <p:nvPr/>
        </p:nvSpPr>
        <p:spPr>
          <a:xfrm>
            <a:off x="1066680" y="3048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6"/>
          <p:cNvSpPr/>
          <p:nvPr/>
        </p:nvSpPr>
        <p:spPr>
          <a:xfrm>
            <a:off x="457200" y="35053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7"/>
          <p:cNvSpPr/>
          <p:nvPr/>
        </p:nvSpPr>
        <p:spPr>
          <a:xfrm>
            <a:off x="457200" y="3962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8"/>
          <p:cNvSpPr/>
          <p:nvPr/>
        </p:nvSpPr>
        <p:spPr>
          <a:xfrm>
            <a:off x="1143000" y="3962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9"/>
          <p:cNvSpPr/>
          <p:nvPr/>
        </p:nvSpPr>
        <p:spPr>
          <a:xfrm>
            <a:off x="457200" y="44956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0"/>
          <p:cNvSpPr/>
          <p:nvPr/>
        </p:nvSpPr>
        <p:spPr>
          <a:xfrm>
            <a:off x="457200" y="49528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1"/>
          <p:cNvSpPr/>
          <p:nvPr/>
        </p:nvSpPr>
        <p:spPr>
          <a:xfrm>
            <a:off x="1219320" y="49528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2"/>
          <p:cNvSpPr/>
          <p:nvPr/>
        </p:nvSpPr>
        <p:spPr>
          <a:xfrm>
            <a:off x="380880" y="54100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3"/>
          <p:cNvSpPr/>
          <p:nvPr/>
        </p:nvSpPr>
        <p:spPr>
          <a:xfrm>
            <a:off x="1219320" y="54100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5"/>
          <p:cNvSpPr/>
          <p:nvPr/>
        </p:nvSpPr>
        <p:spPr>
          <a:xfrm>
            <a:off x="2059920" y="160020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3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459720" y="20574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9"/>
          <p:cNvSpPr/>
          <p:nvPr/>
        </p:nvSpPr>
        <p:spPr>
          <a:xfrm>
            <a:off x="459000" y="15238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0"/>
          <p:cNvSpPr/>
          <p:nvPr/>
        </p:nvSpPr>
        <p:spPr>
          <a:xfrm>
            <a:off x="2135160" y="2057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1"/>
          <p:cNvSpPr/>
          <p:nvPr/>
        </p:nvSpPr>
        <p:spPr>
          <a:xfrm>
            <a:off x="28972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2"/>
          <p:cNvSpPr/>
          <p:nvPr/>
        </p:nvSpPr>
        <p:spPr>
          <a:xfrm>
            <a:off x="459720" y="25146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4"/>
          <p:cNvSpPr/>
          <p:nvPr/>
        </p:nvSpPr>
        <p:spPr>
          <a:xfrm>
            <a:off x="687240" y="2971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5"/>
          <p:cNvSpPr/>
          <p:nvPr/>
        </p:nvSpPr>
        <p:spPr>
          <a:xfrm>
            <a:off x="1298520" y="29718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см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6"/>
          <p:cNvSpPr/>
          <p:nvPr/>
        </p:nvSpPr>
        <p:spPr>
          <a:xfrm>
            <a:off x="750240" y="341784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180˚-35˚=14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7"/>
          <p:cNvSpPr/>
          <p:nvPr/>
        </p:nvSpPr>
        <p:spPr>
          <a:xfrm>
            <a:off x="671400" y="3875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8"/>
          <p:cNvSpPr/>
          <p:nvPr/>
        </p:nvSpPr>
        <p:spPr>
          <a:xfrm>
            <a:off x="1374840" y="38862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см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9"/>
          <p:cNvSpPr/>
          <p:nvPr/>
        </p:nvSpPr>
        <p:spPr>
          <a:xfrm>
            <a:off x="674280" y="440856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180˚-35˚=14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0"/>
          <p:cNvSpPr/>
          <p:nvPr/>
        </p:nvSpPr>
        <p:spPr>
          <a:xfrm>
            <a:off x="672120" y="4865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1"/>
          <p:cNvSpPr/>
          <p:nvPr/>
        </p:nvSpPr>
        <p:spPr>
          <a:xfrm>
            <a:off x="1450080" y="48006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145˚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2"/>
          <p:cNvSpPr/>
          <p:nvPr/>
        </p:nvSpPr>
        <p:spPr>
          <a:xfrm>
            <a:off x="597600" y="5322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3"/>
          <p:cNvSpPr/>
          <p:nvPr/>
        </p:nvSpPr>
        <p:spPr>
          <a:xfrm>
            <a:off x="1436760" y="53229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вертик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7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9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77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1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пересечении двух прямых а и в сумма каких-то углов равна 6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. Какие это у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вертикальные углы, т.к. сумма смежных углов равна 180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пересечении двух прямых а и в разность каких-то углов равна 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. Какие это у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смежные, т.к. разность вертикальных углов равна 0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3" dur="1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4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"/>
          <p:cNvSpPr/>
          <p:nvPr/>
        </p:nvSpPr>
        <p:spPr>
          <a:xfrm flipH="1">
            <a:off x="5105520" y="2133720"/>
            <a:ext cx="30477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4876920" y="2590920"/>
            <a:ext cx="33526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564048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08840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32628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6478560" y="312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4"/>
          <p:cNvSpPr/>
          <p:nvPr/>
        </p:nvSpPr>
        <p:spPr>
          <a:xfrm>
            <a:off x="1676520" y="160020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7"/>
          <p:cNvSpPr/>
          <p:nvPr/>
        </p:nvSpPr>
        <p:spPr>
          <a:xfrm>
            <a:off x="611640" y="15238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8"/>
          <p:cNvSpPr/>
          <p:nvPr/>
        </p:nvSpPr>
        <p:spPr>
          <a:xfrm>
            <a:off x="1983960" y="152388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17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12000" y="20574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40"/>
          <p:cNvSpPr/>
          <p:nvPr/>
        </p:nvSpPr>
        <p:spPr>
          <a:xfrm>
            <a:off x="1905120" y="21337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41"/>
          <p:cNvSpPr/>
          <p:nvPr/>
        </p:nvSpPr>
        <p:spPr>
          <a:xfrm>
            <a:off x="1523880" y="47242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211932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43"/>
          <p:cNvSpPr/>
          <p:nvPr/>
        </p:nvSpPr>
        <p:spPr>
          <a:xfrm>
            <a:off x="251460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4"/>
          <p:cNvSpPr/>
          <p:nvPr/>
        </p:nvSpPr>
        <p:spPr>
          <a:xfrm>
            <a:off x="272880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45"/>
          <p:cNvSpPr/>
          <p:nvPr/>
        </p:nvSpPr>
        <p:spPr>
          <a:xfrm>
            <a:off x="312408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333828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7"/>
          <p:cNvSpPr/>
          <p:nvPr/>
        </p:nvSpPr>
        <p:spPr>
          <a:xfrm>
            <a:off x="612360" y="2590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8"/>
          <p:cNvSpPr/>
          <p:nvPr/>
        </p:nvSpPr>
        <p:spPr>
          <a:xfrm>
            <a:off x="685800" y="31240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9"/>
          <p:cNvSpPr/>
          <p:nvPr/>
        </p:nvSpPr>
        <p:spPr>
          <a:xfrm>
            <a:off x="840960" y="3048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180˚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0"/>
          <p:cNvSpPr/>
          <p:nvPr/>
        </p:nvSpPr>
        <p:spPr>
          <a:xfrm>
            <a:off x="2133720" y="31240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1"/>
          <p:cNvSpPr/>
          <p:nvPr/>
        </p:nvSpPr>
        <p:spPr>
          <a:xfrm>
            <a:off x="2365920" y="304812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80˚-117˚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2"/>
          <p:cNvSpPr/>
          <p:nvPr/>
        </p:nvSpPr>
        <p:spPr>
          <a:xfrm>
            <a:off x="687960" y="3581280"/>
            <a:ext cx="40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3˚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во смеж.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53"/>
          <p:cNvSpPr/>
          <p:nvPr/>
        </p:nvSpPr>
        <p:spPr>
          <a:xfrm>
            <a:off x="762120" y="41911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54"/>
          <p:cNvSpPr/>
          <p:nvPr/>
        </p:nvSpPr>
        <p:spPr>
          <a:xfrm>
            <a:off x="1523880" y="4191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5"/>
          <p:cNvSpPr/>
          <p:nvPr/>
        </p:nvSpPr>
        <p:spPr>
          <a:xfrm>
            <a:off x="992880" y="411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6"/>
          <p:cNvSpPr/>
          <p:nvPr/>
        </p:nvSpPr>
        <p:spPr>
          <a:xfrm>
            <a:off x="1756800" y="411480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63˚-вертикаль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7"/>
          <p:cNvSpPr/>
          <p:nvPr/>
        </p:nvSpPr>
        <p:spPr>
          <a:xfrm>
            <a:off x="762120" y="47242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8"/>
          <p:cNvSpPr/>
          <p:nvPr/>
        </p:nvSpPr>
        <p:spPr>
          <a:xfrm>
            <a:off x="992880" y="4648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9"/>
          <p:cNvSpPr/>
          <p:nvPr/>
        </p:nvSpPr>
        <p:spPr>
          <a:xfrm>
            <a:off x="1832760" y="46483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17˚-верти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0"/>
          <p:cNvSpPr/>
          <p:nvPr/>
        </p:nvSpPr>
        <p:spPr>
          <a:xfrm>
            <a:off x="688680" y="525780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63˚;63˚117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4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2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77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7" dur="770" fill="hold"/>
                                        <p:tgtEl>
                                          <p:spTgt spid="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9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6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914400" y="243828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7"/>
          <p:cNvSpPr/>
          <p:nvPr/>
        </p:nvSpPr>
        <p:spPr>
          <a:xfrm flipH="1">
            <a:off x="1371600" y="2438280"/>
            <a:ext cx="9144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671760" y="2503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2424240" y="2198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1676520" y="38750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1"/>
          <p:cNvSpPr/>
          <p:nvPr/>
        </p:nvSpPr>
        <p:spPr>
          <a:xfrm>
            <a:off x="5105520" y="312408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2"/>
          <p:cNvSpPr/>
          <p:nvPr/>
        </p:nvSpPr>
        <p:spPr>
          <a:xfrm flipH="1">
            <a:off x="5181480" y="2743200"/>
            <a:ext cx="24386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091840" y="25034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5396040" y="395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7225560" y="296064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250920" y="6240600"/>
            <a:ext cx="828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365040" y="6161040"/>
            <a:ext cx="24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289080" y="579132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ересечении двух прямых известен один из углов. Найти ост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8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8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419360" y="272520"/>
            <a:ext cx="4267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просы 17-1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. 21-22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(доказательство записать в тетрадь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№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54, №56, ;№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7-9, под ред. Л.С.Атанас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пределение смежных и вертикальных углов и их свой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) Если углы смежные, то их сумма равна 180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) Если углы вертикальные, то он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2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2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2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2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2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2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7" dur="2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0" dur="20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3" dur="20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6" dur="20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9" dur="20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вести понятие смежных и вертикальных углов, рассмотреть их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ение: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дерево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луч? Как он обознач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фигура называется уг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й угол называется развёрнут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сравнить два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й луч называется биссектрисой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градусная мера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угол называется ост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м? Туп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Ж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остроить острый угол А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овести луч ОС, являющийся продолжением луча О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"/>
          <p:cNvSpPr/>
          <p:nvPr/>
        </p:nvSpPr>
        <p:spPr>
          <a:xfrm flipH="1">
            <a:off x="3581280" y="3352680"/>
            <a:ext cx="1981440" cy="106704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7850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48784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821556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8"/>
          <p:cNvSpPr/>
          <p:nvPr/>
        </p:nvSpPr>
        <p:spPr>
          <a:xfrm>
            <a:off x="5562720" y="1981080"/>
            <a:ext cx="2743200" cy="13716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9"/>
          <p:cNvSpPr/>
          <p:nvPr/>
        </p:nvSpPr>
        <p:spPr>
          <a:xfrm>
            <a:off x="4405680" y="392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0"/>
          <p:cNvSpPr/>
          <p:nvPr/>
        </p:nvSpPr>
        <p:spPr>
          <a:xfrm>
            <a:off x="4876920" y="4800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В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33"/>
          <p:cNvSpPr/>
          <p:nvPr/>
        </p:nvSpPr>
        <p:spPr>
          <a:xfrm>
            <a:off x="5867280" y="487692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4"/>
          <p:cNvSpPr/>
          <p:nvPr/>
        </p:nvSpPr>
        <p:spPr>
          <a:xfrm>
            <a:off x="4724280" y="487692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rc 36"/>
          <p:cNvSpPr/>
          <p:nvPr/>
        </p:nvSpPr>
        <p:spPr>
          <a:xfrm>
            <a:off x="6019920" y="3124080"/>
            <a:ext cx="7596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9"/>
          <p:cNvSpPr/>
          <p:nvPr/>
        </p:nvSpPr>
        <p:spPr>
          <a:xfrm>
            <a:off x="6158520" y="47610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 – смежные у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37"/>
          <p:cNvSpPr/>
          <p:nvPr/>
        </p:nvSpPr>
        <p:spPr>
          <a:xfrm>
            <a:off x="982800" y="615312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2729" y="17090"/>
                </a:moveTo>
                <a:cubicBezTo>
                  <a:pt x="2737" y="17090"/>
                  <a:pt x="2745" y="17090"/>
                  <a:pt x="2753" y="1709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38"/>
          <p:cNvSpPr/>
          <p:nvPr/>
        </p:nvSpPr>
        <p:spPr>
          <a:xfrm>
            <a:off x="1009800" y="6116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03" y="16991"/>
                </a:moveTo>
                <a:lnTo>
                  <a:pt x="2803" y="16991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гла, у которых одна сторона общая и две другие являются продолжением одна другой называются смежными уг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2438280" y="5943600"/>
            <a:ext cx="55627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 flipV="1">
            <a:off x="4876920" y="4191120"/>
            <a:ext cx="1523880" cy="1752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2364120" y="60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4648320" y="60958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58690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7621920" y="601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rc 17"/>
          <p:cNvSpPr/>
          <p:nvPr/>
        </p:nvSpPr>
        <p:spPr>
          <a:xfrm>
            <a:off x="5105520" y="571500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rc 18"/>
          <p:cNvSpPr/>
          <p:nvPr/>
        </p:nvSpPr>
        <p:spPr>
          <a:xfrm>
            <a:off x="4952880" y="5791320"/>
            <a:ext cx="22860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rc 19"/>
          <p:cNvSpPr/>
          <p:nvPr/>
        </p:nvSpPr>
        <p:spPr>
          <a:xfrm flipH="1">
            <a:off x="4657680" y="5791320"/>
            <a:ext cx="29376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о смежных 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ой угол А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му равна градусная мера уг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акие углы делит луч ОВ этот уг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му равна сумма этих уг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АОС - развёрну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АОВ и    В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8"/>
          <p:cNvSpPr/>
          <p:nvPr/>
        </p:nvSpPr>
        <p:spPr>
          <a:xfrm>
            <a:off x="541008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9"/>
          <p:cNvSpPr/>
          <p:nvPr/>
        </p:nvSpPr>
        <p:spPr>
          <a:xfrm>
            <a:off x="5410080" y="365760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6858000" y="365760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ОВ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534240" y="4038480"/>
            <a:ext cx="801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ма смежных углов равна 180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2670120" y="160020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 =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6"/>
          <p:cNvSpPr/>
          <p:nvPr/>
        </p:nvSpPr>
        <p:spPr>
          <a:xfrm>
            <a:off x="91440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7"/>
          <p:cNvSpPr/>
          <p:nvPr/>
        </p:nvSpPr>
        <p:spPr>
          <a:xfrm>
            <a:off x="2362320" y="16765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те три угла: острый, прямой, тупой. Для каждого из этих углов начертите смежный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10"/>
          <p:cNvSpPr/>
          <p:nvPr/>
        </p:nvSpPr>
        <p:spPr>
          <a:xfrm>
            <a:off x="1676520" y="3809880"/>
            <a:ext cx="1828800" cy="121932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886200" y="3733920"/>
            <a:ext cx="2057400" cy="1295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7086600" y="3505320"/>
            <a:ext cx="1828800" cy="1523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rc 13"/>
          <p:cNvSpPr/>
          <p:nvPr/>
        </p:nvSpPr>
        <p:spPr>
          <a:xfrm>
            <a:off x="2057400" y="4724280"/>
            <a:ext cx="7452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rc 15"/>
          <p:cNvSpPr/>
          <p:nvPr/>
        </p:nvSpPr>
        <p:spPr>
          <a:xfrm flipH="1">
            <a:off x="4952160" y="4800600"/>
            <a:ext cx="30492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7"/>
          <p:cNvSpPr/>
          <p:nvPr/>
        </p:nvSpPr>
        <p:spPr>
          <a:xfrm>
            <a:off x="7086600" y="4800600"/>
            <a:ext cx="1522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 flipH="1">
            <a:off x="456840" y="50292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5181480" y="5029200"/>
            <a:ext cx="1219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>
            <a:off x="7086600" y="5105520"/>
            <a:ext cx="0" cy="12189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дин из смежных углов прямой. Каким (острым, прямым, тупым) является другой уг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 flipV="1">
            <a:off x="762120" y="3428640"/>
            <a:ext cx="3429000" cy="68580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H="1">
            <a:off x="2057040" y="1981080"/>
            <a:ext cx="304920" cy="190512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4724280" y="4343400"/>
            <a:ext cx="3124440" cy="16765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 flipH="1">
            <a:off x="6248520" y="3124080"/>
            <a:ext cx="1218960" cy="20574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 flipV="1">
            <a:off x="1752480" y="4724280"/>
            <a:ext cx="2362320" cy="18288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5"/>
          <p:cNvSpPr/>
          <p:nvPr/>
        </p:nvSpPr>
        <p:spPr>
          <a:xfrm>
            <a:off x="1143000" y="5638680"/>
            <a:ext cx="1828800" cy="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12-20T07:34:31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