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28E-9849-45F5-9F1B-65D512DB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3B2-8650-46BB-BDDF-D60B2599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7F0-27C9-495F-9E29-B24BFABA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C81-1F51-4A84-BC32-3ABE66D8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542-7DA3-4CCF-831D-0BF714BA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0BE-FF4F-4522-8F0A-786635A4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B4C-2414-4D3A-9671-BBFC730A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220-3EC2-41F1-BA4D-DD63C8AE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4D7-44D0-45B4-8F63-83E50011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F44-2328-4761-BD11-0EA402FD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D3F-ABB3-4E62-A988-8B7801D2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A91-970F-45CF-A7F1-D51EF8B7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D0C7-A4E6-4F73-9ECA-0A158F0CA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krugosvet/article/krugosvet/2/1011828.htm?text=&#1090;&#1086;&#1088;&#1085;&#1072;&#1076;&#1086;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slovari.yandex.ru/dict/krugosvet/article/krugosvet/2/1011828.htm?text=&#1090;&#1086;&#1088;&#1085;&#1072;&#1076;&#1086;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slovari.yandex.ru/dict/krugosvet/article/krugosvet/2/1011828.htm?text=&#1090;&#1086;&#1088;&#1085;&#1072;&#1076;&#1086;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50000">
              <a:srgbClr val="ff6600"/>
            </a:gs>
            <a:gs pos="100000">
              <a:srgbClr val="7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мерчи и торнад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вание и определение смерча и торна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гативные последствия дл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щитные мероприятия(для снижения ущерб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obert Miles - Children.mp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?id=825109&amp;tov=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?id=36570596&amp;tov=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ак выглядит смерч в мор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?id=13168600&amp;tov=2"/>
          <p:cNvPicPr/>
          <p:nvPr/>
        </p:nvPicPr>
        <p:blipFill>
          <a:blip r:embed="rId2"/>
          <a:stretch/>
        </p:blipFill>
        <p:spPr>
          <a:xfrm>
            <a:off x="1403280" y="1700280"/>
            <a:ext cx="6408720" cy="48528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i?id=2637748&amp;tov=6"/>
          <p:cNvPicPr/>
          <p:nvPr/>
        </p:nvPicPr>
        <p:blipFill>
          <a:blip r:embed="rId2"/>
          <a:stretch/>
        </p:blipFill>
        <p:spPr>
          <a:xfrm>
            <a:off x="2124000" y="0"/>
            <a:ext cx="44262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и признаками возникновения ураганов,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ь и смерчей являются: усиление скорости ветра и резкое падение атмосферного давления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вневые дожди и штормовой нагон воды; бурное выпадение снега и грунтовой пы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проживаете в районе, подверженном воздействию ураганов, бурь и смерч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альневосточный, Центральный и другие экономические районы Российской Федерации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комьтесь с ситуацией  приступайте  к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реплению крыши, печных и вентиляционных труб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елыванию окон в чердачных помещениях (ставнями, щитами из досок или фанеры)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вобождению балконов и территории двора от пожароопасных предметов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 сбору запасов продуктов и воды на 2-3 суток на случай эвакуации в безопасный район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акже автономных источников освещения (фонарей, керосиновых ламп, свечей)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одите из легких построек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лее прочные здания или в защитные сооружения гражданской обороны.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i?id=2761062&amp;tov=3"/>
          <p:cNvPicPr/>
          <p:nvPr/>
        </p:nvPicPr>
        <p:blipFill>
          <a:blip r:embed="rId2"/>
          <a:stretch/>
        </p:blipFill>
        <p:spPr>
          <a:xfrm>
            <a:off x="755640" y="5095800"/>
            <a:ext cx="2664000" cy="176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i?id=7416544&amp;tov=0"/>
          <p:cNvPicPr/>
          <p:nvPr/>
        </p:nvPicPr>
        <p:blipFill>
          <a:blip r:embed="rId3"/>
          <a:stretch/>
        </p:blipFill>
        <p:spPr>
          <a:xfrm>
            <a:off x="6227640" y="5205240"/>
            <a:ext cx="2316240" cy="16527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и методисты НМЦ ВАО г.Москвы Пименов А.Е.  Леонов И.Ю.</a:t>
            </a: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Смерчи и торнад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рч   — сильнейший атмосферный вихрь в центральной части циклона, быстро поднимающиеся в атмосфер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ы воды при конденсации образуют грозовое облако с большим содержанием ледяных кристаллов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1011828-1828_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258920" y="1154520"/>
            <a:ext cx="67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нергия типичного смерча равна энергии эталонной атомной бомбы в 20 килотонн тротила, подобной  первой атомной бомбе, взорванной в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орма смерчей может быть многообразной — колонна, конус, бокал, бочка, бичеподобная веревка, песочные часы, рога «дьявола» и т.п., но чаще всего смерчи имеют форму вращающегося хобота, трубы или воронки, свисающей из материнского обла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открыть большую картинк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997360"/>
            <a:ext cx="1656000" cy="266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открыть большую картинку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3500280"/>
            <a:ext cx="302400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открыть большую картинку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3573360"/>
            <a:ext cx="2916360" cy="2016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341640" y="5803920"/>
            <a:ext cx="87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ращение в смерчах происходит против часовой стрел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и в циклонах северного полушария Земл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24000" y="62064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ращении воздуха со скоростью 100м в секунду создается воздушная воронка не менее 200метров с разряженным внутри ее воздухом. Центробежные силы отгоняют к перефирии ворон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ые капли воды и града, которые создают ее стенки толщиной 10-20метр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яжеление такой воронки заставляет ее спускать до земли в виде пустотелого столба. Присасываясь к земле это образован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й уплотненно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- градовой оболочкой сметает все на своем пу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йфун — китайское слово, оно переводится как «ветер, который бьет». Ураган — это транслитерированное в рус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 английское слово hurricane 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9045720"/>
            <a:ext cx="8229600" cy="13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i?id=25748585&amp;tov=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1"/>
          <p:cNvSpPr/>
          <p:nvPr/>
        </p:nvSpPr>
        <p:spPr>
          <a:xfrm>
            <a:off x="611280" y="1628640"/>
            <a:ext cx="770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ерчи проносящиеся над сушей называют торнадо.  Торнадо  иногда поднимает в воздух дома с жителями перенося их на некоторые расстояния. По статистике от смерчей ежегодно погибает около 400 человек. Последствия могут быть очень разнообразными. Могут быть разрушены дома, фермы, могут погибнуть лю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i?id=32450081&amp;tov=0"/>
          <p:cNvPicPr/>
          <p:nvPr/>
        </p:nvPicPr>
        <p:blipFill>
          <a:blip r:embed="rId1"/>
          <a:stretch/>
        </p:blipFill>
        <p:spPr>
          <a:xfrm>
            <a:off x="2627280" y="0"/>
            <a:ext cx="4176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?id=35881825&amp;tov=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?id=1022088&amp;tov=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3:25:01Z</dcterms:created>
  <dc:creator>Ad</dc:creator>
  <dc:description/>
  <dc:language>en-US</dc:language>
  <cp:lastModifiedBy>Коля</cp:lastModifiedBy>
  <dcterms:modified xsi:type="dcterms:W3CDTF">2013-06-19T08:35:56Z</dcterms:modified>
  <cp:revision>10</cp:revision>
  <dc:subject/>
  <dc:title>Смерчи и торнад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2000000000001024140</vt:lpwstr>
  </property>
</Properties>
</file>