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9A2-1AE6-4F4C-A405-0773C2B8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92B-C445-4655-8D14-6678C59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FEF-2205-43A2-BC64-F8D60F13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A0C-05D9-4A1B-B8A0-4876AE91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DA2-3AF0-41B8-ADBC-74BFB994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B9F-82E4-4D4C-BF2D-1D94E9BF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46F-05BB-47BA-A7FD-CD20A505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5E9-DE82-4C70-B9E3-03FE7E0F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756-F05C-4D82-8F05-1FA42EDF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F01-3984-4EC5-ABF5-C224510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76A-CA7D-44DA-94E4-1EF9F0E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221-447C-4BBE-837D-2D646E99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8308-F0BA-45C4-9F95-E3D32222E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krugosvet/article/krugosvet/2/1011828.htm?text=&#1090;&#1086;&#1088;&#1085;&#1072;&#1076;&#1086;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slovari.yandex.ru/dict/krugosvet/article/krugosvet/2/1011828.htm?text=&#1090;&#1086;&#1088;&#1085;&#1072;&#1076;&#1086;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slovari.yandex.ru/dict/krugosvet/article/krugosvet/2/1011828.htm?text=&#1090;&#1086;&#1088;&#1085;&#1072;&#1076;&#1086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мерчи и торнад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вание и определение смерча и тор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гативные последствия дл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щитные мероприятия(для снижения ущерб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obert Miles - Children.mp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?id=825109&amp;tov=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?id=36570596&amp;tov=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ак выглядит смерч в мор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?id=13168600&amp;tov=2"/>
          <p:cNvPicPr/>
          <p:nvPr/>
        </p:nvPicPr>
        <p:blipFill>
          <a:blip r:embed="rId2"/>
          <a:stretch/>
        </p:blipFill>
        <p:spPr>
          <a:xfrm>
            <a:off x="1403280" y="1700280"/>
            <a:ext cx="6408720" cy="4852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i?id=2637748&amp;tov=6"/>
          <p:cNvPicPr/>
          <p:nvPr/>
        </p:nvPicPr>
        <p:blipFill>
          <a:blip r:embed="rId2"/>
          <a:stretch/>
        </p:blipFill>
        <p:spPr>
          <a:xfrm>
            <a:off x="2124000" y="0"/>
            <a:ext cx="4426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и признаками возникновения ураганов,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ь и смерчей являются: усиление скорости ветра и резкое падение атмосферного давлени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вневые дожди и штормовой нагон воды; бурное выпадение снега и грунтовой пы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проживаете в районе, подверженном воздействию ураганов, бурь и смерч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льневосточный, Центральный и другие экономические районы Российской Федерации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ьтесь с ситуацией  приступайте  к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реплению крыши, печных и вентиляционных труб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елыванию окон в чердачных помещениях (ставнями, щитами из досок или фанеры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вобождению балконов и территории двора от пожароопасных предметов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сбору запасов продуктов и воды на 2-3 суток на случай эвакуации в безопасный район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автономных источников освещения (фонарей, керосиновых ламп, свечей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одите из легких построек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ее прочные здания или в защитные сооружения гражданской обороны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i?id=2761062&amp;tov=3"/>
          <p:cNvPicPr/>
          <p:nvPr/>
        </p:nvPicPr>
        <p:blipFill>
          <a:blip r:embed="rId2"/>
          <a:stretch/>
        </p:blipFill>
        <p:spPr>
          <a:xfrm>
            <a:off x="755640" y="5095800"/>
            <a:ext cx="2664000" cy="17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?id=7416544&amp;tov=0"/>
          <p:cNvPicPr/>
          <p:nvPr/>
        </p:nvPicPr>
        <p:blipFill>
          <a:blip r:embed="rId3"/>
          <a:stretch/>
        </p:blipFill>
        <p:spPr>
          <a:xfrm>
            <a:off x="6227640" y="5205240"/>
            <a:ext cx="2316240" cy="16527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и методисты НМЦ ВАО г.Москвы Пименов А.Е.  Леонов И.Ю.</a:t>
            </a: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Смерчи и торнад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рч   — сильнейший атмосферный вихрь в центральной части циклона, быстро поднимающиеся в атмосфер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ы воды при конденсации образуют грозовое облако с большим содержанием ледяных кристаллов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1011828-1828_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258920" y="115452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нергия типичного смерча равна энергии эталонной атомной бомбы в 20 килотонн тротила, подобной  первой атомной бомбе, взорванной в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а смерчей может быть многообразной — колонна, конус, бокал, бочка, бичеподобная веревка, песочные часы, рога «дьявола» и т.п., но чаще всего смерчи имеют форму вращающегося хобота, трубы или воронки, свисающей из материнского обла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открыть большую картинк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997360"/>
            <a:ext cx="1656000" cy="266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открыть большую картинку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3500280"/>
            <a:ext cx="302400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открыть большую картинк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573360"/>
            <a:ext cx="291636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41640" y="5803920"/>
            <a:ext cx="87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ащение в смерчах происходит против часовой стрел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и в циклонах северного полушария Земл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24000" y="62064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ращении воздуха со скоростью 100м в секунду создается воздушная воронка не менее 200метров с разряженным внутри ее воздухом. Центробежные силы отгоняют к перефирии воро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ые капли воды и града, которые создают ее стенки толщиной 10-20метр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яжеление такой воронки заставляет ее спускать до земли в виде пустотелого столба. Присасываясь к земле это образ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й уплотненно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- градовой оболочкой сметает все на своем пу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йфун — китайское слово, оно переводится как «ветер, который бьет». Ураган — это транслитерированное в рус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английское слово hurricane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904572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i?id=25748585&amp;tov=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1"/>
          <p:cNvSpPr/>
          <p:nvPr/>
        </p:nvSpPr>
        <p:spPr>
          <a:xfrm>
            <a:off x="611280" y="1628640"/>
            <a:ext cx="770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ерчи проносящиеся над сушей называют торнадо.  Торнадо  иногда поднимает в воздух дома с жителями перенося их на некоторые расстояния. По статистике от смерчей ежегодно погибает около 400 человек. Последствия могут быть очень разнообразными. Могут быть разрушены дома, фермы, могут погибнуть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i?id=32450081&amp;tov=0"/>
          <p:cNvPicPr/>
          <p:nvPr/>
        </p:nvPicPr>
        <p:blipFill>
          <a:blip r:embed="rId1"/>
          <a:stretch/>
        </p:blipFill>
        <p:spPr>
          <a:xfrm>
            <a:off x="2627280" y="0"/>
            <a:ext cx="4176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?id=35881825&amp;tov=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?id=1022088&amp;tov=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3:25:01Z</dcterms:created>
  <dc:creator>Ad</dc:creator>
  <dc:description/>
  <dc:language>en-US</dc:language>
  <cp:lastModifiedBy>Коля</cp:lastModifiedBy>
  <dcterms:modified xsi:type="dcterms:W3CDTF">2013-06-19T08:35:56Z</dcterms:modified>
  <cp:revision>10</cp:revision>
  <dc:subject/>
  <dc:title>Смерчи и торнад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2000000000001024140</vt:lpwstr>
  </property>
</Properties>
</file>