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9115AD-643A-456C-ABA8-04D48D17D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A03FCA-8329-4190-A336-4423318ED43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0C6093-0A88-4EDC-9C99-160876CC123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03D918-7337-451C-AC7D-B95406E2F4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6CBC41-EB48-44C0-8268-8DAC30ACE54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99442A-BD3A-4D11-ADAF-3D595155AC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F418FF-36BC-401D-BCEA-C0501CE14C8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7DBC6A-F89A-4668-A81B-728204D978B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6DCEC4-B1A4-4A81-86C2-39E0A008022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25B-0BE6-4062-B087-567BDD02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0E4-1C4E-402A-B8D2-3ECA6B91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25D-FD81-42CD-A268-E7B4D42B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55D-21E9-41CC-B5BD-145C5608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D7E-33E9-4AAE-BD43-55AD5A44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8CB-E793-4288-96AD-37F411C4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01F-8E49-49B4-B1B7-BB71C724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964-4A6F-4B51-B299-DF21B039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057-F519-429C-84F6-C754812F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E35-A919-4A23-867C-2854C118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5FC-D3B2-4F92-9C5F-07E3B5E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74C-C9DD-45A0-A483-5C193C9C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1e1c1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6E6410-9C52-42C2-BCC0-74D88E6F72C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251640" y="602280"/>
            <a:ext cx="864072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ff9f5c"/>
                </a:solidFill>
                <a:latin typeface="Calibri"/>
              </a:rPr>
              <a:t>Простейшие задачи в координата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69920" y="5963040"/>
            <a:ext cx="5147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9f5c"/>
                </a:solidFill>
                <a:latin typeface="Calibri"/>
              </a:rPr>
              <a:t>© </a:t>
            </a:r>
            <a:r>
              <a:rPr b="1" lang="ru-RU" sz="2800" spc="-1" strike="noStrike">
                <a:solidFill>
                  <a:srgbClr val="ff9f5c"/>
                </a:solidFill>
                <a:latin typeface="Calibri"/>
              </a:rPr>
              <a:t>Максимовская М.А., 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1"/>
          <p:cNvGraphicFramePr/>
          <p:nvPr/>
        </p:nvGraphicFramePr>
        <p:xfrm>
          <a:off x="1956240" y="83664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6240" y="83664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Прямоугольник 3"/>
          <p:cNvSpPr/>
          <p:nvPr/>
        </p:nvSpPr>
        <p:spPr>
          <a:xfrm>
            <a:off x="138600" y="79560"/>
            <a:ext cx="90050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1. Координаты вектора</a:t>
            </a: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по координатам начала и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5"/>
          <p:cNvCxnSpPr/>
          <p:nvPr/>
        </p:nvCxnSpPr>
        <p:spPr>
          <a:xfrm flipV="1">
            <a:off x="5364000" y="352800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54" name="Прямая со стрелкой 8"/>
          <p:cNvCxnSpPr/>
          <p:nvPr/>
        </p:nvCxnSpPr>
        <p:spPr>
          <a:xfrm>
            <a:off x="5364000" y="397836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55" name="Группа 11"/>
          <p:cNvGrpSpPr/>
          <p:nvPr/>
        </p:nvGrpSpPr>
        <p:grpSpPr>
          <a:xfrm>
            <a:off x="5004000" y="3573000"/>
            <a:ext cx="431640" cy="455400"/>
            <a:chOff x="5004000" y="3573000"/>
            <a:chExt cx="431640" cy="455400"/>
          </a:xfrm>
        </p:grpSpPr>
        <p:sp>
          <p:nvSpPr>
            <p:cNvPr id="56" name="TextBox 9"/>
            <p:cNvSpPr/>
            <p:nvPr/>
          </p:nvSpPr>
          <p:spPr>
            <a:xfrm>
              <a:off x="5004000" y="357300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V="1">
              <a:off x="5089680" y="3642480"/>
              <a:ext cx="216000" cy="252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58" name="Группа 12"/>
          <p:cNvGrpSpPr/>
          <p:nvPr/>
        </p:nvGrpSpPr>
        <p:grpSpPr>
          <a:xfrm>
            <a:off x="5364000" y="4005000"/>
            <a:ext cx="431640" cy="455400"/>
            <a:chOff x="5364000" y="4005000"/>
            <a:chExt cx="431640" cy="455400"/>
          </a:xfrm>
        </p:grpSpPr>
        <p:sp>
          <p:nvSpPr>
            <p:cNvPr id="59" name="TextBox 13"/>
            <p:cNvSpPr/>
            <p:nvPr/>
          </p:nvSpPr>
          <p:spPr>
            <a:xfrm>
              <a:off x="5364000" y="400500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5449680" y="408924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61" name="Прямая со стрелкой 15"/>
          <p:cNvCxnSpPr/>
          <p:nvPr/>
        </p:nvCxnSpPr>
        <p:spPr>
          <a:xfrm flipV="1">
            <a:off x="5364000" y="1988640"/>
            <a:ext cx="1080360" cy="19893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sp>
        <p:nvSpPr>
          <p:cNvPr id="62" name="Овал 37"/>
          <p:cNvSpPr/>
          <p:nvPr/>
        </p:nvSpPr>
        <p:spPr>
          <a:xfrm flipH="1">
            <a:off x="6601320" y="303804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6732360" y="278100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;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39"/>
          <p:cNvCxnSpPr>
            <a:endCxn id="62" idx="5"/>
          </p:cNvCxnSpPr>
          <p:nvPr/>
        </p:nvCxnSpPr>
        <p:spPr>
          <a:xfrm flipV="1">
            <a:off x="5364000" y="3160800"/>
            <a:ext cx="1259280" cy="7941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med" type="stealth" w="med"/>
          </a:ln>
        </p:spPr>
      </p:cxnSp>
      <p:grpSp>
        <p:nvGrpSpPr>
          <p:cNvPr id="65" name="Группа 41"/>
          <p:cNvGrpSpPr/>
          <p:nvPr/>
        </p:nvGrpSpPr>
        <p:grpSpPr>
          <a:xfrm>
            <a:off x="2277000" y="1055160"/>
            <a:ext cx="863640" cy="455400"/>
            <a:chOff x="2277000" y="1055160"/>
            <a:chExt cx="863640" cy="455400"/>
          </a:xfrm>
        </p:grpSpPr>
        <p:sp>
          <p:nvSpPr>
            <p:cNvPr id="66" name="TextBox 42"/>
            <p:cNvSpPr/>
            <p:nvPr/>
          </p:nvSpPr>
          <p:spPr>
            <a:xfrm>
              <a:off x="2277000" y="1055160"/>
              <a:ext cx="86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>
              <a:off x="2362320" y="1126800"/>
              <a:ext cx="41868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8" name="Группа 41"/>
          <p:cNvGrpSpPr/>
          <p:nvPr/>
        </p:nvGrpSpPr>
        <p:grpSpPr>
          <a:xfrm>
            <a:off x="107640" y="1167120"/>
            <a:ext cx="1439640" cy="455400"/>
            <a:chOff x="107640" y="1167120"/>
            <a:chExt cx="1439640" cy="455400"/>
          </a:xfrm>
        </p:grpSpPr>
        <p:sp>
          <p:nvSpPr>
            <p:cNvPr id="69" name="TextBox 51"/>
            <p:cNvSpPr/>
            <p:nvPr/>
          </p:nvSpPr>
          <p:spPr>
            <a:xfrm>
              <a:off x="107640" y="116712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OA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{3; 2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5"/>
            <p:cNvSpPr/>
            <p:nvPr/>
          </p:nvSpPr>
          <p:spPr>
            <a:xfrm>
              <a:off x="264960" y="123912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sp>
        <p:nvSpPr>
          <p:cNvPr id="71" name="Овал 47"/>
          <p:cNvSpPr/>
          <p:nvPr/>
        </p:nvSpPr>
        <p:spPr>
          <a:xfrm flipH="1">
            <a:off x="6384960" y="194796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TextBox 49"/>
          <p:cNvSpPr/>
          <p:nvPr/>
        </p:nvSpPr>
        <p:spPr>
          <a:xfrm>
            <a:off x="6444360" y="1556640"/>
            <a:ext cx="158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,5; 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Прямая со стрелкой 17"/>
          <p:cNvCxnSpPr/>
          <p:nvPr/>
        </p:nvCxnSpPr>
        <p:spPr>
          <a:xfrm flipH="1" flipV="1">
            <a:off x="6444000" y="1988640"/>
            <a:ext cx="230040" cy="1125360"/>
          </a:xfrm>
          <a:prstGeom prst="straightConnector1">
            <a:avLst/>
          </a:prstGeom>
          <a:ln w="57150">
            <a:solidFill>
              <a:srgbClr val="00b0f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74" name="Группа 41"/>
          <p:cNvGrpSpPr/>
          <p:nvPr/>
        </p:nvGrpSpPr>
        <p:grpSpPr>
          <a:xfrm>
            <a:off x="107640" y="1628640"/>
            <a:ext cx="1944000" cy="455400"/>
            <a:chOff x="107640" y="1628640"/>
            <a:chExt cx="1944000" cy="455400"/>
          </a:xfrm>
        </p:grpSpPr>
        <p:sp>
          <p:nvSpPr>
            <p:cNvPr id="75" name="TextBox 56"/>
            <p:cNvSpPr/>
            <p:nvPr/>
          </p:nvSpPr>
          <p:spPr>
            <a:xfrm>
              <a:off x="107640" y="1628640"/>
              <a:ext cx="194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ffff00"/>
                  </a:solidFill>
                  <a:latin typeface="Times New Roman"/>
                </a:rPr>
                <a:t>В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2,5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4,5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264960" y="1700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grpSp>
        <p:nvGrpSpPr>
          <p:cNvPr id="77" name="Группа 58"/>
          <p:cNvGrpSpPr/>
          <p:nvPr/>
        </p:nvGrpSpPr>
        <p:grpSpPr>
          <a:xfrm>
            <a:off x="2988000" y="1052640"/>
            <a:ext cx="791640" cy="821160"/>
            <a:chOff x="2988000" y="1052640"/>
            <a:chExt cx="791640" cy="821160"/>
          </a:xfrm>
        </p:grpSpPr>
        <p:sp>
          <p:nvSpPr>
            <p:cNvPr id="78" name="TextBox 59"/>
            <p:cNvSpPr/>
            <p:nvPr/>
          </p:nvSpPr>
          <p:spPr>
            <a:xfrm>
              <a:off x="2988000" y="1052640"/>
              <a:ext cx="791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 -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3073320" y="1124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0" name="Группа 61"/>
          <p:cNvGrpSpPr/>
          <p:nvPr/>
        </p:nvGrpSpPr>
        <p:grpSpPr>
          <a:xfrm>
            <a:off x="3636000" y="1052640"/>
            <a:ext cx="647640" cy="455400"/>
            <a:chOff x="3636000" y="1052640"/>
            <a:chExt cx="647640" cy="455400"/>
          </a:xfrm>
        </p:grpSpPr>
        <p:sp>
          <p:nvSpPr>
            <p:cNvPr id="81" name="TextBox 62"/>
            <p:cNvSpPr/>
            <p:nvPr/>
          </p:nvSpPr>
          <p:spPr>
            <a:xfrm>
              <a:off x="3636000" y="1052640"/>
              <a:ext cx="64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>
              <a:off x="3721320" y="1124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3" name="Группа 64"/>
          <p:cNvGrpSpPr/>
          <p:nvPr/>
        </p:nvGrpSpPr>
        <p:grpSpPr>
          <a:xfrm>
            <a:off x="179640" y="2133000"/>
            <a:ext cx="1007640" cy="455400"/>
            <a:chOff x="179640" y="2133000"/>
            <a:chExt cx="1007640" cy="455400"/>
          </a:xfrm>
        </p:grpSpPr>
        <p:sp>
          <p:nvSpPr>
            <p:cNvPr id="84" name="TextBox 65"/>
            <p:cNvSpPr/>
            <p:nvPr/>
          </p:nvSpPr>
          <p:spPr>
            <a:xfrm>
              <a:off x="179640" y="2133000"/>
              <a:ext cx="100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i="1" lang="ru-RU" sz="2400" spc="-1" strike="noStrike">
                  <a:solidFill>
                    <a:srgbClr val="ffff00"/>
                  </a:solidFill>
                  <a:latin typeface="Times New Roman"/>
                </a:rPr>
                <a:t>В - 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264960" y="2204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6" name="Группа 41"/>
          <p:cNvGrpSpPr/>
          <p:nvPr/>
        </p:nvGrpSpPr>
        <p:grpSpPr>
          <a:xfrm>
            <a:off x="2267640" y="2090520"/>
            <a:ext cx="1439640" cy="455400"/>
            <a:chOff x="2267640" y="2090520"/>
            <a:chExt cx="1439640" cy="455400"/>
          </a:xfrm>
        </p:grpSpPr>
        <p:sp>
          <p:nvSpPr>
            <p:cNvPr id="87" name="TextBox 68"/>
            <p:cNvSpPr/>
            <p:nvPr/>
          </p:nvSpPr>
          <p:spPr>
            <a:xfrm>
              <a:off x="2267640" y="209052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3; 2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>
              <a:off x="2425320" y="21621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9" name="Группа 41"/>
          <p:cNvGrpSpPr/>
          <p:nvPr/>
        </p:nvGrpSpPr>
        <p:grpSpPr>
          <a:xfrm>
            <a:off x="2339640" y="1658520"/>
            <a:ext cx="1944000" cy="455400"/>
            <a:chOff x="2339640" y="1658520"/>
            <a:chExt cx="1944000" cy="455400"/>
          </a:xfrm>
        </p:grpSpPr>
        <p:sp>
          <p:nvSpPr>
            <p:cNvPr id="90" name="TextBox 71"/>
            <p:cNvSpPr/>
            <p:nvPr/>
          </p:nvSpPr>
          <p:spPr>
            <a:xfrm>
              <a:off x="2339640" y="1658520"/>
              <a:ext cx="1944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>
              <a:off x="2497320" y="17301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92" name="Прямая соединительная линия 74"/>
          <p:cNvCxnSpPr/>
          <p:nvPr/>
        </p:nvCxnSpPr>
        <p:spPr>
          <a:xfrm>
            <a:off x="2267640" y="2522160"/>
            <a:ext cx="266472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93" name="Прямая соединительная линия 75"/>
          <p:cNvCxnSpPr/>
          <p:nvPr/>
        </p:nvCxnSpPr>
        <p:spPr>
          <a:xfrm>
            <a:off x="2113560" y="2049480"/>
            <a:ext cx="21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grpSp>
        <p:nvGrpSpPr>
          <p:cNvPr id="94" name="Группа 41"/>
          <p:cNvGrpSpPr/>
          <p:nvPr/>
        </p:nvGrpSpPr>
        <p:grpSpPr>
          <a:xfrm>
            <a:off x="2195640" y="2522520"/>
            <a:ext cx="2736000" cy="455400"/>
            <a:chOff x="2195640" y="2522520"/>
            <a:chExt cx="2736000" cy="455400"/>
          </a:xfrm>
        </p:grpSpPr>
        <p:sp>
          <p:nvSpPr>
            <p:cNvPr id="95" name="TextBox 78"/>
            <p:cNvSpPr/>
            <p:nvPr/>
          </p:nvSpPr>
          <p:spPr>
            <a:xfrm>
              <a:off x="2195640" y="2522520"/>
              <a:ext cx="273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,5 – 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,5 – 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>
              <a:off x="2353320" y="2594160"/>
              <a:ext cx="418320" cy="36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7" name="Группа 41"/>
          <p:cNvGrpSpPr/>
          <p:nvPr/>
        </p:nvGrpSpPr>
        <p:grpSpPr>
          <a:xfrm>
            <a:off x="2195640" y="2925000"/>
            <a:ext cx="2088000" cy="455400"/>
            <a:chOff x="2195640" y="2925000"/>
            <a:chExt cx="2088000" cy="455400"/>
          </a:xfrm>
        </p:grpSpPr>
        <p:sp>
          <p:nvSpPr>
            <p:cNvPr id="98" name="TextBox 81"/>
            <p:cNvSpPr/>
            <p:nvPr/>
          </p:nvSpPr>
          <p:spPr>
            <a:xfrm>
              <a:off x="2195640" y="2925000"/>
              <a:ext cx="2088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– 0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5"/>
            <p:cNvSpPr/>
            <p:nvPr/>
          </p:nvSpPr>
          <p:spPr>
            <a:xfrm>
              <a:off x="2353320" y="2996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00" name="Прямоугольник 92"/>
          <p:cNvSpPr/>
          <p:nvPr/>
        </p:nvSpPr>
        <p:spPr>
          <a:xfrm>
            <a:off x="3780000" y="4725000"/>
            <a:ext cx="309600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TextBox 87"/>
          <p:cNvSpPr/>
          <p:nvPr/>
        </p:nvSpPr>
        <p:spPr>
          <a:xfrm>
            <a:off x="4674960" y="478368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8"/>
          <p:cNvSpPr/>
          <p:nvPr/>
        </p:nvSpPr>
        <p:spPr>
          <a:xfrm>
            <a:off x="4674960" y="521568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Группа 41"/>
          <p:cNvGrpSpPr/>
          <p:nvPr/>
        </p:nvGrpSpPr>
        <p:grpSpPr>
          <a:xfrm>
            <a:off x="3855600" y="5719680"/>
            <a:ext cx="2993040" cy="505800"/>
            <a:chOff x="3855600" y="5719680"/>
            <a:chExt cx="2993040" cy="505800"/>
          </a:xfrm>
        </p:grpSpPr>
        <p:sp>
          <p:nvSpPr>
            <p:cNvPr id="104" name="TextBox 90"/>
            <p:cNvSpPr/>
            <p:nvPr/>
          </p:nvSpPr>
          <p:spPr>
            <a:xfrm>
              <a:off x="3855600" y="5719680"/>
              <a:ext cx="29930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>
              <a:off x="4013280" y="57913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Group 80"/>
          <p:cNvGraphicFramePr/>
          <p:nvPr/>
        </p:nvGraphicFramePr>
        <p:xfrm>
          <a:off x="611640" y="260640"/>
          <a:ext cx="7920360" cy="1568880"/>
        </p:xfrm>
        <a:graphic>
          <a:graphicData uri="http://schemas.openxmlformats.org/drawingml/2006/table">
            <a:tbl>
              <a:tblPr/>
              <a:tblGrid>
                <a:gridCol w="1914480"/>
                <a:gridCol w="2001960"/>
                <a:gridCol w="2001960"/>
                <a:gridCol w="2001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-2; 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-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8,5; 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; -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6; -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{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{10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{-14; 3,5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7" name="Прямая со стрелкой 15"/>
          <p:cNvCxnSpPr/>
          <p:nvPr/>
        </p:nvCxnSpPr>
        <p:spPr>
          <a:xfrm>
            <a:off x="1403640" y="1383840"/>
            <a:ext cx="432360" cy="360"/>
          </a:xfrm>
          <a:prstGeom prst="straightConnector1">
            <a:avLst/>
          </a:prstGeom>
          <a:ln w="28575">
            <a:solidFill>
              <a:srgbClr val="ffffff"/>
            </a:solidFill>
            <a:round/>
            <a:tailEnd len="lg" type="stealth" w="med"/>
          </a:ln>
        </p:spPr>
      </p:cxnSp>
      <p:sp>
        <p:nvSpPr>
          <p:cNvPr id="108" name="TextBox 39"/>
          <p:cNvSpPr/>
          <p:nvPr/>
        </p:nvSpPr>
        <p:spPr>
          <a:xfrm>
            <a:off x="1187640" y="2061000"/>
            <a:ext cx="3456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3 – (-2) = 5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1"/>
          <p:cNvSpPr/>
          <p:nvPr/>
        </p:nvSpPr>
        <p:spPr>
          <a:xfrm>
            <a:off x="4500000" y="2044800"/>
            <a:ext cx="3096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6 – 7 = -13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41"/>
          <p:cNvGrpSpPr/>
          <p:nvPr/>
        </p:nvGrpSpPr>
        <p:grpSpPr>
          <a:xfrm>
            <a:off x="1475640" y="2565000"/>
            <a:ext cx="1583640" cy="455400"/>
            <a:chOff x="1475640" y="2565000"/>
            <a:chExt cx="1583640" cy="455400"/>
          </a:xfrm>
        </p:grpSpPr>
        <p:sp>
          <p:nvSpPr>
            <p:cNvPr id="111" name="TextBox 43"/>
            <p:cNvSpPr/>
            <p:nvPr/>
          </p:nvSpPr>
          <p:spPr>
            <a:xfrm>
              <a:off x="1475640" y="2565000"/>
              <a:ext cx="158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B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{5; -13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1633320" y="2636640"/>
              <a:ext cx="418320" cy="0"/>
            </a:xfrm>
            <a:prstGeom prst="line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sp>
        <p:nvSpPr>
          <p:cNvPr id="113" name="TextBox 45"/>
          <p:cNvSpPr/>
          <p:nvPr/>
        </p:nvSpPr>
        <p:spPr>
          <a:xfrm>
            <a:off x="1187640" y="3069000"/>
            <a:ext cx="2160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)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 = 6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6"/>
          <p:cNvSpPr/>
          <p:nvPr/>
        </p:nvSpPr>
        <p:spPr>
          <a:xfrm>
            <a:off x="3276000" y="3069000"/>
            <a:ext cx="3096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4 – (-5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41"/>
          <p:cNvGrpSpPr/>
          <p:nvPr/>
        </p:nvGrpSpPr>
        <p:grpSpPr>
          <a:xfrm>
            <a:off x="1403640" y="4293000"/>
            <a:ext cx="1583640" cy="455400"/>
            <a:chOff x="1403640" y="4293000"/>
            <a:chExt cx="1583640" cy="455400"/>
          </a:xfrm>
        </p:grpSpPr>
        <p:sp>
          <p:nvSpPr>
            <p:cNvPr id="116" name="TextBox 48"/>
            <p:cNvSpPr/>
            <p:nvPr/>
          </p:nvSpPr>
          <p:spPr>
            <a:xfrm>
              <a:off x="1403640" y="4293000"/>
              <a:ext cx="158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B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{10; 1}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>
              <a:off x="1560960" y="4365000"/>
              <a:ext cx="418680" cy="0"/>
            </a:xfrm>
            <a:prstGeom prst="line">
              <a:avLst/>
            </a:prstGeom>
            <a:ln w="381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sp>
        <p:nvSpPr>
          <p:cNvPr id="118" name="TextBox 50"/>
          <p:cNvSpPr/>
          <p:nvPr/>
        </p:nvSpPr>
        <p:spPr>
          <a:xfrm>
            <a:off x="3132000" y="4293000"/>
            <a:ext cx="1223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-4; 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1"/>
          <p:cNvSpPr/>
          <p:nvPr/>
        </p:nvSpPr>
        <p:spPr>
          <a:xfrm>
            <a:off x="1187640" y="4869000"/>
            <a:ext cx="2376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)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14,5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- 8,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-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3348000" y="4869000"/>
            <a:ext cx="2376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,5 =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-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= 12,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427040" y="6124320"/>
            <a:ext cx="143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-6; 12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Object 1"/>
          <p:cNvGraphicFramePr/>
          <p:nvPr/>
        </p:nvGraphicFramePr>
        <p:xfrm>
          <a:off x="1619640" y="72612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640" y="72612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Прямоугольник 3"/>
          <p:cNvSpPr/>
          <p:nvPr/>
        </p:nvSpPr>
        <p:spPr>
          <a:xfrm>
            <a:off x="138600" y="79560"/>
            <a:ext cx="6305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. Координаты середины отре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5"/>
          <p:cNvCxnSpPr/>
          <p:nvPr/>
        </p:nvCxnSpPr>
        <p:spPr>
          <a:xfrm flipV="1">
            <a:off x="5027400" y="341748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127" name="Прямая со стрелкой 8"/>
          <p:cNvCxnSpPr/>
          <p:nvPr/>
        </p:nvCxnSpPr>
        <p:spPr>
          <a:xfrm>
            <a:off x="5027400" y="386784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128" name="Группа 11"/>
          <p:cNvGrpSpPr/>
          <p:nvPr/>
        </p:nvGrpSpPr>
        <p:grpSpPr>
          <a:xfrm>
            <a:off x="4667400" y="3462480"/>
            <a:ext cx="431640" cy="455400"/>
            <a:chOff x="4667400" y="3462480"/>
            <a:chExt cx="431640" cy="455400"/>
          </a:xfrm>
        </p:grpSpPr>
        <p:sp>
          <p:nvSpPr>
            <p:cNvPr id="129" name="TextBox 9"/>
            <p:cNvSpPr/>
            <p:nvPr/>
          </p:nvSpPr>
          <p:spPr>
            <a:xfrm>
              <a:off x="4667400" y="3462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 flipV="1">
              <a:off x="4753080" y="3531960"/>
              <a:ext cx="216000" cy="2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1" name="Группа 12"/>
          <p:cNvGrpSpPr/>
          <p:nvPr/>
        </p:nvGrpSpPr>
        <p:grpSpPr>
          <a:xfrm>
            <a:off x="5027400" y="3894480"/>
            <a:ext cx="431640" cy="455400"/>
            <a:chOff x="5027400" y="3894480"/>
            <a:chExt cx="431640" cy="455400"/>
          </a:xfrm>
        </p:grpSpPr>
        <p:sp>
          <p:nvSpPr>
            <p:cNvPr id="132" name="TextBox 13"/>
            <p:cNvSpPr/>
            <p:nvPr/>
          </p:nvSpPr>
          <p:spPr>
            <a:xfrm>
              <a:off x="5027400" y="3894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5113080" y="397836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34" name="Прямая со стрелкой 15"/>
          <p:cNvCxnSpPr>
            <a:endCxn id="135" idx="4"/>
          </p:cNvCxnSpPr>
          <p:nvPr/>
        </p:nvCxnSpPr>
        <p:spPr>
          <a:xfrm flipV="1">
            <a:off x="5027400" y="1289520"/>
            <a:ext cx="446400" cy="25779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sp>
        <p:nvSpPr>
          <p:cNvPr id="136" name="Овал 37"/>
          <p:cNvSpPr/>
          <p:nvPr/>
        </p:nvSpPr>
        <p:spPr>
          <a:xfrm flipH="1">
            <a:off x="6726960" y="291600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TextBox 38"/>
          <p:cNvSpPr/>
          <p:nvPr/>
        </p:nvSpPr>
        <p:spPr>
          <a:xfrm>
            <a:off x="6857640" y="276696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39"/>
          <p:cNvCxnSpPr/>
          <p:nvPr/>
        </p:nvCxnSpPr>
        <p:spPr>
          <a:xfrm flipV="1">
            <a:off x="5027400" y="3024720"/>
            <a:ext cx="1721520" cy="85788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med" type="stealth" w="med"/>
          </a:ln>
        </p:spPr>
      </p:cxnSp>
      <p:grpSp>
        <p:nvGrpSpPr>
          <p:cNvPr id="139" name="Группа 41"/>
          <p:cNvGrpSpPr/>
          <p:nvPr/>
        </p:nvGrpSpPr>
        <p:grpSpPr>
          <a:xfrm>
            <a:off x="1868400" y="872280"/>
            <a:ext cx="863640" cy="455400"/>
            <a:chOff x="1868400" y="872280"/>
            <a:chExt cx="863640" cy="455400"/>
          </a:xfrm>
        </p:grpSpPr>
        <p:sp>
          <p:nvSpPr>
            <p:cNvPr id="140" name="TextBox 42"/>
            <p:cNvSpPr/>
            <p:nvPr/>
          </p:nvSpPr>
          <p:spPr>
            <a:xfrm>
              <a:off x="1868400" y="872280"/>
              <a:ext cx="863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С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1953720" y="944280"/>
              <a:ext cx="41868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35" name="Овал 47"/>
          <p:cNvSpPr/>
          <p:nvPr/>
        </p:nvSpPr>
        <p:spPr>
          <a:xfrm flipH="1">
            <a:off x="5400720" y="114588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TextBox 49"/>
          <p:cNvSpPr/>
          <p:nvPr/>
        </p:nvSpPr>
        <p:spPr>
          <a:xfrm>
            <a:off x="5433120" y="740160"/>
            <a:ext cx="115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17"/>
          <p:cNvCxnSpPr/>
          <p:nvPr/>
        </p:nvCxnSpPr>
        <p:spPr>
          <a:xfrm flipH="1" flipV="1">
            <a:off x="5473440" y="1216080"/>
            <a:ext cx="1310040" cy="1773000"/>
          </a:xfrm>
          <a:prstGeom prst="straightConnector1">
            <a:avLst/>
          </a:prstGeom>
          <a:ln w="57150">
            <a:solidFill>
              <a:srgbClr val="00b0f0"/>
            </a:solidFill>
            <a:round/>
            <a:headEnd len="med" type="oval" w="med"/>
            <a:tailEnd len="med" type="oval" w="med"/>
          </a:ln>
        </p:spPr>
      </p:cxnSp>
      <p:grpSp>
        <p:nvGrpSpPr>
          <p:cNvPr id="144" name="Группа 58"/>
          <p:cNvGrpSpPr/>
          <p:nvPr/>
        </p:nvGrpSpPr>
        <p:grpSpPr>
          <a:xfrm>
            <a:off x="2867400" y="870120"/>
            <a:ext cx="1007640" cy="821160"/>
            <a:chOff x="2867400" y="870120"/>
            <a:chExt cx="1007640" cy="821160"/>
          </a:xfrm>
        </p:grpSpPr>
        <p:sp>
          <p:nvSpPr>
            <p:cNvPr id="145" name="TextBox 59"/>
            <p:cNvSpPr/>
            <p:nvPr/>
          </p:nvSpPr>
          <p:spPr>
            <a:xfrm>
              <a:off x="2867400" y="870120"/>
              <a:ext cx="1007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(ОА 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5"/>
            <p:cNvSpPr/>
            <p:nvPr/>
          </p:nvSpPr>
          <p:spPr>
            <a:xfrm>
              <a:off x="3096720" y="9421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7" name="Группа 61"/>
          <p:cNvGrpSpPr/>
          <p:nvPr/>
        </p:nvGrpSpPr>
        <p:grpSpPr>
          <a:xfrm>
            <a:off x="3731400" y="870120"/>
            <a:ext cx="719640" cy="455400"/>
            <a:chOff x="3731400" y="870120"/>
            <a:chExt cx="719640" cy="455400"/>
          </a:xfrm>
        </p:grpSpPr>
        <p:sp>
          <p:nvSpPr>
            <p:cNvPr id="148" name="TextBox 62"/>
            <p:cNvSpPr/>
            <p:nvPr/>
          </p:nvSpPr>
          <p:spPr>
            <a:xfrm>
              <a:off x="3731400" y="870120"/>
              <a:ext cx="71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3816720" y="942120"/>
              <a:ext cx="41868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0" name="Группа 41"/>
          <p:cNvGrpSpPr/>
          <p:nvPr/>
        </p:nvGrpSpPr>
        <p:grpSpPr>
          <a:xfrm>
            <a:off x="3011400" y="1632600"/>
            <a:ext cx="1439640" cy="455400"/>
            <a:chOff x="3011400" y="1632600"/>
            <a:chExt cx="1439640" cy="455400"/>
          </a:xfrm>
        </p:grpSpPr>
        <p:sp>
          <p:nvSpPr>
            <p:cNvPr id="151" name="TextBox 68"/>
            <p:cNvSpPr/>
            <p:nvPr/>
          </p:nvSpPr>
          <p:spPr>
            <a:xfrm>
              <a:off x="3011400" y="163260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3168720" y="1704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3" name="Группа 41"/>
          <p:cNvGrpSpPr/>
          <p:nvPr/>
        </p:nvGrpSpPr>
        <p:grpSpPr>
          <a:xfrm>
            <a:off x="3011400" y="1272600"/>
            <a:ext cx="1367640" cy="455400"/>
            <a:chOff x="3011400" y="1272600"/>
            <a:chExt cx="1367640" cy="455400"/>
          </a:xfrm>
        </p:grpSpPr>
        <p:sp>
          <p:nvSpPr>
            <p:cNvPr id="154" name="TextBox 71"/>
            <p:cNvSpPr/>
            <p:nvPr/>
          </p:nvSpPr>
          <p:spPr>
            <a:xfrm>
              <a:off x="3011400" y="1272600"/>
              <a:ext cx="136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>
              <a:off x="3168720" y="13442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156" name="Прямая соединительная линия 74"/>
          <p:cNvCxnSpPr/>
          <p:nvPr/>
        </p:nvCxnSpPr>
        <p:spPr>
          <a:xfrm>
            <a:off x="2147040" y="2064600"/>
            <a:ext cx="216072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157" name="Прямая соединительная линия 75"/>
          <p:cNvCxnSpPr/>
          <p:nvPr/>
        </p:nvCxnSpPr>
        <p:spPr>
          <a:xfrm>
            <a:off x="2839680" y="1638720"/>
            <a:ext cx="21636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158" name="TextBox 78"/>
          <p:cNvSpPr/>
          <p:nvPr/>
        </p:nvSpPr>
        <p:spPr>
          <a:xfrm>
            <a:off x="3447000" y="2064600"/>
            <a:ext cx="93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2"/>
          <p:cNvSpPr/>
          <p:nvPr/>
        </p:nvSpPr>
        <p:spPr>
          <a:xfrm>
            <a:off x="3132000" y="4388760"/>
            <a:ext cx="3816000" cy="201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TextBox 87"/>
          <p:cNvSpPr/>
          <p:nvPr/>
        </p:nvSpPr>
        <p:spPr>
          <a:xfrm>
            <a:off x="4280040" y="4376520"/>
            <a:ext cx="18036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8"/>
          <p:cNvSpPr/>
          <p:nvPr/>
        </p:nvSpPr>
        <p:spPr>
          <a:xfrm>
            <a:off x="4311360" y="4767480"/>
            <a:ext cx="1628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67"/>
          <p:cNvSpPr/>
          <p:nvPr/>
        </p:nvSpPr>
        <p:spPr>
          <a:xfrm flipH="1">
            <a:off x="6063120" y="203616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TextBox 70"/>
          <p:cNvSpPr/>
          <p:nvPr/>
        </p:nvSpPr>
        <p:spPr>
          <a:xfrm>
            <a:off x="6179760" y="176220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77"/>
          <p:cNvCxnSpPr/>
          <p:nvPr/>
        </p:nvCxnSpPr>
        <p:spPr>
          <a:xfrm flipV="1">
            <a:off x="5027400" y="2166120"/>
            <a:ext cx="1108440" cy="171432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sp>
        <p:nvSpPr>
          <p:cNvPr id="165" name="TextBox 86"/>
          <p:cNvSpPr/>
          <p:nvPr/>
        </p:nvSpPr>
        <p:spPr>
          <a:xfrm>
            <a:off x="251640" y="76464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9"/>
          <p:cNvSpPr/>
          <p:nvPr/>
        </p:nvSpPr>
        <p:spPr>
          <a:xfrm>
            <a:off x="251640" y="109512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3"/>
          <p:cNvSpPr/>
          <p:nvPr/>
        </p:nvSpPr>
        <p:spPr>
          <a:xfrm>
            <a:off x="251640" y="1599120"/>
            <a:ext cx="136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С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у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-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Объект 94"/>
          <p:cNvGraphicFramePr/>
          <p:nvPr/>
        </p:nvGraphicFramePr>
        <p:xfrm>
          <a:off x="2697840" y="692640"/>
          <a:ext cx="240840" cy="8251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69" name="Объект 9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7840" y="692640"/>
                    <a:ext cx="240840" cy="82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0" name="Прямая соединительная линия 95"/>
          <p:cNvCxnSpPr/>
          <p:nvPr/>
        </p:nvCxnSpPr>
        <p:spPr>
          <a:xfrm>
            <a:off x="2949120" y="1533240"/>
            <a:ext cx="360" cy="216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grpSp>
        <p:nvGrpSpPr>
          <p:cNvPr id="171" name="Группа 58"/>
          <p:cNvGrpSpPr/>
          <p:nvPr/>
        </p:nvGrpSpPr>
        <p:grpSpPr>
          <a:xfrm>
            <a:off x="2075040" y="2064600"/>
            <a:ext cx="1007640" cy="821160"/>
            <a:chOff x="2075040" y="2064600"/>
            <a:chExt cx="1007640" cy="821160"/>
          </a:xfrm>
        </p:grpSpPr>
        <p:sp>
          <p:nvSpPr>
            <p:cNvPr id="172" name="TextBox 97"/>
            <p:cNvSpPr/>
            <p:nvPr/>
          </p:nvSpPr>
          <p:spPr>
            <a:xfrm>
              <a:off x="2075040" y="2064600"/>
              <a:ext cx="1007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(ОА 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5"/>
            <p:cNvSpPr/>
            <p:nvPr/>
          </p:nvSpPr>
          <p:spPr>
            <a:xfrm>
              <a:off x="2304720" y="2136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4" name="Группа 61"/>
          <p:cNvGrpSpPr/>
          <p:nvPr/>
        </p:nvGrpSpPr>
        <p:grpSpPr>
          <a:xfrm>
            <a:off x="2939400" y="2064600"/>
            <a:ext cx="719640" cy="455400"/>
            <a:chOff x="2939400" y="2064600"/>
            <a:chExt cx="719640" cy="455400"/>
          </a:xfrm>
        </p:grpSpPr>
        <p:sp>
          <p:nvSpPr>
            <p:cNvPr id="175" name="TextBox 100"/>
            <p:cNvSpPr/>
            <p:nvPr/>
          </p:nvSpPr>
          <p:spPr>
            <a:xfrm>
              <a:off x="2939400" y="2064600"/>
              <a:ext cx="71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3024720" y="2136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7" name="TextBox 103"/>
          <p:cNvSpPr/>
          <p:nvPr/>
        </p:nvSpPr>
        <p:spPr>
          <a:xfrm>
            <a:off x="3447000" y="2611080"/>
            <a:ext cx="1148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Группа 58"/>
          <p:cNvGrpSpPr/>
          <p:nvPr/>
        </p:nvGrpSpPr>
        <p:grpSpPr>
          <a:xfrm>
            <a:off x="2075040" y="2611080"/>
            <a:ext cx="1007640" cy="821160"/>
            <a:chOff x="2075040" y="2611080"/>
            <a:chExt cx="1007640" cy="821160"/>
          </a:xfrm>
        </p:grpSpPr>
        <p:sp>
          <p:nvSpPr>
            <p:cNvPr id="179" name="TextBox 105"/>
            <p:cNvSpPr/>
            <p:nvPr/>
          </p:nvSpPr>
          <p:spPr>
            <a:xfrm>
              <a:off x="2075040" y="2611080"/>
              <a:ext cx="1007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(ОА +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2304720" y="268308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1" name="Группа 61"/>
          <p:cNvGrpSpPr/>
          <p:nvPr/>
        </p:nvGrpSpPr>
        <p:grpSpPr>
          <a:xfrm>
            <a:off x="2939400" y="2611080"/>
            <a:ext cx="719640" cy="455400"/>
            <a:chOff x="2939400" y="2611080"/>
            <a:chExt cx="719640" cy="455400"/>
          </a:xfrm>
        </p:grpSpPr>
        <p:sp>
          <p:nvSpPr>
            <p:cNvPr id="182" name="TextBox 108"/>
            <p:cNvSpPr/>
            <p:nvPr/>
          </p:nvSpPr>
          <p:spPr>
            <a:xfrm>
              <a:off x="2939400" y="2611080"/>
              <a:ext cx="71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В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3024720" y="268308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184" name="Object 4"/>
          <p:cNvGraphicFramePr/>
          <p:nvPr/>
        </p:nvGraphicFramePr>
        <p:xfrm>
          <a:off x="1905840" y="2422440"/>
          <a:ext cx="240840" cy="8251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840" y="2422440"/>
                    <a:ext cx="240840" cy="82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Объект 110"/>
          <p:cNvGraphicFramePr/>
          <p:nvPr/>
        </p:nvGraphicFramePr>
        <p:xfrm>
          <a:off x="3206880" y="5601960"/>
          <a:ext cx="1869840" cy="7380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87" name="Объект 1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6880" y="5601960"/>
                    <a:ext cx="18698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6"/>
          <p:cNvGraphicFramePr/>
          <p:nvPr/>
        </p:nvGraphicFramePr>
        <p:xfrm>
          <a:off x="5016600" y="5589360"/>
          <a:ext cx="1821960" cy="73620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16600" y="5589360"/>
                    <a:ext cx="1821960" cy="73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Группа 41"/>
          <p:cNvGrpSpPr/>
          <p:nvPr/>
        </p:nvGrpSpPr>
        <p:grpSpPr>
          <a:xfrm>
            <a:off x="3011400" y="3000600"/>
            <a:ext cx="1656000" cy="455400"/>
            <a:chOff x="3011400" y="3000600"/>
            <a:chExt cx="1656000" cy="455400"/>
          </a:xfrm>
        </p:grpSpPr>
        <p:sp>
          <p:nvSpPr>
            <p:cNvPr id="191" name="TextBox 112"/>
            <p:cNvSpPr/>
            <p:nvPr/>
          </p:nvSpPr>
          <p:spPr>
            <a:xfrm>
              <a:off x="3011400" y="3000600"/>
              <a:ext cx="165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2,5; 4}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>
              <a:off x="3096720" y="307260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93" name="TextBox 114"/>
          <p:cNvSpPr/>
          <p:nvPr/>
        </p:nvSpPr>
        <p:spPr>
          <a:xfrm>
            <a:off x="3299400" y="3417840"/>
            <a:ext cx="1200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2,5;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5"/>
          <p:cNvSpPr/>
          <p:nvPr/>
        </p:nvSpPr>
        <p:spPr>
          <a:xfrm>
            <a:off x="3708000" y="5157360"/>
            <a:ext cx="266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середин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Group 80"/>
          <p:cNvGraphicFramePr/>
          <p:nvPr/>
        </p:nvGraphicFramePr>
        <p:xfrm>
          <a:off x="611640" y="116640"/>
          <a:ext cx="7920360" cy="1568880"/>
        </p:xfrm>
        <a:graphic>
          <a:graphicData uri="http://schemas.openxmlformats.org/drawingml/2006/table">
            <a:tbl>
              <a:tblPr/>
              <a:tblGrid>
                <a:gridCol w="1914480"/>
                <a:gridCol w="2001960"/>
                <a:gridCol w="2001960"/>
                <a:gridCol w="2001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; -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3; -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-8; -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-6; -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; </a:t>
                      </a: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1" i="1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4; -1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Прямоугольник 17"/>
          <p:cNvSpPr/>
          <p:nvPr/>
        </p:nvSpPr>
        <p:spPr>
          <a:xfrm>
            <a:off x="179640" y="1845000"/>
            <a:ext cx="8712720" cy="5012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197" name="Объект 18"/>
          <p:cNvGraphicFramePr/>
          <p:nvPr/>
        </p:nvGraphicFramePr>
        <p:xfrm>
          <a:off x="251640" y="1923480"/>
          <a:ext cx="3456000" cy="7412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98" name="Объект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640" y="1923480"/>
                    <a:ext cx="34560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Объект 19"/>
          <p:cNvGraphicFramePr/>
          <p:nvPr/>
        </p:nvGraphicFramePr>
        <p:xfrm>
          <a:off x="3625920" y="1917000"/>
          <a:ext cx="4089600" cy="7401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00" name="Объект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5920" y="1917000"/>
                    <a:ext cx="4089600" cy="7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Box 20"/>
          <p:cNvSpPr/>
          <p:nvPr/>
        </p:nvSpPr>
        <p:spPr>
          <a:xfrm>
            <a:off x="7020360" y="247356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3; 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251640" y="2901960"/>
          <a:ext cx="2179440" cy="7408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640" y="2901960"/>
                    <a:ext cx="217944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5"/>
          <p:cNvGraphicFramePr/>
          <p:nvPr/>
        </p:nvGraphicFramePr>
        <p:xfrm>
          <a:off x="611640" y="3600360"/>
          <a:ext cx="1827000" cy="74088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0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640" y="3600360"/>
                    <a:ext cx="182700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6"/>
          <p:cNvGraphicFramePr/>
          <p:nvPr/>
        </p:nvGraphicFramePr>
        <p:xfrm>
          <a:off x="611640" y="4341240"/>
          <a:ext cx="1061640" cy="37584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640" y="4341240"/>
                    <a:ext cx="1061640" cy="37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4"/>
          <p:cNvGraphicFramePr/>
          <p:nvPr/>
        </p:nvGraphicFramePr>
        <p:xfrm>
          <a:off x="2654280" y="2887560"/>
          <a:ext cx="3717720" cy="74088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54280" y="2887560"/>
                    <a:ext cx="371772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Box 27"/>
          <p:cNvSpPr/>
          <p:nvPr/>
        </p:nvSpPr>
        <p:spPr>
          <a:xfrm>
            <a:off x="2915640" y="414144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12; 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8"/>
          <p:cNvSpPr/>
          <p:nvPr/>
        </p:nvSpPr>
        <p:spPr>
          <a:xfrm>
            <a:off x="4212000" y="414144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2;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251640" y="4820040"/>
          <a:ext cx="2179440" cy="74088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1640" y="4820040"/>
                    <a:ext cx="217944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5"/>
          <p:cNvGraphicFramePr/>
          <p:nvPr/>
        </p:nvGraphicFramePr>
        <p:xfrm>
          <a:off x="604800" y="5518080"/>
          <a:ext cx="1839600" cy="740880"/>
        </p:xfrm>
        <a:graphic>
          <a:graphicData uri="http://schemas.openxmlformats.org/presentationml/2006/ole">
            <p:oleObj progId="Equation.3" r:id="rId15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4800" y="5518080"/>
                    <a:ext cx="183960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6"/>
          <p:cNvGraphicFramePr/>
          <p:nvPr/>
        </p:nvGraphicFramePr>
        <p:xfrm>
          <a:off x="611640" y="6259320"/>
          <a:ext cx="1061640" cy="375840"/>
        </p:xfrm>
        <a:graphic>
          <a:graphicData uri="http://schemas.openxmlformats.org/presentationml/2006/ole">
            <p:oleObj progId="Equation.3" r:id="rId17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1640" y="6259320"/>
                    <a:ext cx="1061640" cy="37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4"/>
          <p:cNvGraphicFramePr/>
          <p:nvPr/>
        </p:nvGraphicFramePr>
        <p:xfrm>
          <a:off x="2665800" y="4805280"/>
          <a:ext cx="1812600" cy="740880"/>
        </p:xfrm>
        <a:graphic>
          <a:graphicData uri="http://schemas.openxmlformats.org/presentationml/2006/ole">
            <p:oleObj progId="Equation.3" r:id="rId19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65800" y="4805280"/>
                    <a:ext cx="181260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5"/>
          <p:cNvGraphicFramePr/>
          <p:nvPr/>
        </p:nvGraphicFramePr>
        <p:xfrm>
          <a:off x="2547720" y="5502240"/>
          <a:ext cx="2158560" cy="740880"/>
        </p:xfrm>
        <a:graphic>
          <a:graphicData uri="http://schemas.openxmlformats.org/presentationml/2006/ole">
            <p:oleObj progId="Equation.3" r:id="rId2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47720" y="5502240"/>
                    <a:ext cx="2158560" cy="7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2692440" y="6242040"/>
          <a:ext cx="1266480" cy="377640"/>
        </p:xfrm>
        <a:graphic>
          <a:graphicData uri="http://schemas.openxmlformats.org/presentationml/2006/ole">
            <p:oleObj progId="Equation.3" r:id="rId23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92440" y="6242040"/>
                    <a:ext cx="12664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Box 35"/>
          <p:cNvSpPr/>
          <p:nvPr/>
        </p:nvSpPr>
        <p:spPr>
          <a:xfrm>
            <a:off x="5148000" y="6134400"/>
            <a:ext cx="1656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14; -1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Object 1"/>
          <p:cNvGraphicFramePr/>
          <p:nvPr/>
        </p:nvGraphicFramePr>
        <p:xfrm>
          <a:off x="1619640" y="72612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640" y="72612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Прямоугольник 3"/>
          <p:cNvSpPr/>
          <p:nvPr/>
        </p:nvSpPr>
        <p:spPr>
          <a:xfrm>
            <a:off x="138600" y="79560"/>
            <a:ext cx="7169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. Длина вектора по его координа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5"/>
          <p:cNvCxnSpPr/>
          <p:nvPr/>
        </p:nvCxnSpPr>
        <p:spPr>
          <a:xfrm flipV="1">
            <a:off x="5027400" y="341748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230" name="Прямая со стрелкой 8"/>
          <p:cNvCxnSpPr/>
          <p:nvPr/>
        </p:nvCxnSpPr>
        <p:spPr>
          <a:xfrm>
            <a:off x="5027400" y="386784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231" name="Группа 11"/>
          <p:cNvGrpSpPr/>
          <p:nvPr/>
        </p:nvGrpSpPr>
        <p:grpSpPr>
          <a:xfrm>
            <a:off x="4667400" y="3462480"/>
            <a:ext cx="431640" cy="455400"/>
            <a:chOff x="4667400" y="3462480"/>
            <a:chExt cx="431640" cy="455400"/>
          </a:xfrm>
        </p:grpSpPr>
        <p:sp>
          <p:nvSpPr>
            <p:cNvPr id="232" name="TextBox 9"/>
            <p:cNvSpPr/>
            <p:nvPr/>
          </p:nvSpPr>
          <p:spPr>
            <a:xfrm>
              <a:off x="4667400" y="3462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4753080" y="3531960"/>
              <a:ext cx="216000" cy="2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34" name="Группа 12"/>
          <p:cNvGrpSpPr/>
          <p:nvPr/>
        </p:nvGrpSpPr>
        <p:grpSpPr>
          <a:xfrm>
            <a:off x="5027400" y="3894480"/>
            <a:ext cx="431640" cy="455400"/>
            <a:chOff x="5027400" y="3894480"/>
            <a:chExt cx="431640" cy="455400"/>
          </a:xfrm>
        </p:grpSpPr>
        <p:sp>
          <p:nvSpPr>
            <p:cNvPr id="235" name="TextBox 13"/>
            <p:cNvSpPr/>
            <p:nvPr/>
          </p:nvSpPr>
          <p:spPr>
            <a:xfrm>
              <a:off x="5027400" y="3894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>
              <a:off x="5113080" y="397836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37" name="TextBox 38"/>
          <p:cNvSpPr/>
          <p:nvPr/>
        </p:nvSpPr>
        <p:spPr>
          <a:xfrm>
            <a:off x="6444360" y="184500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41"/>
          <p:cNvGrpSpPr/>
          <p:nvPr/>
        </p:nvGrpSpPr>
        <p:grpSpPr>
          <a:xfrm>
            <a:off x="2339640" y="807120"/>
            <a:ext cx="1367640" cy="455400"/>
            <a:chOff x="2339640" y="807120"/>
            <a:chExt cx="1367640" cy="455400"/>
          </a:xfrm>
        </p:grpSpPr>
        <p:sp>
          <p:nvSpPr>
            <p:cNvPr id="239" name="TextBox 71"/>
            <p:cNvSpPr/>
            <p:nvPr/>
          </p:nvSpPr>
          <p:spPr>
            <a:xfrm>
              <a:off x="2339640" y="807120"/>
              <a:ext cx="1367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3; 4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2497320" y="8787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41" name="Прямоугольник 92"/>
          <p:cNvSpPr/>
          <p:nvPr/>
        </p:nvSpPr>
        <p:spPr>
          <a:xfrm>
            <a:off x="3780000" y="4797000"/>
            <a:ext cx="2520000" cy="129564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2" name="Прямая соединительная линия 91"/>
          <p:cNvCxnSpPr/>
          <p:nvPr/>
        </p:nvCxnSpPr>
        <p:spPr>
          <a:xfrm>
            <a:off x="5004000" y="2118960"/>
            <a:ext cx="1368360" cy="36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sp>
        <p:nvSpPr>
          <p:cNvPr id="243" name="Овал 67"/>
          <p:cNvSpPr/>
          <p:nvPr/>
        </p:nvSpPr>
        <p:spPr>
          <a:xfrm flipH="1">
            <a:off x="6299640" y="2064600"/>
            <a:ext cx="143640" cy="143640"/>
          </a:xfrm>
          <a:prstGeom prst="ellips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4" name="Прямая со стрелкой 77"/>
          <p:cNvCxnSpPr/>
          <p:nvPr/>
        </p:nvCxnSpPr>
        <p:spPr>
          <a:xfrm flipV="1">
            <a:off x="5027400" y="2132640"/>
            <a:ext cx="1344960" cy="174780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aphicFrame>
        <p:nvGraphicFramePr>
          <p:cNvPr id="245" name="Объект 110"/>
          <p:cNvGraphicFramePr/>
          <p:nvPr/>
        </p:nvGraphicFramePr>
        <p:xfrm>
          <a:off x="1917720" y="2182680"/>
          <a:ext cx="2437920" cy="3870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46" name="Объект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7720" y="2182680"/>
                    <a:ext cx="2437920" cy="38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4644000" y="4869000"/>
          <a:ext cx="917280" cy="3744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4000" y="4869000"/>
                    <a:ext cx="91728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TextBox 114"/>
          <p:cNvSpPr/>
          <p:nvPr/>
        </p:nvSpPr>
        <p:spPr>
          <a:xfrm>
            <a:off x="2655000" y="1209600"/>
            <a:ext cx="100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3;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Группа 41"/>
          <p:cNvGrpSpPr/>
          <p:nvPr/>
        </p:nvGrpSpPr>
        <p:grpSpPr>
          <a:xfrm>
            <a:off x="107640" y="908640"/>
            <a:ext cx="1439640" cy="455400"/>
            <a:chOff x="107640" y="908640"/>
            <a:chExt cx="1439640" cy="455400"/>
          </a:xfrm>
        </p:grpSpPr>
        <p:sp>
          <p:nvSpPr>
            <p:cNvPr id="251" name="TextBox 79"/>
            <p:cNvSpPr/>
            <p:nvPr/>
          </p:nvSpPr>
          <p:spPr>
            <a:xfrm>
              <a:off x="107640" y="908640"/>
              <a:ext cx="1439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OA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{3; </a:t>
              </a: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264960" y="980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grpSp>
        <p:nvGrpSpPr>
          <p:cNvPr id="253" name="Группа 41"/>
          <p:cNvGrpSpPr/>
          <p:nvPr/>
        </p:nvGrpSpPr>
        <p:grpSpPr>
          <a:xfrm>
            <a:off x="107640" y="1484640"/>
            <a:ext cx="1151640" cy="455400"/>
            <a:chOff x="107640" y="1484640"/>
            <a:chExt cx="1151640" cy="455400"/>
          </a:xfrm>
        </p:grpSpPr>
        <p:sp>
          <p:nvSpPr>
            <p:cNvPr id="254" name="TextBox 82"/>
            <p:cNvSpPr/>
            <p:nvPr/>
          </p:nvSpPr>
          <p:spPr>
            <a:xfrm>
              <a:off x="107640" y="1484640"/>
              <a:ext cx="115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|OA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| - 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>
              <a:off x="293040" y="1556640"/>
              <a:ext cx="418320" cy="0"/>
            </a:xfrm>
            <a:prstGeom prst="line">
              <a:avLst/>
            </a:prstGeom>
            <a:ln w="381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ffff00"/>
                </a:solidFill>
                <a:latin typeface="Arial Narrow"/>
              </a:endParaRPr>
            </a:p>
          </p:txBody>
        </p:sp>
      </p:grpSp>
      <p:cxnSp>
        <p:nvCxnSpPr>
          <p:cNvPr id="256" name="Прямая соединительная линия 85"/>
          <p:cNvCxnSpPr/>
          <p:nvPr/>
        </p:nvCxnSpPr>
        <p:spPr>
          <a:xfrm flipV="1">
            <a:off x="6343920" y="2222280"/>
            <a:ext cx="360" cy="1653120"/>
          </a:xfrm>
          <a:prstGeom prst="straightConnector1">
            <a:avLst/>
          </a:prstGeom>
          <a:ln w="28575">
            <a:solidFill>
              <a:srgbClr val="000000"/>
            </a:solidFill>
            <a:prstDash val="lgDash"/>
            <a:round/>
          </a:ln>
        </p:spPr>
      </p:cxnSp>
      <p:sp>
        <p:nvSpPr>
          <p:cNvPr id="257" name="TextBox 90"/>
          <p:cNvSpPr/>
          <p:nvPr/>
        </p:nvSpPr>
        <p:spPr>
          <a:xfrm>
            <a:off x="6156000" y="386100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96"/>
          <p:cNvSpPr/>
          <p:nvPr/>
        </p:nvSpPr>
        <p:spPr>
          <a:xfrm>
            <a:off x="4694760" y="188964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04"/>
          <p:cNvSpPr/>
          <p:nvPr/>
        </p:nvSpPr>
        <p:spPr>
          <a:xfrm>
            <a:off x="6129000" y="3655080"/>
            <a:ext cx="215640" cy="2156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TextBox 107"/>
          <p:cNvSpPr/>
          <p:nvPr/>
        </p:nvSpPr>
        <p:spPr>
          <a:xfrm>
            <a:off x="6286680" y="357300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11"/>
          <p:cNvSpPr/>
          <p:nvPr/>
        </p:nvSpPr>
        <p:spPr>
          <a:xfrm>
            <a:off x="5580000" y="377928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5"/>
          <p:cNvSpPr/>
          <p:nvPr/>
        </p:nvSpPr>
        <p:spPr>
          <a:xfrm>
            <a:off x="6331320" y="2781000"/>
            <a:ext cx="3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Группа 41"/>
          <p:cNvGrpSpPr/>
          <p:nvPr/>
        </p:nvGrpSpPr>
        <p:grpSpPr>
          <a:xfrm>
            <a:off x="2195640" y="1599120"/>
            <a:ext cx="1511640" cy="455400"/>
            <a:chOff x="2195640" y="1599120"/>
            <a:chExt cx="1511640" cy="455400"/>
          </a:xfrm>
        </p:grpSpPr>
        <p:sp>
          <p:nvSpPr>
            <p:cNvPr id="264" name="TextBox 117"/>
            <p:cNvSpPr/>
            <p:nvPr/>
          </p:nvSpPr>
          <p:spPr>
            <a:xfrm>
              <a:off x="2195640" y="1599120"/>
              <a:ext cx="151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 = 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2353320" y="16711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266" name="Объект 119"/>
          <p:cNvGraphicFramePr/>
          <p:nvPr/>
        </p:nvGraphicFramePr>
        <p:xfrm>
          <a:off x="1897200" y="2580840"/>
          <a:ext cx="2460240" cy="3870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67" name="Объект 1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97200" y="2580840"/>
                    <a:ext cx="2460240" cy="38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Объект 120"/>
          <p:cNvGraphicFramePr/>
          <p:nvPr/>
        </p:nvGraphicFramePr>
        <p:xfrm>
          <a:off x="1904040" y="2942640"/>
          <a:ext cx="1847520" cy="3409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69" name="Объект 1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4040" y="2942640"/>
                    <a:ext cx="1847520" cy="34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0" name="Группа 41"/>
          <p:cNvGrpSpPr/>
          <p:nvPr/>
        </p:nvGrpSpPr>
        <p:grpSpPr>
          <a:xfrm>
            <a:off x="1763640" y="3399480"/>
            <a:ext cx="1511640" cy="455400"/>
            <a:chOff x="1763640" y="3399480"/>
            <a:chExt cx="1511640" cy="455400"/>
          </a:xfrm>
        </p:grpSpPr>
        <p:sp>
          <p:nvSpPr>
            <p:cNvPr id="271" name="TextBox 122"/>
            <p:cNvSpPr/>
            <p:nvPr/>
          </p:nvSpPr>
          <p:spPr>
            <a:xfrm>
              <a:off x="1763640" y="3399480"/>
              <a:ext cx="151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O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 = 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5"/>
            <p:cNvSpPr/>
            <p:nvPr/>
          </p:nvSpPr>
          <p:spPr>
            <a:xfrm>
              <a:off x="1921320" y="347112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273" name="Object 6"/>
          <p:cNvGraphicFramePr/>
          <p:nvPr/>
        </p:nvGraphicFramePr>
        <p:xfrm>
          <a:off x="4212000" y="5445360"/>
          <a:ext cx="1755360" cy="46620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27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2000" y="5445360"/>
                    <a:ext cx="1755360" cy="46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Object 1"/>
          <p:cNvGraphicFramePr/>
          <p:nvPr/>
        </p:nvGraphicFramePr>
        <p:xfrm>
          <a:off x="1619640" y="726120"/>
          <a:ext cx="7151760" cy="58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640" y="726120"/>
                    <a:ext cx="7151760" cy="58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Прямоугольник 3"/>
          <p:cNvSpPr/>
          <p:nvPr/>
        </p:nvSpPr>
        <p:spPr>
          <a:xfrm>
            <a:off x="138600" y="79560"/>
            <a:ext cx="71694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f5c"/>
                </a:solidFill>
                <a:latin typeface="Calibri"/>
              </a:rPr>
              <a:t>4</a:t>
            </a:r>
            <a:r>
              <a:rPr b="1" lang="ru-RU" sz="3200" spc="-1" strike="noStrike">
                <a:solidFill>
                  <a:srgbClr val="ff9f5c"/>
                </a:solidFill>
                <a:latin typeface="Calibri"/>
              </a:rPr>
              <a:t>. Расстояние между двумя то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Прямая со стрелкой 5"/>
          <p:cNvCxnSpPr/>
          <p:nvPr/>
        </p:nvCxnSpPr>
        <p:spPr>
          <a:xfrm flipV="1">
            <a:off x="5027400" y="3417480"/>
            <a:ext cx="360" cy="432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cxnSp>
        <p:nvCxnSpPr>
          <p:cNvPr id="280" name="Прямая со стрелкой 8"/>
          <p:cNvCxnSpPr/>
          <p:nvPr/>
        </p:nvCxnSpPr>
        <p:spPr>
          <a:xfrm>
            <a:off x="5027400" y="3867840"/>
            <a:ext cx="432360" cy="3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pSp>
        <p:nvGrpSpPr>
          <p:cNvPr id="281" name="Группа 11"/>
          <p:cNvGrpSpPr/>
          <p:nvPr/>
        </p:nvGrpSpPr>
        <p:grpSpPr>
          <a:xfrm>
            <a:off x="4667400" y="3462480"/>
            <a:ext cx="431640" cy="455400"/>
            <a:chOff x="4667400" y="3462480"/>
            <a:chExt cx="431640" cy="455400"/>
          </a:xfrm>
        </p:grpSpPr>
        <p:sp>
          <p:nvSpPr>
            <p:cNvPr id="282" name="TextBox 9"/>
            <p:cNvSpPr/>
            <p:nvPr/>
          </p:nvSpPr>
          <p:spPr>
            <a:xfrm>
              <a:off x="4667400" y="3462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5"/>
            <p:cNvSpPr/>
            <p:nvPr/>
          </p:nvSpPr>
          <p:spPr>
            <a:xfrm flipV="1">
              <a:off x="4753080" y="3531960"/>
              <a:ext cx="216000" cy="216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84" name="Группа 12"/>
          <p:cNvGrpSpPr/>
          <p:nvPr/>
        </p:nvGrpSpPr>
        <p:grpSpPr>
          <a:xfrm>
            <a:off x="5027400" y="3894480"/>
            <a:ext cx="431640" cy="455400"/>
            <a:chOff x="5027400" y="3894480"/>
            <a:chExt cx="431640" cy="455400"/>
          </a:xfrm>
        </p:grpSpPr>
        <p:sp>
          <p:nvSpPr>
            <p:cNvPr id="285" name="TextBox 13"/>
            <p:cNvSpPr/>
            <p:nvPr/>
          </p:nvSpPr>
          <p:spPr>
            <a:xfrm>
              <a:off x="5027400" y="3894480"/>
              <a:ext cx="43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5"/>
            <p:cNvSpPr/>
            <p:nvPr/>
          </p:nvSpPr>
          <p:spPr>
            <a:xfrm>
              <a:off x="5113080" y="3978360"/>
              <a:ext cx="216000" cy="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cxnSp>
        <p:nvCxnSpPr>
          <p:cNvPr id="287" name="Прямая со стрелкой 47"/>
          <p:cNvCxnSpPr/>
          <p:nvPr/>
        </p:nvCxnSpPr>
        <p:spPr>
          <a:xfrm flipH="1" flipV="1">
            <a:off x="5473440" y="1216080"/>
            <a:ext cx="1310040" cy="1773000"/>
          </a:xfrm>
          <a:prstGeom prst="straightConnector1">
            <a:avLst/>
          </a:prstGeom>
          <a:ln w="57150">
            <a:solidFill>
              <a:srgbClr val="00b0f0"/>
            </a:solidFill>
            <a:round/>
            <a:headEnd len="med" type="oval" w="med"/>
            <a:tailEnd len="med" type="oval" w="med"/>
          </a:ln>
        </p:spPr>
      </p:cxnSp>
      <p:cxnSp>
        <p:nvCxnSpPr>
          <p:cNvPr id="288" name="Прямая со стрелкой 77"/>
          <p:cNvCxnSpPr/>
          <p:nvPr/>
        </p:nvCxnSpPr>
        <p:spPr>
          <a:xfrm flipH="1" flipV="1">
            <a:off x="5436000" y="1196640"/>
            <a:ext cx="1368360" cy="18003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headEnd len="med" type="oval" w="med"/>
            <a:tailEnd len="lg" type="stealth" w="med"/>
          </a:ln>
        </p:spPr>
      </p:cxnSp>
      <p:graphicFrame>
        <p:nvGraphicFramePr>
          <p:cNvPr id="289" name="Объект 110"/>
          <p:cNvGraphicFramePr/>
          <p:nvPr/>
        </p:nvGraphicFramePr>
        <p:xfrm>
          <a:off x="1835640" y="1845000"/>
          <a:ext cx="3117600" cy="3744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90" name="Объект 1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640" y="1845000"/>
                    <a:ext cx="31176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Группа 41"/>
          <p:cNvGrpSpPr/>
          <p:nvPr/>
        </p:nvGrpSpPr>
        <p:grpSpPr>
          <a:xfrm>
            <a:off x="2195640" y="908640"/>
            <a:ext cx="1511640" cy="455400"/>
            <a:chOff x="2195640" y="908640"/>
            <a:chExt cx="1511640" cy="455400"/>
          </a:xfrm>
        </p:grpSpPr>
        <p:sp>
          <p:nvSpPr>
            <p:cNvPr id="292" name="TextBox 117"/>
            <p:cNvSpPr/>
            <p:nvPr/>
          </p:nvSpPr>
          <p:spPr>
            <a:xfrm>
              <a:off x="2195640" y="908640"/>
              <a:ext cx="151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В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| = A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>
              <a:off x="2353320" y="98064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aphicFrame>
        <p:nvGraphicFramePr>
          <p:cNvPr id="294" name="Object 6"/>
          <p:cNvGraphicFramePr/>
          <p:nvPr/>
        </p:nvGraphicFramePr>
        <p:xfrm>
          <a:off x="2267640" y="1344600"/>
          <a:ext cx="2039400" cy="4996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7640" y="1344600"/>
                    <a:ext cx="2039400" cy="49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Box 45"/>
          <p:cNvSpPr/>
          <p:nvPr/>
        </p:nvSpPr>
        <p:spPr>
          <a:xfrm>
            <a:off x="6857640" y="276696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6"/>
          <p:cNvSpPr/>
          <p:nvPr/>
        </p:nvSpPr>
        <p:spPr>
          <a:xfrm>
            <a:off x="5433120" y="740160"/>
            <a:ext cx="115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;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0"/>
          <p:cNvSpPr/>
          <p:nvPr/>
        </p:nvSpPr>
        <p:spPr>
          <a:xfrm>
            <a:off x="251640" y="76464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1"/>
          <p:cNvSpPr/>
          <p:nvPr/>
        </p:nvSpPr>
        <p:spPr>
          <a:xfrm>
            <a:off x="251640" y="109512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;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2"/>
          <p:cNvSpPr/>
          <p:nvPr/>
        </p:nvSpPr>
        <p:spPr>
          <a:xfrm>
            <a:off x="251640" y="1628640"/>
            <a:ext cx="10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АВ -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Объект 54"/>
          <p:cNvGraphicFramePr/>
          <p:nvPr/>
        </p:nvGraphicFramePr>
        <p:xfrm>
          <a:off x="1821960" y="2262240"/>
          <a:ext cx="2980800" cy="3744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02" name="Объект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1960" y="2262240"/>
                    <a:ext cx="29808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6"/>
          <p:cNvGraphicFramePr/>
          <p:nvPr/>
        </p:nvGraphicFramePr>
        <p:xfrm>
          <a:off x="1745640" y="2697120"/>
          <a:ext cx="3762000" cy="52200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30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45640" y="2697120"/>
                    <a:ext cx="37620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6"/>
          <p:cNvGraphicFramePr/>
          <p:nvPr/>
        </p:nvGraphicFramePr>
        <p:xfrm>
          <a:off x="1791000" y="3285000"/>
          <a:ext cx="1018800" cy="28224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91000" y="3285000"/>
                    <a:ext cx="101880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Прямоугольник 69"/>
          <p:cNvSpPr/>
          <p:nvPr/>
        </p:nvSpPr>
        <p:spPr>
          <a:xfrm>
            <a:off x="2699640" y="4725000"/>
            <a:ext cx="489636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TextBox 70"/>
          <p:cNvSpPr/>
          <p:nvPr/>
        </p:nvSpPr>
        <p:spPr>
          <a:xfrm>
            <a:off x="4242960" y="472500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3"/>
          <p:cNvSpPr/>
          <p:nvPr/>
        </p:nvSpPr>
        <p:spPr>
          <a:xfrm>
            <a:off x="4242960" y="515736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Объект 78"/>
          <p:cNvGraphicFramePr/>
          <p:nvPr/>
        </p:nvGraphicFramePr>
        <p:xfrm>
          <a:off x="2771640" y="5733360"/>
          <a:ext cx="4762080" cy="53316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311" name="Объект 7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1640" y="5733360"/>
                    <a:ext cx="47620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"/>
          <p:cNvSpPr/>
          <p:nvPr/>
        </p:nvSpPr>
        <p:spPr>
          <a:xfrm>
            <a:off x="683640" y="476640"/>
            <a:ext cx="309600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1578600" y="53496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1578600" y="96696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Группа 41"/>
          <p:cNvGrpSpPr/>
          <p:nvPr/>
        </p:nvGrpSpPr>
        <p:grpSpPr>
          <a:xfrm>
            <a:off x="759240" y="1470960"/>
            <a:ext cx="2993040" cy="505800"/>
            <a:chOff x="759240" y="1470960"/>
            <a:chExt cx="2993040" cy="505800"/>
          </a:xfrm>
        </p:grpSpPr>
        <p:sp>
          <p:nvSpPr>
            <p:cNvPr id="316" name="TextBox 5"/>
            <p:cNvSpPr/>
            <p:nvPr/>
          </p:nvSpPr>
          <p:spPr>
            <a:xfrm>
              <a:off x="759240" y="1470960"/>
              <a:ext cx="2993040" cy="5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5"/>
            <p:cNvSpPr/>
            <p:nvPr/>
          </p:nvSpPr>
          <p:spPr>
            <a:xfrm>
              <a:off x="916920" y="1542960"/>
              <a:ext cx="418320" cy="0"/>
            </a:xfrm>
            <a:prstGeom prst="line">
              <a:avLst/>
            </a:prstGeom>
            <a:ln w="381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 anchorCtr="1">
              <a:noAutofit/>
            </a:bodyPr>
            <a:p>
              <a:endParaRPr b="1" lang="ru-RU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8" name="Прямоугольник 7"/>
          <p:cNvSpPr/>
          <p:nvPr/>
        </p:nvSpPr>
        <p:spPr>
          <a:xfrm>
            <a:off x="4572000" y="332640"/>
            <a:ext cx="3816000" cy="201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4712040" y="404640"/>
            <a:ext cx="18036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4743360" y="795600"/>
            <a:ext cx="1628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Объект 10"/>
          <p:cNvGraphicFramePr/>
          <p:nvPr/>
        </p:nvGraphicFramePr>
        <p:xfrm>
          <a:off x="4646880" y="1401840"/>
          <a:ext cx="1869840" cy="7380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22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880" y="1401840"/>
                    <a:ext cx="186984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6"/>
          <p:cNvGraphicFramePr/>
          <p:nvPr/>
        </p:nvGraphicFramePr>
        <p:xfrm>
          <a:off x="6456600" y="1389240"/>
          <a:ext cx="1821960" cy="7362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2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6600" y="1389240"/>
                    <a:ext cx="1821960" cy="73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Прямоугольник 12"/>
          <p:cNvSpPr/>
          <p:nvPr/>
        </p:nvSpPr>
        <p:spPr>
          <a:xfrm>
            <a:off x="3348000" y="2781000"/>
            <a:ext cx="2520000" cy="129564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326" name="Object 6"/>
          <p:cNvGraphicFramePr/>
          <p:nvPr/>
        </p:nvGraphicFramePr>
        <p:xfrm>
          <a:off x="4170960" y="2925000"/>
          <a:ext cx="917280" cy="3744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32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0960" y="2925000"/>
                    <a:ext cx="91728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6"/>
          <p:cNvGraphicFramePr/>
          <p:nvPr/>
        </p:nvGraphicFramePr>
        <p:xfrm>
          <a:off x="3780000" y="3429000"/>
          <a:ext cx="1755360" cy="4662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32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3429000"/>
                    <a:ext cx="1755360" cy="46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Прямоугольник 15"/>
          <p:cNvSpPr/>
          <p:nvPr/>
        </p:nvSpPr>
        <p:spPr>
          <a:xfrm>
            <a:off x="2195640" y="4725000"/>
            <a:ext cx="4896360" cy="1656000"/>
          </a:xfrm>
          <a:prstGeom prst="rect">
            <a:avLst/>
          </a:prstGeom>
          <a:solidFill>
            <a:schemeClr val="bg1"/>
          </a:solidFill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TextBox 16"/>
          <p:cNvSpPr/>
          <p:nvPr/>
        </p:nvSpPr>
        <p:spPr>
          <a:xfrm>
            <a:off x="3738960" y="4725000"/>
            <a:ext cx="162468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3738960" y="5157360"/>
            <a:ext cx="15116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Объект 18"/>
          <p:cNvGraphicFramePr/>
          <p:nvPr/>
        </p:nvGraphicFramePr>
        <p:xfrm>
          <a:off x="2267640" y="5733360"/>
          <a:ext cx="4762080" cy="5331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334" name="Объект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7640" y="5733360"/>
                    <a:ext cx="47620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Box 19"/>
          <p:cNvSpPr/>
          <p:nvPr/>
        </p:nvSpPr>
        <p:spPr>
          <a:xfrm>
            <a:off x="6300360" y="620640"/>
            <a:ext cx="19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е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8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  <Words>603</Words>
  <Paragraphs>131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14:41Z</dcterms:created>
  <dc:creator>Максимовская</dc:creator>
  <dc:description/>
  <dc:language>en-US</dc:language>
  <cp:lastModifiedBy>Admin</cp:lastModifiedBy>
  <dcterms:modified xsi:type="dcterms:W3CDTF">2013-10-23T19:31:18Z</dcterms:modified>
  <cp:revision>1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