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CCC6-A2C4-47B8-ACE0-78275186B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713A-4A04-41F4-9F8A-C9EFCFDD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E06C-66AD-449E-82BE-425BE06C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5925-B825-4A48-B95B-EBF0797F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FE0E-5DB0-48E5-B0EB-09E3E33EC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23C2-A013-45E6-BFA0-9DB04C9D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F191-0FA5-4E1A-89C9-9552314D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CD9F-C2E5-4A16-A99D-DDB806C3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93E2-E469-48F8-A62B-FB4B3365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0ED2-3087-41A5-A637-5E8DAC18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BBAE-8D99-4825-B32E-472BFC6D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ED6B-954F-47E2-A101-E4FB5CBB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B1E8-6CD5-4C6E-93D9-45240ECE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7F03-9DFB-472A-B9EB-7D7FC903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CEB6-A6E9-45B8-9A0F-FBFD709D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155A-6928-4149-839C-DE67BC17B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7062-65C6-481A-BB0F-081D2789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AA5F-048F-4C93-B75E-5BFFB98A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6A6A-8D9F-4956-A14A-AA92C728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F418-EF63-4F44-BF96-1FD41BD5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E613-DD2D-4115-983F-638C0650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BD92-F864-48BA-A95C-E384C066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A351-0B11-408D-84B6-4729B0F6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9A21-8D4B-4824-A9D6-74E61AB7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3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4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17C7-882E-4CD2-B03B-246FBAFA5F54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5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1228-E588-464A-8081-37596E04EB05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Arial"/>
              </a:rPr>
              <a:t>Вопросы для повторения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авовой статус человека и  гражданин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еждународные нормативно-правовые акты по правам челове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ава и свободы гражданина РФ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бязанности гражданина РФ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9214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3. Правоспособность и дееспособность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42920" y="981000"/>
            <a:ext cx="7705800" cy="792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Гражданская правоспособност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 это способность субъект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меть гражданские права и нести обязан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24360" y="2205000"/>
            <a:ext cx="1942920" cy="7192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действу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2360" y="1773360"/>
            <a:ext cx="0" cy="431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42920" y="2205000"/>
            <a:ext cx="2737080" cy="7192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ческие ли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2205000"/>
            <a:ext cx="2736720" cy="7192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Юридические ли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2997360"/>
            <a:ext cx="3600360" cy="8632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момента рожде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о момента смер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2997360"/>
            <a:ext cx="3600360" cy="8632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момента регистрац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рганизации до момент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квид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42920" y="3933720"/>
            <a:ext cx="7705800" cy="1008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Гражданская дееспособност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 способность субъекта своим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ействиями приобретать и осуществлять гражданские прав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здавать для себя гражданские обязанности и исполнять и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59280" y="4941720"/>
            <a:ext cx="0" cy="5032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42920" y="5013360"/>
            <a:ext cx="2737080" cy="360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ческие ли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5013360"/>
            <a:ext cx="2736720" cy="360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Юридические ли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445000"/>
            <a:ext cx="1942920" cy="792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действу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5516640"/>
            <a:ext cx="2736720" cy="718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18 ле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совершеннолет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5516640"/>
            <a:ext cx="2736720" cy="718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момент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егистр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Уровни дееспособности граждан РФ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042920" y="1268280"/>
            <a:ext cx="7705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Уровни дееспособности граждан РФ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042920" y="1268280"/>
            <a:ext cx="7848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Уровни дееспособности граждан РФ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900000" y="981000"/>
            <a:ext cx="799308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Уровни дееспособности граждан РФ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00000" y="907920"/>
            <a:ext cx="7993080" cy="2087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900000" y="3141720"/>
            <a:ext cx="79200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42920" y="907920"/>
            <a:ext cx="7705800" cy="720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Собственност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 это отношение лица к принадлежащей ему вещ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к к свое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7705800" cy="45291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82400"/>
                </a:solidFill>
                <a:latin typeface="Garamond"/>
              </a:rPr>
              <a:t>4. Собственность, право собственности, формы и собственности</a:t>
            </a:r>
            <a:endParaRPr b="0" i="1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5436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1581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572000" y="1557360"/>
            <a:ext cx="4572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5. Сделки, виды сделок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42920" y="836640"/>
            <a:ext cx="7777080" cy="936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Сделк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действие граждан и юридических лиц, направленное 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становление, изменение или прекращение гражданских прав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язанност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7921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5. Сделки, виды сделок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971640" y="907920"/>
            <a:ext cx="7921440" cy="28101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971640" y="3716280"/>
            <a:ext cx="7921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482400"/>
                </a:solidFill>
                <a:latin typeface="Times New Roman"/>
              </a:rPr>
              <a:t>Домашнее задание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116000" y="1125360"/>
            <a:ext cx="7632720" cy="5112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§12 читать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веть на вопросы и задания после §1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шить проблему, выполнить практику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овые слова выучить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бочая тетрадь, задания к §1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5. Сделки, виды сделок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87280" y="907920"/>
            <a:ext cx="7561440" cy="4334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Форма сделк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 это способ выражения воли субъектов сдел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87280" y="1484280"/>
            <a:ext cx="1513080" cy="1008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Устна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делк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87280" y="4437000"/>
            <a:ext cx="2521080" cy="1800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Нотариальн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удостоверенны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делк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87280" y="2637000"/>
            <a:ext cx="2521080" cy="1726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делк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вершаем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ост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исьменной форм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43280" y="1484280"/>
            <a:ext cx="5976720" cy="1008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делка, для которой законом или соглашение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орон не установлена письменная (проста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ли нотариальная) форм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80000" y="2637000"/>
            <a:ext cx="5040000" cy="1726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) сделки юридических лиц между соб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с гражданами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) сделки граждан между собой на сумму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евышающую не менее чем в 10 раз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становленный законом МРО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51280" y="4437000"/>
            <a:ext cx="4968720" cy="1800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) в случаях, указанных в законе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) в случаях, предусмотре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глашением сторон, хотя бы п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кону для сделок дан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ида эта форма не требовалась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6. Договора, виды договоров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836640"/>
            <a:ext cx="7848360" cy="720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Догово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 соглашение двух или нескольких лиц об установле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зменении или прекращении гражданских прав и обязанност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770580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921440" cy="615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900000" y="260280"/>
            <a:ext cx="79930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7. Гражданско-правовая ответственность, её виды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71640" y="981000"/>
            <a:ext cx="7848360" cy="1656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Гражданско-правовая ответственност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 установленные норм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ражданского права юридические последствия неисполнения и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надлежащего исполнения лицом предусмотренных граждански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авом обязанностей, что влечет за собой наруш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убъективных гражданских прав другого ли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42920" y="2708280"/>
            <a:ext cx="504720" cy="3600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19280" y="2708280"/>
            <a:ext cx="7200720" cy="8650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Является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имущественно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 поскольку гражданское пра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ежде всего регулирует имущественные отношен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19280" y="3645000"/>
            <a:ext cx="7200720" cy="8636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сит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омпенсационный характе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так как направлена 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сстановление нарушенных имущественных прав кредито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19280" y="4581360"/>
            <a:ext cx="7200720" cy="936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меет целью принуждение должника к исполнен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ложенных на него законом или договором юридически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язанност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19280" y="5589720"/>
            <a:ext cx="7200720" cy="718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вляется средством  предупреждения граждански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онарушений в будуще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848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848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900000" y="260280"/>
            <a:ext cx="7993080" cy="13701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900000" y="1628640"/>
            <a:ext cx="7993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Право и имущественные отношения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рок 18-1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4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82400"/>
                </a:solidFill>
                <a:latin typeface="Times New Roman"/>
              </a:rPr>
              <a:t>План урока</a:t>
            </a:r>
            <a:endParaRPr b="0" i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042920" y="907920"/>
            <a:ext cx="7705800" cy="5400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Понятие и источник гражданског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права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2. Физические и юридические лица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3. Правоспособность и дееспособность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4. Собственность, право собственности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формы и собственности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5. Сделки, виды сделок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6. Договора, виды договоров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7. Гражданско-правовая ответственность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её вид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.  Понятие и источники гражданского права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907920"/>
            <a:ext cx="4033800" cy="2016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Гражданское прав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– отрасл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ава, нормы которой регулирую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оговорные и иные обязательств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 также другие имуществ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 связанные с ними личн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имущественные отнош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3068640"/>
            <a:ext cx="4032360" cy="792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Гражданское законодатель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находится в ведении Р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48360" y="907920"/>
            <a:ext cx="3671640" cy="5400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42920" y="3933720"/>
            <a:ext cx="4033800" cy="2374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Гражданского кодекса РФ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часть (1995 г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часть (1996 г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часть (2001 г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часть (2008 г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921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. Физические и юридические лица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42920" y="2492280"/>
            <a:ext cx="7777080" cy="10810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Физическое лиц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человек как субъект права (носитель пра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и обязанностей), в отличие от юридических лиц, должностных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лиц и публично-правовых образовани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11280" y="907920"/>
            <a:ext cx="4681800" cy="720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убъекты гражданского пра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42920" y="1844640"/>
            <a:ext cx="3529080" cy="504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ческие ли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19640" y="1844640"/>
            <a:ext cx="3529080" cy="432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Юридические ли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16360" y="3573360"/>
            <a:ext cx="0" cy="5050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42920" y="4076640"/>
            <a:ext cx="3816360" cy="2160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Физические лица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аждане Р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остранные гражда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ица без граждан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апатрид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76720" y="4076640"/>
            <a:ext cx="3672000" cy="2160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Главной характеристикой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физического лица являетс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правосубъектность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т.е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способность стать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участником граждански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равоотношени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848360" cy="60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. Физические и юридические лица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907920"/>
            <a:ext cx="7705800" cy="25210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Юриди́ческое лицо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- созданная и зарегистрированная 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тановленном законом порядке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рганизац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которая имеет 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бственности, хозяйственном ведении или оперативно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правлении обособленное имущество и отвечает по свои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язательствам этим имуществом, может от своего имен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обретать и осуществлять имущественные и личн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имущественные права, нести обязанности, быть истцом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ветчиком в суд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3500280"/>
            <a:ext cx="3673440" cy="2808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Организационное единств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нутренняя структу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рганизац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личие орган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правле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личие учредитель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окумент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мущественн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особленност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88000" y="3500280"/>
            <a:ext cx="3960720" cy="7207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Имущественна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обособленност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4292640"/>
            <a:ext cx="3960720" cy="8650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3. Самостоятельная гражданско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равовая ответственн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5229360"/>
            <a:ext cx="3960720" cy="10792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. Выступление 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гражданском обороте и судебны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органах от своего имени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4T09:35:37Z</dcterms:created>
  <dc:creator>User</dc:creator>
  <dc:description/>
  <dc:language>en-US</dc:language>
  <cp:lastModifiedBy>User</cp:lastModifiedBy>
  <dcterms:modified xsi:type="dcterms:W3CDTF">2011-02-05T15:40:10Z</dcterms:modified>
  <cp:revision>149</cp:revision>
  <dc:subject/>
  <dc:title>Слайд 1</dc:title>
</cp:coreProperties>
</file>