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F31-DE87-4662-B5F1-A41E83C9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98C-E032-4564-B92E-74ED375F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5D9-6CE4-4107-A120-45131E0C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7C3-5843-4F63-BFF4-96B10DA5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0114-7E51-4233-8604-E7A0E0C3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D82C-CED4-4C98-94F5-DDB63627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8561-7641-4FB7-97D3-64CA9443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14EF-74BF-434F-B3A1-531BD4C2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E9A0-6600-45AD-9798-0B6281E8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FA4D-63F8-414D-AF9A-CA5AEF06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1F29-A655-4D86-BF2C-6B320B8A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9F7-8646-459B-B211-542C4107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8C34-B477-4FC1-B1A0-E6ACEEB5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F100-1A79-49E5-9C7E-6BF30ADC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508C-ECEA-4E57-BCFE-5EF2EB59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F9D7-028A-439E-96D9-5FB8BEC0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090E-551D-41D2-B45D-80AD36F5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9ED-E203-4672-9AB7-60C26325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86A-2E06-418B-9094-8EDA8C75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9DD-AAE1-4C41-8407-0C4D27AA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ECD-E056-4C8C-94D4-29A7EDF1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DC2-52F6-4217-BC1C-4238607B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A4C-DF88-4F53-8AD2-9CD714DD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DDE-E63D-4285-AB81-D9C00A07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C5DA-A78F-4BA7-A025-575806374C13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4A3A-C955-4969-A85F-FB08151F0082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Arial"/>
              </a:rPr>
              <a:t>Вопросы для повторения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авовой статус человека и  граждани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еждународные нормативно-правовые акты по правам челове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ава и свободы гражданина РФ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язанности гражданина Р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 Правоспособность и дееспособность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981000"/>
            <a:ext cx="7705800" cy="792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ражданская правоспособно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это способность субъек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меть гражданские права и нести обяза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2205000"/>
            <a:ext cx="194292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ейству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1773360"/>
            <a:ext cx="0" cy="431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2205000"/>
            <a:ext cx="273708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2205000"/>
            <a:ext cx="273672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Юрид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997360"/>
            <a:ext cx="3600360" cy="863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момента рожд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о момента смер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2997360"/>
            <a:ext cx="3600360" cy="863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момента регистр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изации до момен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квид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3933720"/>
            <a:ext cx="7705800" cy="100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ражданская дееспособно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способность субъекта свои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йствиями приобретать и осуществлять гражданские пра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здавать для себя гражданские обязанности и исполнять 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4941720"/>
            <a:ext cx="0" cy="503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5013360"/>
            <a:ext cx="2737080" cy="360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5013360"/>
            <a:ext cx="2736720" cy="360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Юрид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445000"/>
            <a:ext cx="1942920" cy="792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ейству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5516640"/>
            <a:ext cx="2736720" cy="718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18 л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совершеннолет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516640"/>
            <a:ext cx="2736720" cy="718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момен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гист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Уровни дееспособности граждан РФ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7705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Уровни дееспособности граждан РФ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784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Уровни дееспособности граждан РФ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99308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Уровни дееспособности граждан РФ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7993080" cy="2087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792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907920"/>
            <a:ext cx="770580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обственно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это отношение лица к принадлежащей ему вещ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 к сво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7705800" cy="4529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82400"/>
                </a:solidFill>
                <a:latin typeface="Garamond"/>
              </a:rPr>
              <a:t>4. Собственность, право собственности, формы и собственности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1581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1557360"/>
            <a:ext cx="457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 Сделки, виды сделок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836640"/>
            <a:ext cx="7777080" cy="936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делк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действие граждан и юридических лиц, направленное 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тановление, изменение или прекращение гражданских прав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язанност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7921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 Сделки, виды сделок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7921440" cy="2810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971640" y="3716280"/>
            <a:ext cx="7921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82400"/>
                </a:solidFill>
                <a:latin typeface="Times New Roman"/>
              </a:rPr>
              <a:t>Домашнее задание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116000" y="1125360"/>
            <a:ext cx="7632720" cy="511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§12 чит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веть на вопросы и задания после §1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шить проблему, выполнить практику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вые слова выучи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бочая тетрадь, задания к §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 Сделки, виды сделок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907920"/>
            <a:ext cx="7561440" cy="433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Форма сдел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это способ выражения воли субъектов сде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1484280"/>
            <a:ext cx="1513080" cy="100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Устна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дел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4437000"/>
            <a:ext cx="2521080" cy="1800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Нотариальн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удостоверенны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дел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2637000"/>
            <a:ext cx="2521080" cy="1726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делк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вершаем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ост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исьменной форм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1484280"/>
            <a:ext cx="5976720" cy="100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делка, для которой законом или соглашени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орон не установлена письменная (прост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ли нотариальная) фор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80000" y="2637000"/>
            <a:ext cx="5040000" cy="1726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 сделки юридических лиц между соб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с гражданами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 сделки граждан между собой на сумму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вышающую не менее чем в 10 ра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тановленный законом МРО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4437000"/>
            <a:ext cx="4968720" cy="1800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 в случаях, указанных в законе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 в случаях, предусмотр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глашением сторон, хотя бы п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кону для сделок да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да эта форма не требовалась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. Договора, виды договоров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836640"/>
            <a:ext cx="784836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огово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соглашение двух или нескольких лиц об установле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менении или прекращении гражданских прав и обязанно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7058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7993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. Гражданско-правовая ответственность, её виды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981000"/>
            <a:ext cx="7848360" cy="1656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ражданско-правовая ответственно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установленные норм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ажданского права юридические последствия неисполнения и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надлежащего исполнения лицом предусмотренных гражданск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ом обязанностей, что влечет за собой нару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бъективных гражданских прав другого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2708280"/>
            <a:ext cx="504720" cy="3600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2708280"/>
            <a:ext cx="7200720" cy="865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Является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мущественн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 поскольку гражданское 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жде всего регулирует имущественные отнош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3645000"/>
            <a:ext cx="7200720" cy="863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сит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мпенсационный характе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так как направлена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становление нарушенных имущественных прав кредит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4581360"/>
            <a:ext cx="7200720" cy="936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ет целью принуждение должника к исполн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ложенных на него законом или договором юридическ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язаннос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5589720"/>
            <a:ext cx="7200720" cy="718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вляется средством  предупреждения гражданск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нарушений в будущ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848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848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7993080" cy="1370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900000" y="1628640"/>
            <a:ext cx="7993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Право и имущественные отношения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ок 18-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82400"/>
                </a:solidFill>
                <a:latin typeface="Times New Roman"/>
              </a:rPr>
              <a:t>План урока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042920" y="907920"/>
            <a:ext cx="7705800" cy="540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Понятие и источник гражданског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права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2. Физические и юридические лица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3. Правоспособность и дееспособность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4. Собственность, право собственности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формы и собственност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5. Сделки, виды сделок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6. Договора, виды договоров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7. Гражданско-правовая ответственность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её вид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.  Понятие и источники гражданского прав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907920"/>
            <a:ext cx="4033800" cy="201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Гражданское прав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отрасл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а, нормы которой регулирую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оговорные и иные обязательст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также другие имуще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 связанные с ними лич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имущественные отно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3068640"/>
            <a:ext cx="403236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ражданское законодатель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находится в ведении Р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907920"/>
            <a:ext cx="3671640" cy="540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3933720"/>
            <a:ext cx="4033800" cy="2374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Гражданского кодекса Р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часть (1995 г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часть (1996 г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часть (2001 г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часть (2008 г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. Физические и юридические лиц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2492280"/>
            <a:ext cx="7777080" cy="1081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Физическое лиц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человек как субъект права (носитель пра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 обязанностей), в отличие от юридических лиц, должностных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лиц и публично-правовых образован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907920"/>
            <a:ext cx="468180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убъекты гражданского пр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1844640"/>
            <a:ext cx="3529080" cy="504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1844640"/>
            <a:ext cx="3529080" cy="43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Юрид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3573360"/>
            <a:ext cx="0" cy="5050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4076640"/>
            <a:ext cx="3816360" cy="216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изические лица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ждане Р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остранные гражд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ца без граждан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апатрид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4076640"/>
            <a:ext cx="3672000" cy="216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Главной характеристико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изического лица являетс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правосубъектность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т.е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пособность ста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частником граждански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авоотношени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84836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. Физические и юридические лиц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907920"/>
            <a:ext cx="7705800" cy="2521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Юриди́ческое лицо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- созданная и зарегистрированная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ленном законом порядк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рганиз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которая имеет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ственности, хозяйственном ведении или оперативн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влении обособленное имущество и отвечает по сво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язательствам этим имуществом, может от своего имен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обретать и осуществлять имущественные и лич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имущественные права, нести обязанности, быть истцом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ветчиком в суд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3500280"/>
            <a:ext cx="3673440" cy="2808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рганизационное единств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нутренняя стру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из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личие орга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пра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личие учредитель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окумен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муществен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особленнос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3500280"/>
            <a:ext cx="396072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Имущественн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бособленнос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4292640"/>
            <a:ext cx="3960720" cy="865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. Самостоятельная гражданск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авовая ответствен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5229360"/>
            <a:ext cx="3960720" cy="107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Выступление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ражданском обороте и судеб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рганах от своего имени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9:35:37Z</dcterms:created>
  <dc:creator>User</dc:creator>
  <dc:description/>
  <dc:language>en-US</dc:language>
  <cp:lastModifiedBy>User</cp:lastModifiedBy>
  <dcterms:modified xsi:type="dcterms:W3CDTF">2011-02-05T15:40:10Z</dcterms:modified>
  <cp:revision>149</cp:revision>
  <dc:subject/>
  <dc:title>Слайд 1</dc:title>
</cp:coreProperties>
</file>