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230-0B83-4EA0-8FB8-49390ADE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033-654F-470A-ACCB-34281773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210-FCB6-42C1-9B23-F9F37E80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4AC-070E-41DA-ABEF-935924B1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0267-7FB9-4A58-91B5-24B39595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A30A-3C5F-4BD8-B2BF-3888E285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F294-58E6-4DBA-8A4E-45AB6362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E76E-795B-483C-B466-9865172F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53CB-CB11-4625-82B5-BE6404BB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1A76-4C22-4DE5-A51A-142071BF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0F7D-3C45-4F70-869B-E0B5562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E3F-FA00-4EEE-8FC0-4D006434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10D4-2A38-46C9-83BF-8A7EC69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7A62-E1AA-4DC8-8761-8A27BE47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FAB3-AAAD-4033-B304-626C4B8A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B1D0-2C66-4EFD-AD54-3EA6638A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756F-E161-47C9-AF5D-F6573198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D13-D38C-409A-9896-7E12F2C6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827-41D2-4BD0-803C-3437C5BF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2A2-CA0F-4991-B19B-77C194D5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398-68CF-4237-A78E-0D77D633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AE7-43AF-437F-9BDA-FBB7A27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154-2DF3-4454-AE6B-BA72D1AA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AE1-FAC4-48A7-B8E4-B790067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9EA7-3DCA-491C-A1FF-75BA3369917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5D54-8E21-4151-923A-39BCCF916BEB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Arial"/>
              </a:rPr>
              <a:t>Вопросы для повторе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авовой статус человека и  граждани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еждународные нормативно-правовые акты по правам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ава и свободы гражданина РФ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язанности гражданина Р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 Правоспособность и дееспособность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981000"/>
            <a:ext cx="770580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ая правоспособ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это способность субъек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еть гражданские права и нести обяза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2205000"/>
            <a:ext cx="194292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ейству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1773360"/>
            <a:ext cx="0" cy="431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2205000"/>
            <a:ext cx="2737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2205000"/>
            <a:ext cx="273672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997360"/>
            <a:ext cx="3600360" cy="863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момента рожд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 момента см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997360"/>
            <a:ext cx="3600360" cy="863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момента регист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ации до момен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квид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933720"/>
            <a:ext cx="770580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ая дееспособ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способность субъекта сво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йствиями приобретать и осуществлять гражданские пра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здавать для себя гражданские обязанности и исполнять 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4941720"/>
            <a:ext cx="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5013360"/>
            <a:ext cx="2737080" cy="36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013360"/>
            <a:ext cx="2736720" cy="36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445000"/>
            <a:ext cx="194292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ейству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5516640"/>
            <a:ext cx="273672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18 л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совершеннолет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516640"/>
            <a:ext cx="273672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момен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гист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84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9930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7993080" cy="208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792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907920"/>
            <a:ext cx="770580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обствен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это отношение лица к принадлежащей ему ве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к сво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7705800" cy="4529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2400"/>
                </a:solidFill>
                <a:latin typeface="Garamond"/>
              </a:rPr>
              <a:t>4. Собственность, право собственности, формы и собственности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1581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 Сделки, виды сделок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836640"/>
            <a:ext cx="777708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дел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действие граждан и юридических лиц, направленное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ановление, изменение или прекращение гражданских прав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язаннос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 Сделки, виды сделок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921440" cy="2810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7921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116000" y="1125360"/>
            <a:ext cx="7632720" cy="511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12 чит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веть на вопросы и задания после §1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шить проблему, выполнить практику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вые слова выучи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чая тетрадь, задания к §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 Сделки, виды сделок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907920"/>
            <a:ext cx="7561440" cy="433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Форма сдел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это способ выражения воли субъектов сде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484280"/>
            <a:ext cx="151308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Устна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4437000"/>
            <a:ext cx="2521080" cy="18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отариальн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удостоверенны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2637000"/>
            <a:ext cx="2521080" cy="1726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вершае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ост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исьменной форм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1484280"/>
            <a:ext cx="597672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а, для которой законом или соглаше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рон не установлена письменная (прост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ли нотариальная) фор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80000" y="2637000"/>
            <a:ext cx="5040000" cy="1726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сделки юридических лиц между соб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с гражданами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сделки граждан между собой на сумм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вышающую не менее чем в 10 ра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ановленный законом МРО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4437000"/>
            <a:ext cx="4968720" cy="18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в случаях, указанных в законе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в случаях, предусмот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глашением сторон, хотя бы 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кону для сделок да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да эта форма не требовалась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. Договора, виды договоров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836640"/>
            <a:ext cx="784836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огово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соглашение двух или нескольких лиц об установле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менении или прекращении гражданских прав и обязан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7058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993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. Гражданско-правовая ответственность, её виды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981000"/>
            <a:ext cx="7848360" cy="165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о-правовая ответствен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установленные норм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ажданского права юридические последствия неисполнения и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надлежащего исполнения лицом предусмотренных гражданск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м обязанностей, что влечет за собой нару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бъективных гражданских прав другого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2708280"/>
            <a:ext cx="504720" cy="36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2708280"/>
            <a:ext cx="7200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вляетс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мущественн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поскольку гражданское 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жде всего регулирует имущественные отнош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3645000"/>
            <a:ext cx="7200720" cy="863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сит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пенсационный характе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ак как направлена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становление нарушенных имущественных прав креди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4581360"/>
            <a:ext cx="720072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ет целью принуждение должника к исполн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ложенных на него законом или договором юридичес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ннос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5589720"/>
            <a:ext cx="720072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ляется средством  предупреждения гражданск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нарушений в будущ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848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8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993080" cy="1370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7993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Право и имущественные отноше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18-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82400"/>
                </a:solidFill>
                <a:latin typeface="Times New Roman"/>
              </a:rPr>
              <a:t>План урока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2920" y="907920"/>
            <a:ext cx="7705800" cy="540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Понятие и источник гражданског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прав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2. Физические и юридические лиц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3. Правоспособность и дееспособность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4. Собственность, право собственност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формы и собственност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5. Сделки, виды сделок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6. Договора, виды договоров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7. Гражданско-правовая ответственность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её вид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.  Понятие и источники гражданского прав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907920"/>
            <a:ext cx="4033800" cy="201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Гражданское пра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отрас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а, нормы которой регулиру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говорные и иные обязательст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также другие имуще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 связанные с ними лич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имущественные 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068640"/>
            <a:ext cx="403236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ое законодатель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аходится в ведении Р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907920"/>
            <a:ext cx="3671640" cy="540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3933720"/>
            <a:ext cx="4033800" cy="237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ражданского кодекса Р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часть (1995 г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часть (1996 г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часть (2001 г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часть (2008 г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 Физические и юридические лиц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492280"/>
            <a:ext cx="777708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Физическое лиц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человек как субъект права (носитель пра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 обязанностей), в отличие от юридических лиц, должностны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лиц и публично-правовых образова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907920"/>
            <a:ext cx="468180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убъекты гражданского п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844640"/>
            <a:ext cx="3529080" cy="504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844640"/>
            <a:ext cx="3529080" cy="43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3573360"/>
            <a:ext cx="0" cy="505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4076640"/>
            <a:ext cx="3816360" cy="216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изические лиц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ждане Р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остранные гражд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ца без граждан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апатрид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076640"/>
            <a:ext cx="3672000" cy="216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Главной характеристико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изического лица явля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правосубъектность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т.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пособность ста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частником граждански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авоотношени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84836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 Физические и юридические лиц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907920"/>
            <a:ext cx="7705800" cy="252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Юриди́ческое лицо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- созданная и зарегистрированная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ом законом порядк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рганиз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которая имеет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ственности, хозяйственном ведении или оперативн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влении обособленное имущество и отвечает по сво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тельствам этим имуществом, может от своего име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обретать и осуществлять имущественные и лич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имущественные права, нести обязанности, быть истцом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чиком в суд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500280"/>
            <a:ext cx="3673440" cy="2808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рганизационное единст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утрення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личие орг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личие учредите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кумен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уществен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обленнос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3500280"/>
            <a:ext cx="396072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Имуществен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бособлен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4292640"/>
            <a:ext cx="3960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. Самостоятельная гражданск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авовая ответстве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5229360"/>
            <a:ext cx="3960720" cy="107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Выступление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ом обороте и судеб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рганах от своего имен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9:35:37Z</dcterms:created>
  <dc:creator>User</dc:creator>
  <dc:description/>
  <dc:language>en-US</dc:language>
  <cp:lastModifiedBy>User</cp:lastModifiedBy>
  <dcterms:modified xsi:type="dcterms:W3CDTF">2011-02-05T15:40:10Z</dcterms:modified>
  <cp:revision>149</cp:revision>
  <dc:subject/>
  <dc:title>Слайд 1</dc:title>
</cp:coreProperties>
</file>