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E8E-75CD-4DF7-87EA-42092BBD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BF0-5419-4B1B-ABB3-C3E51EE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01A-62C8-42B8-8FCF-E4ABD8F8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630-0C16-449D-96EC-8FBF6725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0476-4089-4E89-B292-6C215CB7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F23E-1D22-437B-8D56-2AAF06F8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8A09-FA5B-4FA9-A32B-6031C82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7B9-3C32-4672-90BE-63CE9121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03F-3C4C-4C51-BC0D-68F1A06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939-A478-41C3-839F-0F827C8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E597-FCA4-488C-8044-BD92636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987-4FA4-4FF8-AD40-7C030DB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B6E7-3C33-40D7-A1B1-FC54A6C1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8E97-F66C-46EC-B9D9-CB746FE7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0CC0-48F7-40FD-A441-AEE3461A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591-21BE-46DD-8790-A6ED71D7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2F5-D9CF-41E3-9B43-D650CDB5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F29-9003-4F7F-A4B9-9868CAD7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B4C-4D67-4502-95FC-8E60925F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178-82A2-48A7-8393-6807783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5C8-88EE-423C-BE41-47D4FDE6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805-3D15-47A8-8737-7757D33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235-5735-4676-A99A-5148A73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EF1-231D-418B-AFB6-3609341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51D3-16B7-468A-83E1-277B8EA2CD9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9C6D-34EA-41E5-8B5A-48C0AEE77E1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60e"/>
                </a:solidFill>
                <a:latin typeface="Arial"/>
              </a:rPr>
              <a:t>Правила поведения при пожар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>
            <a:lum bright="18000"/>
          </a:blip>
          <a:srcRect l="0" t="0" r="-2299" b="11908"/>
          <a:stretch/>
        </p:blipFill>
        <p:spPr>
          <a:xfrm>
            <a:off x="2195640" y="1484280"/>
            <a:ext cx="316836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9800" y="4365720"/>
            <a:ext cx="321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Лоретц Анна Васильевна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МОУ «СОШ №17»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Забывчивый  охотник на прив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е разметал , не растоптал кост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в лес ушёл , а ветки догорал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нехотя чадили до ут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А утром ветер разогнал туман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ожил потухающий костёр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, сыпля  искры впереди полян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агровые лохмотья распростёр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всю траву с цветами выжег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усты спалил , в зелёный лес пошёл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ак  испуганная стая белок рыжих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заметался со ствола на ствол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лес гудел от огненной метели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 морозным треском падали ствол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как снежинки , искры с них летел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д серыми сугробами золы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2411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60e"/>
                </a:solidFill>
                <a:latin typeface="Arial"/>
              </a:rPr>
              <a:t>Безопасность при лесных пожар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пределите направление ветра и распространения огня, бегите из леса навстреч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етру по возможности параллельно фронту пожа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вы в зоне пожара окунитесь в ближайший водоём или хотя бы смочите одежду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дышите через мокрый плато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огонь небольшой можно засыпать землёй или залить вод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отушив  пожар, не уходите, не убедившись, что огонь не разгорит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60e"/>
                </a:solidFill>
                <a:latin typeface="Arial"/>
              </a:rPr>
              <a:t>НЕЛЬЗ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льзоваться открытым огнём ( бросать горящие спички ,окурки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ставлять на освещенных солнцем местах  бутылки или осколки стекла, котор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гут стать зажигательными линз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жига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азводи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9360">
            <a:solidFill>
              <a:srgbClr val="65b2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ПРАВИЛА  ПОЖАРНЫЕ   БЕЗ  ЗАПИНКИ  ЗНАЙТЕ!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ПРАВИЛА  ПОЖАРНЫЕ  СТРОГО  СОБЛЮДАЙТЕ!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омните: жизнь – самое дорогое, что есть у человека. Берегите е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03640" y="4292640"/>
            <a:ext cx="2519280" cy="2338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rot="5400000">
            <a:off x="4356000" y="4149360"/>
            <a:ext cx="360360" cy="1944720"/>
          </a:xfrm>
          <a:custGeom>
            <a:avLst/>
            <a:gdLst>
              <a:gd name="textAreaLeft" fmla="*/ 0 w 360360"/>
              <a:gd name="textAreaRight" fmla="*/ 252720 w 360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60e"/>
                </a:solidFill>
                <a:latin typeface="Arial"/>
              </a:rPr>
              <a:t>Пожар в кварти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зовите  пожарную  охрану  по  телефону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0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ведите  на  улицу  детей  и престарелы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 очаг  возгорания  невелик,  попробуй  его  потушить самостоятельно ( из  водопровода, стиральным  порошком, плотной  тканью 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прещается  тушить  водой  включённые электроприбо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общи  о  пожаре  соседям, позови  их  на помощ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не можешь справиться с огнём  немедленно покинь квартиру. Отключи по  возможности электричество, газ, закрой  окн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48360" y="4780080"/>
            <a:ext cx="2987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и выходе из квартиры защитите глаза и органы дыхания от дыма респиратором, ватно-марлевой повязкой, смоченными водой куском ткани или полотенцем. Двигайтесь пригнувшись или ползком (внизу меньше дыма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покинуть квартиру невозможно, постарайся пробраться на балкон, плотно закрой за собой дверь и зови на помощ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и в коем случае не прыгай с балкона, оставайся на месте – пожарные обязательно тебя спасут и кричите : ,, ПОЖАР!”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на тебе загорелась одежда, падай на пол и катайся, чтобы сбить пламя,  либо накинь на себя очень плотную ткан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Храните документы и деньги в месте, известном всем членам семьи, на случай внезапной эвакуации при пожар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240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60e"/>
                </a:solidFill>
                <a:latin typeface="Arial"/>
              </a:rPr>
              <a:t>Если загорелся телевизор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бесточьте телевизо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ообщите в пожарную охран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о избежание отравления продуктами             горения немедленно удалите                                             из помещения людей, в первую очередь дет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после отключения телевизор продолжает гореть, залейте его водой через отверстия задней стенки, находясь при этом сбоку от аппарата, или накройте его плотной ткань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горение продолжается выбросьте телевизор в окно, не забыв при этом посмотреть вни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 телевизор  взорвался  и  пожар  усилился , покиньте  помещение закрыв  двери  и  окна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60e"/>
                </a:solidFill>
                <a:latin typeface="Arial"/>
              </a:rPr>
              <a:t>Пожар в подвал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воните в пожарную охран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и в коем случае не пытайтесь сами проникнуть в подвал, это может закончиться для вас трагичн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из-за пожара в подвале появился дым откройте окна (но не дверь на лестничную площадку) и покиньте дом, оповестив сосед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59280" y="4797360"/>
            <a:ext cx="3492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бирайтесь либо низко пригнувшись либо ползком дыша через мокрую ткань или полотенц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блудившись, выходите в сторону тяги дым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 НАЙДЯ ВЫХОДА, ЛЯГТЕ В ПРОХОДЕ, ГДЕ ТЕМПЕРАТУРА НЕ ОЧЕНЬ ВЫСОКА И ПОСТАРАЙТЕСЬ ЧЕМ-НИБУДЬ НАКРЫТЬ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 -  простой  номер  его  всякий  запомнит .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 – короткий  номер , при  пожаре  дорога  каждая  минута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-  удобный  номер , его  легко  набрать  даже  в  темноте 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5:38:54Z</dcterms:created>
  <dc:creator>Лёша</dc:creator>
  <dc:description/>
  <dc:language>en-US</dc:language>
  <cp:lastModifiedBy>Admin</cp:lastModifiedBy>
  <dcterms:modified xsi:type="dcterms:W3CDTF">2011-09-18T03:28:50Z</dcterms:modified>
  <cp:revision>8</cp:revision>
  <dc:subject/>
  <dc:title> Безопасность при пожа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300207f7000400038000</vt:lpwstr>
  </property>
</Properties>
</file>