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C669-C81F-4A9D-A1BD-88A7E680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1FE7-CF12-42CA-9688-E4678372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F214-ED41-42ED-A890-D1342B2C8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1123-DB06-4E31-9570-4C234B22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F037-A387-4238-A85E-FDD861C1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47C1-C731-49A3-B757-CD56CBE7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3A8A-3807-4CB5-9562-F3D21D15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519D-5372-4ECF-8472-CA767BDF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3CEB-6B72-4BFE-96B3-14B7D4DF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04A7-9145-4498-AEC5-16BD1DEB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E1A4-45C3-46EF-9498-A7722669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FE3B-7AEA-45C3-809C-0AEDCABC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3503-A2D0-478F-B951-05AF9503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5071-4C83-430D-B606-21777399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3E25-AE25-4866-9521-8A10C713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076F-8075-4830-9EF3-74143E82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37F3-1378-4529-9059-7F632C7DB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2D35-0662-4F9A-BFCB-D4521C2B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7530-2A4E-497C-AE58-2467C245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4F11-FBFA-47FD-87CB-EE4ED2D2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25D6-6B18-4FB5-8B19-A5746299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2787-E8C5-422E-BFDF-06753463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1EA6-BBAA-4037-9B74-99662E38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ED65-0716-47B7-BEB9-9F558429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84B6-2465-4B56-BB34-96B53EE33AFA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51DF-3887-40B3-8E00-059F08D6E11B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60e"/>
                </a:solidFill>
                <a:latin typeface="Arial"/>
              </a:rPr>
              <a:t>Правила поведения при пожаре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427640" y="3357720"/>
            <a:ext cx="4427280" cy="3321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>
            <a:lum bright="18000"/>
          </a:blip>
          <a:srcRect l="0" t="0" r="-2299" b="11908"/>
          <a:stretch/>
        </p:blipFill>
        <p:spPr>
          <a:xfrm>
            <a:off x="2195640" y="1484280"/>
            <a:ext cx="3168360" cy="2232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69800" y="4365720"/>
            <a:ext cx="3213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60e"/>
                </a:solidFill>
                <a:latin typeface="Arial"/>
              </a:rPr>
              <a:t>Лоретц Анна Васильевна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60e"/>
                </a:solidFill>
                <a:latin typeface="Arial"/>
              </a:rPr>
              <a:t>учитель начальных классов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60e"/>
                </a:solidFill>
                <a:latin typeface="Arial"/>
              </a:rPr>
              <a:t>МОУ «СОШ №17»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60e"/>
                </a:solidFill>
                <a:latin typeface="Arial"/>
              </a:rPr>
              <a:t>г. Краснотурьинск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60e"/>
                </a:solidFill>
                <a:latin typeface="Arial"/>
              </a:rPr>
              <a:t>Свердловская обла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Забывчивый  охотник на привал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Не разметал , не растоптал костр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Он в лес ушёл , а ветки догорали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И нехотя чадили до утр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А утром ветер разогнал туманы 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И ожил потухающий костёр 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И , сыпля  искры впереди поляны 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Багровые лохмотья распростёр 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Он всю траву с цветами выжег 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Кусты спалил , в зелёный лес пошёл 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Как  испуганная стая белок рыжих 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Он заметался со ствола на ствол 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И лес гудел от огненной метели 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С морозным треском падали стволы 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И как снежинки , искры с них летел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Над серыми сугробами золы 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732720" y="836640"/>
            <a:ext cx="24112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60e"/>
                </a:solidFill>
                <a:latin typeface="Arial"/>
              </a:rPr>
              <a:t>Безопасность при лесных пожарах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Определите направление ветра и распространения огня, бегите из леса навстречу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ветру по возможности параллельно фронту пожар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Если вы в зоне пожара окунитесь в ближайший водоём или хотя бы смочите одежду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дышите через мокрый платок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Если огонь небольшой можно засыпать землёй или залить водо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Потушив  пожар, не уходите, не убедившись, что огонь не разгоритс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60e"/>
                </a:solidFill>
                <a:latin typeface="Arial"/>
              </a:rPr>
              <a:t>НЕЛЬЗЯ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Пользоваться открытым огнём ( бросать горящие спички ,окурки 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Оставлять на освещенных солнцем местах  бутылки или осколки стекла, которы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могут стать зажигательными линзам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Выжигать трав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Разводить трав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5040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5013360"/>
            <a:ext cx="9144000" cy="1844640"/>
          </a:xfrm>
          <a:prstGeom prst="rect">
            <a:avLst/>
          </a:prstGeom>
          <a:noFill/>
          <a:ln w="9360">
            <a:solidFill>
              <a:srgbClr val="65b2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ПРАВИЛА  ПОЖАРНЫЕ   БЕЗ  ЗАПИНКИ  ЗНАЙТЕ!</a:t>
            </a:r>
            <a:br>
              <a:rPr sz="2800"/>
            </a:b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ПРАВИЛА  ПОЖАРНЫЕ  СТРОГО  СОБЛЮДАЙТЕ!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Помните: жизнь – самое дорогое, что есть у человека. Берегите ее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203640" y="4292640"/>
            <a:ext cx="2519280" cy="23382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 rot="5400000">
            <a:off x="4356000" y="4149360"/>
            <a:ext cx="360360" cy="1944720"/>
          </a:xfrm>
          <a:custGeom>
            <a:avLst/>
            <a:gdLst>
              <a:gd name="textAreaLeft" fmla="*/ 0 w 360360"/>
              <a:gd name="textAreaRight" fmla="*/ 252720 w 360360"/>
              <a:gd name="textAreaTop" fmla="*/ 486000 h 1944720"/>
              <a:gd name="textAreaBottom" fmla="*/ 14587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6b6b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60e"/>
                </a:solidFill>
                <a:latin typeface="Arial"/>
              </a:rPr>
              <a:t>Пожар в квартир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Вызовите  пожарную  охрану  по  телефону </a:t>
            </a: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0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Выведите  на  улицу  детей  и престарелых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Если  очаг  возгорания  невелик,  попробуй  его  потушить самостоятельно ( из  водопровода, стиральным  порошком, плотной  тканью 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076720" y="4437000"/>
            <a:ext cx="29527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Запрещается  тушить  водой  включённые электроприборы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Сообщи  о  пожаре  соседям, позови  их  на помощь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Если не можешь справиться с огнём  немедленно покинь квартиру. Отключи по  возможности электричество, газ, закрой  окн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148360" y="4780080"/>
            <a:ext cx="298764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424720" cy="66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При выходе из квартиры защитите глаза и органы дыхания от дыма респиратором, ватно-марлевой повязкой, смоченными водой куском ткани или полотенцем. Двигайтесь пригнувшись или ползком (внизу меньше дыма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Если покинуть квартиру невозможно, постарайся пробраться на балкон, плотно закрой за собой дверь и зови на помощ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Ни в коем случае не прыгай с балкона, оставайся на месте – пожарные обязательно тебя спасут и кричите : ,, ПОЖАР!”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Если на тебе загорелась одежда, падай на пол и катайся, чтобы сбить пламя,  либо накинь на себя очень плотную ткань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Храните документы и деньги в месте, известном всем членам семьи, на случай внезапной эвакуации при пожаре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700360" y="3789360"/>
            <a:ext cx="3240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60e"/>
                </a:solidFill>
                <a:latin typeface="Arial"/>
              </a:rPr>
              <a:t>Если загорелся телевизор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Обесточьте телевизор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Сообщите в пожарную охрану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Во избежание отравления продуктами             горения немедленно удалите                                             из помещения людей, в первую очередь дете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Если после отключения телевизор продолжает гореть, залейте его водой через отверстия задней стенки, находясь при этом сбоку от аппарата, или накройте его плотной тканью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Если горение продолжается выбросьте телевизор в окно, не забыв при этом посмотреть вниз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Если  телевизор  взорвался  и  пожар  усилился , покиньте  помещение закрыв  двери  и  окна 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435800" y="0"/>
            <a:ext cx="170820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75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60e"/>
                </a:solidFill>
                <a:latin typeface="Arial"/>
              </a:rPr>
              <a:t>Пожар в подвал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Звоните в пожарную охран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Ни в коем случае не пытайтесь сами проникнуть в подвал, это может закончиться для вас трагично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Если из-за пожара в подвале появился дым откройте окна (но не дверь на лестничную площадку) и покиньте дом, оповестив сосед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859280" y="4797360"/>
            <a:ext cx="34927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Выбирайтесь либо низко пригнувшись либо ползком дыша через мокрую ткань или полотенц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Заблудившись, выходите в сторону тяги дым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НЕ НАЙДЯ ВЫХОДА, ЛЯГТЕ В ПРОХОДЕ, ГДЕ ТЕМПЕРАТУРА НЕ ОЧЕНЬ ВЫСОКА И ПОСТАРАЙТЕСЬ ЧЕМ-НИБУДЬ НАКРЫТЬ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aeaea"/>
                </a:solidFill>
                <a:latin typeface="Arial"/>
              </a:rPr>
              <a:t>,,</a:t>
            </a: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01</a:t>
            </a:r>
            <a:r>
              <a:rPr b="1" i="1" lang="en-US" sz="4800" spc="-1" strike="noStrike">
                <a:solidFill>
                  <a:srgbClr val="eaeaea"/>
                </a:solidFill>
                <a:latin typeface="Arial"/>
              </a:rPr>
              <a:t>” -  простой  номер  его  всякий  запомнит .</a:t>
            </a: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aeaea"/>
                </a:solidFill>
                <a:latin typeface="Arial"/>
              </a:rPr>
              <a:t>,,</a:t>
            </a: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01</a:t>
            </a:r>
            <a:r>
              <a:rPr b="1" i="1" lang="en-US" sz="4800" spc="-1" strike="noStrike">
                <a:solidFill>
                  <a:srgbClr val="eaeaea"/>
                </a:solidFill>
                <a:latin typeface="Arial"/>
              </a:rPr>
              <a:t>” – короткий  номер , при  пожаре  дорога  каждая  минута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aeaea"/>
                </a:solidFill>
                <a:latin typeface="Arial"/>
              </a:rPr>
              <a:t>,,</a:t>
            </a: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01</a:t>
            </a:r>
            <a:r>
              <a:rPr b="1" i="1" lang="en-US" sz="4800" spc="-1" strike="noStrike">
                <a:solidFill>
                  <a:srgbClr val="eaeaea"/>
                </a:solidFill>
                <a:latin typeface="Arial"/>
              </a:rPr>
              <a:t>”-  удобный  номер , его  легко  набрать  даже  в  темноте 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7T05:38:54Z</dcterms:created>
  <dc:creator>Лёша</dc:creator>
  <dc:description/>
  <dc:language>en-US</dc:language>
  <cp:lastModifiedBy>Admin</cp:lastModifiedBy>
  <dcterms:modified xsi:type="dcterms:W3CDTF">2011-09-18T03:28:50Z</dcterms:modified>
  <cp:revision>8</cp:revision>
  <dc:subject/>
  <dc:title> Безопасность при пожар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50000000000010250300207f7000400038000</vt:lpwstr>
  </property>
</Properties>
</file>