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E2A-AD43-495A-8FF6-D3DF0A93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0D-5F62-4865-9DE9-C1843091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E01-3653-4E97-8533-F2872862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3AD-2E13-4CCB-88F9-54D79818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B092-ECD5-48A9-9322-1B7EEEC9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56EA-886D-4964-A65B-1FB88FA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FA8E-2634-4F3E-B998-4AC1712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9F8-A212-44BE-A319-1E58F5B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33EA-E885-4C70-B2B0-13D4607F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E29A-D96E-4CB8-A181-B281A6B1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9EC-D2B3-4ACE-8C06-600B0D9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D72-877B-47F8-ACCB-73AD383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5686-B619-490F-8968-F201A11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1366-FFAB-4117-B083-C530EE3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C751-4B42-448B-A345-0E45F78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B46D-212A-4EA7-903B-77E7C418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C77-3ECB-4FAA-8B49-2257670A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678-0DB7-445C-A451-6C512FEB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A17-61AF-4C71-BAA0-625B5C8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444-8B8A-4594-BD3E-38880E8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4A3-E892-41EC-818F-0F6E02EE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178-5EA0-446E-BF46-571ECDE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E8E-D061-4000-AC01-2EADD1D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AFE-C331-454F-805B-5420B8E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E403-0F0D-4AD9-9A84-8B8F4550561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5D04-77F3-4BDE-9483-335B9682348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60e"/>
                </a:solidFill>
                <a:latin typeface="Arial"/>
              </a:rPr>
              <a:t>Правила поведения при пожар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>
            <a:lum bright="18000"/>
          </a:blip>
          <a:srcRect l="0" t="0" r="-2299" b="11908"/>
          <a:stretch/>
        </p:blipFill>
        <p:spPr>
          <a:xfrm>
            <a:off x="2195640" y="1484280"/>
            <a:ext cx="316836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9800" y="436572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Лоретц Анна Васильевна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МОУ «СОШ №17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Забывчивый  охотник на прив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е разметал , не растоптал кост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 лес ушёл , а ветки догорал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нехотя чадили до ут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А утром ветер разогнал тума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ожил потухающий к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, сыпля  искры впереди поля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агровые лохмотья распр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сю траву с цветами выжег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усты спалил , в зелёный лес пошёл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ак  испуганная стая белок рыжих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заметался со ствола на ствол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лес гудел от огненной метели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 морозным треском падали ствол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как снежинки , искры с них лете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д серыми сугробами золы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2411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60e"/>
                </a:solidFill>
                <a:latin typeface="Arial"/>
              </a:rPr>
              <a:t>Безопасность при лесных пожар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пределите направление ветра и распространения огня, бегите из леса навстреч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етру по возможности параллельно фронту пожа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вы в зоне пожара окунитесь в ближайший водоём или хотя бы смочите одежду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дышите через мокрый плато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огонь небольшой можно засыпать землёй или залить вод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отушив  пожар, не уходите, не убедившись, что огонь не разгор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60e"/>
                </a:solidFill>
                <a:latin typeface="Arial"/>
              </a:rPr>
              <a:t>НЕЛЬЗ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льзоваться открытым огнём ( бросать горящие спички ,окурки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ставлять на освещенных солнцем местах  бутылки или осколки стекла, кото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гут стать зажигательными лин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жига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азводи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9360">
            <a:solidFill>
              <a:srgbClr val="65b2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 БЕЗ  ЗАПИНКИ  ЗНАЙТЕ!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СТРОГО  СОБЛЮДАЙТЕ!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омните: жизнь – самое дорогое, что есть у человека. Берегите е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03640" y="4292640"/>
            <a:ext cx="2519280" cy="2338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rot="5400000">
            <a:off x="4356000" y="4149360"/>
            <a:ext cx="360360" cy="1944720"/>
          </a:xfrm>
          <a:custGeom>
            <a:avLst/>
            <a:gdLst>
              <a:gd name="textAreaLeft" fmla="*/ 0 w 360360"/>
              <a:gd name="textAreaRight" fmla="*/ 252720 w 360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60e"/>
                </a:solidFill>
                <a:latin typeface="Arial"/>
              </a:rPr>
              <a:t>Пожар в кварт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зовите  пожарную  охрану  по  телефону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0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ведите  на  улицу  детей  и престарелы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 очаг  возгорания  невелик,  попробуй  его  потушить самостоятельно ( из  водопровода, стиральным  порошком, плотной  тканью 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прещается  тушить  водой  включённые электроприбо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общи  о  пожаре  соседям, позови  их  на помощ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е можешь справиться с огнём  немедленно покинь квартиру. Отключи по  возможности электричество, газ, закрой  окн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8360" y="4780080"/>
            <a:ext cx="2987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и выходе из квартиры защитите глаза и органы дыхания от дыма респиратором, ватно-марлевой повязкой, смоченными водой куском ткани или полотенцем. Двигайтесь пригнувшись или ползком (внизу меньше дым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кинуть квартиру невозможно, постарайся пробраться на балкон, плотно закрой за собой дверь и зови на помощ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и в коем случае не прыгай с балкона, оставайся на месте – пожарные обязательно тебя спасут и кричите : ,, ПОЖАР!”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а тебе загорелась одежда, падай на пол и катайся, чтобы сбить пламя,  либо накинь на себя очень плотную ткан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Храните документы и деньги в месте, известном всем членам семьи, на случай внезапной эвакуации при пожар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240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60e"/>
                </a:solidFill>
                <a:latin typeface="Arial"/>
              </a:rPr>
              <a:t>Если загорелся телевизор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бесточьте телевизо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общите в пожарную охран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о избежание отравления продуктами             горения немедленно удалите                                             из помещения людей, в первую очередь дет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сле отключения телевизор продолжает гореть, залейте его водой через отверстия задней стенки, находясь при этом сбоку от аппарата, или накройте его плотной ткань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горение продолжается выбросьте телевизор в окно, не забыв при этом посмотреть вни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 телевизор  взорвался  и  пожар  усилился , покиньте  помещение закрыв  двери  и  окна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60e"/>
                </a:solidFill>
                <a:latin typeface="Arial"/>
              </a:rPr>
              <a:t>Пожар в подвал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воните в пожарную охран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и в коем случае не пытайтесь сами проникнуть в подвал, это может закончиться для вас трагичн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из-за пожара в подвале появился дым откройте окна (но не дверь на лестничную площадку) и покиньте дом, оповестив сосед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4797360"/>
            <a:ext cx="3492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бирайтесь либо низко пригнувшись либо ползком дыша через мокрую ткань или полотенц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блудившись, выходите в сторону тяги дым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 НАЙДЯ ВЫХОДА, ЛЯГТЕ В ПРОХОДЕ, ГДЕ ТЕМПЕРАТУРА НЕ ОЧЕНЬ ВЫСОКА И ПОСТАРАЙТЕСЬ ЧЕМ-НИБУДЬ НАКРЫТЬ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-  простой  номер  его  всякий  запомнит .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– короткий  номер , при  пожаре  дорога  каждая  минута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-  удобный  номер , его  легко  набрать  даже  в  темноте 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5:38:54Z</dcterms:created>
  <dc:creator>Лёша</dc:creator>
  <dc:description/>
  <dc:language>en-US</dc:language>
  <cp:lastModifiedBy>Admin</cp:lastModifiedBy>
  <dcterms:modified xsi:type="dcterms:W3CDTF">2011-09-18T03:28:50Z</dcterms:modified>
  <cp:revision>8</cp:revision>
  <dc:subject/>
  <dc:title> Безопасность при пожа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300207f7000400038000</vt:lpwstr>
  </property>
</Properties>
</file>