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68A-F5E7-44C8-8FF6-4F07619B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D14-4A4C-4F6F-A4C8-852BC59B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8B4-C90D-4913-9BA5-3B9ABBA8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A44-7A12-4017-83C6-928EC57D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1DF8-9FD0-427A-8661-68BB9470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2980-ED60-44D1-94DF-25F2FFCD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3A9A-8649-4D9D-8993-EAC932CB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131F-6E82-45B2-9B91-00E1C345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CFE9-4843-447C-A296-D429638D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E348-8820-4F2E-B581-5901A0BA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83D6-B5B7-4CDD-B810-783E83BE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09E-251E-46FE-BD7A-966CD7F8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B487-9B8A-4F01-ABA0-A85F03E7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81AA-6517-4AEA-95D7-81DCDC8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43FA-254A-4C6A-B538-A6646558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AB72-DE60-4091-87D4-E5FFF413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73EB-4F82-4B54-BEC3-C789BAE6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9C0-4C05-45E3-8AF5-DA6CFDFB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CA4-6C17-4957-A93A-10946EA9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36E-5213-4B09-949B-E17B7FD5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5CE-B907-45F5-B67E-7295B9A0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3F9-0759-4543-AA4F-7D518D72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D38-3820-482F-8DFB-C0BF34F6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D78-03F0-44E5-8B1E-A74A6D20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3268-22D8-4D42-85DB-1C0AAEDADF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1D42-04F6-43C5-8FB5-CE7B8BAA7F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араллельность прям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апченкова Татьяна Ивановна 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У Сосновская СОШ №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 rot="10800000">
            <a:off x="3123360" y="4875120"/>
            <a:ext cx="3886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09680" y="228600"/>
            <a:ext cx="4800600" cy="685800"/>
          </a:xfrm>
          <a:prstGeom prst="horizontalScroll">
            <a:avLst>
              <a:gd name="adj" fmla="val 12500"/>
            </a:avLst>
          </a:prstGeom>
          <a:solidFill>
            <a:srgbClr val="00800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ям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 rot="8926200">
            <a:off x="3199680" y="91440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 rot="2588400">
            <a:off x="5387760" y="93672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96216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2486160" cy="49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"/>
          <p:cNvPicPr/>
          <p:nvPr/>
        </p:nvPicPr>
        <p:blipFill>
          <a:blip r:embed="rId4"/>
          <a:stretch/>
        </p:blipFill>
        <p:spPr>
          <a:xfrm>
            <a:off x="3505320" y="5410080"/>
            <a:ext cx="2133360" cy="495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5"/>
          <p:cNvSpPr/>
          <p:nvPr/>
        </p:nvSpPr>
        <p:spPr>
          <a:xfrm rot="7344000">
            <a:off x="1528920" y="2661120"/>
            <a:ext cx="471240" cy="330120"/>
          </a:xfrm>
          <a:custGeom>
            <a:avLst/>
            <a:gdLst>
              <a:gd name="textAreaLeft" fmla="*/ 29520 w 471240"/>
              <a:gd name="textAreaRight" fmla="*/ 441720 w 47124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 rot="3676800">
            <a:off x="2895840" y="26661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9"/>
          <p:cNvSpPr/>
          <p:nvPr/>
        </p:nvSpPr>
        <p:spPr>
          <a:xfrm rot="1473600">
            <a:off x="3986280" y="2631600"/>
            <a:ext cx="1386000" cy="330480"/>
          </a:xfrm>
          <a:custGeom>
            <a:avLst/>
            <a:gdLst>
              <a:gd name="textAreaLeft" fmla="*/ 87120 w 1386000"/>
              <a:gd name="textAreaRight" fmla="*/ 1298880 w 1386000"/>
              <a:gd name="textAreaTop" fmla="*/ 128520 h 330480"/>
              <a:gd name="textAreaBottom" fmla="*/ 201960 h 33048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 rot="5400000">
            <a:off x="4348440" y="50997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Изображение 401"/>
          <p:cNvPicPr/>
          <p:nvPr/>
        </p:nvPicPr>
        <p:blipFill>
          <a:blip r:embed="rId5"/>
          <a:stretch/>
        </p:blipFill>
        <p:spPr>
          <a:xfrm>
            <a:off x="7112160" y="3886200"/>
            <a:ext cx="91116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Изображение 401"/>
          <p:cNvPicPr/>
          <p:nvPr/>
        </p:nvPicPr>
        <p:blipFill>
          <a:blip r:embed="rId6"/>
          <a:stretch/>
        </p:blipFill>
        <p:spPr>
          <a:xfrm>
            <a:off x="1379520" y="3962520"/>
            <a:ext cx="870120" cy="1295280"/>
          </a:xfrm>
          <a:prstGeom prst="rect">
            <a:avLst/>
          </a:prstGeom>
          <a:ln w="0">
            <a:noFill/>
          </a:ln>
        </p:spPr>
      </p:pic>
      <p:sp>
        <p:nvSpPr>
          <p:cNvPr id="97" name="Oval 39"/>
          <p:cNvSpPr/>
          <p:nvPr/>
        </p:nvSpPr>
        <p:spPr>
          <a:xfrm>
            <a:off x="762120" y="1676520"/>
            <a:ext cx="3200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0"/>
          <p:cNvSpPr/>
          <p:nvPr/>
        </p:nvSpPr>
        <p:spPr>
          <a:xfrm>
            <a:off x="5334120" y="1752480"/>
            <a:ext cx="297180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секающиес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3"/>
          <p:cNvSpPr/>
          <p:nvPr/>
        </p:nvSpPr>
        <p:spPr>
          <a:xfrm>
            <a:off x="2743200" y="3733920"/>
            <a:ext cx="3733920" cy="1218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сиома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х  прямых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012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становите  соответств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3840" y="3044880"/>
            <a:ext cx="770868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7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8 и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6 и 8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5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195640" y="162864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2742840" y="914400"/>
            <a:ext cx="8636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284720" y="907920"/>
            <a:ext cx="15112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334800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305928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35600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478800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284328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543564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356400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30592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,  7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 ,  1 и 6,  2 и 3, 7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,   1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2,  5 и 7,  3 и 6,  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5,  5 и 2,  2 и 7,  7 и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8,  8 и 6,  6 и 4,  4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209680" y="175248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2590920" y="914400"/>
            <a:ext cx="10159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284720" y="907920"/>
            <a:ext cx="1811160" cy="191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3352680" y="1828800"/>
            <a:ext cx="152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2895480" y="1219320"/>
            <a:ext cx="276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4343400" y="12952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4800600" y="19810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2743200" y="18288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5562720" y="1828800"/>
            <a:ext cx="2030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3505320" y="1295280"/>
            <a:ext cx="228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Проверьте  себ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4"/>
          <p:cNvSpPr/>
          <p:nvPr/>
        </p:nvSpPr>
        <p:spPr>
          <a:xfrm flipH="1">
            <a:off x="304920" y="1295280"/>
            <a:ext cx="548640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H="1">
            <a:off x="533160" y="1600200"/>
            <a:ext cx="205740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209320" y="1752480"/>
            <a:ext cx="1143000" cy="426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H="1" flipV="1">
            <a:off x="3962160" y="1523880"/>
            <a:ext cx="335268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657240" y="1828800"/>
            <a:ext cx="35053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5105160" y="1523880"/>
            <a:ext cx="1143000" cy="4724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 flipV="1">
            <a:off x="456840" y="3276720"/>
            <a:ext cx="6095880" cy="761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895480" y="1447920"/>
            <a:ext cx="1981440" cy="4724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1676160" y="2438280"/>
            <a:ext cx="5257800" cy="25146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52280" y="277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кие  из  данных  прямых  параллельны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791320" y="838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4644360" y="9144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259680" y="1143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man Old Style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7453440" y="2630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7224840" y="3164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768000" y="3773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6996600" y="20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287440" y="1219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04920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1353240" y="413064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оверьте  себ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6402240" y="426708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        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6400800" y="470376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       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401520" y="518148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         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6477120" y="571500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        d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9" descr=""/>
          <p:cNvPicPr/>
          <p:nvPr/>
        </p:nvPicPr>
        <p:blipFill>
          <a:blip r:embed="rId2"/>
          <a:stretch/>
        </p:blipFill>
        <p:spPr>
          <a:xfrm>
            <a:off x="693432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0" descr=""/>
          <p:cNvPicPr/>
          <p:nvPr/>
        </p:nvPicPr>
        <p:blipFill>
          <a:blip r:embed="rId3"/>
          <a:stretch/>
        </p:blipFill>
        <p:spPr>
          <a:xfrm>
            <a:off x="6934320" y="52578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" descr=""/>
          <p:cNvPicPr/>
          <p:nvPr/>
        </p:nvPicPr>
        <p:blipFill>
          <a:blip r:embed="rId4"/>
          <a:stretch/>
        </p:blipFill>
        <p:spPr>
          <a:xfrm>
            <a:off x="6934320" y="47242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2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542880" cy="6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1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2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6"/>
          <p:cNvSpPr/>
          <p:nvPr/>
        </p:nvSpPr>
        <p:spPr>
          <a:xfrm flipH="1">
            <a:off x="380520" y="1981080"/>
            <a:ext cx="396252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990720" y="3352680"/>
            <a:ext cx="396216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41972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025600" y="29718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1523520"/>
            <a:ext cx="1371600" cy="3962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729160" y="133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2916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04336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7196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37"/>
          <p:cNvSpPr/>
          <p:nvPr/>
        </p:nvSpPr>
        <p:spPr>
          <a:xfrm rot="17176800">
            <a:off x="2702520" y="2550240"/>
            <a:ext cx="596880" cy="6649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5615640" y="14875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"/>
          <p:cNvPicPr/>
          <p:nvPr/>
        </p:nvPicPr>
        <p:blipFill>
          <a:blip r:embed="rId2"/>
          <a:stretch/>
        </p:blipFill>
        <p:spPr>
          <a:xfrm>
            <a:off x="7391520" y="1447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3"/>
          <p:cNvSpPr/>
          <p:nvPr/>
        </p:nvSpPr>
        <p:spPr>
          <a:xfrm>
            <a:off x="7376760" y="201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7239960" y="20574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5" descr=""/>
          <p:cNvPicPr/>
          <p:nvPr/>
        </p:nvPicPr>
        <p:blipFill>
          <a:blip r:embed="rId4"/>
          <a:stretch/>
        </p:blipFill>
        <p:spPr>
          <a:xfrm>
            <a:off x="8381880" y="1905120"/>
            <a:ext cx="362160" cy="49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6"/>
          <p:cNvSpPr/>
          <p:nvPr/>
        </p:nvSpPr>
        <p:spPr>
          <a:xfrm>
            <a:off x="5640840" y="2666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7" descr=""/>
          <p:cNvPicPr/>
          <p:nvPr/>
        </p:nvPicPr>
        <p:blipFill>
          <a:blip r:embed="rId5"/>
          <a:stretch/>
        </p:blipFill>
        <p:spPr>
          <a:xfrm>
            <a:off x="6858000" y="26668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"/>
          <p:cNvPicPr/>
          <p:nvPr/>
        </p:nvPicPr>
        <p:blipFill>
          <a:blip r:embed="rId6"/>
          <a:stretch/>
        </p:blipFill>
        <p:spPr>
          <a:xfrm>
            <a:off x="6858000" y="32004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"/>
          <p:cNvPicPr/>
          <p:nvPr/>
        </p:nvPicPr>
        <p:blipFill>
          <a:blip r:embed="rId7"/>
          <a:stretch/>
        </p:blipFill>
        <p:spPr>
          <a:xfrm>
            <a:off x="6858000" y="373392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0"/>
          <p:cNvSpPr/>
          <p:nvPr/>
        </p:nvSpPr>
        <p:spPr>
          <a:xfrm>
            <a:off x="731700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730116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73170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56380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6" descr=""/>
          <p:cNvPicPr/>
          <p:nvPr/>
        </p:nvPicPr>
        <p:blipFill>
          <a:blip r:embed="rId8"/>
          <a:stretch/>
        </p:blipFill>
        <p:spPr>
          <a:xfrm>
            <a:off x="6705720" y="441972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7"/>
          <p:cNvSpPr/>
          <p:nvPr/>
        </p:nvSpPr>
        <p:spPr>
          <a:xfrm>
            <a:off x="7086240" y="44956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=  30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8" descr=""/>
          <p:cNvPicPr/>
          <p:nvPr/>
        </p:nvPicPr>
        <p:blipFill>
          <a:blip r:embed="rId9"/>
          <a:stretch/>
        </p:blipFill>
        <p:spPr>
          <a:xfrm>
            <a:off x="8229600" y="426708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"/>
          <p:cNvPicPr/>
          <p:nvPr/>
        </p:nvPicPr>
        <p:blipFill>
          <a:blip r:embed="rId10"/>
          <a:stretch/>
        </p:blipFill>
        <p:spPr>
          <a:xfrm>
            <a:off x="6705720" y="5410080"/>
            <a:ext cx="447480" cy="48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0" descr=""/>
          <p:cNvPicPr/>
          <p:nvPr/>
        </p:nvPicPr>
        <p:blipFill>
          <a:blip r:embed="rId11"/>
          <a:stretch/>
        </p:blipFill>
        <p:spPr>
          <a:xfrm>
            <a:off x="6705720" y="4952880"/>
            <a:ext cx="447480" cy="486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1"/>
          <p:cNvSpPr/>
          <p:nvPr/>
        </p:nvSpPr>
        <p:spPr>
          <a:xfrm>
            <a:off x="7086960" y="49528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2" descr=""/>
          <p:cNvPicPr/>
          <p:nvPr/>
        </p:nvPicPr>
        <p:blipFill>
          <a:blip r:embed="rId12"/>
          <a:stretch/>
        </p:blipFill>
        <p:spPr>
          <a:xfrm>
            <a:off x="8381880" y="4800600"/>
            <a:ext cx="362160" cy="495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3" descr=""/>
          <p:cNvPicPr/>
          <p:nvPr/>
        </p:nvPicPr>
        <p:blipFill>
          <a:blip r:embed="rId13"/>
          <a:stretch/>
        </p:blipFill>
        <p:spPr>
          <a:xfrm>
            <a:off x="8229600" y="5334120"/>
            <a:ext cx="361800" cy="495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4"/>
          <p:cNvSpPr/>
          <p:nvPr/>
        </p:nvSpPr>
        <p:spPr>
          <a:xfrm>
            <a:off x="7086600" y="54100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  =  3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4"/>
          <p:cNvSpPr/>
          <p:nvPr/>
        </p:nvSpPr>
        <p:spPr>
          <a:xfrm flipH="1">
            <a:off x="990360" y="1600200"/>
            <a:ext cx="1447560" cy="36576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2438280" y="1600200"/>
            <a:ext cx="1828800" cy="16765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914040" y="3276720"/>
            <a:ext cx="3352680" cy="20574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752480" y="2362320"/>
            <a:ext cx="1524240" cy="990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1752120" y="3276720"/>
            <a:ext cx="2514600" cy="759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2743200" y="32004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 flipV="1">
            <a:off x="1371240" y="39621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95800" y="529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36448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2692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2878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967400" y="262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281600" y="453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175720" y="144792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= 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5169960" y="27432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5181120" y="34290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лан  решения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639240" y="41148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    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3643560" y="464832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641760" y="51814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3641760" y="571500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2022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2974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333864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0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1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2" descr=""/>
          <p:cNvPicPr/>
          <p:nvPr/>
        </p:nvPicPr>
        <p:blipFill>
          <a:blip r:embed="rId4"/>
          <a:stretch/>
        </p:blipFill>
        <p:spPr>
          <a:xfrm>
            <a:off x="7391520" y="274320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7" descr=""/>
          <p:cNvPicPr/>
          <p:nvPr/>
        </p:nvPicPr>
        <p:blipFill>
          <a:blip r:embed="rId6"/>
          <a:stretch/>
        </p:blipFill>
        <p:spPr>
          <a:xfrm>
            <a:off x="609588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8" descr=""/>
          <p:cNvPicPr/>
          <p:nvPr/>
        </p:nvPicPr>
        <p:blipFill>
          <a:blip r:embed="rId7"/>
          <a:stretch/>
        </p:blipFill>
        <p:spPr>
          <a:xfrm>
            <a:off x="502920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9" descr=""/>
          <p:cNvPicPr/>
          <p:nvPr/>
        </p:nvPicPr>
        <p:blipFill>
          <a:blip r:embed="rId8"/>
          <a:stretch/>
        </p:blipFill>
        <p:spPr>
          <a:xfrm>
            <a:off x="609588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"/>
          <p:cNvPicPr/>
          <p:nvPr/>
        </p:nvPicPr>
        <p:blipFill>
          <a:blip r:embed="rId9"/>
          <a:stretch/>
        </p:blipFill>
        <p:spPr>
          <a:xfrm>
            <a:off x="609588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1" descr=""/>
          <p:cNvPicPr/>
          <p:nvPr/>
        </p:nvPicPr>
        <p:blipFill>
          <a:blip r:embed="rId10"/>
          <a:stretch/>
        </p:blipFill>
        <p:spPr>
          <a:xfrm>
            <a:off x="502920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2" descr=""/>
          <p:cNvPicPr/>
          <p:nvPr/>
        </p:nvPicPr>
        <p:blipFill>
          <a:blip r:embed="rId11"/>
          <a:stretch/>
        </p:blipFill>
        <p:spPr>
          <a:xfrm>
            <a:off x="609588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3" descr=""/>
          <p:cNvPicPr/>
          <p:nvPr/>
        </p:nvPicPr>
        <p:blipFill>
          <a:blip r:embed="rId12"/>
          <a:stretch/>
        </p:blipFill>
        <p:spPr>
          <a:xfrm>
            <a:off x="502920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4" descr=""/>
          <p:cNvPicPr/>
          <p:nvPr/>
        </p:nvPicPr>
        <p:blipFill>
          <a:blip r:embed="rId13"/>
          <a:stretch/>
        </p:blipFill>
        <p:spPr>
          <a:xfrm>
            <a:off x="7620120" y="55627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5" descr=""/>
          <p:cNvPicPr/>
          <p:nvPr/>
        </p:nvPicPr>
        <p:blipFill>
          <a:blip r:embed="rId14"/>
          <a:stretch/>
        </p:blipFill>
        <p:spPr>
          <a:xfrm>
            <a:off x="7620120" y="502920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6" descr=""/>
          <p:cNvPicPr/>
          <p:nvPr/>
        </p:nvPicPr>
        <p:blipFill>
          <a:blip r:embed="rId15"/>
          <a:stretch/>
        </p:blipFill>
        <p:spPr>
          <a:xfrm>
            <a:off x="7772400" y="12193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"/>
          <p:cNvPicPr/>
          <p:nvPr/>
        </p:nvPicPr>
        <p:blipFill>
          <a:blip r:embed="rId16"/>
          <a:stretch/>
        </p:blipFill>
        <p:spPr>
          <a:xfrm>
            <a:off x="1447920" y="2971800"/>
            <a:ext cx="62064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2" descr=""/>
          <p:cNvPicPr/>
          <p:nvPr/>
        </p:nvPicPr>
        <p:blipFill>
          <a:blip r:embed="rId17"/>
          <a:stretch/>
        </p:blipFill>
        <p:spPr>
          <a:xfrm>
            <a:off x="7010280" y="2209680"/>
            <a:ext cx="447840" cy="49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427040" y="47304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амостоятельная  раб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380520" y="15238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533520" y="2362320"/>
            <a:ext cx="259056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 flipV="1">
            <a:off x="5409720" y="2209680"/>
            <a:ext cx="266724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H="1" flipV="1">
            <a:off x="5638320" y="1447560"/>
            <a:ext cx="25909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4343400" y="14479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V="1">
            <a:off x="838080" y="1447560"/>
            <a:ext cx="304920" cy="2057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V="1">
            <a:off x="7315200" y="1371600"/>
            <a:ext cx="152280" cy="1905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1523880" y="1219320"/>
            <a:ext cx="106704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6095880" y="12952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0" y="26668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1450080" y="13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059920" y="3048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022440" y="114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41224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7078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28818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3186000" y="2093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821556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8062920" y="2627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839520" y="3276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316640" y="30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509840" y="3287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6005520" y="3059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2817000" y="37339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о  данным  рисунка 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4343400" y="4419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300600" y="441972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докажите , что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 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23641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74696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721400" y="502920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найдите      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4796280" y="4495680"/>
            <a:ext cx="37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докажите , что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a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301680" y="502920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йдите       1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олилиния 37"/>
          <p:cNvSpPr/>
          <p:nvPr/>
        </p:nvSpPr>
        <p:spPr>
          <a:xfrm rot="12243600">
            <a:off x="1139400" y="1529640"/>
            <a:ext cx="358920" cy="36972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лилиния 37"/>
          <p:cNvSpPr/>
          <p:nvPr/>
        </p:nvSpPr>
        <p:spPr>
          <a:xfrm rot="6840600">
            <a:off x="461520" y="2738160"/>
            <a:ext cx="479160" cy="1843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олилиния 37"/>
          <p:cNvSpPr/>
          <p:nvPr/>
        </p:nvSpPr>
        <p:spPr>
          <a:xfrm rot="17689800">
            <a:off x="1810080" y="2837520"/>
            <a:ext cx="420840" cy="23148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олилиния 37"/>
          <p:cNvSpPr/>
          <p:nvPr/>
        </p:nvSpPr>
        <p:spPr>
          <a:xfrm rot="2211600">
            <a:off x="7086600" y="1981080"/>
            <a:ext cx="304920" cy="10800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олилиния 37"/>
          <p:cNvSpPr/>
          <p:nvPr/>
        </p:nvSpPr>
        <p:spPr>
          <a:xfrm rot="7825200">
            <a:off x="6450840" y="1423080"/>
            <a:ext cx="433440" cy="20016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олилиния 37"/>
          <p:cNvSpPr/>
          <p:nvPr/>
        </p:nvSpPr>
        <p:spPr>
          <a:xfrm rot="2146200">
            <a:off x="5943240" y="2437920"/>
            <a:ext cx="420840" cy="23184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2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3" descr=""/>
          <p:cNvPicPr/>
          <p:nvPr/>
        </p:nvPicPr>
        <p:blipFill>
          <a:blip r:embed="rId3"/>
          <a:stretch/>
        </p:blipFill>
        <p:spPr>
          <a:xfrm>
            <a:off x="7772400" y="449568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4" descr=""/>
          <p:cNvPicPr/>
          <p:nvPr/>
        </p:nvPicPr>
        <p:blipFill>
          <a:blip r:embed="rId4"/>
          <a:stretch/>
        </p:blipFill>
        <p:spPr>
          <a:xfrm>
            <a:off x="22860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5" descr=""/>
          <p:cNvPicPr/>
          <p:nvPr/>
        </p:nvPicPr>
        <p:blipFill>
          <a:blip r:embed="rId5"/>
          <a:stretch/>
        </p:blipFill>
        <p:spPr>
          <a:xfrm>
            <a:off x="64008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"/>
          <p:cNvPicPr/>
          <p:nvPr/>
        </p:nvPicPr>
        <p:blipFill>
          <a:blip r:embed="rId6"/>
          <a:stretch/>
        </p:blipFill>
        <p:spPr>
          <a:xfrm>
            <a:off x="5486400" y="24382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"/>
          <p:cNvPicPr/>
          <p:nvPr/>
        </p:nvPicPr>
        <p:blipFill>
          <a:blip r:embed="rId7"/>
          <a:stretch/>
        </p:blipFill>
        <p:spPr>
          <a:xfrm>
            <a:off x="6248520" y="9907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8" descr=""/>
          <p:cNvPicPr/>
          <p:nvPr/>
        </p:nvPicPr>
        <p:blipFill>
          <a:blip r:embed="rId8"/>
          <a:stretch/>
        </p:blipFill>
        <p:spPr>
          <a:xfrm>
            <a:off x="1523880" y="12193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9" descr=""/>
          <p:cNvPicPr/>
          <p:nvPr/>
        </p:nvPicPr>
        <p:blipFill>
          <a:blip r:embed="rId9"/>
          <a:stretch/>
        </p:blipFill>
        <p:spPr>
          <a:xfrm>
            <a:off x="2286000" y="28954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0" descr=""/>
          <p:cNvPicPr/>
          <p:nvPr/>
        </p:nvPicPr>
        <p:blipFill>
          <a:blip r:embed="rId10"/>
          <a:stretch/>
        </p:blipFill>
        <p:spPr>
          <a:xfrm>
            <a:off x="6705720" y="182880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"/>
          <p:cNvPicPr/>
          <p:nvPr/>
        </p:nvPicPr>
        <p:blipFill>
          <a:blip r:embed="rId11"/>
          <a:stretch/>
        </p:blipFill>
        <p:spPr>
          <a:xfrm>
            <a:off x="152280" y="2514600"/>
            <a:ext cx="895320" cy="4953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2"/>
          <p:cNvSpPr/>
          <p:nvPr/>
        </p:nvSpPr>
        <p:spPr>
          <a:xfrm>
            <a:off x="120528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53"/>
          <p:cNvSpPr/>
          <p:nvPr/>
        </p:nvSpPr>
        <p:spPr>
          <a:xfrm>
            <a:off x="106884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67176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5"/>
          <p:cNvSpPr/>
          <p:nvPr/>
        </p:nvSpPr>
        <p:spPr>
          <a:xfrm>
            <a:off x="18306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47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663120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63867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9"/>
          <p:cNvSpPr/>
          <p:nvPr/>
        </p:nvSpPr>
        <p:spPr>
          <a:xfrm>
            <a:off x="60217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0-09-27T12:04:2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