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12.png" ContentType="image/png"/>
  <Override PartName="/ppt/media/image31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1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4EE-2960-491A-AF2F-8E3FC08E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9AB-8174-40BD-8D3B-8EC08BBD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579D-531B-4B35-8EFD-1A2168D6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12E-8F5A-4973-ABC5-9B46D6DA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98A4-0D39-435C-85AC-CA3BB9AA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2D9A-7F04-4823-981F-48AD134F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B53E-76D9-4F89-AB7B-04DC30A7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48EB-691A-482C-869E-A9F7BDB6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7B49-1B93-4DA1-8FD2-93F8D613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B18D-6F8E-44EE-BB38-46667A7A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FB25-54C5-4809-A5F7-C967CA24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311-91D6-4961-BFF3-79D344FC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BA79-9073-40B5-9B64-C4CC662F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A598-C25B-431E-B41F-4CEE58DD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3F11-AE86-4DE9-8560-86B4CA0C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13F3-B78B-47F3-AFDB-A624A702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9A9B-41AB-49EF-BDFE-4762A57C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EFC-8476-43E9-8541-07363E6A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D5C-CEF8-482E-A406-ECCF421D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470-D697-4C27-BF5B-409EE7C4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756-CF9D-49CD-9BC3-AAE62020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142-9A1F-489E-889E-4AE420B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89B-A518-4792-BADA-A5217235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1E2-EDF7-4755-855D-FE266418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3C90-3C0D-4B38-8C69-5459EB54B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1A6C-AF91-46E0-88C8-7B7C1287F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67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5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0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5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1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37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46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54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59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270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/>
  <dc:language>en-US</dc:language>
  <cp:lastModifiedBy>Николай</cp:lastModifiedBy>
  <dcterms:modified xsi:type="dcterms:W3CDTF">2013-04-29T10:55:28Z</dcterms:modified>
  <cp:revision>14</cp:revision>
  <dc:subject/>
  <dc:title>Слайд 1</dc:title>
</cp:coreProperties>
</file>