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12.png" ContentType="image/png"/>
  <Override PartName="/ppt/media/image31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1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E3F-D3BF-4447-ACAF-6E43E3A6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54E-2950-4462-90D0-38C69A3D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B76-CA9A-4279-BCE4-5720A3AC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A4AC-F769-4A6D-8D12-A0E0D6EE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2733-B9ED-4645-ADAA-6950BDE7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4360-36C4-4682-A55E-A545D950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59F3-0B09-4CDB-AEAC-76CCDE56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D3B9-754A-404E-A24E-803A2E10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1F8D-5D1E-437D-B16C-4FB78AC9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D61D-1F6A-493A-A5ED-B5A990C5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86C8-B588-494E-AF07-CC14D71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F7F-DA11-443F-8B4F-99B2FE2F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CAEB-4CB5-49D9-8F1E-5A79724D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23E1-14DF-40BF-8845-3A45156D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9664-CB57-42FC-AD56-4D8A0C71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0F87-8A5F-4A51-9582-8F4CD669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E2EF-55E3-43BB-BFE9-EFA40ECC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D1B-AB21-48E4-A17F-2E0C0636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6D4-79D0-4F97-AD83-E77DC462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CC5-C852-4D23-ACB0-45EA4EB8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67F-D796-41C1-BEAA-EF2DC5AA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808-C600-4884-AB89-19773DB1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76C-DF76-4C99-9E74-24C37A09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914-1CC4-4695-972E-F6AF74CC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28AF-7ED9-4F26-94F8-52CF47421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B72-1E71-4209-AA8E-FC0D37684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67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5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5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54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59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270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/>
  <dc:language>en-US</dc:language>
  <cp:lastModifiedBy>Николай</cp:lastModifiedBy>
  <dcterms:modified xsi:type="dcterms:W3CDTF">2013-04-29T10:55:28Z</dcterms:modified>
  <cp:revision>14</cp:revision>
  <dc:subject/>
  <dc:title>Слайд 1</dc:title>
</cp:coreProperties>
</file>