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31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B70-8250-4E36-B6A8-6FB657D3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217-C944-4B42-AA90-FCF6850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3FD-DED8-435F-B537-3F42C19E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BEB-5580-4E80-8770-35B1A22E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71F0-A53C-424B-A622-8053B897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1E3-3112-49A9-B7C3-A152F986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DA5E-2357-4D97-B705-47E45C56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EE30-5084-44DD-904E-B9B1CAA2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913-95B0-49A2-AD21-48B0F98F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14C6-05DA-41C5-9E67-167136FA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8B7-356B-4AD5-AE01-4E67088D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6D6-B693-4C75-BDE7-A6B150F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58A6-E3C4-4C63-822D-937F82F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55E0-CAC5-474F-8B2C-66329A8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6DBD-BB0D-47DF-B998-221B4105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05F3-201E-430A-8129-A7E8F95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96A7-4B81-4474-B1CD-82050AEA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500-E584-4843-B6E8-C4B0FCB7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89B-415F-4166-9A41-6250A243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5C3-50D2-403F-A5D2-3E919634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36A-75FF-4AFE-9C3A-7CAC145C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F63-E042-4266-B04C-35801D4F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302-E136-4007-B29F-8924CF64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9B4-AA41-4CB9-95B7-16A4465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1E5-A0E9-4403-9B30-B22EBE2BA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5DDC-E375-4653-B4EB-BE47F4EA0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5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54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270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/>
  <dc:language>en-US</dc:language>
  <cp:lastModifiedBy>Николай</cp:lastModifiedBy>
  <dcterms:modified xsi:type="dcterms:W3CDTF">2013-04-29T10:55:28Z</dcterms:modified>
  <cp:revision>14</cp:revision>
  <dc:subject/>
  <dc:title>Слайд 1</dc:title>
</cp:coreProperties>
</file>