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85F-8C82-48DA-9A8A-1C50D92D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200-B2AF-4D37-A8E6-59F3A00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4BC-6933-4762-B5B9-C674C1F7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671-1063-4523-861E-E8F7D38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836-BC57-4890-84AB-AA05F97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EAE-07A7-4AFE-92CB-7534BA9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6B9-7AD5-4724-AFAC-D91B2CC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CA4-A546-4AB0-8ACD-76B39DD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D93-FA7F-4B47-AFF9-113BEEE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910-F27D-4FA1-880C-712E7CD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7CA-13F8-4434-9E06-0ECCC13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D0A-083F-4134-A164-FED01E7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D75-2BA2-478B-9602-986428660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2;&#1072;&#1088;&#1090;&#1080;&#1085;&#1082;&#1080;%20&#1087;&#1095;&#1077;&#1083;&amp;noreask=1&amp;img_url=http%3A%2F%2Fplaneta.moy.su%2F_bl%2F217%2F44105564.jpg&amp;pos=17&amp;rpt=simage&amp;lr=21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search?source=wiz&amp;img_url=http%3A%2F%2Ffortunita.info%2FImage%2Fmed3.jpg&amp;p=2&amp;text=&#1082;&#1072;&#1088;&#1090;&#1080;&#1085;&#1082;&#1080;%20&#1087;&#1095;&#1077;&#1083;&amp;noreask=1&amp;pos=83&amp;lr=213&amp;rpt=simage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ы, пчёлы и шмел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450864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б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ницы 2-1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колы №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бяковой Александ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83664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4-tub-ru.yandex.net/i?id=55870803-26-72&amp;n=21"/>
          <p:cNvPicPr/>
          <p:nvPr/>
        </p:nvPicPr>
        <p:blipFill>
          <a:blip r:embed="rId4"/>
          <a:stretch/>
        </p:blipFill>
        <p:spPr>
          <a:xfrm>
            <a:off x="6156360" y="836640"/>
            <a:ext cx="2016000" cy="145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360" y="475920"/>
            <a:ext cx="367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Удивительны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чё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чёлы – одомашненные человеком насекомые. Они живут в ульях большими семьями. В среднем улье может быть до         60 000 – 120 000 пчё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бширном семействе пчелиных наиболее знаменит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медоносная пчел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С давних времен человек использует ее для получения ме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пчёл пять глаз. Три в верхней части головы и два сперед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пчелиная семья заготавлива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 лето до 150 кг меда. Чтобы собра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кг меда, пчела должна посет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ло 10 млн. цветков и прин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100 тыс. порций некта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пчелы – 22,4 км/ч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proyectogeo.com/img/hymenop2.jpg "/>
          <p:cNvPicPr/>
          <p:nvPr/>
        </p:nvPicPr>
        <p:blipFill>
          <a:blip r:embed="rId2"/>
          <a:stretch/>
        </p:blipFill>
        <p:spPr>
          <a:xfrm>
            <a:off x="468360" y="260280"/>
            <a:ext cx="2190600" cy="164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пчелиная матка http://www.tuat.ac.jp/~ethology/Sasaki/queen-L.jpeg"/>
          <p:cNvPicPr/>
          <p:nvPr/>
        </p:nvPicPr>
        <p:blipFill>
          <a:blip r:embed="rId3"/>
          <a:stretch/>
        </p:blipFill>
        <p:spPr>
          <a:xfrm>
            <a:off x="6443640" y="549360"/>
            <a:ext cx="2381400" cy="139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4221000"/>
            <a:ext cx="3600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12500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78100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ы не способны выделять воск, поэтому строят свои гнезда из вещества, похожего на тонкий картон. Для этого они соскабливают  старую древесину на сухих стволах, пнях и даже заборах, оставляя продольные бороздки. Затем, особым образом обработав и перемешав ее со слюной, строят шарообразное гнездо, которое помещают на ветвях деревьев, под нависающими скалами или крышами домов. Иногда такое соседство бывает опасным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и полета осы - 9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иная семья живёт в течение всего одного лета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5-tub-ru.yandex.net/i?id=223893075-60-72&amp;n=21"/>
          <p:cNvPicPr/>
          <p:nvPr/>
        </p:nvPicPr>
        <p:blipFill>
          <a:blip r:embed="rId2"/>
          <a:stretch/>
        </p:blipFill>
        <p:spPr>
          <a:xfrm>
            <a:off x="1116000" y="549360"/>
            <a:ext cx="1440000" cy="187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6-tub-ru.yandex.net/i?id=114704782-61-72&amp;n=21"/>
          <p:cNvPicPr/>
          <p:nvPr/>
        </p:nvPicPr>
        <p:blipFill>
          <a:blip r:embed="rId3"/>
          <a:stretch/>
        </p:blipFill>
        <p:spPr>
          <a:xfrm>
            <a:off x="6227640" y="620640"/>
            <a:ext cx="20876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83628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м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роду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шмеле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сятся всем известные мохнатые и неуклюжие насекомые, с деловитым гудением обследующие цве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рость полета шмеля – 18 км/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на шмелей существует всего одно лето и никогда не бывает многочисленной. Редкие гнезда могут насчитывать 400-500 шм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шмели нуждаются в охра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мели более "миролюбивые" насекомые, чем пчё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итают шмели в почве, в гнездах, в дупл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шмель http://www.funet.fi/pub/sci/bio/life/insecta/hymenoptera/apocrita/apidae/bombus/sp-1.jpg"/>
          <p:cNvPicPr/>
          <p:nvPr/>
        </p:nvPicPr>
        <p:blipFill>
          <a:blip r:embed="rId2"/>
          <a:stretch/>
        </p:blipFill>
        <p:spPr>
          <a:xfrm>
            <a:off x="611280" y="260280"/>
            <a:ext cx="2190600" cy="158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im0-tub-ru.yandex.net/i?id=510061547-02-72&amp;n=21"/>
          <p:cNvPicPr/>
          <p:nvPr/>
        </p:nvPicPr>
        <p:blipFill>
          <a:blip r:embed="rId3"/>
          <a:stretch/>
        </p:blipFill>
        <p:spPr>
          <a:xfrm>
            <a:off x="6372360" y="260280"/>
            <a:ext cx="1919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8:46:15Z</dcterms:created>
  <dc:creator>Яна</dc:creator>
  <dc:description/>
  <dc:language>en-US</dc:language>
  <cp:lastModifiedBy>Петр</cp:lastModifiedBy>
  <dcterms:modified xsi:type="dcterms:W3CDTF">2013-02-14T22:11:39Z</dcterms:modified>
  <cp:revision>19</cp:revision>
  <dc:subject/>
  <dc:title>Осы, пчёлы и шмели.</dc:title>
</cp:coreProperties>
</file>