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167-C07D-4F51-B767-EE55B6CC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60E-3BAE-4937-9DBA-B9E533DD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53A-DF68-48C4-A9D3-47E160CE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04E-4F31-40FA-9FB8-543F1C7D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62A-A1B3-4286-9533-C3C4E8BD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886-D4AD-4772-9F65-A68CDE3F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7D1-FA95-4F42-B814-5E928371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C93-FC3B-4117-99BB-894B21A6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8AE-F38F-4D67-807F-B6DE25AE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E51-00EE-4981-BF61-ECE2D7E6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C9F-234E-48C2-B786-0518BAA5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3D2-EB1A-47DF-9A47-02D7081D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285C-086D-4FAD-9DA3-06C7504DD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text=&#1082;&#1072;&#1088;&#1090;&#1080;&#1085;&#1082;&#1080;%20&#1087;&#1095;&#1077;&#1083;&amp;noreask=1&amp;img_url=http%3A%2F%2Fplaneta.moy.su%2F_bl%2F217%2F44105564.jpg&amp;pos=17&amp;rpt=simage&amp;lr=213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images.yandex.ru/yandsearch?source=wiz&amp;img_url=http%3A%2F%2Ffortunita.info%2FImage%2Fmed3.jpg&amp;p=2&amp;text=&#1082;&#1072;&#1088;&#1090;&#1080;&#1085;&#1082;&#1080;%20&#1087;&#1095;&#1077;&#1083;&amp;noreask=1&amp;pos=83&amp;lr=213&amp;rpt=simage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сы, пчёлы и шмел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63640" y="4508640"/>
            <a:ext cx="35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бо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ченицы 2-1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школы №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бяковой Александ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836640"/>
            <a:ext cx="23526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im4-tub-ru.yandex.net/i?id=55870803-26-72&amp;n=21"/>
          <p:cNvPicPr/>
          <p:nvPr/>
        </p:nvPicPr>
        <p:blipFill>
          <a:blip r:embed="rId4"/>
          <a:stretch/>
        </p:blipFill>
        <p:spPr>
          <a:xfrm>
            <a:off x="6156360" y="836640"/>
            <a:ext cx="2016000" cy="1452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55640" y="83664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0360" y="475920"/>
            <a:ext cx="3672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Удивительны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чёл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чёлы – одомашненные человеком насекомые. Они живут в ульях большими семьями. В среднем улье может быть до         60 000 – 120 000 пчё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обширном семействе пчелиных наиболее знаменит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медоносная пчела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С давних времен человек использует ее для получения мед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пчёл пять глаз. Три в верхней части головы и два сперед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 пчелиная семья заготавливае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 лето до 150 кг меда. Чтобы собра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 кг меда, пчела должна посети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оло 10 млн. цветков и принест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 100 тыс. порций некта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рости полета пчелы – 22,4 км/ч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proyectogeo.com/img/hymenop2.jpg "/>
          <p:cNvPicPr/>
          <p:nvPr/>
        </p:nvPicPr>
        <p:blipFill>
          <a:blip r:embed="rId2"/>
          <a:stretch/>
        </p:blipFill>
        <p:spPr>
          <a:xfrm>
            <a:off x="468360" y="260280"/>
            <a:ext cx="2190600" cy="164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пчелиная матка http://www.tuat.ac.jp/~ethology/Sasaki/queen-L.jpeg"/>
          <p:cNvPicPr/>
          <p:nvPr/>
        </p:nvPicPr>
        <p:blipFill>
          <a:blip r:embed="rId3"/>
          <a:stretch/>
        </p:blipFill>
        <p:spPr>
          <a:xfrm>
            <a:off x="6443640" y="549360"/>
            <a:ext cx="2381400" cy="139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64000" y="4221000"/>
            <a:ext cx="36007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640" y="112500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2781000"/>
            <a:ext cx="822960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ы не способны выделять воск, поэтому строят свои гнезда из вещества, похожего на тонкий картон. Для этого они соскабливают  старую древесину на сухих стволах, пнях и даже заборах, оставляя продольные бороздки. Затем, особым образом обработав и перемешав ее со слюной, строят шарообразное гнездо, которое помещают на ветвях деревьев, под нависающими скалами или крышами домов. Иногда такое соседство бывает опасным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рости полета осы - 9 км/ч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иная семья живёт в течение всего одного лета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im5-tub-ru.yandex.net/i?id=223893075-60-72&amp;n=21"/>
          <p:cNvPicPr/>
          <p:nvPr/>
        </p:nvPicPr>
        <p:blipFill>
          <a:blip r:embed="rId2"/>
          <a:stretch/>
        </p:blipFill>
        <p:spPr>
          <a:xfrm>
            <a:off x="1116000" y="549360"/>
            <a:ext cx="1440000" cy="187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im6-tub-ru.yandex.net/i?id=114704782-61-72&amp;n=21"/>
          <p:cNvPicPr/>
          <p:nvPr/>
        </p:nvPicPr>
        <p:blipFill>
          <a:blip r:embed="rId3"/>
          <a:stretch/>
        </p:blipFill>
        <p:spPr>
          <a:xfrm>
            <a:off x="6227640" y="620640"/>
            <a:ext cx="20876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6000" y="83628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Шмел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 роду 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шмелей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носятся всем известные мохнатые и неуклюжие насекомые, с деловитым гудением обследующие цвет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рость полета шмеля – 18 км/ч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ина шмелей существует всего одно лето и никогда не бывает многочисленной. Редкие гнезда могут насчитывать 400-500 шмел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шмели нуждаются в охра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мели более "миролюбивые" насекомые, чем пчё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итают шмели в почве, в гнездах, в дупл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шмель http://www.funet.fi/pub/sci/bio/life/insecta/hymenoptera/apocrita/apidae/bombus/sp-1.jpg"/>
          <p:cNvPicPr/>
          <p:nvPr/>
        </p:nvPicPr>
        <p:blipFill>
          <a:blip r:embed="rId2"/>
          <a:stretch/>
        </p:blipFill>
        <p:spPr>
          <a:xfrm>
            <a:off x="611280" y="260280"/>
            <a:ext cx="2190600" cy="158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im0-tub-ru.yandex.net/i?id=510061547-02-72&amp;n=21"/>
          <p:cNvPicPr/>
          <p:nvPr/>
        </p:nvPicPr>
        <p:blipFill>
          <a:blip r:embed="rId3"/>
          <a:stretch/>
        </p:blipFill>
        <p:spPr>
          <a:xfrm>
            <a:off x="6372360" y="260280"/>
            <a:ext cx="1919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8:46:15Z</dcterms:created>
  <dc:creator>Яна</dc:creator>
  <dc:description/>
  <dc:language>en-US</dc:language>
  <cp:lastModifiedBy>Петр</cp:lastModifiedBy>
  <dcterms:modified xsi:type="dcterms:W3CDTF">2013-02-14T22:11:39Z</dcterms:modified>
  <cp:revision>19</cp:revision>
  <dc:subject/>
  <dc:title>Осы, пчёлы и шмели.</dc:title>
</cp:coreProperties>
</file>