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jpeg" ContentType="image/jpeg"/>
  <Override PartName="/ppt/media/image55.jpeg" ContentType="image/jpeg"/>
  <Override PartName="/ppt/media/image53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37.jpeg" ContentType="image/jpeg"/>
  <Override PartName="/ppt/media/image3.jpeg" ContentType="image/jpeg"/>
  <Override PartName="/ppt/media/image59.png" ContentType="image/png"/>
  <Override PartName="/ppt/media/image24.jpeg" ContentType="image/jpeg"/>
  <Override PartName="/ppt/media/image57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4.png" ContentType="image/png"/>
  <Override PartName="/ppt/media/image35.jpeg" ContentType="image/jpeg"/>
  <Override PartName="/ppt/media/image1.jpeg" ContentType="image/jpeg"/>
  <Override PartName="/ppt/media/image21.png" ContentType="image/png"/>
  <Override PartName="/ppt/media/image60.png" ContentType="image/png"/>
  <Override PartName="/ppt/media/image6.jpeg" ContentType="image/jpeg"/>
  <Override PartName="/ppt/media/image29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22.jpeg" ContentType="image/jpeg"/>
  <Override PartName="/ppt/media/image16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54.jpeg" ContentType="image/jpeg"/>
  <Override PartName="/ppt/media/image12.jpeg" ContentType="image/jpeg"/>
  <Override PartName="/ppt/media/image8.jpeg" ContentType="image/jpeg"/>
  <Override PartName="/ppt/media/image39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0.jpeg" ContentType="image/jpeg"/>
  <Override PartName="/ppt/media/image41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58.png" ContentType="image/pn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13.png" ContentType="image/png"/>
  <Override PartName="/ppt/media/image5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E345-78C7-40C6-8D78-1B42A16B8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8243-7C4B-4200-BBD5-89D03E0BC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2ED2-3FD8-409F-8366-6C5377A98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A214-28DF-40C6-A12B-F577524A1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4FBB-00E7-4879-8BE5-B2397DB49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A4B6-2260-4610-8ACE-C4410E927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B742-D6B8-423B-AABA-A5D1EB402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8A39-76A6-465F-8F9F-0F90A11C8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CB0A-684F-4FDF-86EC-59D9C152A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36D2-61E7-4BB6-B9E1-90C1511D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A436-319B-4FA6-BDCB-323AAB82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306B-F631-40DD-A9A4-98F20E5C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69C2C-8360-44F0-AFB9-B8A86499F1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rezentacii.com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hyperlink" Target="http://prezentacii.com/" TargetMode="External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clck.yandex.ru/redir/AiuY0DBWFJ4ePaEse6rgeAjgs2pI3DW99KUdgowt9XvqxGyo_rnZJpNjfFDg3rinsRg06G0AyigH3nxrdiPJP_d8jxsW8xM2vId9g5rGIoYiPLZ8jR0zJq0LchCyiW9y?data=UlNrNmk5WktYejR0eWJFYk1Ldmtxak1qUnF3cjJlcXlmRzlJRVp0cXNmdkZRV0hBRHd1Zk45a0hTbDZyZUtJOGJCakxLLUdEeG1hQlVNd1dnd1lBTTMzMHpveFVDUU5QbHhHM1BjdjE3anZlal9zQnFneEFKWk1LZW5rSGN5eHNpZVdiUWhpNTVjM1VfTVJKZkZtamJINmZXZWdzVGc1dDdlQzk1WmhMUVhj&amp;b64e=2&amp;sign=6b5767f814cbf7931af6e85dcb45b36c&amp;keyno=0" TargetMode="External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0-50.ru/news/incident/2009-06-16/id_205.html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3573360"/>
            <a:ext cx="763272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dddddd"/>
                </a:solidFill>
                <a:uFillTx/>
                <a:latin typeface="Arial"/>
              </a:rPr>
              <a:t>Внеклассное занятие для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779640" y="4723920"/>
            <a:ext cx="510516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р: Бандурка Александра Васи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УСОШ №10 станицы Советской муниципального образования Новокубанский райо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аснодарского кр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10"/>
          <p:cNvSpPr txBox="1"/>
          <p:nvPr/>
        </p:nvSpPr>
        <p:spPr>
          <a:xfrm>
            <a:off x="684360" y="2133720"/>
            <a:ext cx="770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Лесные пожары</a:t>
            </a:r>
            <a:endParaRPr b="1" i="1" lang="en-US" sz="6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Text Box 11"/>
          <p:cNvSpPr/>
          <p:nvPr/>
        </p:nvSpPr>
        <p:spPr>
          <a:xfrm>
            <a:off x="3924360" y="333360"/>
            <a:ext cx="496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онкурс МЧ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оминация: Работа педагог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7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bfbfbf"/>
          </a:solidFill>
          <a:ln w="38160">
            <a:solidFill>
              <a:srgbClr val="f1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e5d3a"/>
                </a:solidFill>
                <a:latin typeface="Arial"/>
              </a:rPr>
              <a:t>Верховой пожар </a:t>
            </a:r>
            <a:br>
              <a:rPr sz="2800"/>
            </a:br>
            <a:r>
              <a:rPr b="1" lang="ru-RU" sz="2800" spc="-1" strike="noStrike">
                <a:solidFill>
                  <a:srgbClr val="de5d3a"/>
                </a:solidFill>
                <a:latin typeface="Arial"/>
              </a:rPr>
              <a:t>тушат с помощью ави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untitled"/>
          <p:cNvPicPr/>
          <p:nvPr/>
        </p:nvPicPr>
        <p:blipFill>
          <a:blip r:embed="rId2"/>
          <a:stretch/>
        </p:blipFill>
        <p:spPr>
          <a:xfrm>
            <a:off x="250920" y="1628640"/>
            <a:ext cx="3143160" cy="4525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la_palma_fires10"/>
          <p:cNvPicPr/>
          <p:nvPr/>
        </p:nvPicPr>
        <p:blipFill>
          <a:blip r:embed="rId3"/>
          <a:stretch/>
        </p:blipFill>
        <p:spPr>
          <a:xfrm>
            <a:off x="3635280" y="1268280"/>
            <a:ext cx="5322960" cy="3548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picture"/>
          <p:cNvPicPr/>
          <p:nvPr/>
        </p:nvPicPr>
        <p:blipFill>
          <a:blip r:embed="rId4"/>
          <a:stretch/>
        </p:blipFill>
        <p:spPr>
          <a:xfrm>
            <a:off x="4067280" y="4149720"/>
            <a:ext cx="3238560" cy="2428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одземные (почвенные) пожар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: чаще всего связаны с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згоранием торфа. Распространяет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 скоростью до 1 км в сутки. Могут быть малозаметны и уходить на глубину до нескольких метров, поэтому представляют дополнительную опасность и крайне плохо поддаются тушению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Торф может гореть без доступа воздуха и даже под вод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Температура горящего торфа около 600 °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6126120"/>
            <a:ext cx="8244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1418670"/>
          <p:cNvPicPr/>
          <p:nvPr/>
        </p:nvPicPr>
        <p:blipFill>
          <a:blip r:embed="rId1"/>
          <a:stretch/>
        </p:blipFill>
        <p:spPr>
          <a:xfrm>
            <a:off x="1908000" y="2924280"/>
            <a:ext cx="5415120" cy="3620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forestnight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539640" y="836640"/>
            <a:ext cx="83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468360" y="692280"/>
            <a:ext cx="828036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тер гонит тучу дыма,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ловно грузного коня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лед за ним неумолимо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тало зарево огня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олько в редкие просветы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мно-бурых тополей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идно розовые светы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езумевших полей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рко вспыхивает маис,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 острым запахом смолы,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, шипя и разгораясь,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пламя падают стволы.</a:t>
            </a:r>
            <a:br>
              <a:rPr sz="2400"/>
            </a:b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26948eroWP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5"/>
          <p:cNvSpPr/>
          <p:nvPr/>
        </p:nvSpPr>
        <p:spPr>
          <a:xfrm>
            <a:off x="468360" y="476280"/>
            <a:ext cx="62420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зкий грохот, тяжкий топот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й, мычанье, визг и рев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 зловеще-тихий ропот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ипающих ручье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е страшней в ночи бессонной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е быстрее дикий бег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, огнями ослепленный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Черной кровью обагренный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рвым гибнет челове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High Tower Text"/>
              </a:rPr>
              <a:t>Н. Гумил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5338800" cy="227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Особая опасность лесного пожара - это близость леса к населенным пунктам людей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727560_4KVJgt"/>
          <p:cNvPicPr/>
          <p:nvPr/>
        </p:nvPicPr>
        <p:blipFill>
          <a:blip r:embed="rId2"/>
          <a:stretch/>
        </p:blipFill>
        <p:spPr>
          <a:xfrm>
            <a:off x="0" y="1803240"/>
            <a:ext cx="6948360" cy="5054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medium_13127"/>
          <p:cNvPicPr/>
          <p:nvPr/>
        </p:nvPicPr>
        <p:blipFill>
          <a:blip r:embed="rId3"/>
          <a:stretch/>
        </p:blipFill>
        <p:spPr>
          <a:xfrm>
            <a:off x="5364000" y="2781360"/>
            <a:ext cx="3606840" cy="2705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r426743_2034078"/>
          <p:cNvPicPr/>
          <p:nvPr/>
        </p:nvPicPr>
        <p:blipFill>
          <a:blip r:embed="rId4"/>
          <a:stretch/>
        </p:blipFill>
        <p:spPr>
          <a:xfrm>
            <a:off x="5651640" y="260280"/>
            <a:ext cx="3136680" cy="1986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e989"/>
            </a:gs>
            <a:gs pos="100000">
              <a:srgbClr val="cc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Лес - дом для зверей, птиц, насекомых…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dbe71818d7d9fb500571f4350d1fdfc0"/>
          <p:cNvPicPr/>
          <p:nvPr/>
        </p:nvPicPr>
        <p:blipFill>
          <a:blip r:embed="rId1"/>
          <a:stretch/>
        </p:blipFill>
        <p:spPr>
          <a:xfrm>
            <a:off x="2411280" y="1197000"/>
            <a:ext cx="6405840" cy="51498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252720" y="1196640"/>
            <a:ext cx="89391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сной пожар, гон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ый ветром жалит 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ничтожая все жив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е на пути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звери в диком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е убегают 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шкуру  получа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олдыри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то не успел уйт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 возгоранья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т погибает в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п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ьном дыму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ушой своею в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б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 улетая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танки  превращ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ются в золу…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все бегут, поджав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хвосты и гривы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гут, несутся звер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напролом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нападают ником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 на спины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руг  друга не грыз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т, таков закон!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рассвете дня поб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иже к водопою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б охладить гор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щий пыл огня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окунуться в воду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 головою: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асенье ради жиз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 – не за зря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втор стихотворения: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http://tank3x.rc-mir.com/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e98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43640" y="5229360"/>
            <a:ext cx="217008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3300"/>
                </a:solidFill>
                <a:uFillTx/>
                <a:latin typeface="Arial"/>
              </a:rPr>
              <a:t>Из рассказа К. Паустовского «Заячьи лапы»</a:t>
            </a:r>
            <a:br>
              <a:rPr sz="1600"/>
            </a:b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Ребята, прочитайте этот рассказ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-360" y="260280"/>
            <a:ext cx="66596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…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В августе дед пошел охотиться на северный берег озера. Леса стояли сухие, как порох. Деду попался зайчонок с рваным левым ухом. Дед выстрелил в него из старого, связанного проволокой ружья, но промахнулся. Заяц удра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д пошел дальше. Но вдруг затревожился: с юга, со стороны Лопухов, сильно тянуло гарью. Поднялся ветер. Дым густел, его уже несло белой пеленой по лесу, затягивало кусты. Стало трудно дышать. Дед понял, что начался лесной пожар и огонь идет прямо на него. Ветер перешел в ураган. Огонь гнало по земле с неслыханной скоростью. По словам деда, даже поезд не мог бы уйти от такого огня. Дед был прав: во время урагана огонь шел со скоростью тридцати километров в ча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д побежал по кочкам, спотыкался, падал, дым выедал ему глаза, а сзади был уже слышен широкий гул и треск пламе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мерть настигала деда, хватала его за плечи, и в это время из-под ног у деда выскочил заяц. Он бежал медленно и волочил задние лапы. Потом только дед заметил, что они у зайца обгоре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д обрадовался зайцу, будто родному. Как старый лесной житель, дед знал, что звери гораздо лучше человека чуют, откуда идет огонь, и всегда спасаются. Гибнут они только в тех редких случаях, когда огонь их окружает. Дед побежал за зайцем. Он бежал, плакал от страха и кричал: "Погоди, милый, не беги так-то шибко!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яц вывел деда из огня. Когда они выбежали из леса к озеру, заяц и дед - оба упали от усталости. Дед подобрал зайца и понес домой. У зайца были опалены задние ноги и живот. Потом дед его вылечил и оставил у себя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102178"/>
          <p:cNvPicPr/>
          <p:nvPr/>
        </p:nvPicPr>
        <p:blipFill>
          <a:blip r:embed="rId1"/>
          <a:stretch/>
        </p:blipFill>
        <p:spPr>
          <a:xfrm rot="548400">
            <a:off x="6803640" y="260280"/>
            <a:ext cx="2008080" cy="2664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13aa2"/>
          <p:cNvPicPr/>
          <p:nvPr/>
        </p:nvPicPr>
        <p:blipFill>
          <a:blip r:embed="rId2"/>
          <a:stretch/>
        </p:blipFill>
        <p:spPr>
          <a:xfrm rot="526800">
            <a:off x="6803640" y="2923920"/>
            <a:ext cx="1817640" cy="2367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Правила спасения при лесном пожар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p50_les_poj_yevak"/>
          <p:cNvPicPr/>
          <p:nvPr/>
        </p:nvPicPr>
        <p:blipFill>
          <a:blip r:embed="rId1"/>
          <a:stretch/>
        </p:blipFill>
        <p:spPr>
          <a:xfrm>
            <a:off x="539640" y="981000"/>
            <a:ext cx="8353440" cy="5718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e98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3644640"/>
            <a:ext cx="382752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Человек, помни! </a:t>
            </a: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Чаще всего лесные пожары бывают по твоей вин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topic44_7"/>
          <p:cNvPicPr/>
          <p:nvPr/>
        </p:nvPicPr>
        <p:blipFill>
          <a:blip r:embed="rId1"/>
          <a:stretch/>
        </p:blipFill>
        <p:spPr>
          <a:xfrm>
            <a:off x="179280" y="458640"/>
            <a:ext cx="3888000" cy="29163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4356000" y="333360"/>
            <a:ext cx="460872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de5d3a"/>
                </a:solidFill>
                <a:uFillTx/>
                <a:latin typeface="Arial"/>
              </a:rPr>
              <a:t>ЛЕСНОЙ ПОЖАР</a:t>
            </a:r>
            <a:r>
              <a:rPr b="1" lang="ru-RU" sz="1400" spc="-1" strike="noStrike">
                <a:solidFill>
                  <a:srgbClr val="de5d3a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бывчивый охотник на привал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 разметал, не растоптал кост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н в лес ушел, а ветки догора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нехотя чадили до ут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 утром ветер разогнал туман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ожил потухающий кост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, сыпля искры, посреди поля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агровые лохмотья распросте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н всю траву с цветами вместе выжег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усты спалил, в зеленый лес воше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к вспугнутая стая белок рыжих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н заметался со ствола на ство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лес гудел от огненной метел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 морозным треском падали ствол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, как снежинки, искры с них лете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д серыми сугробами зол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гонь настиг охотника - и, мучась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от задыхался в огненном плен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н сам себе готовил эту участь,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о как он искупил свою вину!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 такова ли совесть? Времен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не снится сон средь тишины ночно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то где-то мной костер забыт, а плам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же гудит, уже идет за мной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адим Шефнер /1940г.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l2(1)"/>
          <p:cNvPicPr/>
          <p:nvPr/>
        </p:nvPicPr>
        <p:blipFill>
          <a:blip r:embed="rId1"/>
          <a:stretch/>
        </p:blipFill>
        <p:spPr>
          <a:xfrm>
            <a:off x="0" y="0"/>
            <a:ext cx="9972720" cy="6832440"/>
          </a:xfrm>
          <a:prstGeom prst="rect">
            <a:avLst/>
          </a:prstGeom>
          <a:ln w="0">
            <a:noFill/>
          </a:ln>
        </p:spPr>
      </p:pic>
      <p:pic>
        <p:nvPicPr>
          <p:cNvPr id="111" name="Кино музыка - Граница Таежный роман - Лесные пожары.mp3" descr=""/>
          <p:cNvPicPr/>
          <p:nvPr/>
        </p:nvPicPr>
        <p:blipFill>
          <a:blip r:embed="rId2"/>
          <a:stretch/>
        </p:blipFill>
        <p:spPr>
          <a:xfrm>
            <a:off x="39528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7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4220640"/>
            <a:ext cx="8229600" cy="19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дравствуй, лес, дремучий лес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ный сказок и чуд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583838"/>
          <p:cNvPicPr/>
          <p:nvPr/>
        </p:nvPicPr>
        <p:blipFill>
          <a:blip r:embed="rId1"/>
          <a:stretch/>
        </p:blipFill>
        <p:spPr>
          <a:xfrm>
            <a:off x="0" y="0"/>
            <a:ext cx="9540720" cy="7165800"/>
          </a:xfrm>
          <a:prstGeom prst="rect">
            <a:avLst/>
          </a:prstGeom>
          <a:ln w="0">
            <a:noFill/>
          </a:ln>
        </p:spPr>
      </p:pic>
      <p:pic>
        <p:nvPicPr>
          <p:cNvPr id="115" name="Кино музыка - Граница Таежный роман - Лесные пожары.mp3" descr=""/>
          <p:cNvPicPr/>
          <p:nvPr/>
        </p:nvPicPr>
        <p:blipFill>
          <a:blip r:embed="rId2"/>
          <a:stretch/>
        </p:blipFill>
        <p:spPr>
          <a:xfrm>
            <a:off x="32400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28" dur="indefinite" restart="never" nodeType="tmRoot">
          <p:childTnLst>
            <p:seq>
              <p:cTn id="229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230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10.0)">
                                      <p:cBhvr>
                                        <p:cTn id="233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0_48a7_947a5caf_XL"/>
          <p:cNvPicPr/>
          <p:nvPr/>
        </p:nvPicPr>
        <p:blipFill>
          <a:blip r:embed="rId1"/>
          <a:stretch/>
        </p:blipFill>
        <p:spPr>
          <a:xfrm>
            <a:off x="0" y="0"/>
            <a:ext cx="10333080" cy="6897600"/>
          </a:xfrm>
          <a:prstGeom prst="rect">
            <a:avLst/>
          </a:prstGeom>
          <a:ln w="0">
            <a:noFill/>
          </a:ln>
        </p:spPr>
      </p:pic>
      <p:pic>
        <p:nvPicPr>
          <p:cNvPr id="119" name="Кино музыка - Граница Таежный роман - Лесные пожары.mp3" descr=""/>
          <p:cNvPicPr/>
          <p:nvPr/>
        </p:nvPicPr>
        <p:blipFill>
          <a:blip r:embed="rId2"/>
          <a:stretch/>
        </p:blipFill>
        <p:spPr>
          <a:xfrm>
            <a:off x="25092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34" dur="indefinite" restart="never" nodeType="tmRoot">
          <p:childTnLst>
            <p:seq>
              <p:cTn id="235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236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mediacall" presetID="1">
                                  <p:stCondLst>
                                    <p:cond delay="20000"/>
                                  </p:stCondLst>
                                  <p:childTnLst>
                                    <p:cmd type="call" cmd="playFrom(20.0)">
                                      <p:cBhvr>
                                        <p:cTn id="239" dur="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V%20-%20Lesa%20goryat0343!"/>
          <p:cNvPicPr/>
          <p:nvPr/>
        </p:nvPicPr>
        <p:blipFill>
          <a:blip r:embed="rId1"/>
          <a:stretch/>
        </p:blipFill>
        <p:spPr>
          <a:xfrm>
            <a:off x="0" y="0"/>
            <a:ext cx="9144000" cy="7361280"/>
          </a:xfrm>
          <a:prstGeom prst="rect">
            <a:avLst/>
          </a:prstGeom>
          <a:ln w="0">
            <a:noFill/>
          </a:ln>
        </p:spPr>
      </p:pic>
      <p:pic>
        <p:nvPicPr>
          <p:cNvPr id="123" name="Кино музыка - Граница Таежный роман - Лесные пожары.mp3" descr=""/>
          <p:cNvPicPr/>
          <p:nvPr/>
        </p:nvPicPr>
        <p:blipFill>
          <a:blip r:embed="rId2"/>
          <a:stretch/>
        </p:blipFill>
        <p:spPr>
          <a:xfrm>
            <a:off x="32400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40" dur="indefinite" restart="never" nodeType="tmRoot">
          <p:childTnLst>
            <p:seq>
              <p:cTn id="241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42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30.0)">
                                      <p:cBhvr>
                                        <p:cTn id="245" dur="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89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Тушение лесного огня пожарными МЧ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0_1781b_cf35b486_XL"/>
          <p:cNvPicPr/>
          <p:nvPr/>
        </p:nvPicPr>
        <p:blipFill>
          <a:blip r:embed="rId1"/>
          <a:stretch/>
        </p:blipFill>
        <p:spPr>
          <a:xfrm>
            <a:off x="4572000" y="260280"/>
            <a:ext cx="4183200" cy="3138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0_f03a_4707d523_XL"/>
          <p:cNvPicPr/>
          <p:nvPr/>
        </p:nvPicPr>
        <p:blipFill>
          <a:blip r:embed="rId2"/>
          <a:stretch/>
        </p:blipFill>
        <p:spPr>
          <a:xfrm>
            <a:off x="3419640" y="2492280"/>
            <a:ext cx="5467320" cy="41007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02_07_01"/>
          <p:cNvPicPr/>
          <p:nvPr/>
        </p:nvPicPr>
        <p:blipFill>
          <a:blip r:embed="rId3"/>
          <a:stretch/>
        </p:blipFill>
        <p:spPr>
          <a:xfrm>
            <a:off x="250920" y="1989000"/>
            <a:ext cx="3085920" cy="43149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237_preview"/>
          <p:cNvPicPr/>
          <p:nvPr/>
        </p:nvPicPr>
        <p:blipFill>
          <a:blip r:embed="rId4"/>
          <a:stretch/>
        </p:blipFill>
        <p:spPr>
          <a:xfrm>
            <a:off x="2771640" y="1413000"/>
            <a:ext cx="2737080" cy="2052360"/>
          </a:xfrm>
          <a:prstGeom prst="rect">
            <a:avLst/>
          </a:prstGeom>
          <a:ln w="0">
            <a:noFill/>
          </a:ln>
        </p:spPr>
      </p:pic>
      <p:pic>
        <p:nvPicPr>
          <p:cNvPr id="129" name="Кино музыка - Граница Таежный роман - Лесные пожары.mp3" descr=""/>
          <p:cNvPicPr/>
          <p:nvPr/>
        </p:nvPicPr>
        <p:blipFill>
          <a:blip r:embed="rId5"/>
          <a:stretch/>
        </p:blipFill>
        <p:spPr>
          <a:xfrm>
            <a:off x="39528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273" dur="1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feb_austra8"/>
          <p:cNvPicPr/>
          <p:nvPr/>
        </p:nvPicPr>
        <p:blipFill>
          <a:blip r:embed="rId1"/>
          <a:stretch/>
        </p:blipFill>
        <p:spPr>
          <a:xfrm>
            <a:off x="0" y="0"/>
            <a:ext cx="5508720" cy="41432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26941cjOOc1"/>
          <p:cNvPicPr/>
          <p:nvPr/>
        </p:nvPicPr>
        <p:blipFill>
          <a:blip r:embed="rId2"/>
          <a:stretch/>
        </p:blipFill>
        <p:spPr>
          <a:xfrm>
            <a:off x="4427640" y="3249720"/>
            <a:ext cx="4495680" cy="33717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54_30"/>
          <p:cNvPicPr/>
          <p:nvPr/>
        </p:nvPicPr>
        <p:blipFill>
          <a:blip r:embed="rId3"/>
          <a:stretch/>
        </p:blipFill>
        <p:spPr>
          <a:xfrm>
            <a:off x="324000" y="3500280"/>
            <a:ext cx="3887640" cy="2543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03"/>
          <p:cNvPicPr/>
          <p:nvPr/>
        </p:nvPicPr>
        <p:blipFill>
          <a:blip r:embed="rId4"/>
          <a:stretch/>
        </p:blipFill>
        <p:spPr>
          <a:xfrm>
            <a:off x="5003640" y="366840"/>
            <a:ext cx="3600720" cy="240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les__580_no"/>
          <p:cNvPicPr/>
          <p:nvPr/>
        </p:nvPicPr>
        <p:blipFill>
          <a:blip r:embed="rId1"/>
          <a:stretch/>
        </p:blipFill>
        <p:spPr>
          <a:xfrm>
            <a:off x="0" y="3500280"/>
            <a:ext cx="3708360" cy="2479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les_pog1"/>
          <p:cNvPicPr/>
          <p:nvPr/>
        </p:nvPicPr>
        <p:blipFill>
          <a:blip r:embed="rId2"/>
          <a:stretch/>
        </p:blipFill>
        <p:spPr>
          <a:xfrm>
            <a:off x="0" y="404640"/>
            <a:ext cx="4032360" cy="25671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s3802302"/>
          <p:cNvPicPr/>
          <p:nvPr/>
        </p:nvPicPr>
        <p:blipFill>
          <a:blip r:embed="rId3"/>
          <a:stretch/>
        </p:blipFill>
        <p:spPr>
          <a:xfrm>
            <a:off x="3564000" y="0"/>
            <a:ext cx="5580000" cy="4059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mr_28"/>
          <p:cNvPicPr/>
          <p:nvPr/>
        </p:nvPicPr>
        <p:blipFill>
          <a:blip r:embed="rId4"/>
          <a:stretch/>
        </p:blipFill>
        <p:spPr>
          <a:xfrm>
            <a:off x="3747960" y="2811600"/>
            <a:ext cx="5396040" cy="4046400"/>
          </a:xfrm>
          <a:prstGeom prst="rect">
            <a:avLst/>
          </a:prstGeom>
          <a:ln w="0">
            <a:noFill/>
          </a:ln>
        </p:spPr>
      </p:pic>
      <p:pic>
        <p:nvPicPr>
          <p:cNvPr id="140" name="Кино музыка - Граница Таежный роман - Лесные пожары.mp3" descr=""/>
          <p:cNvPicPr/>
          <p:nvPr/>
        </p:nvPicPr>
        <p:blipFill>
          <a:blip r:embed="rId5"/>
          <a:stretch/>
        </p:blipFill>
        <p:spPr>
          <a:xfrm>
            <a:off x="39528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8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329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2" dur="218940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762440" cy="32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ЧС предупреждает :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ерегите наши леса от пожар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43280" y="3789000"/>
            <a:ext cx="404352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579"/>
          <p:cNvPicPr/>
          <p:nvPr/>
        </p:nvPicPr>
        <p:blipFill>
          <a:blip r:embed="rId1"/>
          <a:stretch/>
        </p:blipFill>
        <p:spPr>
          <a:xfrm>
            <a:off x="179280" y="3860640"/>
            <a:ext cx="5143680" cy="25815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86680823e8b7"/>
          <p:cNvPicPr/>
          <p:nvPr/>
        </p:nvPicPr>
        <p:blipFill>
          <a:blip r:embed="rId2"/>
          <a:stretch/>
        </p:blipFill>
        <p:spPr>
          <a:xfrm>
            <a:off x="5292720" y="836640"/>
            <a:ext cx="3678120" cy="4416480"/>
          </a:xfrm>
          <a:prstGeom prst="rect">
            <a:avLst/>
          </a:prstGeom>
          <a:ln w="0">
            <a:noFill/>
          </a:ln>
        </p:spPr>
      </p:pic>
      <p:pic>
        <p:nvPicPr>
          <p:cNvPr id="145" name="Кино музыка - Граница Таежный роман - Лесные пожары.mp3" descr=""/>
          <p:cNvPicPr/>
          <p:nvPr/>
        </p:nvPicPr>
        <p:blipFill>
          <a:blip r:embed="rId3"/>
          <a:stretch/>
        </p:blipFill>
        <p:spPr>
          <a:xfrm>
            <a:off x="25092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43280" y="274680"/>
            <a:ext cx="4043520" cy="26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 одного дерева можно сделать тысячу спичек,  а одной спичкой можно уничтожить тысячу деревье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DSC_1131(1)"/>
          <p:cNvPicPr/>
          <p:nvPr/>
        </p:nvPicPr>
        <p:blipFill>
          <a:blip r:embed="rId1"/>
          <a:stretch/>
        </p:blipFill>
        <p:spPr>
          <a:xfrm>
            <a:off x="324000" y="260280"/>
            <a:ext cx="4171680" cy="2643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16"/>
          <p:cNvPicPr/>
          <p:nvPr/>
        </p:nvPicPr>
        <p:blipFill>
          <a:blip r:embed="rId2"/>
          <a:stretch/>
        </p:blipFill>
        <p:spPr>
          <a:xfrm>
            <a:off x="4643280" y="3251160"/>
            <a:ext cx="4205520" cy="3235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200x200_forest"/>
          <p:cNvPicPr/>
          <p:nvPr/>
        </p:nvPicPr>
        <p:blipFill>
          <a:blip r:embed="rId3"/>
          <a:stretch/>
        </p:blipFill>
        <p:spPr>
          <a:xfrm>
            <a:off x="250920" y="3225960"/>
            <a:ext cx="4249800" cy="3187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60r56-126b-8"/>
          <p:cNvPicPr/>
          <p:nvPr/>
        </p:nvPicPr>
        <p:blipFill>
          <a:blip r:embed="rId1"/>
          <a:stretch/>
        </p:blipFill>
        <p:spPr>
          <a:xfrm>
            <a:off x="324000" y="4292640"/>
            <a:ext cx="2822400" cy="18525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63r56-797b-1"/>
          <p:cNvPicPr/>
          <p:nvPr/>
        </p:nvPicPr>
        <p:blipFill>
          <a:blip r:embed="rId2"/>
          <a:stretch/>
        </p:blipFill>
        <p:spPr>
          <a:xfrm>
            <a:off x="6227640" y="2852640"/>
            <a:ext cx="2462400" cy="33544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63r56-797b-4"/>
          <p:cNvPicPr/>
          <p:nvPr/>
        </p:nvPicPr>
        <p:blipFill>
          <a:blip r:embed="rId3"/>
          <a:stretch/>
        </p:blipFill>
        <p:spPr>
          <a:xfrm>
            <a:off x="468360" y="692280"/>
            <a:ext cx="2112840" cy="2844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08r3001"/>
          <p:cNvPicPr/>
          <p:nvPr/>
        </p:nvPicPr>
        <p:blipFill>
          <a:blip r:embed="rId4"/>
          <a:stretch/>
        </p:blipFill>
        <p:spPr>
          <a:xfrm>
            <a:off x="5651640" y="333360"/>
            <a:ext cx="3051000" cy="21542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13"/>
          <p:cNvSpPr/>
          <p:nvPr/>
        </p:nvSpPr>
        <p:spPr>
          <a:xfrm>
            <a:off x="2700360" y="2276640"/>
            <a:ext cx="3311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едупреждения об опасности огня в лесу размещают и на коробках со спичкам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6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06r1001"/>
          <p:cNvPicPr/>
          <p:nvPr/>
        </p:nvPicPr>
        <p:blipFill>
          <a:blip r:embed="rId1"/>
          <a:stretch/>
        </p:blipFill>
        <p:spPr>
          <a:xfrm>
            <a:off x="2843280" y="260280"/>
            <a:ext cx="3281400" cy="4525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06r9901"/>
          <p:cNvPicPr/>
          <p:nvPr/>
        </p:nvPicPr>
        <p:blipFill>
          <a:blip r:embed="rId2"/>
          <a:stretch/>
        </p:blipFill>
        <p:spPr>
          <a:xfrm>
            <a:off x="5851440" y="2637000"/>
            <a:ext cx="2914560" cy="3968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63r56-797b-5"/>
          <p:cNvPicPr/>
          <p:nvPr/>
        </p:nvPicPr>
        <p:blipFill>
          <a:blip r:embed="rId3"/>
          <a:stretch/>
        </p:blipFill>
        <p:spPr>
          <a:xfrm>
            <a:off x="324000" y="2637000"/>
            <a:ext cx="2922480" cy="3949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-74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1280" y="2276640"/>
            <a:ext cx="8229600" cy="286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ы о чем шумишь листв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очью темной, грозово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ьте на вопро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13_02_00"/>
          <p:cNvPicPr/>
          <p:nvPr/>
        </p:nvPicPr>
        <p:blipFill>
          <a:blip r:embed="rId1"/>
          <a:stretch/>
        </p:blipFill>
        <p:spPr>
          <a:xfrm>
            <a:off x="4572000" y="1197000"/>
            <a:ext cx="4286160" cy="26859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13_02_03"/>
          <p:cNvPicPr/>
          <p:nvPr/>
        </p:nvPicPr>
        <p:blipFill>
          <a:blip r:embed="rId2"/>
          <a:stretch/>
        </p:blipFill>
        <p:spPr>
          <a:xfrm>
            <a:off x="250920" y="3573360"/>
            <a:ext cx="3887640" cy="30798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395280" y="1341360"/>
            <a:ext cx="4032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Что не сдела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ре-турист после прива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4356000" y="4149720"/>
            <a:ext cx="439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Какие правила спасения необходимо соблюдать , если вы попали в зону лесного пожа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2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4259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13_02_02"/>
          <p:cNvPicPr/>
          <p:nvPr/>
        </p:nvPicPr>
        <p:blipFill>
          <a:blip r:embed="rId1"/>
          <a:stretch/>
        </p:blipFill>
        <p:spPr>
          <a:xfrm>
            <a:off x="5724360" y="3417840"/>
            <a:ext cx="3094200" cy="34401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13_02_01"/>
          <p:cNvPicPr/>
          <p:nvPr/>
        </p:nvPicPr>
        <p:blipFill>
          <a:blip r:embed="rId2"/>
          <a:stretch/>
        </p:blipFill>
        <p:spPr>
          <a:xfrm>
            <a:off x="395280" y="260280"/>
            <a:ext cx="4753080" cy="337968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6"/>
          <p:cNvSpPr/>
          <p:nvPr/>
        </p:nvSpPr>
        <p:spPr>
          <a:xfrm>
            <a:off x="5003640" y="404640"/>
            <a:ext cx="3600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Что это за вид лесного пожа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обычно с ним борю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611280" y="4005360"/>
            <a:ext cx="532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Назовите вид этого лесного пожара. Какие виды техники используют пожарные МЧС при его туше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44088160_b682b5b12f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7"/>
          <p:cNvSpPr/>
          <p:nvPr/>
        </p:nvSpPr>
        <p:spPr>
          <a:xfrm>
            <a:off x="900000" y="981000"/>
            <a:ext cx="7775640" cy="51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Лес всегда рад помочь человеку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Он согреет, накормит, удивит, научит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6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7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9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d09a2633c77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"/>
          <p:cNvSpPr/>
          <p:nvPr/>
        </p:nvSpPr>
        <p:spPr>
          <a:xfrm>
            <a:off x="1403280" y="1197000"/>
            <a:ext cx="720108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Человек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береги своего «зеленого»друга от пожара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7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bfbfbf"/>
          </a:solidFill>
          <a:ln w="38160">
            <a:solidFill>
              <a:srgbClr val="f1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8936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тернет-ресур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lck.yandex.ru/redir/AiuY0DBWFJ4ePaEse6rgeAjgs2pI3DW99KUdgowt9XvqxGyo_rnZJpNjfFDg3rinsRg06G0AyigH3nxrdiPJP_d8jxsW8xM2vId9g5rGIoYiPLZ8jR0zJq0LchCyiW9y?data=UlNrNmk5WktYejR0eWJFYk1Ldmtxak1qUnF3cjJlcXlmRzlJRVp0cXNmdkZRV0hBRHd1Zk45a0hTbDZyZUtJOGJCakxLLUdEeG1hQlVNd1dnd1lBTTMzMHpveFVDUU5QbHhHM1BjdjE3anZlal9zQnFneEFKWk1LZW5rSGN5eHNpZVdiUWhpNTVjM1VfTVJKZkZtamJINmZXZWdzVGc1dDdlQzk1WmhMUVhj&amp;b64e=2&amp;sign=6b5767f814cbf7931af6e85dcb45b36c&amp;keyno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ecoportal.ru/news.php?id=365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vmestestem.ru/news/&amp;gr=2&amp;nid=252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klops.ru/news.html?topic=28&amp;p=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citysakh.ru/News/?dirid=31&amp;st=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elementy.ru/genbio/synopsis?artid=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fotki.yandex.ru/users/ya-morales/view/96283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vsesmi.ru/news/776988/1604745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r1tv.com.ua/ru/news/2009-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photosight.ru/photos/871750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nasha-iskra.ru/default.asp?objType=2&amp;objValue=376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tourist.kharkov.ua/review_velo/index.php?viewtopic=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allrf.ru/dir/dir/4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justmedia.ru/news/none?page=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chita.ru/news/?pg=2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aif.ru/society/news/343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news.irknet.ru/irk/irk_news/34811-mchs_irkutskojj_oblasti_preduprezhdaet_o_verojatnosti_vozniknovenija_lesnykh_pozharov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joyclick.ru/2009/08/04/page/1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blogs.mail.ru/mail/spanchbobina/1C4186FD435E2928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admkamyshin.info/page/18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ellf.ru/world/26486-lesnye-pozhary-na-kanarskix-ostrovax-19-foto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polemika.com.ua/news-10758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berdichev.info/index.php?categoryid=1&amp;cstart=2&amp;year=2009&amp;month=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t-i.ru/numbers/show/551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gazeta.aif.ru/online/kids/142/13_02?com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gazeta.aif.ru/online/kids/142/13_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gazeta.aif.ru/online/kids/142/13_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gazeta.aif.ru/online/kids/142/13_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airbase.forest.ru/index/fotoalb011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тернет-ресур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54900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0-50.ru/news/incident/2009-06-16/id_205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emercom.ykt.ru/arxiv_may2007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news.radiozaryad.ru/?news=344&amp;mpages_page=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vestipk.ru/?id=86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vestipk.ru/?id=86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mg.ru/chelyabinskaya/ru/news/?tag=3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school12.siteedit.ru/page1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eco.rian.ru/ecophoto/20090831/183092296_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vsesmi.ru/news/902598/1775525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outdoormedia.com.ua/index.php?id=4083&amp;L=0&amp;tx_ttnews[tt_news]=2703&amp;tx_ttnews[backPid]=227&amp;cHash=7d1e34f66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justmedia.ru/news/russiaandworld/2009/09/04/578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novoteka.ru/r/Accidents.Fire?lastdate=/2009-07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news.a42.ru/news/category/11/146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asfera.info/reports_category/104/page-4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vremyan.ru/persons/gagarin_jurij,,,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fillumenistika.ru/albom/katalogi/1963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fillumenistika.ru/albom/katalogi/1980/80r77-34b/slides/08r3001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fillumenistika.ru/albom/katalogi/bezopasn/63r56-797b/slides/63r56-797b-5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fillumenistika.ru/albom/katalogi/bezopasn/63r56-797b/slides/63r56-797b-4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rem-5.ru/es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fillumenistika.ru/albom/katalogi/1968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fillumenistika.ru/albom/katalogi/1964/64r56-597b/slides/06r1001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kgpbz.ru/index.php?option=com_content&amp;task=view&amp;id=5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libex.ru/detail/book177174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books.ru/shop/books/1021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io-giznprgaetca.ucoz.ru/forum/17-37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liveinternet.ru/community/1709656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bri.by/content/news/category26.php?q=&amp;where=&amp;PAGEN_1=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kuharka.ru/talk/noeat/play/4643.html?p=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forum.la2mix.ru/showthread.php?s=617084a83ac2610c8b3bb428bd500896&amp;t=19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magorgal.ru/displayimage.php?album=2&amp;pos=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admtyumen.ru/ogv_ru/news/arhiv_news/results.htm?f=22401&amp;blk=103145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magorgal.ru/thumbnails.php?album=topn&amp;cat=0&amp;page=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то там шепчешь на зар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есь в росе и в серебр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4220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то в глуши твоей таит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то за зверь? Какая птиц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691920"/>
            <a:ext cx="8229600" cy="53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се открой, не ута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ы же видишь - мы сво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High Tower Text"/>
              </a:rPr>
              <a:t>С. Погорел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989"/>
            </a:gs>
            <a:gs pos="100000">
              <a:srgbClr val="cc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20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                 </a:t>
            </a:r>
            <a:r>
              <a:rPr b="1" lang="ru-RU" sz="2800" spc="-1" strike="noStrike" u="sng">
                <a:solidFill>
                  <a:srgbClr val="de5d3a"/>
                </a:solidFill>
                <a:uFillTx/>
                <a:latin typeface="Arial"/>
              </a:rPr>
              <a:t>Лесно́й пожа́р</a:t>
            </a: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— это стихийное, неуправляемое распространение огня по лесным площад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e5d3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de5d3a"/>
                </a:solidFill>
                <a:uFillTx/>
                <a:latin typeface="Arial"/>
              </a:rPr>
              <a:t>Причины возникновения пожаров в лес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5"/>
          <p:cNvSpPr/>
          <p:nvPr/>
        </p:nvSpPr>
        <p:spPr>
          <a:xfrm flipH="1">
            <a:off x="1979640" y="2708280"/>
            <a:ext cx="2160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539640" y="3645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тестве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7"/>
          <p:cNvSpPr/>
          <p:nvPr/>
        </p:nvSpPr>
        <p:spPr>
          <a:xfrm>
            <a:off x="4716360" y="2708280"/>
            <a:ext cx="2303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4716360" y="364500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нтропоге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468360" y="4292640"/>
            <a:ext cx="29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молния и засух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5508720" y="42926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челове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468360" y="522936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зависимости от того, где распространяется огонь, пожары делятся на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изовые, верховые и подзем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e989"/>
            </a:gs>
            <a:gs pos="100000">
              <a:srgbClr val="cc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409480"/>
          <p:cNvPicPr/>
          <p:nvPr/>
        </p:nvPicPr>
        <p:blipFill>
          <a:blip r:embed="rId1"/>
          <a:stretch/>
        </p:blipFill>
        <p:spPr>
          <a:xfrm>
            <a:off x="1403280" y="1844640"/>
            <a:ext cx="6042240" cy="5013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7348"/>
          <p:cNvPicPr/>
          <p:nvPr/>
        </p:nvPicPr>
        <p:blipFill>
          <a:blip r:embed="rId2"/>
          <a:stretch/>
        </p:blipFill>
        <p:spPr>
          <a:xfrm>
            <a:off x="5867280" y="4365720"/>
            <a:ext cx="3017880" cy="2263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7720"/>
          <p:cNvPicPr/>
          <p:nvPr/>
        </p:nvPicPr>
        <p:blipFill>
          <a:blip r:embed="rId3"/>
          <a:stretch/>
        </p:blipFill>
        <p:spPr>
          <a:xfrm>
            <a:off x="324000" y="2349360"/>
            <a:ext cx="3743280" cy="280836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468000" y="0"/>
            <a:ext cx="793116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Низовой пожар :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горает лесная подстилка, лишайники, мхи, травы, опавшие на землю ветки и т. п. Скорость движения пожара по ветру 0,25—5 км/ч. </a:t>
            </a:r>
            <a:br>
              <a:rPr sz="2000"/>
            </a:b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Высота пламени до 2,5 м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Температура горения около 700 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e989"/>
            </a:gs>
            <a:gs pos="100000">
              <a:srgbClr val="cc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Верховой пожар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 охватывает листья, хвою, ветви, а в случае падения горящих деревьев и травяно-моховой покров почвы и подрост. Скорость распространения от 5—30 км/ч.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Температура от 900 °C до 1200 °C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63837m"/>
          <p:cNvPicPr/>
          <p:nvPr/>
        </p:nvPicPr>
        <p:blipFill>
          <a:blip r:embed="rId1"/>
          <a:stretch/>
        </p:blipFill>
        <p:spPr>
          <a:xfrm>
            <a:off x="1332000" y="1844640"/>
            <a:ext cx="6481800" cy="4645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19708"/>
          <p:cNvPicPr/>
          <p:nvPr/>
        </p:nvPicPr>
        <p:blipFill>
          <a:blip r:embed="rId2"/>
          <a:stretch/>
        </p:blipFill>
        <p:spPr>
          <a:xfrm>
            <a:off x="5148360" y="2997360"/>
            <a:ext cx="3857400" cy="3686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24270"/>
          <p:cNvPicPr/>
          <p:nvPr/>
        </p:nvPicPr>
        <p:blipFill>
          <a:blip r:embed="rId3"/>
          <a:stretch/>
        </p:blipFill>
        <p:spPr>
          <a:xfrm>
            <a:off x="0" y="1989000"/>
            <a:ext cx="2592360" cy="3240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20:02:32Z</dcterms:created>
  <dc:creator>Пользователь</dc:creator>
  <dc:description/>
  <dc:language>en-US</dc:language>
  <cp:lastModifiedBy>Admin</cp:lastModifiedBy>
  <dcterms:modified xsi:type="dcterms:W3CDTF">2012-09-02T16:46:38Z</dcterms:modified>
  <cp:revision>16</cp:revision>
  <dc:subject/>
  <dc:title>Слайд 1</dc:title>
</cp:coreProperties>
</file>