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5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57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60.png" ContentType="image/png"/>
  <Override PartName="/ppt/media/image6.jpeg" ContentType="image/jpeg"/>
  <Override PartName="/ppt/media/image29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54.jpeg" ContentType="image/jpeg"/>
  <Override PartName="/ppt/media/image12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8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B31-3910-41B4-8BC4-A0EA087C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26E-42F7-4FC5-A30B-5419C954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53C-EC63-442A-B1CA-E10EFD5A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8C5-DAE1-4AA5-86AD-5F9A2EEB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888-C552-49D5-ACE5-1247945C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E08-C2A2-4AF9-9600-2A8D3BD9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2CF-9638-4EFA-99F5-3B295288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08E-8AF8-4C55-B13E-32304946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2D8-7559-4ED9-BFE4-5FED40C5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BE82-A77A-4DA6-BB06-8489BE3C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80B-A08E-41C0-9D6A-1AE7240F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781-B623-4B6D-A25E-B6493905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BECB-1ACE-4CB3-8D61-A7B141E784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clck.yandex.ru/redir/AiuY0DBWFJ4ePaEse6rgeAjgs2pI3DW99KUdgowt9XvqxGyo_rnZJpNjfFDg3rinsRg06G0AyigH3nxrdiPJP_d8jxsW8xM2vId9g5rGIoYiPLZ8jR0zJq0LchCyiW9y?data=UlNrNmk5WktYejR0eWJFYk1Ldmtxak1qUnF3cjJlcXlmRzlJRVp0cXNmdkZRV0hBRHd1Zk45a0hTbDZyZUtJOGJCakxLLUdEeG1hQlVNd1dnd1lBTTMzMHpveFVDUU5QbHhHM1BjdjE3anZlal9zQnFneEFKWk1LZW5rSGN5eHNpZVdiUWhpNTVjM1VfTVJKZkZtamJINmZXZWdzVGc1dDdlQzk1WmhMUVhj&amp;b64e=2&amp;sign=6b5767f814cbf7931af6e85dcb45b36c&amp;keyno=0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0-50.ru/news/incident/2009-06-16/id_205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3573360"/>
            <a:ext cx="7632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ddddd"/>
                </a:solidFill>
                <a:uFillTx/>
                <a:latin typeface="Arial"/>
              </a:rPr>
              <a:t>Внеклассное занятие д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4723920"/>
            <a:ext cx="51051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Бандурка Александр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СОШ №10 станицы Советской муниципального образования Новокубанский рай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684360" y="2133720"/>
            <a:ext cx="77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есные пожары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924360" y="333360"/>
            <a:ext cx="49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курс М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минация: Работа педаго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5d3a"/>
                </a:solidFill>
                <a:latin typeface="Arial"/>
              </a:rPr>
              <a:t>Верховой пожар </a:t>
            </a:r>
            <a:br>
              <a:rPr sz="2800"/>
            </a:br>
            <a:r>
              <a:rPr b="1" lang="ru-RU" sz="2800" spc="-1" strike="noStrike">
                <a:solidFill>
                  <a:srgbClr val="de5d3a"/>
                </a:solidFill>
                <a:latin typeface="Arial"/>
              </a:rPr>
              <a:t>тушат с помощью ави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untitled"/>
          <p:cNvPicPr/>
          <p:nvPr/>
        </p:nvPicPr>
        <p:blipFill>
          <a:blip r:embed="rId2"/>
          <a:stretch/>
        </p:blipFill>
        <p:spPr>
          <a:xfrm>
            <a:off x="250920" y="1628640"/>
            <a:ext cx="314316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la_palma_fires10"/>
          <p:cNvPicPr/>
          <p:nvPr/>
        </p:nvPicPr>
        <p:blipFill>
          <a:blip r:embed="rId3"/>
          <a:stretch/>
        </p:blipFill>
        <p:spPr>
          <a:xfrm>
            <a:off x="3635280" y="1268280"/>
            <a:ext cx="5322960" cy="3548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icture"/>
          <p:cNvPicPr/>
          <p:nvPr/>
        </p:nvPicPr>
        <p:blipFill>
          <a:blip r:embed="rId4"/>
          <a:stretch/>
        </p:blipFill>
        <p:spPr>
          <a:xfrm>
            <a:off x="4067280" y="414972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дземные (почвенные) пожа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 чаще всего 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горанием торфа. Распростран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 скоростью до 1 км в сутки. Могут быть малозаметны и уходить на глубину до нескольких метров, поэтому представляют дополнительную опасность и крайне плохо поддаются тушению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Торф может гореть без доступа воздуха и даже под вод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емпература горящего торфа около 600 °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6126120"/>
            <a:ext cx="824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418670"/>
          <p:cNvPicPr/>
          <p:nvPr/>
        </p:nvPicPr>
        <p:blipFill>
          <a:blip r:embed="rId1"/>
          <a:stretch/>
        </p:blipFill>
        <p:spPr>
          <a:xfrm>
            <a:off x="1908000" y="2924280"/>
            <a:ext cx="5415120" cy="362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forestnight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39640" y="836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8360" y="692280"/>
            <a:ext cx="82803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ер гонит тучу дыма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вно грузного коня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лед за ним неумолим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ало зарево огн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лько в редкие просвет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но-бурых тополей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но розовые светы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езумевших полей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ко вспыхивает маис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острым запахом смолы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, шипя и разгораясь,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ламя падают стволы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6948eroWP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468360" y="476280"/>
            <a:ext cx="6242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зкий грохот, тяжкий топот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й, мычанье, визг и рев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зловеще-тихий ропот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ипающих ручь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страшней в ночи бессонно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быстрее дикий бег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, огнями ослепленны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рной кровью обагренны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ым гибнет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High Tower Text"/>
              </a:rPr>
              <a:t>Н. Гуми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3388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собая опасность лесного пожара - это близость леса к населенным пунктам люд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727560_4KVJgt"/>
          <p:cNvPicPr/>
          <p:nvPr/>
        </p:nvPicPr>
        <p:blipFill>
          <a:blip r:embed="rId2"/>
          <a:stretch/>
        </p:blipFill>
        <p:spPr>
          <a:xfrm>
            <a:off x="0" y="1803240"/>
            <a:ext cx="6948360" cy="505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edium_13127"/>
          <p:cNvPicPr/>
          <p:nvPr/>
        </p:nvPicPr>
        <p:blipFill>
          <a:blip r:embed="rId3"/>
          <a:stretch/>
        </p:blipFill>
        <p:spPr>
          <a:xfrm>
            <a:off x="5364000" y="278136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r426743_2034078"/>
          <p:cNvPicPr/>
          <p:nvPr/>
        </p:nvPicPr>
        <p:blipFill>
          <a:blip r:embed="rId4"/>
          <a:stretch/>
        </p:blipFill>
        <p:spPr>
          <a:xfrm>
            <a:off x="5651640" y="260280"/>
            <a:ext cx="3136680" cy="198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e989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Лес - дом для зверей, птиц, насекомых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be71818d7d9fb500571f4350d1fdfc0"/>
          <p:cNvPicPr/>
          <p:nvPr/>
        </p:nvPicPr>
        <p:blipFill>
          <a:blip r:embed="rId1"/>
          <a:stretch/>
        </p:blipFill>
        <p:spPr>
          <a:xfrm>
            <a:off x="2411280" y="1197000"/>
            <a:ext cx="6405840" cy="5149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52720" y="1196640"/>
            <a:ext cx="8939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ной пожар, гон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й ветром жалит 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чтожая все жи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е на пут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вери в дик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е убегают 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шкуру  получ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лдыри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не успел уй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 возгорань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т погибает 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п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ьном дыму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шой своею 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улета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нки  превращ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тся в золу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се бегут, поджа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восты и грив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гут, несутся зве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пролом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падают ник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 на спины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  друга не грыз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, таков закон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ссвете дня поб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же к водопою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охладить гор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ий пыл огн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кунуться в воду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головою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асенье ради жиз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– не за зр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р стихотворен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http://tank3x.rc-mir.com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e9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3640" y="5229360"/>
            <a:ext cx="217008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Из рассказа К. Паустовского «Заячьи лапы»</a:t>
            </a:r>
            <a:br>
              <a:rPr sz="1600"/>
            </a:b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Ребята, прочитайте этот рассказ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260280"/>
            <a:ext cx="665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В августе дед пошел охотиться на северный берег озера. Леса стояли сухие, как порох. Деду попался зайчонок с рваным левым ухом. Дед выстрелил в него из старого, связанного проволокой ружья, но промахнулся. Заяц удр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 пошел дальше. Но вдруг затревожился: с юга, со стороны Лопухов, сильно тянуло гарью. Поднялся ветер. Дым густел, его уже несло белой пеленой по лесу, затягивало кусты. Стало трудно дышать. Дед понял, что начался лесной пожар и огонь идет прямо на него. Ветер перешел в ураган. Огонь гнало по земле с неслыханной скоростью. По словам деда, даже поезд не мог бы уйти от такого огня. Дед был прав: во время урагана огонь шел со скоростью тридцати километров в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 побежал по кочкам, спотыкался, падал, дым выедал ему глаза, а сзади был уже слышен широкий гул и треск пла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ерть настигала деда, хватала его за плечи, и в это время из-под ног у деда выскочил заяц. Он бежал медленно и волочил задние лапы. Потом только дед заметил, что они у зайца обгор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д обрадовался зайцу, будто родному. Как старый лесной житель, дед знал, что звери гораздо лучше человека чуют, откуда идет огонь, и всегда спасаются. Гибнут они только в тех редких случаях, когда огонь их окружает. Дед побежал за зайцем. Он бежал, плакал от страха и кричал: "Погоди, милый, не беги так-то шибко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яц вывел деда из огня. Когда они выбежали из леса к озеру, заяц и дед - оба упали от усталости. Дед подобрал зайца и понес домой. У зайца были опалены задние ноги и живот. Потом дед его вылечил и оставил у себя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02178"/>
          <p:cNvPicPr/>
          <p:nvPr/>
        </p:nvPicPr>
        <p:blipFill>
          <a:blip r:embed="rId1"/>
          <a:stretch/>
        </p:blipFill>
        <p:spPr>
          <a:xfrm rot="548400">
            <a:off x="6803640" y="260280"/>
            <a:ext cx="2008080" cy="266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3aa2"/>
          <p:cNvPicPr/>
          <p:nvPr/>
        </p:nvPicPr>
        <p:blipFill>
          <a:blip r:embed="rId2"/>
          <a:stretch/>
        </p:blipFill>
        <p:spPr>
          <a:xfrm rot="526800">
            <a:off x="6803640" y="2923920"/>
            <a:ext cx="1817640" cy="236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Правила спасения при лесном пожа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50_les_poj_yevak"/>
          <p:cNvPicPr/>
          <p:nvPr/>
        </p:nvPicPr>
        <p:blipFill>
          <a:blip r:embed="rId1"/>
          <a:stretch/>
        </p:blipFill>
        <p:spPr>
          <a:xfrm>
            <a:off x="539640" y="981000"/>
            <a:ext cx="8353440" cy="571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e98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3644640"/>
            <a:ext cx="38275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еловек, помни!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аще всего лесные пожары бывают по твоей ви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topic44_7"/>
          <p:cNvPicPr/>
          <p:nvPr/>
        </p:nvPicPr>
        <p:blipFill>
          <a:blip r:embed="rId1"/>
          <a:stretch/>
        </p:blipFill>
        <p:spPr>
          <a:xfrm>
            <a:off x="179280" y="458640"/>
            <a:ext cx="3888000" cy="2916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356000" y="333360"/>
            <a:ext cx="4608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de5d3a"/>
                </a:solidFill>
                <a:uFillTx/>
                <a:latin typeface="Arial"/>
              </a:rPr>
              <a:t>ЛЕСНОЙ ПОЖАР</a:t>
            </a:r>
            <a:r>
              <a:rPr b="1" lang="ru-RU" sz="1400" spc="-1" strike="noStrike">
                <a:solidFill>
                  <a:srgbClr val="de5d3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бывчивый охотник на прива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разметал, не растоптал кос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 лес ушел, а ветки догор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нехотя чадили до у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 утром ветер разогнал туман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ожил потухающий кос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, сыпля искры, посреди поля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гровые лохмотья распрос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сю траву с цветами вместе выжег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сты спалил, в зеленый лес вош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вспугнутая стая белок рыжи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заметался со ствола на ств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ес гудел от огненной мете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морозным треском падали ствол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, как снежинки, искры с них ле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серыми сугробами зо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гонь настиг охотника - и, мучас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т задыхался в огненном плен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сам себе готовил эту участь,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 как он искупил свою вину!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такова ли совесть? Времен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снится сон средь тишины ноч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 где-то мной костер забыт, а пла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же гудит, уже идет за мной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адим Шефнер /1940г.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2(1)"/>
          <p:cNvPicPr/>
          <p:nvPr/>
        </p:nvPicPr>
        <p:blipFill>
          <a:blip r:embed="rId1"/>
          <a:stretch/>
        </p:blipFill>
        <p:spPr>
          <a:xfrm>
            <a:off x="0" y="0"/>
            <a:ext cx="9972720" cy="6832440"/>
          </a:xfrm>
          <a:prstGeom prst="rect">
            <a:avLst/>
          </a:prstGeom>
          <a:ln w="0">
            <a:noFill/>
          </a:ln>
        </p:spPr>
      </p:pic>
      <p:pic>
        <p:nvPicPr>
          <p:cNvPr id="111" name="Кино музыка - Граница Таежный роман - Лесные пожары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дравствуй, лес, дремучий ле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ный сказок и чуд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583838"/>
          <p:cNvPicPr/>
          <p:nvPr/>
        </p:nvPicPr>
        <p:blipFill>
          <a:blip r:embed="rId1"/>
          <a:stretch/>
        </p:blipFill>
        <p:spPr>
          <a:xfrm>
            <a:off x="0" y="0"/>
            <a:ext cx="9540720" cy="7165800"/>
          </a:xfrm>
          <a:prstGeom prst="rect">
            <a:avLst/>
          </a:prstGeom>
          <a:ln w="0">
            <a:noFill/>
          </a:ln>
        </p:spPr>
      </p:pic>
      <p:pic>
        <p:nvPicPr>
          <p:cNvPr id="115" name="Кино музыка - Граница Таежный роман - Лесные пожары.mp3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0.0)">
                                      <p:cBhvr>
                                        <p:cTn id="23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_48a7_947a5caf_XL"/>
          <p:cNvPicPr/>
          <p:nvPr/>
        </p:nvPicPr>
        <p:blipFill>
          <a:blip r:embed="rId1"/>
          <a:stretch/>
        </p:blipFill>
        <p:spPr>
          <a:xfrm>
            <a:off x="0" y="0"/>
            <a:ext cx="10333080" cy="6897600"/>
          </a:xfrm>
          <a:prstGeom prst="rect">
            <a:avLst/>
          </a:prstGeom>
          <a:ln w="0">
            <a:noFill/>
          </a:ln>
        </p:spPr>
      </p:pic>
      <p:pic>
        <p:nvPicPr>
          <p:cNvPr id="119" name="Кино музыка - Граница Таежный роман - Лесные пожары.mp3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20000"/>
                                  </p:stCondLst>
                                  <p:childTnLst>
                                    <p:cmd type="call" cmd="playFrom(20.0)">
                                      <p:cBhvr>
                                        <p:cTn id="239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V%20-%20Lesa%20goryat0343!"/>
          <p:cNvPicPr/>
          <p:nvPr/>
        </p:nvPicPr>
        <p:blipFill>
          <a:blip r:embed="rId1"/>
          <a:stretch/>
        </p:blipFill>
        <p:spPr>
          <a:xfrm>
            <a:off x="0" y="0"/>
            <a:ext cx="9144000" cy="7361280"/>
          </a:xfrm>
          <a:prstGeom prst="rect">
            <a:avLst/>
          </a:prstGeom>
          <a:ln w="0">
            <a:noFill/>
          </a:ln>
        </p:spPr>
      </p:pic>
      <p:pic>
        <p:nvPicPr>
          <p:cNvPr id="123" name="Кино музыка - Граница Таежный роман - Лесные пожары.mp3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0.0)">
                                      <p:cBhvr>
                                        <p:cTn id="245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ушение лесного огня пожарными М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0_1781b_cf35b486_XL"/>
          <p:cNvPicPr/>
          <p:nvPr/>
        </p:nvPicPr>
        <p:blipFill>
          <a:blip r:embed="rId1"/>
          <a:stretch/>
        </p:blipFill>
        <p:spPr>
          <a:xfrm>
            <a:off x="4572000" y="260280"/>
            <a:ext cx="4183200" cy="313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0_f03a_4707d523_XL"/>
          <p:cNvPicPr/>
          <p:nvPr/>
        </p:nvPicPr>
        <p:blipFill>
          <a:blip r:embed="rId2"/>
          <a:stretch/>
        </p:blipFill>
        <p:spPr>
          <a:xfrm>
            <a:off x="3419640" y="2492280"/>
            <a:ext cx="5467320" cy="4100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02_07_01"/>
          <p:cNvPicPr/>
          <p:nvPr/>
        </p:nvPicPr>
        <p:blipFill>
          <a:blip r:embed="rId3"/>
          <a:stretch/>
        </p:blipFill>
        <p:spPr>
          <a:xfrm>
            <a:off x="250920" y="1989000"/>
            <a:ext cx="3085920" cy="4314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237_preview"/>
          <p:cNvPicPr/>
          <p:nvPr/>
        </p:nvPicPr>
        <p:blipFill>
          <a:blip r:embed="rId4"/>
          <a:stretch/>
        </p:blipFill>
        <p:spPr>
          <a:xfrm>
            <a:off x="2771640" y="1413000"/>
            <a:ext cx="2737080" cy="2052360"/>
          </a:xfrm>
          <a:prstGeom prst="rect">
            <a:avLst/>
          </a:prstGeom>
          <a:ln w="0">
            <a:noFill/>
          </a:ln>
        </p:spPr>
      </p:pic>
      <p:pic>
        <p:nvPicPr>
          <p:cNvPr id="129" name="Кино музыка - Граница Таежный роман - Лесные пожары.mp3" descr=""/>
          <p:cNvPicPr/>
          <p:nvPr/>
        </p:nvPicPr>
        <p:blipFill>
          <a:blip r:embed="rId5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73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b_austra8"/>
          <p:cNvPicPr/>
          <p:nvPr/>
        </p:nvPicPr>
        <p:blipFill>
          <a:blip r:embed="rId1"/>
          <a:stretch/>
        </p:blipFill>
        <p:spPr>
          <a:xfrm>
            <a:off x="0" y="0"/>
            <a:ext cx="5508720" cy="414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26941cjOOc1"/>
          <p:cNvPicPr/>
          <p:nvPr/>
        </p:nvPicPr>
        <p:blipFill>
          <a:blip r:embed="rId2"/>
          <a:stretch/>
        </p:blipFill>
        <p:spPr>
          <a:xfrm>
            <a:off x="4427640" y="3249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54_30"/>
          <p:cNvPicPr/>
          <p:nvPr/>
        </p:nvPicPr>
        <p:blipFill>
          <a:blip r:embed="rId3"/>
          <a:stretch/>
        </p:blipFill>
        <p:spPr>
          <a:xfrm>
            <a:off x="324000" y="3500280"/>
            <a:ext cx="3887640" cy="2543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03"/>
          <p:cNvPicPr/>
          <p:nvPr/>
        </p:nvPicPr>
        <p:blipFill>
          <a:blip r:embed="rId4"/>
          <a:stretch/>
        </p:blipFill>
        <p:spPr>
          <a:xfrm>
            <a:off x="5003640" y="366840"/>
            <a:ext cx="3600720" cy="240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es__580_no"/>
          <p:cNvPicPr/>
          <p:nvPr/>
        </p:nvPicPr>
        <p:blipFill>
          <a:blip r:embed="rId1"/>
          <a:stretch/>
        </p:blipFill>
        <p:spPr>
          <a:xfrm>
            <a:off x="0" y="3500280"/>
            <a:ext cx="3708360" cy="247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les_pog1"/>
          <p:cNvPicPr/>
          <p:nvPr/>
        </p:nvPicPr>
        <p:blipFill>
          <a:blip r:embed="rId2"/>
          <a:stretch/>
        </p:blipFill>
        <p:spPr>
          <a:xfrm>
            <a:off x="0" y="404640"/>
            <a:ext cx="4032360" cy="2567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3802302"/>
          <p:cNvPicPr/>
          <p:nvPr/>
        </p:nvPicPr>
        <p:blipFill>
          <a:blip r:embed="rId3"/>
          <a:stretch/>
        </p:blipFill>
        <p:spPr>
          <a:xfrm>
            <a:off x="3564000" y="0"/>
            <a:ext cx="5580000" cy="405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mr_28"/>
          <p:cNvPicPr/>
          <p:nvPr/>
        </p:nvPicPr>
        <p:blipFill>
          <a:blip r:embed="rId4"/>
          <a:stretch/>
        </p:blipFill>
        <p:spPr>
          <a:xfrm>
            <a:off x="3747960" y="2811600"/>
            <a:ext cx="5396040" cy="4046400"/>
          </a:xfrm>
          <a:prstGeom prst="rect">
            <a:avLst/>
          </a:prstGeom>
          <a:ln w="0">
            <a:noFill/>
          </a:ln>
        </p:spPr>
      </p:pic>
      <p:pic>
        <p:nvPicPr>
          <p:cNvPr id="140" name="Кино музыка - Граница Таежный роман - Лесные пожары.mp3" descr=""/>
          <p:cNvPicPr/>
          <p:nvPr/>
        </p:nvPicPr>
        <p:blipFill>
          <a:blip r:embed="rId5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21894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76244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ЧС предупреждает 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гите наши леса от пожар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3280" y="3789000"/>
            <a:ext cx="40435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579"/>
          <p:cNvPicPr/>
          <p:nvPr/>
        </p:nvPicPr>
        <p:blipFill>
          <a:blip r:embed="rId1"/>
          <a:stretch/>
        </p:blipFill>
        <p:spPr>
          <a:xfrm>
            <a:off x="179280" y="3860640"/>
            <a:ext cx="5143680" cy="2581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86680823e8b7"/>
          <p:cNvPicPr/>
          <p:nvPr/>
        </p:nvPicPr>
        <p:blipFill>
          <a:blip r:embed="rId2"/>
          <a:stretch/>
        </p:blipFill>
        <p:spPr>
          <a:xfrm>
            <a:off x="5292720" y="836640"/>
            <a:ext cx="3678120" cy="4416480"/>
          </a:xfrm>
          <a:prstGeom prst="rect">
            <a:avLst/>
          </a:prstGeom>
          <a:ln w="0">
            <a:noFill/>
          </a:ln>
        </p:spPr>
      </p:pic>
      <p:pic>
        <p:nvPicPr>
          <p:cNvPr id="145" name="Кино музыка - Граница Таежный роман - Лесные пожары.mp3" descr=""/>
          <p:cNvPicPr/>
          <p:nvPr/>
        </p:nvPicPr>
        <p:blipFill>
          <a:blip r:embed="rId3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43280" y="274680"/>
            <a:ext cx="40435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одного дерева можно сделать тысячу спичек,  а одной спичкой можно уничтожить тысячу дерев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DSC_1131(1)"/>
          <p:cNvPicPr/>
          <p:nvPr/>
        </p:nvPicPr>
        <p:blipFill>
          <a:blip r:embed="rId1"/>
          <a:stretch/>
        </p:blipFill>
        <p:spPr>
          <a:xfrm>
            <a:off x="324000" y="260280"/>
            <a:ext cx="417168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16"/>
          <p:cNvPicPr/>
          <p:nvPr/>
        </p:nvPicPr>
        <p:blipFill>
          <a:blip r:embed="rId2"/>
          <a:stretch/>
        </p:blipFill>
        <p:spPr>
          <a:xfrm>
            <a:off x="4643280" y="3251160"/>
            <a:ext cx="4205520" cy="3235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00x200_forest"/>
          <p:cNvPicPr/>
          <p:nvPr/>
        </p:nvPicPr>
        <p:blipFill>
          <a:blip r:embed="rId3"/>
          <a:stretch/>
        </p:blipFill>
        <p:spPr>
          <a:xfrm>
            <a:off x="250920" y="3225960"/>
            <a:ext cx="4249800" cy="318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60r56-126b-8"/>
          <p:cNvPicPr/>
          <p:nvPr/>
        </p:nvPicPr>
        <p:blipFill>
          <a:blip r:embed="rId1"/>
          <a:stretch/>
        </p:blipFill>
        <p:spPr>
          <a:xfrm>
            <a:off x="324000" y="4292640"/>
            <a:ext cx="2822400" cy="1852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63r56-797b-1"/>
          <p:cNvPicPr/>
          <p:nvPr/>
        </p:nvPicPr>
        <p:blipFill>
          <a:blip r:embed="rId2"/>
          <a:stretch/>
        </p:blipFill>
        <p:spPr>
          <a:xfrm>
            <a:off x="6227640" y="2852640"/>
            <a:ext cx="2462400" cy="3354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63r56-797b-4"/>
          <p:cNvPicPr/>
          <p:nvPr/>
        </p:nvPicPr>
        <p:blipFill>
          <a:blip r:embed="rId3"/>
          <a:stretch/>
        </p:blipFill>
        <p:spPr>
          <a:xfrm>
            <a:off x="468360" y="692280"/>
            <a:ext cx="2112840" cy="2844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08r3001"/>
          <p:cNvPicPr/>
          <p:nvPr/>
        </p:nvPicPr>
        <p:blipFill>
          <a:blip r:embed="rId4"/>
          <a:stretch/>
        </p:blipFill>
        <p:spPr>
          <a:xfrm>
            <a:off x="5651640" y="333360"/>
            <a:ext cx="3051000" cy="2154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3"/>
          <p:cNvSpPr/>
          <p:nvPr/>
        </p:nvSpPr>
        <p:spPr>
          <a:xfrm>
            <a:off x="2700360" y="2276640"/>
            <a:ext cx="331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упреждения об опасности огня в лесу размещают и на коробках со спичка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06r1001"/>
          <p:cNvPicPr/>
          <p:nvPr/>
        </p:nvPicPr>
        <p:blipFill>
          <a:blip r:embed="rId1"/>
          <a:stretch/>
        </p:blipFill>
        <p:spPr>
          <a:xfrm>
            <a:off x="2843280" y="260280"/>
            <a:ext cx="3281400" cy="452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06r9901"/>
          <p:cNvPicPr/>
          <p:nvPr/>
        </p:nvPicPr>
        <p:blipFill>
          <a:blip r:embed="rId2"/>
          <a:stretch/>
        </p:blipFill>
        <p:spPr>
          <a:xfrm>
            <a:off x="5851440" y="2637000"/>
            <a:ext cx="2914560" cy="3968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63r56-797b-5"/>
          <p:cNvPicPr/>
          <p:nvPr/>
        </p:nvPicPr>
        <p:blipFill>
          <a:blip r:embed="rId3"/>
          <a:stretch/>
        </p:blipFill>
        <p:spPr>
          <a:xfrm>
            <a:off x="324000" y="2637000"/>
            <a:ext cx="2922480" cy="394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74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229600" cy="28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ы о чем шумишь лис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чью темной, грозо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13_02_00"/>
          <p:cNvPicPr/>
          <p:nvPr/>
        </p:nvPicPr>
        <p:blipFill>
          <a:blip r:embed="rId1"/>
          <a:stretch/>
        </p:blipFill>
        <p:spPr>
          <a:xfrm>
            <a:off x="4572000" y="1197000"/>
            <a:ext cx="4286160" cy="2685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13_02_03"/>
          <p:cNvPicPr/>
          <p:nvPr/>
        </p:nvPicPr>
        <p:blipFill>
          <a:blip r:embed="rId2"/>
          <a:stretch/>
        </p:blipFill>
        <p:spPr>
          <a:xfrm>
            <a:off x="250920" y="3573360"/>
            <a:ext cx="3887640" cy="3079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395280" y="1341360"/>
            <a:ext cx="4032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Что не сдел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е-турист после прив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356000" y="414972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акие правила спасения необходимо соблюдать , если вы попали в зону лесного пож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4259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13_02_02"/>
          <p:cNvPicPr/>
          <p:nvPr/>
        </p:nvPicPr>
        <p:blipFill>
          <a:blip r:embed="rId1"/>
          <a:stretch/>
        </p:blipFill>
        <p:spPr>
          <a:xfrm>
            <a:off x="5724360" y="3417840"/>
            <a:ext cx="3094200" cy="3440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13_02_01"/>
          <p:cNvPicPr/>
          <p:nvPr/>
        </p:nvPicPr>
        <p:blipFill>
          <a:blip r:embed="rId2"/>
          <a:stretch/>
        </p:blipFill>
        <p:spPr>
          <a:xfrm>
            <a:off x="395280" y="260280"/>
            <a:ext cx="4753080" cy="33796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5003640" y="404640"/>
            <a:ext cx="3600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Что это за вид лесного пож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бычно с ним бор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11280" y="400536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Назовите вид этого лесного пожара. Какие виды техники используют пожарные МЧС при его туш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44088160_b682b5b12f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900000" y="981000"/>
            <a:ext cx="777564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Лес всегда рад помочь человеку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н согреет, накормит, удивит, научит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09a2633c7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1403280" y="1197000"/>
            <a:ext cx="72010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Человек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береги своего «зеленого»друга от пожар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893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ck.yandex.ru/redir/AiuY0DBWFJ4ePaEse6rgeAjgs2pI3DW99KUdgowt9XvqxGyo_rnZJpNjfFDg3rinsRg06G0AyigH3nxrdiPJP_d8jxsW8xM2vId9g5rGIoYiPLZ8jR0zJq0LchCyiW9y?data=UlNrNmk5WktYejR0eWJFYk1Ldmtxak1qUnF3cjJlcXlmRzlJRVp0cXNmdkZRV0hBRHd1Zk45a0hTbDZyZUtJOGJCakxLLUdEeG1hQlVNd1dnd1lBTTMzMHpveFVDUU5QbHhHM1BjdjE3anZlal9zQnFneEFKWk1LZW5rSGN5eHNpZVdiUWhpNTVjM1VfTVJKZkZtamJINmZXZWdzVGc1dDdlQzk1WmhMUVhj&amp;b64e=2&amp;sign=6b5767f814cbf7931af6e85dcb45b36c&amp;keyno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ecoportal.ru/news.php?id=36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vmestestem.ru/news/&amp;gr=2&amp;nid=252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klops.ru/news.html?topic=28&amp;p=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citysakh.ru/News/?dirid=31&amp;st=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elementy.ru/genbio/synopsis?artid=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fotki.yandex.ru/users/ya-morales/view/9628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sesmi.ru/news/776988/160474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r1tv.com.ua/ru/news/2009-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photosight.ru/photos/871750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asha-iskra.ru/default.asp?objType=2&amp;objValue=376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tourist.kharkov.ua/review_velo/index.php?viewtopic=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llrf.ru/dir/dir/4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justmedia.ru/news/none?page=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chita.ru/news/?pg=2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if.ru/society/news/343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ews.irknet.ru/irk/irk_news/34811-mchs_irkutskojj_oblasti_preduprezhdaet_o_verojatnosti_vozniknovenija_lesnykh_pozharov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joyclick.ru/2009/08/04/page/1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blogs.mail.ru/mail/spanchbobina/1C4186FD435E292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dmkamyshin.info/page/1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ellf.ru/world/26486-lesnye-pozhary-na-kanarskix-ostrovax-19-fot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polemika.com.ua/news-1075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erdichev.info/index.php?categoryid=1&amp;cstart=2&amp;year=2009&amp;month=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t-i.ru/numbers/show/551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azeta.aif.ru/online/kids/142/13_02?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azeta.aif.ru/online/kids/142/13_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azeta.aif.ru/online/kids/142/13_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gazeta.aif.ru/online/kids/142/13_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airbase.forest.ru/index/fotoalb01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0-50.ru/news/incident/2009-06-16/id_2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emercom.ykt.ru/arxiv_may2007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ews.radiozaryad.ru/?news=344&amp;mpages_page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estipk.ru/?id=86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estipk.ru/?id=86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mg.ru/chelyabinskaya/ru/news/?tag=3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school12.siteedit.ru/page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eco.rian.ru/ecophoto/20090831/183092296_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sesmi.ru/news/902598/177552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outdoormedia.com.ua/index.php?id=4083&amp;L=0&amp;tx_ttnews[tt_news]=2703&amp;tx_ttnews[backPid]=227&amp;cHash=7d1e34f66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justmedia.ru/news/russiaandworld/2009/09/04/578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novoteka.ru/r/Accidents.Fire?lastdate=/2009-0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news.a42.ru/news/category/11/14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asfera.info/reports_category/104/page-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vremyan.ru/persons/gagarin_jurij,,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1963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1980/80r77-34b/slides/08r30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bezopasn/63r56-797b/slides/63r56-797b-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bezopasn/63r56-797b/slides/63r56-797b-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rem-5.ru/e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1968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fillumenistika.ru/albom/katalogi/1964/64r56-597b/slides/06r10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kgpbz.ru/index.php?option=com_content&amp;task=view&amp;id=5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libex.ru/detail/book17717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ooks.ru/shop/books/1021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io-giznprgaetca.ucoz.ru/forum/17-37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liveinternet.ru/community/170965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bri.by/content/news/category26.php?q=&amp;where=&amp;PAGEN_1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kuharka.ru/talk/noeat/play/4643.html?p=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forum.la2mix.ru/showthread.php?s=617084a83ac2610c8b3bb428bd500896&amp;t=19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agorgal.ru/displayimage.php?album=2&amp;pos=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admtyumen.ru/ogv_ru/news/arhiv_news/results.htm?f=22401&amp;blk=103145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agorgal.ru/thumbnails.php?album=topn&amp;cat=0&amp;page=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м шепчешь на зар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сь в росе и в сереб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то в глуши твоей та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за зверь? Какая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 открой, не ута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ы же видишь - мы с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High Tower Text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                </a:t>
            </a:r>
            <a:r>
              <a:rPr b="1" lang="ru-RU" sz="2800" spc="-1" strike="noStrike" u="sng">
                <a:solidFill>
                  <a:srgbClr val="de5d3a"/>
                </a:solidFill>
                <a:uFillTx/>
                <a:latin typeface="Arial"/>
              </a:rPr>
              <a:t>Лесно́й пожа́р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это стихийное, неуправляемое распространение огня по лесным площа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e5d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e5d3a"/>
                </a:solidFill>
                <a:uFillTx/>
                <a:latin typeface="Arial"/>
              </a:rPr>
              <a:t>Причины возникновения пожаров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H="1">
            <a:off x="1979640" y="2708280"/>
            <a:ext cx="216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9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716360" y="270828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716360" y="3645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68360" y="4292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молния и засух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508720" y="429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челов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68360" y="5229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висимости от того, где распространяется огонь, пожары делятся 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изовые, верховые и подзем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e989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409480"/>
          <p:cNvPicPr/>
          <p:nvPr/>
        </p:nvPicPr>
        <p:blipFill>
          <a:blip r:embed="rId1"/>
          <a:stretch/>
        </p:blipFill>
        <p:spPr>
          <a:xfrm>
            <a:off x="1403280" y="1844640"/>
            <a:ext cx="6042240" cy="5013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7348"/>
          <p:cNvPicPr/>
          <p:nvPr/>
        </p:nvPicPr>
        <p:blipFill>
          <a:blip r:embed="rId2"/>
          <a:stretch/>
        </p:blipFill>
        <p:spPr>
          <a:xfrm>
            <a:off x="5867280" y="436572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7720"/>
          <p:cNvPicPr/>
          <p:nvPr/>
        </p:nvPicPr>
        <p:blipFill>
          <a:blip r:embed="rId3"/>
          <a:stretch/>
        </p:blipFill>
        <p:spPr>
          <a:xfrm>
            <a:off x="324000" y="234936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000" y="0"/>
            <a:ext cx="79311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изовой пожар :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горает лесная подстилка, лишайники, мхи, травы, опавшие на землю ветки и т. п. Скорость движения пожара по ветру 0,25—5 км/ч. 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ысота пламени до 2,5 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емпература горения около 700 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e989"/>
            </a:gs>
            <a:gs pos="100000">
              <a:srgbClr val="cc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ерховой пожа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охватывает листья, хвою, ветви, а в случае падения горящих деревьев и травяно-моховой покров почвы и подрост. Скорость распространения от 5—30 км/ч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емпература от 900 °C до 1200 °C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63837m"/>
          <p:cNvPicPr/>
          <p:nvPr/>
        </p:nvPicPr>
        <p:blipFill>
          <a:blip r:embed="rId1"/>
          <a:stretch/>
        </p:blipFill>
        <p:spPr>
          <a:xfrm>
            <a:off x="1332000" y="1844640"/>
            <a:ext cx="6481800" cy="464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19708"/>
          <p:cNvPicPr/>
          <p:nvPr/>
        </p:nvPicPr>
        <p:blipFill>
          <a:blip r:embed="rId2"/>
          <a:stretch/>
        </p:blipFill>
        <p:spPr>
          <a:xfrm>
            <a:off x="5148360" y="2997360"/>
            <a:ext cx="3857400" cy="368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24270"/>
          <p:cNvPicPr/>
          <p:nvPr/>
        </p:nvPicPr>
        <p:blipFill>
          <a:blip r:embed="rId3"/>
          <a:stretch/>
        </p:blipFill>
        <p:spPr>
          <a:xfrm>
            <a:off x="0" y="1989000"/>
            <a:ext cx="2592360" cy="324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20:02:32Z</dcterms:created>
  <dc:creator>Пользователь</dc:creator>
  <dc:description/>
  <dc:language>en-US</dc:language>
  <cp:lastModifiedBy>Admin</cp:lastModifiedBy>
  <dcterms:modified xsi:type="dcterms:W3CDTF">2012-09-02T16:46:38Z</dcterms:modified>
  <cp:revision>16</cp:revision>
  <dc:subject/>
  <dc:title>Слайд 1</dc:title>
</cp:coreProperties>
</file>