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5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0.png" ContentType="image/png"/>
  <Override PartName="/ppt/media/image6.jpeg" ContentType="image/jpeg"/>
  <Override PartName="/ppt/media/image29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54.jpeg" ContentType="image/jpeg"/>
  <Override PartName="/ppt/media/image12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455-EEB4-4BD9-BB26-1AF4E70D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BDA-458C-4AF5-826D-889B749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D35-344B-42F8-A906-BA07F275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680-18CD-485B-8423-540AD173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D7C-E0B8-44EB-9797-AC1EB5C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BCC-3301-4E31-8C54-C6C2D03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C2F-86D3-4D71-A4CD-2EDA91F8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043-1110-4326-A5DE-1A8CC36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656-0F3D-48F7-866A-FC0C549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93B-A2F3-4ECB-A51A-C93F3ED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DA7-BF6A-44CC-ACD5-02E9E92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C90-79D5-40E1-ADF0-56E19E2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561-8564-4AD1-BFBB-DED26B96D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0-50.ru/news/incident/2009-06-16/id_205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573360"/>
            <a:ext cx="7632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ddddd"/>
                </a:solidFill>
                <a:uFillTx/>
                <a:latin typeface="Arial"/>
              </a:rPr>
              <a:t>Внеклассное занятие д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4723920"/>
            <a:ext cx="5105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Бандурка Александ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СОШ №10 станицы Советской муниципального образования Новокубан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84360" y="213372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сные пожары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924360" y="333360"/>
            <a:ext cx="49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курс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инация: Работа педаго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Верховой пожар </a:t>
            </a:r>
            <a:br>
              <a:rPr sz="2800"/>
            </a:b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тушат с помощью ав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untitled"/>
          <p:cNvPicPr/>
          <p:nvPr/>
        </p:nvPicPr>
        <p:blipFill>
          <a:blip r:embed="rId2"/>
          <a:stretch/>
        </p:blipFill>
        <p:spPr>
          <a:xfrm>
            <a:off x="250920" y="1628640"/>
            <a:ext cx="314316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_palma_fires10"/>
          <p:cNvPicPr/>
          <p:nvPr/>
        </p:nvPicPr>
        <p:blipFill>
          <a:blip r:embed="rId3"/>
          <a:stretch/>
        </p:blipFill>
        <p:spPr>
          <a:xfrm>
            <a:off x="3635280" y="1268280"/>
            <a:ext cx="5322960" cy="3548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icture"/>
          <p:cNvPicPr/>
          <p:nvPr/>
        </p:nvPicPr>
        <p:blipFill>
          <a:blip r:embed="rId4"/>
          <a:stretch/>
        </p:blipFill>
        <p:spPr>
          <a:xfrm>
            <a:off x="4067280" y="414972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дземные (почвенные) пожа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 чаще всего 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горанием торфа. Распростран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 скоростью до 1 км в сутки. Могут быть малозаметны и уходить на глубину до нескольких метров, поэтому представляют дополнительную опасность и крайне плохо поддаются тушени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орф может гореть без доступа воздуха и даже под во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ящего торфа около 600 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8670"/>
          <p:cNvPicPr/>
          <p:nvPr/>
        </p:nvPicPr>
        <p:blipFill>
          <a:blip r:embed="rId1"/>
          <a:stretch/>
        </p:blipFill>
        <p:spPr>
          <a:xfrm>
            <a:off x="1908000" y="2924280"/>
            <a:ext cx="5415120" cy="362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orestnigh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836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8360" y="692280"/>
            <a:ext cx="8280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гонит тучу дым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грузного кон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ним неумолим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ало зарево огн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в редкие про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но-бурых топол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но розовые 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умевших поле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ко вспыхивает маис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острым запахом смол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шипя и разгораясь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ламя падают стволы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6948eroW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68360" y="476280"/>
            <a:ext cx="624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кий грохот, тяжкий топо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й, мычанье, визг и ре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зловеще-тихий ропо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ипающих ручь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страшней в ночи бессонн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быстрее дикий бег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, огнями ослепл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рной кровью обагр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м гибнет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High Tower Text"/>
              </a:rPr>
              <a:t>Н. Гуми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3388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собая опасность лесного пожара - это близость леса к населенным пунктам люд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727560_4KVJgt"/>
          <p:cNvPicPr/>
          <p:nvPr/>
        </p:nvPicPr>
        <p:blipFill>
          <a:blip r:embed="rId2"/>
          <a:stretch/>
        </p:blipFill>
        <p:spPr>
          <a:xfrm>
            <a:off x="0" y="1803240"/>
            <a:ext cx="6948360" cy="505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edium_13127"/>
          <p:cNvPicPr/>
          <p:nvPr/>
        </p:nvPicPr>
        <p:blipFill>
          <a:blip r:embed="rId3"/>
          <a:stretch/>
        </p:blipFill>
        <p:spPr>
          <a:xfrm>
            <a:off x="5364000" y="278136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426743_2034078"/>
          <p:cNvPicPr/>
          <p:nvPr/>
        </p:nvPicPr>
        <p:blipFill>
          <a:blip r:embed="rId4"/>
          <a:stretch/>
        </p:blipFill>
        <p:spPr>
          <a:xfrm>
            <a:off x="5651640" y="260280"/>
            <a:ext cx="3136680" cy="198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ес - дом для зверей, птиц, насекомых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be71818d7d9fb500571f4350d1fdfc0"/>
          <p:cNvPicPr/>
          <p:nvPr/>
        </p:nvPicPr>
        <p:blipFill>
          <a:blip r:embed="rId1"/>
          <a:stretch/>
        </p:blipFill>
        <p:spPr>
          <a:xfrm>
            <a:off x="2411280" y="1197000"/>
            <a:ext cx="6405840" cy="514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52720" y="1196640"/>
            <a:ext cx="893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ой пожар, го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й ветром жали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ая все жи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е на пут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вери в д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е убегаю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шкуру  получ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лдыр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не успел уй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 возгорань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 погибает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п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ьном дым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своею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улет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ки  превращ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тся в золу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 бегут, поджа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восты и грив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гут, несутся зве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пролом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падают н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а спин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  друга не гры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, таков закон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ссвете дня по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же к водопою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охладить гор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ий пыл огн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кунуться в воду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головою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ье ради жи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– не за зр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 стихотворен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http://tank3x.rc-mir.com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3640" y="5229360"/>
            <a:ext cx="2170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Из рассказа К. Паустовского «Заячьи лапы»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ебята, прочитайте этот расска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665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В августе дед пошел охотиться на северный берег озера. Леса стояли сухие, как порох. Деду попался зайчонок с рваным левым ухом. Дед выстрелил в него из старого, связанного проволокой ружья, но промахнулся. Заяц уд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шел дальше. Но вдруг затревожился: с юга, со стороны Лопухов, сильно тянуло гарью. Поднялся ветер. Дым густел, его уже несло белой пеленой по лесу, затягивало кусты. Стало трудно дышать. Дед понял, что начался лесной пожар и огонь идет прямо на него. Ветер перешел в ураган. Огонь гнало по земле с неслыханной скоростью. По словам деда, даже поезд не мог бы уйти от такого огня. Дед был прав: во время урагана огонь шел со скоростью тридцати километров в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бежал по кочкам, спотыкался, падал, дым выедал ему глаза, а сзади был уже слышен широкий гул и треск пла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рть настигала деда, хватала его за плечи, и в это время из-под ног у деда выскочил заяц. Он бежал медленно и волочил задние лапы. Потом только дед заметил, что они у зайца обгор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обрадовался зайцу, будто родному. Как старый лесной житель, дед знал, что звери гораздо лучше человека чуют, откуда идет огонь, и всегда спасаются. Гибнут они только в тех редких случаях, когда огонь их окружает. Дед побежал за зайцем. Он бежал, плакал от страха и кричал: "Погоди, милый, не беги так-то шибко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яц вывел деда из огня. Когда они выбежали из леса к озеру, заяц и дед - оба упали от усталости. Дед подобрал зайца и понес домой. У зайца были опалены задние ноги и живот. Потом дед его вылечил и оставил у себя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2178"/>
          <p:cNvPicPr/>
          <p:nvPr/>
        </p:nvPicPr>
        <p:blipFill>
          <a:blip r:embed="rId1"/>
          <a:stretch/>
        </p:blipFill>
        <p:spPr>
          <a:xfrm rot="548400">
            <a:off x="6803640" y="260280"/>
            <a:ext cx="200808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3aa2"/>
          <p:cNvPicPr/>
          <p:nvPr/>
        </p:nvPicPr>
        <p:blipFill>
          <a:blip r:embed="rId2"/>
          <a:stretch/>
        </p:blipFill>
        <p:spPr>
          <a:xfrm rot="526800">
            <a:off x="6803640" y="2923920"/>
            <a:ext cx="1817640" cy="23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равила спасения при лесном пожа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50_les_poj_yevak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71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3644640"/>
            <a:ext cx="38275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ловек, помни!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аще всего лесные пожары бывают по твоей в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topic44_7"/>
          <p:cNvPicPr/>
          <p:nvPr/>
        </p:nvPicPr>
        <p:blipFill>
          <a:blip r:embed="rId1"/>
          <a:stretch/>
        </p:blipFill>
        <p:spPr>
          <a:xfrm>
            <a:off x="179280" y="458640"/>
            <a:ext cx="3888000" cy="2916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356000" y="333360"/>
            <a:ext cx="4608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de5d3a"/>
                </a:solidFill>
                <a:uFillTx/>
                <a:latin typeface="Arial"/>
              </a:rPr>
              <a:t>ЛЕСНОЙ ПОЖАР</a:t>
            </a:r>
            <a:r>
              <a:rPr b="1" lang="ru-RU" sz="1400" spc="-1" strike="noStrike">
                <a:solidFill>
                  <a:srgbClr val="de5d3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ывчивый охотник на прив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разметал, не растоптал ко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 лес ушел, а ветки догор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хотя чадили до у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тром ветер разогнал тум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жил потухающий ко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сыпля искры, посреди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гровые лохмотья распро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сю траву с цветами вместе выжег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сты спалил, в зеленый лес вош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вспугнутая стая белок рыж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заметался со ствола на ств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с гудел от огненной мет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морозным треском падали ство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как снежинки, искры с них ле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ерыми сугробами з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гонь настиг охотника - и, муча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т задыхался в огненном пле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сам себе готовил эту участь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как он искупил свою вину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такова ли совесть? Време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нится сон средь тишины ноч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где-то мной костер забыт, а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е гудит, уже идет за мной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дим Шефнер /1940г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2(1)"/>
          <p:cNvPicPr/>
          <p:nvPr/>
        </p:nvPicPr>
        <p:blipFill>
          <a:blip r:embed="rId1"/>
          <a:stretch/>
        </p:blipFill>
        <p:spPr>
          <a:xfrm>
            <a:off x="0" y="0"/>
            <a:ext cx="9972720" cy="6832440"/>
          </a:xfrm>
          <a:prstGeom prst="rect">
            <a:avLst/>
          </a:prstGeom>
          <a:ln w="0">
            <a:noFill/>
          </a:ln>
        </p:spPr>
      </p:pic>
      <p:pic>
        <p:nvPicPr>
          <p:cNvPr id="111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583838"/>
          <p:cNvPicPr/>
          <p:nvPr/>
        </p:nvPicPr>
        <p:blipFill>
          <a:blip r:embed="rId1"/>
          <a:stretch/>
        </p:blipFill>
        <p:spPr>
          <a:xfrm>
            <a:off x="0" y="0"/>
            <a:ext cx="9540720" cy="7165800"/>
          </a:xfrm>
          <a:prstGeom prst="rect">
            <a:avLst/>
          </a:prstGeom>
          <a:ln w="0">
            <a:noFill/>
          </a:ln>
        </p:spPr>
      </p:pic>
      <p:pic>
        <p:nvPicPr>
          <p:cNvPr id="115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2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_48a7_947a5caf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97600"/>
          </a:xfrm>
          <a:prstGeom prst="rect">
            <a:avLst/>
          </a:prstGeom>
          <a:ln w="0">
            <a:noFill/>
          </a:ln>
        </p:spPr>
      </p:pic>
      <p:pic>
        <p:nvPicPr>
          <p:cNvPr id="119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20.0)">
                                      <p:cBhvr>
                                        <p:cTn id="23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V%20-%20Lesa%20goryat0343!"/>
          <p:cNvPicPr/>
          <p:nvPr/>
        </p:nvPicPr>
        <p:blipFill>
          <a:blip r:embed="rId1"/>
          <a:stretch/>
        </p:blipFill>
        <p:spPr>
          <a:xfrm>
            <a:off x="0" y="0"/>
            <a:ext cx="9144000" cy="7361280"/>
          </a:xfrm>
          <a:prstGeom prst="rect">
            <a:avLst/>
          </a:prstGeom>
          <a:ln w="0">
            <a:noFill/>
          </a:ln>
        </p:spPr>
      </p:pic>
      <p:pic>
        <p:nvPicPr>
          <p:cNvPr id="123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24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ушение лесного огня пожарными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_1781b_cf35b486_XL"/>
          <p:cNvPicPr/>
          <p:nvPr/>
        </p:nvPicPr>
        <p:blipFill>
          <a:blip r:embed="rId1"/>
          <a:stretch/>
        </p:blipFill>
        <p:spPr>
          <a:xfrm>
            <a:off x="4572000" y="260280"/>
            <a:ext cx="4183200" cy="31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0_f03a_4707d523_XL"/>
          <p:cNvPicPr/>
          <p:nvPr/>
        </p:nvPicPr>
        <p:blipFill>
          <a:blip r:embed="rId2"/>
          <a:stretch/>
        </p:blipFill>
        <p:spPr>
          <a:xfrm>
            <a:off x="3419640" y="2492280"/>
            <a:ext cx="5467320" cy="4100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02_07_01"/>
          <p:cNvPicPr/>
          <p:nvPr/>
        </p:nvPicPr>
        <p:blipFill>
          <a:blip r:embed="rId3"/>
          <a:stretch/>
        </p:blipFill>
        <p:spPr>
          <a:xfrm>
            <a:off x="250920" y="1989000"/>
            <a:ext cx="3085920" cy="431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237_preview"/>
          <p:cNvPicPr/>
          <p:nvPr/>
        </p:nvPicPr>
        <p:blipFill>
          <a:blip r:embed="rId4"/>
          <a:stretch/>
        </p:blipFill>
        <p:spPr>
          <a:xfrm>
            <a:off x="2771640" y="141300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129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7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b_austra8"/>
          <p:cNvPicPr/>
          <p:nvPr/>
        </p:nvPicPr>
        <p:blipFill>
          <a:blip r:embed="rId1"/>
          <a:stretch/>
        </p:blipFill>
        <p:spPr>
          <a:xfrm>
            <a:off x="0" y="0"/>
            <a:ext cx="5508720" cy="414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6941cjOOc1"/>
          <p:cNvPicPr/>
          <p:nvPr/>
        </p:nvPicPr>
        <p:blipFill>
          <a:blip r:embed="rId2"/>
          <a:stretch/>
        </p:blipFill>
        <p:spPr>
          <a:xfrm>
            <a:off x="4427640" y="3249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54_30"/>
          <p:cNvPicPr/>
          <p:nvPr/>
        </p:nvPicPr>
        <p:blipFill>
          <a:blip r:embed="rId3"/>
          <a:stretch/>
        </p:blipFill>
        <p:spPr>
          <a:xfrm>
            <a:off x="324000" y="3500280"/>
            <a:ext cx="3887640" cy="254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03"/>
          <p:cNvPicPr/>
          <p:nvPr/>
        </p:nvPicPr>
        <p:blipFill>
          <a:blip r:embed="rId4"/>
          <a:stretch/>
        </p:blipFill>
        <p:spPr>
          <a:xfrm>
            <a:off x="5003640" y="366840"/>
            <a:ext cx="3600720" cy="240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es__580_no"/>
          <p:cNvPicPr/>
          <p:nvPr/>
        </p:nvPicPr>
        <p:blipFill>
          <a:blip r:embed="rId1"/>
          <a:stretch/>
        </p:blipFill>
        <p:spPr>
          <a:xfrm>
            <a:off x="0" y="3500280"/>
            <a:ext cx="3708360" cy="247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es_pog1"/>
          <p:cNvPicPr/>
          <p:nvPr/>
        </p:nvPicPr>
        <p:blipFill>
          <a:blip r:embed="rId2"/>
          <a:stretch/>
        </p:blipFill>
        <p:spPr>
          <a:xfrm>
            <a:off x="0" y="404640"/>
            <a:ext cx="4032360" cy="256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3802302"/>
          <p:cNvPicPr/>
          <p:nvPr/>
        </p:nvPicPr>
        <p:blipFill>
          <a:blip r:embed="rId3"/>
          <a:stretch/>
        </p:blipFill>
        <p:spPr>
          <a:xfrm>
            <a:off x="3564000" y="0"/>
            <a:ext cx="5580000" cy="405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r_28"/>
          <p:cNvPicPr/>
          <p:nvPr/>
        </p:nvPicPr>
        <p:blipFill>
          <a:blip r:embed="rId4"/>
          <a:stretch/>
        </p:blipFill>
        <p:spPr>
          <a:xfrm>
            <a:off x="3747960" y="2811600"/>
            <a:ext cx="5396040" cy="4046400"/>
          </a:xfrm>
          <a:prstGeom prst="rect">
            <a:avLst/>
          </a:prstGeom>
          <a:ln w="0">
            <a:noFill/>
          </a:ln>
        </p:spPr>
      </p:pic>
      <p:pic>
        <p:nvPicPr>
          <p:cNvPr id="140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1894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ЧС предупреждает 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ите наши леса от пож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3280" y="3789000"/>
            <a:ext cx="4043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579"/>
          <p:cNvPicPr/>
          <p:nvPr/>
        </p:nvPicPr>
        <p:blipFill>
          <a:blip r:embed="rId1"/>
          <a:stretch/>
        </p:blipFill>
        <p:spPr>
          <a:xfrm>
            <a:off x="179280" y="3860640"/>
            <a:ext cx="5143680" cy="258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86680823e8b7"/>
          <p:cNvPicPr/>
          <p:nvPr/>
        </p:nvPicPr>
        <p:blipFill>
          <a:blip r:embed="rId2"/>
          <a:stretch/>
        </p:blipFill>
        <p:spPr>
          <a:xfrm>
            <a:off x="5292720" y="836640"/>
            <a:ext cx="3678120" cy="4416480"/>
          </a:xfrm>
          <a:prstGeom prst="rect">
            <a:avLst/>
          </a:prstGeom>
          <a:ln w="0">
            <a:noFill/>
          </a:ln>
        </p:spPr>
      </p:pic>
      <p:pic>
        <p:nvPicPr>
          <p:cNvPr id="145" name="Кино музыка - Граница Таежный роман - Лесные пожары.mp3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дного дерева можно сделать тысячу спичек,  а одной спичкой можно уничтожить тысячу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SC_1131(1)"/>
          <p:cNvPicPr/>
          <p:nvPr/>
        </p:nvPicPr>
        <p:blipFill>
          <a:blip r:embed="rId1"/>
          <a:stretch/>
        </p:blipFill>
        <p:spPr>
          <a:xfrm>
            <a:off x="324000" y="260280"/>
            <a:ext cx="417168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6"/>
          <p:cNvPicPr/>
          <p:nvPr/>
        </p:nvPicPr>
        <p:blipFill>
          <a:blip r:embed="rId2"/>
          <a:stretch/>
        </p:blipFill>
        <p:spPr>
          <a:xfrm>
            <a:off x="4643280" y="3251160"/>
            <a:ext cx="4205520" cy="323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00x200_forest"/>
          <p:cNvPicPr/>
          <p:nvPr/>
        </p:nvPicPr>
        <p:blipFill>
          <a:blip r:embed="rId3"/>
          <a:stretch/>
        </p:blipFill>
        <p:spPr>
          <a:xfrm>
            <a:off x="250920" y="3225960"/>
            <a:ext cx="4249800" cy="318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60r56-126b-8"/>
          <p:cNvPicPr/>
          <p:nvPr/>
        </p:nvPicPr>
        <p:blipFill>
          <a:blip r:embed="rId1"/>
          <a:stretch/>
        </p:blipFill>
        <p:spPr>
          <a:xfrm>
            <a:off x="324000" y="4292640"/>
            <a:ext cx="2822400" cy="18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63r56-797b-1"/>
          <p:cNvPicPr/>
          <p:nvPr/>
        </p:nvPicPr>
        <p:blipFill>
          <a:blip r:embed="rId2"/>
          <a:stretch/>
        </p:blipFill>
        <p:spPr>
          <a:xfrm>
            <a:off x="6227640" y="2852640"/>
            <a:ext cx="2462400" cy="335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3r56-797b-4"/>
          <p:cNvPicPr/>
          <p:nvPr/>
        </p:nvPicPr>
        <p:blipFill>
          <a:blip r:embed="rId3"/>
          <a:stretch/>
        </p:blipFill>
        <p:spPr>
          <a:xfrm>
            <a:off x="468360" y="692280"/>
            <a:ext cx="2112840" cy="284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8r3001"/>
          <p:cNvPicPr/>
          <p:nvPr/>
        </p:nvPicPr>
        <p:blipFill>
          <a:blip r:embed="rId4"/>
          <a:stretch/>
        </p:blipFill>
        <p:spPr>
          <a:xfrm>
            <a:off x="5651640" y="333360"/>
            <a:ext cx="3051000" cy="2154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700360" y="227664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упреждения об опасности огня в лесу размещают и на коробках со спичк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6r1001"/>
          <p:cNvPicPr/>
          <p:nvPr/>
        </p:nvPicPr>
        <p:blipFill>
          <a:blip r:embed="rId1"/>
          <a:stretch/>
        </p:blipFill>
        <p:spPr>
          <a:xfrm>
            <a:off x="2843280" y="260280"/>
            <a:ext cx="32814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6r9901"/>
          <p:cNvPicPr/>
          <p:nvPr/>
        </p:nvPicPr>
        <p:blipFill>
          <a:blip r:embed="rId2"/>
          <a:stretch/>
        </p:blipFill>
        <p:spPr>
          <a:xfrm>
            <a:off x="5851440" y="2637000"/>
            <a:ext cx="2914560" cy="396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63r56-797b-5"/>
          <p:cNvPicPr/>
          <p:nvPr/>
        </p:nvPicPr>
        <p:blipFill>
          <a:blip r:embed="rId3"/>
          <a:stretch/>
        </p:blipFill>
        <p:spPr>
          <a:xfrm>
            <a:off x="324000" y="2637000"/>
            <a:ext cx="2922480" cy="39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3_02_00"/>
          <p:cNvPicPr/>
          <p:nvPr/>
        </p:nvPicPr>
        <p:blipFill>
          <a:blip r:embed="rId1"/>
          <a:stretch/>
        </p:blipFill>
        <p:spPr>
          <a:xfrm>
            <a:off x="4572000" y="1197000"/>
            <a:ext cx="4286160" cy="268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3_02_03"/>
          <p:cNvPicPr/>
          <p:nvPr/>
        </p:nvPicPr>
        <p:blipFill>
          <a:blip r:embed="rId2"/>
          <a:stretch/>
        </p:blipFill>
        <p:spPr>
          <a:xfrm>
            <a:off x="250920" y="3573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395280" y="1341360"/>
            <a:ext cx="403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Что не 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е-турист после прив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356000" y="41497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акие правила спасения необходимо соблюдать , если вы попали в зону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425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3_02_02"/>
          <p:cNvPicPr/>
          <p:nvPr/>
        </p:nvPicPr>
        <p:blipFill>
          <a:blip r:embed="rId1"/>
          <a:stretch/>
        </p:blipFill>
        <p:spPr>
          <a:xfrm>
            <a:off x="5724360" y="3417840"/>
            <a:ext cx="3094200" cy="344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3_02_01"/>
          <p:cNvPicPr/>
          <p:nvPr/>
        </p:nvPicPr>
        <p:blipFill>
          <a:blip r:embed="rId2"/>
          <a:stretch/>
        </p:blipFill>
        <p:spPr>
          <a:xfrm>
            <a:off x="395280" y="260280"/>
            <a:ext cx="4753080" cy="3379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003640" y="404640"/>
            <a:ext cx="36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Что это за вид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бычно с ним бор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1280" y="4005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Назовите вид этого лесного пожара. Какие виды техники используют пожарные МЧС при его ту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4088160_b682b5b12f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900000" y="981000"/>
            <a:ext cx="777564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Лес всегда рад помочь человек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н согреет, накормит, удивит, научит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09a2633c7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403280" y="1197000"/>
            <a:ext cx="7201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Челове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береги своего «зеленого»друга от пожа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portal.ru/news.php?id=36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mestestem.ru/news/&amp;gr=2&amp;nid=252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lops.ru/news.html?topic=28&amp;p=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itysakh.ru/News/?dirid=31&amp;st=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lementy.ru/genbio/synopsis?artid=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tki.yandex.ru/users/ya-morales/view/9628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776988/160474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1tv.com.ua/ru/news/2009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hotosight.ru/photos/87175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asha-iskra.ru/default.asp?objType=2&amp;objValue=376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ourist.kharkov.ua/review_velo/index.php?viewtopic=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llrf.ru/dir/dir/4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none?page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chita.ru/news/?pg=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if.ru/society/news/34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irknet.ru/irk/irk_news/34811-mchs_irkutskojj_oblasti_preduprezhdaet_o_verojatnosti_vozniknovenija_lesnykh_pozharov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joyclick.ru/2009/08/04/page/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logs.mail.ru/mail/spanchbobina/1C4186FD435E292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kamyshin.info/page/1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llf.ru/world/26486-lesnye-pozhary-na-kanarskix-ostrovax-19-fot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olemika.com.ua/news-1075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erdichev.info/index.php?categoryid=1&amp;cstart=2&amp;year=2009&amp;month=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-i.ru/numbers/show/55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?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irbase.forest.ru/index/fotoalb01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0-50.ru/news/incident/2009-06-16/id_2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mercom.ykt.ru/arxiv_may2007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radiozaryad.ru/?news=344&amp;mpages_page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g.ru/chelyabinskaya/ru/news/?tag=3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chool12.siteedit.ru/page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.rian.ru/ecophoto/20090831/183092296_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902598/177552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utdoormedia.com.ua/index.php?id=4083&amp;L=0&amp;tx_ttnews[tt_news]=2703&amp;tx_ttnews[backPid]=227&amp;cHash=7d1e34f6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russiaandworld/2009/09/04/57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novoteka.ru/r/Accidents.Fire?lastdate=/2009-0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a42.ru/news/category/11/14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sfera.info/reports_category/104/page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remyan.ru/persons/gagarin_jurij,,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3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80/80r77-34b/slides/08r3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em-5.ru/e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8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4/64r56-597b/slides/06r1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gpbz.ru/index.php?option=com_content&amp;task=view&amp;id=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bex.ru/detail/book17717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s.ru/shop/books/1021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o-giznprgaetca.ucoz.ru/forum/17-37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veinternet.ru/community/170965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ri.by/content/news/category26.php?q=&amp;where=&amp;PAGEN_1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uharka.ru/talk/noeat/play/4643.html?p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rum.la2mix.ru/showthread.php?s=617084a83ac2610c8b3bb428bd500896&amp;t=19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displayimage.php?album=2&amp;pos=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tyumen.ru/ogv_ru/news/arhiv_news/results.htm?f=22401&amp;blk=10314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thumbnails.php?album=topn&amp;cat=0&amp;page=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м шепчешь на за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ь в росе и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же видишь -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High Tower Text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Лесно́й пожа́р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это стихийное, неуправляемое распространение огня по лесным площа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5d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Причины возникновения пожаров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1979640" y="2708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16360" y="270828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16360" y="3645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68360" y="429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олния и засух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0872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68360" y="522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того, где распространяется огонь, пожары деля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изовые, верховые и подзе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409480"/>
          <p:cNvPicPr/>
          <p:nvPr/>
        </p:nvPicPr>
        <p:blipFill>
          <a:blip r:embed="rId1"/>
          <a:stretch/>
        </p:blipFill>
        <p:spPr>
          <a:xfrm>
            <a:off x="1403280" y="1844640"/>
            <a:ext cx="6042240" cy="501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348"/>
          <p:cNvPicPr/>
          <p:nvPr/>
        </p:nvPicPr>
        <p:blipFill>
          <a:blip r:embed="rId2"/>
          <a:stretch/>
        </p:blipFill>
        <p:spPr>
          <a:xfrm>
            <a:off x="5867280" y="43657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720"/>
          <p:cNvPicPr/>
          <p:nvPr/>
        </p:nvPicPr>
        <p:blipFill>
          <a:blip r:embed="rId3"/>
          <a:stretch/>
        </p:blipFill>
        <p:spPr>
          <a:xfrm>
            <a:off x="324000" y="2349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7931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изовой пожар :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ает лесная подстилка, лишайники, мхи, травы, опавшие на землю ветки и т. п. Скорость движения пожара по ветру 0,25—5 км/ч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ысота пламени до 2,5 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ения около 700 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ховой пожа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охватывает листья, хвою, ветви, а в случае падения горящих деревьев и травяно-моховой покров почвы и подрост. Скорость распространения от 5—30 км/ч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от 900 °C до 1200 °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63837m"/>
          <p:cNvPicPr/>
          <p:nvPr/>
        </p:nvPicPr>
        <p:blipFill>
          <a:blip r:embed="rId1"/>
          <a:stretch/>
        </p:blipFill>
        <p:spPr>
          <a:xfrm>
            <a:off x="1332000" y="1844640"/>
            <a:ext cx="6481800" cy="464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9708"/>
          <p:cNvPicPr/>
          <p:nvPr/>
        </p:nvPicPr>
        <p:blipFill>
          <a:blip r:embed="rId2"/>
          <a:stretch/>
        </p:blipFill>
        <p:spPr>
          <a:xfrm>
            <a:off x="5148360" y="2997360"/>
            <a:ext cx="3857400" cy="36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270"/>
          <p:cNvPicPr/>
          <p:nvPr/>
        </p:nvPicPr>
        <p:blipFill>
          <a:blip r:embed="rId3"/>
          <a:stretch/>
        </p:blipFill>
        <p:spPr>
          <a:xfrm>
            <a:off x="0" y="198900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0:02:32Z</dcterms:created>
  <dc:creator>Пользователь</dc:creator>
  <dc:description/>
  <dc:language>en-US</dc:language>
  <cp:lastModifiedBy>Admin</cp:lastModifiedBy>
  <dcterms:modified xsi:type="dcterms:W3CDTF">2012-09-02T16:46:38Z</dcterms:modified>
  <cp:revision>16</cp:revision>
  <dc:subject/>
  <dc:title>Слайд 1</dc:title>
</cp:coreProperties>
</file>