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4D8A-A102-406A-8A9C-162903037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66B0-0F9A-4729-A1DD-2FC34116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4E05-6816-4494-9153-6BE767009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A1AF-BFA2-463E-AF04-057B71FE6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AFAF-3F2D-4938-9AC0-50A924E97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A9CB-E6A9-4421-993A-6E7D5B63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BD23-CE99-474F-9DE5-A004BAF2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754A-0FF1-45C6-8B24-21B06C63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EA48-6FF4-4781-A3C7-AC8446A7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832D-EBBD-41EE-8E30-BCB911C1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DD6A-94FB-4702-BC46-CFD80170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481A-74BE-4538-B138-AC183097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C8FF-2F2F-4F35-9190-A50D5369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D0AA-FA2A-4D60-8EA2-2FEEA41D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B94C-5FEB-4384-86CC-BCC1C6D4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0FA1-D918-40F0-BD5F-BE051C81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80AB-29C0-4B8F-BB45-04C06D073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0A8448-79EF-4B97-9554-AF89E4CD7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3E59D2-E37B-46EF-B8C0-070721D8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05A166-21BF-4F59-A8C3-804C6216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905341-2C45-4E0B-A895-948C0069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AD30D2-C4E4-4D1D-BC21-297F4DB6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065A-C128-4004-838C-0F397DCB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AC8D72-005C-4CEF-86EF-BFED8CB5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B79B17-89FC-45D0-9DAA-1159D308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C0C0C3-C032-40BE-8DB8-5629A7DE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30B71E-F826-4041-8872-DDC4235E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517EAE-7701-4BC1-8F71-5D8BE227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CC950E-002D-4C68-BE41-9D63B02C8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3273AD-2DAF-4C04-8B1E-603B2A0F5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582BC-7F86-482A-A6F0-478F6F1A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CF78A-564D-46F7-8560-EAE5D69C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76B31-F7A1-4073-9EDD-FEF3F629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7A83-8CB8-4653-B766-B6A9FD35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A803D-5534-4D5D-B22D-E056B847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590D4-6CB7-4479-8778-996DAC45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E5F9B-752B-4444-8676-2F20FCDA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723C0-DCA1-4BED-B399-173B5572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A32F6-12E6-4ED2-AF1E-F8E9E313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EF865-9DFF-48D2-8E52-3406D2ED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D9487-E419-4CBA-9ADB-863FCE68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D5414-17E5-485D-B040-B976BD3C9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29F09-41A9-4C3C-82DE-57E8C93F6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091CC5-E86C-4292-9185-784DA827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ECA1-B2BB-4191-ACC5-23612C0E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FC82F2-8E5B-465A-B9E8-EB0DAE38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E14C2C-4964-4D0D-829E-C9C0BAAD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8BB078-1009-4A39-9000-CCAE5C3E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4D20E9-66C3-4247-949F-CBDE4A61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49117C-B27D-4B34-8FE8-502E4CA4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047771-5197-4DC1-93BD-7E91FDA9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5E4497-F949-4BC9-BB57-B091BD3C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ADFDFC-3A64-471E-92F1-4B85940E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C57040-AC0D-4FDE-8F18-89A177AD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5A03B6-7C75-4DD8-824C-6061AD125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C378-A2E9-4187-BD4C-6FE42540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FDB1B7-D411-4E14-91D4-9B08172C7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4C94B3-88B8-4853-B4F5-4BB5BA77E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BCD23F-4A4C-4644-9EA1-F0722035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93E4A9-D65C-4825-8500-CDED673C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B135F2-74A5-45A3-A895-6011A288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C55FB8-2C12-4DD8-8867-249AEB65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245A74-5ED0-4CC8-A8BD-C41B9374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50ACFD-59EB-47D3-B33B-4ADD81AE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C6EE0C-FC83-4A89-BF67-6459B8EC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2515CE-FD5F-4E8F-B818-514C816B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10C2-AE5A-456F-A4F7-92C3D564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F57E78-7C9D-40EE-876A-6FF90773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5F1BD2-B523-423F-BE43-E021B22F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0617A7-391F-4D71-8A58-7E3DED2F8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04E0F5-A1F6-4536-84F2-D55AA4497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E88F17-9287-46E0-B367-EC44D953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E6A515-57B8-4E0E-972E-FEEA842A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D704CA-CDE5-451E-9EFC-A7A97442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7FF773-0DAF-4B5F-A2A2-A7E686B7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43100C-58A5-4646-AC8F-E863B2BA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9F1705-4D14-48FA-A1C5-2835FC88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BD41-ED9F-47AC-ACCF-9F5F75FD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8B0C81-A2E9-4C67-B7E9-C60D6751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0DBE6F-095C-41E1-8A76-8E1EECA5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47C3A6-2278-43DB-922E-EB49E305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3F6383-5449-43BB-8C3D-B1A036EA2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3F6BC2-3DA6-44A5-8F87-B7CC8A2CE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7DD6-00B0-4991-8FB2-C4E4A302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E4E2-8663-4590-9B3B-702149A13FF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dced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de0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de0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f0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dcedc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f0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dcedc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dced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C759-5F05-4F66-94E1-2994F1BD52D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8E74-1473-43D8-BC61-F577CA6C9A7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dced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de0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de0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f0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dcedc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f0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dcedc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dced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ef5f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ef5fa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ef5f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ef5f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68ED-6AD7-45E5-91BA-AE343A60542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91B9-58C6-4286-BB7B-4EB58A92EC4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6A75-FDB5-4B08-BDC2-763A8C47F01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D22E-6697-42E0-BC14-3C7AB6162CA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ru.wikipedia.org/wiki/&#1050;&#1072;&#1079;&#1052;&#1091;&#1085;&#1072;&#1081;&#1043;&#1072;&#1079;" TargetMode="External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3" descr="F:\tuyt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TextBox 1"/>
          <p:cNvSpPr/>
          <p:nvPr/>
        </p:nvSpPr>
        <p:spPr>
          <a:xfrm>
            <a:off x="5954040" y="5157720"/>
            <a:ext cx="255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Работу выполня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ученица 11 класса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Глухова Снеж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>
            <a:alpha val="3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3"/>
          <p:cNvSpPr/>
          <p:nvPr/>
        </p:nvSpPr>
        <p:spPr>
          <a:xfrm>
            <a:off x="120600" y="642960"/>
            <a:ext cx="5308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лощадь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2 724 000 кв. км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селение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16 млн. 196,8 тыс. чел. (01.01.2010 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олица: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ст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рма правления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спубл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лава государства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зид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конодательная власть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вухпалатный парла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Язык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казахский, русски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лигия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ислам, христианство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енежная единица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1 казахский тенге = 100 тиын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4"/>
          <p:cNvSpPr/>
          <p:nvPr/>
        </p:nvSpPr>
        <p:spPr>
          <a:xfrm>
            <a:off x="2571840" y="158760"/>
            <a:ext cx="485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бщие све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4" descr="F:\5.jpg"/>
          <p:cNvPicPr/>
          <p:nvPr/>
        </p:nvPicPr>
        <p:blipFill>
          <a:blip r:embed="rId1"/>
          <a:stretch/>
        </p:blipFill>
        <p:spPr>
          <a:xfrm>
            <a:off x="5643720" y="5405400"/>
            <a:ext cx="2600280" cy="13813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F:\13.jpg"/>
          <p:cNvPicPr/>
          <p:nvPr/>
        </p:nvPicPr>
        <p:blipFill>
          <a:blip r:embed="rId2"/>
          <a:stretch/>
        </p:blipFill>
        <p:spPr>
          <a:xfrm>
            <a:off x="5357880" y="1000080"/>
            <a:ext cx="3192480" cy="20718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7" descr="F:\3.jpg"/>
          <p:cNvPicPr/>
          <p:nvPr/>
        </p:nvPicPr>
        <p:blipFill>
          <a:blip r:embed="rId3"/>
          <a:stretch/>
        </p:blipFill>
        <p:spPr>
          <a:xfrm>
            <a:off x="195120" y="3500280"/>
            <a:ext cx="4948560" cy="32115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F:\2.jpg"/>
          <p:cNvPicPr/>
          <p:nvPr/>
        </p:nvPicPr>
        <p:blipFill>
          <a:blip r:embed="rId4"/>
          <a:stretch/>
        </p:blipFill>
        <p:spPr>
          <a:xfrm>
            <a:off x="5357880" y="3200400"/>
            <a:ext cx="321480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рямоугольник 1"/>
          <p:cNvSpPr/>
          <p:nvPr/>
        </p:nvSpPr>
        <p:spPr>
          <a:xfrm>
            <a:off x="214200" y="814320"/>
            <a:ext cx="38577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захстан расположен на стыке двух континентов - Европы и Азии, между 45 и 87 градусами восточной долготы, между 40 и 55 градусами северной широты. Географический центр европейско-азиатского континента находится в Казахстане (на пересечении 78 меридиана и 50 параллелью). По площади Казахстан занимает 9-е место в мире, уступая России, Китаю, США, Аргентине, Бразилии, Канаде, Индии и Австрал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2"/>
          <p:cNvSpPr/>
          <p:nvPr/>
        </p:nvSpPr>
        <p:spPr>
          <a:xfrm>
            <a:off x="1197720" y="0"/>
            <a:ext cx="702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еографическое по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5" descr="F:\4.jpg"/>
          <p:cNvPicPr/>
          <p:nvPr/>
        </p:nvPicPr>
        <p:blipFill>
          <a:blip r:embed="rId1"/>
          <a:stretch/>
        </p:blipFill>
        <p:spPr>
          <a:xfrm>
            <a:off x="3913200" y="714240"/>
            <a:ext cx="4802040" cy="4714920"/>
          </a:xfrm>
          <a:prstGeom prst="rect">
            <a:avLst/>
          </a:prstGeom>
          <a:ln w="0">
            <a:noFill/>
          </a:ln>
        </p:spPr>
      </p:pic>
      <p:sp>
        <p:nvSpPr>
          <p:cNvPr id="362" name="Прямоугольник 5"/>
          <p:cNvSpPr/>
          <p:nvPr/>
        </p:nvSpPr>
        <p:spPr>
          <a:xfrm>
            <a:off x="214200" y="5576760"/>
            <a:ext cx="785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 размерах республики говорит тот факт, что на территории Казахстана могли бы разместиться такие страны как Франция, Италия, Испания, Швеция, Португалия, Греция, Финляндия и Норвег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Прямоугольник 2"/>
          <p:cNvSpPr/>
          <p:nvPr/>
        </p:nvSpPr>
        <p:spPr>
          <a:xfrm>
            <a:off x="214200" y="785880"/>
            <a:ext cx="3786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даленность от океанов и большая территория влияют на климатические условия. Природа Казахстана поражает своими контрастами. Климат севера республики суров, сибирский, а на юге в это время может зацветать урюк, зеленеть горные долины. 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едняя температура января повышается от -1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на севере и востоке республики до -3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в самой южной части Казахстана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едняя температура июля возрастает с +19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на севере до +2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, +3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на юге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рритория Казахстана расположена в четырёх климатических зонах - лесостепной, степной, полупустынной, пустын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3"/>
          <p:cNvSpPr/>
          <p:nvPr/>
        </p:nvSpPr>
        <p:spPr>
          <a:xfrm>
            <a:off x="3508920" y="0"/>
            <a:ext cx="199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лим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4" descr="F:\1.jpg"/>
          <p:cNvPicPr/>
          <p:nvPr/>
        </p:nvPicPr>
        <p:blipFill>
          <a:blip r:embed="rId1"/>
          <a:stretch/>
        </p:blipFill>
        <p:spPr>
          <a:xfrm>
            <a:off x="4143240" y="866880"/>
            <a:ext cx="4500720" cy="29192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F:\14.jpg"/>
          <p:cNvPicPr/>
          <p:nvPr/>
        </p:nvPicPr>
        <p:blipFill>
          <a:blip r:embed="rId2"/>
          <a:stretch/>
        </p:blipFill>
        <p:spPr>
          <a:xfrm>
            <a:off x="4143240" y="3929040"/>
            <a:ext cx="371484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Прямоугольник 6"/>
          <p:cNvSpPr/>
          <p:nvPr/>
        </p:nvSpPr>
        <p:spPr>
          <a:xfrm>
            <a:off x="1811520" y="15840"/>
            <a:ext cx="581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лезные ископаем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3"/>
          <p:cNvSpPr/>
          <p:nvPr/>
        </p:nvSpPr>
        <p:spPr>
          <a:xfrm>
            <a:off x="71280" y="714240"/>
            <a:ext cx="8643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захстан обладает разнообразными полезными ископаемыми. Из 105 элементов таблицы Менделеева в недрах Казахстана выявлено 99, разведаны запасы по 70, вовлечено в производство более 60 элементов. В настоящее время известно 493 месторождения, содержащих 1225 видов минерального сырья. Казахстан располагает значительными запасами нефти и газа, сосредоточенными в западном регионе, позволяющими отнести республику к разряду крупнейших нефтедобывающих государств ми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4" descr="F:\10.jpg"/>
          <p:cNvPicPr/>
          <p:nvPr/>
        </p:nvPicPr>
        <p:blipFill>
          <a:blip r:embed="rId1"/>
          <a:stretch/>
        </p:blipFill>
        <p:spPr>
          <a:xfrm>
            <a:off x="142920" y="2786040"/>
            <a:ext cx="5835600" cy="378612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6"/>
          <p:cNvSpPr/>
          <p:nvPr/>
        </p:nvSpPr>
        <p:spPr>
          <a:xfrm>
            <a:off x="6000840" y="2789280"/>
            <a:ext cx="27860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объему запасов полезных ископаемых Казахстан занимает первое место среди стран СНГ по хромовым рудам и свинцу, второе - по запасам нефти, серебра, меди, марганца, цинка, никеля и фосфорного сырья, третье - по газу, углю, золоту и олову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2720880" y="981000"/>
            <a:ext cx="6139080" cy="269244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оугольник 3"/>
          <p:cNvSpPr/>
          <p:nvPr/>
        </p:nvSpPr>
        <p:spPr>
          <a:xfrm>
            <a:off x="15840" y="404640"/>
            <a:ext cx="3745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кспор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азахстана на 2006-ой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захстан экспортирует сырьё произведённое добывающей, топливной, металлургической и химической промышлен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 структуре казахстанского экспор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фть и нефтепродукты — 3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ветные металлы — 17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ёрные металлы — 16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уды — 12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ерновые культуры — 9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ругое — 11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4"/>
          <p:cNvSpPr/>
          <p:nvPr/>
        </p:nvSpPr>
        <p:spPr>
          <a:xfrm>
            <a:off x="34920" y="4581360"/>
            <a:ext cx="8666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м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импортируемой продукцией являются сырье, а именно сырая нефть, машины и оборудование, средства транспорта, приборы и автоматы, химическая продукция, топливо минеральное, продовольственные товары, готовые изделия и товары народного потреб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69600" y="-3164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Calibri"/>
              </a:rPr>
              <a:t>ЭКОНОМИКА</a:t>
            </a:r>
            <a:endParaRPr b="0" lang="en-US" sz="4400" spc="-1" strike="noStrike">
              <a:solidFill>
                <a:srgbClr val="46464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-3164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Calibri"/>
              </a:rPr>
              <a:t>ПРОМЫШЛЕННОСТЬ</a:t>
            </a:r>
            <a:endParaRPr b="0" lang="en-US" sz="44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76" name="Прямоугольник 2"/>
          <p:cNvSpPr/>
          <p:nvPr/>
        </p:nvSpPr>
        <p:spPr>
          <a:xfrm>
            <a:off x="108000" y="836640"/>
            <a:ext cx="5832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дание национальной нефтяной комп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зМунайГаз. В Казахстане производят св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вары такие гиганты, как Chevrolet, LG, Samsu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Bosch, 3M, Panasonic. Региональная штаб-квартира компании Microsoft (Microsoft — Central Asia) расположена в комплексе „Alatau IT city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 Алма-А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азахстане развита горнодобывающая промышленность. Активно добываются уголь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фть, природный газ, железные руды, медны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уды, свинцово-цинковые руды, урановая руда, никелевые руды, бокситы и другие полезные ископаем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5270400" y="1014480"/>
            <a:ext cx="3873600" cy="2577960"/>
          </a:xfrm>
          <a:prstGeom prst="rect">
            <a:avLst/>
          </a:prstGeom>
          <a:ln w="0">
            <a:noFill/>
          </a:ln>
        </p:spPr>
      </p:pic>
      <p:sp>
        <p:nvSpPr>
          <p:cNvPr id="378" name="Прямоугольник 4"/>
          <p:cNvSpPr/>
          <p:nvPr/>
        </p:nvSpPr>
        <p:spPr>
          <a:xfrm>
            <a:off x="127080" y="4437000"/>
            <a:ext cx="864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2003 году в Казахстане было добыто 51,4 млн тонн нефти, в 2004 году — 59,17 млн тонн, в 2008 — 72 млн тонн.К 2010 году планируется увеличить добычу нефти до 100 млн тонн в год, а к 2015 году — до 150 млн тонн в год, в результате чего Казахстан войдёт в десятку крупнейших нефтедобывающих стран мира. Основным источником доходов бюджета страны является экспорт нефти и нефтепродук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дущие отрасли промышленности: цветная и чёрная металлургия, химическая, машиностроение, лёгкая, пищевая. Развиты также нефтепереработка и производство стройматериа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5"/>
          <p:cNvSpPr/>
          <p:nvPr/>
        </p:nvSpPr>
        <p:spPr>
          <a:xfrm>
            <a:off x="5076720" y="36385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дание национальной нефтяной компании </a:t>
            </a:r>
            <a:r>
              <a:rPr b="0" lang="ru-RU" sz="1400" spc="-1" strike="noStrike" u="sng">
                <a:solidFill>
                  <a:srgbClr val="ff8119"/>
                </a:solidFill>
                <a:uFillTx/>
                <a:latin typeface="Arial"/>
                <a:hlinkClick r:id="rId2"/>
              </a:rPr>
              <a:t>КазМунайГ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19:33:04Z</dcterms:created>
  <dc:creator>Admin</dc:creator>
  <dc:description/>
  <dc:language>en-US</dc:language>
  <cp:lastModifiedBy>Снежана</cp:lastModifiedBy>
  <dcterms:modified xsi:type="dcterms:W3CDTF">2014-01-27T14:49:24Z</dcterms:modified>
  <cp:revision>31</cp:revision>
  <dc:subject/>
  <dc:title>Слайд 1</dc:title>
</cp:coreProperties>
</file>