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C25-1357-4705-9A78-46F811BC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B17-2CB1-478D-B410-30CD824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E7E-22B4-4D9E-8509-D289522A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5ED-D136-442A-AE18-E8335791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753-6E41-4E9B-A670-5A70EBDC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F53-173A-4E96-AC01-96A2ACC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3E9-CC53-46E8-B596-35862EA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3F7-132F-4E53-B295-2335B6FD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1986-C99E-4C70-A875-4743F5B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5DF2-C8FC-48BB-936F-90F0B6BC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1FF6-FD5A-4A96-AE53-EAB2155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628-E74C-41F7-B61C-87721725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170F-D083-44AD-ABDE-120F3E4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9712-F6F3-43F4-A645-84AB340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52D-6661-441A-90E2-523808E5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76F-2440-4DD5-A33E-B6652AEC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FF0-FC35-4148-8095-EBEC67CC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FB9ED-0177-4AB9-A81F-A6BF4ABB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1407A-3416-4AE7-BEF0-377190B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9D086-2E5D-479B-9FE6-B4A4A306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E1192-F563-4255-A7C0-56840BA7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D07D0-7FE5-4D2E-8F70-4BF3BB6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8A7-59EB-481A-8664-C3B6DC31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4C320-8777-4F94-AFF2-8BE614B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049BD-ACA3-4E2F-9193-8028E93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7C7FB-6847-4452-89C4-F847B98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2DEF7-53E8-4864-BCE6-ADF955BA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73B23-5387-48ED-96FB-1C3238E7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AA070-DB22-483B-9800-3A49B410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C42C8-2EB3-43A4-88A4-951DB109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5198-7C8C-4BDF-A0F6-2F5525FF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E8F2-7576-49BF-8E30-D3CE70B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8A20-7613-40A1-AC78-246B2B3C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871-0CC7-4FDF-8207-FF8D1086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F6F2-2AE3-4EA9-928C-C542EDA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E1FB-D059-4D90-8480-7228E213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0709-59D8-418D-B8DE-3E26E33B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FF15-4CA4-43E2-BE32-672E9DC9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A953-FFE7-4EE9-A99E-03CA777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80A5-AAC6-4A8F-92E6-17082045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0A54-F12F-438F-9623-A6C64BF3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777C-257E-4F34-BC34-C436E917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2F68-9774-48ED-B065-3F2F755E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78C32-1480-493C-B5C2-C9978AA0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C63-E500-4391-9815-D7FF361B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080D0-EB9C-4242-9BC6-6F0C7D34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C51B2-E899-435E-A05E-6C9DDA73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3AE86-60F0-4A03-8413-15F1F580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014AD-30C3-486D-B8EB-E37001FF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41C39-17BF-4851-A022-D5BF89B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95370-0E67-4937-9FCC-440F90C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4DC21-9D29-4C21-B8D5-EDF427D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581E0-C94C-446B-AAE2-6997509C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5C84A-D9C4-4EBF-8CED-487F63EE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28D03-A9DB-4A71-A804-2942184A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70A-26BE-4190-B0D7-B8B8C51E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9084E-BDC1-4B8A-B45B-993778FC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D5E06-DC80-4F43-9AF5-7E97BFBE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76A5D-C4C7-4BE1-AD6B-E5E9462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6CA65-853D-413C-814C-8234C50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5CE1E-8B65-4390-B6C4-61179AB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4E99D-D879-48A4-AC1D-C2AA7B60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92D32-7AF5-4504-BFB7-EA414C60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9904E-584D-4DA6-8D88-C69D853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2E14C-A559-4D07-A173-376C21B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34A94-CF97-4933-A8EF-647A69D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FEC-9CD9-4223-9328-DD1725F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E9F35-11DF-43E0-A32B-4DE35AAA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60A49-CD63-4AC2-9071-9F37B68E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03C73-A151-43B1-B363-56C6F42B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530EF-11E8-4472-97C7-CA5EED8C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AE8F1-CD8B-4ADA-90E2-E93A5EEB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9B1F5-24BA-4196-B87C-12D6B0A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11AB9-92E1-4E28-94AD-A0E5AE6D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F8C09-5C30-48EC-AD10-012C2080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262E6-65B6-48AF-8F94-505D98F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57563-9AD4-4EA2-A58E-83EF7E7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27B-8B4A-4D73-884F-FB6C666D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A9467-68D8-451C-A761-A78F35C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072B3-E76A-4865-B6C9-8BA73C3B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B3D54-7A21-451B-9C6F-97A134A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9B66A-7640-4C65-A01A-60E937C3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AA529-EC14-4BCA-A8ED-FF966AAC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046-E877-496A-B201-CD8DC1A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347-1044-474E-8949-8E61C51271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95E-9AA6-4B9D-8936-C29A0EB903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8129-38BA-4DC1-A499-B085A1E53E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AA0F-0307-4B07-B7FC-CDBEE737D4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53D-876B-44A8-9583-2C1B66AA06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117-154A-4405-B2A6-3743450BC6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2E4-B975-4D58-82AF-CDF4428B1C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0;&#1072;&#1079;&#1052;&#1091;&#1085;&#1072;&#1081;&#1043;&#1072;&#1079;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F:\tuy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"/>
          <p:cNvSpPr/>
          <p:nvPr/>
        </p:nvSpPr>
        <p:spPr>
          <a:xfrm>
            <a:off x="5954040" y="5157720"/>
            <a:ext cx="255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Работу выполн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ученица 11 класс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лухова Снеж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120600" y="64296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д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2 724 000 кв. к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16 млн. 196,8 тыс. чел. (01.01.2010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а: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с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правле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в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и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дательная власт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палатный парл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зы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азахский, русск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лиг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слам, христианств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нежная единиц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1 казахский тенге = 100 тиы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2571840" y="15876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F:\5.jpg"/>
          <p:cNvPicPr/>
          <p:nvPr/>
        </p:nvPicPr>
        <p:blipFill>
          <a:blip r:embed="rId1"/>
          <a:stretch/>
        </p:blipFill>
        <p:spPr>
          <a:xfrm>
            <a:off x="5643720" y="5405400"/>
            <a:ext cx="26002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F:\13.jpg"/>
          <p:cNvPicPr/>
          <p:nvPr/>
        </p:nvPicPr>
        <p:blipFill>
          <a:blip r:embed="rId2"/>
          <a:stretch/>
        </p:blipFill>
        <p:spPr>
          <a:xfrm>
            <a:off x="5357880" y="1000080"/>
            <a:ext cx="3192480" cy="20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F:\3.jpg"/>
          <p:cNvPicPr/>
          <p:nvPr/>
        </p:nvPicPr>
        <p:blipFill>
          <a:blip r:embed="rId3"/>
          <a:stretch/>
        </p:blipFill>
        <p:spPr>
          <a:xfrm>
            <a:off x="195120" y="3500280"/>
            <a:ext cx="4948560" cy="3211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F:\2.jpg"/>
          <p:cNvPicPr/>
          <p:nvPr/>
        </p:nvPicPr>
        <p:blipFill>
          <a:blip r:embed="rId4"/>
          <a:stretch/>
        </p:blipFill>
        <p:spPr>
          <a:xfrm>
            <a:off x="5357880" y="3200400"/>
            <a:ext cx="3214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214200" y="814320"/>
            <a:ext cx="385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захстан расположен на стыке двух континентов - Европы и Азии, между 45 и 87 градусами восточной долготы, между 40 и 55 градусами северной широты. Географический центр европейско-азиатского континента находится в Казахстане (на пересечении 78 меридиана и 50 параллелью). По площади Казахстан занимает 9-е место в мире, уступая России, Китаю, США, Аргентине, Бразилии, Канаде, Индии и Австра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97720" y="0"/>
            <a:ext cx="70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:\4.jpg"/>
          <p:cNvPicPr/>
          <p:nvPr/>
        </p:nvPicPr>
        <p:blipFill>
          <a:blip r:embed="rId1"/>
          <a:stretch/>
        </p:blipFill>
        <p:spPr>
          <a:xfrm>
            <a:off x="3913200" y="714240"/>
            <a:ext cx="4802040" cy="471492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214200" y="557676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размерах республики говорит тот факт, что на территории Казахстана могли бы разместиться такие страны как Франция, Италия, Испания, Швеция, Португалия, Греция, Финляндия и Норве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214200" y="785880"/>
            <a:ext cx="37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аленность от океанов и большая территория влияют на климатические условия. Природа Казахстана поражает своими контрастами. Климат севера республики суров, сибирский, а на юге в это время может зацветать урюк, зеленеть горные долины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температура января повышается от -1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севере и востоке республики до -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 самой южной части Казахстан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температура июля возрастает с +1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севере до +2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, +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юг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ритория Казахстана расположена в четырёх климатических зонах - лесостепной, степной, полупустынной, пусты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3508920" y="0"/>
            <a:ext cx="19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F:\1.jpg"/>
          <p:cNvPicPr/>
          <p:nvPr/>
        </p:nvPicPr>
        <p:blipFill>
          <a:blip r:embed="rId1"/>
          <a:stretch/>
        </p:blipFill>
        <p:spPr>
          <a:xfrm>
            <a:off x="4143240" y="866880"/>
            <a:ext cx="4500720" cy="2919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F:\14.jpg"/>
          <p:cNvPicPr/>
          <p:nvPr/>
        </p:nvPicPr>
        <p:blipFill>
          <a:blip r:embed="rId2"/>
          <a:stretch/>
        </p:blipFill>
        <p:spPr>
          <a:xfrm>
            <a:off x="4143240" y="3929040"/>
            <a:ext cx="37148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6"/>
          <p:cNvSpPr/>
          <p:nvPr/>
        </p:nvSpPr>
        <p:spPr>
          <a:xfrm>
            <a:off x="1811520" y="15840"/>
            <a:ext cx="58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71280" y="71424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ахстан обладает разнообразными полезными ископаемыми. Из 105 элементов таблицы Менделеева в недрах Казахстана выявлено 99, разведаны запасы по 70, вовлечено в производство более 60 элементов. В настоящее время известно 493 месторождения, содержащих 1225 видов минерального сырья. Казахстан располагает значительными запасами нефти и газа, сосредоточенными в западном регионе, позволяющими отнести республику к разряду крупнейших нефтедобывающих государств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F:\10.jpg"/>
          <p:cNvPicPr/>
          <p:nvPr/>
        </p:nvPicPr>
        <p:blipFill>
          <a:blip r:embed="rId1"/>
          <a:stretch/>
        </p:blipFill>
        <p:spPr>
          <a:xfrm>
            <a:off x="142920" y="2786040"/>
            <a:ext cx="5835600" cy="378612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6"/>
          <p:cNvSpPr/>
          <p:nvPr/>
        </p:nvSpPr>
        <p:spPr>
          <a:xfrm>
            <a:off x="6000840" y="2789280"/>
            <a:ext cx="278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бъему запасов полезных ископаемых Казахстан занимает первое место среди стран СНГ по хромовым рудам и свинцу, второе - по запасам нефти, серебра, меди, марганца, цинка, никеля и фосфорного сырья, третье - по газу, углю, золоту и олов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720880" y="981000"/>
            <a:ext cx="6139080" cy="26924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15840" y="40464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захстана на 2006-о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ахстан экспортирует сырьё произведённое добывающей, топливной, металлургической и химической промышле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структуре казахстанского экс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 и нефтепродукты — 3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ные металлы — 1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рные металлы — 1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ды — 1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овые культуры — 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 — 1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34920" y="4581360"/>
            <a:ext cx="866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импортируемой продукцией являются сырье, а именно сырая нефть, машины и оборудование, средства транспорта, приборы и автоматы, химическая продукция, топливо минеральное, продовольственные товары, готовые изделия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9600" y="-316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ЭКОНОМИКА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ПРОМЫШЛЕННОСТЬ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108000" y="836640"/>
            <a:ext cx="58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национальной нефтян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МунайГаз. В Казахстане производят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ы такие гиганты, как Chevrolet, LG, Samsu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osch, 3M, Panasonic. Региональная штаб-квартира компании Microsoft (Microsoft — Central Asia) расположена в комплексе „Alatau IT city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Алма-А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захстане развита горнодобывающая промышленность. Активно добываются угол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, природный газ, железные руды, мед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ды, свинцово-цинковые руды, урановая руда, никелевые руды, бокситы и другие полезные ископае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270400" y="1014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127080" y="4437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03 году в Казахстане было добыто 51,4 млн тонн нефти, в 2004 году — 59,17 млн тонн, в 2008 — 72 млн тонн.К 2010 году планируется увеличить добычу нефти до 100 млн тонн в год, а к 2015 году — до 150 млн тонн в год, в результате чего Казахстан войдёт в десятку крупнейших нефтедобывающих стран мира. Основным источником доходов бюджета страны является экспорт нефти и нефте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ущие отрасли промышленности: цветная и чёрная металлургия, химическая, машиностроение, лёгкая, пищевая. Развиты также нефтепереработка и производство строй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076720" y="3638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ание национальной нефтяной компании 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КазМунайГ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9:33:04Z</dcterms:created>
  <dc:creator>Admin</dc:creator>
  <dc:description/>
  <dc:language>en-US</dc:language>
  <cp:lastModifiedBy>Снежана</cp:lastModifiedBy>
  <dcterms:modified xsi:type="dcterms:W3CDTF">2014-01-27T14:49:24Z</dcterms:modified>
  <cp:revision>31</cp:revision>
  <dc:subject/>
  <dc:title>Слайд 1</dc:title>
</cp:coreProperties>
</file>