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3021-3DC9-4B09-A974-8624C1632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0A8C-3B8B-4082-8569-6CB16FA4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C11B-C25D-4D93-9821-430B5D872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A808-4A65-4A8B-B370-94F179ED9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98BD-E9F1-4C39-B346-7734CA0F8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9B041-AA4F-4A08-A963-5A6E5B84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D2CE-40BB-47DE-91F2-9E0F4FF4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4997-2365-4A11-B05F-2196C731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F554-D3B3-4DD4-9AA0-4E502E16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EF94-EE2A-44D2-B19C-5E9917D2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8B3D-D943-478B-A285-DD7D9989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1EA4-09A1-4171-8E12-0C88CD26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978A-8225-484E-AAB2-0BF05932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D64E-E06F-4B99-8F7F-449D55D4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0BABE-CAE9-48B8-8522-A03EDE4B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B241-3D2B-4829-93CC-8D07F383D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57EB-CEDF-4E1B-9D50-F458F21D7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356D89-3C93-4D5E-8D25-1284757EE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6E7E1E-209F-4B9F-AAE6-AEDB5FCB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6E58F6-FE1C-4897-80F0-1AEEF0621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516C50-FCED-475A-A793-1EAC5EF8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657965-FF88-4F17-A878-E5B9E780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3653-84DD-43D4-B016-61EFB598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E22576-49F4-4D21-9098-4EB6D47B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DA83F3-D75D-40FA-8F32-AF143704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F4CFCF-8C6C-403E-BFF7-B58368AB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E6D647-8FD7-4C2E-9AD6-3AAAB349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739CDC-0345-4548-BFD7-65B5A685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107534-D8D9-4DAB-A047-FBDF4A18F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3964C4-B568-4F11-8C74-2A0C975BB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A54EC-8FB3-4E00-90C2-715FE2E20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E4A2B-D087-42E3-87D3-1A4D7B3F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7B957-5A60-414A-B622-E22DF82F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4503-8700-4E69-9B86-3B5D651A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2B4E1-7C82-44FF-9E38-B81F77E5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80453-DE89-4A3E-B9B0-9F3FC2E9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D1C9A-37F3-4C58-8049-48732F16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EA007-1D17-4FBD-8524-24A78593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398CE-4C8F-471A-BC10-8A48FCDE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2ABA2-1FF8-4D18-80C1-9026C2D6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5F201-11E0-4B7B-A100-F6D8560C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7DCCB-B525-471B-8AA2-D9181A440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4641B-682D-497F-88E2-1F73E5706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A053BB-C04E-4031-8990-CFE95BF62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F9DF-34BB-45A5-BA1E-8DA4D066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4B3834-D583-4BAC-B77A-B77CD9E9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4E280E-CA0E-4E65-8780-CFD6E22A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6D832F-E199-448F-A292-97FF6BF0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CAFADA-7FF5-4AB5-9C10-770C1543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924470-F9CD-42F0-9B3A-7ECCBA3F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715BFE-DAEB-43F9-8F75-39E6999E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784DA6-7FC4-4DA1-BFAC-5E2303E9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324125-AE32-4873-A5EE-AA8F46BF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C6287A-C328-4EC1-BA73-9D3B2239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BB3EC1-3E71-4760-A38F-30F77E2FE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B84A-6EB3-4264-8E7C-11169AB2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9DABDB-B47F-4160-971E-4629FE6DC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340AE7-08D1-4E3F-9BF4-C5656A66C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624108-A3D5-41FF-8F77-5AA8F329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1BA0D1-5858-49EB-B339-100CFD37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EECDD4-4EF3-4A49-800A-30AD3856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F2E237-B643-4630-B0B0-0852FDE4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8EB93A-D4B5-4105-8C94-BA062179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53085C-B35A-4D03-9CA3-988536F1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F72BCF-8D4D-439D-BA30-EE8431C4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FAFBCD-D945-4B81-9470-99A0D0D2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30F0-351D-48CC-98AF-5EE8A4A6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A3280D-8157-4899-BA33-86F7270F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B16E87-8258-4CB7-AAEB-0FE353F1E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D090E3-87F8-43EB-9D1D-F7D7C08BF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B512C8-6C8A-4F54-894B-77AE26626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BC28AF-CA5C-4A0A-A1B6-AEFCA776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D05CDC-F95B-43A2-9F74-9C0F3D41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D99BA5-4B1D-4C23-9BB1-29EA7B97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456617-94DE-454B-A654-41D8AD91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822903-0FFF-4D4D-B6FB-CCDDD478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2EC440-4525-4B6F-A3B5-C9860617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4932-B671-4518-BBEB-1405B73A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08772A-DB43-4C1D-B2A4-425CCE9C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C315C7-790F-4AE5-A858-F777F77B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69F48E-7DD9-44AA-8CC0-CD020352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D8132C-0B3E-45EB-9DE4-331C46671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685146-3F6F-46FA-BABA-9C35C6ADB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1126-1A87-42A3-B4FB-E4B41D36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ced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ced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C53E-6E03-4244-A120-81DC862EBD0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dced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de0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de0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f0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dcedc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f0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dcedc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dced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9075-0AFA-4D1E-9E17-93ACD400958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ced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ced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8CC3-337C-41F5-BDC4-B069B90AC4C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dced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de0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de0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f0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dcedc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f0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dcedc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dced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ef5f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ef5fa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ef5f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ef5f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E151-C576-47B7-A49F-E824E3D5B95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ced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ced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F3FF-14CB-4961-BC80-9AF60AF4EAB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ced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ced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F367-EDBA-4381-8F63-20729653202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3D35-3D8D-4C1E-A929-6FE6CAEDBE6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ru.wikipedia.org/wiki/&#1050;&#1072;&#1079;&#1052;&#1091;&#1085;&#1072;&#1081;&#1043;&#1072;&#1079;" TargetMode="External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3" descr="F:\tuyt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TextBox 1"/>
          <p:cNvSpPr/>
          <p:nvPr/>
        </p:nvSpPr>
        <p:spPr>
          <a:xfrm>
            <a:off x="5954040" y="5157720"/>
            <a:ext cx="255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Работу выполня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ученица 11 класса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Глухова Снеж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>
            <a:alpha val="3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Box 3"/>
          <p:cNvSpPr/>
          <p:nvPr/>
        </p:nvSpPr>
        <p:spPr>
          <a:xfrm>
            <a:off x="120600" y="642960"/>
            <a:ext cx="5308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лощадь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2 724 000 кв. км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селение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16 млн. 196,8 тыс. чел. (01.01.2010 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олица: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ст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орма правления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спубл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лава государства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зид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конодательная власть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вухпалатный парла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Язык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казахский, русски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лигия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ислам, христианство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енежная единица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1 казахский тенге = 100 тиын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4"/>
          <p:cNvSpPr/>
          <p:nvPr/>
        </p:nvSpPr>
        <p:spPr>
          <a:xfrm>
            <a:off x="2571840" y="158760"/>
            <a:ext cx="485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бщие свед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4" descr="F:\5.jpg"/>
          <p:cNvPicPr/>
          <p:nvPr/>
        </p:nvPicPr>
        <p:blipFill>
          <a:blip r:embed="rId1"/>
          <a:stretch/>
        </p:blipFill>
        <p:spPr>
          <a:xfrm>
            <a:off x="5643720" y="5405400"/>
            <a:ext cx="2600280" cy="13813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5" descr="F:\13.jpg"/>
          <p:cNvPicPr/>
          <p:nvPr/>
        </p:nvPicPr>
        <p:blipFill>
          <a:blip r:embed="rId2"/>
          <a:stretch/>
        </p:blipFill>
        <p:spPr>
          <a:xfrm>
            <a:off x="5357880" y="1000080"/>
            <a:ext cx="3192480" cy="20718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7" descr="F:\3.jpg"/>
          <p:cNvPicPr/>
          <p:nvPr/>
        </p:nvPicPr>
        <p:blipFill>
          <a:blip r:embed="rId3"/>
          <a:stretch/>
        </p:blipFill>
        <p:spPr>
          <a:xfrm>
            <a:off x="195120" y="3500280"/>
            <a:ext cx="4948560" cy="32115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8" descr="F:\2.jpg"/>
          <p:cNvPicPr/>
          <p:nvPr/>
        </p:nvPicPr>
        <p:blipFill>
          <a:blip r:embed="rId4"/>
          <a:stretch/>
        </p:blipFill>
        <p:spPr>
          <a:xfrm>
            <a:off x="5357880" y="3200400"/>
            <a:ext cx="321480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Прямоугольник 1"/>
          <p:cNvSpPr/>
          <p:nvPr/>
        </p:nvSpPr>
        <p:spPr>
          <a:xfrm>
            <a:off x="214200" y="814320"/>
            <a:ext cx="38577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захстан расположен на стыке двух континентов - Европы и Азии, между 45 и 87 градусами восточной долготы, между 40 и 55 градусами северной широты. Географический центр европейско-азиатского континента находится в Казахстане (на пересечении 78 меридиана и 50 параллелью). По площади Казахстан занимает 9-е место в мире, уступая России, Китаю, США, Аргентине, Бразилии, Канаде, Индии и Австрал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2"/>
          <p:cNvSpPr/>
          <p:nvPr/>
        </p:nvSpPr>
        <p:spPr>
          <a:xfrm>
            <a:off x="1197720" y="0"/>
            <a:ext cx="702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еографическое пол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5" descr="F:\4.jpg"/>
          <p:cNvPicPr/>
          <p:nvPr/>
        </p:nvPicPr>
        <p:blipFill>
          <a:blip r:embed="rId1"/>
          <a:stretch/>
        </p:blipFill>
        <p:spPr>
          <a:xfrm>
            <a:off x="3913200" y="714240"/>
            <a:ext cx="4802040" cy="4714920"/>
          </a:xfrm>
          <a:prstGeom prst="rect">
            <a:avLst/>
          </a:prstGeom>
          <a:ln w="0">
            <a:noFill/>
          </a:ln>
        </p:spPr>
      </p:pic>
      <p:sp>
        <p:nvSpPr>
          <p:cNvPr id="362" name="Прямоугольник 5"/>
          <p:cNvSpPr/>
          <p:nvPr/>
        </p:nvSpPr>
        <p:spPr>
          <a:xfrm>
            <a:off x="214200" y="5576760"/>
            <a:ext cx="7858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 размерах республики говорит тот факт, что на территории Казахстана могли бы разместиться такие страны как Франция, Италия, Испания, Швеция, Португалия, Греция, Финляндия и Норвег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Прямоугольник 2"/>
          <p:cNvSpPr/>
          <p:nvPr/>
        </p:nvSpPr>
        <p:spPr>
          <a:xfrm>
            <a:off x="214200" y="785880"/>
            <a:ext cx="3786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даленность от океанов и большая территория влияют на климатические условия. Природа Казахстана поражает своими контрастами. Климат севера республики суров, сибирский, а на юге в это время может зацветать урюк, зеленеть горные долины. 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редняя температура января повышается от -18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на севере и востоке республики до -3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в самой южной части Казахстана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редняя температура июля возрастает с +19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на севере до +28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, +3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на юге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рритория Казахстана расположена в четырёх климатических зонах - лесостепной, степной, полупустынной, пустын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3"/>
          <p:cNvSpPr/>
          <p:nvPr/>
        </p:nvSpPr>
        <p:spPr>
          <a:xfrm>
            <a:off x="3508920" y="0"/>
            <a:ext cx="199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лим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4" descr="F:\1.jpg"/>
          <p:cNvPicPr/>
          <p:nvPr/>
        </p:nvPicPr>
        <p:blipFill>
          <a:blip r:embed="rId1"/>
          <a:stretch/>
        </p:blipFill>
        <p:spPr>
          <a:xfrm>
            <a:off x="4143240" y="866880"/>
            <a:ext cx="4500720" cy="29192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F:\14.jpg"/>
          <p:cNvPicPr/>
          <p:nvPr/>
        </p:nvPicPr>
        <p:blipFill>
          <a:blip r:embed="rId2"/>
          <a:stretch/>
        </p:blipFill>
        <p:spPr>
          <a:xfrm>
            <a:off x="4143240" y="3929040"/>
            <a:ext cx="371484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Прямоугольник 6"/>
          <p:cNvSpPr/>
          <p:nvPr/>
        </p:nvSpPr>
        <p:spPr>
          <a:xfrm>
            <a:off x="1811520" y="15840"/>
            <a:ext cx="581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лезные ископаем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3"/>
          <p:cNvSpPr/>
          <p:nvPr/>
        </p:nvSpPr>
        <p:spPr>
          <a:xfrm>
            <a:off x="71280" y="714240"/>
            <a:ext cx="8643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захстан обладает разнообразными полезными ископаемыми. Из 105 элементов таблицы Менделеева в недрах Казахстана выявлено 99, разведаны запасы по 70, вовлечено в производство более 60 элементов. В настоящее время известно 493 месторождения, содержащих 1225 видов минерального сырья. Казахстан располагает значительными запасами нефти и газа, сосредоточенными в западном регионе, позволяющими отнести республику к разряду крупнейших нефтедобывающих государств ми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4" descr="F:\10.jpg"/>
          <p:cNvPicPr/>
          <p:nvPr/>
        </p:nvPicPr>
        <p:blipFill>
          <a:blip r:embed="rId1"/>
          <a:stretch/>
        </p:blipFill>
        <p:spPr>
          <a:xfrm>
            <a:off x="142920" y="2786040"/>
            <a:ext cx="5835600" cy="378612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6"/>
          <p:cNvSpPr/>
          <p:nvPr/>
        </p:nvSpPr>
        <p:spPr>
          <a:xfrm>
            <a:off x="6000840" y="2789280"/>
            <a:ext cx="27860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объему запасов полезных ископаемых Казахстан занимает первое место среди стран СНГ по хромовым рудам и свинцу, второе - по запасам нефти, серебра, меди, марганца, цинка, никеля и фосфорного сырья, третье - по газу, углю, золоту и олову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2720880" y="981000"/>
            <a:ext cx="6139080" cy="2692440"/>
          </a:xfrm>
          <a:prstGeom prst="rect">
            <a:avLst/>
          </a:prstGeom>
          <a:ln w="0">
            <a:noFill/>
          </a:ln>
        </p:spPr>
      </p:pic>
      <p:sp>
        <p:nvSpPr>
          <p:cNvPr id="372" name="Прямоугольник 3"/>
          <p:cNvSpPr/>
          <p:nvPr/>
        </p:nvSpPr>
        <p:spPr>
          <a:xfrm>
            <a:off x="15840" y="404640"/>
            <a:ext cx="3745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кспор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азахстана на 2006-ой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захстан экспортирует сырьё произведённое добывающей, топливной, металлургической и химической промышлен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 структуре казахстанского экспор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фть и нефтепродукты — 3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ветные металлы — 17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ёрные металлы — 16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уды — 12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ерновые культуры — 9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ругое — 11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4"/>
          <p:cNvSpPr/>
          <p:nvPr/>
        </p:nvSpPr>
        <p:spPr>
          <a:xfrm>
            <a:off x="34920" y="4581360"/>
            <a:ext cx="8666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м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й импортируемой продукцией являются сырье, а именно сырая нефть, машины и оборудование, средства транспорта, приборы и автоматы, химическая продукция, топливо минеральное, продовольственные товары, готовые изделия и товары народного потреб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69600" y="-3164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Calibri"/>
              </a:rPr>
              <a:t>ЭКОНОМИКА</a:t>
            </a:r>
            <a:endParaRPr b="0" lang="en-US" sz="4400" spc="-1" strike="noStrike">
              <a:solidFill>
                <a:srgbClr val="464646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-3164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Calibri"/>
              </a:rPr>
              <a:t>ПРОМЫШЛЕННОСТЬ</a:t>
            </a:r>
            <a:endParaRPr b="0" lang="en-US" sz="44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76" name="Прямоугольник 2"/>
          <p:cNvSpPr/>
          <p:nvPr/>
        </p:nvSpPr>
        <p:spPr>
          <a:xfrm>
            <a:off x="108000" y="836640"/>
            <a:ext cx="5832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дание национальной нефтяной комп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зМунайГаз. В Казахстане производят св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вары такие гиганты, как Chevrolet, LG, Samsu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Bosch, 3M, Panasonic. Региональная штаб-квартира компании Microsoft (Microsoft — Central Asia) расположена в комплексе „Alatau IT city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 Алма-Ат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Казахстане развита горнодобывающая промышленность. Активно добываются уголь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фть, природный газ, железные руды, медны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уды, свинцово-цинковые руды, урановая руда, никелевые руды, бокситы и другие полезные ископаем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5270400" y="1014480"/>
            <a:ext cx="3873600" cy="2577960"/>
          </a:xfrm>
          <a:prstGeom prst="rect">
            <a:avLst/>
          </a:prstGeom>
          <a:ln w="0">
            <a:noFill/>
          </a:ln>
        </p:spPr>
      </p:pic>
      <p:sp>
        <p:nvSpPr>
          <p:cNvPr id="378" name="Прямоугольник 4"/>
          <p:cNvSpPr/>
          <p:nvPr/>
        </p:nvSpPr>
        <p:spPr>
          <a:xfrm>
            <a:off x="127080" y="4437000"/>
            <a:ext cx="864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2003 году в Казахстане было добыто 51,4 млн тонн нефти, в 2004 году — 59,17 млн тонн, в 2008 — 72 млн тонн.К 2010 году планируется увеличить добычу нефти до 100 млн тонн в год, а к 2015 году — до 150 млн тонн в год, в результате чего Казахстан войдёт в десятку крупнейших нефтедобывающих стран мира. Основным источником доходов бюджета страны является экспорт нефти и нефтепродук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дущие отрасли промышленности: цветная и чёрная металлургия, химическая, машиностроение, лёгкая, пищевая. Развиты также нефтепереработка и производство стройматериа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5"/>
          <p:cNvSpPr/>
          <p:nvPr/>
        </p:nvSpPr>
        <p:spPr>
          <a:xfrm>
            <a:off x="5076720" y="363852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дание национальной нефтяной компании </a:t>
            </a:r>
            <a:r>
              <a:rPr b="0" lang="ru-RU" sz="1400" spc="-1" strike="noStrike" u="sng">
                <a:solidFill>
                  <a:srgbClr val="ff8119"/>
                </a:solidFill>
                <a:uFillTx/>
                <a:latin typeface="Arial"/>
                <a:hlinkClick r:id="rId2"/>
              </a:rPr>
              <a:t>КазМунайГ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6T19:33:04Z</dcterms:created>
  <dc:creator>Admin</dc:creator>
  <dc:description/>
  <dc:language>en-US</dc:language>
  <cp:lastModifiedBy>Снежана</cp:lastModifiedBy>
  <dcterms:modified xsi:type="dcterms:W3CDTF">2014-01-27T14:49:24Z</dcterms:modified>
  <cp:revision>31</cp:revision>
  <dc:subject/>
  <dc:title>Слайд 1</dc:title>
</cp:coreProperties>
</file>