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17DA-0F5D-4FB0-A463-D5DB6C291B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B2F3-656F-4AC6-9EF1-FA98397878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35F6-F9FE-4420-BEE4-5A52804FA5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4CF-3809-422D-8F20-044B7975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9F6-F4F5-4C5F-A6CD-A20C2D29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244-B9A2-41FB-8625-1FF7A062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A31-CECB-44A9-A2C7-84F6A771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22B-4FEE-469B-8832-FE926094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AE5-D7D2-43F0-A196-CFF3668E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BF1-A3AD-4892-A8AF-CDED9CC7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C13-D3C4-404A-8CDF-B253A78E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91C-5049-48E0-B0CF-727B2694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804-A292-4595-8E02-5417146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5D1-3ADE-44AB-B1C7-C89E847A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C8C-132B-4664-A793-0B11BADB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F26B-7379-4CE3-8E2B-980FB8AEE9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571840" y="2428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Эвакуация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населен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49120" y="622440"/>
            <a:ext cx="867096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я населения</a:t>
            </a:r>
            <a:r>
              <a:rPr b="0" lang="ru-RU" sz="3600" spc="-1" strike="noStrike">
                <a:solidFill>
                  <a:srgbClr val="ff505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всеми видами   имеющегося транспорта и выводу пешим   порядком населения из категорированных   городов и размещению его в загородной   зо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438280" y="1828800"/>
          <a:ext cx="38768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38768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206640" y="304920"/>
            <a:ext cx="839052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уации подлежа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деятель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ых продолжается на новой баз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оложенной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прекраща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ю деятельность в военное врем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трудоспособное и не занятое в производ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a9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52280" y="380880"/>
            <a:ext cx="8763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Рассредоточение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(выводу) из категорированных городов и размещение в загородной зоне для проживания и отдыха рабочих и служащих объектов экономики, производственная деятельность которых в военное время будет продолжаться в этих город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2280" y="304920"/>
            <a:ext cx="8839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бщая эваку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одится на территории всей страны или на территории отдельного региона и предполагает вывоз (вывод) всех категорий населения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 исключени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транспортабельных больных и        обслуживающего их персонала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ц, имеющих мобилизационные   предпис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2280" y="-98280"/>
            <a:ext cx="889812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Частичная эвакуац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проводиться до начала общей эваку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полагает вывоз нетрудоспособного и не занятого в производстве и в сфере обслуживания насел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уден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щихся школ-интернатов  и  профессионально             - технических училищ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нников детских домов, ведомственн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их садов и других детских учре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местно с преподавателями, обслуживающ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оналом и членами их сем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сионеров, содержащиеся в домах инвалид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рестарел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9ca9"/>
            </a:gs>
            <a:gs pos="50000">
              <a:srgbClr val="ccecff"/>
            </a:gs>
            <a:gs pos="100000">
              <a:srgbClr val="879c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7800" y="181080"/>
            <a:ext cx="9222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Эвакуационные мероприятия  осуществляю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о  решению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а Российской Федерации 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а Гражданской обороны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- Председателя Правительства Р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и в отдельных случаях, требующих при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емедленного реше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о решению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ов ГО субъектов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с последующим докладом п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чин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2514600" y="304920"/>
            <a:ext cx="4114800" cy="60948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инц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828800" y="1828800"/>
            <a:ext cx="556272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й 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600200" y="3505320"/>
            <a:ext cx="6019920" cy="91440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имально возможного исполь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ющихся собственных сил  и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219320" y="5257800"/>
            <a:ext cx="678168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ерриториально-производств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09240" y="457200"/>
            <a:ext cx="8573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оизводственно-территориаль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инцип</a:t>
            </a:r>
            <a:r>
              <a:rPr b="0" i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редоточение  и эвакуация рабочих,   слу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щих  и  неработающих   членов   их    сем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уется   и   проводится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     объек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коном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вакуация остального населения, не занят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изводстве, - по месту жительства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ер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илищно-эксплутационные  орган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 терр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риальному принци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1447920"/>
            <a:ext cx="9144000" cy="274536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лючается в вывозе в загородную зону  части эваконаселения всеми видами    имеющегося транспорта с  одновременным   выводом остальной его части пешим поряд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80880" y="47242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Транспорт - не занятый воинскими и   другими особо важными перевозками по     мобилизационным  планам, независимо  от     форм собственности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143000" y="38088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Times New Roman"/>
              </a:rPr>
              <a:t>Комбинированный спосо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00" y="0"/>
            <a:ext cx="9117000" cy="64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6600"/>
                </a:solidFill>
                <a:latin typeface="Times New Roman"/>
              </a:rPr>
              <a:t>В первую очередь транспортом вывозятся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дицинские учре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селение, которое не может передвигаться пеш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рядко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еременные женщины, женщины  с  детьми  до    14 лет, больны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ходящиеся на амбулаторном  лечении,    мужчины старше 65 лет и женщи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рше 60 ле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абочие и служащие свободных смен объе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одолжающих работу в военное время в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тегорированных город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отрудники органов государственного  управления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важнейших научно- исследователь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учреждений (НИУ)  и конструкторских бюро (К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льное население планируется выводить    пешим поряд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a900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990720"/>
            <a:ext cx="839628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ffff"/>
                </a:solidFill>
                <a:uFillTx/>
                <a:latin typeface="Arial"/>
              </a:rPr>
              <a:t>Учебные вопрос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Общие положения по организации и проведению эвакомероприя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Задачи и структура эвакуационных орга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44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52280" y="0"/>
            <a:ext cx="88394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агородная зо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территория в пределах административных   границ субъектов Российской Федерации,   расположенная вне зон возможных разрушений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радиоактивного   загрязн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Р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  химического зараж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Х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  катастрофического затопл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К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  вне приграничных районов, заблаговременно   подготовленная для размещения эвакуируемого   населения по условиям его первоочередного   жизнеобеспе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63"/>
          <p:cNvSpPr/>
          <p:nvPr/>
        </p:nvSpPr>
        <p:spPr>
          <a:xfrm>
            <a:off x="6324480" y="3809880"/>
            <a:ext cx="1828800" cy="17528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3"/>
          <p:cNvSpPr/>
          <p:nvPr/>
        </p:nvSpPr>
        <p:spPr>
          <a:xfrm>
            <a:off x="2438280" y="-304920"/>
            <a:ext cx="1752840" cy="1295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9"/>
          <p:cNvSpPr/>
          <p:nvPr/>
        </p:nvSpPr>
        <p:spPr>
          <a:xfrm>
            <a:off x="6781680" y="990720"/>
            <a:ext cx="2532240" cy="1892160"/>
          </a:xfrm>
          <a:custGeom>
            <a:avLst/>
            <a:gdLst>
              <a:gd name="textAreaLeft" fmla="*/ 0 w 2532240"/>
              <a:gd name="textAreaRight" fmla="*/ 2532600 w 25322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solidFill>
            <a:srgbClr val="ffff66"/>
          </a:solidFill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-838080" y="4495680"/>
            <a:ext cx="3429000" cy="30481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-228600" y="5105520"/>
            <a:ext cx="2057400" cy="190476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152280" y="5486400"/>
            <a:ext cx="1295640" cy="1143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-1447920" y="380880"/>
            <a:ext cx="3733920" cy="37339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-762120" y="1143000"/>
            <a:ext cx="2210040" cy="22860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-304920" y="1676520"/>
            <a:ext cx="1295640" cy="1295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г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79600" y="2666880"/>
            <a:ext cx="30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агородна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219320" y="2057400"/>
            <a:ext cx="4572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1080" y="20574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380880" y="57150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1066680" y="563868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523880" y="59436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2209680" y="624852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8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38520" y="1980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 rot="17809800">
            <a:off x="6476760" y="1295280"/>
            <a:ext cx="8380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32"/>
          <p:cNvSpPr/>
          <p:nvPr/>
        </p:nvSpPr>
        <p:spPr>
          <a:xfrm>
            <a:off x="7238880" y="57913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5"/>
          <p:cNvSpPr/>
          <p:nvPr/>
        </p:nvSpPr>
        <p:spPr>
          <a:xfrm>
            <a:off x="6781680" y="53341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683400" y="5303880"/>
            <a:ext cx="2700360" cy="167328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1673280"/>
              <a:gd name="textAreaBottom" fmla="*/ 1673640 h 1673280"/>
            </a:gdLst>
            <a:ahLst/>
            <a:rect l="textAreaLeft" t="textAreaTop" r="textAreaRight" b="textAreaBottom"/>
            <a:pathLst>
              <a:path w="1701" h="1054">
                <a:moveTo>
                  <a:pt x="17" y="975"/>
                </a:moveTo>
                <a:cubicBezTo>
                  <a:pt x="64" y="959"/>
                  <a:pt x="30" y="979"/>
                  <a:pt x="52" y="939"/>
                </a:cubicBezTo>
                <a:cubicBezTo>
                  <a:pt x="80" y="888"/>
                  <a:pt x="119" y="821"/>
                  <a:pt x="168" y="788"/>
                </a:cubicBezTo>
                <a:cubicBezTo>
                  <a:pt x="192" y="751"/>
                  <a:pt x="223" y="730"/>
                  <a:pt x="265" y="718"/>
                </a:cubicBezTo>
                <a:cubicBezTo>
                  <a:pt x="274" y="712"/>
                  <a:pt x="282" y="704"/>
                  <a:pt x="292" y="700"/>
                </a:cubicBezTo>
                <a:cubicBezTo>
                  <a:pt x="309" y="692"/>
                  <a:pt x="345" y="682"/>
                  <a:pt x="345" y="682"/>
                </a:cubicBezTo>
                <a:cubicBezTo>
                  <a:pt x="372" y="663"/>
                  <a:pt x="394" y="657"/>
                  <a:pt x="425" y="647"/>
                </a:cubicBezTo>
                <a:cubicBezTo>
                  <a:pt x="449" y="610"/>
                  <a:pt x="484" y="604"/>
                  <a:pt x="522" y="585"/>
                </a:cubicBezTo>
                <a:cubicBezTo>
                  <a:pt x="608" y="542"/>
                  <a:pt x="703" y="519"/>
                  <a:pt x="797" y="496"/>
                </a:cubicBezTo>
                <a:cubicBezTo>
                  <a:pt x="821" y="479"/>
                  <a:pt x="850" y="464"/>
                  <a:pt x="877" y="452"/>
                </a:cubicBezTo>
                <a:cubicBezTo>
                  <a:pt x="894" y="445"/>
                  <a:pt x="930" y="434"/>
                  <a:pt x="930" y="434"/>
                </a:cubicBezTo>
                <a:cubicBezTo>
                  <a:pt x="992" y="393"/>
                  <a:pt x="966" y="411"/>
                  <a:pt x="1009" y="381"/>
                </a:cubicBezTo>
                <a:cubicBezTo>
                  <a:pt x="1025" y="370"/>
                  <a:pt x="1063" y="363"/>
                  <a:pt x="1063" y="363"/>
                </a:cubicBezTo>
                <a:cubicBezTo>
                  <a:pt x="1107" y="319"/>
                  <a:pt x="1169" y="296"/>
                  <a:pt x="1222" y="266"/>
                </a:cubicBezTo>
                <a:cubicBezTo>
                  <a:pt x="1250" y="250"/>
                  <a:pt x="1275" y="230"/>
                  <a:pt x="1302" y="212"/>
                </a:cubicBezTo>
                <a:cubicBezTo>
                  <a:pt x="1311" y="206"/>
                  <a:pt x="1318" y="198"/>
                  <a:pt x="1328" y="195"/>
                </a:cubicBezTo>
                <a:cubicBezTo>
                  <a:pt x="1337" y="192"/>
                  <a:pt x="1347" y="191"/>
                  <a:pt x="1355" y="186"/>
                </a:cubicBezTo>
                <a:cubicBezTo>
                  <a:pt x="1374" y="176"/>
                  <a:pt x="1408" y="150"/>
                  <a:pt x="1408" y="150"/>
                </a:cubicBezTo>
                <a:cubicBezTo>
                  <a:pt x="1463" y="70"/>
                  <a:pt x="1387" y="169"/>
                  <a:pt x="1453" y="115"/>
                </a:cubicBezTo>
                <a:cubicBezTo>
                  <a:pt x="1461" y="108"/>
                  <a:pt x="1463" y="96"/>
                  <a:pt x="1470" y="88"/>
                </a:cubicBezTo>
                <a:cubicBezTo>
                  <a:pt x="1488" y="66"/>
                  <a:pt x="1500" y="60"/>
                  <a:pt x="1523" y="44"/>
                </a:cubicBezTo>
                <a:cubicBezTo>
                  <a:pt x="1553" y="0"/>
                  <a:pt x="1567" y="9"/>
                  <a:pt x="1621" y="18"/>
                </a:cubicBezTo>
                <a:cubicBezTo>
                  <a:pt x="1634" y="160"/>
                  <a:pt x="1701" y="351"/>
                  <a:pt x="1568" y="443"/>
                </a:cubicBezTo>
                <a:cubicBezTo>
                  <a:pt x="1562" y="452"/>
                  <a:pt x="1558" y="462"/>
                  <a:pt x="1550" y="469"/>
                </a:cubicBezTo>
                <a:cubicBezTo>
                  <a:pt x="1534" y="483"/>
                  <a:pt x="1497" y="505"/>
                  <a:pt x="1497" y="505"/>
                </a:cubicBezTo>
                <a:cubicBezTo>
                  <a:pt x="1468" y="546"/>
                  <a:pt x="1489" y="528"/>
                  <a:pt x="1426" y="549"/>
                </a:cubicBezTo>
                <a:cubicBezTo>
                  <a:pt x="1416" y="552"/>
                  <a:pt x="1409" y="563"/>
                  <a:pt x="1399" y="567"/>
                </a:cubicBezTo>
                <a:cubicBezTo>
                  <a:pt x="1382" y="575"/>
                  <a:pt x="1362" y="575"/>
                  <a:pt x="1346" y="585"/>
                </a:cubicBezTo>
                <a:cubicBezTo>
                  <a:pt x="1337" y="591"/>
                  <a:pt x="1329" y="598"/>
                  <a:pt x="1320" y="602"/>
                </a:cubicBezTo>
                <a:cubicBezTo>
                  <a:pt x="1303" y="610"/>
                  <a:pt x="1266" y="620"/>
                  <a:pt x="1266" y="620"/>
                </a:cubicBezTo>
                <a:cubicBezTo>
                  <a:pt x="1250" y="631"/>
                  <a:pt x="1229" y="635"/>
                  <a:pt x="1213" y="647"/>
                </a:cubicBezTo>
                <a:cubicBezTo>
                  <a:pt x="1205" y="653"/>
                  <a:pt x="1204" y="667"/>
                  <a:pt x="1196" y="673"/>
                </a:cubicBezTo>
                <a:cubicBezTo>
                  <a:pt x="1189" y="679"/>
                  <a:pt x="1177" y="677"/>
                  <a:pt x="1169" y="682"/>
                </a:cubicBezTo>
                <a:cubicBezTo>
                  <a:pt x="1082" y="731"/>
                  <a:pt x="1148" y="708"/>
                  <a:pt x="1089" y="726"/>
                </a:cubicBezTo>
                <a:cubicBezTo>
                  <a:pt x="1029" y="768"/>
                  <a:pt x="916" y="793"/>
                  <a:pt x="841" y="806"/>
                </a:cubicBezTo>
                <a:cubicBezTo>
                  <a:pt x="808" y="828"/>
                  <a:pt x="747" y="855"/>
                  <a:pt x="708" y="868"/>
                </a:cubicBezTo>
                <a:cubicBezTo>
                  <a:pt x="680" y="887"/>
                  <a:pt x="611" y="918"/>
                  <a:pt x="575" y="930"/>
                </a:cubicBezTo>
                <a:cubicBezTo>
                  <a:pt x="506" y="978"/>
                  <a:pt x="591" y="922"/>
                  <a:pt x="522" y="957"/>
                </a:cubicBezTo>
                <a:cubicBezTo>
                  <a:pt x="490" y="973"/>
                  <a:pt x="477" y="998"/>
                  <a:pt x="442" y="1010"/>
                </a:cubicBezTo>
                <a:cubicBezTo>
                  <a:pt x="403" y="1050"/>
                  <a:pt x="385" y="1046"/>
                  <a:pt x="327" y="1054"/>
                </a:cubicBezTo>
                <a:cubicBezTo>
                  <a:pt x="233" y="1051"/>
                  <a:pt x="138" y="1050"/>
                  <a:pt x="44" y="1045"/>
                </a:cubicBezTo>
                <a:cubicBezTo>
                  <a:pt x="35" y="1044"/>
                  <a:pt x="19" y="1046"/>
                  <a:pt x="17" y="1037"/>
                </a:cubicBezTo>
                <a:cubicBezTo>
                  <a:pt x="0" y="972"/>
                  <a:pt x="51" y="975"/>
                  <a:pt x="17" y="975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5181480" y="685800"/>
            <a:ext cx="16002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9"/>
          <p:cNvSpPr/>
          <p:nvPr/>
        </p:nvSpPr>
        <p:spPr>
          <a:xfrm>
            <a:off x="3733920" y="5257800"/>
            <a:ext cx="1295280" cy="99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1"/>
          <p:cNvSpPr/>
          <p:nvPr/>
        </p:nvSpPr>
        <p:spPr>
          <a:xfrm>
            <a:off x="2895480" y="0"/>
            <a:ext cx="838440" cy="533520"/>
          </a:xfrm>
          <a:prstGeom prst="hexagon">
            <a:avLst>
              <a:gd name="adj" fmla="val 3928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048120" y="68580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Х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"/>
          <p:cNvSpPr/>
          <p:nvPr/>
        </p:nvSpPr>
        <p:spPr>
          <a:xfrm>
            <a:off x="838080" y="2819520"/>
            <a:ext cx="30492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9"/>
          <p:cNvSpPr/>
          <p:nvPr/>
        </p:nvSpPr>
        <p:spPr>
          <a:xfrm>
            <a:off x="1295280" y="3200400"/>
            <a:ext cx="38124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0"/>
          <p:cNvSpPr/>
          <p:nvPr/>
        </p:nvSpPr>
        <p:spPr>
          <a:xfrm>
            <a:off x="1066680" y="617220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1371600" y="6324480"/>
            <a:ext cx="22860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4"/>
          <p:cNvSpPr/>
          <p:nvPr/>
        </p:nvSpPr>
        <p:spPr>
          <a:xfrm>
            <a:off x="1828800" y="6553080"/>
            <a:ext cx="30492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ree"/>
          <p:cNvSpPr/>
          <p:nvPr/>
        </p:nvSpPr>
        <p:spPr>
          <a:xfrm>
            <a:off x="4648320" y="41911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ree"/>
          <p:cNvSpPr/>
          <p:nvPr/>
        </p:nvSpPr>
        <p:spPr>
          <a:xfrm>
            <a:off x="6248520" y="39625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ree"/>
          <p:cNvSpPr/>
          <p:nvPr/>
        </p:nvSpPr>
        <p:spPr>
          <a:xfrm>
            <a:off x="7467480" y="3429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0"/>
          <p:cNvSpPr/>
          <p:nvPr/>
        </p:nvSpPr>
        <p:spPr>
          <a:xfrm>
            <a:off x="6858000" y="4419720"/>
            <a:ext cx="838080" cy="533160"/>
          </a:xfrm>
          <a:prstGeom prst="hexagon">
            <a:avLst>
              <a:gd name="adj" fmla="val 3929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2"/>
          <p:cNvSpPr/>
          <p:nvPr/>
        </p:nvSpPr>
        <p:spPr>
          <a:xfrm>
            <a:off x="7391520" y="518148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8600" y="1371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времени и сроков пр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438280" y="4572000"/>
            <a:ext cx="419112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трен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362320" y="2895480"/>
            <a:ext cx="434340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ежда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315200" y="304920"/>
            <a:ext cx="144792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09480" y="609480"/>
            <a:ext cx="79250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развития ЧС и численности выводимого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1828800"/>
            <a:ext cx="8610480" cy="1076760"/>
          </a:xfrm>
          <a:prstGeom prst="rect">
            <a:avLst/>
          </a:prstGeom>
          <a:gradFill rotWithShape="0">
            <a:gsLst>
              <a:gs pos="0">
                <a:srgbClr val="a9a944"/>
              </a:gs>
              <a:gs pos="50000">
                <a:srgbClr val="ffff66"/>
              </a:gs>
              <a:gs pos="100000">
                <a:srgbClr val="a9a9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Лок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д. гор. м/районы, сельские Н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до неск. дес.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3429000"/>
            <a:ext cx="8610480" cy="12103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ст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редние города, р-ны крупных го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 неск. тыс  до десятков     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5257800"/>
            <a:ext cx="8686800" cy="10447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ег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территория одного или нескольких регионов с высокой плотностью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7162920" y="152280"/>
            <a:ext cx="1600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391520" y="304920"/>
            <a:ext cx="14475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457200" y="914400"/>
            <a:ext cx="8305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 зависимости от охвата эвакуационными мероприятиям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80880" y="2666880"/>
            <a:ext cx="8458200" cy="14043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б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всего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80880" y="4495680"/>
            <a:ext cx="8458200" cy="9651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3200" indent="-2473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Частич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населения, наиболее подверженного воздействию ПФ Ч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80880" y="1295280"/>
            <a:ext cx="84582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Право принятия  решения на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 ОИ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убъектов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органов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ДДС  ПО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экстренная эвакуация локального характера         (при необходимост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238880" y="41400"/>
            <a:ext cx="1654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840" y="-149400"/>
            <a:ext cx="9060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посредственно организу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обеспечив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у и проведение эвакуаци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бота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д непосредственным руководств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тветствующих начальников 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здаю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заблаговременно (в мирное врем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административно-территориальн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ниях, проводящих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11120" y="2308320"/>
            <a:ext cx="346248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тивны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вывозу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218200" y="2308320"/>
            <a:ext cx="351936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управления н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ших маршрутах эваку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272200" y="3797280"/>
            <a:ext cx="34034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ем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14360" y="3797280"/>
            <a:ext cx="34052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оприем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74760" y="720720"/>
            <a:ext cx="3547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уацио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197320" y="720720"/>
            <a:ext cx="349092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078000" y="5276880"/>
            <a:ext cx="2971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П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ежут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 эвак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181160" y="0"/>
            <a:ext cx="6819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0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911160"/>
            <a:ext cx="9236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 коми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ые, объектов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инистерств  (ведомст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щее руковод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ведением эвакомероприятий и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тегорированных городов, подведомствен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рганизаций и учрежд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0880" y="100080"/>
            <a:ext cx="85446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СЭ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сборные эвакуационные пунк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сбора, учета эвакуируем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я и организованной отправки его в З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-  вблизи пунктов посадки на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 начале маршрутов пешей эвакуации, как правил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зданиях общественного назначен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СЭП обеспечивается связью  с  районной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, пунктом  посадки (станцией,  пристанью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ходным пунктом на маршруте пешей эвакуа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органами в загородной зоне.  Ему  присва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 и  за  ним закрепляются автомобильный транспор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оженные вблизи защитные сооружения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ующие объекты экономики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писка населения к СЭП не более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4000-50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защите населения и территорий от чрезвычайных ситуаций природного и техногенного характера» от 21.12.94 № 6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ложение о единой государственной системе по предупреждению и ликвидации чрезвычайных ситуаций (РСЧС)». Пост. Пр. Р Фот 5.11.1995 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11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гражданской обороне» от 12.02.98 № 2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ива Начальника ГО РФ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эвакуации населения в чрезвычайных ситуациях природного и техногенного характера, ВНИИ ГОЧС, 1996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организации планирования, обеспечения и проведения эвакуации населения в военное время, ВНИИ ГОЧС,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65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64760" y="0"/>
            <a:ext cx="842544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Начальники маршрутов пешей эвакуац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групп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управления движением пеших колонн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ания порядка на маршрутах назнач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язан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одготовке и поддержанию маршрутов в исправ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и, ведению радиационной, химической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женерной разведки, оказанию медицинской помощ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болевшим.В состав группы управления входя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предприятий и организаций, персона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х выводится по данному маршруту, представ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ов местного самоупраления районов загород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ы, по территориям которых проходят маршру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и маршрутов размещаются   на исх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нктах маршрутов и организуют   выполнение зада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ом патрулирования по маршрут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1006560"/>
            <a:ext cx="8534160" cy="4360680"/>
          </a:xfrm>
          <a:prstGeom prst="rect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Э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приемные эвакуационные  пункт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приема,учета и  разме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бывающего  эваконаселения.  Он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вблизи пунктов высадк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ПЭП отводятся общественные и  администр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вные здания. Местным транспортом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шими колоннами эвакона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зится (выводится) с ПЭП в ме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ого разм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28600" y="-34920"/>
            <a:ext cx="86868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перативные групп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ются  с целью  ускорения выво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ого населения из  населенных пун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раничной з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 формируются из представителей орга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ного самоуправления, офицеров ОУ ГОЧ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рганов военного 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 выполняют комплексную задач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вещение, транспортное обеспече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эваконаселения по транспор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м и организация посад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ение эвакоколонн  по маршрута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размещения и первоочеред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уирован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885240" y="701640"/>
            <a:ext cx="73587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оприемные комисс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т при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 и организацию первоочеред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о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комиссии и эвакоприемные коми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главляются заместителями соответствующ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ов гражданской обор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и же (начальники ГО) определяют числ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остав комиссий в зависимости от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лагаемых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90920" y="-4680"/>
            <a:ext cx="71715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П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ромежуточные пункты  эвакуации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ются  при проведении эвакуации в два эта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едназначаются для кратковрем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эваконаселения за предел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сных зон и отправки его в места постоя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в загородной з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ПЭ размещаются вблизи железнодорожны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обильных и водных путей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их производится перерегистр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населения, а при необходимости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зиметрический и химический контрол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ая обработка, а также обмен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обработка одежды и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-63360"/>
            <a:ext cx="8991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ланирова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еспечение и пр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акуационных мероприятий осуществля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заимодействии с органами во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правления по вопрос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ыделения транспортных средств для обеспечения эвакоперевоз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Совместного использования транспортных коммуникаций (железнодорожных, автомобильных, воздушных и водных пу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бщен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Выделения сил и средств для совместного регулирования движения на маршрутах эвакуации и обеспечения охраны общественного поряд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  Ведения всех видов развед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  Выделения сил и средств для инженерного  обеспечения эвакуации, противорадиационной    и противохимической защиты населения, санитарно-противоэпидемических и лечебно-   профилактических мероприят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  Возможности использования военных городков и оставляемого войсками имущества (оборудования) для размещения и    первоочередного жизнеобеспечения эваконаселения в загородной зо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  Согласования районов размещения эваконаселения в загородной зо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9436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пособы защиты насел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" y="1143000"/>
            <a:ext cx="822960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ытие в ЗС 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также  в метрополитена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ных выработках и других приспособле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укрытия  для людей защитных соору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7200" y="3200400"/>
            <a:ext cx="822960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Эвакуация населения из опасных зон 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змещение его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редств индивидуальной защи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медицинских средств индивидуальной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щ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цели проведения эвакомероприят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4038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52280" y="149544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ижение вероятных потерь населения категорированных городов и сохранение квалифицированных кадров специалис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функционирования объектов экономики, продолжающих свою производственную деятельность в военное врем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ловий создания группировок сил  и средств гражданской обороны в загородной зо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44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152280" y="304920"/>
            <a:ext cx="8839440" cy="64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эвакомероприятия планируются из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Город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отнесенных к группам по гражданской оборон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Населенных пункт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имеющи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объекты особой важности (ООВ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железнодорожные станции 1-й категории по ГО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ложенны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ых сильных разрушений (ЗВСР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приграничных  зона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ого катастрофического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топления    (ЗВКЗ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48"/>
          <p:cNvSpPr/>
          <p:nvPr/>
        </p:nvSpPr>
        <p:spPr>
          <a:xfrm>
            <a:off x="304920" y="3124080"/>
            <a:ext cx="1523880" cy="16765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ree"/>
          <p:cNvSpPr/>
          <p:nvPr/>
        </p:nvSpPr>
        <p:spPr>
          <a:xfrm>
            <a:off x="3352680" y="4572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-304920" y="990720"/>
            <a:ext cx="1524240" cy="144756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нес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 группе по 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838080" y="3657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 rot="20888400">
            <a:off x="380520" y="411480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 rot="20802600">
            <a:off x="380880" y="434304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2"/>
          <p:cNvSpPr/>
          <p:nvPr/>
        </p:nvSpPr>
        <p:spPr>
          <a:xfrm>
            <a:off x="5029200" y="4724280"/>
            <a:ext cx="4191120" cy="22860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592" h="1536">
                <a:moveTo>
                  <a:pt x="0" y="1536"/>
                </a:moveTo>
                <a:cubicBezTo>
                  <a:pt x="9" y="1523"/>
                  <a:pt x="15" y="1508"/>
                  <a:pt x="27" y="1497"/>
                </a:cubicBezTo>
                <a:cubicBezTo>
                  <a:pt x="42" y="1483"/>
                  <a:pt x="78" y="1493"/>
                  <a:pt x="78" y="1463"/>
                </a:cubicBezTo>
                <a:lnTo>
                  <a:pt x="1393" y="1067"/>
                </a:lnTo>
                <a:lnTo>
                  <a:pt x="2160" y="528"/>
                </a:lnTo>
                <a:lnTo>
                  <a:pt x="2592" y="0"/>
                </a:lnTo>
              </a:path>
            </a:pathLst>
          </a:custGeom>
          <a:noFill/>
          <a:ln w="79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3"/>
          <p:cNvSpPr/>
          <p:nvPr/>
        </p:nvSpPr>
        <p:spPr>
          <a:xfrm>
            <a:off x="5105520" y="4572000"/>
            <a:ext cx="4179600" cy="2438280"/>
          </a:xfrm>
          <a:custGeom>
            <a:avLst/>
            <a:gdLst>
              <a:gd name="textAreaLeft" fmla="*/ 0 w 4179600"/>
              <a:gd name="textAreaRight" fmla="*/ 4179960 w 41796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633" h="1536">
                <a:moveTo>
                  <a:pt x="41" y="1536"/>
                </a:moveTo>
                <a:cubicBezTo>
                  <a:pt x="43" y="1530"/>
                  <a:pt x="0" y="1494"/>
                  <a:pt x="6" y="1475"/>
                </a:cubicBezTo>
                <a:cubicBezTo>
                  <a:pt x="12" y="1456"/>
                  <a:pt x="56" y="1426"/>
                  <a:pt x="75" y="1424"/>
                </a:cubicBezTo>
                <a:cubicBezTo>
                  <a:pt x="90" y="1410"/>
                  <a:pt x="119" y="1493"/>
                  <a:pt x="119" y="1463"/>
                </a:cubicBezTo>
                <a:lnTo>
                  <a:pt x="358" y="1381"/>
                </a:lnTo>
                <a:lnTo>
                  <a:pt x="1434" y="1067"/>
                </a:lnTo>
                <a:lnTo>
                  <a:pt x="1966" y="701"/>
                </a:lnTo>
                <a:lnTo>
                  <a:pt x="2138" y="572"/>
                </a:lnTo>
                <a:lnTo>
                  <a:pt x="2201" y="528"/>
                </a:lnTo>
                <a:lnTo>
                  <a:pt x="2535" y="143"/>
                </a:lnTo>
                <a:lnTo>
                  <a:pt x="2633" y="0"/>
                </a:lnTo>
              </a:path>
            </a:pathLst>
          </a:custGeom>
          <a:noFill/>
          <a:ln w="50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5"/>
          <p:cNvSpPr/>
          <p:nvPr/>
        </p:nvSpPr>
        <p:spPr>
          <a:xfrm>
            <a:off x="7792920" y="6032520"/>
            <a:ext cx="1365480" cy="49068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26"/>
          <p:cNvSpPr/>
          <p:nvPr/>
        </p:nvSpPr>
        <p:spPr>
          <a:xfrm>
            <a:off x="7772400" y="6019920"/>
            <a:ext cx="1365120" cy="490320"/>
          </a:xfrm>
          <a:custGeom>
            <a:avLst/>
            <a:gdLst>
              <a:gd name="textAreaLeft" fmla="*/ 0 w 1365120"/>
              <a:gd name="textAreaRight" fmla="*/ 1365120 w 136512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7"/>
          <p:cNvSpPr/>
          <p:nvPr/>
        </p:nvSpPr>
        <p:spPr>
          <a:xfrm rot="19861800">
            <a:off x="7180200" y="601308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469640" y="617220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.д. с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-304920" y="5562720"/>
            <a:ext cx="2170080" cy="1663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560"/>
              <a:gd name="textAreaBottom" fmla="*/ 1663920 h 166356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0" y="5200560"/>
            <a:ext cx="2170080" cy="1663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457200" y="594360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6094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36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Freeform 37"/>
          <p:cNvSpPr/>
          <p:nvPr/>
        </p:nvSpPr>
        <p:spPr>
          <a:xfrm>
            <a:off x="6810480" y="1014480"/>
            <a:ext cx="2531880" cy="18921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8"/>
          <p:cNvSpPr/>
          <p:nvPr/>
        </p:nvSpPr>
        <p:spPr>
          <a:xfrm rot="17860200">
            <a:off x="6441840" y="1389960"/>
            <a:ext cx="7621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8001000" y="22096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8153280" y="21337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1"/>
          <p:cNvSpPr/>
          <p:nvPr/>
        </p:nvSpPr>
        <p:spPr>
          <a:xfrm>
            <a:off x="7772400" y="1752480"/>
            <a:ext cx="45720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090040" y="6206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7148160" y="17906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823680" y="62103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П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67816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6629400" y="62485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7086600" y="58672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1449720" y="3733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3719160" y="3089160"/>
            <a:ext cx="164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агород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ree"/>
          <p:cNvSpPr/>
          <p:nvPr/>
        </p:nvSpPr>
        <p:spPr>
          <a:xfrm>
            <a:off x="6172200" y="3200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54"/>
          <p:cNvGraphicFramePr/>
          <p:nvPr/>
        </p:nvGraphicFramePr>
        <p:xfrm>
          <a:off x="5105520" y="5105520"/>
          <a:ext cx="30456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105520"/>
                    <a:ext cx="3045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5"/>
          <p:cNvGraphicFramePr/>
          <p:nvPr/>
        </p:nvGraphicFramePr>
        <p:xfrm>
          <a:off x="5715000" y="2590920"/>
          <a:ext cx="304920" cy="45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5909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6"/>
          <p:cNvGraphicFramePr/>
          <p:nvPr/>
        </p:nvGraphicFramePr>
        <p:xfrm>
          <a:off x="5638680" y="4191120"/>
          <a:ext cx="30492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41911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7"/>
          <p:cNvGraphicFramePr/>
          <p:nvPr/>
        </p:nvGraphicFramePr>
        <p:xfrm>
          <a:off x="5867280" y="4800600"/>
          <a:ext cx="304920" cy="4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4800600"/>
                    <a:ext cx="3049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58"/>
          <p:cNvSpPr/>
          <p:nvPr/>
        </p:nvSpPr>
        <p:spPr>
          <a:xfrm>
            <a:off x="522360" y="414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Эвакуация проводится 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/>
          <p:cNvSpPr/>
          <p:nvPr/>
        </p:nvSpPr>
        <p:spPr>
          <a:xfrm rot="7141800">
            <a:off x="7467120" y="25905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rot="14042400">
            <a:off x="6324120" y="548568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5"/>
          <p:cNvSpPr/>
          <p:nvPr/>
        </p:nvSpPr>
        <p:spPr>
          <a:xfrm rot="18906000">
            <a:off x="685800" y="55623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6"/>
          <p:cNvSpPr/>
          <p:nvPr/>
        </p:nvSpPr>
        <p:spPr>
          <a:xfrm rot="4610400">
            <a:off x="6850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7"/>
          <p:cNvSpPr/>
          <p:nvPr/>
        </p:nvSpPr>
        <p:spPr>
          <a:xfrm rot="21595200">
            <a:off x="1066680" y="160020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43080" y="266760"/>
            <a:ext cx="8483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3314880" y="1320840"/>
            <a:ext cx="2463480" cy="143496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tile tx="0" ty="0" sx="100000" sy="100000" algn="ctr"/>
          </a:blipFill>
          <a:ln cap="sq" w="57240">
            <a:solidFill>
              <a:srgbClr val="000000"/>
            </a:solidFill>
            <a:miter/>
          </a:ln>
          <a:effectLst>
            <a:outerShdw dist="233089" dir="1764935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тнесе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групп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 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97480" y="2336760"/>
            <a:ext cx="762120" cy="3430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905440" y="1003320"/>
            <a:ext cx="2679840" cy="647640"/>
          </a:xfrm>
          <a:prstGeom prst="wedgeRectCallout">
            <a:avLst>
              <a:gd name="adj1" fmla="val -53967"/>
              <a:gd name="adj2" fmla="val 85782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625840" y="971640"/>
            <a:ext cx="183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986440" y="97956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аница проект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стро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851040" y="4572000"/>
            <a:ext cx="1498320" cy="1320840"/>
          </a:xfrm>
          <a:prstGeom prst="hexagon">
            <a:avLst>
              <a:gd name="adj" fmla="val 2835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261781" dir="2348383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254160" y="3886200"/>
            <a:ext cx="2603520" cy="27176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502000" y="5651640"/>
            <a:ext cx="761760" cy="3427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2197080" y="4673520"/>
            <a:ext cx="533520" cy="292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035160" y="3606840"/>
            <a:ext cx="965520" cy="342720"/>
          </a:xfrm>
          <a:prstGeom prst="wedgeRectCallout">
            <a:avLst>
              <a:gd name="adj1" fmla="val -118092"/>
              <a:gd name="adj2" fmla="val 306944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172320" y="35575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181160" y="5041800"/>
            <a:ext cx="914400" cy="444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О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549600" y="133200"/>
            <a:ext cx="1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 В С 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2"/>
          <p:cNvSpPr/>
          <p:nvPr/>
        </p:nvSpPr>
        <p:spPr>
          <a:xfrm>
            <a:off x="-30240" y="1587600"/>
            <a:ext cx="9186840" cy="1904760"/>
          </a:xfrm>
          <a:custGeom>
            <a:avLst/>
            <a:gdLst>
              <a:gd name="textAreaLeft" fmla="*/ 0 w 9186840"/>
              <a:gd name="textAreaRight" fmla="*/ 9187200 w 918684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5787" h="1200">
                <a:moveTo>
                  <a:pt x="211" y="384"/>
                </a:moveTo>
                <a:cubicBezTo>
                  <a:pt x="327" y="389"/>
                  <a:pt x="439" y="399"/>
                  <a:pt x="555" y="408"/>
                </a:cubicBezTo>
                <a:cubicBezTo>
                  <a:pt x="642" y="451"/>
                  <a:pt x="731" y="465"/>
                  <a:pt x="827" y="472"/>
                </a:cubicBezTo>
                <a:cubicBezTo>
                  <a:pt x="905" y="466"/>
                  <a:pt x="970" y="464"/>
                  <a:pt x="1043" y="440"/>
                </a:cubicBezTo>
                <a:cubicBezTo>
                  <a:pt x="1069" y="431"/>
                  <a:pt x="1115" y="400"/>
                  <a:pt x="1115" y="400"/>
                </a:cubicBezTo>
                <a:cubicBezTo>
                  <a:pt x="1179" y="304"/>
                  <a:pt x="1080" y="445"/>
                  <a:pt x="1155" y="360"/>
                </a:cubicBezTo>
                <a:cubicBezTo>
                  <a:pt x="1189" y="321"/>
                  <a:pt x="1200" y="271"/>
                  <a:pt x="1235" y="232"/>
                </a:cubicBezTo>
                <a:cubicBezTo>
                  <a:pt x="1250" y="215"/>
                  <a:pt x="1264" y="197"/>
                  <a:pt x="1283" y="184"/>
                </a:cubicBezTo>
                <a:cubicBezTo>
                  <a:pt x="1299" y="173"/>
                  <a:pt x="1331" y="152"/>
                  <a:pt x="1331" y="152"/>
                </a:cubicBezTo>
                <a:cubicBezTo>
                  <a:pt x="1369" y="94"/>
                  <a:pt x="1315" y="165"/>
                  <a:pt x="1395" y="112"/>
                </a:cubicBezTo>
                <a:cubicBezTo>
                  <a:pt x="1466" y="65"/>
                  <a:pt x="1567" y="52"/>
                  <a:pt x="1651" y="40"/>
                </a:cubicBezTo>
                <a:cubicBezTo>
                  <a:pt x="1709" y="21"/>
                  <a:pt x="1767" y="12"/>
                  <a:pt x="1827" y="0"/>
                </a:cubicBezTo>
                <a:cubicBezTo>
                  <a:pt x="1960" y="3"/>
                  <a:pt x="2094" y="3"/>
                  <a:pt x="2227" y="8"/>
                </a:cubicBezTo>
                <a:cubicBezTo>
                  <a:pt x="2325" y="12"/>
                  <a:pt x="2403" y="83"/>
                  <a:pt x="2491" y="112"/>
                </a:cubicBezTo>
                <a:cubicBezTo>
                  <a:pt x="2519" y="154"/>
                  <a:pt x="2509" y="182"/>
                  <a:pt x="2523" y="232"/>
                </a:cubicBezTo>
                <a:cubicBezTo>
                  <a:pt x="2526" y="241"/>
                  <a:pt x="2535" y="247"/>
                  <a:pt x="2539" y="256"/>
                </a:cubicBezTo>
                <a:cubicBezTo>
                  <a:pt x="2561" y="305"/>
                  <a:pt x="2564" y="361"/>
                  <a:pt x="2611" y="392"/>
                </a:cubicBezTo>
                <a:cubicBezTo>
                  <a:pt x="2616" y="400"/>
                  <a:pt x="2620" y="409"/>
                  <a:pt x="2627" y="416"/>
                </a:cubicBezTo>
                <a:cubicBezTo>
                  <a:pt x="2634" y="423"/>
                  <a:pt x="2645" y="424"/>
                  <a:pt x="2651" y="432"/>
                </a:cubicBezTo>
                <a:cubicBezTo>
                  <a:pt x="2656" y="439"/>
                  <a:pt x="2653" y="450"/>
                  <a:pt x="2659" y="456"/>
                </a:cubicBezTo>
                <a:cubicBezTo>
                  <a:pt x="2691" y="488"/>
                  <a:pt x="2703" y="487"/>
                  <a:pt x="2739" y="496"/>
                </a:cubicBezTo>
                <a:cubicBezTo>
                  <a:pt x="2967" y="489"/>
                  <a:pt x="3191" y="466"/>
                  <a:pt x="3419" y="456"/>
                </a:cubicBezTo>
                <a:cubicBezTo>
                  <a:pt x="3510" y="441"/>
                  <a:pt x="3603" y="445"/>
                  <a:pt x="3691" y="416"/>
                </a:cubicBezTo>
                <a:cubicBezTo>
                  <a:pt x="3848" y="419"/>
                  <a:pt x="4006" y="417"/>
                  <a:pt x="4163" y="424"/>
                </a:cubicBezTo>
                <a:cubicBezTo>
                  <a:pt x="4206" y="426"/>
                  <a:pt x="4260" y="457"/>
                  <a:pt x="4299" y="472"/>
                </a:cubicBezTo>
                <a:cubicBezTo>
                  <a:pt x="4374" y="500"/>
                  <a:pt x="4497" y="508"/>
                  <a:pt x="4579" y="520"/>
                </a:cubicBezTo>
                <a:cubicBezTo>
                  <a:pt x="4765" y="516"/>
                  <a:pt x="4904" y="515"/>
                  <a:pt x="5075" y="496"/>
                </a:cubicBezTo>
                <a:cubicBezTo>
                  <a:pt x="5283" y="427"/>
                  <a:pt x="5469" y="422"/>
                  <a:pt x="5691" y="408"/>
                </a:cubicBezTo>
                <a:cubicBezTo>
                  <a:pt x="5732" y="398"/>
                  <a:pt x="5770" y="381"/>
                  <a:pt x="5787" y="432"/>
                </a:cubicBezTo>
                <a:cubicBezTo>
                  <a:pt x="5784" y="472"/>
                  <a:pt x="5786" y="512"/>
                  <a:pt x="5779" y="552"/>
                </a:cubicBezTo>
                <a:cubicBezTo>
                  <a:pt x="5777" y="561"/>
                  <a:pt x="5767" y="585"/>
                  <a:pt x="5763" y="576"/>
                </a:cubicBezTo>
                <a:cubicBezTo>
                  <a:pt x="5757" y="564"/>
                  <a:pt x="5768" y="549"/>
                  <a:pt x="5771" y="536"/>
                </a:cubicBezTo>
                <a:cubicBezTo>
                  <a:pt x="5713" y="517"/>
                  <a:pt x="5737" y="566"/>
                  <a:pt x="5691" y="568"/>
                </a:cubicBezTo>
                <a:cubicBezTo>
                  <a:pt x="5558" y="573"/>
                  <a:pt x="5424" y="573"/>
                  <a:pt x="5291" y="576"/>
                </a:cubicBezTo>
                <a:cubicBezTo>
                  <a:pt x="5283" y="584"/>
                  <a:pt x="5277" y="595"/>
                  <a:pt x="5267" y="600"/>
                </a:cubicBezTo>
                <a:cubicBezTo>
                  <a:pt x="5247" y="611"/>
                  <a:pt x="5210" y="617"/>
                  <a:pt x="5187" y="624"/>
                </a:cubicBezTo>
                <a:cubicBezTo>
                  <a:pt x="5146" y="636"/>
                  <a:pt x="5139" y="648"/>
                  <a:pt x="5091" y="656"/>
                </a:cubicBezTo>
                <a:cubicBezTo>
                  <a:pt x="4833" y="651"/>
                  <a:pt x="4586" y="642"/>
                  <a:pt x="4331" y="624"/>
                </a:cubicBezTo>
                <a:cubicBezTo>
                  <a:pt x="4122" y="520"/>
                  <a:pt x="3792" y="571"/>
                  <a:pt x="3611" y="568"/>
                </a:cubicBezTo>
                <a:cubicBezTo>
                  <a:pt x="3323" y="573"/>
                  <a:pt x="3003" y="566"/>
                  <a:pt x="2715" y="624"/>
                </a:cubicBezTo>
                <a:cubicBezTo>
                  <a:pt x="2698" y="650"/>
                  <a:pt x="2687" y="681"/>
                  <a:pt x="2667" y="704"/>
                </a:cubicBezTo>
                <a:cubicBezTo>
                  <a:pt x="2652" y="721"/>
                  <a:pt x="2619" y="752"/>
                  <a:pt x="2619" y="752"/>
                </a:cubicBezTo>
                <a:cubicBezTo>
                  <a:pt x="2609" y="782"/>
                  <a:pt x="2591" y="804"/>
                  <a:pt x="2579" y="832"/>
                </a:cubicBezTo>
                <a:cubicBezTo>
                  <a:pt x="2569" y="855"/>
                  <a:pt x="2563" y="880"/>
                  <a:pt x="2555" y="904"/>
                </a:cubicBezTo>
                <a:cubicBezTo>
                  <a:pt x="2540" y="948"/>
                  <a:pt x="2461" y="1002"/>
                  <a:pt x="2419" y="1016"/>
                </a:cubicBezTo>
                <a:cubicBezTo>
                  <a:pt x="2342" y="1093"/>
                  <a:pt x="2440" y="1002"/>
                  <a:pt x="2371" y="1048"/>
                </a:cubicBezTo>
                <a:cubicBezTo>
                  <a:pt x="2323" y="1080"/>
                  <a:pt x="2373" y="1067"/>
                  <a:pt x="2315" y="1096"/>
                </a:cubicBezTo>
                <a:cubicBezTo>
                  <a:pt x="2217" y="1145"/>
                  <a:pt x="2097" y="1117"/>
                  <a:pt x="1987" y="1120"/>
                </a:cubicBezTo>
                <a:cubicBezTo>
                  <a:pt x="1929" y="1178"/>
                  <a:pt x="1864" y="1170"/>
                  <a:pt x="1787" y="1184"/>
                </a:cubicBezTo>
                <a:cubicBezTo>
                  <a:pt x="1765" y="1188"/>
                  <a:pt x="1723" y="1200"/>
                  <a:pt x="1723" y="1200"/>
                </a:cubicBezTo>
                <a:cubicBezTo>
                  <a:pt x="1582" y="1192"/>
                  <a:pt x="1497" y="1198"/>
                  <a:pt x="1379" y="1168"/>
                </a:cubicBezTo>
                <a:cubicBezTo>
                  <a:pt x="1357" y="1153"/>
                  <a:pt x="1331" y="1139"/>
                  <a:pt x="1307" y="1128"/>
                </a:cubicBezTo>
                <a:cubicBezTo>
                  <a:pt x="1292" y="1121"/>
                  <a:pt x="1259" y="1112"/>
                  <a:pt x="1259" y="1112"/>
                </a:cubicBezTo>
                <a:cubicBezTo>
                  <a:pt x="1223" y="1058"/>
                  <a:pt x="1265" y="1111"/>
                  <a:pt x="1219" y="1080"/>
                </a:cubicBezTo>
                <a:cubicBezTo>
                  <a:pt x="1210" y="1074"/>
                  <a:pt x="1205" y="1062"/>
                  <a:pt x="1195" y="1056"/>
                </a:cubicBezTo>
                <a:cubicBezTo>
                  <a:pt x="1147" y="1026"/>
                  <a:pt x="1103" y="1017"/>
                  <a:pt x="1051" y="1000"/>
                </a:cubicBezTo>
                <a:cubicBezTo>
                  <a:pt x="977" y="975"/>
                  <a:pt x="943" y="888"/>
                  <a:pt x="883" y="848"/>
                </a:cubicBezTo>
                <a:cubicBezTo>
                  <a:pt x="878" y="840"/>
                  <a:pt x="871" y="833"/>
                  <a:pt x="867" y="824"/>
                </a:cubicBezTo>
                <a:cubicBezTo>
                  <a:pt x="863" y="816"/>
                  <a:pt x="865" y="806"/>
                  <a:pt x="859" y="800"/>
                </a:cubicBezTo>
                <a:cubicBezTo>
                  <a:pt x="839" y="780"/>
                  <a:pt x="811" y="768"/>
                  <a:pt x="787" y="752"/>
                </a:cubicBezTo>
                <a:cubicBezTo>
                  <a:pt x="773" y="743"/>
                  <a:pt x="755" y="741"/>
                  <a:pt x="739" y="736"/>
                </a:cubicBezTo>
                <a:cubicBezTo>
                  <a:pt x="721" y="730"/>
                  <a:pt x="691" y="704"/>
                  <a:pt x="691" y="704"/>
                </a:cubicBezTo>
                <a:cubicBezTo>
                  <a:pt x="678" y="684"/>
                  <a:pt x="655" y="615"/>
                  <a:pt x="635" y="608"/>
                </a:cubicBezTo>
                <a:cubicBezTo>
                  <a:pt x="584" y="591"/>
                  <a:pt x="529" y="550"/>
                  <a:pt x="475" y="544"/>
                </a:cubicBezTo>
                <a:cubicBezTo>
                  <a:pt x="419" y="538"/>
                  <a:pt x="363" y="539"/>
                  <a:pt x="307" y="536"/>
                </a:cubicBezTo>
                <a:cubicBezTo>
                  <a:pt x="208" y="519"/>
                  <a:pt x="118" y="484"/>
                  <a:pt x="19" y="464"/>
                </a:cubicBezTo>
                <a:cubicBezTo>
                  <a:pt x="13" y="445"/>
                  <a:pt x="0" y="419"/>
                  <a:pt x="19" y="400"/>
                </a:cubicBezTo>
                <a:cubicBezTo>
                  <a:pt x="31" y="388"/>
                  <a:pt x="67" y="384"/>
                  <a:pt x="67" y="384"/>
                </a:cubicBezTo>
                <a:cubicBezTo>
                  <a:pt x="51" y="381"/>
                  <a:pt x="32" y="385"/>
                  <a:pt x="19" y="376"/>
                </a:cubicBezTo>
                <a:cubicBezTo>
                  <a:pt x="12" y="371"/>
                  <a:pt x="35" y="368"/>
                  <a:pt x="43" y="368"/>
                </a:cubicBezTo>
                <a:cubicBezTo>
                  <a:pt x="62" y="368"/>
                  <a:pt x="80" y="373"/>
                  <a:pt x="99" y="376"/>
                </a:cubicBezTo>
                <a:cubicBezTo>
                  <a:pt x="171" y="400"/>
                  <a:pt x="238" y="408"/>
                  <a:pt x="315" y="408"/>
                </a:cubicBezTo>
                <a:lnTo>
                  <a:pt x="211" y="384"/>
                </a:lnTo>
                <a:close/>
              </a:path>
            </a:pathLst>
          </a:custGeom>
          <a:solidFill>
            <a:srgbClr val="33ccff"/>
          </a:solidFill>
          <a:ln cap="sq"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4313160" y="1638360"/>
            <a:ext cx="4818240" cy="1727280"/>
          </a:xfrm>
          <a:custGeom>
            <a:avLst/>
            <a:gdLst>
              <a:gd name="textAreaLeft" fmla="*/ 0 w 4818240"/>
              <a:gd name="textAreaRight" fmla="*/ 4818600 w 48182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3035" h="1088">
                <a:moveTo>
                  <a:pt x="11" y="624"/>
                </a:moveTo>
                <a:cubicBezTo>
                  <a:pt x="68" y="662"/>
                  <a:pt x="13" y="616"/>
                  <a:pt x="43" y="736"/>
                </a:cubicBezTo>
                <a:cubicBezTo>
                  <a:pt x="47" y="753"/>
                  <a:pt x="114" y="815"/>
                  <a:pt x="115" y="816"/>
                </a:cubicBezTo>
                <a:cubicBezTo>
                  <a:pt x="147" y="848"/>
                  <a:pt x="228" y="854"/>
                  <a:pt x="259" y="864"/>
                </a:cubicBezTo>
                <a:cubicBezTo>
                  <a:pt x="347" y="893"/>
                  <a:pt x="442" y="898"/>
                  <a:pt x="531" y="928"/>
                </a:cubicBezTo>
                <a:cubicBezTo>
                  <a:pt x="542" y="936"/>
                  <a:pt x="554" y="943"/>
                  <a:pt x="563" y="952"/>
                </a:cubicBezTo>
                <a:cubicBezTo>
                  <a:pt x="570" y="959"/>
                  <a:pt x="572" y="970"/>
                  <a:pt x="579" y="976"/>
                </a:cubicBezTo>
                <a:cubicBezTo>
                  <a:pt x="637" y="1026"/>
                  <a:pt x="721" y="1059"/>
                  <a:pt x="795" y="1072"/>
                </a:cubicBezTo>
                <a:cubicBezTo>
                  <a:pt x="837" y="1080"/>
                  <a:pt x="923" y="1088"/>
                  <a:pt x="923" y="1088"/>
                </a:cubicBezTo>
                <a:cubicBezTo>
                  <a:pt x="1120" y="1085"/>
                  <a:pt x="1318" y="1085"/>
                  <a:pt x="1515" y="1080"/>
                </a:cubicBezTo>
                <a:cubicBezTo>
                  <a:pt x="1539" y="1079"/>
                  <a:pt x="1542" y="1065"/>
                  <a:pt x="1563" y="1056"/>
                </a:cubicBezTo>
                <a:cubicBezTo>
                  <a:pt x="1605" y="1038"/>
                  <a:pt x="1648" y="1024"/>
                  <a:pt x="1691" y="1008"/>
                </a:cubicBezTo>
                <a:cubicBezTo>
                  <a:pt x="1774" y="977"/>
                  <a:pt x="1877" y="981"/>
                  <a:pt x="1963" y="976"/>
                </a:cubicBezTo>
                <a:cubicBezTo>
                  <a:pt x="2055" y="953"/>
                  <a:pt x="2172" y="978"/>
                  <a:pt x="2267" y="984"/>
                </a:cubicBezTo>
                <a:cubicBezTo>
                  <a:pt x="2403" y="979"/>
                  <a:pt x="2539" y="976"/>
                  <a:pt x="2675" y="968"/>
                </a:cubicBezTo>
                <a:cubicBezTo>
                  <a:pt x="2722" y="965"/>
                  <a:pt x="2778" y="900"/>
                  <a:pt x="2811" y="872"/>
                </a:cubicBezTo>
                <a:cubicBezTo>
                  <a:pt x="2842" y="846"/>
                  <a:pt x="2873" y="842"/>
                  <a:pt x="2899" y="808"/>
                </a:cubicBezTo>
                <a:cubicBezTo>
                  <a:pt x="2913" y="789"/>
                  <a:pt x="2925" y="747"/>
                  <a:pt x="2931" y="728"/>
                </a:cubicBezTo>
                <a:cubicBezTo>
                  <a:pt x="2939" y="703"/>
                  <a:pt x="2979" y="648"/>
                  <a:pt x="2995" y="624"/>
                </a:cubicBezTo>
                <a:cubicBezTo>
                  <a:pt x="3008" y="533"/>
                  <a:pt x="3020" y="442"/>
                  <a:pt x="3035" y="352"/>
                </a:cubicBezTo>
                <a:cubicBezTo>
                  <a:pt x="3032" y="285"/>
                  <a:pt x="3034" y="218"/>
                  <a:pt x="3027" y="152"/>
                </a:cubicBezTo>
                <a:cubicBezTo>
                  <a:pt x="3022" y="106"/>
                  <a:pt x="2931" y="97"/>
                  <a:pt x="2899" y="96"/>
                </a:cubicBezTo>
                <a:cubicBezTo>
                  <a:pt x="2782" y="91"/>
                  <a:pt x="2664" y="91"/>
                  <a:pt x="2547" y="88"/>
                </a:cubicBezTo>
                <a:cubicBezTo>
                  <a:pt x="2477" y="78"/>
                  <a:pt x="2409" y="65"/>
                  <a:pt x="2339" y="56"/>
                </a:cubicBezTo>
                <a:cubicBezTo>
                  <a:pt x="2186" y="64"/>
                  <a:pt x="2141" y="71"/>
                  <a:pt x="1979" y="56"/>
                </a:cubicBezTo>
                <a:cubicBezTo>
                  <a:pt x="1895" y="48"/>
                  <a:pt x="1823" y="8"/>
                  <a:pt x="1739" y="0"/>
                </a:cubicBezTo>
                <a:cubicBezTo>
                  <a:pt x="1559" y="6"/>
                  <a:pt x="1391" y="25"/>
                  <a:pt x="1211" y="32"/>
                </a:cubicBezTo>
                <a:cubicBezTo>
                  <a:pt x="1200" y="37"/>
                  <a:pt x="1191" y="45"/>
                  <a:pt x="1179" y="48"/>
                </a:cubicBezTo>
                <a:cubicBezTo>
                  <a:pt x="1158" y="53"/>
                  <a:pt x="1134" y="46"/>
                  <a:pt x="1115" y="56"/>
                </a:cubicBezTo>
                <a:cubicBezTo>
                  <a:pt x="1092" y="68"/>
                  <a:pt x="1084" y="104"/>
                  <a:pt x="1059" y="112"/>
                </a:cubicBezTo>
                <a:cubicBezTo>
                  <a:pt x="987" y="136"/>
                  <a:pt x="927" y="150"/>
                  <a:pt x="851" y="160"/>
                </a:cubicBezTo>
                <a:cubicBezTo>
                  <a:pt x="644" y="229"/>
                  <a:pt x="394" y="209"/>
                  <a:pt x="179" y="216"/>
                </a:cubicBezTo>
                <a:cubicBezTo>
                  <a:pt x="160" y="219"/>
                  <a:pt x="138" y="213"/>
                  <a:pt x="123" y="224"/>
                </a:cubicBezTo>
                <a:cubicBezTo>
                  <a:pt x="112" y="232"/>
                  <a:pt x="125" y="255"/>
                  <a:pt x="115" y="264"/>
                </a:cubicBezTo>
                <a:cubicBezTo>
                  <a:pt x="103" y="275"/>
                  <a:pt x="83" y="269"/>
                  <a:pt x="67" y="272"/>
                </a:cubicBezTo>
                <a:cubicBezTo>
                  <a:pt x="20" y="303"/>
                  <a:pt x="42" y="331"/>
                  <a:pt x="19" y="376"/>
                </a:cubicBezTo>
                <a:cubicBezTo>
                  <a:pt x="0" y="414"/>
                  <a:pt x="3" y="385"/>
                  <a:pt x="3" y="416"/>
                </a:cubicBezTo>
              </a:path>
            </a:pathLst>
          </a:custGeom>
          <a:solidFill>
            <a:srgbClr val="66ffff"/>
          </a:solidFill>
          <a:ln cap="sq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4251240" y="2222640"/>
            <a:ext cx="4888080" cy="438120"/>
          </a:xfrm>
          <a:custGeom>
            <a:avLst/>
            <a:gdLst>
              <a:gd name="textAreaLeft" fmla="*/ 0 w 4888080"/>
              <a:gd name="textAreaRight" fmla="*/ 4888440 w 48880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3079" h="276">
                <a:moveTo>
                  <a:pt x="66" y="88"/>
                </a:moveTo>
                <a:cubicBezTo>
                  <a:pt x="197" y="73"/>
                  <a:pt x="183" y="73"/>
                  <a:pt x="362" y="80"/>
                </a:cubicBezTo>
                <a:cubicBezTo>
                  <a:pt x="461" y="105"/>
                  <a:pt x="564" y="117"/>
                  <a:pt x="666" y="128"/>
                </a:cubicBezTo>
                <a:cubicBezTo>
                  <a:pt x="935" y="122"/>
                  <a:pt x="1007" y="135"/>
                  <a:pt x="1218" y="72"/>
                </a:cubicBezTo>
                <a:cubicBezTo>
                  <a:pt x="1274" y="55"/>
                  <a:pt x="1329" y="39"/>
                  <a:pt x="1386" y="24"/>
                </a:cubicBezTo>
                <a:cubicBezTo>
                  <a:pt x="1418" y="16"/>
                  <a:pt x="1482" y="0"/>
                  <a:pt x="1482" y="0"/>
                </a:cubicBezTo>
                <a:cubicBezTo>
                  <a:pt x="1687" y="5"/>
                  <a:pt x="1886" y="17"/>
                  <a:pt x="2090" y="32"/>
                </a:cubicBezTo>
                <a:cubicBezTo>
                  <a:pt x="2262" y="63"/>
                  <a:pt x="2436" y="65"/>
                  <a:pt x="2610" y="72"/>
                </a:cubicBezTo>
                <a:cubicBezTo>
                  <a:pt x="2717" y="69"/>
                  <a:pt x="2823" y="69"/>
                  <a:pt x="2930" y="64"/>
                </a:cubicBezTo>
                <a:cubicBezTo>
                  <a:pt x="2963" y="62"/>
                  <a:pt x="3006" y="37"/>
                  <a:pt x="3050" y="32"/>
                </a:cubicBezTo>
                <a:cubicBezTo>
                  <a:pt x="3058" y="37"/>
                  <a:pt x="3073" y="38"/>
                  <a:pt x="3074" y="48"/>
                </a:cubicBezTo>
                <a:cubicBezTo>
                  <a:pt x="3079" y="90"/>
                  <a:pt x="3078" y="135"/>
                  <a:pt x="3066" y="176"/>
                </a:cubicBezTo>
                <a:cubicBezTo>
                  <a:pt x="3063" y="187"/>
                  <a:pt x="3045" y="181"/>
                  <a:pt x="3034" y="184"/>
                </a:cubicBezTo>
                <a:cubicBezTo>
                  <a:pt x="3005" y="192"/>
                  <a:pt x="2975" y="198"/>
                  <a:pt x="2946" y="208"/>
                </a:cubicBezTo>
                <a:cubicBezTo>
                  <a:pt x="2874" y="205"/>
                  <a:pt x="2802" y="204"/>
                  <a:pt x="2730" y="200"/>
                </a:cubicBezTo>
                <a:cubicBezTo>
                  <a:pt x="2681" y="197"/>
                  <a:pt x="2634" y="172"/>
                  <a:pt x="2586" y="160"/>
                </a:cubicBezTo>
                <a:cubicBezTo>
                  <a:pt x="2452" y="165"/>
                  <a:pt x="2362" y="176"/>
                  <a:pt x="2234" y="184"/>
                </a:cubicBezTo>
                <a:cubicBezTo>
                  <a:pt x="2153" y="197"/>
                  <a:pt x="2094" y="198"/>
                  <a:pt x="2010" y="192"/>
                </a:cubicBezTo>
                <a:cubicBezTo>
                  <a:pt x="1984" y="183"/>
                  <a:pt x="1955" y="179"/>
                  <a:pt x="1930" y="168"/>
                </a:cubicBezTo>
                <a:cubicBezTo>
                  <a:pt x="1840" y="127"/>
                  <a:pt x="1897" y="142"/>
                  <a:pt x="1826" y="128"/>
                </a:cubicBezTo>
                <a:cubicBezTo>
                  <a:pt x="1746" y="131"/>
                  <a:pt x="1666" y="129"/>
                  <a:pt x="1586" y="136"/>
                </a:cubicBezTo>
                <a:cubicBezTo>
                  <a:pt x="1530" y="141"/>
                  <a:pt x="1461" y="169"/>
                  <a:pt x="1402" y="176"/>
                </a:cubicBezTo>
                <a:cubicBezTo>
                  <a:pt x="1304" y="209"/>
                  <a:pt x="1192" y="219"/>
                  <a:pt x="1090" y="232"/>
                </a:cubicBezTo>
                <a:cubicBezTo>
                  <a:pt x="1060" y="236"/>
                  <a:pt x="1032" y="245"/>
                  <a:pt x="1002" y="248"/>
                </a:cubicBezTo>
                <a:cubicBezTo>
                  <a:pt x="967" y="252"/>
                  <a:pt x="863" y="256"/>
                  <a:pt x="898" y="256"/>
                </a:cubicBezTo>
                <a:cubicBezTo>
                  <a:pt x="957" y="256"/>
                  <a:pt x="1015" y="251"/>
                  <a:pt x="1074" y="248"/>
                </a:cubicBezTo>
                <a:cubicBezTo>
                  <a:pt x="962" y="245"/>
                  <a:pt x="779" y="276"/>
                  <a:pt x="666" y="200"/>
                </a:cubicBezTo>
                <a:cubicBezTo>
                  <a:pt x="483" y="205"/>
                  <a:pt x="322" y="208"/>
                  <a:pt x="146" y="240"/>
                </a:cubicBezTo>
                <a:cubicBezTo>
                  <a:pt x="101" y="237"/>
                  <a:pt x="53" y="246"/>
                  <a:pt x="10" y="232"/>
                </a:cubicBezTo>
                <a:cubicBezTo>
                  <a:pt x="0" y="229"/>
                  <a:pt x="16" y="211"/>
                  <a:pt x="18" y="200"/>
                </a:cubicBezTo>
                <a:cubicBezTo>
                  <a:pt x="26" y="162"/>
                  <a:pt x="19" y="133"/>
                  <a:pt x="58" y="120"/>
                </a:cubicBezTo>
                <a:cubicBezTo>
                  <a:pt x="67" y="93"/>
                  <a:pt x="66" y="104"/>
                  <a:pt x="66" y="88"/>
                </a:cubicBezTo>
                <a:close/>
              </a:path>
            </a:pathLst>
          </a:custGeom>
          <a:solidFill>
            <a:srgbClr val="33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87560" y="23875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одохранилищ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590160" y="176688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 В К 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7264440" y="2362320"/>
            <a:ext cx="647640" cy="50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7074000" y="1486080"/>
            <a:ext cx="0" cy="2895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280040" y="2997360"/>
            <a:ext cx="0" cy="142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292640" y="4140360"/>
            <a:ext cx="2781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655160" y="4219560"/>
            <a:ext cx="19972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она 4-х часов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егания вол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ры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934800" y="8244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ВК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 rot="669000">
            <a:off x="5359320" y="18795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 rot="609600">
            <a:off x="5320800" y="20829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 rot="6106800">
            <a:off x="5650920" y="203184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7"/>
          <p:cNvSpPr/>
          <p:nvPr/>
        </p:nvSpPr>
        <p:spPr>
          <a:xfrm rot="16824600">
            <a:off x="5371920" y="1383840"/>
            <a:ext cx="685800" cy="20304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 rot="669000">
            <a:off x="7759800" y="283176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 rot="669000">
            <a:off x="7683480" y="299700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0"/>
          <p:cNvSpPr/>
          <p:nvPr/>
        </p:nvSpPr>
        <p:spPr>
          <a:xfrm rot="4151400">
            <a:off x="7949520" y="3327480"/>
            <a:ext cx="685800" cy="2034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5943600" y="749160"/>
            <a:ext cx="1790640" cy="673200"/>
          </a:xfrm>
          <a:prstGeom prst="wedgeRoundRectCallout">
            <a:avLst>
              <a:gd name="adj1" fmla="val -57888"/>
              <a:gd name="adj2" fmla="val 77592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838840" y="825480"/>
            <a:ext cx="196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объявл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и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6375240" y="4940280"/>
            <a:ext cx="2184480" cy="851040"/>
          </a:xfrm>
          <a:prstGeom prst="wedgeRoundRectCallout">
            <a:avLst>
              <a:gd name="adj1" fmla="val 34592"/>
              <a:gd name="adj2" fmla="val -219587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354360" y="5079960"/>
            <a:ext cx="226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возникнов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216320" y="2057400"/>
            <a:ext cx="88920" cy="92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424080" y="4203720"/>
            <a:ext cx="28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я планиру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 всей ЗВКЗ, проводи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ап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ree"/>
          <p:cNvSpPr/>
          <p:nvPr/>
        </p:nvSpPr>
        <p:spPr>
          <a:xfrm>
            <a:off x="1066680" y="83808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ree"/>
          <p:cNvSpPr/>
          <p:nvPr/>
        </p:nvSpPr>
        <p:spPr>
          <a:xfrm>
            <a:off x="1752480" y="1143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ree"/>
          <p:cNvSpPr/>
          <p:nvPr/>
        </p:nvSpPr>
        <p:spPr>
          <a:xfrm>
            <a:off x="5638680" y="5486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08:07:38Z</dcterms:created>
  <dc:creator>Кузьмин Александр</dc:creator>
  <dc:description/>
  <dc:language>en-US</dc:language>
  <cp:lastModifiedBy>Admin</cp:lastModifiedBy>
  <dcterms:modified xsi:type="dcterms:W3CDTF">2012-05-07T17:28:23Z</dcterms:modified>
  <cp:revision>70</cp:revision>
  <dc:subject/>
  <dc:title>Презентация PowerPoint</dc:title>
</cp:coreProperties>
</file>