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9BE-A726-406E-9533-BCA4045A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81D-EDE2-44FB-8117-6965ECBA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D2B-9C95-491B-AA45-9A86BF14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8EA-FBC9-442E-BF13-957D1588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6995-41E2-4B16-AE7A-1F9CB4C7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1F33-041B-416E-B8BD-3022FDFB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6D54-F805-4DD1-9704-1C4BF679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6AC2-7545-4BE8-AF80-B87D90A2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293-3B51-4E5B-A8EF-B0A5613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075E-8ED6-4841-B4AE-A9962391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38DF-339E-44EC-BDD6-EBEC629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DB7-9856-455D-9CA5-A3B6E6F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D271-13F1-4239-B839-979BE1C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6EF-7F9C-4DCE-9EF6-B7718FF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E1F-FE27-4811-A2FB-D3B7A42D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CE0D-439C-44EA-84A2-888F7561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B34-92B2-4FBC-BB36-171FFD09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812-0332-454E-8EFD-AF8E63C2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E1C-EBF5-427A-900E-0C10DDF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D47-E918-418C-8693-959A4E8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C2A-492A-4A5B-86E0-1510F38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CA9-7057-4A00-8C93-76FEA5E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30C-C7E8-4096-A7ED-F418A65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F2A-D519-46E9-B3D4-92A02C7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6CA-82DB-49D9-AB04-0088A3E657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A0C-E611-4965-B868-5DE593300D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Елизавета Втора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Royal_F1_1b_background" descr="Official portrait of The Queen"/>
          <p:cNvPicPr/>
          <p:nvPr/>
        </p:nvPicPr>
        <p:blipFill>
          <a:blip r:embed="rId1"/>
          <a:stretch/>
        </p:blipFill>
        <p:spPr>
          <a:xfrm>
            <a:off x="3059280" y="1916280"/>
            <a:ext cx="3528720" cy="47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нц Уэльский‚ леди Диана‚ Уильям и Генр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83204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568680" cy="496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нцесса 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ринц Эндр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1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040360" cy="400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5589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нц Эдва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бочий день короле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861600">
            <a:off x="3563640" y="1628280"/>
            <a:ext cx="5364000" cy="2124360"/>
          </a:xfrm>
          <a:prstGeom prst="rect">
            <a:avLst/>
          </a:prstGeom>
          <a:ln w="0">
            <a:noFill/>
          </a:ln>
        </p:spPr>
      </p:pic>
      <p:pic>
        <p:nvPicPr>
          <p:cNvPr id="133" name="Royal_F1_1b_role" descr="Picture of The Queen on an offical State visit"/>
          <p:cNvPicPr/>
          <p:nvPr/>
        </p:nvPicPr>
        <p:blipFill>
          <a:blip r:embed="rId2"/>
          <a:stretch/>
        </p:blipFill>
        <p:spPr>
          <a:xfrm rot="21324000">
            <a:off x="323640" y="1412640"/>
            <a:ext cx="3679560" cy="52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643280" y="3789360"/>
          <a:ext cx="258948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789360"/>
                    <a:ext cx="25894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oyal walk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Royal_F1_1b_horsemanship" descr="Picture of The Queen at the races"/>
          <p:cNvPicPr/>
          <p:nvPr/>
        </p:nvPicPr>
        <p:blipFill>
          <a:blip r:embed="rId1"/>
          <a:stretch/>
        </p:blipFill>
        <p:spPr>
          <a:xfrm>
            <a:off x="2556000" y="1700280"/>
            <a:ext cx="4217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1380960"/>
            <a:ext cx="3959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836640"/>
            <a:ext cx="828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Цель моей исследовательск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проследить цепочку престолонаследия Англии, познакомиться с действующими членами Королевской семьи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10920" y="259920"/>
            <a:ext cx="3899160" cy="965160"/>
          </a:xfrm>
          <a:prstGeom prst="rect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en Victoria (1819-190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. Prince Albert of Saxe-Cobu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773360"/>
            <a:ext cx="3961080" cy="68580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II (1841-1910) m. Princess Alexandra of Denmark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268280"/>
            <a:ext cx="576360" cy="48744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2708280"/>
            <a:ext cx="2592360" cy="108108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 (1865-193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Princess Mary of Teck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2421000"/>
            <a:ext cx="720720" cy="414360"/>
          </a:xfrm>
          <a:prstGeom prst="downArrow">
            <a:avLst>
              <a:gd name="adj1" fmla="val 0"/>
              <a:gd name="adj2" fmla="val 10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050920" y="3284640"/>
            <a:ext cx="1028880" cy="799920"/>
          </a:xfrm>
          <a:custGeom>
            <a:avLst/>
            <a:gdLst>
              <a:gd name="textAreaLeft" fmla="*/ 343440 w 1028880"/>
              <a:gd name="textAreaRight" fmla="*/ 881640 w 1028880"/>
              <a:gd name="textAreaTop" fmla="*/ 554760 h 799920"/>
              <a:gd name="textAreaBottom" fmla="*/ 68544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8066"/>
                </a:moveTo>
                <a:lnTo>
                  <a:pt x="14966" y="18066"/>
                </a:lnTo>
                <a:lnTo>
                  <a:pt x="14966" y="7200"/>
                </a:lnTo>
                <a:lnTo>
                  <a:pt x="11866" y="7200"/>
                </a:lnTo>
                <a:lnTo>
                  <a:pt x="1673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35640" y="3357720"/>
            <a:ext cx="1028520" cy="799920"/>
          </a:xfrm>
          <a:custGeom>
            <a:avLst/>
            <a:gdLst>
              <a:gd name="textAreaLeft" fmla="*/ 257040 w 1028520"/>
              <a:gd name="textAreaRight" fmla="*/ 838800 w 1028520"/>
              <a:gd name="textAreaTop" fmla="*/ 493920 h 799920"/>
              <a:gd name="textAreaBottom" fmla="*/ 6526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7310"/>
                </a:moveTo>
                <a:lnTo>
                  <a:pt x="13325" y="17310"/>
                </a:lnTo>
                <a:lnTo>
                  <a:pt x="13325" y="5400"/>
                </a:lnTo>
                <a:lnTo>
                  <a:pt x="9340" y="5400"/>
                </a:lnTo>
                <a:lnTo>
                  <a:pt x="15470" y="0"/>
                </a:lnTo>
                <a:lnTo>
                  <a:pt x="21600" y="5400"/>
                </a:lnTo>
                <a:lnTo>
                  <a:pt x="17615" y="5400"/>
                </a:lnTo>
                <a:lnTo>
                  <a:pt x="1761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4149720"/>
            <a:ext cx="2089080" cy="81756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Edward V  Duke of Windsor (1894-197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10800000">
            <a:off x="468000" y="3933720"/>
            <a:ext cx="2273400" cy="10447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King George VI (1895-195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. Lady Elizabeth Bowes-Ly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941720"/>
            <a:ext cx="685800" cy="3430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73720"/>
            <a:ext cx="2400120" cy="799920"/>
          </a:xfrm>
          <a:prstGeom prst="flowChartProcess">
            <a:avLst/>
          </a:prstGeom>
          <a:solidFill>
            <a:srgbClr val="8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ncess Margaret (1930-2002) M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nthon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0360" y="4724280"/>
            <a:ext cx="2628720" cy="457200"/>
          </a:xfrm>
          <a:custGeom>
            <a:avLst/>
            <a:gdLst>
              <a:gd name="textAreaLeft" fmla="*/ 876240 w 2628720"/>
              <a:gd name="textAreaRight" fmla="*/ 2251440 w 2628720"/>
              <a:gd name="textAreaTop" fmla="*/ 3103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651" y="17751"/>
                </a:lnTo>
                <a:lnTo>
                  <a:pt x="14651" y="7200"/>
                </a:lnTo>
                <a:lnTo>
                  <a:pt x="11551" y="7200"/>
                </a:lnTo>
                <a:lnTo>
                  <a:pt x="1657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5300640"/>
            <a:ext cx="4105080" cy="1224000"/>
          </a:xfrm>
          <a:prstGeom prst="flowChartProcess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een Elizabeth II born 1926    m. Philip Duke of Edinbur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774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57320"/>
            <a:ext cx="5976720" cy="215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796000" cy="230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19280" cy="28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2492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аннув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8768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50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ю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308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6308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ндз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849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566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олевская 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ролева Анг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45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6308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лизавета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7828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24000" y="60102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лизавета 7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rincess Elizabeth II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Royal_F1_1b_earlypublic" descr="Picture of The Queen in her early public life"/>
          <p:cNvPicPr/>
          <p:nvPr/>
        </p:nvPicPr>
        <p:blipFill>
          <a:blip r:embed="rId1"/>
          <a:stretch/>
        </p:blipFill>
        <p:spPr>
          <a:xfrm>
            <a:off x="2711520" y="1413000"/>
            <a:ext cx="360828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rincess Elizabeth II and Prince Philip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Royal_F1_1b_marriage" descr="Picture of The Queen and Prince Philip at their wedding"/>
          <p:cNvPicPr/>
          <p:nvPr/>
        </p:nvPicPr>
        <p:blipFill>
          <a:blip r:embed="rId1"/>
          <a:stretch/>
        </p:blipFill>
        <p:spPr>
          <a:xfrm>
            <a:off x="2700360" y="1565280"/>
            <a:ext cx="3587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05:31Z</dcterms:created>
  <dc:creator>Хозяин</dc:creator>
  <dc:description/>
  <dc:language>en-US</dc:language>
  <cp:lastModifiedBy>Хозяин</cp:lastModifiedBy>
  <dcterms:modified xsi:type="dcterms:W3CDTF">2009-04-28T10:29:21Z</dcterms:modified>
  <cp:revision>5</cp:revision>
  <dc:subject/>
  <dc:title>Слайд 1</dc:title>
</cp:coreProperties>
</file>