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61F-73CF-4A95-BFB3-CCA36C9C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97A-F64F-45FC-97EA-BA323D5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D8C-11F0-4918-8A71-0149F9DB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F30-12A3-434D-8C74-B5B08E36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FA6C-6DD1-4AC5-B23E-D2B91902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33C1-E009-4A80-96EE-894C995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5B3-9079-4B8D-B86E-5098438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7D2-EFB6-4630-93BD-21789ADF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9324-E44B-4EF8-9AEA-94C2EE2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DB7-8B02-493C-AF2A-BD99CA1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C07-4139-4B18-8125-49E4E3F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C01-F973-4479-82FD-3940876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25D7-65C8-4309-AE28-CD7A711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5E6C-5EAE-40FC-AF4B-A1CA042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3EC6-3A9D-429D-9859-2DB2C82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D02-B93D-4A98-B7CB-1FC17C29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818-1370-498B-AB62-0608A0C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055-CDCE-4E65-9B11-BE13EFA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861-852F-4234-A054-1BBBF1F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6E6-A457-4CAF-87EA-32F790C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89A-42A6-451B-BA8B-0625089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251-9F15-4906-A868-62E3543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E49-B38D-4B4B-A5E6-04E463B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FF1-38DD-4A44-8E77-8E4B268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982B-09BC-404E-B418-367319FB32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05B7-DD1A-4736-AA28-CEE8D93C3F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Елизавета Втора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Royal_F1_1b_background" descr="Official portrait of The Queen"/>
          <p:cNvPicPr/>
          <p:nvPr/>
        </p:nvPicPr>
        <p:blipFill>
          <a:blip r:embed="rId1"/>
          <a:stretch/>
        </p:blipFill>
        <p:spPr>
          <a:xfrm>
            <a:off x="3059280" y="1916280"/>
            <a:ext cx="3528720" cy="47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нц Уэльский‚ леди Диана‚ Уильям и Генр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83204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568680" cy="496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нцесса 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ринц Эндр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1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040360" cy="400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5589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нц Эдва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бочий день короле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861600">
            <a:off x="3563640" y="1628280"/>
            <a:ext cx="5364000" cy="2124360"/>
          </a:xfrm>
          <a:prstGeom prst="rect">
            <a:avLst/>
          </a:prstGeom>
          <a:ln w="0">
            <a:noFill/>
          </a:ln>
        </p:spPr>
      </p:pic>
      <p:pic>
        <p:nvPicPr>
          <p:cNvPr id="133" name="Royal_F1_1b_role" descr="Picture of The Queen on an offical State visit"/>
          <p:cNvPicPr/>
          <p:nvPr/>
        </p:nvPicPr>
        <p:blipFill>
          <a:blip r:embed="rId2"/>
          <a:stretch/>
        </p:blipFill>
        <p:spPr>
          <a:xfrm rot="21324000">
            <a:off x="323640" y="1412640"/>
            <a:ext cx="3679560" cy="52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643280" y="3789360"/>
          <a:ext cx="258948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789360"/>
                    <a:ext cx="25894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oyal walk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Royal_F1_1b_horsemanship" descr="Picture of The Queen at the races"/>
          <p:cNvPicPr/>
          <p:nvPr/>
        </p:nvPicPr>
        <p:blipFill>
          <a:blip r:embed="rId1"/>
          <a:stretch/>
        </p:blipFill>
        <p:spPr>
          <a:xfrm>
            <a:off x="2556000" y="1700280"/>
            <a:ext cx="4217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1380960"/>
            <a:ext cx="3959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836640"/>
            <a:ext cx="828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Цель моей 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проследить цепочку престолонаследия Англии, познакомиться с действующими членами Королевской семьи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10920" y="259920"/>
            <a:ext cx="3899160" cy="965160"/>
          </a:xfrm>
          <a:prstGeom prst="rect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en Victoria (1819-190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. Prince Albert of Saxe-Cobu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773360"/>
            <a:ext cx="3961080" cy="68580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II (1841-1910) m. Princess Alexandra of Denmark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268280"/>
            <a:ext cx="576360" cy="48744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2708280"/>
            <a:ext cx="2592360" cy="108108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 (1865-193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Princess Mary of Teck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2421000"/>
            <a:ext cx="720720" cy="41436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050920" y="3284640"/>
            <a:ext cx="1028880" cy="799920"/>
          </a:xfrm>
          <a:custGeom>
            <a:avLst/>
            <a:gdLst>
              <a:gd name="textAreaLeft" fmla="*/ 343440 w 1028880"/>
              <a:gd name="textAreaRight" fmla="*/ 881640 w 1028880"/>
              <a:gd name="textAreaTop" fmla="*/ 554760 h 799920"/>
              <a:gd name="textAreaBottom" fmla="*/ 68544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8066"/>
                </a:moveTo>
                <a:lnTo>
                  <a:pt x="14966" y="18066"/>
                </a:lnTo>
                <a:lnTo>
                  <a:pt x="14966" y="7200"/>
                </a:lnTo>
                <a:lnTo>
                  <a:pt x="11866" y="7200"/>
                </a:lnTo>
                <a:lnTo>
                  <a:pt x="1673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35640" y="3357720"/>
            <a:ext cx="1028520" cy="799920"/>
          </a:xfrm>
          <a:custGeom>
            <a:avLst/>
            <a:gdLst>
              <a:gd name="textAreaLeft" fmla="*/ 257040 w 1028520"/>
              <a:gd name="textAreaRight" fmla="*/ 838800 w 1028520"/>
              <a:gd name="textAreaTop" fmla="*/ 493920 h 799920"/>
              <a:gd name="textAreaBottom" fmla="*/ 6526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7310"/>
                </a:moveTo>
                <a:lnTo>
                  <a:pt x="13325" y="17310"/>
                </a:lnTo>
                <a:lnTo>
                  <a:pt x="13325" y="5400"/>
                </a:lnTo>
                <a:lnTo>
                  <a:pt x="9340" y="5400"/>
                </a:lnTo>
                <a:lnTo>
                  <a:pt x="15470" y="0"/>
                </a:lnTo>
                <a:lnTo>
                  <a:pt x="21600" y="5400"/>
                </a:lnTo>
                <a:lnTo>
                  <a:pt x="17615" y="5400"/>
                </a:lnTo>
                <a:lnTo>
                  <a:pt x="1761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4149720"/>
            <a:ext cx="2089080" cy="81756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  Duke of Windsor (1894-197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10800000">
            <a:off x="468000" y="3933720"/>
            <a:ext cx="2273400" cy="10447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I (1895-195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Lady Elizabeth Bowes-Ly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941720"/>
            <a:ext cx="685800" cy="3430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2400120" cy="7999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ncess Margaret (1930-2002) M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nthon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0360" y="4724280"/>
            <a:ext cx="2628720" cy="457200"/>
          </a:xfrm>
          <a:custGeom>
            <a:avLst/>
            <a:gdLst>
              <a:gd name="textAreaLeft" fmla="*/ 876240 w 2628720"/>
              <a:gd name="textAreaRight" fmla="*/ 2251440 w 2628720"/>
              <a:gd name="textAreaTop" fmla="*/ 3103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651" y="17751"/>
                </a:lnTo>
                <a:lnTo>
                  <a:pt x="14651" y="7200"/>
                </a:lnTo>
                <a:lnTo>
                  <a:pt x="11551" y="7200"/>
                </a:lnTo>
                <a:lnTo>
                  <a:pt x="1657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5300640"/>
            <a:ext cx="4105080" cy="1224000"/>
          </a:xfrm>
          <a:prstGeom prst="flowChartProcess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en Elizabeth II born 1926    m. Philip Duke of Edinbur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774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57320"/>
            <a:ext cx="5976720" cy="215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796000" cy="230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19280" cy="28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2492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аннув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8768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50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ю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308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6308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ндз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849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566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олевская 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45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6308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лизавета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7828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24000" y="60102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лизавета 7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rincess Elizabeth II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Royal_F1_1b_earlypublic" descr="Picture of The Queen in her early public life"/>
          <p:cNvPicPr/>
          <p:nvPr/>
        </p:nvPicPr>
        <p:blipFill>
          <a:blip r:embed="rId1"/>
          <a:stretch/>
        </p:blipFill>
        <p:spPr>
          <a:xfrm>
            <a:off x="2711520" y="1413000"/>
            <a:ext cx="360828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rincess Elizabeth II and Prince Philip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Royal_F1_1b_marriage" descr="Picture of The Queen and Prince Philip at their wedding"/>
          <p:cNvPicPr/>
          <p:nvPr/>
        </p:nvPicPr>
        <p:blipFill>
          <a:blip r:embed="rId1"/>
          <a:stretch/>
        </p:blipFill>
        <p:spPr>
          <a:xfrm>
            <a:off x="2700360" y="1565280"/>
            <a:ext cx="3587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05:31Z</dcterms:created>
  <dc:creator>Хозяин</dc:creator>
  <dc:description/>
  <dc:language>en-US</dc:language>
  <cp:lastModifiedBy>Хозяин</cp:lastModifiedBy>
  <dcterms:modified xsi:type="dcterms:W3CDTF">2009-04-28T10:29:21Z</dcterms:modified>
  <cp:revision>5</cp:revision>
  <dc:subject/>
  <dc:title>Слайд 1</dc:title>
</cp:coreProperties>
</file>