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C1EA-792D-4405-899E-442410871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6DCD-33AB-4E2D-8AFD-7F367979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5216-F19D-4806-8229-11D0BB666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4CF2-83AC-4539-B842-95E933CAA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B24D-C127-4A1B-B0EA-1FA0A3923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3DA5-91CB-4832-9237-752FFD01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F683-30C8-41E6-A6B6-881D1214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E236-8064-4C1C-9590-C7E62F87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878A-2523-4F73-B0DE-CA10FAFD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9D8B-CE7F-47BA-A64C-9AE6DEBE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893A-BD66-46EE-857F-C910C8B1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FCD5-0108-4F40-A069-84D28D7B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3866-57FF-4DE2-ACA4-0968A082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35FC-5730-4413-878F-B455AD5A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BDE10-C709-4B0D-A045-7F8C6311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5063-F6C1-48FF-A05E-B75DBB10C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FE244-33AF-4513-95FB-FA818A430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73CD-EC4F-4FFF-9F00-8C620C78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5D3F-29B7-4B4F-8665-083ED0A6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3879-0550-4A57-8B17-812862A4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4389-7BDB-4DDB-96C8-FD18BE82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D5EC-8059-4C9A-84FC-78C2C042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7D03-5553-457A-B6D4-654BA0DA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5DB9-899D-49FD-8BE4-DD82A06D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794C-98D0-470C-A118-7E031C3D2F4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8B70-BB7C-4CDD-A4B2-91B5392D1B7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ffff"/>
                </a:solidFill>
                <a:uFillTx/>
                <a:latin typeface="Tahoma"/>
              </a:rPr>
              <a:t>Елизавета Вторая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8" name="Royal_F1_1b_background" descr="Official portrait of The Queen"/>
          <p:cNvPicPr/>
          <p:nvPr/>
        </p:nvPicPr>
        <p:blipFill>
          <a:blip r:embed="rId1"/>
          <a:stretch/>
        </p:blipFill>
        <p:spPr>
          <a:xfrm>
            <a:off x="3059280" y="1916280"/>
            <a:ext cx="3528720" cy="47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ринц Уэльский‚ леди Диана‚ Уильям и Генри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76360" y="1832040"/>
            <a:ext cx="626436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771640" y="476280"/>
            <a:ext cx="3568680" cy="4968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763640" y="566100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ринцесса Ан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Принц Эндрю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71640" y="1989000"/>
            <a:ext cx="338148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040360" cy="4003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835280" y="558972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инц Эдвар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Рабочий день королев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 rot="861600">
            <a:off x="3563640" y="1628280"/>
            <a:ext cx="5364000" cy="2124360"/>
          </a:xfrm>
          <a:prstGeom prst="rect">
            <a:avLst/>
          </a:prstGeom>
          <a:ln w="0">
            <a:noFill/>
          </a:ln>
        </p:spPr>
      </p:pic>
      <p:pic>
        <p:nvPicPr>
          <p:cNvPr id="133" name="Royal_F1_1b_role" descr="Picture of The Queen on an offical State visit"/>
          <p:cNvPicPr/>
          <p:nvPr/>
        </p:nvPicPr>
        <p:blipFill>
          <a:blip r:embed="rId2"/>
          <a:stretch/>
        </p:blipFill>
        <p:spPr>
          <a:xfrm rot="21324000">
            <a:off x="323640" y="1412640"/>
            <a:ext cx="3679560" cy="522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4643280" y="3789360"/>
          <a:ext cx="2589480" cy="285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3789360"/>
                    <a:ext cx="2589480" cy="28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Royal walk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7" name="Royal_F1_1b_horsemanship" descr="Picture of The Queen at the races"/>
          <p:cNvPicPr/>
          <p:nvPr/>
        </p:nvPicPr>
        <p:blipFill>
          <a:blip r:embed="rId1"/>
          <a:stretch/>
        </p:blipFill>
        <p:spPr>
          <a:xfrm>
            <a:off x="2556000" y="1700280"/>
            <a:ext cx="421776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Королева Англ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484360" y="1380960"/>
            <a:ext cx="395928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50920" y="836640"/>
            <a:ext cx="8281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ahoma"/>
              </a:rPr>
              <a:t>Цель моей исследовательской рабо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это проследить цепочку престолонаследия Англии, познакомиться с действующими членами Королевской семьи Елизаветы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410920" y="259920"/>
            <a:ext cx="3899160" cy="965160"/>
          </a:xfrm>
          <a:prstGeom prst="rect">
            <a:avLst/>
          </a:prstGeom>
          <a:solidFill>
            <a:srgbClr val="8c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ueen Victoria (1819-190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. Prince Albert of Saxe-Cobur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2411280" y="1773360"/>
            <a:ext cx="3961080" cy="685800"/>
          </a:xfrm>
          <a:prstGeom prst="flowChartProcess">
            <a:avLst/>
          </a:prstGeom>
          <a:solidFill>
            <a:srgbClr val="8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King Edward VII (1841-1910) m. Princess Alexandra of Denmark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24360" y="1268280"/>
            <a:ext cx="576360" cy="487440"/>
          </a:xfrm>
          <a:prstGeom prst="downArrow">
            <a:avLst>
              <a:gd name="adj1" fmla="val 0"/>
              <a:gd name="adj2" fmla="val 100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87640" y="2708280"/>
            <a:ext cx="2592360" cy="1081080"/>
          </a:xfrm>
          <a:prstGeom prst="flowChartProcess">
            <a:avLst/>
          </a:prstGeom>
          <a:solidFill>
            <a:srgbClr val="8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King George V (1865-1936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M. Princess Mary of Teck.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95640" y="2421000"/>
            <a:ext cx="720720" cy="414360"/>
          </a:xfrm>
          <a:prstGeom prst="downArrow">
            <a:avLst>
              <a:gd name="adj1" fmla="val 0"/>
              <a:gd name="adj2" fmla="val 100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2050920" y="3284640"/>
            <a:ext cx="1028880" cy="799920"/>
          </a:xfrm>
          <a:custGeom>
            <a:avLst/>
            <a:gdLst>
              <a:gd name="textAreaLeft" fmla="*/ 343440 w 1028880"/>
              <a:gd name="textAreaRight" fmla="*/ 881640 w 1028880"/>
              <a:gd name="textAreaTop" fmla="*/ 554760 h 799920"/>
              <a:gd name="textAreaBottom" fmla="*/ 685440 h 799920"/>
            </a:gdLst>
            <a:ahLst/>
            <a:rect l="textAreaLeft" t="textAreaTop" r="textAreaRight" b="textAreaBottom"/>
            <a:pathLst>
              <a:path w="21600" h="21600">
                <a:moveTo>
                  <a:pt x="0" y="18066"/>
                </a:moveTo>
                <a:lnTo>
                  <a:pt x="14966" y="18066"/>
                </a:lnTo>
                <a:lnTo>
                  <a:pt x="14966" y="7200"/>
                </a:lnTo>
                <a:lnTo>
                  <a:pt x="11866" y="7200"/>
                </a:lnTo>
                <a:lnTo>
                  <a:pt x="16733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435640" y="3357720"/>
            <a:ext cx="1028520" cy="799920"/>
          </a:xfrm>
          <a:custGeom>
            <a:avLst/>
            <a:gdLst>
              <a:gd name="textAreaLeft" fmla="*/ 257040 w 1028520"/>
              <a:gd name="textAreaRight" fmla="*/ 838800 w 1028520"/>
              <a:gd name="textAreaTop" fmla="*/ 493920 h 799920"/>
              <a:gd name="textAreaBottom" fmla="*/ 652680 h 799920"/>
            </a:gdLst>
            <a:ahLst/>
            <a:rect l="textAreaLeft" t="textAreaTop" r="textAreaRight" b="textAreaBottom"/>
            <a:pathLst>
              <a:path w="21600" h="21600">
                <a:moveTo>
                  <a:pt x="0" y="17310"/>
                </a:moveTo>
                <a:lnTo>
                  <a:pt x="13325" y="17310"/>
                </a:lnTo>
                <a:lnTo>
                  <a:pt x="13325" y="5400"/>
                </a:lnTo>
                <a:lnTo>
                  <a:pt x="9340" y="5400"/>
                </a:lnTo>
                <a:lnTo>
                  <a:pt x="15470" y="0"/>
                </a:lnTo>
                <a:lnTo>
                  <a:pt x="21600" y="5400"/>
                </a:lnTo>
                <a:lnTo>
                  <a:pt x="17615" y="5400"/>
                </a:lnTo>
                <a:lnTo>
                  <a:pt x="17615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35640" y="4149720"/>
            <a:ext cx="2089080" cy="817560"/>
          </a:xfrm>
          <a:prstGeom prst="flowChartProcess">
            <a:avLst/>
          </a:prstGeom>
          <a:solidFill>
            <a:srgbClr val="8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King Edward V  Duke of Windsor (1894-1972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 rot="10800000">
            <a:off x="468000" y="3933720"/>
            <a:ext cx="2273400" cy="1044720"/>
          </a:xfrm>
          <a:prstGeom prst="flowChartProcess">
            <a:avLst/>
          </a:prstGeom>
          <a:solidFill>
            <a:srgbClr val="8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King George VI (1895-195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m. Lady Elizabeth Bowes-Ly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87280" y="4941720"/>
            <a:ext cx="685800" cy="34308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5373720"/>
            <a:ext cx="2400120" cy="799920"/>
          </a:xfrm>
          <a:prstGeom prst="flowChartProcess">
            <a:avLst/>
          </a:prstGeom>
          <a:solidFill>
            <a:srgbClr val="8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rincess Margaret (1930-2002) M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nthony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700360" y="4724280"/>
            <a:ext cx="2628720" cy="457200"/>
          </a:xfrm>
          <a:custGeom>
            <a:avLst/>
            <a:gdLst>
              <a:gd name="textAreaLeft" fmla="*/ 876240 w 2628720"/>
              <a:gd name="textAreaRight" fmla="*/ 2251440 w 2628720"/>
              <a:gd name="textAreaTop" fmla="*/ 310320 h 457200"/>
              <a:gd name="textAreaBottom" fmla="*/ 391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7751"/>
                </a:moveTo>
                <a:lnTo>
                  <a:pt x="14651" y="17751"/>
                </a:lnTo>
                <a:lnTo>
                  <a:pt x="14651" y="7200"/>
                </a:lnTo>
                <a:lnTo>
                  <a:pt x="11551" y="7200"/>
                </a:lnTo>
                <a:lnTo>
                  <a:pt x="16576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5300640"/>
            <a:ext cx="4105080" cy="1224000"/>
          </a:xfrm>
          <a:prstGeom prst="flowChartProcess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ueen Elizabeth II born 1926    m. Philip Duke of Edinburg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6948360" y="333360"/>
            <a:ext cx="177480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0920" y="157320"/>
            <a:ext cx="5976720" cy="2151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348000" y="1989000"/>
            <a:ext cx="5796000" cy="2300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24000" y="3213000"/>
            <a:ext cx="4319280" cy="2833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39640" y="24922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Ганнуве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35640" y="3876840"/>
            <a:ext cx="244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80000" y="450864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тюар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6308640"/>
            <a:ext cx="30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630864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индзо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272360" cy="4849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826920" y="566100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Королевская сем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оролева Англ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696000" cy="4456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908000" y="630864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Елизавета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627280" y="404640"/>
            <a:ext cx="3878280" cy="5040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124000" y="6010200"/>
            <a:ext cx="51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Елизавета 7 л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Princess Elizabeth II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Royal_F1_1b_earlypublic" descr="Picture of The Queen in her early public life"/>
          <p:cNvPicPr/>
          <p:nvPr/>
        </p:nvPicPr>
        <p:blipFill>
          <a:blip r:embed="rId1"/>
          <a:stretch/>
        </p:blipFill>
        <p:spPr>
          <a:xfrm>
            <a:off x="2711520" y="1413000"/>
            <a:ext cx="3608280" cy="50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Princess Elizabeth II and Prince Philip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2" name="Royal_F1_1b_marriage" descr="Picture of The Queen and Prince Philip at their wedding"/>
          <p:cNvPicPr/>
          <p:nvPr/>
        </p:nvPicPr>
        <p:blipFill>
          <a:blip r:embed="rId1"/>
          <a:stretch/>
        </p:blipFill>
        <p:spPr>
          <a:xfrm>
            <a:off x="2700360" y="1565280"/>
            <a:ext cx="358776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11:05:31Z</dcterms:created>
  <dc:creator>Хозяин</dc:creator>
  <dc:description/>
  <dc:language>en-US</dc:language>
  <cp:lastModifiedBy>Хозяин</cp:lastModifiedBy>
  <dcterms:modified xsi:type="dcterms:W3CDTF">2009-04-28T10:29:21Z</dcterms:modified>
  <cp:revision>5</cp:revision>
  <dc:subject/>
  <dc:title>Слайд 1</dc:title>
</cp:coreProperties>
</file>