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1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2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F05-23B4-45F0-85BE-FE6A88A5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BF9-7C2E-4B13-8771-12AED0E7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51F-FE73-42C0-A611-8F1A3D79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55B-3890-4205-B13A-6E6662AD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9666-14A8-4098-8A37-0A65C84C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988E-D847-430D-8E11-3B92F88A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6DD8-5E2B-4C1D-B496-26F9BDD0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EDE9-DC0F-4A77-8AFB-1ECEFA7C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2867-45D9-44DA-9E42-46F47D77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6CB0-9556-4A2A-8A0A-E3F461CA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D3A3-CFFC-4BAB-B592-82ED9396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B93-4AC9-49E4-997E-B98F7E81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C706-D2DB-4CC6-9696-44F30E21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8D2E-1532-4CA3-BE94-82204159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7CCE-1CE7-44ED-99AF-0AABF4E8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19C1-811F-4EDA-A296-9EC959F0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8409-7004-4126-A570-B96AAF6C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2A224-ABDF-4C6B-8798-B2EA4A20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89A46-6A61-4710-A479-D93F13C2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8E896-ECD8-4781-9333-296DA594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0EC6A-0D67-4B34-9EC7-46BA92BD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C0E25-FABC-4E16-88EC-E88A8C8A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10C-9AFC-4B90-9770-ABF9E6F6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2F96C-4292-4FE1-8673-20A3B515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577BD-99FE-4FBC-93AE-D3D8165B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07FFD-4AEE-4D51-AF82-32060CAC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7F0D-C9D7-4C49-A729-78F36C13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25D91-4531-42AE-940C-EFC92DE5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3C1E-A381-4C70-99D8-B1711AFF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6AD70-85EC-4364-B244-5CF0C584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7F0-EEC8-444E-AF83-E6AAC447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8DA-DB83-4820-982A-52D5E0BA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EC3-9C13-4BCB-8EF1-9803404E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0F4-9AAD-4C39-A090-57891DC6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42B-0637-42C4-A1D9-B800A89F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FC8-A7B1-4976-8EB5-64BCBD80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9DEF-2BBE-4E2B-B16C-317355C55B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9B8D-2A06-40E0-B149-82D006FBE4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48DB-ABE0-4323-9902-5AEFC880C6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2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3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7.xml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1.xml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" Target="slide1.xml"/><Relationship Id="rId5" Type="http://schemas.openxmlformats.org/officeDocument/2006/relationships/image" Target="../media/image3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package" Target="../embeddings/oleObject3.docx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4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15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16.wmf"/><Relationship Id="rId9" Type="http://schemas.openxmlformats.org/officeDocument/2006/relationships/package" Target="../embeddings/oleObject4.docx"/><Relationship Id="rId10" Type="http://schemas.openxmlformats.org/officeDocument/2006/relationships/image" Target="../media/image17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ТЕМА УРОКА: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«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ЭЛЕМЕНТЫ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МБИНАТОРИКИ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»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(ПРАКТИКУ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Повторить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ые понятия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комбинато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Сформировать умения решать различные виды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омбинаторн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Рисунок1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191360" y="4600440"/>
            <a:ext cx="1952640" cy="22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920" y="-81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r>
              <a:rPr b="1" i="1" lang="ru-RU" sz="2700" spc="-1" strike="noStrike" u="sng">
                <a:solidFill>
                  <a:srgbClr val="006600"/>
                </a:solidFill>
                <a:uFillTx/>
                <a:latin typeface="Times New Roman"/>
              </a:rPr>
              <a:t>Определение:</a:t>
            </a:r>
            <a:endParaRPr b="1" lang="en-US" sz="27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518680" cy="56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бинации из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элементов, отличающихся друг от друга только порядком расположения в них элементов, называются перестановками из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элементов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естановки из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элементов обозначаю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n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 вычисляют по формуле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!=1*2*3*4*…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(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факториал</a:t>
            </a:r>
            <a:r>
              <a:rPr b="0" lang="ru-RU" sz="3200" spc="-1" strike="noStrike">
                <a:solidFill>
                  <a:srgbClr val="9966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6600"/>
                </a:solidFill>
                <a:uFillTx/>
                <a:latin typeface="Times New Roman"/>
              </a:rPr>
              <a:t>Свойство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0!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Times New Roman"/>
              </a:rPr>
              <a:t>Задача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олькими способами могут разместиться 5 пассажиров в пятиместной кают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6600"/>
                </a:solidFill>
                <a:uFillTx/>
                <a:latin typeface="Times New Roman"/>
              </a:rPr>
              <a:t>Решение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=5!=1*2*3*4*5=1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4" descr="Рисунок10"/>
          <p:cNvPicPr/>
          <p:nvPr/>
        </p:nvPicPr>
        <p:blipFill>
          <a:blip r:embed="rId1"/>
          <a:stretch/>
        </p:blipFill>
        <p:spPr>
          <a:xfrm>
            <a:off x="8089920" y="5918040"/>
            <a:ext cx="1054080" cy="9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05c9f"/>
                </a:solidFill>
                <a:latin typeface="Times New Roman"/>
              </a:rPr>
              <a:t>Определе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b09df5"/>
                </a:solidFill>
                <a:uFillTx/>
                <a:latin typeface="Times New Roman"/>
              </a:rPr>
              <a:t>Размещени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&lt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и 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называется любое множество, состоящее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, взятых в определённом порядке из данны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исло размещений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означаются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читается: «А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4" descr="Рисунок10"/>
          <p:cNvPicPr/>
          <p:nvPr/>
        </p:nvPicPr>
        <p:blipFill>
          <a:blip r:embed="rId1"/>
          <a:stretch/>
        </p:blipFill>
        <p:spPr>
          <a:xfrm>
            <a:off x="7956720" y="5805360"/>
            <a:ext cx="1054080" cy="93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Object 9"/>
          <p:cNvGraphicFramePr/>
          <p:nvPr/>
        </p:nvGraphicFramePr>
        <p:xfrm>
          <a:off x="1547640" y="1413000"/>
          <a:ext cx="6096240" cy="4064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413000"/>
                    <a:ext cx="60962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13"/>
          <p:cNvGraphicFramePr/>
          <p:nvPr/>
        </p:nvGraphicFramePr>
        <p:xfrm>
          <a:off x="2050920" y="2924280"/>
          <a:ext cx="4027680" cy="2685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2924280"/>
                    <a:ext cx="40276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0" name="Object 19"/>
          <p:cNvGraphicFramePr/>
          <p:nvPr/>
        </p:nvGraphicFramePr>
        <p:xfrm>
          <a:off x="1332000" y="1773360"/>
          <a:ext cx="470988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73360"/>
                    <a:ext cx="4709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2" name="Picture 22" descr="Рисунок10"/>
          <p:cNvPicPr/>
          <p:nvPr/>
        </p:nvPicPr>
        <p:blipFill>
          <a:blip r:embed="rId3"/>
          <a:stretch/>
        </p:blipFill>
        <p:spPr>
          <a:xfrm>
            <a:off x="8089920" y="5918040"/>
            <a:ext cx="1054080" cy="9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Определение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7596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четани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зывается любое множество, составленное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, выбранных из данны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 (не имеет значения, в каком порядке указаны элементы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исло сочетаний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означаю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читается: «С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4" descr="Рисунок100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2860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Рисунок10"/>
          <p:cNvPicPr/>
          <p:nvPr/>
        </p:nvPicPr>
        <p:blipFill>
          <a:blip r:embed="rId2"/>
          <a:stretch/>
        </p:blipFill>
        <p:spPr>
          <a:xfrm>
            <a:off x="7740720" y="5734080"/>
            <a:ext cx="105408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Object 6"/>
          <p:cNvGraphicFramePr/>
          <p:nvPr/>
        </p:nvGraphicFramePr>
        <p:xfrm>
          <a:off x="1187280" y="3141720"/>
          <a:ext cx="4037040" cy="2692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141720"/>
                    <a:ext cx="40370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1187280" y="1268280"/>
          <a:ext cx="588816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8881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Picture 7" descr="Рисунок10"/>
          <p:cNvPicPr/>
          <p:nvPr/>
        </p:nvPicPr>
        <p:blipFill>
          <a:blip r:embed="rId3"/>
          <a:stretch/>
        </p:blipFill>
        <p:spPr>
          <a:xfrm>
            <a:off x="8089920" y="5918040"/>
            <a:ext cx="1054080" cy="9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</a:rPr>
              <a:t>МОЛОДЦЫ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</a:rPr>
              <a:t>СПАСИБО ЗА УРОК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тако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омбинаторик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чем состоит комбинаторно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равило умножения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тако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ерестановки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писать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формулу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для нахождения числа перестанов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такое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факториал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тако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размещения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писать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формулу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нахождения числа размещ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тако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сочетания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писать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формулу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нахождения числа сочета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чём различие между перестановками, размещениями и сочета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Рисунок111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950240" y="5784840"/>
            <a:ext cx="1193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бор комбинаторн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осьмиклассники Анна, Борис, Виктор и Галина побежали на перемене к теннисному столу, за которым уже шла игра. Сколькими способами подбежавшие к столу восьмиклассники могут занять очередь для игры в настольный теннис?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решени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колькими способами можно расставить 8 участниц финального забега на восьми беговых дорожках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решение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чащиеся 2 класса изучают 9 предметов. Сколькими способами можно составить расписание на один день, чтобы в нём было 4 различных предмета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решени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з набора, состоящего из 15 красок, надо выбрать 3 краски для окрашивания шкатулки. Сколькими способами можно сделать этот выбор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решени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Устал - отдох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Рисунок11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950240" y="5589720"/>
            <a:ext cx="1193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1 Первым в очередь мог встать любой из четырёх ребят, вторым – любой из оставшихся трёх, третьим – любой из оставшихся двух и четвёртым -  последний. По правилу произведения :4*3*2*1=24 спос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2 Число способов равно числу перестановок из 8 элементов : 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  <a:ea typeface="Times New Roman"/>
              </a:rPr>
              <a:t>Р</a:t>
            </a:r>
            <a:r>
              <a:rPr b="1" lang="ru-RU" sz="2000" spc="-1" strike="noStrike" baseline="-30000">
                <a:solidFill>
                  <a:srgbClr val="cc00cc"/>
                </a:solidFill>
                <a:latin typeface="Arial"/>
                <a:ea typeface="Times New Roman"/>
              </a:rPr>
              <a:t>8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=8!=1*2*3*4*5*6*7*8=40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3 Любое расписание на один день, составленное из 4 различных предметов, отличается от другого либо набором предметов, либо порядком их следования. Имеем размещения из 9 по 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4 Каждый набор трёх красок отличается от другого хотя бы одной краской. Имеем сочетания из 15 по 3 :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5651640" y="3284640"/>
          <a:ext cx="3278160" cy="2185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3284640"/>
                    <a:ext cx="32781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4" descr="Рисунок1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12000" y="5589720"/>
            <a:ext cx="119376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Object 7"/>
          <p:cNvGraphicFramePr/>
          <p:nvPr/>
        </p:nvGraphicFramePr>
        <p:xfrm>
          <a:off x="684360" y="4941720"/>
          <a:ext cx="3279600" cy="2187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76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4941720"/>
                    <a:ext cx="327960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9"/>
          <p:cNvGraphicFramePr/>
          <p:nvPr/>
        </p:nvGraphicFramePr>
        <p:xfrm>
          <a:off x="3851280" y="4826160"/>
          <a:ext cx="6094440" cy="40636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1280" y="4826160"/>
                    <a:ext cx="60944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№1</a:t>
            </a:r>
            <a:r>
              <a:rPr b="0" lang="ru-RU" sz="16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В шахматном кружке занимаются 16 человек. Сколькими способами тренер может выбрать из них для предстоящего турнира : а) команду из четырёх человек;</a:t>
            </a:r>
            <a:br>
              <a:rPr sz="2000"/>
            </a:b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б) команду из четырёх человек, указав при этом, кто из членов команды будет играть на первой, второй, третьей и четвёртой дос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8200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2 У Антона 6 друзей. Он может пригласить в гости одного или несколько из них. Определите общее число возможных вари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3 В 9 «а» классе учатся 25 учащихся,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в 9 «б» - 20 учащихся, а в 9 «в» - 18 учащихся. Для работы на пришкольном участке надо выделить трёх учащихся из 9 «а», двух -из 9 «б» и одного – из  9 «в». Сколько существует способов выбора учащихся для работы на пришкольном участ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№1 Пять мальчиков и четыре девочки хотят сесть на девятиместную скамейку так, чтобы каждая  девочка сидела между двумя мальчиками. Сколькими способами они могут это с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    №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2 Из 12 солдат, в число которых входят Иванов и Петров, надо отправить в наряд трёх человек. Сколькими способами  это можно сделать, если: а) Иванов и Петров должны пойти в наряд обязательно; б) Иванов и Петров должны остаться; в)Ива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должен пойти в наряд, а Петров –остатьс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тал - отдох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Рисунок111"/>
          <p:cNvPicPr/>
          <p:nvPr/>
        </p:nvPicPr>
        <p:blipFill>
          <a:blip r:embed="rId3"/>
          <a:stretch/>
        </p:blipFill>
        <p:spPr>
          <a:xfrm>
            <a:off x="7950240" y="5784840"/>
            <a:ext cx="1193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218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№1 а) 1820 способ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б) 43 680 спосо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№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 63 спосо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указание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+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+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+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+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+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№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 7 866 000 способ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указание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25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*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20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*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18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№1 2880 способ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указание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Р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*Р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№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 а)10 способ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б)120 способ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в)45 способ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Рисунок111"/>
          <p:cNvPicPr/>
          <p:nvPr/>
        </p:nvPicPr>
        <p:blipFill>
          <a:blip r:embed="rId2"/>
          <a:stretch/>
        </p:blipFill>
        <p:spPr>
          <a:xfrm>
            <a:off x="7950240" y="5784840"/>
            <a:ext cx="1193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62e4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-866880"/>
            <a:ext cx="8146800" cy="17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отгадай 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870360" cy="1892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5076720" y="1052640"/>
            <a:ext cx="3381480" cy="1752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3"/>
          <a:stretch/>
        </p:blipFill>
        <p:spPr>
          <a:xfrm>
            <a:off x="539640" y="3789360"/>
            <a:ext cx="2971800" cy="145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4"/>
          <a:stretch/>
        </p:blipFill>
        <p:spPr>
          <a:xfrm>
            <a:off x="4356000" y="3789360"/>
            <a:ext cx="4381560" cy="952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5"/>
          <a:stretch/>
        </p:blipFill>
        <p:spPr>
          <a:xfrm>
            <a:off x="3851280" y="5300640"/>
            <a:ext cx="2390760" cy="1228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Рисунок111"/>
          <p:cNvPicPr/>
          <p:nvPr/>
        </p:nvPicPr>
        <p:blipFill>
          <a:blip r:embed="rId6"/>
          <a:stretch/>
        </p:blipFill>
        <p:spPr>
          <a:xfrm>
            <a:off x="7740720" y="5589720"/>
            <a:ext cx="1193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075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b09df5"/>
                </a:solidFill>
                <a:uFillTx/>
                <a:latin typeface="Times New Roman"/>
              </a:rPr>
              <a:t>Понятие науки « Комбинаторика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507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Комбинаторикой называется раздел математики, в котором исследуется, сколько различных комбинаций (всевозможных объединений элементов), подчиненных тем или иным условиям, можно составить из элементов, принадлежащих данному множеств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Слово «комбинаторика» происходит от латинского слова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combinare</a:t>
            </a: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, которое означает «соединять, сочетать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4" descr="Рисунок10"/>
          <p:cNvPicPr/>
          <p:nvPr/>
        </p:nvPicPr>
        <p:blipFill>
          <a:blip r:embed="rId1"/>
          <a:stretch/>
        </p:blipFill>
        <p:spPr>
          <a:xfrm>
            <a:off x="8089920" y="5918040"/>
            <a:ext cx="1054080" cy="9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b09df5"/>
                </a:solidFill>
                <a:uFillTx/>
                <a:latin typeface="Times New Roman"/>
              </a:rPr>
              <a:t>Правило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Пусть имеется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n </a:t>
            </a: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элементов и требуется выбрать один за другим некоторые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 элементов. Если первый элемент можно выбрать    способами, после чего второй элемент можно выбрать из оставшихся элементов         способами, затем третий элемент –      способами и т.д., то число способов, которыми могут быть выбраны все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 элементов, равно произведению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7" name="Object 6"/>
          <p:cNvGraphicFramePr/>
          <p:nvPr/>
        </p:nvGraphicFramePr>
        <p:xfrm>
          <a:off x="6012000" y="3716280"/>
          <a:ext cx="3282840" cy="218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716280"/>
                    <a:ext cx="32828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Picture 4" descr="Рисунок10"/>
          <p:cNvPicPr/>
          <p:nvPr/>
        </p:nvPicPr>
        <p:blipFill>
          <a:blip r:embed="rId3"/>
          <a:stretch/>
        </p:blipFill>
        <p:spPr>
          <a:xfrm>
            <a:off x="8089920" y="5918040"/>
            <a:ext cx="1054080" cy="939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Рисунок189"/>
          <p:cNvPicPr/>
          <p:nvPr/>
        </p:nvPicPr>
        <p:blipFill>
          <a:blip r:embed="rId4"/>
          <a:stretch/>
        </p:blipFill>
        <p:spPr>
          <a:xfrm>
            <a:off x="3851280" y="4869000"/>
            <a:ext cx="1733400" cy="184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Object 8"/>
          <p:cNvGraphicFramePr/>
          <p:nvPr/>
        </p:nvGraphicFramePr>
        <p:xfrm>
          <a:off x="5861160" y="1916280"/>
          <a:ext cx="3282840" cy="2189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1160" y="1916280"/>
                    <a:ext cx="32828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1"/>
          <p:cNvGraphicFramePr/>
          <p:nvPr/>
        </p:nvGraphicFramePr>
        <p:xfrm>
          <a:off x="9325080" y="2492280"/>
          <a:ext cx="7102440" cy="40640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04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25080" y="2492280"/>
                    <a:ext cx="7102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12"/>
          <p:cNvGraphicFramePr/>
          <p:nvPr/>
        </p:nvGraphicFramePr>
        <p:xfrm>
          <a:off x="4643280" y="3141720"/>
          <a:ext cx="6094440" cy="40640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06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3280" y="3141720"/>
                    <a:ext cx="6094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13"/>
          <p:cNvGraphicFramePr/>
          <p:nvPr/>
        </p:nvGraphicFramePr>
        <p:xfrm>
          <a:off x="3995640" y="3573360"/>
          <a:ext cx="7488360" cy="40640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08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5640" y="3573360"/>
                    <a:ext cx="74883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01:26:32Z</dcterms:created>
  <dc:creator>user</dc:creator>
  <dc:description/>
  <dc:language>en-US</dc:language>
  <cp:lastModifiedBy>Коля</cp:lastModifiedBy>
  <dcterms:modified xsi:type="dcterms:W3CDTF">2013-03-26T17:07:07Z</dcterms:modified>
  <cp:revision>10</cp:revision>
  <dc:subject/>
  <dc:title>Слайд 1</dc:title>
</cp:coreProperties>
</file>