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20.wmf" ContentType="image/x-wmf"/>
  <Override PartName="/ppt/media/image56.jpeg" ContentType="image/jpeg"/>
  <Override PartName="/ppt/media/image55.jpeg" ContentType="image/jpeg"/>
  <Override PartName="/ppt/media/image54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59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2.png" ContentType="image/png"/>
  <Override PartName="/ppt/media/image22.jpeg" ContentType="image/jpeg"/>
  <Override PartName="/ppt/media/image15.jpeg" ContentType="image/jpeg"/>
  <Override PartName="/ppt/media/image65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52.jpeg" ContentType="image/jpeg"/>
  <Override PartName="/ppt/media/image29.jpeg" ContentType="image/jpeg"/>
  <Override PartName="/ppt/media/image14.jpeg" ContentType="image/jpeg"/>
  <Override PartName="/ppt/media/image19.gif" ContentType="image/gif"/>
  <Override PartName="/ppt/media/image41.jpeg" ContentType="image/jpeg"/>
  <Override PartName="/ppt/media/image17.jpeg" ContentType="image/jpeg"/>
  <Override PartName="/ppt/media/image16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26.jpeg" ContentType="image/jpeg"/>
  <Override PartName="/ppt/media/image42.png" ContentType="image/png"/>
  <Override PartName="/ppt/media/image32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4D3E-9C2B-414E-949E-AFF7EA97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FAA-9ACC-44A4-8A20-B8DC0220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263-C4E8-413E-B62A-CDAE5E29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04D-7C8E-4DA2-8154-2CC03D26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92ED-119A-47BD-BA1D-1081D40D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7E90-3514-43FA-BF76-561E6E32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6EC7-897A-4D97-9D39-2E4E03BC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2A41-8411-4289-8D7A-876CB336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39D1-0A9E-4FAC-8697-31F9C878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F00A-BB95-4F24-A418-82FEA7EB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BC5A-148F-47C1-8496-65C85924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064-19F3-410C-A060-94541526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9915-6FB2-4E39-A487-0490894B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61AF-7F3B-415D-90AC-4CB654F0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BFC6-B040-453E-BF12-023D2618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4DFC-D290-4642-8D31-DAA461D7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64BB-AD31-4CC7-A95E-F267FEB2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12F-D723-4DFB-8810-AA6E744C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89E-D0BB-4ABD-BBB4-22ECD706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7414-56C1-4D03-A34D-05642CBE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DE3-7E66-46F7-AC30-9B5F02BD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70EC-718C-4451-B18C-E663E617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0BD-3B7C-4805-B3E5-8BB99F7D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B16-5CA4-40CB-8145-AC0C6271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D5FC-D60A-4A55-8070-E7BE5BB4E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98DD-CC74-4D4F-96A1-8EC3B352C0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image" Target="../media/image44.png"/><Relationship Id="rId9" Type="http://schemas.openxmlformats.org/officeDocument/2006/relationships/image" Target="../media/image44.pn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image" Target="../media/image47.jpeg"/><Relationship Id="rId1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9.pn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0" y="4495680"/>
            <a:ext cx="510552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Классный час в 4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432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Жакулина И.В., учитель начальных классов МОУ-СОШ № 23 г.Чапаевска Сама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2971800" y="1219320"/>
            <a:ext cx="3181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День Зем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Колокола Мира в конце ХХ века были установлены более чем в двадцати странах – Польше и Турции, в Мексике и Австралии, Монголии и Филиппинах, в Канаде и Бразилии, Германии и Японии, Аргентине, Эквадоре, России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3" descr="Колокол Мира в День Земли_2"/>
          <p:cNvPicPr/>
          <p:nvPr/>
        </p:nvPicPr>
        <p:blipFill>
          <a:blip r:embed="rId1"/>
          <a:stretch/>
        </p:blipFill>
        <p:spPr>
          <a:xfrm>
            <a:off x="533520" y="457200"/>
            <a:ext cx="4830480" cy="3624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Колокол Мира в Индии"/>
          <p:cNvPicPr/>
          <p:nvPr/>
        </p:nvPicPr>
        <p:blipFill>
          <a:blip r:embed="rId2"/>
          <a:stretch/>
        </p:blipFill>
        <p:spPr>
          <a:xfrm>
            <a:off x="6019920" y="457200"/>
            <a:ext cx="2465280" cy="358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45720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России впервые акция «Колокол Мира в День Земли» была проведена в 1998 году в Москве, её организаторами стали Международный центр-музей имени Н. К. Рериха, Международный гуманитарный фонд «Знание», Федерация космонавтики России, Международная Ассоциация фондов Мира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3" descr="300px-Kolokol_Mira"/>
          <p:cNvPicPr/>
          <p:nvPr/>
        </p:nvPicPr>
        <p:blipFill>
          <a:blip r:embed="rId1"/>
          <a:stretch/>
        </p:blipFill>
        <p:spPr>
          <a:xfrm>
            <a:off x="533520" y="45720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5943600" y="53352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фото: лётчики-космонавты В. М. Афанасьев и А.Н. Берез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880" y="281952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… День Земли — это день ответственности перед нашей планетой, ответственности перед людьми, которые её населяют, перед самой природой, частью которой мы являемся»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3" descr="Капица С"/>
          <p:cNvPicPr/>
          <p:nvPr/>
        </p:nvPicPr>
        <p:blipFill>
          <a:blip r:embed="rId1"/>
          <a:stretch/>
        </p:blipFill>
        <p:spPr>
          <a:xfrm>
            <a:off x="5486400" y="1905120"/>
            <a:ext cx="3448080" cy="4600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609480" y="304920"/>
            <a:ext cx="8001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5ffff"/>
                </a:solidFill>
                <a:latin typeface="Arial"/>
              </a:rPr>
              <a:t>Сергей Петрович Капица  - </a:t>
            </a:r>
            <a:r>
              <a:rPr b="1" i="1" lang="ru-RU" sz="2600" spc="-1" strike="noStrike">
                <a:solidFill>
                  <a:srgbClr val="e5ffff"/>
                </a:solidFill>
                <a:latin typeface="Arial"/>
              </a:rPr>
              <a:t>доктор физико-математических наук, профессор, академик, вице-президент РА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5410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Теперь колокола Мира звучат и в других городах России, правда, чаще День Земли у нас отмечают не 21 марта, а 22 апреля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Колокол Мира в День Земли_1"/>
          <p:cNvPicPr/>
          <p:nvPr/>
        </p:nvPicPr>
        <p:blipFill>
          <a:blip r:embed="rId1"/>
          <a:stretch/>
        </p:blipFill>
        <p:spPr>
          <a:xfrm>
            <a:off x="1066680" y="380880"/>
            <a:ext cx="7162920" cy="495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44956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22 апреля по инициативе всемирного движения Earth Day Network во многих странах мира отмечается День Земли. Этот день, в отличие от Дня Земли, проводимого в марте, призван объединять людей планеты в деле защиты окружающей среды. Его можно назвать праздником чистой воды, земли и воздуха – всего, что необходимо для жизни.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3" descr="80d3fd6bc93d"/>
          <p:cNvPicPr/>
          <p:nvPr/>
        </p:nvPicPr>
        <p:blipFill>
          <a:blip r:embed="rId1"/>
          <a:stretch/>
        </p:blipFill>
        <p:spPr>
          <a:xfrm>
            <a:off x="1600200" y="380880"/>
            <a:ext cx="5791320" cy="386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520" y="21337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зник этот праздник в 1872 году в США, по инициативе министра земледелия штата Небраска Дж. Стерлинга Мортона. Он  предложил заняться озеленением, устроить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День дерев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Только в первый День дерева жители штата посадили около миллиона деревьев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зднее, в 1882 году, правительство штата Небраска учредило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День Дерев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как официальный праздник, и отмечать его стали 22 апреля, в день рождения Мортон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1970 г.по инициативе Гейлорда Нельсона, сенатора от штата Висконсин День Дерева получил новое название -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День Земл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2514600" y="457200"/>
            <a:ext cx="506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 истории праздн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533520" y="304920"/>
          <a:ext cx="1125360" cy="121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1125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5"/>
          <p:cNvSpPr/>
          <p:nvPr/>
        </p:nvSpPr>
        <p:spPr>
          <a:xfrm>
            <a:off x="3429000" y="1219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ерсия пер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04920" y="1905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2 апреля 1989 года вблизи небольшого американского городка Санта Барбара произошел разрыв нефтепровода, повлекший загрязнение значительной территори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ликвидации последствий этого экологического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бедствия приняло участие всё население городка и многие добровольцы из других городов Амери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звестный американский ученый-эколог профессор Денис Хейс обратился к американской и мировой общественности с призывом отмечать, начиная с 1990 года, 22 апреля «День Земли» и вносить в этот день свой посильный вклад в облагораживание, озеленение и благоустройство территорий родной планеты и её природных памятни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200400" y="1143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ерсия вто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80880" y="594360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 1990 года 22 апреля объявлено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Международным Днём Земл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его отмечают жители большинства стран Ми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семирное движ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24280" y="1752480"/>
            <a:ext cx="42674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а сегодняшний день, 147 стран мира зарегистрировано во Всемирном движении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о многих странах проходят праздничные мероприятия и акции, призывающие обратить внимание на проблемы экологи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ece5e72ca04f4253f8c1179c14012c44"/>
          <p:cNvPicPr/>
          <p:nvPr/>
        </p:nvPicPr>
        <p:blipFill>
          <a:blip r:embed="rId1"/>
          <a:stretch/>
        </p:blipFill>
        <p:spPr>
          <a:xfrm>
            <a:off x="380880" y="1447920"/>
            <a:ext cx="4213440" cy="4200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Международный день Земли"/>
          <p:cNvPicPr/>
          <p:nvPr/>
        </p:nvPicPr>
        <p:blipFill>
          <a:blip r:embed="rId1"/>
          <a:stretch/>
        </p:blipFill>
        <p:spPr>
          <a:xfrm>
            <a:off x="304920" y="380880"/>
            <a:ext cx="4267080" cy="31114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80880" y="3657600"/>
            <a:ext cx="838224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анаде проводятся мероприятия, привлекающих внимание общественности к решению экологических проблем. Почти каждый канадский школьник принимает посильное участие в мероприятиях этого дн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4800600" y="38088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380880" y="5486400"/>
            <a:ext cx="8382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Германии проводятся экологические акции протеста, демонстраци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952880" y="762120"/>
            <a:ext cx="39625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еждународный 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экологический велопробег Critical Mass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 Венгрии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critical mass budapest hungary earth day event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3074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акция without cars на улицах сеула"/>
          <p:cNvPicPr/>
          <p:nvPr/>
        </p:nvPicPr>
        <p:blipFill>
          <a:blip r:embed="rId2"/>
          <a:stretch/>
        </p:blipFill>
        <p:spPr>
          <a:xfrm>
            <a:off x="4267080" y="3403440"/>
            <a:ext cx="4648320" cy="3100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560" y="44953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Акция «Без автомобилей» (Without Cars) на улицах Сеула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876920" y="3809520"/>
            <a:ext cx="40384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Филиппинах проводятся экологическая акция протеста, демонстрация движения по защите животных PETA, «зеленый» велосипедный забег «Annual Tour of the Fireflies»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3" descr="national ecology center in quezon philippines"/>
          <p:cNvPicPr/>
          <p:nvPr/>
        </p:nvPicPr>
        <p:blipFill>
          <a:blip r:embed="rId1"/>
          <a:stretch/>
        </p:blipFill>
        <p:spPr>
          <a:xfrm>
            <a:off x="228600" y="304920"/>
            <a:ext cx="4419720" cy="3049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демонстрация движения peta манила филиппины"/>
          <p:cNvPicPr/>
          <p:nvPr/>
        </p:nvPicPr>
        <p:blipFill>
          <a:blip r:embed="rId2"/>
          <a:stretch/>
        </p:blipFill>
        <p:spPr>
          <a:xfrm>
            <a:off x="4952880" y="304920"/>
            <a:ext cx="3962520" cy="3052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велосипедный забег манила филиппины"/>
          <p:cNvPicPr/>
          <p:nvPr/>
        </p:nvPicPr>
        <p:blipFill>
          <a:blip r:embed="rId3"/>
          <a:stretch/>
        </p:blipFill>
        <p:spPr>
          <a:xfrm>
            <a:off x="228600" y="3581280"/>
            <a:ext cx="4419720" cy="2955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2209680" y="1905120"/>
            <a:ext cx="51055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День Зем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520" y="5638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России День Земли официально отмечается с 1998 года в рамках Дней защиты от экологической опасности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3" descr="na2003371"/>
          <p:cNvPicPr/>
          <p:nvPr/>
        </p:nvPicPr>
        <p:blipFill>
          <a:blip r:embed="rId1"/>
          <a:stretch/>
        </p:blipFill>
        <p:spPr>
          <a:xfrm>
            <a:off x="990720" y="380880"/>
            <a:ext cx="7162560" cy="482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6840" y="5714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 этот день все желающие принимают участие в благоустройстве и озеленении своих дворов и улиц, различных экологических мероприятиях, фестивалях и акциях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3" descr="1657_s_b"/>
          <p:cNvPicPr/>
          <p:nvPr/>
        </p:nvPicPr>
        <p:blipFill>
          <a:blip r:embed="rId1"/>
          <a:stretch/>
        </p:blipFill>
        <p:spPr>
          <a:xfrm>
            <a:off x="533520" y="29718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vf_25_2"/>
          <p:cNvPicPr/>
          <p:nvPr/>
        </p:nvPicPr>
        <p:blipFill>
          <a:blip r:embed="rId2"/>
          <a:stretch/>
        </p:blipFill>
        <p:spPr>
          <a:xfrm>
            <a:off x="4952880" y="152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OINARUS-2006-238"/>
          <p:cNvPicPr/>
          <p:nvPr/>
        </p:nvPicPr>
        <p:blipFill>
          <a:blip r:embed="rId3"/>
          <a:stretch/>
        </p:blipFill>
        <p:spPr>
          <a:xfrm>
            <a:off x="533520" y="152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TD"/>
          <p:cNvPicPr/>
          <p:nvPr/>
        </p:nvPicPr>
        <p:blipFill>
          <a:blip r:embed="rId4"/>
          <a:stretch/>
        </p:blipFill>
        <p:spPr>
          <a:xfrm>
            <a:off x="4952880" y="2971800"/>
            <a:ext cx="3657600" cy="275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09480" y="4876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чиная с 1990 г. темой Дня Земли в США становятся национальные парки. В этот день проводится сбор средств в поддержку охраняемых природных территорий. Праздник приобрел новое значение, а вместе с ним и новое название - Марш Парков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3" descr="8"/>
          <p:cNvPicPr/>
          <p:nvPr/>
        </p:nvPicPr>
        <p:blipFill>
          <a:blip r:embed="rId1"/>
          <a:stretch/>
        </p:blipFill>
        <p:spPr>
          <a:xfrm>
            <a:off x="380880" y="3049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yosemite-national-park-usa"/>
          <p:cNvPicPr/>
          <p:nvPr/>
        </p:nvPicPr>
        <p:blipFill>
          <a:blip r:embed="rId2"/>
          <a:stretch/>
        </p:blipFill>
        <p:spPr>
          <a:xfrm>
            <a:off x="4724280" y="1790640"/>
            <a:ext cx="4077000" cy="3057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76360" y="380880"/>
            <a:ext cx="5638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 1995 г. к празднику присоединились заповедники и национальные парки России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" descr="01"/>
          <p:cNvPicPr/>
          <p:nvPr/>
        </p:nvPicPr>
        <p:blipFill>
          <a:blip r:embed="rId1"/>
          <a:stretch/>
        </p:blipFill>
        <p:spPr>
          <a:xfrm>
            <a:off x="304920" y="304920"/>
            <a:ext cx="2819160" cy="27702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3352680" y="1447920"/>
            <a:ext cx="5562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Экологический праздник «Марш парков» проводится 19 — 24 апреля в десятках регионов России и во многих странах ми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80880" y="49528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новная цель «Марша парков» — привлечь общественное внимание к проблемам заповедных территорий России, возродить в людях чувство гордости и ответственности за нашу природу.          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80880" y="32004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тот праздник посвящён заповедникам и национальным паркам, которые сохраняют для нас в нетронутом виде красивейшие ландшафты, тысячи редких видов растений и животных, уникальные памятники культур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marsh_parkov-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kostomukshsky_reserve"/>
          <p:cNvPicPr/>
          <p:nvPr/>
        </p:nvPicPr>
        <p:blipFill>
          <a:blip r:embed="rId1"/>
          <a:stretch/>
        </p:blipFill>
        <p:spPr>
          <a:xfrm>
            <a:off x="533520" y="1066680"/>
            <a:ext cx="3700440" cy="2667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02"/>
          <p:cNvPicPr/>
          <p:nvPr/>
        </p:nvPicPr>
        <p:blipFill>
          <a:blip r:embed="rId2"/>
          <a:stretch/>
        </p:blipFill>
        <p:spPr>
          <a:xfrm>
            <a:off x="4876920" y="1066680"/>
            <a:ext cx="3809880" cy="266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2008"/>
          <p:cNvPicPr/>
          <p:nvPr/>
        </p:nvPicPr>
        <p:blipFill>
          <a:blip r:embed="rId3"/>
          <a:stretch/>
        </p:blipFill>
        <p:spPr>
          <a:xfrm>
            <a:off x="533520" y="388620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51"/>
          <p:cNvPicPr/>
          <p:nvPr/>
        </p:nvPicPr>
        <p:blipFill>
          <a:blip r:embed="rId4"/>
          <a:stretch/>
        </p:blipFill>
        <p:spPr>
          <a:xfrm>
            <a:off x="4876920" y="3886200"/>
            <a:ext cx="3809880" cy="2832120"/>
          </a:xfrm>
          <a:prstGeom prst="rect">
            <a:avLst/>
          </a:prstGeom>
          <a:ln w="0">
            <a:noFill/>
          </a:ln>
        </p:spPr>
      </p:pic>
      <p:sp>
        <p:nvSpPr>
          <p:cNvPr id="167" name="WordArt 6"/>
          <p:cNvSpPr txBox="1"/>
          <p:nvPr/>
        </p:nvSpPr>
        <p:spPr>
          <a:xfrm>
            <a:off x="457200" y="380880"/>
            <a:ext cx="8153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Любите и берегите нашу Землю, природу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68" name="Picture 7" descr="korolev"/>
          <p:cNvPicPr/>
          <p:nvPr/>
        </p:nvPicPr>
        <p:blipFill>
          <a:blip r:embed="rId7"/>
          <a:stretch/>
        </p:blipFill>
        <p:spPr>
          <a:xfrm>
            <a:off x="533520" y="3886200"/>
            <a:ext cx="3733560" cy="2805120"/>
          </a:xfrm>
          <a:prstGeom prst="rect">
            <a:avLst/>
          </a:prstGeom>
          <a:ln w="0">
            <a:noFill/>
          </a:ln>
        </p:spPr>
      </p:pic>
      <p:sp>
        <p:nvSpPr>
          <p:cNvPr id="169" name="WordArt 8"/>
          <p:cNvSpPr txBox="1"/>
          <p:nvPr/>
        </p:nvSpPr>
        <p:spPr>
          <a:xfrm>
            <a:off x="1676520" y="38088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Arial"/>
              </a:rPr>
              <a:t>В этом виноват человек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70" name="Picture 9" descr="катастрофы и катаклизмы в природе"/>
          <p:cNvPicPr/>
          <p:nvPr/>
        </p:nvPicPr>
        <p:blipFill>
          <a:blip r:embed="rId10"/>
          <a:stretch/>
        </p:blipFill>
        <p:spPr>
          <a:xfrm>
            <a:off x="533520" y="1066680"/>
            <a:ext cx="3733560" cy="2667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371070"/>
          <p:cNvPicPr/>
          <p:nvPr/>
        </p:nvPicPr>
        <p:blipFill>
          <a:blip r:embed="rId11"/>
          <a:stretch/>
        </p:blipFill>
        <p:spPr>
          <a:xfrm>
            <a:off x="4876920" y="1066680"/>
            <a:ext cx="3809880" cy="2657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экология земли_1"/>
          <p:cNvPicPr/>
          <p:nvPr/>
        </p:nvPicPr>
        <p:blipFill>
          <a:blip r:embed="rId12"/>
          <a:stretch/>
        </p:blipFill>
        <p:spPr>
          <a:xfrm>
            <a:off x="4876920" y="3886200"/>
            <a:ext cx="3809880" cy="2819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5486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Загрязнение воздух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ядовитыми выбросами в атмосферу вызывают рак, нарушения работы иммунной системы. Это убивает около трех миллионов человек в год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WordArt 3"/>
          <p:cNvSpPr txBox="1"/>
          <p:nvPr/>
        </p:nvSpPr>
        <p:spPr>
          <a:xfrm>
            <a:off x="1143000" y="380880"/>
            <a:ext cx="7219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ологические проблемы ми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75" name="Picture 4" descr="загрязнение воздуха"/>
          <p:cNvPicPr/>
          <p:nvPr/>
        </p:nvPicPr>
        <p:blipFill>
          <a:blip r:embed="rId1"/>
          <a:stretch/>
        </p:blipFill>
        <p:spPr>
          <a:xfrm>
            <a:off x="1371600" y="1066680"/>
            <a:ext cx="6629400" cy="4318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загрязнение воды 3"/>
          <p:cNvPicPr/>
          <p:nvPr/>
        </p:nvPicPr>
        <p:blipFill>
          <a:blip r:embed="rId2"/>
          <a:stretch/>
        </p:blipFill>
        <p:spPr>
          <a:xfrm>
            <a:off x="304920" y="121932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загрязнение воды 4"/>
          <p:cNvPicPr/>
          <p:nvPr/>
        </p:nvPicPr>
        <p:blipFill>
          <a:blip r:embed="rId3"/>
          <a:stretch/>
        </p:blipFill>
        <p:spPr>
          <a:xfrm>
            <a:off x="4648320" y="1219320"/>
            <a:ext cx="4216320" cy="31622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380880" y="48006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Загрязнение воды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приводит к размножению малярийных комаров, из-за чего ежегодно умирает около двух миллионов человек. Нехватку чистой воды испытывают более миллиарда человек при том, что 80% всех инфекционных заболеваний передается через вод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загрязнение почвы"/>
          <p:cNvPicPr/>
          <p:nvPr/>
        </p:nvPicPr>
        <p:blipFill>
          <a:blip r:embed="rId4"/>
          <a:stretch/>
        </p:blipFill>
        <p:spPr>
          <a:xfrm>
            <a:off x="1371600" y="1066680"/>
            <a:ext cx="6477120" cy="43149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9"/>
          <p:cNvSpPr/>
          <p:nvPr/>
        </p:nvSpPr>
        <p:spPr>
          <a:xfrm>
            <a:off x="457200" y="54100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Загрязнение и опустошение почвы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приводит к тому, что отравляющие вещества поглощаются человеком вместе с пищей и вод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066680" y="380880"/>
            <a:ext cx="722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ологические проблемы ми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2" name="Picture 3" descr="парниковый эффект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5541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623px-Arctica_surface"/>
          <p:cNvPicPr/>
          <p:nvPr/>
        </p:nvPicPr>
        <p:blipFill>
          <a:blip r:embed="rId2"/>
          <a:stretch/>
        </p:blipFill>
        <p:spPr>
          <a:xfrm>
            <a:off x="1828800" y="990720"/>
            <a:ext cx="5791320" cy="5567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горы без снега"/>
          <p:cNvPicPr/>
          <p:nvPr/>
        </p:nvPicPr>
        <p:blipFill>
          <a:blip r:embed="rId3"/>
          <a:stretch/>
        </p:blipFill>
        <p:spPr>
          <a:xfrm>
            <a:off x="838080" y="990720"/>
            <a:ext cx="7467840" cy="5603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торнадо 2"/>
          <p:cNvPicPr/>
          <p:nvPr/>
        </p:nvPicPr>
        <p:blipFill>
          <a:blip r:embed="rId4"/>
          <a:stretch/>
        </p:blipFill>
        <p:spPr>
          <a:xfrm>
            <a:off x="838080" y="990720"/>
            <a:ext cx="7543800" cy="5657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наводнение 1"/>
          <p:cNvPicPr/>
          <p:nvPr/>
        </p:nvPicPr>
        <p:blipFill>
          <a:blip r:embed="rId5"/>
          <a:stretch/>
        </p:blipFill>
        <p:spPr>
          <a:xfrm>
            <a:off x="914400" y="990720"/>
            <a:ext cx="7467480" cy="5607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Озоновая дыра 2"/>
          <p:cNvPicPr/>
          <p:nvPr/>
        </p:nvPicPr>
        <p:blipFill>
          <a:blip r:embed="rId6"/>
          <a:stretch/>
        </p:blipFill>
        <p:spPr>
          <a:xfrm>
            <a:off x="838080" y="990720"/>
            <a:ext cx="7543800" cy="5657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мусор 3"/>
          <p:cNvPicPr/>
          <p:nvPr/>
        </p:nvPicPr>
        <p:blipFill>
          <a:blip r:embed="rId7"/>
          <a:stretch/>
        </p:blipFill>
        <p:spPr>
          <a:xfrm>
            <a:off x="838080" y="9907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Не оставляйте включёнными электроприборы, которыми вы не пользуетесь в данный момент!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04920" y="19051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о мере возможности чаще ходите пешко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!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04920" y="2362320"/>
            <a:ext cx="556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Не мусорьте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04920" y="3581280"/>
            <a:ext cx="5562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Избегайте аэрозолей!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04920" y="4038480"/>
            <a:ext cx="8381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опросите родителей не использовать химические удобрения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7"/>
          <p:cNvSpPr txBox="1"/>
          <p:nvPr/>
        </p:nvSpPr>
        <p:spPr>
          <a:xfrm>
            <a:off x="914400" y="304920"/>
            <a:ext cx="7315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Чем мы можем помочь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304920" y="48769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осадите дерево, цветы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04920" y="54100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Участвуйте в уборке парков и лесов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304920" y="5943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Соблюдайте правила поведения в лесу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1" descr="Рисунок16"/>
          <p:cNvPicPr/>
          <p:nvPr/>
        </p:nvPicPr>
        <p:blipFill>
          <a:blip r:embed="rId3"/>
          <a:stretch/>
        </p:blipFill>
        <p:spPr>
          <a:xfrm>
            <a:off x="7162920" y="4800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2"/>
          <p:cNvSpPr/>
          <p:nvPr/>
        </p:nvSpPr>
        <p:spPr>
          <a:xfrm>
            <a:off x="304920" y="2819520"/>
            <a:ext cx="8534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Участвуйте в переработке отходов - сортируйте свой мусор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 детьми – будуще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01" name="Picture 3" descr="Рисунок15"/>
          <p:cNvPicPr/>
          <p:nvPr/>
        </p:nvPicPr>
        <p:blipFill>
          <a:blip r:embed="rId1"/>
          <a:stretch/>
        </p:blipFill>
        <p:spPr>
          <a:xfrm>
            <a:off x="533520" y="1828800"/>
            <a:ext cx="3581280" cy="3165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Как отметить Международный День Земли?"/>
          <p:cNvPicPr/>
          <p:nvPr/>
        </p:nvPicPr>
        <p:blipFill>
          <a:blip r:embed="rId2"/>
          <a:stretch/>
        </p:blipFill>
        <p:spPr>
          <a:xfrm>
            <a:off x="4343400" y="1828800"/>
            <a:ext cx="4343400" cy="318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920" y="3657240"/>
            <a:ext cx="4952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День Земли — это гражданская инициатива, которая призвана объединять всё население планеты в деле защиты окружающей среды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Она открыта для присоединения любых людей, групп и организаций.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" descr="Международный день Земли_6"/>
          <p:cNvPicPr/>
          <p:nvPr/>
        </p:nvPicPr>
        <p:blipFill>
          <a:blip r:embed="rId1"/>
          <a:stretch/>
        </p:blipFill>
        <p:spPr>
          <a:xfrm>
            <a:off x="5486400" y="31240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4"/>
          <p:cNvSpPr txBox="1"/>
          <p:nvPr/>
        </p:nvSpPr>
        <p:spPr>
          <a:xfrm>
            <a:off x="6248520" y="4267080"/>
            <a:ext cx="211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День Зем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666880" y="2057400"/>
            <a:ext cx="6248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День Земли — это праздник, который отмечают люди всех национальностей и вероисповеда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590920" y="304920"/>
            <a:ext cx="6324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День Земли (</a:t>
            </a:r>
            <a:r>
              <a:rPr b="0" lang="ru-RU" sz="21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англ.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100" spc="-1" strike="noStrike">
                <a:solidFill>
                  <a:srgbClr val="ffffff"/>
                </a:solidFill>
                <a:latin typeface="Tahoma"/>
              </a:rPr>
              <a:t>Earth Day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) — название, используемое по отношению к различным мероприятиям, проводящимся весной и призванным побудить людей быть внимательнее к хрупкой и уязвимой окружающей среде на планете Земл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852"/>
          <p:cNvPicPr/>
          <p:nvPr/>
        </p:nvPicPr>
        <p:blipFill>
          <a:blip r:embed="rId3"/>
          <a:stretch/>
        </p:blipFill>
        <p:spPr>
          <a:xfrm>
            <a:off x="304920" y="380880"/>
            <a:ext cx="2205000" cy="2895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04920" y="1371600"/>
            <a:ext cx="5790960" cy="32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Стали люди сильными, как боги,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И судьба Земли у них в руках.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Но темнеют страшные ожоги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У земного шара на боках.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Мы давно освоили планету,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Широко шагает новый век.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На Земле уж белых пятен нет,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Чёрные сотрёшь ли, Челове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Орл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3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Давайте вспомним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Какому празднику был посвящён классный час?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Сколько раз и когда отмечается этот праздник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Чем отличаются эти праздники? Что у них общего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Какой знак является символом праздника?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Что изображено на флаге Земли?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Какие мероприятия проводятся в России и других странах к этому празднику - «День Земли»?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А что мы с Вами можем сделать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в деле защиты окружающей среды?</a:t>
            </a:r>
            <a:br>
              <a:rPr sz="2300"/>
            </a:b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4" descr="332b7a9ec08f70e06b289a1d37943d20"/>
          <p:cNvPicPr/>
          <p:nvPr/>
        </p:nvPicPr>
        <p:blipFill>
          <a:blip r:embed="rId1"/>
          <a:stretch/>
        </p:blipFill>
        <p:spPr>
          <a:xfrm>
            <a:off x="7238880" y="152280"/>
            <a:ext cx="1764000" cy="1324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2"/>
          <p:cNvSpPr txBox="1"/>
          <p:nvPr/>
        </p:nvSpPr>
        <p:spPr>
          <a:xfrm rot="21368400">
            <a:off x="2286000" y="304920"/>
            <a:ext cx="4572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814000"/>
                </a:gradFill>
                <a:effectLst>
                  <a:outerShdw dist="53966" dir="2700000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С Днём Земли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814000"/>
              </a:gradFill>
              <a:effectLst>
                <a:outerShdw dist="53966" dir="2700000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Символ Дня Земл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5638320"/>
            <a:ext cx="7999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елёная греческая буква Θ на белом фо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Символ Дня Земли"/>
          <p:cNvPicPr/>
          <p:nvPr/>
        </p:nvPicPr>
        <p:blipFill>
          <a:blip r:embed="rId1"/>
          <a:stretch/>
        </p:blipFill>
        <p:spPr>
          <a:xfrm>
            <a:off x="1981080" y="152388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Флаг Земли не является официальным символом чего-либо, представляет собой фотографию планеты из космоса (снимок, сделанный астронавтами Аполлона-17 по дороге к Луне) на тёмно-синем фон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Традиционно Флаг связан с Днем Земли и многими другими природоохранными, миротворческими и гражданскими международными мероприятиям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3" descr="Рисунок12"/>
          <p:cNvPicPr/>
          <p:nvPr/>
        </p:nvPicPr>
        <p:blipFill>
          <a:blip r:embed="rId1"/>
          <a:stretch/>
        </p:blipFill>
        <p:spPr>
          <a:xfrm>
            <a:off x="609480" y="1295280"/>
            <a:ext cx="2916360" cy="195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флаг Земли"/>
          <p:cNvPicPr/>
          <p:nvPr/>
        </p:nvPicPr>
        <p:blipFill>
          <a:blip r:embed="rId2"/>
          <a:stretch/>
        </p:blipFill>
        <p:spPr>
          <a:xfrm>
            <a:off x="3809880" y="1295280"/>
            <a:ext cx="4724640" cy="1889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Флаг Дня Земл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267080" y="761760"/>
            <a:ext cx="4572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ществуют два основных периода проведения Международных Дней Земли, имеющих разный смысл провед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3" descr="ca041bb23dc2aff65722945a6f71d8bb"/>
          <p:cNvPicPr/>
          <p:nvPr/>
        </p:nvPicPr>
        <p:blipFill>
          <a:blip r:embed="rId1"/>
          <a:stretch/>
        </p:blipFill>
        <p:spPr>
          <a:xfrm>
            <a:off x="304920" y="685800"/>
            <a:ext cx="3886200" cy="38750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380880" y="52578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1 марта в день весеннего равноденствия по инициативе ООН и 22 апреля по инициативе всемирного движения Earth Day Net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971800" y="1295280"/>
            <a:ext cx="58672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5ffff"/>
                </a:solidFill>
                <a:latin typeface="Tahoma"/>
              </a:rPr>
              <a:t>Праздник учрежден в 1971 году по решению ООН, когда генеральный секретарь У Тан подписал специальное обращение к народам Земли.</a:t>
            </a:r>
            <a:r>
              <a:rPr b="0" lang="ru-RU" sz="2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1676520" y="380880"/>
            <a:ext cx="5943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нь Земли 21 мар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895480" y="3048120"/>
            <a:ext cx="5867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«Пусть будут лишь мирные и радостные Дни Земли для нашего прекрасного космического корабля — планеты Земля, летящей и вращающейся посреди холодного космоса со своим столь уязвимым грузом жизн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00ccff"/>
                </a:solidFill>
                <a:latin typeface="Tahoma"/>
              </a:rPr>
              <a:t>Генеральный секретарь ООН У Тан, 21 марта 197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39727739[1]"/>
          <p:cNvPicPr/>
          <p:nvPr/>
        </p:nvPicPr>
        <p:blipFill>
          <a:blip r:embed="rId1"/>
          <a:stretch/>
        </p:blipFill>
        <p:spPr>
          <a:xfrm>
            <a:off x="304920" y="1219320"/>
            <a:ext cx="2495520" cy="153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рис 5"/>
          <p:cNvPicPr/>
          <p:nvPr/>
        </p:nvPicPr>
        <p:blipFill>
          <a:blip r:embed="rId2"/>
          <a:stretch/>
        </p:blipFill>
        <p:spPr>
          <a:xfrm>
            <a:off x="304920" y="289548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4952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 этот день в разных странах звучит Колокол Мира, призывающий людей беречь мир и жизнь на Планете, способствовать дружбе и взаимопониманию всех народов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Колокол Мира 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— символ спокойствия, мирной жизни и дружбы, вечного братства и солидарности народов.</a:t>
            </a:r>
            <a:r>
              <a:rPr b="0" lang="ru-RU" sz="21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3" descr="Первый колокол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419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457164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й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локол Ми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л установлен в июне 1954 года в штаб-квартире ООН, в японском дворике. Он был отлит в Японии из монет, собранных детьми из 60 стран. Надпись на Колоколе гласит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«Да здравствует всеобщий мир во всем мире»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Колокол Мира в Японии"/>
          <p:cNvPicPr/>
          <p:nvPr/>
        </p:nvPicPr>
        <p:blipFill>
          <a:blip r:embed="rId1"/>
          <a:stretch/>
        </p:blipFill>
        <p:spPr>
          <a:xfrm>
            <a:off x="1752480" y="3049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6-21T06:58:3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