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59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22.jpeg" ContentType="image/jpeg"/>
  <Override PartName="/ppt/media/image15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52.jpeg" ContentType="image/jpeg"/>
  <Override PartName="/ppt/media/image29.jpeg" ContentType="image/jpeg"/>
  <Override PartName="/ppt/media/image14.jpeg" ContentType="image/jpeg"/>
  <Override PartName="/ppt/media/image19.gif" ContentType="image/gif"/>
  <Override PartName="/ppt/media/image41.jpeg" ContentType="image/jpeg"/>
  <Override PartName="/ppt/media/image17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1F6-49A1-4796-A5D5-F6DB572F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A9E-DFBA-456B-9BFC-06A3395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54C1-1A0C-4D24-84A4-F3BC7B9F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6A0-7FB2-44BA-BB6F-94823CC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FEB-7D98-4840-8DB8-37AADC8F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DF4-BF8C-4965-856A-C25CC668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C6C-CFFA-4E94-BFB8-690FA8DE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6247-DD06-4D5C-A2D5-E5D3B2D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6D92-436E-4C0E-982A-8D2658E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965B-DEC4-47E9-98C9-386D193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613-8714-4FAB-B5F5-CFC6B69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AC8-91E6-4630-ADF1-AF19B7B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C077-F041-4E64-B7CC-77C7BD6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7D28-7815-4983-AB62-F75EAD9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8609-31F7-4B5D-8E68-4C590728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61BF-49E8-4D85-90ED-C34D4EE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688E-AF04-454E-B627-414E7338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781-D7F1-4CC9-B231-0A4F9107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37A-B11E-4B3D-8E3E-4C43184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D9-E2BC-4EA5-BCD9-1DC0B3B4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962-A71F-4A75-BA48-2103D6FF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709-D0E1-43C0-B219-04CCF01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E0B-E889-40BF-9653-E6205FC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CB6-9CC1-45D4-9A7E-86B1DA5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DD9-507A-4359-8CDB-6B82B409C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FCE-77F9-4C89-9BA6-DC22EBF0F4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0" y="4495680"/>
            <a:ext cx="510552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Классный час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432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Жакулина И.В., учитель начальных классов МОУ-СОШ № 23 г.Чапаевска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971800" y="1219320"/>
            <a:ext cx="318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олокола Мира в конце ХХ века были установлены более чем в двадцати странах – Польше и Турции, в Мексике и Австралии, Монголии и Филиппинах, в Канаде и Бразилии, Германии и Японии, Аргентине, Эквадоре, Росси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Колокол Мира в День Земли_2"/>
          <p:cNvPicPr/>
          <p:nvPr/>
        </p:nvPicPr>
        <p:blipFill>
          <a:blip r:embed="rId1"/>
          <a:stretch/>
        </p:blipFill>
        <p:spPr>
          <a:xfrm>
            <a:off x="533520" y="457200"/>
            <a:ext cx="4830480" cy="362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олокол Мира в Индии"/>
          <p:cNvPicPr/>
          <p:nvPr/>
        </p:nvPicPr>
        <p:blipFill>
          <a:blip r:embed="rId2"/>
          <a:stretch/>
        </p:blipFill>
        <p:spPr>
          <a:xfrm>
            <a:off x="6019920" y="457200"/>
            <a:ext cx="24652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впервые акция «Колокол Мира в День Земли» была проведена в 1998 году в Москве, её организаторами стали Международный центр-музей имени Н. К. Рериха, Международный гуманитарный фонд «Знание», Федерация космонавтики России, Международная Ассоциация фондов Мир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300px-Kolokol_Mira"/>
          <p:cNvPicPr/>
          <p:nvPr/>
        </p:nvPicPr>
        <p:blipFill>
          <a:blip r:embed="rId1"/>
          <a:stretch/>
        </p:blipFill>
        <p:spPr>
          <a:xfrm>
            <a:off x="533520" y="4572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943600" y="5335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фото: лётчики-космонавты В. М. Афанасьев и А.Н. Берез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… День Земли — это день ответственности перед нашей планетой, ответственности перед людьми, которые её населяют, перед самой природой, частью которой мы являемся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Капица С"/>
          <p:cNvPicPr/>
          <p:nvPr/>
        </p:nvPicPr>
        <p:blipFill>
          <a:blip r:embed="rId1"/>
          <a:stretch/>
        </p:blipFill>
        <p:spPr>
          <a:xfrm>
            <a:off x="5486400" y="1905120"/>
            <a:ext cx="3448080" cy="460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09480" y="30492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5ffff"/>
                </a:solidFill>
                <a:latin typeface="Arial"/>
              </a:rPr>
              <a:t>Сергей Петрович Капица  - </a:t>
            </a:r>
            <a:r>
              <a:rPr b="1" i="1" lang="ru-RU" sz="2600" spc="-1" strike="noStrike">
                <a:solidFill>
                  <a:srgbClr val="e5ffff"/>
                </a:solidFill>
                <a:latin typeface="Arial"/>
              </a:rPr>
              <a:t>доктор физико-математических наук, профессор, академик, вице-президент РА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еперь колокола Мира звучат и в других городах России, правда, чаще День Земли у нас отмечают не 21 марта, а 22 апреля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Колокол Мира в День Земли_1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2 апреля по инициативе всемирного движения Earth Day Network во многих странах мира отмечается День Земли. Этот день, в отличие от Дня Земли, проводимого в марте, призван объединять людей планеты в деле защиты окружающей среды. Его можно назвать праздником чистой воды, земли и воздуха – всего, что необходимо для жизни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80d3fd6bc93d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38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ник этот праздник в 1872 году в США, по инициативе министра земледелия штата Небраска Дж. Стерлинга Мортона. Он  предложил заняться озеленением, устроить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Только в первый День дерева жители штата посадили около миллиона деревье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зднее, в 1882 году, правительство штата Небраска учредил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как официальный праздник, и отмечать его стали 22 апреля, в день рождения Мортон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970 г.по инициативе Гейлорда Нельсона, сенатора от штата Висконсин День Дерева получил новое название -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2514600" y="45720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 истории праздн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33520" y="304920"/>
          <a:ext cx="112536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1125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5"/>
          <p:cNvSpPr/>
          <p:nvPr/>
        </p:nvSpPr>
        <p:spPr>
          <a:xfrm>
            <a:off x="3429000" y="1219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4920" y="1905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2 апреля 1989 года вблизи небольшого американского городка Санта Барбара произошел разрыв нефтепровода, повлекший загрязнение значительной территор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ликвидации последствий этого экологическог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дствия приняло участие всё население городка и многие добровольцы из других городов Амер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вестный американский ученый-эколог профессор Денис Хейс обратился к американской и мировой общественности с призывом отмечать, начиная с 1990 года, 22 апреля «День Земли» и вносить в этот день свой посильный вклад в облагораживание, озеленение и благоустройство территорий родной планеты и её природных памятн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004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в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80880" y="594360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0 года 22 апреля объявлен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ждународным Днём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его отмечают жители большинства стран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семирное движ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а сегодняшний день, 147 стран мира зарегистрировано во Всемирном движени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 многих странах проходят праздничные мероприятия и акции, призывающие обратить внимание на проблемы эколог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3440" cy="42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ждународный день Земли"/>
          <p:cNvPicPr/>
          <p:nvPr/>
        </p:nvPicPr>
        <p:blipFill>
          <a:blip r:embed="rId1"/>
          <a:stretch/>
        </p:blipFill>
        <p:spPr>
          <a:xfrm>
            <a:off x="304920" y="380880"/>
            <a:ext cx="4267080" cy="3111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80880" y="3657600"/>
            <a:ext cx="8382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анаде проводятся мероприятия, привлекающих внимание общественности к решению экологических проблем. Почти каждый канадский школьник принимает посильное участие в мероприятиях этого дн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80880" y="5486400"/>
            <a:ext cx="838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Германии проводятся экологические акции протеста, демонстрац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952880" y="762120"/>
            <a:ext cx="39625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еждународный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кологический велопробег Critical Mass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ritical mass budapest hungary earth day event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307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акция without cars на улицах сеула"/>
          <p:cNvPicPr/>
          <p:nvPr/>
        </p:nvPicPr>
        <p:blipFill>
          <a:blip r:embed="rId2"/>
          <a:stretch/>
        </p:blipFill>
        <p:spPr>
          <a:xfrm>
            <a:off x="4267080" y="3403440"/>
            <a:ext cx="4648320" cy="31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4953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кция «Без автомобилей» (Without Cars) на улицах Сеул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876920" y="380952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Филиппинах проводятся экологическая акция протеста, демонстрация движения по защите животных PETA, «зеленый» велосипедный забег «Annual Tour of the Fireflies»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national ecology center in quezon philippines"/>
          <p:cNvPicPr/>
          <p:nvPr/>
        </p:nvPicPr>
        <p:blipFill>
          <a:blip r:embed="rId1"/>
          <a:stretch/>
        </p:blipFill>
        <p:spPr>
          <a:xfrm>
            <a:off x="228600" y="304920"/>
            <a:ext cx="4419720" cy="304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демонстрация движения peta манила филиппины"/>
          <p:cNvPicPr/>
          <p:nvPr/>
        </p:nvPicPr>
        <p:blipFill>
          <a:blip r:embed="rId2"/>
          <a:stretch/>
        </p:blipFill>
        <p:spPr>
          <a:xfrm>
            <a:off x="4952880" y="304920"/>
            <a:ext cx="3962520" cy="30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велосипедный забег манила филиппины"/>
          <p:cNvPicPr/>
          <p:nvPr/>
        </p:nvPicPr>
        <p:blipFill>
          <a:blip r:embed="rId3"/>
          <a:stretch/>
        </p:blipFill>
        <p:spPr>
          <a:xfrm>
            <a:off x="228600" y="358128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День Земли официально отмечается с 1998 года в рамках Дней защиты от экологической опасност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na2003371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482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5714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се желающие принимают участие в благоустройстве и озеленении своих дворов и улиц, различных экологических мероприятиях, фестивалях и акция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1657_s_b"/>
          <p:cNvPicPr/>
          <p:nvPr/>
        </p:nvPicPr>
        <p:blipFill>
          <a:blip r:embed="rId1"/>
          <a:stretch/>
        </p:blipFill>
        <p:spPr>
          <a:xfrm>
            <a:off x="533520" y="2971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vf_25_2"/>
          <p:cNvPicPr/>
          <p:nvPr/>
        </p:nvPicPr>
        <p:blipFill>
          <a:blip r:embed="rId2"/>
          <a:stretch/>
        </p:blipFill>
        <p:spPr>
          <a:xfrm>
            <a:off x="495288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OINARUS-2006-238"/>
          <p:cNvPicPr/>
          <p:nvPr/>
        </p:nvPicPr>
        <p:blipFill>
          <a:blip r:embed="rId3"/>
          <a:stretch/>
        </p:blipFill>
        <p:spPr>
          <a:xfrm>
            <a:off x="53352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TD"/>
          <p:cNvPicPr/>
          <p:nvPr/>
        </p:nvPicPr>
        <p:blipFill>
          <a:blip r:embed="rId4"/>
          <a:stretch/>
        </p:blipFill>
        <p:spPr>
          <a:xfrm>
            <a:off x="4952880" y="2971800"/>
            <a:ext cx="3657600" cy="27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480" y="4876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иная с 1990 г. темой Дня Земли в США становятся национальные парки. В этот день проводится сбор средств в поддержку охраняемых природных территорий. Праздник приобрел новое значение, а вместе с ним и новое название - Марш Парко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8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yosemite-national-park-usa"/>
          <p:cNvPicPr/>
          <p:nvPr/>
        </p:nvPicPr>
        <p:blipFill>
          <a:blip r:embed="rId2"/>
          <a:stretch/>
        </p:blipFill>
        <p:spPr>
          <a:xfrm>
            <a:off x="4724280" y="1790640"/>
            <a:ext cx="4077000" cy="30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76360" y="3808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5 г. к празднику присоединились заповедники и национальные парки Росс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2819160" cy="2770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352680" y="1447920"/>
            <a:ext cx="5562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кологический праздник «Марш парков» проводится 19 — 24 апреля в десятках регионов России и во многих странах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49528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ая цель «Марша парков» — привлечь общественное внимание к проблемам заповедных территорий России, возродить в людях чувство гордости и ответственности за нашу природу.          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80880" y="3200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т праздник посвящён заповедникам и национальным паркам, которые сохраняют для нас в нетронутом виде красивейшие ландшафты, тысячи редких видов растений и животных, уникальные памятники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marsh_parkov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kostomukshsky_reserve"/>
          <p:cNvPicPr/>
          <p:nvPr/>
        </p:nvPicPr>
        <p:blipFill>
          <a:blip r:embed="rId1"/>
          <a:stretch/>
        </p:blipFill>
        <p:spPr>
          <a:xfrm>
            <a:off x="533520" y="1066680"/>
            <a:ext cx="3700440" cy="266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02"/>
          <p:cNvPicPr/>
          <p:nvPr/>
        </p:nvPicPr>
        <p:blipFill>
          <a:blip r:embed="rId2"/>
          <a:stretch/>
        </p:blipFill>
        <p:spPr>
          <a:xfrm>
            <a:off x="4876920" y="106668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2008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51"/>
          <p:cNvPicPr/>
          <p:nvPr/>
        </p:nvPicPr>
        <p:blipFill>
          <a:blip r:embed="rId4"/>
          <a:stretch/>
        </p:blipFill>
        <p:spPr>
          <a:xfrm>
            <a:off x="4876920" y="388620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457200" y="38088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Любите и берегите нашу Землю, природ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8" name="Picture 7" descr="korolev"/>
          <p:cNvPicPr/>
          <p:nvPr/>
        </p:nvPicPr>
        <p:blipFill>
          <a:blip r:embed="rId7"/>
          <a:stretch/>
        </p:blipFill>
        <p:spPr>
          <a:xfrm>
            <a:off x="533520" y="3886200"/>
            <a:ext cx="3733560" cy="28051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8"/>
          <p:cNvSpPr txBox="1"/>
          <p:nvPr/>
        </p:nvSpPr>
        <p:spPr>
          <a:xfrm>
            <a:off x="1676520" y="38088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В этом виноват челове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70" name="Picture 9" descr="катастрофы и катаклизмы в природе"/>
          <p:cNvPicPr/>
          <p:nvPr/>
        </p:nvPicPr>
        <p:blipFill>
          <a:blip r:embed="rId10"/>
          <a:stretch/>
        </p:blipFill>
        <p:spPr>
          <a:xfrm>
            <a:off x="533520" y="1066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371070"/>
          <p:cNvPicPr/>
          <p:nvPr/>
        </p:nvPicPr>
        <p:blipFill>
          <a:blip r:embed="rId11"/>
          <a:stretch/>
        </p:blipFill>
        <p:spPr>
          <a:xfrm>
            <a:off x="4876920" y="1066680"/>
            <a:ext cx="3809880" cy="26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экология земли_1"/>
          <p:cNvPicPr/>
          <p:nvPr/>
        </p:nvPicPr>
        <p:blipFill>
          <a:blip r:embed="rId12"/>
          <a:stretch/>
        </p:blipFill>
        <p:spPr>
          <a:xfrm>
            <a:off x="4876920" y="388620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5486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Загрязнение воздух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ядовитыми выбросами в атмосферу вызывают рак, нарушения работы иммунной системы. Это убивает около трех миллионов человек в го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143000" y="38088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31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загрязнение воды 3"/>
          <p:cNvPicPr/>
          <p:nvPr/>
        </p:nvPicPr>
        <p:blipFill>
          <a:blip r:embed="rId2"/>
          <a:stretch/>
        </p:blipFill>
        <p:spPr>
          <a:xfrm>
            <a:off x="304920" y="12193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загрязнение воды 4"/>
          <p:cNvPicPr/>
          <p:nvPr/>
        </p:nvPicPr>
        <p:blipFill>
          <a:blip r:embed="rId3"/>
          <a:stretch/>
        </p:blipFill>
        <p:spPr>
          <a:xfrm>
            <a:off x="4648320" y="1219320"/>
            <a:ext cx="4216320" cy="3162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380880" y="4800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вод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размножению малярийных комаров, из-за чего ежегодно умирает около двух миллионов человек. Нехватку чистой воды испытывают более миллиарда человек при том, что 80% всех инфекционных заболеваний передается через в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загрязнение почвы"/>
          <p:cNvPicPr/>
          <p:nvPr/>
        </p:nvPicPr>
        <p:blipFill>
          <a:blip r:embed="rId4"/>
          <a:stretch/>
        </p:blipFill>
        <p:spPr>
          <a:xfrm>
            <a:off x="1371600" y="1066680"/>
            <a:ext cx="6477120" cy="4314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457200" y="54100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и опустошение почв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тому, что отравляющие вещества поглощаются человеком вместе с пищей и вод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380880"/>
            <a:ext cx="722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2" name="Picture 3" descr="парниковый эффект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54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623px-Arctica_surface"/>
          <p:cNvPicPr/>
          <p:nvPr/>
        </p:nvPicPr>
        <p:blipFill>
          <a:blip r:embed="rId2"/>
          <a:stretch/>
        </p:blipFill>
        <p:spPr>
          <a:xfrm>
            <a:off x="1828800" y="990720"/>
            <a:ext cx="5791320" cy="556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горы без снега"/>
          <p:cNvPicPr/>
          <p:nvPr/>
        </p:nvPicPr>
        <p:blipFill>
          <a:blip r:embed="rId3"/>
          <a:stretch/>
        </p:blipFill>
        <p:spPr>
          <a:xfrm>
            <a:off x="838080" y="990720"/>
            <a:ext cx="7467840" cy="560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торнадо 2"/>
          <p:cNvPicPr/>
          <p:nvPr/>
        </p:nvPicPr>
        <p:blipFill>
          <a:blip r:embed="rId4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наводнение 1"/>
          <p:cNvPicPr/>
          <p:nvPr/>
        </p:nvPicPr>
        <p:blipFill>
          <a:blip r:embed="rId5"/>
          <a:stretch/>
        </p:blipFill>
        <p:spPr>
          <a:xfrm>
            <a:off x="914400" y="990720"/>
            <a:ext cx="7467480" cy="560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зоновая дыра 2"/>
          <p:cNvPicPr/>
          <p:nvPr/>
        </p:nvPicPr>
        <p:blipFill>
          <a:blip r:embed="rId6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мусор 3"/>
          <p:cNvPicPr/>
          <p:nvPr/>
        </p:nvPicPr>
        <p:blipFill>
          <a:blip r:embed="rId7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оставляйте включёнными электроприборы, которыми вы не пользуетесь в данный момент!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920" y="19051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 мере возможности чаще ходите пешк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04920" y="2362320"/>
            <a:ext cx="556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мусорьте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3581280"/>
            <a:ext cx="556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Избегайте аэрозолей!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04920" y="40384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просите родителей не использовать химические удобрения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914400" y="304920"/>
            <a:ext cx="7315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Чем мы можем помоч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04920" y="4876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садите дерево, цветы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04920" y="5410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уборке парков и лесов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304920" y="5943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облюдайте правила поведения в лесу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Рисунок16"/>
          <p:cNvPicPr/>
          <p:nvPr/>
        </p:nvPicPr>
        <p:blipFill>
          <a:blip r:embed="rId3"/>
          <a:stretch/>
        </p:blipFill>
        <p:spPr>
          <a:xfrm>
            <a:off x="7162920" y="4800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304920" y="28195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переработке отходов - сортируйте свой мусор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 детьми – будуще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1" name="Picture 3" descr="Рисунок15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16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Как отметить Международный День Земли?"/>
          <p:cNvPicPr/>
          <p:nvPr/>
        </p:nvPicPr>
        <p:blipFill>
          <a:blip r:embed="rId2"/>
          <a:stretch/>
        </p:blipFill>
        <p:spPr>
          <a:xfrm>
            <a:off x="4343400" y="1828800"/>
            <a:ext cx="4343400" cy="318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3657240"/>
            <a:ext cx="4952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гражданская инициатива, которая призвана объединять всё население планеты в деле защиты окружающей среды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Она открыта для присоединения любых людей, групп и организаций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6248520" y="4267080"/>
            <a:ext cx="211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057400"/>
            <a:ext cx="6248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праздник, который отмечают люди всех национальностей и вероисповед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90920" y="30492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(</a:t>
            </a:r>
            <a:r>
              <a:rPr b="0" lang="ru-RU" sz="21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100" spc="-1" strike="noStrike">
                <a:solidFill>
                  <a:srgbClr val="ffffff"/>
                </a:solidFill>
                <a:latin typeface="Tahoma"/>
              </a:rPr>
              <a:t>Earth Day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) — название, используемое по отношению к различным мероприятиям, проводящимся весной и призванным побудить людей быть внимательнее к хрупкой и уязвимой окружающей среде на планете Земл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852"/>
          <p:cNvPicPr/>
          <p:nvPr/>
        </p:nvPicPr>
        <p:blipFill>
          <a:blip r:embed="rId3"/>
          <a:stretch/>
        </p:blipFill>
        <p:spPr>
          <a:xfrm>
            <a:off x="304920" y="380880"/>
            <a:ext cx="2205000" cy="289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920" y="1371600"/>
            <a:ext cx="5790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тали люди сильными, как боги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И судьба Земли у них в ру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о темнеют страшные ожоги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У земного шара на бо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Мы давно освоили планету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Широко шагает новый век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а Земле уж белых пятен нет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Чёрные сотрёшь ли,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Ор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авайте вспомн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му празднику был посвящён классный час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колько раз и когда отмечается этот праздник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ем отличаются эти праздники? Что у них общего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й знак является символом праздника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то изображено на флаге Земли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А что мы с Вами можем сделать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в деле защиты окружающей среды?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332b7a9ec08f70e06b289a1d37943d20"/>
          <p:cNvPicPr/>
          <p:nvPr/>
        </p:nvPicPr>
        <p:blipFill>
          <a:blip r:embed="rId1"/>
          <a:stretch/>
        </p:blipFill>
        <p:spPr>
          <a:xfrm>
            <a:off x="7238880" y="152280"/>
            <a:ext cx="1764000" cy="13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 rot="21368400">
            <a:off x="228600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С Днём Земли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814000"/>
              </a:gra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имвол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5638320"/>
            <a:ext cx="799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лёная греческая буква Θ на белом фо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Символ Дня Земли"/>
          <p:cNvPicPr/>
          <p:nvPr/>
        </p:nvPicPr>
        <p:blipFill>
          <a:blip r:embed="rId1"/>
          <a:stretch/>
        </p:blipFill>
        <p:spPr>
          <a:xfrm>
            <a:off x="1981080" y="15238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Флаг Земли не является официальным символом чего-либо, представляет собой фотографию планеты из космоса (снимок, сделанный астронавтами Аполлона-17 по дороге к Луне) на тёмно-синем фон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Традиционно Флаг связан с Днем Земли и многими другими природоохранными, миротворческими и гражданскими международными мероприятия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Рисунок12"/>
          <p:cNvPicPr/>
          <p:nvPr/>
        </p:nvPicPr>
        <p:blipFill>
          <a:blip r:embed="rId1"/>
          <a:stretch/>
        </p:blipFill>
        <p:spPr>
          <a:xfrm>
            <a:off x="609480" y="1295280"/>
            <a:ext cx="2916360" cy="19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флаг Земли"/>
          <p:cNvPicPr/>
          <p:nvPr/>
        </p:nvPicPr>
        <p:blipFill>
          <a:blip r:embed="rId2"/>
          <a:stretch/>
        </p:blipFill>
        <p:spPr>
          <a:xfrm>
            <a:off x="3809880" y="1295280"/>
            <a:ext cx="4724640" cy="188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Флаг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572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уют два основных периода проведения Международных Дней Земли, имеющих разный смысл прове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ca041bb23dc2aff65722945a6f71d8bb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387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80880" y="5257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1 марта в день весеннего равноденствия по инициативе ООН и 22 апреля по инициативе всемирного движения Earth Day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971800" y="1295280"/>
            <a:ext cx="58672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ffff"/>
                </a:solidFill>
                <a:latin typeface="Tahoma"/>
              </a:rPr>
              <a:t>Праздник учрежден в 1971 году по решению ООН, когда генеральный секретарь У Тан подписал специальное обращение к народам Земли.</a:t>
            </a:r>
            <a:r>
              <a:rPr b="0" lang="ru-RU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676520" y="38088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емли 21 ма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895480" y="3048120"/>
            <a:ext cx="586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Пусть будут лишь мирные и радостные Дни Земли для нашего прекрасного космического корабля — планеты Земля, летящей и вращающейся посреди холодного космоса со своим столь уязвимым грузом жизн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Генеральный секретарь ООН У Тан, 21 марта 197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39727739[1]"/>
          <p:cNvPicPr/>
          <p:nvPr/>
        </p:nvPicPr>
        <p:blipFill>
          <a:blip r:embed="rId1"/>
          <a:stretch/>
        </p:blipFill>
        <p:spPr>
          <a:xfrm>
            <a:off x="304920" y="1219320"/>
            <a:ext cx="2495520" cy="153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рис 5"/>
          <p:cNvPicPr/>
          <p:nvPr/>
        </p:nvPicPr>
        <p:blipFill>
          <a:blip r:embed="rId2"/>
          <a:stretch/>
        </p:blipFill>
        <p:spPr>
          <a:xfrm>
            <a:off x="304920" y="28954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4952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Колокол Мира 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— символ спокойствия, мирной жизни и дружбы, вечного братства и солидарности народов.</a:t>
            </a:r>
            <a:r>
              <a:rPr b="0" lang="ru-RU" sz="21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Первый колокол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19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«Да здравствует всеобщий мир во всем мире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6-21T06:5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