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D6D-EA9E-4C71-8A80-8E6F05DF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EC16-1F88-4A3D-AB74-C6538876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875A-47DB-4A37-97FC-A06F949F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786-D0FB-4426-86BF-D01D836E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13D0-52EB-42C3-A97E-791DB4FA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C2FF-BCFA-497C-95F9-8E11C4E9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948A-3C25-4EC2-9423-22ED69AE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E92D-B450-4E34-94B8-EF2F7F4A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9383-489E-4378-BFB7-DBDCE5F4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FD58-2CAF-41B4-900E-E7D2D192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E435-EED5-415C-8BBD-D7A6F436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A55-F93A-46FB-9D42-F8904CC8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7440-0A01-450B-93A5-95FFB954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A77C-408C-41CB-85CD-17D623A2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D25B-E8AF-4E07-83DC-400541C8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FD0A-8F1C-456B-8D79-1579664C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2CF1-67EA-461C-B070-5C68B247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AAB-9DCF-48D4-851D-1655B6C6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E80-C06F-4864-AD73-A1FA814C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7B9-4648-474E-BE0E-7D6E25BF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A06-EBD8-4B9D-80CD-D6F888FE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F6F-1504-49A8-9B52-8A70D186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A28-8715-4234-88C6-FA04B42D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A3F-C992-4EF5-AF48-A01650F4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F0B3-B24C-4DBF-9A45-E465440B44A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225C-2E96-4CBE-A016-0BD06E0B986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5236920"/>
            <a:ext cx="6400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709e"/>
                </a:solidFill>
                <a:latin typeface="Arial"/>
              </a:rPr>
              <a:t>Правильно ли мы</a:t>
            </a:r>
            <a:r>
              <a:rPr b="0" lang="en-US" sz="3200" spc="-1" strike="noStrike">
                <a:solidFill>
                  <a:srgbClr val="a0709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0709e"/>
                </a:solidFill>
                <a:latin typeface="Arial"/>
              </a:rPr>
              <a:t>говорим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2133720"/>
            <a:ext cx="8569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тилистика    помож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1583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В одном из своих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поместий (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или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имений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Жил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cc99ff"/>
                </a:solidFill>
                <a:uFillTx/>
                <a:latin typeface="Arial"/>
              </a:rPr>
              <a:t>барин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cc99ff"/>
                </a:solidFill>
                <a:latin typeface="Arial"/>
              </a:rPr>
              <a:t>избавимся от повтора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поместье, помещик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3. »Один помещик»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лишнее</a:t>
            </a: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3399ff"/>
                </a:solidFill>
                <a:uFillTx/>
                <a:latin typeface="Arial"/>
              </a:rPr>
              <a:t>один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этот, как его, ну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– сорняк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. У фамилии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Троекуров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есть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Arial"/>
              </a:rPr>
              <a:t>синонимы</a:t>
            </a:r>
            <a:r>
              <a:rPr b="1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Кирила Петрович, он, этот барин</a:t>
            </a:r>
            <a:r>
              <a:rPr b="1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Здорово богатый –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просторечи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Надо сказать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: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</a:rPr>
              <a:t>очень богатый</a:t>
            </a:r>
            <a:r>
              <a:rPr b="1" lang="ru-RU" sz="2000" spc="-1" strike="noStrike" u="sng">
                <a:solidFill>
                  <a:srgbClr val="3399ff"/>
                </a:solidFill>
                <a:uFillTx/>
                <a:latin typeface="Arial"/>
              </a:rPr>
              <a:t>.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7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Первый союз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и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 не на месте. Выбросить 2-е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он</a:t>
            </a:r>
            <a:r>
              <a:rPr b="0" lang="ru-RU" sz="24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8.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</a:rPr>
              <a:t>Самодур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– характеристика помещик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99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979640" y="18900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равили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« В одном…этом, как его…ну…поместье жил один помещик Троекуров. Троекуров был здорово богатый, и он никого не слушал, он всё делал так, как ему хоте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лось, и все его боялись…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«В  одном  из  своих  имений   жил помещик Троекуров. Это был богатый самодур, которого все боялись».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76360" y="0"/>
            <a:ext cx="64818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авни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65b2ff"/>
                </a:solidFill>
                <a:latin typeface="Arial"/>
              </a:rPr>
              <a:t>Кто такой редактор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дактор исправляет, улучшает стиль текста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ниги, стать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дактировать – проверять и 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исправлять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текст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. Воздвигнута поражающая своим великол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пием овощная баз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6699ff"/>
                </a:solidFill>
                <a:latin typeface="Arial"/>
              </a:rPr>
              <a:t>2. Мы с сестрой громом аплодисментов встр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ff"/>
                </a:solidFill>
                <a:latin typeface="Arial"/>
              </a:rPr>
              <a:t>тили бабушк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3. Поведением Кости была возмущена вся об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щественность класс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0"/>
            <a:ext cx="7993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1. Построена большая овощна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баз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2. Мы с сестрой радостно встретил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бабушк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3. Класс был возмущён поведение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Кост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11280" y="0"/>
            <a:ext cx="74898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Хорошо поработал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Повторение  на   коротких отрезка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екста  одних  и  тех  же слов, выбо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точного   слова   из     двух      или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скольких   близких    по    смыслу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брежность в построении  высказы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вания –  всё это  принято    относить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к   </a:t>
            </a:r>
            <a:r>
              <a:rPr b="0" i="1" lang="ru-RU" sz="3600" spc="-1" strike="noStrike" u="sng">
                <a:solidFill>
                  <a:srgbClr val="cccc00"/>
                </a:solidFill>
                <a:uFillTx/>
                <a:latin typeface="Arial"/>
              </a:rPr>
              <a:t>стилистическим ошибкам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763640" y="476280"/>
            <a:ext cx="59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мни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1. Мы поражались его по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ной памя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2. Ближайшего соперника он обо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гнал, но остальных обогнать ему н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удалос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3. Сначала  появился   лесник,   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вскоре появились и все наши ребя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т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332000" y="260280"/>
            <a:ext cx="676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1. Мы удивлялись его по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ной памяти.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(Ещё варианты?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2. Ближайшего соперника он обо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гнал, но  остальных опередить ем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не удалос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b8861"/>
                </a:solidFill>
                <a:latin typeface="Arial"/>
              </a:rPr>
              <a:t>3. Сначала   появился   лесник,  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8861"/>
                </a:solidFill>
                <a:latin typeface="Arial"/>
              </a:rPr>
              <a:t>вскоре – и все наши ребята.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58920" y="476280"/>
            <a:ext cx="662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Опасность, которую таят в себе стилистическ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ошибки, - это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бедность, невы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ность речи.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Но они могут также вести 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неясности, двусмысленности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или ж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попросту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искажать смысл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сказанного ил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написанного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a5d729"/>
                </a:solidFill>
                <a:latin typeface="Arial"/>
              </a:rPr>
              <a:t>Вдали зеленеют купоросы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                                        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a5d729"/>
                </a:solidFill>
                <a:latin typeface="Arial"/>
              </a:rPr>
              <a:t>вместо </a:t>
            </a:r>
            <a:r>
              <a:rPr b="0" i="1" lang="ru-RU" sz="2800" spc="-1" strike="noStrike">
                <a:solidFill>
                  <a:srgbClr val="a5d729"/>
                </a:solidFill>
                <a:latin typeface="Arial"/>
              </a:rPr>
              <a:t>кипарисы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)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39640" y="404640"/>
            <a:ext cx="7561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орожно! Опасность!.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з стихотворения «Рассказ школьного портфе-ля» (Ю.Тимянский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Колидор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5b2ff"/>
                </a:solidFill>
                <a:latin typeface="Arial"/>
              </a:rPr>
              <a:t>«дилектор»,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«маг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зин»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«стакан</a:t>
            </a: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«секёт свекл</a:t>
            </a: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«пекё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блины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</a:rPr>
              <a:t>«п</a:t>
            </a:r>
            <a:r>
              <a:rPr b="0" lang="ru-RU" sz="4400" spc="-1" strike="noStrike">
                <a:solidFill>
                  <a:srgbClr val="ff9999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</a:rPr>
              <a:t>ртфель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60280"/>
            <a:ext cx="83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Язык мой - друг мой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Как правильно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Почему этот Пет</a:t>
            </a:r>
            <a:r>
              <a:rPr b="0" lang="ru-RU" sz="4000" spc="-1" strike="noStrike">
                <a:solidFill>
                  <a:srgbClr val="9999ff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 так говорит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От незнания норм литературно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языка или в результате небрежно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отношения к слову?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908000" y="476280"/>
            <a:ext cx="48992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равьт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308720" y="189000"/>
            <a:ext cx="287640" cy="18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Семененко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Лариса Владимировна,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учитель русского языка 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литературы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Невельской ООШ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2009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16000" y="404640"/>
            <a:ext cx="748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втор    работы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eb8861"/>
                </a:solidFill>
                <a:latin typeface="Arial"/>
              </a:rPr>
              <a:t>Физкультминутк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«Правильно – неправильно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79280" y="476280"/>
            <a:ext cx="856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анька-встань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о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идор            т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бурет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зво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т              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клад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(а </a:t>
            </a: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не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 ложи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!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рас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вее           пов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с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ть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св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ё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ла               п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ёт, с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ёт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ср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дства           обесп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че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оп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ровать        фа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ра, ши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8360" y="189000"/>
            <a:ext cx="82789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те  правильно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Опасность,  грозящая языку,-  это  искаж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слов в результате невежества, неверного их уп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требления,  неправильного  ударения  и произн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шения. </a:t>
            </a: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Искалеченные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таким образом сл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засоряют язык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     </a:t>
            </a:r>
            <a:r>
              <a:rPr b="0" lang="ru-RU" sz="2400" spc="-1" strike="noStrike" u="sng">
                <a:solidFill>
                  <a:srgbClr val="ff66ff"/>
                </a:solidFill>
                <a:uFillTx/>
                <a:latin typeface="Arial"/>
              </a:rPr>
              <a:t>Важнейшее требование стилистики –правиль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6ff"/>
                </a:solidFill>
                <a:uFillTx/>
                <a:latin typeface="Arial"/>
              </a:rPr>
              <a:t>ность, точность и ясность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, т.е.полное  соответст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вие слов тем понятиям, которые вы  должны  вы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рази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16000" y="260280"/>
            <a:ext cx="705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калеченные слова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Лаконизм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краткость, сжатость речи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«Краткость – сестра таланта».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 (А.Чехов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Плеоназм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лишние слова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На горизонте появились</a:t>
            </a:r>
            <a:r>
              <a:rPr b="0" lang="en-US" sz="2400" spc="-1" strike="noStrike" u="sng">
                <a:solidFill>
                  <a:srgbClr val="ccff66"/>
                </a:solidFill>
                <a:uFillTx/>
                <a:latin typeface="Arial"/>
              </a:rPr>
              <a:t> ледяные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 айсберги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76360" y="333360"/>
            <a:ext cx="62625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интересн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Найдите лишние слов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.Муму очень сильно привязалась к Герасим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.Караван двигался по песчаным бархана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3.Мы вновь возобновили с ними переписк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4.Я не успел закончить до конца эту работ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5.Моя автобиография уместилась на страничк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6.Всадники уже приближались ближе к дерев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7.На Камчатке много горячих гейзеров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333360"/>
            <a:ext cx="792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едот, да не то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1.Сильн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2.Песчаны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3.Внов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4.До конц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5.Мо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6.Ближ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7.Горячи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03280" y="404640"/>
            <a:ext cx="633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ишний  Фед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Индивидуальная рабо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55640" y="404640"/>
            <a:ext cx="7272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ff9966"/>
                </a:solidFill>
                <a:uFillTx/>
                <a:latin typeface="Arial"/>
              </a:rPr>
              <a:t>Для домашней работ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1. Подойдя к дому, нас настиг сильный ливен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В зоопарке мы видели весело перелетающи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 ветки  на  ветку  различных  птиц, обезьян, б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лок, львов и других хищников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3. Рыбаки  возвращались домой с богатым ул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вом.  Они  поймали  семь  окуней,  пять   караси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ков,  четыре  плотвички,   маленького   щенка  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много разных других рыбок помельч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4360" y="260280"/>
            <a:ext cx="770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лминутки для шутки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Чем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стилистика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поможет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Какова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роль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стилистик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Помогла ли вам эта наука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Правильно ли мы говорим?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чём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нравственная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роль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стилистик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11280" y="189000"/>
            <a:ext cx="7848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ец - делу вене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9640" y="692280"/>
            <a:ext cx="799308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регите  наш  язы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16effa"/>
                </a:solidFill>
                <a:latin typeface="Arial"/>
              </a:rPr>
              <a:t>Цель: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оль стилистики как наук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овышение уровня речевой культур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рименение полученных знаний и ум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 собственной речевой практик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Любить родной русский язык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.    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Уметь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Осуществлять речевой контрол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едактировать текс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оздавать устные и письменные монологи-    ческие и диалогические высказывания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ыразительно читать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 рассказыва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Что значит «беречь» язык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т кого или от чего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Разве у языка есть враги и ему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грозят какие-то опасности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.С.Тургенев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Берегите наш язык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наш прекрасный русский язык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тот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клад,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то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достояние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переданное на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ашими предшественниками…  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5280" y="18900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исатели о русском языке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Берегите его 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портите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искажайте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!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засоряйте грубыми словами 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штампами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наш язык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великое сокровище народа !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                                      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50920" y="333360"/>
            <a:ext cx="849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ий язык – живой организ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збранное из книг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65b2ff"/>
                </a:solidFill>
                <a:latin typeface="Arial"/>
              </a:rPr>
              <a:t>«Песнь души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(стихи учащихся Невельской школы)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8360" y="189000"/>
            <a:ext cx="7848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вящаем…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99"/>
                </a:solidFill>
                <a:latin typeface="Arial"/>
              </a:rPr>
              <a:t>«Берегите речь родную…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«Не забывайте обо мн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О речи правильной, хорошей…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«Россия моя самая лучшая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И язык в ней самый родной!.. 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А.Спиридоно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«Русский язык люби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Его навсегда сохраним!..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«Россия, русское слово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Как это нам, знакомо!»                    </a:t>
            </a:r>
            <a:r>
              <a:rPr b="0" lang="ru-RU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7c80"/>
                </a:solidFill>
                <a:latin typeface="Arial"/>
              </a:rPr>
              <a:t>  А.Матвее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«Сохраним, сбережём и взлелеем тебя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Наша русская речь дорогая!..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И.Сандригайл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«Русская речь – это наше богатство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Сколько красивых есть русских слов!..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«О русская речь, мы достойны тебя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Спасём нашу речь от любого огня!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c36a8"/>
                </a:solidFill>
                <a:latin typeface="Arial"/>
              </a:rPr>
              <a:t>О.Дроздо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«Да разве можно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Не любить родной язык!..»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Л.Гончаро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«Русский язык знают везде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Даже в самой далёкой стран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 всю Россию славится он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Он – наш отец, а Земля – наш дом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 Земле мы живё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По-русски говори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ш русский язы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всегда сохраним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Мы не забудем его никогд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Он нам поможет везде и всегда!»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                                                               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А.Матвеева  </a:t>
            </a: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99cc"/>
                </a:solidFill>
                <a:latin typeface="Arial"/>
              </a:rPr>
              <a:t>                                                     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Д.С.Лихачёв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«…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Наш язык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–  это     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важнейшая   часть нашег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общего поведения 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в жизни.    И по тому, </a:t>
            </a:r>
            <a:r>
              <a:rPr b="1" lang="en-US" sz="2400" spc="-1" strike="noStrike">
                <a:solidFill>
                  <a:srgbClr val="eb8861"/>
                </a:solidFill>
                <a:latin typeface="Arial"/>
              </a:rPr>
              <a:t>как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 человек говорит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, мы сразу и легко можем судить о том,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с кем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 мы имеем дел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Учиться хорошей интеллигентной речи над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5b2ff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долго и внимательн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65b2ff"/>
                </a:solidFill>
                <a:latin typeface="Arial"/>
              </a:rPr>
              <a:t>прислушиваясь,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5b2ff"/>
                </a:solidFill>
                <a:latin typeface="Arial"/>
              </a:rPr>
              <a:t>запоминая, замечая, читая и изучая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Но хоть и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трудно –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это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 надо, надо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0920" y="189000"/>
            <a:ext cx="8281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Письма о добром и прекрасном» 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Нам Стилистика нужна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И для нас она важна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Всех Стилистика научит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Правильности речи учит!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Л.Семененк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8360" y="0"/>
            <a:ext cx="770400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м Стилистика нужна 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95280" y="446040"/>
            <a:ext cx="82803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«А как речь-то говорит, словно реченька журчит». (А.Пушкин)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Наука, которая изучает стили речи 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употребление в них языковых средст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5640" y="333360"/>
            <a:ext cx="734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комьтесь: Стилистика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cc66ff"/>
                </a:solidFill>
                <a:latin typeface="Arial"/>
              </a:rPr>
              <a:t>Эт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c66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стилистическ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неправильная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речь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11280" y="620640"/>
            <a:ext cx="7273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Зубная боль» ре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b9e5a9"/>
                </a:solidFill>
                <a:latin typeface="Arial"/>
              </a:rPr>
              <a:t>Речь ясная и выразительная, логически стройная и убедительная,  чистая и живая, понятная и интересная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400" spc="-1" strike="noStrike" u="sng">
                <a:solidFill>
                  <a:srgbClr val="ccff66"/>
                </a:solidFill>
                <a:uFillTx/>
                <a:latin typeface="Arial"/>
              </a:rPr>
              <a:t>Правильность речи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– это основа реч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вой культуры, то есть умения владеть язы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ковыми  нормами  и  использовать вырази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тельные средства язык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640" y="476280"/>
            <a:ext cx="7704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ильная реч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r>
              <a:rPr b="1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Сильное кино</a:t>
            </a: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А.Барто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И вот брат начал свой рассказ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-Они ползут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он им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тут как раз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а ползла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он как даст ему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Со зла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а им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и ей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Но тут как раз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Её он спас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 был с ней заодно</a:t>
            </a:r>
            <a:r>
              <a:rPr b="0" lang="ru-RU" sz="2000" spc="-1" strike="noStrike">
                <a:solidFill>
                  <a:srgbClr val="eb8861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eb8861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Ух, </a:t>
            </a:r>
            <a:r>
              <a:rPr b="1" lang="ru-RU" sz="2000" spc="-1" strike="noStrike" u="sng">
                <a:solidFill>
                  <a:srgbClr val="eb8861"/>
                </a:solidFill>
                <a:uFillTx/>
                <a:latin typeface="Arial"/>
              </a:rPr>
              <a:t>сильное кино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4360" y="0"/>
            <a:ext cx="727236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минутки для шутки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Что вы можете сказать о «рассказчике»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Какие слова-сорняки  мешают  нормаль-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ой речи незадачливого «героя»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Могла   ли  сестра   понять   содержа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фильма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 вы поняли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00000" y="47628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говори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Найдите и исправьте 8 стилистических ошибо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в рассказе учени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«В одном…этом, как его…ну…поме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стье  жил один помещик  Троекур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роекуров  был  здорово  богатый, и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он никого не слушал,  он  всё  дела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ак, как ему хотелось, и все его боя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лись…»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0"/>
            <a:ext cx="799308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Краснореч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23:16Z</dcterms:created>
  <dc:creator>Loner-XP</dc:creator>
  <dc:description/>
  <dc:language>en-US</dc:language>
  <cp:lastModifiedBy>Loner-XP</cp:lastModifiedBy>
  <dcterms:modified xsi:type="dcterms:W3CDTF">2009-03-09T15:05:32Z</dcterms:modified>
  <cp:revision>123</cp:revision>
  <dc:subject/>
  <dc:title>Правильно ли мы говорим?</dc:title>
</cp:coreProperties>
</file>