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12D-A5DD-4DA4-B309-0611FFC6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F2C-BC93-4FF6-A039-DAF563B6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54C-FEF1-4B62-8B3A-854E9169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E0F-148D-4526-AC9B-BE7DE818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1DB-35BF-4634-A4E3-53DD4E3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36E-75CE-4AA6-93AA-226FDADD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5F7-B4E4-4533-A755-890EC855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184-34B9-4BAC-B115-CB5739A8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79E-FE67-42D6-A454-F0FFAAFC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8BC-01D2-4CB5-8E25-DBC7930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D40-6C17-4A4C-93C7-475BE39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538-8CA9-4D6E-AFA8-48680E8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8BC7-6A08-4F39-B205-B16CA109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Ivan_Tcherezov_10km_sprint_Kontiolahti_winner.jpg" TargetMode="External"/><Relationship Id="rId2" Type="http://schemas.openxmlformats.org/officeDocument/2006/relationships/image" Target="../media/image5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058.radikal.ru/1001/cb/ee16be570087.jpg" TargetMode="External"/><Relationship Id="rId2" Type="http://schemas.openxmlformats.org/officeDocument/2006/relationships/image" Target="../media/image5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&#1047;&#1080;&#1084;&#1085;&#1080;&#1077;_&#1054;&#1083;&#1080;&#1084;&#1087;&#1080;&#1081;&#1089;&#1082;&#1080;&#1077;_&#1080;&#1075;&#1088;&#1099;_2006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5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" TargetMode="External"/><Relationship Id="rId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2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3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4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5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2" Type="http://schemas.openxmlformats.org/officeDocument/2006/relationships/image" Target="../media/image53.jpeg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3384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48200" y="6102360"/>
            <a:ext cx="3295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50240" y="4724280"/>
            <a:ext cx="2093760" cy="120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381720"/>
            <a:ext cx="262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гилейчик Л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трельбы применяются </a:t>
            </a: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винтов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инимальным весом 3,5 кг, которые во время гонки транспортируются на спине. Запрещено автоматическое и полуавтоматическое оружие. При спуске крючка указательный палец должен преодолевать усилие как минимум 500 г. Прицелу винтовки не разрешено иметь эффект увеличения цели, вместо используется кольцевая мушка и диоптрический прицел, которые при стрельбе нужно совместить с чёрным кружком мишени. Калибр патронов составляет 5,6 мм. Скорость пули при выстреле на расстоянии 1 м от среза ствола не должна превышать 380 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27640" y="4457880"/>
            <a:ext cx="365256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рельбище расстояние до мишеней составляет 50 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о 1977 года — 100 метров). Мишени, используемые на соревнованиях, традиционно чёрного цвета, в количестве пяти штук на одной белой пластине. По мере попадания мишени закрываются белым клапаном, что позволяет биатлонисту сразу видеть результат своей стрель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261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ая мишень представляет собой чёрный кружок в углублении пластины, диаметром 115 мм. При стрельбе стоя засчитывается попадание в любую зону кружка, а при стрельбе лёжа — только в чёрный же кружок диаметром 45 мм, центр которого совпадает с центром кружка 115 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3754440"/>
            <a:ext cx="5473440" cy="3103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62440" y="1052640"/>
            <a:ext cx="3481560" cy="58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егодняшний день в рамках крупнейших международных биатлонных соревнований проводится шесть видов го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ндивидуальная 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пр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ась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сс-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эстаф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мешанная эста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4678200"/>
            <a:ext cx="2735280" cy="2179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успешными на сегодняшний день является, носящий неофициальный титул «короля биатлона», норвежский биатлон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ле Эйнар Бьёрнда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           6-кратный олимпийский чемпион, продолжающий свои выступления на международных соревнованиях, — и немецкая биатлонис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 Вильхе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3х-кратная олимпийская чемпи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419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2768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продолжающих своё выступление биатлонисток больше всего побед на зимних Олимпийских играх имеют сразу четыре биатлонистки — по две победы каждая. Это нем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ндреа Хенкель и Магдалена Нойн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российские спортсмен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льга Зайцева и Анна Богалий-Ти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424240" cy="36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620640"/>
            <a:ext cx="21020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9 году Международный союз биатлонистов основал так называемый Клуб «Зеро» — это символический элитный спортивный клуб, в который входят биатлонисты и биатлонистки, выигравшие золотую медаль зимних Олимпийских игр или Чемпионатов мира в личных гонках (индивидуальной гонке, спринте, пасьюте или масс-старте) с нулевым (то есть без единого промаха) результатом в стре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30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084720" y="549360"/>
            <a:ext cx="24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у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еро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26028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ная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6352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3824280"/>
            <a:ext cx="4859280" cy="30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888000" cy="27208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review_0" descr=""/>
          <p:cNvPicPr/>
          <p:nvPr/>
        </p:nvPicPr>
        <p:blipFill>
          <a:blip r:embed="rId1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review_0" descr=""/>
          <p:cNvPicPr/>
          <p:nvPr/>
        </p:nvPicPr>
        <p:blipFill>
          <a:blip r:embed="rId2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review_0" descr=""/>
          <p:cNvPicPr/>
          <p:nvPr/>
        </p:nvPicPr>
        <p:blipFill>
          <a:blip r:embed="rId3"/>
          <a:stretch/>
        </p:blipFill>
        <p:spPr>
          <a:xfrm>
            <a:off x="0" y="3357720"/>
            <a:ext cx="204804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review_0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9520" y="2719800"/>
            <a:ext cx="2474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огалий-Титов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2659320"/>
            <a:ext cx="153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улыг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896440"/>
            <a:ext cx="197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Глазыр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4440" y="60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Юр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eview_0" descr=""/>
          <p:cNvPicPr/>
          <p:nvPr/>
        </p:nvPicPr>
        <p:blipFill>
          <a:blip r:embed="rId5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review_0" descr=""/>
          <p:cNvPicPr/>
          <p:nvPr/>
        </p:nvPicPr>
        <p:blipFill>
          <a:blip r:embed="rId6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preview_0" descr=""/>
          <p:cNvPicPr/>
          <p:nvPr/>
        </p:nvPicPr>
        <p:blipFill>
          <a:blip r:embed="rId7"/>
          <a:stretch/>
        </p:blipFill>
        <p:spPr>
          <a:xfrm>
            <a:off x="4788000" y="3357720"/>
            <a:ext cx="204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review_0" descr=""/>
          <p:cNvPicPr/>
          <p:nvPr/>
        </p:nvPicPr>
        <p:blipFill>
          <a:blip r:embed="rId8"/>
          <a:stretch/>
        </p:blipFill>
        <p:spPr>
          <a:xfrm>
            <a:off x="7095960" y="335772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600" y="2719800"/>
            <a:ext cx="1782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алья Гус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0720" y="2719800"/>
            <a:ext cx="1697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га Зайц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0120" y="6104160"/>
            <a:ext cx="221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ана Слепц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78920" y="6021000"/>
            <a:ext cx="147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Яна Роман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788508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view_0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7040" y="260784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Устюг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eview_0" descr=""/>
          <p:cNvPicPr/>
          <p:nvPr/>
        </p:nvPicPr>
        <p:blipFill>
          <a:blip r:embed="rId2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2636280"/>
            <a:ext cx="145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Чу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view_0" descr=""/>
          <p:cNvPicPr/>
          <p:nvPr/>
        </p:nvPicPr>
        <p:blipFill>
          <a:blip r:embed="rId3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57000" y="2679120"/>
            <a:ext cx="142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Иван Через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review_0" descr=""/>
          <p:cNvPicPr/>
          <p:nvPr/>
        </p:nvPicPr>
        <p:blipFill>
          <a:blip r:embed="rId4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74800" y="2707920"/>
            <a:ext cx="176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дрей Макове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review_0" descr=""/>
          <p:cNvPicPr/>
          <p:nvPr/>
        </p:nvPicPr>
        <p:blipFill>
          <a:blip r:embed="rId5"/>
          <a:stretch/>
        </p:blipFill>
        <p:spPr>
          <a:xfrm>
            <a:off x="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5949360"/>
            <a:ext cx="156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он Шипу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eview_0" descr=""/>
          <p:cNvPicPr/>
          <p:nvPr/>
        </p:nvPicPr>
        <p:blipFill>
          <a:blip r:embed="rId6"/>
          <a:stretch/>
        </p:blipFill>
        <p:spPr>
          <a:xfrm>
            <a:off x="241128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67160" y="5949360"/>
            <a:ext cx="170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 Василь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review_0" descr=""/>
          <p:cNvPicPr/>
          <p:nvPr/>
        </p:nvPicPr>
        <p:blipFill>
          <a:blip r:embed="rId7"/>
          <a:stretch/>
        </p:blipFill>
        <p:spPr>
          <a:xfrm>
            <a:off x="4788000" y="32846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760" y="6021000"/>
            <a:ext cx="180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Максим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review_0" descr=""/>
          <p:cNvPicPr/>
          <p:nvPr/>
        </p:nvPicPr>
        <p:blipFill>
          <a:blip r:embed="rId8"/>
          <a:stretch/>
        </p:blipFill>
        <p:spPr>
          <a:xfrm>
            <a:off x="709596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93080" y="6021000"/>
            <a:ext cx="189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Гаранич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795672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9"/>
          <a:stretch/>
        </p:blipFill>
        <p:spPr>
          <a:xfrm>
            <a:off x="3492360" y="3933720"/>
            <a:ext cx="46674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0"/>
          <a:stretch/>
        </p:blipFill>
        <p:spPr>
          <a:xfrm>
            <a:off x="5435640" y="1413000"/>
            <a:ext cx="3459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50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ва́н Ю́рьевич Че́ре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 ноября 1980, Ижевск) — российский биатлонист, заслуженный мастер спорта России. Двукратный призёр олимпийских игр в эстафете (серебро XX Зимних Олимпийских игр в Турине 2006 года и бронза XXI Зимних Олимпийских игр в Ванкувере 2010 года), чемпион мира 2005 года в смешанной эстафете, чемпион мира 2007 года и 2008 года в мужской эстафете, серебряный призер чемпионата мира 2011 года в мужской эстафете, бронзовый призёр чемпионата мира-2009 в масс-ст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30px-Ivan_Tcherezov_10km_sprint_Kontiolahti_winner" descr="Файл:Ivan Tcherezov 10km sprint Kontiolahti win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569440" y="602136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712360" y="5589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492000" y="25992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вге́ний Рома́нович Устю́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 июня 1985), Красноярск, РСФСР, СССР) — российский биатлонист, олимпийский чемпион 2010 года в масс-старте, бронзовый призёр Олимпийских игр в составе эстафеты, заслуженный мастер спорта России (2010), победитель 3 этапов Кубка мира, победитель малого зачета Кубка мира в масс-старте (2009-2010), двукратный серебряный призёр чемпионата мира-2011, двукратный вице-чемпион Европы. В биатлон пришёл в 1997 году. В сборной России дебютировал в сезоне 2006—2007, выступал на Кубке Международного союза биатлонистов, с сезона 2008—2009 выступает в Кубк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-main-pic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745080" cy="558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́льга Алексе́евна За́йц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6 мая 1978, Москва) — российская биатлонистка. Двукратная олимпийская чемпионка в эстафете (2006, 2010), заслуженный мастер спорта России, член сборной России с 200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040" y="1506600"/>
            <a:ext cx="9072360" cy="360"/>
          </a:xfrm>
          <a:prstGeom prst="rect">
            <a:avLst/>
          </a:prstGeom>
          <a:solidFill>
            <a:srgbClr val="b0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35px-Olympic_flag_transparent.svg" descr="Olympic flag transparent.svg"/>
          <p:cNvPicPr/>
          <p:nvPr/>
        </p:nvPicPr>
        <p:blipFill>
          <a:blip r:embed="rId1"/>
          <a:stretch/>
        </p:blipFill>
        <p:spPr>
          <a:xfrm>
            <a:off x="-284040" y="1506600"/>
            <a:ext cx="3333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24200"/>
          <a:ext cx="6012000" cy="4933800"/>
        </p:xfrm>
        <a:graphic>
          <a:graphicData uri="http://schemas.openxmlformats.org/drawingml/2006/table">
            <a:tbl>
              <a:tblPr/>
              <a:tblGrid>
                <a:gridCol w="1258920"/>
                <a:gridCol w="1620720"/>
                <a:gridCol w="212760"/>
                <a:gridCol w="291960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c4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Олимпий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урин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Чемпионаты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Ханты-Мансийск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 эстаф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5543640" y="2492280"/>
            <a:ext cx="3600360" cy="336096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ветла́на Ю́рьевна Слепцо́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(31 июля 1986, Ханты-Мансийск) — российская биатлонистка, олимпийская чемпионка 2010 года в эстафете, чемпионка мира 2009 года в эстафете, заслуженный мастер спорт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-main-pic" descr="Картинка 14 из 5305"/>
          <p:cNvPicPr/>
          <p:nvPr/>
        </p:nvPicPr>
        <p:blipFill>
          <a:blip r:embed="rId1"/>
          <a:stretch/>
        </p:blipFill>
        <p:spPr>
          <a:xfrm>
            <a:off x="2195640" y="269388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237000"/>
            <a:ext cx="91440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u.wikipedia.org, www.biathlonr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51640" y="2997360"/>
            <a:ext cx="324144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мот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24000" y="-360"/>
            <a:ext cx="929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атло́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(от лат. 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bis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 — дважды и др.-греч. ἆθλον — состязание, борьба) — зимний олимпийский вид спорта, сочетающий лыжную гонку со стрельбой из винтов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атлон наиболее популярен в Германии, России, Австрии, Норвегии и Шве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247840"/>
            <a:ext cx="8244000" cy="46101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Первые официальные сорев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далённо напоминавшие биатлон, прошли в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1767 го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х организовали пограничники на шведско-норвежской гран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111400"/>
            <a:ext cx="6551640" cy="47466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на крупных международных соревнованиях состязания, напоминавшие современный биатлон,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были включены в 1924 году на I зимних Олимпийских играх во французском Шам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272880"/>
            <a:ext cx="450072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лись они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«соревнования военных патруле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проходили как демонстрационные состязания, позже были представлены на зимних Олимпиадах 1928, 1936 и 1948 годов, после чего их исключили из официального календаря в связи с нараставшими пацифистскими настроениями в мире по окончании 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2800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августа 1948 года была создана Международная федерация современного пятибор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с 1953 года начинает курировать биатл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67360" y="2349360"/>
            <a:ext cx="4076640" cy="403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76640"/>
            <a:ext cx="5076720" cy="453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4 году Международный олимпийский комитет признает биатлон как вид спорта. В 1958 году проходит первое крупное международное биатлонное соревнование — Чемпионат мира в австрийском Зальфельдене. Через два года биатлон включается в официальную программу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948 года не было организации, ответственной за развитие биатлона как вида спорта и за утверждение правил проведения биатлонных состязаний. С 1948 года биатлон курировался следующими международными организа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—1966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(У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7—1992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и биатлона (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—1998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формально курируется 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98 года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МС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самостоятельной организацией, признанной Международным олимпийским комитетом, ответственной за проведение международных биатлон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311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830760"/>
            <a:ext cx="4427640" cy="30272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885080" y="6497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23600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ой биатлонной федерацией в России является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оюз биатлонистов России (СБР), основанный в 1992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624720" cy="531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7360" y="2852640"/>
            <a:ext cx="3176640" cy="2127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стиль передвижения на лыжах. Длина лыж зависит от роста спортсмена — они не должны быть короче, чем рост спортсмена минус 4 см, максимальная длина не ограничена. Минимальная ширина лыж — 40 мм, масса — не менее 750 граммов.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Используются обычные лыжи и лыжные палки для лыжных гон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ина палок не должна превышать рост спортсмена; не разрешаются палки изменяемой длины и усиливающие толч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15:04Z</dcterms:created>
  <dc:creator> Сестрички</dc:creator>
  <dc:description/>
  <dc:language>en-US</dc:language>
  <cp:lastModifiedBy>КарМаН</cp:lastModifiedBy>
  <dcterms:modified xsi:type="dcterms:W3CDTF">2012-01-13T11:08:06Z</dcterms:modified>
  <cp:revision>8</cp:revision>
  <dc:subject/>
  <dc:title>Слайд 1</dc:title>
</cp:coreProperties>
</file>