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E6C-C8DF-47AF-A94F-1116D4FC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9C7-7113-4449-B50D-DD3F4C6F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9E3-0B21-49F1-AB1A-EC35E6E2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BAA-7D84-45BF-A4C7-610427C4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02F-601F-42F2-9FB4-1F19BC4F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C71-5669-48D4-AF13-2CB0713B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B5D-0C64-41D4-9C38-20B4BFE8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157-3F34-4EBA-AA48-FB14EAD7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BF1-6862-4902-9A19-883BC0B8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DB2-6FF2-4029-BDB1-962A3EF1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3AE-3BF4-4A67-B355-C9247A58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326-D70F-42F2-8095-D31D8B32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B0B6-2745-4DEF-9BBC-58B945D74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3.xml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7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" Target="slide10.xml"/><Relationship Id="rId23" Type="http://schemas.openxmlformats.org/officeDocument/2006/relationships/slide" Target="slide11.xml"/><Relationship Id="rId24" Type="http://schemas.openxmlformats.org/officeDocument/2006/relationships/slide" Target="slide12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6.xml"/><Relationship Id="rId28" Type="http://schemas.openxmlformats.org/officeDocument/2006/relationships/slide" Target="slide17.xml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0/Ivan_Tcherezov_10km_sprint_Kontiolahti_winner.jpg" TargetMode="External"/><Relationship Id="rId2" Type="http://schemas.openxmlformats.org/officeDocument/2006/relationships/image" Target="../media/image5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058.radikal.ru/1001/cb/ee16be570087.jpg" TargetMode="External"/><Relationship Id="rId2" Type="http://schemas.openxmlformats.org/officeDocument/2006/relationships/image" Target="../media/image5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ru.wikipedia.org/wiki/&#1051;&#1077;&#1090;&#1085;&#1080;&#1077;_&#1054;&#1083;&#1080;&#1084;&#1087;&#1080;&#1081;&#1089;&#1082;&#1080;&#1077;_&#1080;&#1075;&#1088;&#1099;" TargetMode="External"/><Relationship Id="rId3" Type="http://schemas.openxmlformats.org/officeDocument/2006/relationships/hyperlink" Target="http://ru.wikipedia.org/wiki/&#1047;&#1080;&#1084;&#1085;&#1080;&#1077;_&#1054;&#1083;&#1080;&#1084;&#1087;&#1080;&#1081;&#1089;&#1082;&#1080;&#1077;_&#1080;&#1075;&#1088;&#1099;_2006" TargetMode="External"/><Relationship Id="rId4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5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" TargetMode="External"/><Relationship Id="rId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2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3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4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5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2" Type="http://schemas.openxmlformats.org/officeDocument/2006/relationships/image" Target="../media/image53.jpeg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0"/>
            <a:ext cx="3384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ат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848200" y="6102360"/>
            <a:ext cx="3295800" cy="75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050240" y="4724280"/>
            <a:ext cx="2093760" cy="1209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6381720"/>
            <a:ext cx="2627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гилейчик Л.Ю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стрельбы применяются </a:t>
            </a:r>
            <a:r>
              <a:rPr b="0" lang="en-US" sz="2800" spc="-1" strike="noStrike" u="sng">
                <a:solidFill>
                  <a:srgbClr val="6600ff"/>
                </a:solidFill>
                <a:uFillTx/>
                <a:latin typeface="Arial"/>
              </a:rPr>
              <a:t>винтов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минимальным весом 3,5 кг, которые во время гонки транспортируются на спине. Запрещено автоматическое и полуавтоматическое оружие. При спуске крючка указательный палец должен преодолевать усилие как минимум 500 г. Прицелу винтовки не разрешено иметь эффект увеличения цели, вместо используется кольцевая мушка и диоптрический прицел, которые при стрельбе нужно совместить с чёрным кружком мишени. Калибр патронов составляет 5,6 мм. Скорость пули при выстреле на расстоянии 1 м от среза ствола не должна превышать 380 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45165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27640" y="4457880"/>
            <a:ext cx="3652560" cy="24001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На стрельбище расстояние до мишеней составляет 50 мет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до 1977 года — 100 метров). Мишени, используемые на соревнованиях, традиционно чёрного цвета, в количестве пяти штук на одной белой пластине. По мере попадания мишени закрываются белым клапаном, что позволяет биатлонисту сразу видеть результат своей стрель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261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961080" cy="263988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ая мишень представляет собой чёрный кружок в углублении пластины, диаметром 115 мм. При стрельбе стоя засчитывается попадание в любую зону кружка, а при стрельбе лёжа — только в чёрный же кружок диаметром 45 мм, центр которого совпадает с центром кружка 115 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3754440"/>
            <a:ext cx="5473440" cy="3103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62440" y="1052640"/>
            <a:ext cx="3481560" cy="5805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егодняшний день в рамках крупнейших международных биатлонных соревнований проводится шесть видов гон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индивидуальная г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при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ась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асс-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эстаф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мешанная эстаф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4678200"/>
            <a:ext cx="2735280" cy="21798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и успешными на сегодняшний день является, носящий неофициальный титул «короля биатлона», норвежский биатлон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ле Эйнар Бьёрндал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            6-кратный олимпийский чемпион, продолжающий свои выступления на международных соревнованиях, — и немецкая биатлонис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ати Вильхе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3х-кратная олимпийская чемпи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4419720" cy="301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12768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11280" y="189000"/>
            <a:ext cx="49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продолжающих своё выступление биатлонисток больше всего побед на зимних Олимпийских играх имеют сразу четыре биатлонистки — по две победы каждая. Это нем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Андреа Хенкель и Магдалена Нойн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также российские спортсмен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Ольга Зайцева и Анна Богалий-Титов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73320" cy="2781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2424240" cy="362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620640"/>
            <a:ext cx="2102040" cy="307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908000" y="4076640"/>
            <a:ext cx="2448000" cy="163368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9 году Международный союз биатлонистов основал так называемый Клуб «Зеро» — это символический элитный спортивный клуб, в который входят биатлонисты и биатлонистки, выигравшие золотую медаль зимних Олимпийских игр или Чемпионатов мира в личных гонках (индивидуальной гонке, спринте, пасьюте или масс-старте) с нулевым (то есть без единого промаха) результатом в стрел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0400" cy="3019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084720" y="549360"/>
            <a:ext cx="2448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у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еро»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00000" y="260280"/>
            <a:ext cx="748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борная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3635280" cy="2809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84720" y="3824280"/>
            <a:ext cx="4859280" cy="3033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888000" cy="272088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review_0" descr=""/>
          <p:cNvPicPr/>
          <p:nvPr/>
        </p:nvPicPr>
        <p:blipFill>
          <a:blip r:embed="rId1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review_0" descr=""/>
          <p:cNvPicPr/>
          <p:nvPr/>
        </p:nvPicPr>
        <p:blipFill>
          <a:blip r:embed="rId2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preview_0" descr=""/>
          <p:cNvPicPr/>
          <p:nvPr/>
        </p:nvPicPr>
        <p:blipFill>
          <a:blip r:embed="rId3"/>
          <a:stretch/>
        </p:blipFill>
        <p:spPr>
          <a:xfrm>
            <a:off x="0" y="3357720"/>
            <a:ext cx="2048040" cy="2857320"/>
          </a:xfrm>
          <a:prstGeom prst="rect">
            <a:avLst/>
          </a:prstGeom>
          <a:ln w="0">
            <a:noFill/>
          </a:ln>
        </p:spPr>
      </p:pic>
      <p:pic>
        <p:nvPicPr>
          <p:cNvPr id="145" name="preview_0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89520" y="2719800"/>
            <a:ext cx="24742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огалий-Титове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37120" y="2659320"/>
            <a:ext cx="1535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улыг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896440"/>
            <a:ext cx="197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Глазыр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04440" y="60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Юрл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eview_0" descr=""/>
          <p:cNvPicPr/>
          <p:nvPr/>
        </p:nvPicPr>
        <p:blipFill>
          <a:blip r:embed="rId5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preview_0" descr=""/>
          <p:cNvPicPr/>
          <p:nvPr/>
        </p:nvPicPr>
        <p:blipFill>
          <a:blip r:embed="rId6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3" name="preview_0" descr=""/>
          <p:cNvPicPr/>
          <p:nvPr/>
        </p:nvPicPr>
        <p:blipFill>
          <a:blip r:embed="rId7"/>
          <a:stretch/>
        </p:blipFill>
        <p:spPr>
          <a:xfrm>
            <a:off x="4788000" y="3357720"/>
            <a:ext cx="2047680" cy="2857320"/>
          </a:xfrm>
          <a:prstGeom prst="rect">
            <a:avLst/>
          </a:prstGeom>
          <a:ln w="0">
            <a:noFill/>
          </a:ln>
        </p:spPr>
      </p:pic>
      <p:pic>
        <p:nvPicPr>
          <p:cNvPr id="154" name="preview_0" descr=""/>
          <p:cNvPicPr/>
          <p:nvPr/>
        </p:nvPicPr>
        <p:blipFill>
          <a:blip r:embed="rId8"/>
          <a:stretch/>
        </p:blipFill>
        <p:spPr>
          <a:xfrm>
            <a:off x="7095960" y="335772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600" y="2719800"/>
            <a:ext cx="1782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алья Гус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0720" y="2719800"/>
            <a:ext cx="16970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га Зайц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40120" y="6104160"/>
            <a:ext cx="2216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тлана Слепц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78920" y="6021000"/>
            <a:ext cx="147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Яна Роман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788508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review_0" descr=""/>
          <p:cNvPicPr/>
          <p:nvPr/>
        </p:nvPicPr>
        <p:blipFill>
          <a:blip r:embed="rId1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37040" y="2607840"/>
            <a:ext cx="168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Устюг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eview_0" descr=""/>
          <p:cNvPicPr/>
          <p:nvPr/>
        </p:nvPicPr>
        <p:blipFill>
          <a:blip r:embed="rId2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66880" y="2636280"/>
            <a:ext cx="1458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Чу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review_0" descr=""/>
          <p:cNvPicPr/>
          <p:nvPr/>
        </p:nvPicPr>
        <p:blipFill>
          <a:blip r:embed="rId3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57000" y="2679120"/>
            <a:ext cx="142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Иван Через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review_0" descr=""/>
          <p:cNvPicPr/>
          <p:nvPr/>
        </p:nvPicPr>
        <p:blipFill>
          <a:blip r:embed="rId4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174800" y="2707920"/>
            <a:ext cx="1767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дрей Макове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review_0" descr=""/>
          <p:cNvPicPr/>
          <p:nvPr/>
        </p:nvPicPr>
        <p:blipFill>
          <a:blip r:embed="rId5"/>
          <a:stretch/>
        </p:blipFill>
        <p:spPr>
          <a:xfrm>
            <a:off x="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1760" y="5949360"/>
            <a:ext cx="1569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тон Шипули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review_0" descr=""/>
          <p:cNvPicPr/>
          <p:nvPr/>
        </p:nvPicPr>
        <p:blipFill>
          <a:blip r:embed="rId6"/>
          <a:stretch/>
        </p:blipFill>
        <p:spPr>
          <a:xfrm>
            <a:off x="241128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67160" y="5949360"/>
            <a:ext cx="170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тор Василь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review_0" descr=""/>
          <p:cNvPicPr/>
          <p:nvPr/>
        </p:nvPicPr>
        <p:blipFill>
          <a:blip r:embed="rId7"/>
          <a:stretch/>
        </p:blipFill>
        <p:spPr>
          <a:xfrm>
            <a:off x="4788000" y="328464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92760" y="6021000"/>
            <a:ext cx="1806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Максим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review_0" descr=""/>
          <p:cNvPicPr/>
          <p:nvPr/>
        </p:nvPicPr>
        <p:blipFill>
          <a:blip r:embed="rId8"/>
          <a:stretch/>
        </p:blipFill>
        <p:spPr>
          <a:xfrm>
            <a:off x="709596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093080" y="6021000"/>
            <a:ext cx="1898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Гаранич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9" action="ppaction://hlinksldjump"/>
          </p:cNvPr>
          <p:cNvSpPr/>
          <p:nvPr/>
        </p:nvSpPr>
        <p:spPr>
          <a:xfrm>
            <a:off x="795672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189000"/>
            <a:ext cx="59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9"/>
          <a:stretch/>
        </p:blipFill>
        <p:spPr>
          <a:xfrm>
            <a:off x="3492360" y="3933720"/>
            <a:ext cx="466740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0"/>
          <a:stretch/>
        </p:blipFill>
        <p:spPr>
          <a:xfrm>
            <a:off x="5435640" y="1413000"/>
            <a:ext cx="34592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5508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ва́н Ю́рьевич Че́ре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 ноября 1980, Ижевск) — российский биатлонист, заслуженный мастер спорта России. Двукратный призёр олимпийских игр в эстафете (серебро XX Зимних Олимпийских игр в Турине 2006 года и бронза XXI Зимних Олимпийских игр в Ванкувере 2010 года), чемпион мира 2005 года в смешанной эстафете, чемпион мира 2007 года и 2008 года в мужской эстафете, серебряный призер чемпионата мира 2011 года в мужской эстафете, бронзовый призёр чемпионата мира-2009 в масс-ста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330px-Ivan_Tcherezov_10km_sprint_Kontiolahti_winner" descr="Файл:Ivan Tcherezov 10km sprint Kontiolahti winn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73720" y="0"/>
            <a:ext cx="377028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8569440" y="602136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8712360" y="5589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492000" y="259920"/>
            <a:ext cx="5651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вге́ний Рома́нович Устю́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 июня 1985), Красноярск, РСФСР, СССР) — российский биатлонист, олимпийский чемпион 2010 года в масс-старте, бронзовый призёр Олимпийских игр в составе эстафеты, заслуженный мастер спорта России (2010), победитель 3 этапов Кубка мира, победитель малого зачета Кубка мира в масс-старте (2009-2010), двукратный серебряный призёр чемпионата мира-2011, двукратный вице-чемпион Европы. В биатлон пришёл в 1997 году. В сборной России дебютировал в сезоне 2006—2007, выступал на Кубке Международного союза биатлонистов, с сезона 2008—2009 выступает в Кубк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-main-pic" descr="Картинка 16 из 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3745080" cy="558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О́льга Алексе́евна За́йце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6 мая 1978, Москва) — российская биатлонистка. Двукратная олимпийская чемпионка в эстафете (2006, 2010), заслуженный мастер спорта России, член сборной России с 2001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040" y="1506600"/>
            <a:ext cx="9072360" cy="360"/>
          </a:xfrm>
          <a:prstGeom prst="rect">
            <a:avLst/>
          </a:prstGeom>
          <a:solidFill>
            <a:srgbClr val="b0e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35px-Olympic_flag_transparent.svg" descr="Olympic flag transparent.svg"/>
          <p:cNvPicPr/>
          <p:nvPr/>
        </p:nvPicPr>
        <p:blipFill>
          <a:blip r:embed="rId1"/>
          <a:stretch/>
        </p:blipFill>
        <p:spPr>
          <a:xfrm>
            <a:off x="-284040" y="1506600"/>
            <a:ext cx="333360" cy="21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0" y="1924200"/>
          <a:ext cx="6012000" cy="4933800"/>
        </p:xfrm>
        <a:graphic>
          <a:graphicData uri="http://schemas.openxmlformats.org/drawingml/2006/table">
            <a:tbl>
              <a:tblPr/>
              <a:tblGrid>
                <a:gridCol w="1258920"/>
                <a:gridCol w="1620720"/>
                <a:gridCol w="212760"/>
                <a:gridCol w="2919600"/>
              </a:tblGrid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c4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Олимпий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Турин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Чемпионаты 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Ханты-Мансийск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 эстаф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22"/>
          <a:stretch/>
        </p:blipFill>
        <p:spPr>
          <a:xfrm>
            <a:off x="5543640" y="2492280"/>
            <a:ext cx="3600360" cy="336096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2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ветла́на Ю́рьевна Слепцо́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(31 июля 1986, Ханты-Мансийск) — российская биатлонистка, олимпийская чемпионка 2010 года в эстафете, чемпионка мира 2009 года в эстафете, заслуженный мастер спорт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-main-pic" descr="Картинка 14 из 5305"/>
          <p:cNvPicPr/>
          <p:nvPr/>
        </p:nvPicPr>
        <p:blipFill>
          <a:blip r:embed="rId1"/>
          <a:stretch/>
        </p:blipFill>
        <p:spPr>
          <a:xfrm>
            <a:off x="2195640" y="2693880"/>
            <a:ext cx="5545080" cy="416412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1356" y="10800"/>
                </a:moveTo>
                <a:lnTo>
                  <a:pt x="21862" y="3794"/>
                </a:lnTo>
                <a:lnTo>
                  <a:pt x="21862" y="17806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9511" y="3794"/>
                </a:lnTo>
                <a:lnTo>
                  <a:pt x="9511" y="17806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6237000"/>
            <a:ext cx="914400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взят с сай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u.wikipedia.org, www.biathlonru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51640" y="2997360"/>
            <a:ext cx="324144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смотр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24000" y="-360"/>
            <a:ext cx="9290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атло́н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(от лат. 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bis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 — дважды и др.-греч. ἆθλον — состязание, борьба) — зимний олимпийский вид спорта, сочетающий лыжную гонку со стрельбой из винтов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атлон наиболее популярен в Германии, России, Австрии, Норвегии и Шве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2247840"/>
            <a:ext cx="8244000" cy="46101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Первые официальные соревн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отдалённо напоминавшие биатлон, прошли в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1767 го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Их организовали пограничники на шведско-норвежской гран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2111400"/>
            <a:ext cx="6551640" cy="47466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5003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вые на крупных международных соревнованиях состязания, напоминавшие современный биатлон,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были включены в 1924 году на I зимних Олимпийских играх во французском Шам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272880"/>
            <a:ext cx="4500720" cy="286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645000"/>
            <a:ext cx="9144000" cy="321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ывались они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«соревнования военных патруле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проходили как демонстрационные состязания, позже были представлены на зимних Олимпиадах 1928, 1936 и 1948 годов, после чего их исключили из официального календаря в связи с нараставшими пацифистскими настроениями в мире по окончании Второй мировой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02800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августа 1948 года была создана Международная федерация современного пятибор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ая с 1953 года начинает курировать биатл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67360" y="2349360"/>
            <a:ext cx="4076640" cy="403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276640"/>
            <a:ext cx="5076720" cy="4530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54 году Международный олимпийский комитет признает биатлон как вид спорта. В 1958 году проходит первое крупное международное биатлонное соревнование — Чемпионат мира в австрийском Зальфельдене. Через два года биатлон включается в официальную программу зимних Олимпийских иг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1948 года не было организации, ответственной за развитие биатлона как вида спорта и за утверждение правил проведения биатлонных состязаний. С 1948 года биатлон курировался следующими международными организаци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—1966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(УИ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7—1992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и биатлона (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—1998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формально курируется 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998 года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МС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является самостоятельной организацией, признанной Международным олимпийским комитетом, ответственной за проведение международных биатлонных мероприя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745080" cy="3111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3830760"/>
            <a:ext cx="4427640" cy="30272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7885080" y="6497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23600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иональной биатлонной федерацией в России является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Союз биатлонистов России (СБР), основанный в 1992 г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6624720" cy="531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67360" y="2852640"/>
            <a:ext cx="3176640" cy="21272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иатлоне используется свободный стиль передвижения на лыжах. Длина лыж зависит от роста спортсмена — они не должны быть короче, чем рост спортсмена минус 4 см, максимальная длина не ограничена. Минимальная ширина лыж — 40 мм, масса — не менее 750 граммов.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Используются обычные лыжи и лыжные палки для лыжных гон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ина палок не должна превышать рост спортсмена; не разрешаются палки изменяемой длины и усиливающие толчо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716360" cy="31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454120" cy="32130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0:15:04Z</dcterms:created>
  <dc:creator> Сестрички</dc:creator>
  <dc:description/>
  <dc:language>en-US</dc:language>
  <cp:lastModifiedBy>КарМаН</cp:lastModifiedBy>
  <dcterms:modified xsi:type="dcterms:W3CDTF">2012-01-13T11:08:06Z</dcterms:modified>
  <cp:revision>8</cp:revision>
  <dc:subject/>
  <dc:title>Слайд 1</dc:title>
</cp:coreProperties>
</file>