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BE42-F7F9-4A26-9B71-48ADC3A2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69B6-5F7F-4BAE-850D-DDFBF6C5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83D3-4DE6-4E02-89A3-18153AF48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62B9-814E-4235-BE82-678EF32E6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4F60-22B3-483E-BB45-E1E84774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18C6-5CD8-4ED3-B2E1-2E7849FA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2097-2425-448F-9709-A7B1331C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84CB-ED27-4910-ADB6-4C7B22CC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9192-6E6A-45C7-9A0F-8A869774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AC3D-805B-4C1C-BF84-2AA2EAEE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7992-160D-4102-8C64-C463D269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BF8A-0FEF-42E2-ACCA-8EC2508F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B41C-6A48-4E39-BF64-4D0FC6501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slide" Target="slide2.xml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image" Target="../media/image49.jpeg"/><Relationship Id="rId9" Type="http://schemas.openxmlformats.org/officeDocument/2006/relationships/slide" Target="slide2.xm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3.xml"/><Relationship Id="rId16" Type="http://schemas.openxmlformats.org/officeDocument/2006/relationships/slide" Target="slide4.xml"/><Relationship Id="rId17" Type="http://schemas.openxmlformats.org/officeDocument/2006/relationships/slide" Target="slide5.xml"/><Relationship Id="rId18" Type="http://schemas.openxmlformats.org/officeDocument/2006/relationships/slide" Target="slide6.xml"/><Relationship Id="rId19" Type="http://schemas.openxmlformats.org/officeDocument/2006/relationships/slide" Target="slide7.xml"/><Relationship Id="rId20" Type="http://schemas.openxmlformats.org/officeDocument/2006/relationships/slide" Target="slide8.xml"/><Relationship Id="rId21" Type="http://schemas.openxmlformats.org/officeDocument/2006/relationships/slide" Target="slide9.xml"/><Relationship Id="rId22" Type="http://schemas.openxmlformats.org/officeDocument/2006/relationships/slide" Target="slide10.xml"/><Relationship Id="rId23" Type="http://schemas.openxmlformats.org/officeDocument/2006/relationships/slide" Target="slide11.xml"/><Relationship Id="rId24" Type="http://schemas.openxmlformats.org/officeDocument/2006/relationships/slide" Target="slide12.xml"/><Relationship Id="rId25" Type="http://schemas.openxmlformats.org/officeDocument/2006/relationships/slide" Target="slide13.xml"/><Relationship Id="rId26" Type="http://schemas.openxmlformats.org/officeDocument/2006/relationships/slide" Target="slide14.xml"/><Relationship Id="rId27" Type="http://schemas.openxmlformats.org/officeDocument/2006/relationships/slide" Target="slide16.xml"/><Relationship Id="rId28" Type="http://schemas.openxmlformats.org/officeDocument/2006/relationships/slide" Target="slide17.xml"/><Relationship Id="rId29" Type="http://schemas.openxmlformats.org/officeDocument/2006/relationships/image" Target="../media/image4.jpeg"/><Relationship Id="rId30" Type="http://schemas.openxmlformats.org/officeDocument/2006/relationships/image" Target="../media/image5.jpeg"/><Relationship Id="rId3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0/Ivan_Tcherezov_10km_sprint_Kontiolahti_winner.jpg" TargetMode="External"/><Relationship Id="rId2" Type="http://schemas.openxmlformats.org/officeDocument/2006/relationships/image" Target="../media/image50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058.radikal.ru/1001/cb/ee16be570087.jpg" TargetMode="External"/><Relationship Id="rId2" Type="http://schemas.openxmlformats.org/officeDocument/2006/relationships/image" Target="../media/image5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hyperlink" Target="http://ru.wikipedia.org/wiki/&#1051;&#1077;&#1090;&#1085;&#1080;&#1077;_&#1054;&#1083;&#1080;&#1084;&#1087;&#1080;&#1081;&#1089;&#1082;&#1080;&#1077;_&#1080;&#1075;&#1088;&#1099;" TargetMode="External"/><Relationship Id="rId3" Type="http://schemas.openxmlformats.org/officeDocument/2006/relationships/hyperlink" Target="http://ru.wikipedia.org/wiki/&#1047;&#1080;&#1084;&#1085;&#1080;&#1077;_&#1054;&#1083;&#1080;&#1084;&#1087;&#1080;&#1081;&#1089;&#1082;&#1080;&#1077;_&#1080;&#1075;&#1088;&#1099;_2006" TargetMode="External"/><Relationship Id="rId4" Type="http://schemas.openxmlformats.org/officeDocument/2006/relationships/hyperlink" Target="http://ru.wikipedia.org/wiki/&#1047;&#1080;&#1084;&#1085;&#1080;&#1077;_&#1054;&#1083;&#1080;&#1084;&#1087;&#1080;&#1081;&#1089;&#1082;&#1080;&#1077;_&#1080;&#1075;&#1088;&#1099;_2010" TargetMode="External"/><Relationship Id="rId5" Type="http://schemas.openxmlformats.org/officeDocument/2006/relationships/hyperlink" Target="http://ru.wikipedia.org/wiki/&#1047;&#1080;&#1084;&#1085;&#1080;&#1077;_&#1054;&#1083;&#1080;&#1084;&#1087;&#1080;&#1081;&#1089;&#1082;&#1080;&#1077;_&#1080;&#1075;&#1088;&#1099;_2010" TargetMode="External"/><Relationship Id="rId6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" TargetMode="External"/><Relationship Id="rId7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5" TargetMode="External"/><Relationship Id="rId8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5" TargetMode="External"/><Relationship Id="rId9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5" TargetMode="External"/><Relationship Id="rId10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5" TargetMode="External"/><Relationship Id="rId11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5" TargetMode="External"/><Relationship Id="rId12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5" TargetMode="External"/><Relationship Id="rId13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5" TargetMode="External"/><Relationship Id="rId14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9" TargetMode="External"/><Relationship Id="rId15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9" TargetMode="External"/><Relationship Id="rId16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9" TargetMode="External"/><Relationship Id="rId17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9" TargetMode="External"/><Relationship Id="rId18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9" TargetMode="External"/><Relationship Id="rId19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9" TargetMode="External"/><Relationship Id="rId20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9" TargetMode="External"/><Relationship Id="rId21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9" TargetMode="External"/><Relationship Id="rId22" Type="http://schemas.openxmlformats.org/officeDocument/2006/relationships/image" Target="../media/image53.jpeg"/><Relationship Id="rId23" Type="http://schemas.openxmlformats.org/officeDocument/2006/relationships/slide" Target="slide2.xml"/><Relationship Id="rId2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0"/>
            <a:ext cx="3384360" cy="19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иатлон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848200" y="6102360"/>
            <a:ext cx="3295800" cy="755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050240" y="4724280"/>
            <a:ext cx="2093760" cy="1209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0" y="6381720"/>
            <a:ext cx="262728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игилейчик Л.Ю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стрельбы применяются </a:t>
            </a:r>
            <a:r>
              <a:rPr b="0" lang="en-US" sz="2800" spc="-1" strike="noStrike" u="sng">
                <a:solidFill>
                  <a:srgbClr val="6600ff"/>
                </a:solidFill>
                <a:uFillTx/>
                <a:latin typeface="Arial"/>
              </a:rPr>
              <a:t>винтов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минимальным весом 3,5 кг, которые во время гонки транспортируются на спине. Запрещено автоматическое и полуавтоматическое оружие. При спуске крючка указательный палец должен преодолевать усилие как минимум 500 г. Прицелу винтовки не разрешено иметь эффект увеличения цели, вместо используется кольцевая мушка и диоптрический прицел, которые при стрельбе нужно совместить с чёрным кружком мишени. Калибр патронов составляет 5,6 мм. Скорость пули при выстреле на расстоянии 1 м от среза ствола не должна превышать 380 м/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11280" y="4516560"/>
            <a:ext cx="3120840" cy="2341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27640" y="4457880"/>
            <a:ext cx="3652560" cy="240012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2636640"/>
            <a:ext cx="9144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На стрельбище расстояние до мишеней составляет 50 метр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до 1977 года — 100 метров). Мишени, используемые на соревнованиях, традиционно чёрного цвета, в количестве пяти штук на одной белой пластине. По мере попадания мишени закрываются белым клапаном, что позволяет биатлонисту сразу видеть результат своей стрельб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4419720" cy="2612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003640" y="0"/>
            <a:ext cx="3961080" cy="2639880"/>
          </a:xfrm>
          <a:prstGeom prst="rect">
            <a:avLst/>
          </a:prstGeom>
          <a:ln w="0">
            <a:noFill/>
          </a:ln>
        </p:spPr>
      </p:pic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ждая мишень представляет собой чёрный кружок в углублении пластины, диаметром 115 мм. При стрельбе стоя засчитывается попадание в любую зону кружка, а при стрельбе лёжа — только в чёрный же кружок диаметром 45 мм, центр которого совпадает с центром кружка 115 м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92360" y="3754440"/>
            <a:ext cx="5473440" cy="310356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662440" y="1052640"/>
            <a:ext cx="3481560" cy="5805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сегодняшний день в рамках крупнейших международных биатлонных соревнований проводится шесть видов гон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индивидуальная го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спри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пась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масс-ст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эстаф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смешанная эстаф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71640" y="4678200"/>
            <a:ext cx="2735280" cy="217980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724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ми успешными на сегодняшний день является, носящий неофициальный титул «короля биатлона», норвежский биатлони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Уле Эйнар Бьёрндале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            6-кратный олимпийский чемпион, продолжающий свои выступления на международных соревнованиях, — и немецкая биатлонист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Кати Вильхель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3х-кратная олимпийская чемпион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292720" y="0"/>
            <a:ext cx="4419720" cy="3013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724360" y="3141720"/>
            <a:ext cx="312768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rId3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211280" y="189000"/>
            <a:ext cx="49323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и продолжающих своё выступление биатлонисток больше всего побед на зимних Олимпийских играх имеют сразу четыре биатлонистки — по две победы каждая. Это немки 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Андреа Хенкель и Магдалена Нойн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также российские спортсменки 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Ольга Зайцева и Анна Богалий-Титовец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73320" cy="2781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2924280"/>
            <a:ext cx="2424240" cy="3627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268360" y="620640"/>
            <a:ext cx="2102040" cy="30718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908000" y="4076640"/>
            <a:ext cx="2448000" cy="163368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rId5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3212640"/>
            <a:ext cx="914400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999 году Международный союз биатлонистов основал так называемый Клуб «Зеро» — это символический элитный спортивный клуб, в который входят биатлонисты и биатлонистки, выигравшие золотую медаль зимних Олимпийских игр или Чемпионатов мира в личных гонках (индивидуальной гонке, спринте, пасьюте или масс-старте) с нулевым (то есть без единого промаха) результатом в стрель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10400" cy="3019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6084720" y="549360"/>
            <a:ext cx="244800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луб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Зеро»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900000" y="260280"/>
            <a:ext cx="7488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cc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борная Росси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cc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396864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3635280" cy="2809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284720" y="3824280"/>
            <a:ext cx="4859280" cy="3033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5003640" y="1341360"/>
            <a:ext cx="3888000" cy="272088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rId5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review_0" descr=""/>
          <p:cNvPicPr/>
          <p:nvPr/>
        </p:nvPicPr>
        <p:blipFill>
          <a:blip r:embed="rId1"/>
          <a:stretch/>
        </p:blipFill>
        <p:spPr>
          <a:xfrm>
            <a:off x="2411280" y="0"/>
            <a:ext cx="2048040" cy="2857680"/>
          </a:xfrm>
          <a:prstGeom prst="rect">
            <a:avLst/>
          </a:prstGeom>
          <a:ln w="0">
            <a:noFill/>
          </a:ln>
        </p:spPr>
      </p:pic>
      <p:pic>
        <p:nvPicPr>
          <p:cNvPr id="143" name="preview_0" descr=""/>
          <p:cNvPicPr/>
          <p:nvPr/>
        </p:nvPicPr>
        <p:blipFill>
          <a:blip r:embed="rId2"/>
          <a:stretch/>
        </p:blipFill>
        <p:spPr>
          <a:xfrm>
            <a:off x="4788000" y="0"/>
            <a:ext cx="2047680" cy="2857680"/>
          </a:xfrm>
          <a:prstGeom prst="rect">
            <a:avLst/>
          </a:prstGeom>
          <a:ln w="0">
            <a:noFill/>
          </a:ln>
        </p:spPr>
      </p:pic>
      <p:pic>
        <p:nvPicPr>
          <p:cNvPr id="144" name="preview_0" descr=""/>
          <p:cNvPicPr/>
          <p:nvPr/>
        </p:nvPicPr>
        <p:blipFill>
          <a:blip r:embed="rId3"/>
          <a:stretch/>
        </p:blipFill>
        <p:spPr>
          <a:xfrm>
            <a:off x="0" y="3357720"/>
            <a:ext cx="2048040" cy="2857320"/>
          </a:xfrm>
          <a:prstGeom prst="rect">
            <a:avLst/>
          </a:prstGeom>
          <a:ln w="0">
            <a:noFill/>
          </a:ln>
        </p:spPr>
      </p:pic>
      <p:pic>
        <p:nvPicPr>
          <p:cNvPr id="145" name="preview_0" descr=""/>
          <p:cNvPicPr/>
          <p:nvPr/>
        </p:nvPicPr>
        <p:blipFill>
          <a:blip r:embed="rId4"/>
          <a:stretch/>
        </p:blipFill>
        <p:spPr>
          <a:xfrm>
            <a:off x="2340000" y="3357720"/>
            <a:ext cx="2047680" cy="28573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549600" y="-77554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89520" y="2719800"/>
            <a:ext cx="24742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Анна Богалий-Титовец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37120" y="2659320"/>
            <a:ext cx="15354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Анна Булыги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5896440"/>
            <a:ext cx="19796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Екатерина Глазыри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04440" y="6021000"/>
            <a:ext cx="1893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Екатерина Юрлов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review_0" descr=""/>
          <p:cNvPicPr/>
          <p:nvPr/>
        </p:nvPicPr>
        <p:blipFill>
          <a:blip r:embed="rId5"/>
          <a:stretch/>
        </p:blipFill>
        <p:spPr>
          <a:xfrm>
            <a:off x="0" y="0"/>
            <a:ext cx="2048040" cy="2857680"/>
          </a:xfrm>
          <a:prstGeom prst="rect">
            <a:avLst/>
          </a:prstGeom>
          <a:ln w="0">
            <a:noFill/>
          </a:ln>
        </p:spPr>
      </p:pic>
      <p:pic>
        <p:nvPicPr>
          <p:cNvPr id="152" name="preview_0" descr=""/>
          <p:cNvPicPr/>
          <p:nvPr/>
        </p:nvPicPr>
        <p:blipFill>
          <a:blip r:embed="rId6"/>
          <a:stretch/>
        </p:blipFill>
        <p:spPr>
          <a:xfrm>
            <a:off x="7095960" y="0"/>
            <a:ext cx="2048040" cy="2857680"/>
          </a:xfrm>
          <a:prstGeom prst="rect">
            <a:avLst/>
          </a:prstGeom>
          <a:ln w="0">
            <a:noFill/>
          </a:ln>
        </p:spPr>
      </p:pic>
      <p:pic>
        <p:nvPicPr>
          <p:cNvPr id="153" name="preview_0" descr=""/>
          <p:cNvPicPr/>
          <p:nvPr/>
        </p:nvPicPr>
        <p:blipFill>
          <a:blip r:embed="rId7"/>
          <a:stretch/>
        </p:blipFill>
        <p:spPr>
          <a:xfrm>
            <a:off x="4788000" y="3357720"/>
            <a:ext cx="2047680" cy="2857320"/>
          </a:xfrm>
          <a:prstGeom prst="rect">
            <a:avLst/>
          </a:prstGeom>
          <a:ln w="0">
            <a:noFill/>
          </a:ln>
        </p:spPr>
      </p:pic>
      <p:pic>
        <p:nvPicPr>
          <p:cNvPr id="154" name="preview_0" descr=""/>
          <p:cNvPicPr/>
          <p:nvPr/>
        </p:nvPicPr>
        <p:blipFill>
          <a:blip r:embed="rId8"/>
          <a:stretch/>
        </p:blipFill>
        <p:spPr>
          <a:xfrm>
            <a:off x="7095960" y="3357720"/>
            <a:ext cx="2048040" cy="28573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549600" y="-77554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5600" y="2719800"/>
            <a:ext cx="178236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Наталья Гусе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290720" y="2719800"/>
            <a:ext cx="169704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Ольга Зайце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40120" y="6104160"/>
            <a:ext cx="22168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Светлана Слепцо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78920" y="6021000"/>
            <a:ext cx="1473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Яна Романов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9" action="ppaction://hlinksldjump"/>
          </p:cNvPr>
          <p:cNvSpPr/>
          <p:nvPr/>
        </p:nvSpPr>
        <p:spPr>
          <a:xfrm>
            <a:off x="7885080" y="595008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nextslide"/>
          </p:cNvPr>
          <p:cNvSpPr/>
          <p:nvPr/>
        </p:nvSpPr>
        <p:spPr>
          <a:xfrm>
            <a:off x="8748720" y="595008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previousslide"/>
          </p:cNvPr>
          <p:cNvSpPr/>
          <p:nvPr/>
        </p:nvSpPr>
        <p:spPr>
          <a:xfrm>
            <a:off x="7308720" y="595008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549600" y="1412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review_0" descr=""/>
          <p:cNvPicPr/>
          <p:nvPr/>
        </p:nvPicPr>
        <p:blipFill>
          <a:blip r:embed="rId1"/>
          <a:stretch/>
        </p:blipFill>
        <p:spPr>
          <a:xfrm>
            <a:off x="0" y="0"/>
            <a:ext cx="2048040" cy="28576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37040" y="2607840"/>
            <a:ext cx="1680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Евгений Устюг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49600" y="1412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review_0" descr=""/>
          <p:cNvPicPr/>
          <p:nvPr/>
        </p:nvPicPr>
        <p:blipFill>
          <a:blip r:embed="rId2"/>
          <a:stretch/>
        </p:blipFill>
        <p:spPr>
          <a:xfrm>
            <a:off x="2411280" y="0"/>
            <a:ext cx="2048040" cy="28576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666880" y="2636280"/>
            <a:ext cx="1458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Максим Чуд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49600" y="1412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review_0" descr=""/>
          <p:cNvPicPr/>
          <p:nvPr/>
        </p:nvPicPr>
        <p:blipFill>
          <a:blip r:embed="rId3"/>
          <a:stretch/>
        </p:blipFill>
        <p:spPr>
          <a:xfrm>
            <a:off x="4788000" y="0"/>
            <a:ext cx="2047680" cy="2857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157000" y="2679120"/>
            <a:ext cx="1424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Иван Через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49600" y="1412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review_0" descr=""/>
          <p:cNvPicPr/>
          <p:nvPr/>
        </p:nvPicPr>
        <p:blipFill>
          <a:blip r:embed="rId4"/>
          <a:stretch/>
        </p:blipFill>
        <p:spPr>
          <a:xfrm>
            <a:off x="7095960" y="0"/>
            <a:ext cx="2048040" cy="28576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174800" y="2707920"/>
            <a:ext cx="1767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Андрей Маковее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49600" y="1412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review_0" descr=""/>
          <p:cNvPicPr/>
          <p:nvPr/>
        </p:nvPicPr>
        <p:blipFill>
          <a:blip r:embed="rId5"/>
          <a:stretch/>
        </p:blipFill>
        <p:spPr>
          <a:xfrm>
            <a:off x="0" y="3284640"/>
            <a:ext cx="2048040" cy="28573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11760" y="5949360"/>
            <a:ext cx="1569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Антон Шипули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49600" y="1412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review_0" descr=""/>
          <p:cNvPicPr/>
          <p:nvPr/>
        </p:nvPicPr>
        <p:blipFill>
          <a:blip r:embed="rId6"/>
          <a:stretch/>
        </p:blipFill>
        <p:spPr>
          <a:xfrm>
            <a:off x="2411280" y="3284640"/>
            <a:ext cx="2048040" cy="28573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567160" y="5949360"/>
            <a:ext cx="1704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Виктор Василье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49600" y="1412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review_0" descr=""/>
          <p:cNvPicPr/>
          <p:nvPr/>
        </p:nvPicPr>
        <p:blipFill>
          <a:blip r:embed="rId7"/>
          <a:stretch/>
        </p:blipFill>
        <p:spPr>
          <a:xfrm>
            <a:off x="4788000" y="3284640"/>
            <a:ext cx="2047680" cy="28573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892760" y="6021000"/>
            <a:ext cx="18068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Максим Максим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49600" y="1412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review_0" descr=""/>
          <p:cNvPicPr/>
          <p:nvPr/>
        </p:nvPicPr>
        <p:blipFill>
          <a:blip r:embed="rId8"/>
          <a:stretch/>
        </p:blipFill>
        <p:spPr>
          <a:xfrm>
            <a:off x="7095960" y="3284640"/>
            <a:ext cx="2048040" cy="28573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093080" y="6021000"/>
            <a:ext cx="1898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Евгений Гараниче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9" action="ppaction://hlinksldjump"/>
          </p:cNvPr>
          <p:cNvSpPr/>
          <p:nvPr/>
        </p:nvSpPr>
        <p:spPr>
          <a:xfrm>
            <a:off x="7956720" y="595008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nextslide"/>
          </p:cNvPr>
          <p:cNvSpPr/>
          <p:nvPr/>
        </p:nvSpPr>
        <p:spPr>
          <a:xfrm>
            <a:off x="8748720" y="595008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" action="ppaction://hlinkshowjump?jump=previousslide"/>
          </p:cNvPr>
          <p:cNvSpPr/>
          <p:nvPr/>
        </p:nvSpPr>
        <p:spPr>
          <a:xfrm>
            <a:off x="7308720" y="595008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онятие «биатло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ервые официальные соревн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Соревнования военных патру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Биатлон как вид спо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Международные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Союз Биатлонисто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Лыжи и лыжные пал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Винт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Стрельбищ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Миш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Виды го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Самые успеш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Клуб «Зер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Сборная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47640" y="189000"/>
            <a:ext cx="5977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держа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48428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Понятие «биатло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Первые официальные соревн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Соревнования военных патру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Биатлон как вид спо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Международные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Союз Биатлонисто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Лыжи и лыжные пал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Винт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Стрельбищ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Миш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Виды го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Самые успеш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Клуб «Зер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Сборная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9"/>
          <a:stretch/>
        </p:blipFill>
        <p:spPr>
          <a:xfrm>
            <a:off x="3492360" y="3933720"/>
            <a:ext cx="4667400" cy="2610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0"/>
          <a:stretch/>
        </p:blipFill>
        <p:spPr>
          <a:xfrm>
            <a:off x="5435640" y="1413000"/>
            <a:ext cx="345924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5508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Ива́н Ю́рьевич Че́рез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8 ноября 1980, Ижевск) — российский биатлонист, заслуженный мастер спорта России. Двукратный призёр олимпийских игр в эстафете (серебро XX Зимних Олимпийских игр в Турине 2006 года и бронза XXI Зимних Олимпийских игр в Ванкувере 2010 года), чемпион мира 2005 года в смешанной эстафете, чемпион мира 2007 года и 2008 года в мужской эстафете, серебряный призер чемпионата мира 2011 года в мужской эстафете, бронзовый призёр чемпионата мира-2009 в масс-стар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330px-Ivan_Tcherezov_10km_sprint_Kontiolahti_winner" descr="Файл:Ivan Tcherezov 10km sprint Kontiolahti winn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73720" y="0"/>
            <a:ext cx="377028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rId3" action="ppaction://hlinksldjump"/>
          </p:cNvPr>
          <p:cNvSpPr/>
          <p:nvPr/>
        </p:nvSpPr>
        <p:spPr>
          <a:xfrm>
            <a:off x="8569440" y="602136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" action="ppaction://hlinkshowjump?jump=nextslide"/>
          </p:cNvPr>
          <p:cNvSpPr/>
          <p:nvPr/>
        </p:nvSpPr>
        <p:spPr>
          <a:xfrm>
            <a:off x="8748720" y="6570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" action="ppaction://hlinkshowjump?jump=previousslide"/>
          </p:cNvPr>
          <p:cNvSpPr/>
          <p:nvPr/>
        </p:nvSpPr>
        <p:spPr>
          <a:xfrm>
            <a:off x="8712360" y="5589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10800"/>
                </a:moveTo>
                <a:lnTo>
                  <a:pt x="23227" y="3794"/>
                </a:lnTo>
                <a:lnTo>
                  <a:pt x="23227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492000" y="259920"/>
            <a:ext cx="565164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Евге́ний Рома́нович Устю́г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4 июня 1985), Красноярск, РСФСР, СССР) — российский биатлонист, олимпийский чемпион 2010 года в масс-старте, бронзовый призёр Олимпийских игр в составе эстафеты, заслуженный мастер спорта России (2010), победитель 3 этапов Кубка мира, победитель малого зачета Кубка мира в масс-старте (2009-2010), двукратный серебряный призёр чемпионата мира-2011, двукратный вице-чемпион Европы. В биатлон пришёл в 1997 году. В сборной России дебютировал в сезоне 2006—2007, выступал на Кубке Международного союза биатлонистов, с сезона 2008—2009 выступает в Кубке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i-main-pic" descr="Картинка 16 из 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04640"/>
            <a:ext cx="3745080" cy="5589720"/>
          </a:xfrm>
          <a:prstGeom prst="rect">
            <a:avLst/>
          </a:prstGeom>
          <a:ln w="0">
            <a:noFill/>
          </a:ln>
        </p:spPr>
      </p:pic>
      <p:sp>
        <p:nvSpPr>
          <p:cNvPr id="197" name="">
            <a:hlinkClick r:id="rId3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О́льга Алексе́евна За́йце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16 мая 1978, Москва) — российская биатлонистка. Двукратная олимпийская чемпионка в эстафете (2006, 2010), заслуженный мастер спорта России, член сборной России с 2001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-284040" y="1506600"/>
            <a:ext cx="9072360" cy="360"/>
          </a:xfrm>
          <a:prstGeom prst="rect">
            <a:avLst/>
          </a:prstGeom>
          <a:solidFill>
            <a:srgbClr val="b0e0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35px-Olympic_flag_transparent.svg" descr="Olympic flag transparent.svg"/>
          <p:cNvPicPr/>
          <p:nvPr/>
        </p:nvPicPr>
        <p:blipFill>
          <a:blip r:embed="rId1"/>
          <a:stretch/>
        </p:blipFill>
        <p:spPr>
          <a:xfrm>
            <a:off x="-284040" y="1506600"/>
            <a:ext cx="333360" cy="21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3" name=""/>
          <p:cNvGraphicFramePr/>
          <p:nvPr/>
        </p:nvGraphicFramePr>
        <p:xfrm>
          <a:off x="0" y="1924200"/>
          <a:ext cx="6012000" cy="4933800"/>
        </p:xfrm>
        <a:graphic>
          <a:graphicData uri="http://schemas.openxmlformats.org/drawingml/2006/table">
            <a:tbl>
              <a:tblPr/>
              <a:tblGrid>
                <a:gridCol w="1258920"/>
                <a:gridCol w="1620720"/>
                <a:gridCol w="212760"/>
                <a:gridCol w="2919600"/>
              </a:tblGrid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а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0c4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Олимпийские иг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0e0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7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Турин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тафета 4x6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7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Ванкувер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тафета 4x6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Ванкувер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-старт 12,5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Чемпионаты ми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0e0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Хохфильцен</a:t>
                      </a: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"/>
                        </a:rPr>
                        <a:t>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инт 7,5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6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Хохфильцен</a:t>
                      </a: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"/>
                        </a:rPr>
                        <a:t>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следование 10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7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"/>
                        </a:rPr>
                        <a:t>Хохфильцен</a:t>
                      </a: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"/>
                        </a:rPr>
                        <a:t>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тафета 4x6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3"/>
                        </a:rPr>
                        <a:t>Ханты-Мансийск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 эстаф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6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4"/>
                        </a:rPr>
                        <a:t>Пхёнчхан</a:t>
                      </a: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5"/>
                        </a:rPr>
                        <a:t>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инт 7,5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6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6"/>
                        </a:rPr>
                        <a:t>Пхёнчхан</a:t>
                      </a: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7"/>
                        </a:rPr>
                        <a:t>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следование 10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7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8"/>
                        </a:rPr>
                        <a:t>Пхёнчхан</a:t>
                      </a: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9"/>
                        </a:rPr>
                        <a:t>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тафета 4x6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7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0"/>
                        </a:rPr>
                        <a:t>Пхёнчхан</a:t>
                      </a: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1"/>
                        </a:rPr>
                        <a:t>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-старт 12,5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" descr=""/>
          <p:cNvPicPr/>
          <p:nvPr/>
        </p:nvPicPr>
        <p:blipFill>
          <a:blip r:embed="rId22"/>
          <a:stretch/>
        </p:blipFill>
        <p:spPr>
          <a:xfrm>
            <a:off x="5543640" y="2492280"/>
            <a:ext cx="3600360" cy="3360960"/>
          </a:xfrm>
          <a:prstGeom prst="rect">
            <a:avLst/>
          </a:prstGeom>
          <a:ln w="0">
            <a:noFill/>
          </a:ln>
        </p:spPr>
      </p:pic>
      <p:sp>
        <p:nvSpPr>
          <p:cNvPr id="205" name="">
            <a:hlinkClick r:id="rId23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Светла́на Ю́рьевна Слепцо́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(31 июля 1986, Ханты-Мансийск) — российская биатлонистка, олимпийская чемпионка 2010 года в эстафете, чемпионка мира 2009 года в эстафете, заслуженный мастер спорта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i-main-pic" descr="Картинка 14 из 5305"/>
          <p:cNvPicPr/>
          <p:nvPr/>
        </p:nvPicPr>
        <p:blipFill>
          <a:blip r:embed="rId1"/>
          <a:stretch/>
        </p:blipFill>
        <p:spPr>
          <a:xfrm>
            <a:off x="2195640" y="2693880"/>
            <a:ext cx="5545080" cy="4164120"/>
          </a:xfrm>
          <a:prstGeom prst="rect">
            <a:avLst/>
          </a:prstGeom>
          <a:ln w="0">
            <a:noFill/>
          </a:ln>
        </p:spPr>
      </p:pic>
      <p:sp>
        <p:nvSpPr>
          <p:cNvPr id="210" name="">
            <a:hlinkClick r:id="rId2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firs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11356" y="10800"/>
                </a:moveTo>
                <a:lnTo>
                  <a:pt x="21862" y="3794"/>
                </a:lnTo>
                <a:lnTo>
                  <a:pt x="21862" y="17806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9511" y="3794"/>
                </a:lnTo>
                <a:lnTo>
                  <a:pt x="9511" y="17806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0" y="6237000"/>
            <a:ext cx="9144000" cy="3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 взят с сайто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ru.wikipedia.org, www.biathlonrus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651640" y="2997360"/>
            <a:ext cx="3241440" cy="26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смотр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-324000" y="-360"/>
            <a:ext cx="92901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Биатло́н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(от лат. </a:t>
            </a: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bis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 — дважды и др.-греч. ἆθλον — состязание, борьба) — зимний олимпийский вид спорта, сочетающий лыжную гонку со стрельбой из винтовк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иатлон наиболее популярен в Германии, России, Австрии, Норвегии и Швеци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2247840"/>
            <a:ext cx="8244000" cy="461016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ff"/>
                </a:solidFill>
                <a:latin typeface="Arial"/>
              </a:rPr>
              <a:t>Первые официальные соревнова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отдалённо напоминавшие биатлон, прошли в </a:t>
            </a:r>
            <a:r>
              <a:rPr b="0" lang="en-US" sz="3200" spc="-1" strike="noStrike">
                <a:solidFill>
                  <a:srgbClr val="cc00ff"/>
                </a:solidFill>
                <a:latin typeface="Arial"/>
              </a:rPr>
              <a:t>1767 год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Их организовали пограничники на шведско-норвежской границ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71640" y="2111400"/>
            <a:ext cx="6551640" cy="474660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rId2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5003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первые на крупных международных соревнованиях состязания, напоминавшие современный биатлон,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были включены в 1924 году на I зимних Олимпийских играх во французском Шамо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43280" y="272880"/>
            <a:ext cx="4500720" cy="2862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3645000"/>
            <a:ext cx="9144000" cy="321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ывались они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«соревнования военных патрулей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проходили как демонстрационные состязания, позже были представлены на зимних Олимпиадах 1928, 1936 и 1948 годов, после чего их исключили из официального календаря в связи с нараставшими пацифистскими настроениями в мире по окончании Второй мировой вой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2" action="ppaction://hlinksldjump"/>
          </p:cNvPr>
          <p:cNvSpPr/>
          <p:nvPr/>
        </p:nvSpPr>
        <p:spPr>
          <a:xfrm>
            <a:off x="802800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8930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3 августа 1948 года была создана Международная федерация современного пятиборь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которая с 1953 года начинает курировать биатло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067360" y="2349360"/>
            <a:ext cx="4076640" cy="4038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2276640"/>
            <a:ext cx="5076720" cy="4530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954 году Международный олимпийский комитет признает биатлон как вид спорта. В 1958 году проходит первое крупное международное биатлонное соревнование — Чемпионат мира в австрийском Зальфельдене. Через два года биатлон включается в официальную программу зимних Олимпийских иг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 1948 года не было организации, ответственной за развитие биатлона как вида спорта и за утверждение правил проведения биатлонных состязаний. С 1948 года биатлон курировался следующими международными организация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8—1966 годы —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Международная федерация современного пятиборья (УИП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67—1992 годы —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Международная федерация современного пятиборья и биатлона (УИПБ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3—1998 годы —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Международный союз биатлонистов (формально курируется УИПБ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1998 года —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Международный союз биатлонистов (МСБ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является самостоятельной организацией, признанной Международным олимпийским комитетом, ответственной за проведение международных биатлонных мероприят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5640" y="3716280"/>
            <a:ext cx="3745080" cy="3111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716360" y="3830760"/>
            <a:ext cx="4427640" cy="302724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7885080" y="6497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8748720" y="6570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" action="ppaction://hlinkshowjump?jump=previousslide"/>
          </p:cNvPr>
          <p:cNvSpPr/>
          <p:nvPr/>
        </p:nvSpPr>
        <p:spPr>
          <a:xfrm>
            <a:off x="723600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10800"/>
                </a:moveTo>
                <a:lnTo>
                  <a:pt x="23227" y="3794"/>
                </a:lnTo>
                <a:lnTo>
                  <a:pt x="23227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циональной биатлонной федерацией в России является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Союз биатлонистов России (СБР), основанный в 1992 год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6624720" cy="5313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967360" y="2852640"/>
            <a:ext cx="3176640" cy="212724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rId3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3212640"/>
            <a:ext cx="914400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биатлоне используется свободный стиль передвижения на лыжах. Длина лыж зависит от роста спортсмена — они не должны быть короче, чем рост спортсмена минус 4 см, максимальная длина не ограничена. Минимальная ширина лыж — 40 мм, масса — не менее 750 граммов.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Используются обычные лыжи и лыжные палки для лыжных гоно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длина палок не должна превышать рост спортсмена; не разрешаются палки изменяемой длины и усиливающие толчок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4716360" cy="3139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156360" y="0"/>
            <a:ext cx="2454120" cy="3213000"/>
          </a:xfrm>
          <a:prstGeom prst="rect">
            <a:avLst/>
          </a:prstGeom>
          <a:ln w="0">
            <a:noFill/>
          </a:ln>
        </p:spPr>
      </p:pic>
      <p:sp>
        <p:nvSpPr>
          <p:cNvPr id="88" name="">
            <a:hlinkClick r:id="rId3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0:15:04Z</dcterms:created>
  <dc:creator> Сестрички</dc:creator>
  <dc:description/>
  <dc:language>en-US</dc:language>
  <cp:lastModifiedBy>КарМаН</cp:lastModifiedBy>
  <dcterms:modified xsi:type="dcterms:W3CDTF">2012-01-13T11:08:06Z</dcterms:modified>
  <cp:revision>8</cp:revision>
  <dc:subject/>
  <dc:title>Слайд 1</dc:title>
</cp:coreProperties>
</file>