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D3966-4F9F-46EE-A03E-6C4D21EE1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7442B-B274-4D6C-93DF-B7F8DAF90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C0056-2E00-41A2-B6FF-F860FBA60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0AA76-0B37-4294-B543-29D137FFE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97E20-010C-4936-8948-FBAEC7B10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4F799-40AD-4D98-AA54-C057861DE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6FE34-7C0D-46AA-8852-2C3A666C0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7E5BB-212B-4ECF-B1E6-F31A1CF8F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55D4C-33FD-4015-AF22-27B4B670B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C69CF-E5BC-43F3-8D4C-626C38B7F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1F16B-3F9B-4C24-81BE-BA509A6BC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8277D-E0B5-44BA-9F2F-DFEF83D6A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ECEBB-0325-4B24-B5B4-604120AB8B2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" Target="slide29.xml"/><Relationship Id="rId3" Type="http://schemas.openxmlformats.org/officeDocument/2006/relationships/slide" Target="slide28.xml"/><Relationship Id="rId4" Type="http://schemas.openxmlformats.org/officeDocument/2006/relationships/slide" Target="slide2.xml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" Target="slide28.xml"/><Relationship Id="rId3" Type="http://schemas.openxmlformats.org/officeDocument/2006/relationships/slide" Target="slide29.xml"/><Relationship Id="rId4" Type="http://schemas.openxmlformats.org/officeDocument/2006/relationships/slide" Target="slide2.xml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slide" Target="slide29.xml"/><Relationship Id="rId3" Type="http://schemas.openxmlformats.org/officeDocument/2006/relationships/slide" Target="slide29.xml"/><Relationship Id="rId4" Type="http://schemas.openxmlformats.org/officeDocument/2006/relationships/slide" Target="slide2.xml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slide" Target="slide29.xml"/><Relationship Id="rId3" Type="http://schemas.openxmlformats.org/officeDocument/2006/relationships/slide" Target="slide29.xml"/><Relationship Id="rId4" Type="http://schemas.openxmlformats.org/officeDocument/2006/relationships/slide" Target="slide2.xml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" Target="slide28.xml"/><Relationship Id="rId3" Type="http://schemas.openxmlformats.org/officeDocument/2006/relationships/slide" Target="slide29.xml"/><Relationship Id="rId4" Type="http://schemas.openxmlformats.org/officeDocument/2006/relationships/slide" Target="slide2.xml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" Target="slide29.xml"/><Relationship Id="rId3" Type="http://schemas.openxmlformats.org/officeDocument/2006/relationships/slide" Target="slide28.xml"/><Relationship Id="rId4" Type="http://schemas.openxmlformats.org/officeDocument/2006/relationships/slide" Target="slide2.xml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" Target="slide29.xml"/><Relationship Id="rId3" Type="http://schemas.openxmlformats.org/officeDocument/2006/relationships/slide" Target="slide28.xml"/><Relationship Id="rId4" Type="http://schemas.openxmlformats.org/officeDocument/2006/relationships/slide" Target="slide2.xml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" Target="slide29.xml"/><Relationship Id="rId3" Type="http://schemas.openxmlformats.org/officeDocument/2006/relationships/slide" Target="slide28.xml"/><Relationship Id="rId4" Type="http://schemas.openxmlformats.org/officeDocument/2006/relationships/slide" Target="slide2.xml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slide" Target="slide29.xml"/><Relationship Id="rId3" Type="http://schemas.openxmlformats.org/officeDocument/2006/relationships/slide" Target="slide29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" Target="slide28.xml"/><Relationship Id="rId3" Type="http://schemas.openxmlformats.org/officeDocument/2006/relationships/slide" Target="slide29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8.xml"/><Relationship Id="rId7" Type="http://schemas.openxmlformats.org/officeDocument/2006/relationships/slide" Target="slide9.xml"/><Relationship Id="rId8" Type="http://schemas.openxmlformats.org/officeDocument/2006/relationships/slide" Target="slide10.xml"/><Relationship Id="rId9" Type="http://schemas.openxmlformats.org/officeDocument/2006/relationships/slide" Target="slide11.xml"/><Relationship Id="rId10" Type="http://schemas.openxmlformats.org/officeDocument/2006/relationships/slide" Target="slide12.xml"/><Relationship Id="rId11" Type="http://schemas.openxmlformats.org/officeDocument/2006/relationships/slide" Target="slide13.xml"/><Relationship Id="rId12" Type="http://schemas.openxmlformats.org/officeDocument/2006/relationships/slide" Target="slide14.xml"/><Relationship Id="rId13" Type="http://schemas.openxmlformats.org/officeDocument/2006/relationships/slide" Target="slide15.xml"/><Relationship Id="rId14" Type="http://schemas.openxmlformats.org/officeDocument/2006/relationships/slide" Target="slide16.xml"/><Relationship Id="rId15" Type="http://schemas.openxmlformats.org/officeDocument/2006/relationships/slide" Target="slide17.xml"/><Relationship Id="rId16" Type="http://schemas.openxmlformats.org/officeDocument/2006/relationships/slide" Target="slide18.xml"/><Relationship Id="rId17" Type="http://schemas.openxmlformats.org/officeDocument/2006/relationships/slide" Target="slide19.xml"/><Relationship Id="rId18" Type="http://schemas.openxmlformats.org/officeDocument/2006/relationships/slide" Target="slide20.xml"/><Relationship Id="rId19" Type="http://schemas.openxmlformats.org/officeDocument/2006/relationships/slide" Target="slide21.xml"/><Relationship Id="rId20" Type="http://schemas.openxmlformats.org/officeDocument/2006/relationships/slide" Target="slide22.xml"/><Relationship Id="rId21" Type="http://schemas.openxmlformats.org/officeDocument/2006/relationships/slide" Target="slide23.xml"/><Relationship Id="rId22" Type="http://schemas.openxmlformats.org/officeDocument/2006/relationships/slide" Target="slide24.xml"/><Relationship Id="rId23" Type="http://schemas.openxmlformats.org/officeDocument/2006/relationships/slide" Target="slide25.xml"/><Relationship Id="rId24" Type="http://schemas.openxmlformats.org/officeDocument/2006/relationships/slide" Target="slide26.xml"/><Relationship Id="rId25" Type="http://schemas.openxmlformats.org/officeDocument/2006/relationships/slide" Target="slide27.xml"/><Relationship Id="rId2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slide" Target="slide29.xml"/><Relationship Id="rId3" Type="http://schemas.openxmlformats.org/officeDocument/2006/relationships/slide" Target="slide29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slide" Target="slide29.xml"/><Relationship Id="rId3" Type="http://schemas.openxmlformats.org/officeDocument/2006/relationships/slide" Target="slide29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slide" Target="slide29.xml"/><Relationship Id="rId3" Type="http://schemas.openxmlformats.org/officeDocument/2006/relationships/slide" Target="slide29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slide" Target="slide29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" Target="slide29.xml"/><Relationship Id="rId3" Type="http://schemas.openxmlformats.org/officeDocument/2006/relationships/slide" Target="slide28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" Target="slide28.xml"/><Relationship Id="rId3" Type="http://schemas.openxmlformats.org/officeDocument/2006/relationships/slide" Target="slide29.xml"/><Relationship Id="rId4" Type="http://schemas.openxmlformats.org/officeDocument/2006/relationships/slide" Target="slide29.xml"/><Relationship Id="rId5" Type="http://schemas.openxmlformats.org/officeDocument/2006/relationships/slide" Target="slide2.xml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" Target="slide29.xml"/><Relationship Id="rId3" Type="http://schemas.openxmlformats.org/officeDocument/2006/relationships/slide" Target="slide28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" Target="slide28.xml"/><Relationship Id="rId3" Type="http://schemas.openxmlformats.org/officeDocument/2006/relationships/slide" Target="slide29.xml"/><Relationship Id="rId4" Type="http://schemas.openxmlformats.org/officeDocument/2006/relationships/slide" Target="slide2.xml"/><Relationship Id="rId5" Type="http://schemas.openxmlformats.org/officeDocument/2006/relationships/image" Target="../media/image1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slide" Target="slide29.xml"/><Relationship Id="rId3" Type="http://schemas.openxmlformats.org/officeDocument/2006/relationships/slide" Target="slide29.xml"/><Relationship Id="rId4" Type="http://schemas.openxmlformats.org/officeDocument/2006/relationships/slide" Target="slide2.xml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25600"/>
            </a:gs>
            <a:gs pos="100000">
              <a:srgbClr val="ffa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700280"/>
            <a:ext cx="7772400" cy="30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Calibri"/>
              </a:rPr>
              <a:t>Безопасность</a:t>
            </a:r>
            <a:br>
              <a:rPr sz="9600"/>
            </a:br>
            <a:r>
              <a:rPr b="1" lang="ru-RU" sz="9600" spc="-1" strike="noStrike">
                <a:solidFill>
                  <a:srgbClr val="000000"/>
                </a:solidFill>
                <a:latin typeface="Calibri"/>
              </a:rPr>
              <a:t>на дороге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76360" y="260280"/>
            <a:ext cx="6400800" cy="10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икторина п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авилам дорожного движе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Прямоугольник 3"/>
          <p:cNvSpPr/>
          <p:nvPr/>
        </p:nvSpPr>
        <p:spPr>
          <a:xfrm>
            <a:off x="324000" y="5229360"/>
            <a:ext cx="7561080" cy="11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анилова Ольга Валерьевна, преподаватель-организатор ОБ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ОУ «Средняя общеобразовательная школ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№ 18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г. Электросталь Московской обла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Управляющая кнопка: документ 4">
            <a:hlinkClick r:id="" action="ppaction://hlinkshowjump?jump=lastslide"/>
          </p:cNvPr>
          <p:cNvSpPr/>
          <p:nvPr/>
        </p:nvSpPr>
        <p:spPr>
          <a:xfrm>
            <a:off x="8317080" y="5950080"/>
            <a:ext cx="428400" cy="500040"/>
          </a:xfrm>
          <a:custGeom>
            <a:avLst/>
            <a:gdLst>
              <a:gd name="textAreaLeft" fmla="*/ 27720 w 428400"/>
              <a:gd name="textAreaRight" fmla="*/ 400680 w 428400"/>
              <a:gd name="textAreaTop" fmla="*/ 27720 h 500040"/>
              <a:gd name="textAreaBottom" fmla="*/ 472320 h 500040"/>
            </a:gdLst>
            <a:ahLst/>
            <a:rect l="textAreaLeft" t="textAreaTop" r="textAreaRight" b="textAreaBottom"/>
            <a:pathLst>
              <a:path w="21600" h="25209">
                <a:moveTo>
                  <a:pt x="0" y="0"/>
                </a:moveTo>
                <a:lnTo>
                  <a:pt x="21600" y="0"/>
                </a:lnTo>
                <a:lnTo>
                  <a:pt x="21600" y="25209"/>
                </a:lnTo>
                <a:lnTo>
                  <a:pt x="0" y="25209"/>
                </a:lnTo>
                <a:close/>
              </a:path>
              <a:path fill="lightenLess" w="21600" h="2520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9">
                <a:moveTo>
                  <a:pt x="21600" y="0"/>
                </a:moveTo>
                <a:lnTo>
                  <a:pt x="21600" y="25209"/>
                </a:lnTo>
                <a:lnTo>
                  <a:pt x="20200" y="23809"/>
                </a:lnTo>
                <a:lnTo>
                  <a:pt x="20200" y="1400"/>
                </a:lnTo>
                <a:close/>
              </a:path>
              <a:path fill="darkenLess" w="21600" h="25209">
                <a:moveTo>
                  <a:pt x="21600" y="25209"/>
                </a:moveTo>
                <a:lnTo>
                  <a:pt x="0" y="25209"/>
                </a:lnTo>
                <a:lnTo>
                  <a:pt x="1400" y="23809"/>
                </a:lnTo>
                <a:lnTo>
                  <a:pt x="20200" y="23809"/>
                </a:lnTo>
                <a:close/>
              </a:path>
              <a:path fill="lighten" w="21600" h="25209">
                <a:moveTo>
                  <a:pt x="0" y="2520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9"/>
                </a:lnTo>
                <a:close/>
              </a:path>
              <a:path fill="darkenLess" w="21600" h="25209">
                <a:moveTo>
                  <a:pt x="5273" y="5790"/>
                </a:moveTo>
                <a:lnTo>
                  <a:pt x="12271" y="5790"/>
                </a:lnTo>
                <a:lnTo>
                  <a:pt x="16327" y="9288"/>
                </a:lnTo>
                <a:lnTo>
                  <a:pt x="16327" y="19420"/>
                </a:lnTo>
                <a:lnTo>
                  <a:pt x="5273" y="19420"/>
                </a:lnTo>
                <a:close/>
              </a:path>
              <a:path fill="darken" w="21600" h="25209">
                <a:moveTo>
                  <a:pt x="12271" y="5790"/>
                </a:moveTo>
                <a:lnTo>
                  <a:pt x="16327" y="9288"/>
                </a:lnTo>
                <a:lnTo>
                  <a:pt x="12271" y="9288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5b3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28760" y="35712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Может ли пешеход двигаться по автомагистрали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28760" y="2071800"/>
            <a:ext cx="8229600" cy="19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Д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Да, только по крайней левой полос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Не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Управляющая кнопка: справка 3">
            <a:hlinkClick r:id="rId4" action="ppaction://hlinksldjump"/>
          </p:cNvPr>
          <p:cNvSpPr/>
          <p:nvPr/>
        </p:nvSpPr>
        <p:spPr>
          <a:xfrm>
            <a:off x="214200" y="6357960"/>
            <a:ext cx="357480" cy="357120"/>
          </a:xfrm>
          <a:custGeom>
            <a:avLst/>
            <a:gdLst>
              <a:gd name="textAreaLeft" fmla="*/ 23040 w 357480"/>
              <a:gd name="textAreaRight" fmla="*/ 334440 w 35748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1622" h="21600">
                <a:moveTo>
                  <a:pt x="0" y="0"/>
                </a:moveTo>
                <a:lnTo>
                  <a:pt x="21622" y="0"/>
                </a:lnTo>
                <a:lnTo>
                  <a:pt x="21622" y="21600"/>
                </a:lnTo>
                <a:lnTo>
                  <a:pt x="0" y="21600"/>
                </a:lnTo>
                <a:close/>
              </a:path>
              <a:path fill="lightenLess" w="21622" h="21600">
                <a:moveTo>
                  <a:pt x="0" y="0"/>
                </a:moveTo>
                <a:lnTo>
                  <a:pt x="21622" y="0"/>
                </a:lnTo>
                <a:lnTo>
                  <a:pt x="20222" y="1400"/>
                </a:lnTo>
                <a:lnTo>
                  <a:pt x="1400" y="1400"/>
                </a:lnTo>
                <a:close/>
              </a:path>
              <a:path fill="darken" w="21622" h="21600">
                <a:moveTo>
                  <a:pt x="21622" y="0"/>
                </a:moveTo>
                <a:lnTo>
                  <a:pt x="21622" y="21600"/>
                </a:lnTo>
                <a:lnTo>
                  <a:pt x="20222" y="20200"/>
                </a:lnTo>
                <a:lnTo>
                  <a:pt x="20222" y="1400"/>
                </a:lnTo>
                <a:close/>
              </a:path>
              <a:path fill="darkenLess" w="21622" h="21600">
                <a:moveTo>
                  <a:pt x="216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2" y="20200"/>
                </a:lnTo>
                <a:close/>
              </a:path>
              <a:path fill="lighten" w="216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2" h="21600">
                <a:moveTo>
                  <a:pt x="1081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22" h="21600">
                <a:moveTo>
                  <a:pt x="11916" y="14281"/>
                </a:moveTo>
                <a:lnTo>
                  <a:pt x="11916" y="12323"/>
                </a:lnTo>
                <a:cubicBezTo>
                  <a:pt x="11916" y="11496"/>
                  <a:pt x="12247" y="10800"/>
                  <a:pt x="12848" y="10800"/>
                </a:cubicBezTo>
                <a:cubicBezTo>
                  <a:pt x="13979" y="10800"/>
                  <a:pt x="14876" y="9434"/>
                  <a:pt x="14876" y="7849"/>
                </a:cubicBezTo>
                <a:cubicBezTo>
                  <a:pt x="14876" y="5534"/>
                  <a:pt x="13022" y="3794"/>
                  <a:pt x="10811" y="3794"/>
                </a:cubicBezTo>
                <a:cubicBezTo>
                  <a:pt x="8600" y="3794"/>
                  <a:pt x="6929" y="5534"/>
                  <a:pt x="6929" y="7849"/>
                </a:cubicBezTo>
                <a:lnTo>
                  <a:pt x="8783" y="7849"/>
                </a:lnTo>
                <a:cubicBezTo>
                  <a:pt x="8783" y="6709"/>
                  <a:pt x="9706" y="5821"/>
                  <a:pt x="10811" y="5821"/>
                </a:cubicBezTo>
                <a:cubicBezTo>
                  <a:pt x="11916" y="5821"/>
                  <a:pt x="12848" y="6709"/>
                  <a:pt x="12848" y="7849"/>
                </a:cubicBezTo>
                <a:cubicBezTo>
                  <a:pt x="12848" y="8589"/>
                  <a:pt x="12378" y="9320"/>
                  <a:pt x="11916" y="9320"/>
                </a:cubicBezTo>
                <a:cubicBezTo>
                  <a:pt x="10811" y="9320"/>
                  <a:pt x="9706" y="10800"/>
                  <a:pt x="9706" y="12323"/>
                </a:cubicBezTo>
                <a:lnTo>
                  <a:pt x="9706" y="14281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Рисунок 3" descr="10.jpg"/>
          <p:cNvPicPr/>
          <p:nvPr/>
        </p:nvPicPr>
        <p:blipFill>
          <a:blip r:embed="rId5"/>
          <a:stretch/>
        </p:blipFill>
        <p:spPr>
          <a:xfrm>
            <a:off x="3714840" y="4070520"/>
            <a:ext cx="4857840" cy="235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5b3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5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Кто может первым начать движение (для машин горит красный свет)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2286000"/>
            <a:ext cx="822960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Зелёная маши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Пешеход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Синяя маши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Управляющая кнопка: справка 3">
            <a:hlinkClick r:id="rId4" action="ppaction://hlinksldjump"/>
          </p:cNvPr>
          <p:cNvSpPr/>
          <p:nvPr/>
        </p:nvSpPr>
        <p:spPr>
          <a:xfrm>
            <a:off x="214200" y="6357960"/>
            <a:ext cx="357480" cy="357120"/>
          </a:xfrm>
          <a:custGeom>
            <a:avLst/>
            <a:gdLst>
              <a:gd name="textAreaLeft" fmla="*/ 23040 w 357480"/>
              <a:gd name="textAreaRight" fmla="*/ 334440 w 35748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1622" h="21600">
                <a:moveTo>
                  <a:pt x="0" y="0"/>
                </a:moveTo>
                <a:lnTo>
                  <a:pt x="21622" y="0"/>
                </a:lnTo>
                <a:lnTo>
                  <a:pt x="21622" y="21600"/>
                </a:lnTo>
                <a:lnTo>
                  <a:pt x="0" y="21600"/>
                </a:lnTo>
                <a:close/>
              </a:path>
              <a:path fill="lightenLess" w="21622" h="21600">
                <a:moveTo>
                  <a:pt x="0" y="0"/>
                </a:moveTo>
                <a:lnTo>
                  <a:pt x="21622" y="0"/>
                </a:lnTo>
                <a:lnTo>
                  <a:pt x="20222" y="1400"/>
                </a:lnTo>
                <a:lnTo>
                  <a:pt x="1400" y="1400"/>
                </a:lnTo>
                <a:close/>
              </a:path>
              <a:path fill="darken" w="21622" h="21600">
                <a:moveTo>
                  <a:pt x="21622" y="0"/>
                </a:moveTo>
                <a:lnTo>
                  <a:pt x="21622" y="21600"/>
                </a:lnTo>
                <a:lnTo>
                  <a:pt x="20222" y="20200"/>
                </a:lnTo>
                <a:lnTo>
                  <a:pt x="20222" y="1400"/>
                </a:lnTo>
                <a:close/>
              </a:path>
              <a:path fill="darkenLess" w="21622" h="21600">
                <a:moveTo>
                  <a:pt x="216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2" y="20200"/>
                </a:lnTo>
                <a:close/>
              </a:path>
              <a:path fill="lighten" w="216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2" h="21600">
                <a:moveTo>
                  <a:pt x="1081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22" h="21600">
                <a:moveTo>
                  <a:pt x="11916" y="14281"/>
                </a:moveTo>
                <a:lnTo>
                  <a:pt x="11916" y="12323"/>
                </a:lnTo>
                <a:cubicBezTo>
                  <a:pt x="11916" y="11496"/>
                  <a:pt x="12247" y="10800"/>
                  <a:pt x="12848" y="10800"/>
                </a:cubicBezTo>
                <a:cubicBezTo>
                  <a:pt x="13979" y="10800"/>
                  <a:pt x="14876" y="9434"/>
                  <a:pt x="14876" y="7849"/>
                </a:cubicBezTo>
                <a:cubicBezTo>
                  <a:pt x="14876" y="5534"/>
                  <a:pt x="13022" y="3794"/>
                  <a:pt x="10811" y="3794"/>
                </a:cubicBezTo>
                <a:cubicBezTo>
                  <a:pt x="8600" y="3794"/>
                  <a:pt x="6929" y="5534"/>
                  <a:pt x="6929" y="7849"/>
                </a:cubicBezTo>
                <a:lnTo>
                  <a:pt x="8783" y="7849"/>
                </a:lnTo>
                <a:cubicBezTo>
                  <a:pt x="8783" y="6709"/>
                  <a:pt x="9706" y="5821"/>
                  <a:pt x="10811" y="5821"/>
                </a:cubicBezTo>
                <a:cubicBezTo>
                  <a:pt x="11916" y="5821"/>
                  <a:pt x="12848" y="6709"/>
                  <a:pt x="12848" y="7849"/>
                </a:cubicBezTo>
                <a:cubicBezTo>
                  <a:pt x="12848" y="8589"/>
                  <a:pt x="12378" y="9320"/>
                  <a:pt x="11916" y="9320"/>
                </a:cubicBezTo>
                <a:cubicBezTo>
                  <a:pt x="10811" y="9320"/>
                  <a:pt x="9706" y="10800"/>
                  <a:pt x="9706" y="12323"/>
                </a:cubicBezTo>
                <a:lnTo>
                  <a:pt x="9706" y="14281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Рисунок 3" descr="9.jpg"/>
          <p:cNvPicPr/>
          <p:nvPr/>
        </p:nvPicPr>
        <p:blipFill>
          <a:blip r:embed="rId5"/>
          <a:stretch/>
        </p:blipFill>
        <p:spPr>
          <a:xfrm>
            <a:off x="3857760" y="4140360"/>
            <a:ext cx="4757760" cy="229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5b3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15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Может ли водитель красной машины въехать на пешеходный переход, если за ним образовался затор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28760" y="2643120"/>
            <a:ext cx="822960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Не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Д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Да, если на переходе нет пешеход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Управляющая кнопка: справка 3">
            <a:hlinkClick r:id="rId4" action="ppaction://hlinksldjump"/>
          </p:cNvPr>
          <p:cNvSpPr/>
          <p:nvPr/>
        </p:nvSpPr>
        <p:spPr>
          <a:xfrm>
            <a:off x="214200" y="6357960"/>
            <a:ext cx="357480" cy="357120"/>
          </a:xfrm>
          <a:custGeom>
            <a:avLst/>
            <a:gdLst>
              <a:gd name="textAreaLeft" fmla="*/ 23040 w 357480"/>
              <a:gd name="textAreaRight" fmla="*/ 334440 w 35748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1622" h="21600">
                <a:moveTo>
                  <a:pt x="0" y="0"/>
                </a:moveTo>
                <a:lnTo>
                  <a:pt x="21622" y="0"/>
                </a:lnTo>
                <a:lnTo>
                  <a:pt x="21622" y="21600"/>
                </a:lnTo>
                <a:lnTo>
                  <a:pt x="0" y="21600"/>
                </a:lnTo>
                <a:close/>
              </a:path>
              <a:path fill="lightenLess" w="21622" h="21600">
                <a:moveTo>
                  <a:pt x="0" y="0"/>
                </a:moveTo>
                <a:lnTo>
                  <a:pt x="21622" y="0"/>
                </a:lnTo>
                <a:lnTo>
                  <a:pt x="20222" y="1400"/>
                </a:lnTo>
                <a:lnTo>
                  <a:pt x="1400" y="1400"/>
                </a:lnTo>
                <a:close/>
              </a:path>
              <a:path fill="darken" w="21622" h="21600">
                <a:moveTo>
                  <a:pt x="21622" y="0"/>
                </a:moveTo>
                <a:lnTo>
                  <a:pt x="21622" y="21600"/>
                </a:lnTo>
                <a:lnTo>
                  <a:pt x="20222" y="20200"/>
                </a:lnTo>
                <a:lnTo>
                  <a:pt x="20222" y="1400"/>
                </a:lnTo>
                <a:close/>
              </a:path>
              <a:path fill="darkenLess" w="21622" h="21600">
                <a:moveTo>
                  <a:pt x="216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2" y="20200"/>
                </a:lnTo>
                <a:close/>
              </a:path>
              <a:path fill="lighten" w="216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2" h="21600">
                <a:moveTo>
                  <a:pt x="1081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22" h="21600">
                <a:moveTo>
                  <a:pt x="11916" y="14281"/>
                </a:moveTo>
                <a:lnTo>
                  <a:pt x="11916" y="12323"/>
                </a:lnTo>
                <a:cubicBezTo>
                  <a:pt x="11916" y="11496"/>
                  <a:pt x="12247" y="10800"/>
                  <a:pt x="12848" y="10800"/>
                </a:cubicBezTo>
                <a:cubicBezTo>
                  <a:pt x="13979" y="10800"/>
                  <a:pt x="14876" y="9434"/>
                  <a:pt x="14876" y="7849"/>
                </a:cubicBezTo>
                <a:cubicBezTo>
                  <a:pt x="14876" y="5534"/>
                  <a:pt x="13022" y="3794"/>
                  <a:pt x="10811" y="3794"/>
                </a:cubicBezTo>
                <a:cubicBezTo>
                  <a:pt x="8600" y="3794"/>
                  <a:pt x="6929" y="5534"/>
                  <a:pt x="6929" y="7849"/>
                </a:cubicBezTo>
                <a:lnTo>
                  <a:pt x="8783" y="7849"/>
                </a:lnTo>
                <a:cubicBezTo>
                  <a:pt x="8783" y="6709"/>
                  <a:pt x="9706" y="5821"/>
                  <a:pt x="10811" y="5821"/>
                </a:cubicBezTo>
                <a:cubicBezTo>
                  <a:pt x="11916" y="5821"/>
                  <a:pt x="12848" y="6709"/>
                  <a:pt x="12848" y="7849"/>
                </a:cubicBezTo>
                <a:cubicBezTo>
                  <a:pt x="12848" y="8589"/>
                  <a:pt x="12378" y="9320"/>
                  <a:pt x="11916" y="9320"/>
                </a:cubicBezTo>
                <a:cubicBezTo>
                  <a:pt x="10811" y="9320"/>
                  <a:pt x="9706" y="10800"/>
                  <a:pt x="9706" y="12323"/>
                </a:cubicBezTo>
                <a:lnTo>
                  <a:pt x="9706" y="14281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Рисунок 3" descr="7.jpg"/>
          <p:cNvPicPr/>
          <p:nvPr/>
        </p:nvPicPr>
        <p:blipFill>
          <a:blip r:embed="rId5"/>
          <a:stretch/>
        </p:blipFill>
        <p:spPr>
          <a:xfrm>
            <a:off x="3571920" y="4643280"/>
            <a:ext cx="509724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5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Можете ли вы, являясь водителем синей машины, начать движение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2214360"/>
            <a:ext cx="8229600" cy="192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Да, во всех направления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Да, только прям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Не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Управляющая кнопка: справка 3">
            <a:hlinkClick r:id="rId4" action="ppaction://hlinksldjump"/>
          </p:cNvPr>
          <p:cNvSpPr/>
          <p:nvPr/>
        </p:nvSpPr>
        <p:spPr>
          <a:xfrm>
            <a:off x="214200" y="6357960"/>
            <a:ext cx="357480" cy="357120"/>
          </a:xfrm>
          <a:custGeom>
            <a:avLst/>
            <a:gdLst>
              <a:gd name="textAreaLeft" fmla="*/ 23040 w 357480"/>
              <a:gd name="textAreaRight" fmla="*/ 334440 w 35748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1622" h="21600">
                <a:moveTo>
                  <a:pt x="0" y="0"/>
                </a:moveTo>
                <a:lnTo>
                  <a:pt x="21622" y="0"/>
                </a:lnTo>
                <a:lnTo>
                  <a:pt x="21622" y="21600"/>
                </a:lnTo>
                <a:lnTo>
                  <a:pt x="0" y="21600"/>
                </a:lnTo>
                <a:close/>
              </a:path>
              <a:path fill="lightenLess" w="21622" h="21600">
                <a:moveTo>
                  <a:pt x="0" y="0"/>
                </a:moveTo>
                <a:lnTo>
                  <a:pt x="21622" y="0"/>
                </a:lnTo>
                <a:lnTo>
                  <a:pt x="20222" y="1400"/>
                </a:lnTo>
                <a:lnTo>
                  <a:pt x="1400" y="1400"/>
                </a:lnTo>
                <a:close/>
              </a:path>
              <a:path fill="darken" w="21622" h="21600">
                <a:moveTo>
                  <a:pt x="21622" y="0"/>
                </a:moveTo>
                <a:lnTo>
                  <a:pt x="21622" y="21600"/>
                </a:lnTo>
                <a:lnTo>
                  <a:pt x="20222" y="20200"/>
                </a:lnTo>
                <a:lnTo>
                  <a:pt x="20222" y="1400"/>
                </a:lnTo>
                <a:close/>
              </a:path>
              <a:path fill="darkenLess" w="21622" h="21600">
                <a:moveTo>
                  <a:pt x="216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2" y="20200"/>
                </a:lnTo>
                <a:close/>
              </a:path>
              <a:path fill="lighten" w="216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2" h="21600">
                <a:moveTo>
                  <a:pt x="1081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22" h="21600">
                <a:moveTo>
                  <a:pt x="11916" y="14281"/>
                </a:moveTo>
                <a:lnTo>
                  <a:pt x="11916" y="12323"/>
                </a:lnTo>
                <a:cubicBezTo>
                  <a:pt x="11916" y="11496"/>
                  <a:pt x="12247" y="10800"/>
                  <a:pt x="12848" y="10800"/>
                </a:cubicBezTo>
                <a:cubicBezTo>
                  <a:pt x="13979" y="10800"/>
                  <a:pt x="14876" y="9434"/>
                  <a:pt x="14876" y="7849"/>
                </a:cubicBezTo>
                <a:cubicBezTo>
                  <a:pt x="14876" y="5534"/>
                  <a:pt x="13022" y="3794"/>
                  <a:pt x="10811" y="3794"/>
                </a:cubicBezTo>
                <a:cubicBezTo>
                  <a:pt x="8600" y="3794"/>
                  <a:pt x="6929" y="5534"/>
                  <a:pt x="6929" y="7849"/>
                </a:cubicBezTo>
                <a:lnTo>
                  <a:pt x="8783" y="7849"/>
                </a:lnTo>
                <a:cubicBezTo>
                  <a:pt x="8783" y="6709"/>
                  <a:pt x="9706" y="5821"/>
                  <a:pt x="10811" y="5821"/>
                </a:cubicBezTo>
                <a:cubicBezTo>
                  <a:pt x="11916" y="5821"/>
                  <a:pt x="12848" y="6709"/>
                  <a:pt x="12848" y="7849"/>
                </a:cubicBezTo>
                <a:cubicBezTo>
                  <a:pt x="12848" y="8589"/>
                  <a:pt x="12378" y="9320"/>
                  <a:pt x="11916" y="9320"/>
                </a:cubicBezTo>
                <a:cubicBezTo>
                  <a:pt x="10811" y="9320"/>
                  <a:pt x="9706" y="10800"/>
                  <a:pt x="9706" y="12323"/>
                </a:cubicBezTo>
                <a:lnTo>
                  <a:pt x="9706" y="14281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Рисунок 3" descr="1.jpg"/>
          <p:cNvPicPr/>
          <p:nvPr/>
        </p:nvPicPr>
        <p:blipFill>
          <a:blip r:embed="rId5"/>
          <a:stretch/>
        </p:blipFill>
        <p:spPr>
          <a:xfrm>
            <a:off x="3143160" y="4214880"/>
            <a:ext cx="5597640" cy="22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8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Можете ли вы, являясь водителем синей машины, начать движение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2143080"/>
            <a:ext cx="8229600" cy="200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Да, во всех направления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Да, только направ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Не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Управляющая кнопка: справка 3">
            <a:hlinkClick r:id="rId4" action="ppaction://hlinksldjump"/>
          </p:cNvPr>
          <p:cNvSpPr/>
          <p:nvPr/>
        </p:nvSpPr>
        <p:spPr>
          <a:xfrm>
            <a:off x="214200" y="6357960"/>
            <a:ext cx="357480" cy="357120"/>
          </a:xfrm>
          <a:custGeom>
            <a:avLst/>
            <a:gdLst>
              <a:gd name="textAreaLeft" fmla="*/ 23040 w 357480"/>
              <a:gd name="textAreaRight" fmla="*/ 334440 w 35748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1622" h="21600">
                <a:moveTo>
                  <a:pt x="0" y="0"/>
                </a:moveTo>
                <a:lnTo>
                  <a:pt x="21622" y="0"/>
                </a:lnTo>
                <a:lnTo>
                  <a:pt x="21622" y="21600"/>
                </a:lnTo>
                <a:lnTo>
                  <a:pt x="0" y="21600"/>
                </a:lnTo>
                <a:close/>
              </a:path>
              <a:path fill="lightenLess" w="21622" h="21600">
                <a:moveTo>
                  <a:pt x="0" y="0"/>
                </a:moveTo>
                <a:lnTo>
                  <a:pt x="21622" y="0"/>
                </a:lnTo>
                <a:lnTo>
                  <a:pt x="20222" y="1400"/>
                </a:lnTo>
                <a:lnTo>
                  <a:pt x="1400" y="1400"/>
                </a:lnTo>
                <a:close/>
              </a:path>
              <a:path fill="darken" w="21622" h="21600">
                <a:moveTo>
                  <a:pt x="21622" y="0"/>
                </a:moveTo>
                <a:lnTo>
                  <a:pt x="21622" y="21600"/>
                </a:lnTo>
                <a:lnTo>
                  <a:pt x="20222" y="20200"/>
                </a:lnTo>
                <a:lnTo>
                  <a:pt x="20222" y="1400"/>
                </a:lnTo>
                <a:close/>
              </a:path>
              <a:path fill="darkenLess" w="21622" h="21600">
                <a:moveTo>
                  <a:pt x="216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2" y="20200"/>
                </a:lnTo>
                <a:close/>
              </a:path>
              <a:path fill="lighten" w="216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2" h="21600">
                <a:moveTo>
                  <a:pt x="1081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22" h="21600">
                <a:moveTo>
                  <a:pt x="11916" y="14281"/>
                </a:moveTo>
                <a:lnTo>
                  <a:pt x="11916" y="12323"/>
                </a:lnTo>
                <a:cubicBezTo>
                  <a:pt x="11916" y="11496"/>
                  <a:pt x="12247" y="10800"/>
                  <a:pt x="12848" y="10800"/>
                </a:cubicBezTo>
                <a:cubicBezTo>
                  <a:pt x="13979" y="10800"/>
                  <a:pt x="14876" y="9434"/>
                  <a:pt x="14876" y="7849"/>
                </a:cubicBezTo>
                <a:cubicBezTo>
                  <a:pt x="14876" y="5534"/>
                  <a:pt x="13022" y="3794"/>
                  <a:pt x="10811" y="3794"/>
                </a:cubicBezTo>
                <a:cubicBezTo>
                  <a:pt x="8600" y="3794"/>
                  <a:pt x="6929" y="5534"/>
                  <a:pt x="6929" y="7849"/>
                </a:cubicBezTo>
                <a:lnTo>
                  <a:pt x="8783" y="7849"/>
                </a:lnTo>
                <a:cubicBezTo>
                  <a:pt x="8783" y="6709"/>
                  <a:pt x="9706" y="5821"/>
                  <a:pt x="10811" y="5821"/>
                </a:cubicBezTo>
                <a:cubicBezTo>
                  <a:pt x="11916" y="5821"/>
                  <a:pt x="12848" y="6709"/>
                  <a:pt x="12848" y="7849"/>
                </a:cubicBezTo>
                <a:cubicBezTo>
                  <a:pt x="12848" y="8589"/>
                  <a:pt x="12378" y="9320"/>
                  <a:pt x="11916" y="9320"/>
                </a:cubicBezTo>
                <a:cubicBezTo>
                  <a:pt x="10811" y="9320"/>
                  <a:pt x="9706" y="10800"/>
                  <a:pt x="9706" y="12323"/>
                </a:cubicBezTo>
                <a:lnTo>
                  <a:pt x="9706" y="14281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Рисунок 3" descr="2.jpg"/>
          <p:cNvPicPr/>
          <p:nvPr/>
        </p:nvPicPr>
        <p:blipFill>
          <a:blip r:embed="rId5"/>
          <a:stretch/>
        </p:blipFill>
        <p:spPr>
          <a:xfrm>
            <a:off x="3071880" y="4143240"/>
            <a:ext cx="5500800" cy="231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5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Можете ли вы, являясь водителем синей машины, начать движение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2214360"/>
            <a:ext cx="8229600" cy="192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Да, во всех направления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Да, только направ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Не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Управляющая кнопка: справка 3">
            <a:hlinkClick r:id="rId4" action="ppaction://hlinksldjump"/>
          </p:cNvPr>
          <p:cNvSpPr/>
          <p:nvPr/>
        </p:nvSpPr>
        <p:spPr>
          <a:xfrm>
            <a:off x="214200" y="6357960"/>
            <a:ext cx="357480" cy="357120"/>
          </a:xfrm>
          <a:custGeom>
            <a:avLst/>
            <a:gdLst>
              <a:gd name="textAreaLeft" fmla="*/ 23040 w 357480"/>
              <a:gd name="textAreaRight" fmla="*/ 334440 w 35748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1622" h="21600">
                <a:moveTo>
                  <a:pt x="0" y="0"/>
                </a:moveTo>
                <a:lnTo>
                  <a:pt x="21622" y="0"/>
                </a:lnTo>
                <a:lnTo>
                  <a:pt x="21622" y="21600"/>
                </a:lnTo>
                <a:lnTo>
                  <a:pt x="0" y="21600"/>
                </a:lnTo>
                <a:close/>
              </a:path>
              <a:path fill="lightenLess" w="21622" h="21600">
                <a:moveTo>
                  <a:pt x="0" y="0"/>
                </a:moveTo>
                <a:lnTo>
                  <a:pt x="21622" y="0"/>
                </a:lnTo>
                <a:lnTo>
                  <a:pt x="20222" y="1400"/>
                </a:lnTo>
                <a:lnTo>
                  <a:pt x="1400" y="1400"/>
                </a:lnTo>
                <a:close/>
              </a:path>
              <a:path fill="darken" w="21622" h="21600">
                <a:moveTo>
                  <a:pt x="21622" y="0"/>
                </a:moveTo>
                <a:lnTo>
                  <a:pt x="21622" y="21600"/>
                </a:lnTo>
                <a:lnTo>
                  <a:pt x="20222" y="20200"/>
                </a:lnTo>
                <a:lnTo>
                  <a:pt x="20222" y="1400"/>
                </a:lnTo>
                <a:close/>
              </a:path>
              <a:path fill="darkenLess" w="21622" h="21600">
                <a:moveTo>
                  <a:pt x="216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2" y="20200"/>
                </a:lnTo>
                <a:close/>
              </a:path>
              <a:path fill="lighten" w="216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2" h="21600">
                <a:moveTo>
                  <a:pt x="1081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22" h="21600">
                <a:moveTo>
                  <a:pt x="11916" y="14281"/>
                </a:moveTo>
                <a:lnTo>
                  <a:pt x="11916" y="12323"/>
                </a:lnTo>
                <a:cubicBezTo>
                  <a:pt x="11916" y="11496"/>
                  <a:pt x="12247" y="10800"/>
                  <a:pt x="12848" y="10800"/>
                </a:cubicBezTo>
                <a:cubicBezTo>
                  <a:pt x="13979" y="10800"/>
                  <a:pt x="14876" y="9434"/>
                  <a:pt x="14876" y="7849"/>
                </a:cubicBezTo>
                <a:cubicBezTo>
                  <a:pt x="14876" y="5534"/>
                  <a:pt x="13022" y="3794"/>
                  <a:pt x="10811" y="3794"/>
                </a:cubicBezTo>
                <a:cubicBezTo>
                  <a:pt x="8600" y="3794"/>
                  <a:pt x="6929" y="5534"/>
                  <a:pt x="6929" y="7849"/>
                </a:cubicBezTo>
                <a:lnTo>
                  <a:pt x="8783" y="7849"/>
                </a:lnTo>
                <a:cubicBezTo>
                  <a:pt x="8783" y="6709"/>
                  <a:pt x="9706" y="5821"/>
                  <a:pt x="10811" y="5821"/>
                </a:cubicBezTo>
                <a:cubicBezTo>
                  <a:pt x="11916" y="5821"/>
                  <a:pt x="12848" y="6709"/>
                  <a:pt x="12848" y="7849"/>
                </a:cubicBezTo>
                <a:cubicBezTo>
                  <a:pt x="12848" y="8589"/>
                  <a:pt x="12378" y="9320"/>
                  <a:pt x="11916" y="9320"/>
                </a:cubicBezTo>
                <a:cubicBezTo>
                  <a:pt x="10811" y="9320"/>
                  <a:pt x="9706" y="10800"/>
                  <a:pt x="9706" y="12323"/>
                </a:cubicBezTo>
                <a:lnTo>
                  <a:pt x="9706" y="14281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Рисунок 3" descr="3.jpg"/>
          <p:cNvPicPr/>
          <p:nvPr/>
        </p:nvPicPr>
        <p:blipFill>
          <a:blip r:embed="rId5"/>
          <a:stretch/>
        </p:blipFill>
        <p:spPr>
          <a:xfrm>
            <a:off x="3224160" y="4214880"/>
            <a:ext cx="5415120" cy="222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5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Можете ли вы, являясь водителем синей машины, начать движение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2286000"/>
            <a:ext cx="822960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Да, во всех направления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Да, только направ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Не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Управляющая кнопка: справка 3">
            <a:hlinkClick r:id="rId4" action="ppaction://hlinksldjump"/>
          </p:cNvPr>
          <p:cNvSpPr/>
          <p:nvPr/>
        </p:nvSpPr>
        <p:spPr>
          <a:xfrm>
            <a:off x="214200" y="6286680"/>
            <a:ext cx="357480" cy="357120"/>
          </a:xfrm>
          <a:custGeom>
            <a:avLst/>
            <a:gdLst>
              <a:gd name="textAreaLeft" fmla="*/ 23040 w 357480"/>
              <a:gd name="textAreaRight" fmla="*/ 334440 w 35748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1622" h="21600">
                <a:moveTo>
                  <a:pt x="0" y="0"/>
                </a:moveTo>
                <a:lnTo>
                  <a:pt x="21622" y="0"/>
                </a:lnTo>
                <a:lnTo>
                  <a:pt x="21622" y="21600"/>
                </a:lnTo>
                <a:lnTo>
                  <a:pt x="0" y="21600"/>
                </a:lnTo>
                <a:close/>
              </a:path>
              <a:path fill="lightenLess" w="21622" h="21600">
                <a:moveTo>
                  <a:pt x="0" y="0"/>
                </a:moveTo>
                <a:lnTo>
                  <a:pt x="21622" y="0"/>
                </a:lnTo>
                <a:lnTo>
                  <a:pt x="20222" y="1400"/>
                </a:lnTo>
                <a:lnTo>
                  <a:pt x="1400" y="1400"/>
                </a:lnTo>
                <a:close/>
              </a:path>
              <a:path fill="darken" w="21622" h="21600">
                <a:moveTo>
                  <a:pt x="21622" y="0"/>
                </a:moveTo>
                <a:lnTo>
                  <a:pt x="21622" y="21600"/>
                </a:lnTo>
                <a:lnTo>
                  <a:pt x="20222" y="20200"/>
                </a:lnTo>
                <a:lnTo>
                  <a:pt x="20222" y="1400"/>
                </a:lnTo>
                <a:close/>
              </a:path>
              <a:path fill="darkenLess" w="21622" h="21600">
                <a:moveTo>
                  <a:pt x="216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2" y="20200"/>
                </a:lnTo>
                <a:close/>
              </a:path>
              <a:path fill="lighten" w="216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2" h="21600">
                <a:moveTo>
                  <a:pt x="1081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22" h="21600">
                <a:moveTo>
                  <a:pt x="11916" y="14281"/>
                </a:moveTo>
                <a:lnTo>
                  <a:pt x="11916" y="12323"/>
                </a:lnTo>
                <a:cubicBezTo>
                  <a:pt x="11916" y="11496"/>
                  <a:pt x="12247" y="10800"/>
                  <a:pt x="12848" y="10800"/>
                </a:cubicBezTo>
                <a:cubicBezTo>
                  <a:pt x="13979" y="10800"/>
                  <a:pt x="14876" y="9434"/>
                  <a:pt x="14876" y="7849"/>
                </a:cubicBezTo>
                <a:cubicBezTo>
                  <a:pt x="14876" y="5534"/>
                  <a:pt x="13022" y="3794"/>
                  <a:pt x="10811" y="3794"/>
                </a:cubicBezTo>
                <a:cubicBezTo>
                  <a:pt x="8600" y="3794"/>
                  <a:pt x="6929" y="5534"/>
                  <a:pt x="6929" y="7849"/>
                </a:cubicBezTo>
                <a:lnTo>
                  <a:pt x="8783" y="7849"/>
                </a:lnTo>
                <a:cubicBezTo>
                  <a:pt x="8783" y="6709"/>
                  <a:pt x="9706" y="5821"/>
                  <a:pt x="10811" y="5821"/>
                </a:cubicBezTo>
                <a:cubicBezTo>
                  <a:pt x="11916" y="5821"/>
                  <a:pt x="12848" y="6709"/>
                  <a:pt x="12848" y="7849"/>
                </a:cubicBezTo>
                <a:cubicBezTo>
                  <a:pt x="12848" y="8589"/>
                  <a:pt x="12378" y="9320"/>
                  <a:pt x="11916" y="9320"/>
                </a:cubicBezTo>
                <a:cubicBezTo>
                  <a:pt x="10811" y="9320"/>
                  <a:pt x="9706" y="10800"/>
                  <a:pt x="9706" y="12323"/>
                </a:cubicBezTo>
                <a:lnTo>
                  <a:pt x="9706" y="14281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Рисунок 3" descr="4.jpg"/>
          <p:cNvPicPr/>
          <p:nvPr/>
        </p:nvPicPr>
        <p:blipFill>
          <a:blip r:embed="rId5"/>
          <a:stretch/>
        </p:blipFill>
        <p:spPr>
          <a:xfrm>
            <a:off x="3429000" y="4305240"/>
            <a:ext cx="5214960" cy="21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7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Можете ли вы, являясь водителем синей машины, начать движение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2285640"/>
            <a:ext cx="8229600" cy="185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Да, во всех направления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Да, только прямо и направ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Не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Управляющая кнопка: справка 3">
            <a:hlinkClick r:id="rId4" action="ppaction://hlinksldjump"/>
          </p:cNvPr>
          <p:cNvSpPr/>
          <p:nvPr/>
        </p:nvSpPr>
        <p:spPr>
          <a:xfrm>
            <a:off x="214200" y="6357960"/>
            <a:ext cx="357480" cy="357120"/>
          </a:xfrm>
          <a:custGeom>
            <a:avLst/>
            <a:gdLst>
              <a:gd name="textAreaLeft" fmla="*/ 23040 w 357480"/>
              <a:gd name="textAreaRight" fmla="*/ 334440 w 35748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1622" h="21600">
                <a:moveTo>
                  <a:pt x="0" y="0"/>
                </a:moveTo>
                <a:lnTo>
                  <a:pt x="21622" y="0"/>
                </a:lnTo>
                <a:lnTo>
                  <a:pt x="21622" y="21600"/>
                </a:lnTo>
                <a:lnTo>
                  <a:pt x="0" y="21600"/>
                </a:lnTo>
                <a:close/>
              </a:path>
              <a:path fill="lightenLess" w="21622" h="21600">
                <a:moveTo>
                  <a:pt x="0" y="0"/>
                </a:moveTo>
                <a:lnTo>
                  <a:pt x="21622" y="0"/>
                </a:lnTo>
                <a:lnTo>
                  <a:pt x="20222" y="1400"/>
                </a:lnTo>
                <a:lnTo>
                  <a:pt x="1400" y="1400"/>
                </a:lnTo>
                <a:close/>
              </a:path>
              <a:path fill="darken" w="21622" h="21600">
                <a:moveTo>
                  <a:pt x="21622" y="0"/>
                </a:moveTo>
                <a:lnTo>
                  <a:pt x="21622" y="21600"/>
                </a:lnTo>
                <a:lnTo>
                  <a:pt x="20222" y="20200"/>
                </a:lnTo>
                <a:lnTo>
                  <a:pt x="20222" y="1400"/>
                </a:lnTo>
                <a:close/>
              </a:path>
              <a:path fill="darkenLess" w="21622" h="21600">
                <a:moveTo>
                  <a:pt x="216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2" y="20200"/>
                </a:lnTo>
                <a:close/>
              </a:path>
              <a:path fill="lighten" w="216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2" h="21600">
                <a:moveTo>
                  <a:pt x="1081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22" h="21600">
                <a:moveTo>
                  <a:pt x="11916" y="14281"/>
                </a:moveTo>
                <a:lnTo>
                  <a:pt x="11916" y="12323"/>
                </a:lnTo>
                <a:cubicBezTo>
                  <a:pt x="11916" y="11496"/>
                  <a:pt x="12247" y="10800"/>
                  <a:pt x="12848" y="10800"/>
                </a:cubicBezTo>
                <a:cubicBezTo>
                  <a:pt x="13979" y="10800"/>
                  <a:pt x="14876" y="9434"/>
                  <a:pt x="14876" y="7849"/>
                </a:cubicBezTo>
                <a:cubicBezTo>
                  <a:pt x="14876" y="5534"/>
                  <a:pt x="13022" y="3794"/>
                  <a:pt x="10811" y="3794"/>
                </a:cubicBezTo>
                <a:cubicBezTo>
                  <a:pt x="8600" y="3794"/>
                  <a:pt x="6929" y="5534"/>
                  <a:pt x="6929" y="7849"/>
                </a:cubicBezTo>
                <a:lnTo>
                  <a:pt x="8783" y="7849"/>
                </a:lnTo>
                <a:cubicBezTo>
                  <a:pt x="8783" y="6709"/>
                  <a:pt x="9706" y="5821"/>
                  <a:pt x="10811" y="5821"/>
                </a:cubicBezTo>
                <a:cubicBezTo>
                  <a:pt x="11916" y="5821"/>
                  <a:pt x="12848" y="6709"/>
                  <a:pt x="12848" y="7849"/>
                </a:cubicBezTo>
                <a:cubicBezTo>
                  <a:pt x="12848" y="8589"/>
                  <a:pt x="12378" y="9320"/>
                  <a:pt x="11916" y="9320"/>
                </a:cubicBezTo>
                <a:cubicBezTo>
                  <a:pt x="10811" y="9320"/>
                  <a:pt x="9706" y="10800"/>
                  <a:pt x="9706" y="12323"/>
                </a:cubicBezTo>
                <a:lnTo>
                  <a:pt x="9706" y="14281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Рисунок 3" descr="5.jpg"/>
          <p:cNvPicPr/>
          <p:nvPr/>
        </p:nvPicPr>
        <p:blipFill>
          <a:blip r:embed="rId5"/>
          <a:stretch/>
        </p:blipFill>
        <p:spPr>
          <a:xfrm>
            <a:off x="3286080" y="4214880"/>
            <a:ext cx="53182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Где должны двигаться группы детей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20714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Только по тротуарам и пешеходным дорожкам, а при их отсутствии – по обочина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Только по тротуара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Только по пешеходным дорожка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Управляющая кнопка: справка 3">
            <a:hlinkClick r:id="rId4" action="ppaction://hlinksldjump"/>
          </p:cNvPr>
          <p:cNvSpPr/>
          <p:nvPr/>
        </p:nvSpPr>
        <p:spPr>
          <a:xfrm>
            <a:off x="142920" y="6357960"/>
            <a:ext cx="357120" cy="357120"/>
          </a:xfrm>
          <a:custGeom>
            <a:avLst/>
            <a:gdLst>
              <a:gd name="textAreaLeft" fmla="*/ 23040 w 357120"/>
              <a:gd name="textAreaRight" fmla="*/ 334080 w 35712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00">
                <a:moveTo>
                  <a:pt x="11905" y="14281"/>
                </a:moveTo>
                <a:lnTo>
                  <a:pt x="11905" y="12323"/>
                </a:lnTo>
                <a:cubicBezTo>
                  <a:pt x="11905" y="11496"/>
                  <a:pt x="12236" y="10800"/>
                  <a:pt x="12837" y="10800"/>
                </a:cubicBezTo>
                <a:cubicBezTo>
                  <a:pt x="13968" y="10800"/>
                  <a:pt x="14865" y="9434"/>
                  <a:pt x="14865" y="7849"/>
                </a:cubicBezTo>
                <a:cubicBezTo>
                  <a:pt x="14865" y="5534"/>
                  <a:pt x="13011" y="3794"/>
                  <a:pt x="10800" y="3794"/>
                </a:cubicBezTo>
                <a:cubicBezTo>
                  <a:pt x="8589" y="3794"/>
                  <a:pt x="6918" y="5534"/>
                  <a:pt x="6918" y="7849"/>
                </a:cubicBezTo>
                <a:lnTo>
                  <a:pt x="8772" y="7849"/>
                </a:lnTo>
                <a:cubicBezTo>
                  <a:pt x="8772" y="6709"/>
                  <a:pt x="9695" y="5821"/>
                  <a:pt x="10800" y="5821"/>
                </a:cubicBezTo>
                <a:cubicBezTo>
                  <a:pt x="11905" y="5821"/>
                  <a:pt x="12837" y="6709"/>
                  <a:pt x="12837" y="7849"/>
                </a:cubicBezTo>
                <a:cubicBezTo>
                  <a:pt x="12837" y="8589"/>
                  <a:pt x="12367" y="9320"/>
                  <a:pt x="11905" y="9320"/>
                </a:cubicBezTo>
                <a:cubicBezTo>
                  <a:pt x="10800" y="9320"/>
                  <a:pt x="9695" y="10800"/>
                  <a:pt x="9695" y="12323"/>
                </a:cubicBezTo>
                <a:lnTo>
                  <a:pt x="9695" y="14281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6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Где пассажир обязан производить посадку и высадку в (из) транспортного средства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В любом мест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Со стороны тротуара или обочины и только после полной остановки транспортного средств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Со стороны проезжей час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Управляющая кнопка: справка 3">
            <a:hlinkClick r:id="rId4" action="ppaction://hlinksldjump"/>
          </p:cNvPr>
          <p:cNvSpPr/>
          <p:nvPr/>
        </p:nvSpPr>
        <p:spPr>
          <a:xfrm>
            <a:off x="214200" y="6357960"/>
            <a:ext cx="357480" cy="357120"/>
          </a:xfrm>
          <a:custGeom>
            <a:avLst/>
            <a:gdLst>
              <a:gd name="textAreaLeft" fmla="*/ 23040 w 357480"/>
              <a:gd name="textAreaRight" fmla="*/ 334440 w 35748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1622" h="21600">
                <a:moveTo>
                  <a:pt x="0" y="0"/>
                </a:moveTo>
                <a:lnTo>
                  <a:pt x="21622" y="0"/>
                </a:lnTo>
                <a:lnTo>
                  <a:pt x="21622" y="21600"/>
                </a:lnTo>
                <a:lnTo>
                  <a:pt x="0" y="21600"/>
                </a:lnTo>
                <a:close/>
              </a:path>
              <a:path fill="lightenLess" w="21622" h="21600">
                <a:moveTo>
                  <a:pt x="0" y="0"/>
                </a:moveTo>
                <a:lnTo>
                  <a:pt x="21622" y="0"/>
                </a:lnTo>
                <a:lnTo>
                  <a:pt x="20222" y="1400"/>
                </a:lnTo>
                <a:lnTo>
                  <a:pt x="1400" y="1400"/>
                </a:lnTo>
                <a:close/>
              </a:path>
              <a:path fill="darken" w="21622" h="21600">
                <a:moveTo>
                  <a:pt x="21622" y="0"/>
                </a:moveTo>
                <a:lnTo>
                  <a:pt x="21622" y="21600"/>
                </a:lnTo>
                <a:lnTo>
                  <a:pt x="20222" y="20200"/>
                </a:lnTo>
                <a:lnTo>
                  <a:pt x="20222" y="1400"/>
                </a:lnTo>
                <a:close/>
              </a:path>
              <a:path fill="darkenLess" w="21622" h="21600">
                <a:moveTo>
                  <a:pt x="216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2" y="20200"/>
                </a:lnTo>
                <a:close/>
              </a:path>
              <a:path fill="lighten" w="216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2" h="21600">
                <a:moveTo>
                  <a:pt x="1081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22" h="21600">
                <a:moveTo>
                  <a:pt x="11916" y="14281"/>
                </a:moveTo>
                <a:lnTo>
                  <a:pt x="11916" y="12323"/>
                </a:lnTo>
                <a:cubicBezTo>
                  <a:pt x="11916" y="11496"/>
                  <a:pt x="12247" y="10800"/>
                  <a:pt x="12848" y="10800"/>
                </a:cubicBezTo>
                <a:cubicBezTo>
                  <a:pt x="13979" y="10800"/>
                  <a:pt x="14876" y="9434"/>
                  <a:pt x="14876" y="7849"/>
                </a:cubicBezTo>
                <a:cubicBezTo>
                  <a:pt x="14876" y="5534"/>
                  <a:pt x="13022" y="3794"/>
                  <a:pt x="10811" y="3794"/>
                </a:cubicBezTo>
                <a:cubicBezTo>
                  <a:pt x="8600" y="3794"/>
                  <a:pt x="6929" y="5534"/>
                  <a:pt x="6929" y="7849"/>
                </a:cubicBezTo>
                <a:lnTo>
                  <a:pt x="8783" y="7849"/>
                </a:lnTo>
                <a:cubicBezTo>
                  <a:pt x="8783" y="6709"/>
                  <a:pt x="9706" y="5821"/>
                  <a:pt x="10811" y="5821"/>
                </a:cubicBezTo>
                <a:cubicBezTo>
                  <a:pt x="11916" y="5821"/>
                  <a:pt x="12848" y="6709"/>
                  <a:pt x="12848" y="7849"/>
                </a:cubicBezTo>
                <a:cubicBezTo>
                  <a:pt x="12848" y="8589"/>
                  <a:pt x="12378" y="9320"/>
                  <a:pt x="11916" y="9320"/>
                </a:cubicBezTo>
                <a:cubicBezTo>
                  <a:pt x="10811" y="9320"/>
                  <a:pt x="9706" y="10800"/>
                  <a:pt x="9706" y="12323"/>
                </a:cubicBezTo>
                <a:lnTo>
                  <a:pt x="9706" y="14281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1523880"/>
                <a:gridCol w="1524240"/>
                <a:gridCol w="1523880"/>
                <a:gridCol w="1523880"/>
                <a:gridCol w="1524240"/>
                <a:gridCol w="1523880"/>
              </a:tblGrid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РАС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1" action="ppaction://hlinksldjump"/>
                        </a:rPr>
                        <a:t>5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2" action="ppaction://hlinksldjump"/>
                        </a:rPr>
                        <a:t>10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3" action="ppaction://hlinksldjump"/>
                        </a:rPr>
                        <a:t>15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4" action="ppaction://hlinksldjump"/>
                        </a:rPr>
                        <a:t>20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5" action="ppaction://hlinksldjump"/>
                        </a:rPr>
                        <a:t>25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ИН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6" action="ppaction://hlinksldjump"/>
                        </a:rPr>
                        <a:t>5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7" action="ppaction://hlinksldjump"/>
                        </a:rPr>
                        <a:t>10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8" action="ppaction://hlinksldjump"/>
                        </a:rPr>
                        <a:t>15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9" action="ppaction://hlinksldjump"/>
                        </a:rPr>
                        <a:t>20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10" action="ppaction://hlinksldjump"/>
                        </a:rPr>
                        <a:t>25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ЕЛ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11" action="ppaction://hlinksldjump"/>
                        </a:rPr>
                        <a:t>5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12" action="ppaction://hlinksldjump"/>
                        </a:rPr>
                        <a:t>10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13" action="ppaction://hlinksldjump"/>
                        </a:rPr>
                        <a:t>15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14" action="ppaction://hlinksldjump"/>
                        </a:rPr>
                        <a:t>20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15" action="ppaction://hlinksldjump"/>
                        </a:rPr>
                        <a:t>25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ЖЕЛТ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16" action="ppaction://hlinksldjump"/>
                        </a:rPr>
                        <a:t>5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17" action="ppaction://hlinksldjump"/>
                        </a:rPr>
                        <a:t>10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18" action="ppaction://hlinksldjump"/>
                        </a:rPr>
                        <a:t>15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19" action="ppaction://hlinksldjump"/>
                        </a:rPr>
                        <a:t>20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20" action="ppaction://hlinksldjump"/>
                        </a:rPr>
                        <a:t>25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ЕЛЕ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21" action="ppaction://hlinksldjump"/>
                        </a:rPr>
                        <a:t>5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22" action="ppaction://hlinksldjump"/>
                        </a:rPr>
                        <a:t>10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23" action="ppaction://hlinksldjump"/>
                        </a:rPr>
                        <a:t>15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24" action="ppaction://hlinksldjump"/>
                        </a:rPr>
                        <a:t>20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25" action="ppaction://hlinksldjump"/>
                        </a:rPr>
                        <a:t>25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9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Могут ли дети до 12-летнего возраста ездить на заднем сиденье мотоцикла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2500200"/>
            <a:ext cx="8229600" cy="31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Не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Д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Могут, но только с использованием специальных детских удерживающих устройст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Управляющая кнопка: справка 3">
            <a:hlinkClick r:id="rId4" action="ppaction://hlinksldjump"/>
          </p:cNvPr>
          <p:cNvSpPr/>
          <p:nvPr/>
        </p:nvSpPr>
        <p:spPr>
          <a:xfrm>
            <a:off x="214200" y="6357960"/>
            <a:ext cx="428760" cy="357120"/>
          </a:xfrm>
          <a:custGeom>
            <a:avLst/>
            <a:gdLst>
              <a:gd name="textAreaLeft" fmla="*/ 23040 w 428760"/>
              <a:gd name="textAreaRight" fmla="*/ 405720 w 42876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5929" h="21600">
                <a:moveTo>
                  <a:pt x="0" y="0"/>
                </a:moveTo>
                <a:lnTo>
                  <a:pt x="25929" y="0"/>
                </a:lnTo>
                <a:lnTo>
                  <a:pt x="25929" y="21600"/>
                </a:lnTo>
                <a:lnTo>
                  <a:pt x="0" y="21600"/>
                </a:lnTo>
                <a:close/>
              </a:path>
              <a:path fill="lightenLess" w="25929" h="21600">
                <a:moveTo>
                  <a:pt x="0" y="0"/>
                </a:moveTo>
                <a:lnTo>
                  <a:pt x="25929" y="0"/>
                </a:lnTo>
                <a:lnTo>
                  <a:pt x="24529" y="1400"/>
                </a:lnTo>
                <a:lnTo>
                  <a:pt x="1400" y="1400"/>
                </a:lnTo>
                <a:close/>
              </a:path>
              <a:path fill="darken" w="25929" h="21600">
                <a:moveTo>
                  <a:pt x="25929" y="0"/>
                </a:moveTo>
                <a:lnTo>
                  <a:pt x="25929" y="21600"/>
                </a:lnTo>
                <a:lnTo>
                  <a:pt x="24529" y="20200"/>
                </a:lnTo>
                <a:lnTo>
                  <a:pt x="24529" y="1400"/>
                </a:lnTo>
                <a:close/>
              </a:path>
              <a:path fill="darkenLess" w="25929" h="21600">
                <a:moveTo>
                  <a:pt x="2592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9" y="20200"/>
                </a:lnTo>
                <a:close/>
              </a:path>
              <a:path fill="lighten" w="2592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9" h="21600">
                <a:moveTo>
                  <a:pt x="12964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929" h="21600">
                <a:moveTo>
                  <a:pt x="14070" y="14281"/>
                </a:moveTo>
                <a:lnTo>
                  <a:pt x="14070" y="12323"/>
                </a:lnTo>
                <a:cubicBezTo>
                  <a:pt x="14070" y="11496"/>
                  <a:pt x="14400" y="10800"/>
                  <a:pt x="15001" y="10800"/>
                </a:cubicBezTo>
                <a:cubicBezTo>
                  <a:pt x="16132" y="10800"/>
                  <a:pt x="17029" y="9434"/>
                  <a:pt x="17029" y="7849"/>
                </a:cubicBezTo>
                <a:cubicBezTo>
                  <a:pt x="17029" y="5534"/>
                  <a:pt x="15175" y="3794"/>
                  <a:pt x="12964" y="3794"/>
                </a:cubicBezTo>
                <a:cubicBezTo>
                  <a:pt x="10754" y="3794"/>
                  <a:pt x="9082" y="5534"/>
                  <a:pt x="9082" y="7849"/>
                </a:cubicBezTo>
                <a:lnTo>
                  <a:pt x="10936" y="7849"/>
                </a:lnTo>
                <a:cubicBezTo>
                  <a:pt x="10936" y="6709"/>
                  <a:pt x="11859" y="5821"/>
                  <a:pt x="12964" y="5821"/>
                </a:cubicBezTo>
                <a:cubicBezTo>
                  <a:pt x="14070" y="5821"/>
                  <a:pt x="15001" y="6709"/>
                  <a:pt x="15001" y="7849"/>
                </a:cubicBezTo>
                <a:cubicBezTo>
                  <a:pt x="15001" y="8589"/>
                  <a:pt x="14531" y="9320"/>
                  <a:pt x="14070" y="9320"/>
                </a:cubicBezTo>
                <a:cubicBezTo>
                  <a:pt x="12964" y="9320"/>
                  <a:pt x="11859" y="10800"/>
                  <a:pt x="11859" y="12323"/>
                </a:cubicBezTo>
                <a:lnTo>
                  <a:pt x="11859" y="14281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Кому должен уступить дорогу водитель при выезде на дорогу с прилегающей территории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2642760"/>
            <a:ext cx="8229600" cy="348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Транспортным средствам и пешеходам, движущимся по не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Только пешеходам, движущимся по не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Имеет преимущества перед транспортными средствами, движущимся по не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Управляющая кнопка: справка 3">
            <a:hlinkClick r:id="rId4" action="ppaction://hlinksldjump"/>
          </p:cNvPr>
          <p:cNvSpPr/>
          <p:nvPr/>
        </p:nvSpPr>
        <p:spPr>
          <a:xfrm>
            <a:off x="214200" y="6357960"/>
            <a:ext cx="357480" cy="357120"/>
          </a:xfrm>
          <a:custGeom>
            <a:avLst/>
            <a:gdLst>
              <a:gd name="textAreaLeft" fmla="*/ 23040 w 357480"/>
              <a:gd name="textAreaRight" fmla="*/ 334440 w 35748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1622" h="21600">
                <a:moveTo>
                  <a:pt x="0" y="0"/>
                </a:moveTo>
                <a:lnTo>
                  <a:pt x="21622" y="0"/>
                </a:lnTo>
                <a:lnTo>
                  <a:pt x="21622" y="21600"/>
                </a:lnTo>
                <a:lnTo>
                  <a:pt x="0" y="21600"/>
                </a:lnTo>
                <a:close/>
              </a:path>
              <a:path fill="lightenLess" w="21622" h="21600">
                <a:moveTo>
                  <a:pt x="0" y="0"/>
                </a:moveTo>
                <a:lnTo>
                  <a:pt x="21622" y="0"/>
                </a:lnTo>
                <a:lnTo>
                  <a:pt x="20222" y="1400"/>
                </a:lnTo>
                <a:lnTo>
                  <a:pt x="1400" y="1400"/>
                </a:lnTo>
                <a:close/>
              </a:path>
              <a:path fill="darken" w="21622" h="21600">
                <a:moveTo>
                  <a:pt x="21622" y="0"/>
                </a:moveTo>
                <a:lnTo>
                  <a:pt x="21622" y="21600"/>
                </a:lnTo>
                <a:lnTo>
                  <a:pt x="20222" y="20200"/>
                </a:lnTo>
                <a:lnTo>
                  <a:pt x="20222" y="1400"/>
                </a:lnTo>
                <a:close/>
              </a:path>
              <a:path fill="darkenLess" w="21622" h="21600">
                <a:moveTo>
                  <a:pt x="216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2" y="20200"/>
                </a:lnTo>
                <a:close/>
              </a:path>
              <a:path fill="lighten" w="216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2" h="21600">
                <a:moveTo>
                  <a:pt x="1081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22" h="21600">
                <a:moveTo>
                  <a:pt x="11916" y="14281"/>
                </a:moveTo>
                <a:lnTo>
                  <a:pt x="11916" y="12323"/>
                </a:lnTo>
                <a:cubicBezTo>
                  <a:pt x="11916" y="11496"/>
                  <a:pt x="12247" y="10800"/>
                  <a:pt x="12848" y="10800"/>
                </a:cubicBezTo>
                <a:cubicBezTo>
                  <a:pt x="13979" y="10800"/>
                  <a:pt x="14876" y="9434"/>
                  <a:pt x="14876" y="7849"/>
                </a:cubicBezTo>
                <a:cubicBezTo>
                  <a:pt x="14876" y="5534"/>
                  <a:pt x="13022" y="3794"/>
                  <a:pt x="10811" y="3794"/>
                </a:cubicBezTo>
                <a:cubicBezTo>
                  <a:pt x="8600" y="3794"/>
                  <a:pt x="6929" y="5534"/>
                  <a:pt x="6929" y="7849"/>
                </a:cubicBezTo>
                <a:lnTo>
                  <a:pt x="8783" y="7849"/>
                </a:lnTo>
                <a:cubicBezTo>
                  <a:pt x="8783" y="6709"/>
                  <a:pt x="9706" y="5821"/>
                  <a:pt x="10811" y="5821"/>
                </a:cubicBezTo>
                <a:cubicBezTo>
                  <a:pt x="11916" y="5821"/>
                  <a:pt x="12848" y="6709"/>
                  <a:pt x="12848" y="7849"/>
                </a:cubicBezTo>
                <a:cubicBezTo>
                  <a:pt x="12848" y="8589"/>
                  <a:pt x="12378" y="9320"/>
                  <a:pt x="11916" y="9320"/>
                </a:cubicBezTo>
                <a:cubicBezTo>
                  <a:pt x="10811" y="9320"/>
                  <a:pt x="9706" y="10800"/>
                  <a:pt x="9706" y="12323"/>
                </a:cubicBezTo>
                <a:lnTo>
                  <a:pt x="9706" y="14281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Что при ДТП обязан сделать водитель, причастный к нему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2071800"/>
            <a:ext cx="8229600" cy="371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Продолжить движе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. Остановить транспортное средство, включить аварийную световую сигнализацию и выставить знак аварийной останов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. Скрыться с места происшеств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Управляющая кнопка: справка 3"/>
          <p:cNvSpPr/>
          <p:nvPr/>
        </p:nvSpPr>
        <p:spPr>
          <a:xfrm>
            <a:off x="214200" y="6357960"/>
            <a:ext cx="357480" cy="357120"/>
          </a:xfrm>
          <a:custGeom>
            <a:avLst/>
            <a:gdLst>
              <a:gd name="textAreaLeft" fmla="*/ 23040 w 357480"/>
              <a:gd name="textAreaRight" fmla="*/ 334440 w 35748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1622" h="21600">
                <a:moveTo>
                  <a:pt x="0" y="0"/>
                </a:moveTo>
                <a:lnTo>
                  <a:pt x="21622" y="0"/>
                </a:lnTo>
                <a:lnTo>
                  <a:pt x="21622" y="21600"/>
                </a:lnTo>
                <a:lnTo>
                  <a:pt x="0" y="21600"/>
                </a:lnTo>
                <a:close/>
              </a:path>
              <a:path fill="lightenLess" w="21622" h="21600">
                <a:moveTo>
                  <a:pt x="0" y="0"/>
                </a:moveTo>
                <a:lnTo>
                  <a:pt x="21622" y="0"/>
                </a:lnTo>
                <a:lnTo>
                  <a:pt x="20222" y="1400"/>
                </a:lnTo>
                <a:lnTo>
                  <a:pt x="1400" y="1400"/>
                </a:lnTo>
                <a:close/>
              </a:path>
              <a:path fill="darken" w="21622" h="21600">
                <a:moveTo>
                  <a:pt x="21622" y="0"/>
                </a:moveTo>
                <a:lnTo>
                  <a:pt x="21622" y="21600"/>
                </a:lnTo>
                <a:lnTo>
                  <a:pt x="20222" y="20200"/>
                </a:lnTo>
                <a:lnTo>
                  <a:pt x="20222" y="1400"/>
                </a:lnTo>
                <a:close/>
              </a:path>
              <a:path fill="darkenLess" w="21622" h="21600">
                <a:moveTo>
                  <a:pt x="216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2" y="20200"/>
                </a:lnTo>
                <a:close/>
              </a:path>
              <a:path fill="lighten" w="216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2" h="21600">
                <a:moveTo>
                  <a:pt x="1081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22" h="21600">
                <a:moveTo>
                  <a:pt x="11916" y="14281"/>
                </a:moveTo>
                <a:lnTo>
                  <a:pt x="11916" y="12323"/>
                </a:lnTo>
                <a:cubicBezTo>
                  <a:pt x="11916" y="11496"/>
                  <a:pt x="12247" y="10800"/>
                  <a:pt x="12848" y="10800"/>
                </a:cubicBezTo>
                <a:cubicBezTo>
                  <a:pt x="13979" y="10800"/>
                  <a:pt x="14876" y="9434"/>
                  <a:pt x="14876" y="7849"/>
                </a:cubicBezTo>
                <a:cubicBezTo>
                  <a:pt x="14876" y="5534"/>
                  <a:pt x="13022" y="3794"/>
                  <a:pt x="10811" y="3794"/>
                </a:cubicBezTo>
                <a:cubicBezTo>
                  <a:pt x="8600" y="3794"/>
                  <a:pt x="6929" y="5534"/>
                  <a:pt x="6929" y="7849"/>
                </a:cubicBezTo>
                <a:lnTo>
                  <a:pt x="8783" y="7849"/>
                </a:lnTo>
                <a:cubicBezTo>
                  <a:pt x="8783" y="6709"/>
                  <a:pt x="9706" y="5821"/>
                  <a:pt x="10811" y="5821"/>
                </a:cubicBezTo>
                <a:cubicBezTo>
                  <a:pt x="11916" y="5821"/>
                  <a:pt x="12848" y="6709"/>
                  <a:pt x="12848" y="7849"/>
                </a:cubicBezTo>
                <a:cubicBezTo>
                  <a:pt x="12848" y="8589"/>
                  <a:pt x="12378" y="9320"/>
                  <a:pt x="11916" y="9320"/>
                </a:cubicBezTo>
                <a:cubicBezTo>
                  <a:pt x="10811" y="9320"/>
                  <a:pt x="9706" y="10800"/>
                  <a:pt x="9706" y="12323"/>
                </a:cubicBezTo>
                <a:lnTo>
                  <a:pt x="9706" y="14281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Какой из этих знаков разрешает движение только пешеходам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28760" y="4214520"/>
            <a:ext cx="8229600" cy="17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.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. 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.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Управляющая кнопка: справка 3"/>
          <p:cNvSpPr/>
          <p:nvPr/>
        </p:nvSpPr>
        <p:spPr>
          <a:xfrm>
            <a:off x="214200" y="6357960"/>
            <a:ext cx="357480" cy="357120"/>
          </a:xfrm>
          <a:custGeom>
            <a:avLst/>
            <a:gdLst>
              <a:gd name="textAreaLeft" fmla="*/ 23040 w 357480"/>
              <a:gd name="textAreaRight" fmla="*/ 334440 w 35748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1622" h="21600">
                <a:moveTo>
                  <a:pt x="0" y="0"/>
                </a:moveTo>
                <a:lnTo>
                  <a:pt x="21622" y="0"/>
                </a:lnTo>
                <a:lnTo>
                  <a:pt x="21622" y="21600"/>
                </a:lnTo>
                <a:lnTo>
                  <a:pt x="0" y="21600"/>
                </a:lnTo>
                <a:close/>
              </a:path>
              <a:path fill="lightenLess" w="21622" h="21600">
                <a:moveTo>
                  <a:pt x="0" y="0"/>
                </a:moveTo>
                <a:lnTo>
                  <a:pt x="21622" y="0"/>
                </a:lnTo>
                <a:lnTo>
                  <a:pt x="20222" y="1400"/>
                </a:lnTo>
                <a:lnTo>
                  <a:pt x="1400" y="1400"/>
                </a:lnTo>
                <a:close/>
              </a:path>
              <a:path fill="darken" w="21622" h="21600">
                <a:moveTo>
                  <a:pt x="21622" y="0"/>
                </a:moveTo>
                <a:lnTo>
                  <a:pt x="21622" y="21600"/>
                </a:lnTo>
                <a:lnTo>
                  <a:pt x="20222" y="20200"/>
                </a:lnTo>
                <a:lnTo>
                  <a:pt x="20222" y="1400"/>
                </a:lnTo>
                <a:close/>
              </a:path>
              <a:path fill="darkenLess" w="21622" h="21600">
                <a:moveTo>
                  <a:pt x="216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2" y="20200"/>
                </a:lnTo>
                <a:close/>
              </a:path>
              <a:path fill="lighten" w="216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2" h="21600">
                <a:moveTo>
                  <a:pt x="1081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22" h="21600">
                <a:moveTo>
                  <a:pt x="11916" y="14281"/>
                </a:moveTo>
                <a:lnTo>
                  <a:pt x="11916" y="12323"/>
                </a:lnTo>
                <a:cubicBezTo>
                  <a:pt x="11916" y="11496"/>
                  <a:pt x="12247" y="10800"/>
                  <a:pt x="12848" y="10800"/>
                </a:cubicBezTo>
                <a:cubicBezTo>
                  <a:pt x="13979" y="10800"/>
                  <a:pt x="14876" y="9434"/>
                  <a:pt x="14876" y="7849"/>
                </a:cubicBezTo>
                <a:cubicBezTo>
                  <a:pt x="14876" y="5534"/>
                  <a:pt x="13022" y="3794"/>
                  <a:pt x="10811" y="3794"/>
                </a:cubicBezTo>
                <a:cubicBezTo>
                  <a:pt x="8600" y="3794"/>
                  <a:pt x="6929" y="5534"/>
                  <a:pt x="6929" y="7849"/>
                </a:cubicBezTo>
                <a:lnTo>
                  <a:pt x="8783" y="7849"/>
                </a:lnTo>
                <a:cubicBezTo>
                  <a:pt x="8783" y="6709"/>
                  <a:pt x="9706" y="5821"/>
                  <a:pt x="10811" y="5821"/>
                </a:cubicBezTo>
                <a:cubicBezTo>
                  <a:pt x="11916" y="5821"/>
                  <a:pt x="12848" y="6709"/>
                  <a:pt x="12848" y="7849"/>
                </a:cubicBezTo>
                <a:cubicBezTo>
                  <a:pt x="12848" y="8589"/>
                  <a:pt x="12378" y="9320"/>
                  <a:pt x="11916" y="9320"/>
                </a:cubicBezTo>
                <a:cubicBezTo>
                  <a:pt x="10811" y="9320"/>
                  <a:pt x="9706" y="10800"/>
                  <a:pt x="9706" y="12323"/>
                </a:cubicBezTo>
                <a:lnTo>
                  <a:pt x="9706" y="14281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Рисунок 3" descr="12.jpg"/>
          <p:cNvPicPr/>
          <p:nvPr/>
        </p:nvPicPr>
        <p:blipFill>
          <a:blip r:embed="rId1"/>
          <a:stretch/>
        </p:blipFill>
        <p:spPr>
          <a:xfrm>
            <a:off x="1571760" y="2071800"/>
            <a:ext cx="607356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Какой из этих знаков называется «Главная дорога»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Управляющая кнопка: справка 3"/>
          <p:cNvSpPr/>
          <p:nvPr/>
        </p:nvSpPr>
        <p:spPr>
          <a:xfrm>
            <a:off x="214200" y="6357960"/>
            <a:ext cx="357480" cy="357120"/>
          </a:xfrm>
          <a:custGeom>
            <a:avLst/>
            <a:gdLst>
              <a:gd name="textAreaLeft" fmla="*/ 23040 w 357480"/>
              <a:gd name="textAreaRight" fmla="*/ 334440 w 35748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1622" h="21600">
                <a:moveTo>
                  <a:pt x="0" y="0"/>
                </a:moveTo>
                <a:lnTo>
                  <a:pt x="21622" y="0"/>
                </a:lnTo>
                <a:lnTo>
                  <a:pt x="21622" y="21600"/>
                </a:lnTo>
                <a:lnTo>
                  <a:pt x="0" y="21600"/>
                </a:lnTo>
                <a:close/>
              </a:path>
              <a:path fill="lightenLess" w="21622" h="21600">
                <a:moveTo>
                  <a:pt x="0" y="0"/>
                </a:moveTo>
                <a:lnTo>
                  <a:pt x="21622" y="0"/>
                </a:lnTo>
                <a:lnTo>
                  <a:pt x="20222" y="1400"/>
                </a:lnTo>
                <a:lnTo>
                  <a:pt x="1400" y="1400"/>
                </a:lnTo>
                <a:close/>
              </a:path>
              <a:path fill="darken" w="21622" h="21600">
                <a:moveTo>
                  <a:pt x="21622" y="0"/>
                </a:moveTo>
                <a:lnTo>
                  <a:pt x="21622" y="21600"/>
                </a:lnTo>
                <a:lnTo>
                  <a:pt x="20222" y="20200"/>
                </a:lnTo>
                <a:lnTo>
                  <a:pt x="20222" y="1400"/>
                </a:lnTo>
                <a:close/>
              </a:path>
              <a:path fill="darkenLess" w="21622" h="21600">
                <a:moveTo>
                  <a:pt x="216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2" y="20200"/>
                </a:lnTo>
                <a:close/>
              </a:path>
              <a:path fill="lighten" w="216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2" h="21600">
                <a:moveTo>
                  <a:pt x="1081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22" h="21600">
                <a:moveTo>
                  <a:pt x="11916" y="14281"/>
                </a:moveTo>
                <a:lnTo>
                  <a:pt x="11916" y="12323"/>
                </a:lnTo>
                <a:cubicBezTo>
                  <a:pt x="11916" y="11496"/>
                  <a:pt x="12247" y="10800"/>
                  <a:pt x="12848" y="10800"/>
                </a:cubicBezTo>
                <a:cubicBezTo>
                  <a:pt x="13979" y="10800"/>
                  <a:pt x="14876" y="9434"/>
                  <a:pt x="14876" y="7849"/>
                </a:cubicBezTo>
                <a:cubicBezTo>
                  <a:pt x="14876" y="5534"/>
                  <a:pt x="13022" y="3794"/>
                  <a:pt x="10811" y="3794"/>
                </a:cubicBezTo>
                <a:cubicBezTo>
                  <a:pt x="8600" y="3794"/>
                  <a:pt x="6929" y="5534"/>
                  <a:pt x="6929" y="7849"/>
                </a:cubicBezTo>
                <a:lnTo>
                  <a:pt x="8783" y="7849"/>
                </a:lnTo>
                <a:cubicBezTo>
                  <a:pt x="8783" y="6709"/>
                  <a:pt x="9706" y="5821"/>
                  <a:pt x="10811" y="5821"/>
                </a:cubicBezTo>
                <a:cubicBezTo>
                  <a:pt x="11916" y="5821"/>
                  <a:pt x="12848" y="6709"/>
                  <a:pt x="12848" y="7849"/>
                </a:cubicBezTo>
                <a:cubicBezTo>
                  <a:pt x="12848" y="8589"/>
                  <a:pt x="12378" y="9320"/>
                  <a:pt x="11916" y="9320"/>
                </a:cubicBezTo>
                <a:cubicBezTo>
                  <a:pt x="10811" y="9320"/>
                  <a:pt x="9706" y="10800"/>
                  <a:pt x="9706" y="12323"/>
                </a:cubicBezTo>
                <a:lnTo>
                  <a:pt x="9706" y="14281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Рисунок 3" descr="11.jpg"/>
          <p:cNvPicPr/>
          <p:nvPr/>
        </p:nvPicPr>
        <p:blipFill>
          <a:blip r:embed="rId1"/>
          <a:stretch/>
        </p:blipFill>
        <p:spPr>
          <a:xfrm>
            <a:off x="1000080" y="2071800"/>
            <a:ext cx="6997680" cy="1857240"/>
          </a:xfrm>
          <a:prstGeom prst="rect">
            <a:avLst/>
          </a:prstGeom>
          <a:ln w="0">
            <a:noFill/>
          </a:ln>
        </p:spPr>
      </p:pic>
      <p:sp>
        <p:nvSpPr>
          <p:cNvPr id="123" name="Прямоугольник 5"/>
          <p:cNvSpPr/>
          <p:nvPr/>
        </p:nvSpPr>
        <p:spPr>
          <a:xfrm>
            <a:off x="2000160" y="4286160"/>
            <a:ext cx="4572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.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. 2 и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.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7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Какой из этих знаков называется «Движение запрещено»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4357800"/>
            <a:ext cx="8229600" cy="176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. 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.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.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Управляющая кнопка: справка 3"/>
          <p:cNvSpPr/>
          <p:nvPr/>
        </p:nvSpPr>
        <p:spPr>
          <a:xfrm>
            <a:off x="214200" y="6357960"/>
            <a:ext cx="357480" cy="357120"/>
          </a:xfrm>
          <a:custGeom>
            <a:avLst/>
            <a:gdLst>
              <a:gd name="textAreaLeft" fmla="*/ 23040 w 357480"/>
              <a:gd name="textAreaRight" fmla="*/ 334440 w 35748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1622" h="21600">
                <a:moveTo>
                  <a:pt x="0" y="0"/>
                </a:moveTo>
                <a:lnTo>
                  <a:pt x="21622" y="0"/>
                </a:lnTo>
                <a:lnTo>
                  <a:pt x="21622" y="21600"/>
                </a:lnTo>
                <a:lnTo>
                  <a:pt x="0" y="21600"/>
                </a:lnTo>
                <a:close/>
              </a:path>
              <a:path fill="lightenLess" w="21622" h="21600">
                <a:moveTo>
                  <a:pt x="0" y="0"/>
                </a:moveTo>
                <a:lnTo>
                  <a:pt x="21622" y="0"/>
                </a:lnTo>
                <a:lnTo>
                  <a:pt x="20222" y="1400"/>
                </a:lnTo>
                <a:lnTo>
                  <a:pt x="1400" y="1400"/>
                </a:lnTo>
                <a:close/>
              </a:path>
              <a:path fill="darken" w="21622" h="21600">
                <a:moveTo>
                  <a:pt x="21622" y="0"/>
                </a:moveTo>
                <a:lnTo>
                  <a:pt x="21622" y="21600"/>
                </a:lnTo>
                <a:lnTo>
                  <a:pt x="20222" y="20200"/>
                </a:lnTo>
                <a:lnTo>
                  <a:pt x="20222" y="1400"/>
                </a:lnTo>
                <a:close/>
              </a:path>
              <a:path fill="darkenLess" w="21622" h="21600">
                <a:moveTo>
                  <a:pt x="216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2" y="20200"/>
                </a:lnTo>
                <a:close/>
              </a:path>
              <a:path fill="lighten" w="216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2" h="21600">
                <a:moveTo>
                  <a:pt x="1081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22" h="21600">
                <a:moveTo>
                  <a:pt x="11916" y="14281"/>
                </a:moveTo>
                <a:lnTo>
                  <a:pt x="11916" y="12323"/>
                </a:lnTo>
                <a:cubicBezTo>
                  <a:pt x="11916" y="11496"/>
                  <a:pt x="12247" y="10800"/>
                  <a:pt x="12848" y="10800"/>
                </a:cubicBezTo>
                <a:cubicBezTo>
                  <a:pt x="13979" y="10800"/>
                  <a:pt x="14876" y="9434"/>
                  <a:pt x="14876" y="7849"/>
                </a:cubicBezTo>
                <a:cubicBezTo>
                  <a:pt x="14876" y="5534"/>
                  <a:pt x="13022" y="3794"/>
                  <a:pt x="10811" y="3794"/>
                </a:cubicBezTo>
                <a:cubicBezTo>
                  <a:pt x="8600" y="3794"/>
                  <a:pt x="6929" y="5534"/>
                  <a:pt x="6929" y="7849"/>
                </a:cubicBezTo>
                <a:lnTo>
                  <a:pt x="8783" y="7849"/>
                </a:lnTo>
                <a:cubicBezTo>
                  <a:pt x="8783" y="6709"/>
                  <a:pt x="9706" y="5821"/>
                  <a:pt x="10811" y="5821"/>
                </a:cubicBezTo>
                <a:cubicBezTo>
                  <a:pt x="11916" y="5821"/>
                  <a:pt x="12848" y="6709"/>
                  <a:pt x="12848" y="7849"/>
                </a:cubicBezTo>
                <a:cubicBezTo>
                  <a:pt x="12848" y="8589"/>
                  <a:pt x="12378" y="9320"/>
                  <a:pt x="11916" y="9320"/>
                </a:cubicBezTo>
                <a:cubicBezTo>
                  <a:pt x="10811" y="9320"/>
                  <a:pt x="9706" y="10800"/>
                  <a:pt x="9706" y="12323"/>
                </a:cubicBezTo>
                <a:lnTo>
                  <a:pt x="9706" y="14281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Рисунок 3" descr="14.jpg"/>
          <p:cNvPicPr/>
          <p:nvPr/>
        </p:nvPicPr>
        <p:blipFill>
          <a:blip r:embed="rId1"/>
          <a:stretch/>
        </p:blipFill>
        <p:spPr>
          <a:xfrm>
            <a:off x="1857240" y="2286000"/>
            <a:ext cx="506592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15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Какой из этих знаков называется «Железнодорожный переезд со шлагбаумом»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4571640"/>
            <a:ext cx="82296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.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. 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.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Управляющая кнопка: справка 3"/>
          <p:cNvSpPr/>
          <p:nvPr/>
        </p:nvSpPr>
        <p:spPr>
          <a:xfrm>
            <a:off x="214200" y="6357960"/>
            <a:ext cx="357480" cy="357120"/>
          </a:xfrm>
          <a:custGeom>
            <a:avLst/>
            <a:gdLst>
              <a:gd name="textAreaLeft" fmla="*/ 23040 w 357480"/>
              <a:gd name="textAreaRight" fmla="*/ 334440 w 35748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1622" h="21600">
                <a:moveTo>
                  <a:pt x="0" y="0"/>
                </a:moveTo>
                <a:lnTo>
                  <a:pt x="21622" y="0"/>
                </a:lnTo>
                <a:lnTo>
                  <a:pt x="21622" y="21600"/>
                </a:lnTo>
                <a:lnTo>
                  <a:pt x="0" y="21600"/>
                </a:lnTo>
                <a:close/>
              </a:path>
              <a:path fill="lightenLess" w="21622" h="21600">
                <a:moveTo>
                  <a:pt x="0" y="0"/>
                </a:moveTo>
                <a:lnTo>
                  <a:pt x="21622" y="0"/>
                </a:lnTo>
                <a:lnTo>
                  <a:pt x="20222" y="1400"/>
                </a:lnTo>
                <a:lnTo>
                  <a:pt x="1400" y="1400"/>
                </a:lnTo>
                <a:close/>
              </a:path>
              <a:path fill="darken" w="21622" h="21600">
                <a:moveTo>
                  <a:pt x="21622" y="0"/>
                </a:moveTo>
                <a:lnTo>
                  <a:pt x="21622" y="21600"/>
                </a:lnTo>
                <a:lnTo>
                  <a:pt x="20222" y="20200"/>
                </a:lnTo>
                <a:lnTo>
                  <a:pt x="20222" y="1400"/>
                </a:lnTo>
                <a:close/>
              </a:path>
              <a:path fill="darkenLess" w="21622" h="21600">
                <a:moveTo>
                  <a:pt x="216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2" y="20200"/>
                </a:lnTo>
                <a:close/>
              </a:path>
              <a:path fill="lighten" w="216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2" h="21600">
                <a:moveTo>
                  <a:pt x="1081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22" h="21600">
                <a:moveTo>
                  <a:pt x="11916" y="14281"/>
                </a:moveTo>
                <a:lnTo>
                  <a:pt x="11916" y="12323"/>
                </a:lnTo>
                <a:cubicBezTo>
                  <a:pt x="11916" y="11496"/>
                  <a:pt x="12247" y="10800"/>
                  <a:pt x="12848" y="10800"/>
                </a:cubicBezTo>
                <a:cubicBezTo>
                  <a:pt x="13979" y="10800"/>
                  <a:pt x="14876" y="9434"/>
                  <a:pt x="14876" y="7849"/>
                </a:cubicBezTo>
                <a:cubicBezTo>
                  <a:pt x="14876" y="5534"/>
                  <a:pt x="13022" y="3794"/>
                  <a:pt x="10811" y="3794"/>
                </a:cubicBezTo>
                <a:cubicBezTo>
                  <a:pt x="8600" y="3794"/>
                  <a:pt x="6929" y="5534"/>
                  <a:pt x="6929" y="7849"/>
                </a:cubicBezTo>
                <a:lnTo>
                  <a:pt x="8783" y="7849"/>
                </a:lnTo>
                <a:cubicBezTo>
                  <a:pt x="8783" y="6709"/>
                  <a:pt x="9706" y="5821"/>
                  <a:pt x="10811" y="5821"/>
                </a:cubicBezTo>
                <a:cubicBezTo>
                  <a:pt x="11916" y="5821"/>
                  <a:pt x="12848" y="6709"/>
                  <a:pt x="12848" y="7849"/>
                </a:cubicBezTo>
                <a:cubicBezTo>
                  <a:pt x="12848" y="8589"/>
                  <a:pt x="12378" y="9320"/>
                  <a:pt x="11916" y="9320"/>
                </a:cubicBezTo>
                <a:cubicBezTo>
                  <a:pt x="10811" y="9320"/>
                  <a:pt x="9706" y="10800"/>
                  <a:pt x="9706" y="12323"/>
                </a:cubicBezTo>
                <a:lnTo>
                  <a:pt x="9706" y="14281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Рисунок 3" descr="15.jpg"/>
          <p:cNvPicPr/>
          <p:nvPr/>
        </p:nvPicPr>
        <p:blipFill>
          <a:blip r:embed="rId1"/>
          <a:stretch/>
        </p:blipFill>
        <p:spPr>
          <a:xfrm>
            <a:off x="1428840" y="2500200"/>
            <a:ext cx="610236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5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Какой из этих знаков называется «Реверсивное движение»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4214520"/>
            <a:ext cx="8229600" cy="17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. 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.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.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Управляющая кнопка: справка 3"/>
          <p:cNvSpPr/>
          <p:nvPr/>
        </p:nvSpPr>
        <p:spPr>
          <a:xfrm>
            <a:off x="285840" y="6357960"/>
            <a:ext cx="357120" cy="357120"/>
          </a:xfrm>
          <a:custGeom>
            <a:avLst/>
            <a:gdLst>
              <a:gd name="textAreaLeft" fmla="*/ 23040 w 357120"/>
              <a:gd name="textAreaRight" fmla="*/ 334080 w 35712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00">
                <a:moveTo>
                  <a:pt x="11905" y="14281"/>
                </a:moveTo>
                <a:lnTo>
                  <a:pt x="11905" y="12323"/>
                </a:lnTo>
                <a:cubicBezTo>
                  <a:pt x="11905" y="11496"/>
                  <a:pt x="12236" y="10800"/>
                  <a:pt x="12837" y="10800"/>
                </a:cubicBezTo>
                <a:cubicBezTo>
                  <a:pt x="13968" y="10800"/>
                  <a:pt x="14865" y="9434"/>
                  <a:pt x="14865" y="7849"/>
                </a:cubicBezTo>
                <a:cubicBezTo>
                  <a:pt x="14865" y="5534"/>
                  <a:pt x="13011" y="3794"/>
                  <a:pt x="10800" y="3794"/>
                </a:cubicBezTo>
                <a:cubicBezTo>
                  <a:pt x="8589" y="3794"/>
                  <a:pt x="6918" y="5534"/>
                  <a:pt x="6918" y="7849"/>
                </a:cubicBezTo>
                <a:lnTo>
                  <a:pt x="8772" y="7849"/>
                </a:lnTo>
                <a:cubicBezTo>
                  <a:pt x="8772" y="6709"/>
                  <a:pt x="9695" y="5821"/>
                  <a:pt x="10800" y="5821"/>
                </a:cubicBezTo>
                <a:cubicBezTo>
                  <a:pt x="11905" y="5821"/>
                  <a:pt x="12837" y="6709"/>
                  <a:pt x="12837" y="7849"/>
                </a:cubicBezTo>
                <a:cubicBezTo>
                  <a:pt x="12837" y="8589"/>
                  <a:pt x="12367" y="9320"/>
                  <a:pt x="11905" y="9320"/>
                </a:cubicBezTo>
                <a:cubicBezTo>
                  <a:pt x="10800" y="9320"/>
                  <a:pt x="9695" y="10800"/>
                  <a:pt x="9695" y="12323"/>
                </a:cubicBezTo>
                <a:lnTo>
                  <a:pt x="9695" y="14281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Рисунок 3" descr="13.jpg"/>
          <p:cNvPicPr/>
          <p:nvPr/>
        </p:nvPicPr>
        <p:blipFill>
          <a:blip r:embed="rId1"/>
          <a:stretch/>
        </p:blipFill>
        <p:spPr>
          <a:xfrm>
            <a:off x="1714680" y="2071800"/>
            <a:ext cx="5727600" cy="18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a2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836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ВЕРНО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Управляющая кнопка: домой 4"/>
          <p:cNvSpPr/>
          <p:nvPr/>
        </p:nvSpPr>
        <p:spPr>
          <a:xfrm>
            <a:off x="7596360" y="5732640"/>
            <a:ext cx="792000" cy="649080"/>
          </a:xfrm>
          <a:custGeom>
            <a:avLst/>
            <a:gdLst>
              <a:gd name="textAreaLeft" fmla="*/ 41760 w 792000"/>
              <a:gd name="textAreaRight" fmla="*/ 750240 w 792000"/>
              <a:gd name="textAreaTop" fmla="*/ 41760 h 649080"/>
              <a:gd name="textAreaBottom" fmla="*/ 607320 h 649080"/>
            </a:gdLst>
            <a:ahLst/>
            <a:rect l="textAreaLeft" t="textAreaTop" r="textAreaRight" b="textAreaBottom"/>
            <a:pathLst>
              <a:path w="26353" h="21600">
                <a:moveTo>
                  <a:pt x="0" y="0"/>
                </a:moveTo>
                <a:lnTo>
                  <a:pt x="26353" y="0"/>
                </a:lnTo>
                <a:lnTo>
                  <a:pt x="26353" y="21600"/>
                </a:lnTo>
                <a:lnTo>
                  <a:pt x="0" y="21600"/>
                </a:lnTo>
                <a:close/>
              </a:path>
              <a:path fill="lightenLess" w="26353" h="21600">
                <a:moveTo>
                  <a:pt x="0" y="0"/>
                </a:moveTo>
                <a:lnTo>
                  <a:pt x="26353" y="0"/>
                </a:lnTo>
                <a:lnTo>
                  <a:pt x="24953" y="1400"/>
                </a:lnTo>
                <a:lnTo>
                  <a:pt x="1400" y="1400"/>
                </a:lnTo>
                <a:close/>
              </a:path>
              <a:path fill="darken" w="26353" h="21600">
                <a:moveTo>
                  <a:pt x="26353" y="0"/>
                </a:moveTo>
                <a:lnTo>
                  <a:pt x="26353" y="21600"/>
                </a:lnTo>
                <a:lnTo>
                  <a:pt x="24953" y="20200"/>
                </a:lnTo>
                <a:lnTo>
                  <a:pt x="24953" y="1400"/>
                </a:lnTo>
                <a:close/>
              </a:path>
              <a:path fill="darkenLess" w="26353" h="21600">
                <a:moveTo>
                  <a:pt x="263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53" y="20200"/>
                </a:lnTo>
                <a:close/>
              </a:path>
              <a:path fill="lighten" w="263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53" h="21600">
                <a:moveTo>
                  <a:pt x="13177" y="3837"/>
                </a:moveTo>
                <a:lnTo>
                  <a:pt x="15753" y="6448"/>
                </a:lnTo>
                <a:lnTo>
                  <a:pt x="15753" y="4707"/>
                </a:lnTo>
                <a:lnTo>
                  <a:pt x="17529" y="4707"/>
                </a:lnTo>
                <a:lnTo>
                  <a:pt x="17529" y="8224"/>
                </a:lnTo>
                <a:lnTo>
                  <a:pt x="20140" y="10800"/>
                </a:lnTo>
                <a:lnTo>
                  <a:pt x="18486" y="10800"/>
                </a:lnTo>
                <a:lnTo>
                  <a:pt x="18486" y="17989"/>
                </a:lnTo>
                <a:lnTo>
                  <a:pt x="7867" y="17989"/>
                </a:lnTo>
                <a:lnTo>
                  <a:pt x="7867" y="10800"/>
                </a:lnTo>
                <a:lnTo>
                  <a:pt x="6214" y="10800"/>
                </a:lnTo>
                <a:close/>
              </a:path>
              <a:path fill="darkenLess" w="26353" h="21600">
                <a:moveTo>
                  <a:pt x="15753" y="6448"/>
                </a:moveTo>
                <a:lnTo>
                  <a:pt x="15753" y="4707"/>
                </a:lnTo>
                <a:lnTo>
                  <a:pt x="17529" y="4707"/>
                </a:lnTo>
                <a:lnTo>
                  <a:pt x="17529" y="8224"/>
                </a:lnTo>
                <a:close/>
              </a:path>
              <a:path fill="darkenLess" w="26353" h="21600">
                <a:moveTo>
                  <a:pt x="12254" y="14299"/>
                </a:moveTo>
                <a:lnTo>
                  <a:pt x="14099" y="14299"/>
                </a:lnTo>
                <a:lnTo>
                  <a:pt x="14099" y="17989"/>
                </a:lnTo>
                <a:lnTo>
                  <a:pt x="18486" y="17989"/>
                </a:lnTo>
                <a:lnTo>
                  <a:pt x="18486" y="10800"/>
                </a:lnTo>
                <a:lnTo>
                  <a:pt x="7867" y="10800"/>
                </a:lnTo>
                <a:lnTo>
                  <a:pt x="7867" y="17989"/>
                </a:lnTo>
                <a:lnTo>
                  <a:pt x="12254" y="1798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a2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360" y="242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НЕВЕРНО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Управляющая кнопка: домой 4"/>
          <p:cNvSpPr/>
          <p:nvPr/>
        </p:nvSpPr>
        <p:spPr>
          <a:xfrm>
            <a:off x="7740720" y="5661000"/>
            <a:ext cx="792000" cy="720720"/>
          </a:xfrm>
          <a:custGeom>
            <a:avLst/>
            <a:gdLst>
              <a:gd name="textAreaLeft" fmla="*/ 46440 w 792000"/>
              <a:gd name="textAreaRight" fmla="*/ 745560 w 79200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3735" h="21600">
                <a:moveTo>
                  <a:pt x="0" y="0"/>
                </a:moveTo>
                <a:lnTo>
                  <a:pt x="23735" y="0"/>
                </a:lnTo>
                <a:lnTo>
                  <a:pt x="23735" y="21600"/>
                </a:lnTo>
                <a:lnTo>
                  <a:pt x="0" y="21600"/>
                </a:lnTo>
                <a:close/>
              </a:path>
              <a:path fill="lightenLess" w="23735" h="21600">
                <a:moveTo>
                  <a:pt x="0" y="0"/>
                </a:moveTo>
                <a:lnTo>
                  <a:pt x="23735" y="0"/>
                </a:lnTo>
                <a:lnTo>
                  <a:pt x="22335" y="1400"/>
                </a:lnTo>
                <a:lnTo>
                  <a:pt x="1400" y="1400"/>
                </a:lnTo>
                <a:close/>
              </a:path>
              <a:path fill="darken" w="23735" h="21600">
                <a:moveTo>
                  <a:pt x="23735" y="0"/>
                </a:moveTo>
                <a:lnTo>
                  <a:pt x="23735" y="21600"/>
                </a:lnTo>
                <a:lnTo>
                  <a:pt x="22335" y="20200"/>
                </a:lnTo>
                <a:lnTo>
                  <a:pt x="22335" y="1400"/>
                </a:lnTo>
                <a:close/>
              </a:path>
              <a:path fill="darkenLess" w="23735" h="21600">
                <a:moveTo>
                  <a:pt x="237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35" y="20200"/>
                </a:lnTo>
                <a:close/>
              </a:path>
              <a:path fill="lighten" w="237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35" h="21600">
                <a:moveTo>
                  <a:pt x="11868" y="3837"/>
                </a:moveTo>
                <a:lnTo>
                  <a:pt x="14444" y="6448"/>
                </a:lnTo>
                <a:lnTo>
                  <a:pt x="14444" y="4707"/>
                </a:lnTo>
                <a:lnTo>
                  <a:pt x="16219" y="4707"/>
                </a:lnTo>
                <a:lnTo>
                  <a:pt x="16219" y="8224"/>
                </a:lnTo>
                <a:lnTo>
                  <a:pt x="18831" y="10800"/>
                </a:lnTo>
                <a:lnTo>
                  <a:pt x="17177" y="10800"/>
                </a:lnTo>
                <a:lnTo>
                  <a:pt x="17177" y="17989"/>
                </a:lnTo>
                <a:lnTo>
                  <a:pt x="6558" y="17989"/>
                </a:lnTo>
                <a:lnTo>
                  <a:pt x="6558" y="10800"/>
                </a:lnTo>
                <a:lnTo>
                  <a:pt x="4905" y="10800"/>
                </a:lnTo>
                <a:close/>
              </a:path>
              <a:path fill="darkenLess" w="23735" h="21600">
                <a:moveTo>
                  <a:pt x="14444" y="6448"/>
                </a:moveTo>
                <a:lnTo>
                  <a:pt x="14444" y="4707"/>
                </a:lnTo>
                <a:lnTo>
                  <a:pt x="16219" y="4707"/>
                </a:lnTo>
                <a:lnTo>
                  <a:pt x="16219" y="8224"/>
                </a:lnTo>
                <a:close/>
              </a:path>
              <a:path fill="darkenLess" w="23735" h="21600">
                <a:moveTo>
                  <a:pt x="10945" y="14299"/>
                </a:moveTo>
                <a:lnTo>
                  <a:pt x="12790" y="14299"/>
                </a:lnTo>
                <a:lnTo>
                  <a:pt x="12790" y="17989"/>
                </a:lnTo>
                <a:lnTo>
                  <a:pt x="17177" y="17989"/>
                </a:lnTo>
                <a:lnTo>
                  <a:pt x="17177" y="10800"/>
                </a:lnTo>
                <a:lnTo>
                  <a:pt x="6558" y="10800"/>
                </a:lnTo>
                <a:lnTo>
                  <a:pt x="6558" y="17989"/>
                </a:lnTo>
                <a:lnTo>
                  <a:pt x="10945" y="1798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96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36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Какое движение транспортных средств установлено в Российской Федерации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3214440"/>
            <a:ext cx="8229600" cy="291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а. Правосторонне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б. Левосторонне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в. В обоих направления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Управляющая кнопка: справка 3">
            <a:hlinkClick r:id="rId4" action="ppaction://hlinksldjump"/>
          </p:cNvPr>
          <p:cNvSpPr/>
          <p:nvPr/>
        </p:nvSpPr>
        <p:spPr>
          <a:xfrm>
            <a:off x="285840" y="6286680"/>
            <a:ext cx="357120" cy="357120"/>
          </a:xfrm>
          <a:custGeom>
            <a:avLst/>
            <a:gdLst>
              <a:gd name="textAreaLeft" fmla="*/ 23040 w 357120"/>
              <a:gd name="textAreaRight" fmla="*/ 334080 w 35712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00">
                <a:moveTo>
                  <a:pt x="11905" y="14281"/>
                </a:moveTo>
                <a:lnTo>
                  <a:pt x="11905" y="12323"/>
                </a:lnTo>
                <a:cubicBezTo>
                  <a:pt x="11905" y="11496"/>
                  <a:pt x="12236" y="10800"/>
                  <a:pt x="12837" y="10800"/>
                </a:cubicBezTo>
                <a:cubicBezTo>
                  <a:pt x="13968" y="10800"/>
                  <a:pt x="14865" y="9434"/>
                  <a:pt x="14865" y="7849"/>
                </a:cubicBezTo>
                <a:cubicBezTo>
                  <a:pt x="14865" y="5534"/>
                  <a:pt x="13011" y="3794"/>
                  <a:pt x="10800" y="3794"/>
                </a:cubicBezTo>
                <a:cubicBezTo>
                  <a:pt x="8589" y="3794"/>
                  <a:pt x="6918" y="5534"/>
                  <a:pt x="6918" y="7849"/>
                </a:cubicBezTo>
                <a:lnTo>
                  <a:pt x="8772" y="7849"/>
                </a:lnTo>
                <a:cubicBezTo>
                  <a:pt x="8772" y="6709"/>
                  <a:pt x="9695" y="5821"/>
                  <a:pt x="10800" y="5821"/>
                </a:cubicBezTo>
                <a:cubicBezTo>
                  <a:pt x="11905" y="5821"/>
                  <a:pt x="12837" y="6709"/>
                  <a:pt x="12837" y="7849"/>
                </a:cubicBezTo>
                <a:cubicBezTo>
                  <a:pt x="12837" y="8589"/>
                  <a:pt x="12367" y="9320"/>
                  <a:pt x="11905" y="9320"/>
                </a:cubicBezTo>
                <a:cubicBezTo>
                  <a:pt x="10800" y="9320"/>
                  <a:pt x="9695" y="10800"/>
                  <a:pt x="9695" y="12323"/>
                </a:cubicBezTo>
                <a:lnTo>
                  <a:pt x="9695" y="14281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a2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ПРАВИЛЬНЫЕ ОТВЕТ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457200" y="1600200"/>
          <a:ext cx="8229600" cy="4614840"/>
        </p:xfrm>
        <a:graphic>
          <a:graphicData uri="http://schemas.openxmlformats.org/drawingml/2006/table">
            <a:tbl>
              <a:tblPr/>
              <a:tblGrid>
                <a:gridCol w="1371600"/>
                <a:gridCol w="1371600"/>
                <a:gridCol w="1371600"/>
                <a:gridCol w="1371600"/>
                <a:gridCol w="1371600"/>
                <a:gridCol w="1371600"/>
              </a:tblGrid>
              <a:tr h="922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рас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24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ин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22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ел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желт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22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еле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142" name="Управляющая кнопка: домой 4">
            <a:hlinkClick r:id="" action="ppaction://hlinkshowjump?jump=firstslide"/>
          </p:cNvPr>
          <p:cNvSpPr/>
          <p:nvPr/>
        </p:nvSpPr>
        <p:spPr>
          <a:xfrm>
            <a:off x="357120" y="214200"/>
            <a:ext cx="428760" cy="428760"/>
          </a:xfrm>
          <a:custGeom>
            <a:avLst/>
            <a:gdLst>
              <a:gd name="textAreaLeft" fmla="*/ 27720 w 428760"/>
              <a:gd name="textAreaRight" fmla="*/ 401040 w 42876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a2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ИСТОЧНИК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483920"/>
            <a:ext cx="8229600" cy="25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авила дорожного движе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стольная игра «Я – пешеход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артинки и схемы дорожных ситуаций из личного архива автор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96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Что такое перекрёсток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а. Место пересечения, примыкания или разветвление дорог на одном уровне, ограниченное воображаемыми линиями, соединяющими соответственно противоположные, наиболее удалённые от центра перекрёстка начала закруглений проезжих часте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б. Выезды с прилегающих территор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Управляющая кнопка: справка 3">
            <a:hlinkClick r:id="rId3" action="ppaction://hlinksldjump"/>
          </p:cNvPr>
          <p:cNvSpPr/>
          <p:nvPr/>
        </p:nvSpPr>
        <p:spPr>
          <a:xfrm>
            <a:off x="214200" y="6357960"/>
            <a:ext cx="357480" cy="357120"/>
          </a:xfrm>
          <a:custGeom>
            <a:avLst/>
            <a:gdLst>
              <a:gd name="textAreaLeft" fmla="*/ 23040 w 357480"/>
              <a:gd name="textAreaRight" fmla="*/ 334440 w 35748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1622" h="21600">
                <a:moveTo>
                  <a:pt x="0" y="0"/>
                </a:moveTo>
                <a:lnTo>
                  <a:pt x="21622" y="0"/>
                </a:lnTo>
                <a:lnTo>
                  <a:pt x="21622" y="21600"/>
                </a:lnTo>
                <a:lnTo>
                  <a:pt x="0" y="21600"/>
                </a:lnTo>
                <a:close/>
              </a:path>
              <a:path fill="lightenLess" w="21622" h="21600">
                <a:moveTo>
                  <a:pt x="0" y="0"/>
                </a:moveTo>
                <a:lnTo>
                  <a:pt x="21622" y="0"/>
                </a:lnTo>
                <a:lnTo>
                  <a:pt x="20222" y="1400"/>
                </a:lnTo>
                <a:lnTo>
                  <a:pt x="1400" y="1400"/>
                </a:lnTo>
                <a:close/>
              </a:path>
              <a:path fill="darken" w="21622" h="21600">
                <a:moveTo>
                  <a:pt x="21622" y="0"/>
                </a:moveTo>
                <a:lnTo>
                  <a:pt x="21622" y="21600"/>
                </a:lnTo>
                <a:lnTo>
                  <a:pt x="20222" y="20200"/>
                </a:lnTo>
                <a:lnTo>
                  <a:pt x="20222" y="1400"/>
                </a:lnTo>
                <a:close/>
              </a:path>
              <a:path fill="darkenLess" w="21622" h="21600">
                <a:moveTo>
                  <a:pt x="216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2" y="20200"/>
                </a:lnTo>
                <a:close/>
              </a:path>
              <a:path fill="lighten" w="216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2" h="21600">
                <a:moveTo>
                  <a:pt x="1081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22" h="21600">
                <a:moveTo>
                  <a:pt x="11916" y="14281"/>
                </a:moveTo>
                <a:lnTo>
                  <a:pt x="11916" y="12323"/>
                </a:lnTo>
                <a:cubicBezTo>
                  <a:pt x="11916" y="11496"/>
                  <a:pt x="12247" y="10800"/>
                  <a:pt x="12848" y="10800"/>
                </a:cubicBezTo>
                <a:cubicBezTo>
                  <a:pt x="13979" y="10800"/>
                  <a:pt x="14876" y="9434"/>
                  <a:pt x="14876" y="7849"/>
                </a:cubicBezTo>
                <a:cubicBezTo>
                  <a:pt x="14876" y="5534"/>
                  <a:pt x="13022" y="3794"/>
                  <a:pt x="10811" y="3794"/>
                </a:cubicBezTo>
                <a:cubicBezTo>
                  <a:pt x="8600" y="3794"/>
                  <a:pt x="6929" y="5534"/>
                  <a:pt x="6929" y="7849"/>
                </a:cubicBezTo>
                <a:lnTo>
                  <a:pt x="8783" y="7849"/>
                </a:lnTo>
                <a:cubicBezTo>
                  <a:pt x="8783" y="6709"/>
                  <a:pt x="9706" y="5821"/>
                  <a:pt x="10811" y="5821"/>
                </a:cubicBezTo>
                <a:cubicBezTo>
                  <a:pt x="11916" y="5821"/>
                  <a:pt x="12848" y="6709"/>
                  <a:pt x="12848" y="7849"/>
                </a:cubicBezTo>
                <a:cubicBezTo>
                  <a:pt x="12848" y="8589"/>
                  <a:pt x="12378" y="9320"/>
                  <a:pt x="11916" y="9320"/>
                </a:cubicBezTo>
                <a:cubicBezTo>
                  <a:pt x="10811" y="9320"/>
                  <a:pt x="9706" y="10800"/>
                  <a:pt x="9706" y="12323"/>
                </a:cubicBezTo>
                <a:lnTo>
                  <a:pt x="9706" y="14281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96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Что такое главная дорога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а. Дорога, на которой предоставлено право преимущественного проезда нерегулируемых перекрёстк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б. Дорога с твёрдым покрытием (асфальт и т.п.) по отношению к грунтово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в. Оба вышеперечисленных определе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Управляющая кнопка: справка 3">
            <a:hlinkClick r:id="rId4" action="ppaction://hlinksldjump"/>
          </p:cNvPr>
          <p:cNvSpPr/>
          <p:nvPr/>
        </p:nvSpPr>
        <p:spPr>
          <a:xfrm>
            <a:off x="214200" y="6357960"/>
            <a:ext cx="357480" cy="357120"/>
          </a:xfrm>
          <a:custGeom>
            <a:avLst/>
            <a:gdLst>
              <a:gd name="textAreaLeft" fmla="*/ 23040 w 357480"/>
              <a:gd name="textAreaRight" fmla="*/ 334440 w 35748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1622" h="21600">
                <a:moveTo>
                  <a:pt x="0" y="0"/>
                </a:moveTo>
                <a:lnTo>
                  <a:pt x="21622" y="0"/>
                </a:lnTo>
                <a:lnTo>
                  <a:pt x="21622" y="21600"/>
                </a:lnTo>
                <a:lnTo>
                  <a:pt x="0" y="21600"/>
                </a:lnTo>
                <a:close/>
              </a:path>
              <a:path fill="lightenLess" w="21622" h="21600">
                <a:moveTo>
                  <a:pt x="0" y="0"/>
                </a:moveTo>
                <a:lnTo>
                  <a:pt x="21622" y="0"/>
                </a:lnTo>
                <a:lnTo>
                  <a:pt x="20222" y="1400"/>
                </a:lnTo>
                <a:lnTo>
                  <a:pt x="1400" y="1400"/>
                </a:lnTo>
                <a:close/>
              </a:path>
              <a:path fill="darken" w="21622" h="21600">
                <a:moveTo>
                  <a:pt x="21622" y="0"/>
                </a:moveTo>
                <a:lnTo>
                  <a:pt x="21622" y="21600"/>
                </a:lnTo>
                <a:lnTo>
                  <a:pt x="20222" y="20200"/>
                </a:lnTo>
                <a:lnTo>
                  <a:pt x="20222" y="1400"/>
                </a:lnTo>
                <a:close/>
              </a:path>
              <a:path fill="darkenLess" w="21622" h="21600">
                <a:moveTo>
                  <a:pt x="216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2" y="20200"/>
                </a:lnTo>
                <a:close/>
              </a:path>
              <a:path fill="lighten" w="216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2" h="21600">
                <a:moveTo>
                  <a:pt x="1081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22" h="21600">
                <a:moveTo>
                  <a:pt x="11916" y="14281"/>
                </a:moveTo>
                <a:lnTo>
                  <a:pt x="11916" y="12323"/>
                </a:lnTo>
                <a:cubicBezTo>
                  <a:pt x="11916" y="11496"/>
                  <a:pt x="12247" y="10800"/>
                  <a:pt x="12848" y="10800"/>
                </a:cubicBezTo>
                <a:cubicBezTo>
                  <a:pt x="13979" y="10800"/>
                  <a:pt x="14876" y="9434"/>
                  <a:pt x="14876" y="7849"/>
                </a:cubicBezTo>
                <a:cubicBezTo>
                  <a:pt x="14876" y="5534"/>
                  <a:pt x="13022" y="3794"/>
                  <a:pt x="10811" y="3794"/>
                </a:cubicBezTo>
                <a:cubicBezTo>
                  <a:pt x="8600" y="3794"/>
                  <a:pt x="6929" y="5534"/>
                  <a:pt x="6929" y="7849"/>
                </a:cubicBezTo>
                <a:lnTo>
                  <a:pt x="8783" y="7849"/>
                </a:lnTo>
                <a:cubicBezTo>
                  <a:pt x="8783" y="6709"/>
                  <a:pt x="9706" y="5821"/>
                  <a:pt x="10811" y="5821"/>
                </a:cubicBezTo>
                <a:cubicBezTo>
                  <a:pt x="11916" y="5821"/>
                  <a:pt x="12848" y="6709"/>
                  <a:pt x="12848" y="7849"/>
                </a:cubicBezTo>
                <a:cubicBezTo>
                  <a:pt x="12848" y="8589"/>
                  <a:pt x="12378" y="9320"/>
                  <a:pt x="11916" y="9320"/>
                </a:cubicBezTo>
                <a:cubicBezTo>
                  <a:pt x="10811" y="9320"/>
                  <a:pt x="9706" y="10800"/>
                  <a:pt x="9706" y="12323"/>
                </a:cubicBezTo>
                <a:lnTo>
                  <a:pt x="9706" y="14281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96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Что такое тротуар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а. Элемент дороги, предназначенный для движения безрельсовых транспортных средст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б. Элемент дороги, предназначенный для движения пешеходов и примыкающий к проезжей части или отделённый от неё газоном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в. Элемент дороги, предназначенный для движения маршрутных транспортных </a:t>
            </a:r>
            <a:r>
              <a:rPr b="0" lang="ru-RU" sz="3000" spc="-1" strike="noStrike" u="sng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средст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Управляющая кнопка: справка 3">
            <a:hlinkClick r:id="rId5" action="ppaction://hlinksldjump"/>
          </p:cNvPr>
          <p:cNvSpPr/>
          <p:nvPr/>
        </p:nvSpPr>
        <p:spPr>
          <a:xfrm>
            <a:off x="214200" y="6286680"/>
            <a:ext cx="357480" cy="357120"/>
          </a:xfrm>
          <a:custGeom>
            <a:avLst/>
            <a:gdLst>
              <a:gd name="textAreaLeft" fmla="*/ 23040 w 357480"/>
              <a:gd name="textAreaRight" fmla="*/ 334440 w 35748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1622" h="21600">
                <a:moveTo>
                  <a:pt x="0" y="0"/>
                </a:moveTo>
                <a:lnTo>
                  <a:pt x="21622" y="0"/>
                </a:lnTo>
                <a:lnTo>
                  <a:pt x="21622" y="21600"/>
                </a:lnTo>
                <a:lnTo>
                  <a:pt x="0" y="21600"/>
                </a:lnTo>
                <a:close/>
              </a:path>
              <a:path fill="lightenLess" w="21622" h="21600">
                <a:moveTo>
                  <a:pt x="0" y="0"/>
                </a:moveTo>
                <a:lnTo>
                  <a:pt x="21622" y="0"/>
                </a:lnTo>
                <a:lnTo>
                  <a:pt x="20222" y="1400"/>
                </a:lnTo>
                <a:lnTo>
                  <a:pt x="1400" y="1400"/>
                </a:lnTo>
                <a:close/>
              </a:path>
              <a:path fill="darken" w="21622" h="21600">
                <a:moveTo>
                  <a:pt x="21622" y="0"/>
                </a:moveTo>
                <a:lnTo>
                  <a:pt x="21622" y="21600"/>
                </a:lnTo>
                <a:lnTo>
                  <a:pt x="20222" y="20200"/>
                </a:lnTo>
                <a:lnTo>
                  <a:pt x="20222" y="1400"/>
                </a:lnTo>
                <a:close/>
              </a:path>
              <a:path fill="darkenLess" w="21622" h="21600">
                <a:moveTo>
                  <a:pt x="216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2" y="20200"/>
                </a:lnTo>
                <a:close/>
              </a:path>
              <a:path fill="lighten" w="216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2" h="21600">
                <a:moveTo>
                  <a:pt x="1081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22" h="21600">
                <a:moveTo>
                  <a:pt x="11916" y="14281"/>
                </a:moveTo>
                <a:lnTo>
                  <a:pt x="11916" y="12323"/>
                </a:lnTo>
                <a:cubicBezTo>
                  <a:pt x="11916" y="11496"/>
                  <a:pt x="12247" y="10800"/>
                  <a:pt x="12848" y="10800"/>
                </a:cubicBezTo>
                <a:cubicBezTo>
                  <a:pt x="13979" y="10800"/>
                  <a:pt x="14876" y="9434"/>
                  <a:pt x="14876" y="7849"/>
                </a:cubicBezTo>
                <a:cubicBezTo>
                  <a:pt x="14876" y="5534"/>
                  <a:pt x="13022" y="3794"/>
                  <a:pt x="10811" y="3794"/>
                </a:cubicBezTo>
                <a:cubicBezTo>
                  <a:pt x="8600" y="3794"/>
                  <a:pt x="6929" y="5534"/>
                  <a:pt x="6929" y="7849"/>
                </a:cubicBezTo>
                <a:lnTo>
                  <a:pt x="8783" y="7849"/>
                </a:lnTo>
                <a:cubicBezTo>
                  <a:pt x="8783" y="6709"/>
                  <a:pt x="9706" y="5821"/>
                  <a:pt x="10811" y="5821"/>
                </a:cubicBezTo>
                <a:cubicBezTo>
                  <a:pt x="11916" y="5821"/>
                  <a:pt x="12848" y="6709"/>
                  <a:pt x="12848" y="7849"/>
                </a:cubicBezTo>
                <a:cubicBezTo>
                  <a:pt x="12848" y="8589"/>
                  <a:pt x="12378" y="9320"/>
                  <a:pt x="11916" y="9320"/>
                </a:cubicBezTo>
                <a:cubicBezTo>
                  <a:pt x="10811" y="9320"/>
                  <a:pt x="9706" y="10800"/>
                  <a:pt x="9706" y="12323"/>
                </a:cubicBezTo>
                <a:lnTo>
                  <a:pt x="9706" y="14281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96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Какое транспортное средство называется маршрутным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28760" y="1785960"/>
            <a:ext cx="8229600" cy="45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а. Транспортное средство, кроме мопеда, приводимое в движение двигателем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б. Устройство, предназначенное для перевозки по дорогам людей, грузов или оборудования, установленного на нём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в. Транспортное средство общего пользования (автобус, троллейбус, трамвай), предназначенное для перевозки по дорогам людей и движущееся по установленному маршруту с обозначенными местами остановок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Управляющая кнопка: справка 3">
            <a:hlinkClick r:id="rId4" action="ppaction://hlinksldjump"/>
          </p:cNvPr>
          <p:cNvSpPr/>
          <p:nvPr/>
        </p:nvSpPr>
        <p:spPr>
          <a:xfrm>
            <a:off x="214200" y="6357960"/>
            <a:ext cx="357480" cy="357120"/>
          </a:xfrm>
          <a:custGeom>
            <a:avLst/>
            <a:gdLst>
              <a:gd name="textAreaLeft" fmla="*/ 23040 w 357480"/>
              <a:gd name="textAreaRight" fmla="*/ 334440 w 35748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1622" h="21600">
                <a:moveTo>
                  <a:pt x="0" y="0"/>
                </a:moveTo>
                <a:lnTo>
                  <a:pt x="21622" y="0"/>
                </a:lnTo>
                <a:lnTo>
                  <a:pt x="21622" y="21600"/>
                </a:lnTo>
                <a:lnTo>
                  <a:pt x="0" y="21600"/>
                </a:lnTo>
                <a:close/>
              </a:path>
              <a:path fill="lightenLess" w="21622" h="21600">
                <a:moveTo>
                  <a:pt x="0" y="0"/>
                </a:moveTo>
                <a:lnTo>
                  <a:pt x="21622" y="0"/>
                </a:lnTo>
                <a:lnTo>
                  <a:pt x="20222" y="1400"/>
                </a:lnTo>
                <a:lnTo>
                  <a:pt x="1400" y="1400"/>
                </a:lnTo>
                <a:close/>
              </a:path>
              <a:path fill="darken" w="21622" h="21600">
                <a:moveTo>
                  <a:pt x="21622" y="0"/>
                </a:moveTo>
                <a:lnTo>
                  <a:pt x="21622" y="21600"/>
                </a:lnTo>
                <a:lnTo>
                  <a:pt x="20222" y="20200"/>
                </a:lnTo>
                <a:lnTo>
                  <a:pt x="20222" y="1400"/>
                </a:lnTo>
                <a:close/>
              </a:path>
              <a:path fill="darkenLess" w="21622" h="21600">
                <a:moveTo>
                  <a:pt x="216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2" y="20200"/>
                </a:lnTo>
                <a:close/>
              </a:path>
              <a:path fill="lighten" w="216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2" h="21600">
                <a:moveTo>
                  <a:pt x="1081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22" h="21600">
                <a:moveTo>
                  <a:pt x="11916" y="14281"/>
                </a:moveTo>
                <a:lnTo>
                  <a:pt x="11916" y="12323"/>
                </a:lnTo>
                <a:cubicBezTo>
                  <a:pt x="11916" y="11496"/>
                  <a:pt x="12247" y="10800"/>
                  <a:pt x="12848" y="10800"/>
                </a:cubicBezTo>
                <a:cubicBezTo>
                  <a:pt x="13979" y="10800"/>
                  <a:pt x="14876" y="9434"/>
                  <a:pt x="14876" y="7849"/>
                </a:cubicBezTo>
                <a:cubicBezTo>
                  <a:pt x="14876" y="5534"/>
                  <a:pt x="13022" y="3794"/>
                  <a:pt x="10811" y="3794"/>
                </a:cubicBezTo>
                <a:cubicBezTo>
                  <a:pt x="8600" y="3794"/>
                  <a:pt x="6929" y="5534"/>
                  <a:pt x="6929" y="7849"/>
                </a:cubicBezTo>
                <a:lnTo>
                  <a:pt x="8783" y="7849"/>
                </a:lnTo>
                <a:cubicBezTo>
                  <a:pt x="8783" y="6709"/>
                  <a:pt x="9706" y="5821"/>
                  <a:pt x="10811" y="5821"/>
                </a:cubicBezTo>
                <a:cubicBezTo>
                  <a:pt x="11916" y="5821"/>
                  <a:pt x="12848" y="6709"/>
                  <a:pt x="12848" y="7849"/>
                </a:cubicBezTo>
                <a:cubicBezTo>
                  <a:pt x="12848" y="8589"/>
                  <a:pt x="12378" y="9320"/>
                  <a:pt x="11916" y="9320"/>
                </a:cubicBezTo>
                <a:cubicBezTo>
                  <a:pt x="10811" y="9320"/>
                  <a:pt x="9706" y="10800"/>
                  <a:pt x="9706" y="12323"/>
                </a:cubicBezTo>
                <a:lnTo>
                  <a:pt x="9706" y="14281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5b3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По какой полосе дороги должны двигаться велосипедисты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928520"/>
            <a:ext cx="8229600" cy="25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По той, на которой меньше всего транспор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По крайней право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По крайней лево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Управляющая кнопка: справка 3">
            <a:hlinkClick r:id="rId4" action="ppaction://hlinksldjump"/>
          </p:cNvPr>
          <p:cNvSpPr/>
          <p:nvPr/>
        </p:nvSpPr>
        <p:spPr>
          <a:xfrm>
            <a:off x="214200" y="6357960"/>
            <a:ext cx="357480" cy="357120"/>
          </a:xfrm>
          <a:custGeom>
            <a:avLst/>
            <a:gdLst>
              <a:gd name="textAreaLeft" fmla="*/ 23040 w 357480"/>
              <a:gd name="textAreaRight" fmla="*/ 334440 w 35748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1622" h="21600">
                <a:moveTo>
                  <a:pt x="0" y="0"/>
                </a:moveTo>
                <a:lnTo>
                  <a:pt x="21622" y="0"/>
                </a:lnTo>
                <a:lnTo>
                  <a:pt x="21622" y="21600"/>
                </a:lnTo>
                <a:lnTo>
                  <a:pt x="0" y="21600"/>
                </a:lnTo>
                <a:close/>
              </a:path>
              <a:path fill="lightenLess" w="21622" h="21600">
                <a:moveTo>
                  <a:pt x="0" y="0"/>
                </a:moveTo>
                <a:lnTo>
                  <a:pt x="21622" y="0"/>
                </a:lnTo>
                <a:lnTo>
                  <a:pt x="20222" y="1400"/>
                </a:lnTo>
                <a:lnTo>
                  <a:pt x="1400" y="1400"/>
                </a:lnTo>
                <a:close/>
              </a:path>
              <a:path fill="darken" w="21622" h="21600">
                <a:moveTo>
                  <a:pt x="21622" y="0"/>
                </a:moveTo>
                <a:lnTo>
                  <a:pt x="21622" y="21600"/>
                </a:lnTo>
                <a:lnTo>
                  <a:pt x="20222" y="20200"/>
                </a:lnTo>
                <a:lnTo>
                  <a:pt x="20222" y="1400"/>
                </a:lnTo>
                <a:close/>
              </a:path>
              <a:path fill="darkenLess" w="21622" h="21600">
                <a:moveTo>
                  <a:pt x="216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2" y="20200"/>
                </a:lnTo>
                <a:close/>
              </a:path>
              <a:path fill="lighten" w="216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2" h="21600">
                <a:moveTo>
                  <a:pt x="1081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22" h="21600">
                <a:moveTo>
                  <a:pt x="11916" y="14281"/>
                </a:moveTo>
                <a:lnTo>
                  <a:pt x="11916" y="12323"/>
                </a:lnTo>
                <a:cubicBezTo>
                  <a:pt x="11916" y="11496"/>
                  <a:pt x="12247" y="10800"/>
                  <a:pt x="12848" y="10800"/>
                </a:cubicBezTo>
                <a:cubicBezTo>
                  <a:pt x="13979" y="10800"/>
                  <a:pt x="14876" y="9434"/>
                  <a:pt x="14876" y="7849"/>
                </a:cubicBezTo>
                <a:cubicBezTo>
                  <a:pt x="14876" y="5534"/>
                  <a:pt x="13022" y="3794"/>
                  <a:pt x="10811" y="3794"/>
                </a:cubicBezTo>
                <a:cubicBezTo>
                  <a:pt x="8600" y="3794"/>
                  <a:pt x="6929" y="5534"/>
                  <a:pt x="6929" y="7849"/>
                </a:cubicBezTo>
                <a:lnTo>
                  <a:pt x="8783" y="7849"/>
                </a:lnTo>
                <a:cubicBezTo>
                  <a:pt x="8783" y="6709"/>
                  <a:pt x="9706" y="5821"/>
                  <a:pt x="10811" y="5821"/>
                </a:cubicBezTo>
                <a:cubicBezTo>
                  <a:pt x="11916" y="5821"/>
                  <a:pt x="12848" y="6709"/>
                  <a:pt x="12848" y="7849"/>
                </a:cubicBezTo>
                <a:cubicBezTo>
                  <a:pt x="12848" y="8589"/>
                  <a:pt x="12378" y="9320"/>
                  <a:pt x="11916" y="9320"/>
                </a:cubicBezTo>
                <a:cubicBezTo>
                  <a:pt x="10811" y="9320"/>
                  <a:pt x="9706" y="10800"/>
                  <a:pt x="9706" y="12323"/>
                </a:cubicBezTo>
                <a:lnTo>
                  <a:pt x="9706" y="14281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Рисунок 3" descr="6.jpg"/>
          <p:cNvPicPr/>
          <p:nvPr/>
        </p:nvPicPr>
        <p:blipFill>
          <a:blip r:embed="rId5"/>
          <a:stretch/>
        </p:blipFill>
        <p:spPr>
          <a:xfrm>
            <a:off x="3886200" y="4572000"/>
            <a:ext cx="475776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5b3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7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На каком рисунке машины не нарушают правила дорожного движения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2214720"/>
            <a:ext cx="8229600" cy="200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На левом рисунк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На правом рисунк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На обоих рисунка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Управляющая кнопка: справка 3">
            <a:hlinkClick r:id="rId4" action="ppaction://hlinksldjump"/>
          </p:cNvPr>
          <p:cNvSpPr/>
          <p:nvPr/>
        </p:nvSpPr>
        <p:spPr>
          <a:xfrm>
            <a:off x="214200" y="6357960"/>
            <a:ext cx="357480" cy="357120"/>
          </a:xfrm>
          <a:custGeom>
            <a:avLst/>
            <a:gdLst>
              <a:gd name="textAreaLeft" fmla="*/ 23040 w 357480"/>
              <a:gd name="textAreaRight" fmla="*/ 334440 w 35748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1622" h="21600">
                <a:moveTo>
                  <a:pt x="0" y="0"/>
                </a:moveTo>
                <a:lnTo>
                  <a:pt x="21622" y="0"/>
                </a:lnTo>
                <a:lnTo>
                  <a:pt x="21622" y="21600"/>
                </a:lnTo>
                <a:lnTo>
                  <a:pt x="0" y="21600"/>
                </a:lnTo>
                <a:close/>
              </a:path>
              <a:path fill="lightenLess" w="21622" h="21600">
                <a:moveTo>
                  <a:pt x="0" y="0"/>
                </a:moveTo>
                <a:lnTo>
                  <a:pt x="21622" y="0"/>
                </a:lnTo>
                <a:lnTo>
                  <a:pt x="20222" y="1400"/>
                </a:lnTo>
                <a:lnTo>
                  <a:pt x="1400" y="1400"/>
                </a:lnTo>
                <a:close/>
              </a:path>
              <a:path fill="darken" w="21622" h="21600">
                <a:moveTo>
                  <a:pt x="21622" y="0"/>
                </a:moveTo>
                <a:lnTo>
                  <a:pt x="21622" y="21600"/>
                </a:lnTo>
                <a:lnTo>
                  <a:pt x="20222" y="20200"/>
                </a:lnTo>
                <a:lnTo>
                  <a:pt x="20222" y="1400"/>
                </a:lnTo>
                <a:close/>
              </a:path>
              <a:path fill="darkenLess" w="21622" h="21600">
                <a:moveTo>
                  <a:pt x="216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2" y="20200"/>
                </a:lnTo>
                <a:close/>
              </a:path>
              <a:path fill="lighten" w="216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2" h="21600">
                <a:moveTo>
                  <a:pt x="1081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22" h="21600">
                <a:moveTo>
                  <a:pt x="11916" y="14281"/>
                </a:moveTo>
                <a:lnTo>
                  <a:pt x="11916" y="12323"/>
                </a:lnTo>
                <a:cubicBezTo>
                  <a:pt x="11916" y="11496"/>
                  <a:pt x="12247" y="10800"/>
                  <a:pt x="12848" y="10800"/>
                </a:cubicBezTo>
                <a:cubicBezTo>
                  <a:pt x="13979" y="10800"/>
                  <a:pt x="14876" y="9434"/>
                  <a:pt x="14876" y="7849"/>
                </a:cubicBezTo>
                <a:cubicBezTo>
                  <a:pt x="14876" y="5534"/>
                  <a:pt x="13022" y="3794"/>
                  <a:pt x="10811" y="3794"/>
                </a:cubicBezTo>
                <a:cubicBezTo>
                  <a:pt x="8600" y="3794"/>
                  <a:pt x="6929" y="5534"/>
                  <a:pt x="6929" y="7849"/>
                </a:cubicBezTo>
                <a:lnTo>
                  <a:pt x="8783" y="7849"/>
                </a:lnTo>
                <a:cubicBezTo>
                  <a:pt x="8783" y="6709"/>
                  <a:pt x="9706" y="5821"/>
                  <a:pt x="10811" y="5821"/>
                </a:cubicBezTo>
                <a:cubicBezTo>
                  <a:pt x="11916" y="5821"/>
                  <a:pt x="12848" y="6709"/>
                  <a:pt x="12848" y="7849"/>
                </a:cubicBezTo>
                <a:cubicBezTo>
                  <a:pt x="12848" y="8589"/>
                  <a:pt x="12378" y="9320"/>
                  <a:pt x="11916" y="9320"/>
                </a:cubicBezTo>
                <a:cubicBezTo>
                  <a:pt x="10811" y="9320"/>
                  <a:pt x="9706" y="10800"/>
                  <a:pt x="9706" y="12323"/>
                </a:cubicBezTo>
                <a:lnTo>
                  <a:pt x="9706" y="14281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Рисунок 3" descr="8.jpg"/>
          <p:cNvPicPr/>
          <p:nvPr/>
        </p:nvPicPr>
        <p:blipFill>
          <a:blip r:embed="rId5"/>
          <a:stretch/>
        </p:blipFill>
        <p:spPr>
          <a:xfrm>
            <a:off x="3571920" y="4143240"/>
            <a:ext cx="4843440" cy="22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09:29:00Z</dcterms:created>
  <dc:creator>Владелец</dc:creator>
  <dc:description/>
  <dc:language>en-US</dc:language>
  <cp:lastModifiedBy>DmitriyD</cp:lastModifiedBy>
  <dcterms:modified xsi:type="dcterms:W3CDTF">2012-01-31T15:49:16Z</dcterms:modified>
  <cp:revision>31</cp:revision>
  <dc:subject/>
  <dc:title>Слайд 1</dc:title>
</cp:coreProperties>
</file>