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4CD-BDD0-4621-AF4C-A2BE7BD4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827-5614-40D3-A5A7-9AFE0EA4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43D-D3BF-443D-AD7F-AAC73EE6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106-CCD8-4133-8A43-71D231E9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4FE-9109-4A7A-A58E-410E701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A3C-F1CB-4548-8E10-39771A5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33E-5386-4ECE-87AE-3129D2B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1D6-841F-404E-BEA7-1B908E4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64B-D6D2-43C6-9A44-A1A622F6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AA5-401C-4904-969C-B087AA1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A9E-7D4D-4B35-9722-F7500BE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4C6-B623-480C-B998-E123333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188-B030-4D30-85B4-A12AEAA90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илова Ольга Валерье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Электросталь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DmitriyD</cp:lastModifiedBy>
  <dcterms:modified xsi:type="dcterms:W3CDTF">2012-01-31T15:49:16Z</dcterms:modified>
  <cp:revision>31</cp:revision>
  <dc:subject/>
  <dc:title>Слайд 1</dc:title>
</cp:coreProperties>
</file>