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3.gif" ContentType="image/gif"/>
  <Override PartName="/ppt/media/image16.png" ContentType="image/png"/>
  <Override PartName="/ppt/media/image49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gif" ContentType="image/gif"/>
  <Override PartName="/ppt/media/image2.png" ContentType="image/png"/>
  <Override PartName="/ppt/media/image11.jpeg" ContentType="image/jpeg"/>
  <Override PartName="/ppt/media/image10.gif" ContentType="image/gif"/>
  <Override PartName="/ppt/media/image33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9.png" ContentType="image/png"/>
  <Override PartName="/ppt/media/image41.png" ContentType="image/pn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9.gif" ContentType="image/gif"/>
  <Override PartName="/ppt/media/image4.png" ContentType="image/png"/>
  <Override PartName="/ppt/media/image12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25.gif" ContentType="image/gif"/>
  <Override PartName="/ppt/media/image18.png" ContentType="image/pn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D36-1609-436D-9973-8AF15B14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04A-C361-4907-80A6-D0BBCDBC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9FF-0892-4CAE-9317-C41BA430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2C1-A061-4745-A2E7-211405FF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ED64-7A82-49D7-A289-D2195512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AD2B-0969-4AC8-8799-A07AC673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0DF8-B047-4EAE-89CB-659F2A8A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BD8D-2B43-42E9-A15D-4D7EEAC9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62A5-9E9F-4D02-ADBD-B25A2747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BF7D-053A-4350-A152-3EE5934B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BA4D-E204-47DA-9CD4-85DE858D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43D-76D6-4419-B79C-6803625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BFA1-D4B2-4F2E-B167-7865112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998D-802F-4743-9654-C01066C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96A9-F568-48E5-AA00-C097F3B5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1CAD-15E0-4FBD-BB78-4E100E05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2766-9E42-4EF5-8FD4-42DB2376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1B2-04EB-4BE9-85CB-060A9940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15C-2970-4FF7-8A13-FE2C1B9F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96A-BBCA-4996-A094-5EF2175F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D9C-C0E8-4F2C-B77E-5DA37179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5B1-A2E6-4DF6-A562-106242A2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6F7-E5E4-4582-B64A-70001948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C6E-049F-4C41-B9AF-D4A85BA8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E630-E96F-4533-AE39-D04542FBC2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B622-DB07-403A-99B0-E68FA85493A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hyperlink" Target="http://smiles.33b.ru/smile.20434.html" TargetMode="External"/><Relationship Id="rId4" Type="http://schemas.openxmlformats.org/officeDocument/2006/relationships/image" Target="../media/image23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smiles.33b.ru/smile.20435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12760" y="152280"/>
            <a:ext cx="7351560" cy="242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925560" y="2741760"/>
            <a:ext cx="7291440" cy="1311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857240" y="22320"/>
            <a:ext cx="5643720" cy="683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79"/>
          <p:cNvPicPr/>
          <p:nvPr/>
        </p:nvPicPr>
        <p:blipFill>
          <a:blip r:embed="rId2"/>
          <a:stretch/>
        </p:blipFill>
        <p:spPr>
          <a:xfrm>
            <a:off x="4429080" y="228600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ttp://s2.rimg.info/9b5d53b12861b06de95d78e03781d00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3720" y="4286160"/>
            <a:ext cx="1306440" cy="12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s2.rimg.info/87e0156a94705012f409a083618740bb.gif"/>
          <p:cNvPicPr/>
          <p:nvPr/>
        </p:nvPicPr>
        <p:blipFill>
          <a:blip r:embed="rId5"/>
          <a:stretch/>
        </p:blipFill>
        <p:spPr>
          <a:xfrm>
            <a:off x="3929040" y="1143000"/>
            <a:ext cx="866880" cy="676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76a3"/>
                </a:solidFill>
                <a:latin typeface="Times New Roman"/>
              </a:rPr>
              <a:t>Взаимодействие океана, атмосферы и суш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5" descr="Атлантический океан поверхность"/>
          <p:cNvPicPr/>
          <p:nvPr/>
        </p:nvPicPr>
        <p:blipFill>
          <a:blip r:embed="rId1"/>
          <a:stretch/>
        </p:blipFill>
        <p:spPr>
          <a:xfrm>
            <a:off x="3500280" y="2143080"/>
            <a:ext cx="4017960" cy="3929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блако"/>
          <p:cNvPicPr/>
          <p:nvPr/>
        </p:nvPicPr>
        <p:blipFill>
          <a:blip r:embed="rId2"/>
          <a:stretch/>
        </p:blipFill>
        <p:spPr>
          <a:xfrm>
            <a:off x="500040" y="21430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2" name="Picture 3" descr="D:\Мои документы\Мои рисунки\Wallpapers\CoXtreme_Wallpaper_Pack\антаркти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Сергей\Рабочий стол\10k00029i.bmp"/>
          <p:cNvPicPr/>
          <p:nvPr/>
        </p:nvPicPr>
        <p:blipFill>
          <a:blip r:embed="rId2"/>
          <a:stretch/>
        </p:blipFill>
        <p:spPr>
          <a:xfrm>
            <a:off x="4888080" y="3838680"/>
            <a:ext cx="347004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Бермудский треугольни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8" name="Picture 5" descr="Бермудский Треугольник"/>
          <p:cNvPicPr/>
          <p:nvPr/>
        </p:nvPicPr>
        <p:blipFill>
          <a:blip r:embed="rId1"/>
          <a:stretch/>
        </p:blipFill>
        <p:spPr>
          <a:xfrm>
            <a:off x="2286000" y="1500120"/>
            <a:ext cx="4621320" cy="5214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Саргассово море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Саргассовы водоросл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0" name="Picture 2" descr="http://relax.wild-mistress.ru/wm/relax.nsf/publicall/DF5D5263547E945AC325757000363EFA/$File/1.jpg"/>
          <p:cNvPicPr/>
          <p:nvPr/>
        </p:nvPicPr>
        <p:blipFill>
          <a:blip r:embed="rId1"/>
          <a:stretch/>
        </p:blipFill>
        <p:spPr>
          <a:xfrm>
            <a:off x="2214720" y="1785960"/>
            <a:ext cx="4786200" cy="4827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4617b"/>
                </a:solidFill>
                <a:latin typeface="Calibri"/>
              </a:rPr>
              <a:t>Органический мир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2" name="Picture 4" descr="Sebastes chlorostictus"/>
          <p:cNvPicPr/>
          <p:nvPr/>
        </p:nvPicPr>
        <p:blipFill>
          <a:blip r:embed="rId1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Атлантическая треска"/>
          <p:cNvPicPr/>
          <p:nvPr/>
        </p:nvPicPr>
        <p:blipFill>
          <a:blip r:embed="rId3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5" name="Picture 2" descr="C:\Documents and Settings\Сергей\Рабочий стол\05B0011i.bmp"/>
          <p:cNvPicPr/>
          <p:nvPr/>
        </p:nvPicPr>
        <p:blipFill>
          <a:blip r:embed="rId4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2" descr="D:\Мои документы\Мои рисунки\Wallpapers\sky1.jpg"/>
          <p:cNvPicPr/>
          <p:nvPr/>
        </p:nvPicPr>
        <p:blipFill>
          <a:blip r:embed="rId1"/>
          <a:stretch/>
        </p:blipFill>
        <p:spPr>
          <a:xfrm>
            <a:off x="0" y="-15840"/>
            <a:ext cx="9209160" cy="687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Documents and Settings\Сергей\Рабочий стол\k_541i.bmp"/>
          <p:cNvPicPr/>
          <p:nvPr/>
        </p:nvPicPr>
        <p:blipFill>
          <a:blip r:embed="rId2"/>
          <a:stretch/>
        </p:blipFill>
        <p:spPr>
          <a:xfrm rot="21051000">
            <a:off x="192240" y="4081320"/>
            <a:ext cx="2342880" cy="2606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Сергей\Рабочий стол\a6773i.bmp"/>
          <p:cNvPicPr/>
          <p:nvPr/>
        </p:nvPicPr>
        <p:blipFill>
          <a:blip r:embed="rId3"/>
          <a:stretch/>
        </p:blipFill>
        <p:spPr>
          <a:xfrm>
            <a:off x="3071880" y="3571920"/>
            <a:ext cx="3068640" cy="3128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Сергей\Рабочий стол\t_534i.bmp"/>
          <p:cNvPicPr/>
          <p:nvPr/>
        </p:nvPicPr>
        <p:blipFill>
          <a:blip r:embed="rId4"/>
          <a:stretch/>
        </p:blipFill>
        <p:spPr>
          <a:xfrm rot="493800">
            <a:off x="6392520" y="4049280"/>
            <a:ext cx="2382840" cy="2651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Атланти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571680" y="50004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ХОЗЯЙСТВЕН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ДЕЯТЕЛЬ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Рыбный промысел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7" name="Picture 2" descr="C:\Documents and Settings\Сергей\Рабочий стол\05B0011i.bmp"/>
          <p:cNvPicPr/>
          <p:nvPr/>
        </p:nvPicPr>
        <p:blipFill>
          <a:blip r:embed="rId1"/>
          <a:stretch/>
        </p:blipFill>
        <p:spPr>
          <a:xfrm>
            <a:off x="1143000" y="1908000"/>
            <a:ext cx="2286000" cy="170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Сельдь"/>
          <p:cNvPicPr/>
          <p:nvPr/>
        </p:nvPicPr>
        <p:blipFill>
          <a:blip r:embed="rId2"/>
          <a:stretch/>
        </p:blipFill>
        <p:spPr>
          <a:xfrm>
            <a:off x="5072040" y="1928880"/>
            <a:ext cx="3000240" cy="17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Sebastes chlorostictus"/>
          <p:cNvPicPr/>
          <p:nvPr/>
        </p:nvPicPr>
        <p:blipFill>
          <a:blip r:embed="rId3"/>
          <a:stretch/>
        </p:blipFill>
        <p:spPr>
          <a:xfrm>
            <a:off x="714240" y="3429000"/>
            <a:ext cx="4167360" cy="278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Атлантическая треска"/>
          <p:cNvPicPr/>
          <p:nvPr/>
        </p:nvPicPr>
        <p:blipFill>
          <a:blip r:embed="rId4"/>
          <a:stretch/>
        </p:blipFill>
        <p:spPr>
          <a:xfrm>
            <a:off x="4500720" y="4143240"/>
            <a:ext cx="3984480" cy="170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арта Атлантиды из «Мундус Субтерануес» Р.А. Кирхера (1665 г.)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4" descr="Карта Атлантиды из «Мундус Субтерануес» Р.А.Кирхера (1665 год)"/>
          <p:cNvPicPr/>
          <p:nvPr/>
        </p:nvPicPr>
        <p:blipFill>
          <a:blip r:embed="rId1"/>
          <a:stretch/>
        </p:blipFill>
        <p:spPr>
          <a:xfrm>
            <a:off x="1214280" y="2143080"/>
            <a:ext cx="6643800" cy="44071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857160" y="57168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та Атлантиды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Мундус Субтерануес» Р.А. Кирхера (1665 г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Транспортные пут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2" name="Picture 4" descr="C:\Documents and Settings\Сергей\Рабочий стол\eg_43i.bmp"/>
          <p:cNvPicPr/>
          <p:nvPr/>
        </p:nvPicPr>
        <p:blipFill>
          <a:blip r:embed="rId1"/>
          <a:stretch/>
        </p:blipFill>
        <p:spPr>
          <a:xfrm rot="20987400">
            <a:off x="687240" y="2472840"/>
            <a:ext cx="3630600" cy="271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Сергей\Рабочий стол\BE50032i.bmp"/>
          <p:cNvPicPr/>
          <p:nvPr/>
        </p:nvPicPr>
        <p:blipFill>
          <a:blip r:embed="rId2"/>
          <a:stretch/>
        </p:blipFill>
        <p:spPr>
          <a:xfrm rot="713400">
            <a:off x="5160600" y="2118960"/>
            <a:ext cx="3508200" cy="261936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6" descr=""/>
          <p:cNvPicPr/>
          <p:nvPr/>
        </p:nvPicPr>
        <p:blipFill>
          <a:blip r:embed="rId3"/>
          <a:stretch/>
        </p:blipFill>
        <p:spPr>
          <a:xfrm>
            <a:off x="-55440" y="5572080"/>
            <a:ext cx="4981320" cy="106668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7" descr=""/>
          <p:cNvPicPr/>
          <p:nvPr/>
        </p:nvPicPr>
        <p:blipFill>
          <a:blip r:embed="rId4"/>
          <a:stretch/>
        </p:blipFill>
        <p:spPr>
          <a:xfrm>
            <a:off x="3571920" y="5072040"/>
            <a:ext cx="5572080" cy="968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Добыча </a:t>
            </a:r>
            <a:br>
              <a:rPr sz="5400"/>
            </a:b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полезных ископаемых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40320" y="2671920"/>
            <a:ext cx="170172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40320" y="2671920"/>
            <a:ext cx="18889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714240" y="2349360"/>
            <a:ext cx="2643480" cy="419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Картинка 2 из 40"/>
          <p:cNvPicPr/>
          <p:nvPr/>
        </p:nvPicPr>
        <p:blipFill>
          <a:blip r:embed="rId2"/>
          <a:stretch/>
        </p:blipFill>
        <p:spPr>
          <a:xfrm>
            <a:off x="3571920" y="2143080"/>
            <a:ext cx="528624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Рекреационные ресурс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2" name="Picture 5" descr="Картинка 20 из 4062"/>
          <p:cNvPicPr/>
          <p:nvPr/>
        </p:nvPicPr>
        <p:blipFill>
          <a:blip r:embed="rId1"/>
          <a:stretch/>
        </p:blipFill>
        <p:spPr>
          <a:xfrm rot="562800">
            <a:off x="214200" y="3071880"/>
            <a:ext cx="5077080" cy="34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Картинка 23 из 4062"/>
          <p:cNvPicPr/>
          <p:nvPr/>
        </p:nvPicPr>
        <p:blipFill>
          <a:blip r:embed="rId2"/>
          <a:stretch/>
        </p:blipFill>
        <p:spPr>
          <a:xfrm rot="20904600">
            <a:off x="3780000" y="2117520"/>
            <a:ext cx="5076720" cy="3371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Экологические пробл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5" name="Picture 5" descr="Картинка 10 из 471"/>
          <p:cNvPicPr/>
          <p:nvPr/>
        </p:nvPicPr>
        <p:blipFill>
          <a:blip r:embed="rId1"/>
          <a:stretch/>
        </p:blipFill>
        <p:spPr>
          <a:xfrm>
            <a:off x="357120" y="250020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Картинка 85 из 471"/>
          <p:cNvPicPr/>
          <p:nvPr/>
        </p:nvPicPr>
        <p:blipFill>
          <a:blip r:embed="rId2"/>
          <a:stretch/>
        </p:blipFill>
        <p:spPr>
          <a:xfrm>
            <a:off x="4214880" y="1785960"/>
            <a:ext cx="461952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Кто это? Что это?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аргассово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Викинг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кумбр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уэцк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Карибско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071600" y="1920960"/>
            <a:ext cx="4614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Мексикан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Гольфстри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Исланд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рединно-Атлантическ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Средиземное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§ 19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Номенклатура по Атлантическому океан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контурная карта – стр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2" name="Picture 14" descr="79"/>
          <p:cNvPicPr/>
          <p:nvPr/>
        </p:nvPicPr>
        <p:blipFill>
          <a:blip r:embed="rId1"/>
          <a:stretch/>
        </p:blipFill>
        <p:spPr>
          <a:xfrm>
            <a:off x="5819760" y="4071960"/>
            <a:ext cx="3324240" cy="258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2" descr="D:\Мои документы\Мои рисунки\Wallpapers\sk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785880" y="64296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Атлантический океан! Необозримая водная равнина, величественная водная гладь! Из конца в конец бороздят эти воды корабли всех стран, под флагами  всех наций мира, и охраняют их два огромных стража, внушающих страх мореплавателям, - мыс Горн и мыс Бур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Жюль  Ве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Сергей\Рабочий стол\v03015i.bmp"/>
          <p:cNvPicPr/>
          <p:nvPr/>
        </p:nvPicPr>
        <p:blipFill>
          <a:blip r:embed="rId2"/>
          <a:stretch/>
        </p:blipFill>
        <p:spPr>
          <a:xfrm>
            <a:off x="571680" y="47149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http://s2.rimg.info/87e0156a94705012f409a083618740bb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5280" y="4929120"/>
            <a:ext cx="2104920" cy="16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ПЛАН 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Географическое положение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История исследования оке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Особенности природ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Хозяйственная деятель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Происхожде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20960"/>
            <a:ext cx="4686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мый молодой океан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овался окол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 млн. лет назад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 распаде Гондва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" name="Picture 8" descr="globus"/>
          <p:cNvPicPr/>
          <p:nvPr/>
        </p:nvPicPr>
        <p:blipFill>
          <a:blip r:embed="rId1"/>
          <a:stretch/>
        </p:blipFill>
        <p:spPr>
          <a:xfrm>
            <a:off x="5929200" y="2928960"/>
            <a:ext cx="1413000" cy="14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Рельеф</a:t>
            </a:r>
            <a:br>
              <a:rPr sz="6600"/>
            </a:b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     дна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чти посередине океана проходит Срединно -Атлантический хреб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лина – 17000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Ложе – океанические равн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4" descr="atlantic-ocean"/>
          <p:cNvPicPr/>
          <p:nvPr/>
        </p:nvPicPr>
        <p:blipFill>
          <a:blip r:embed="rId1"/>
          <a:stretch/>
        </p:blipFill>
        <p:spPr>
          <a:xfrm>
            <a:off x="4357800" y="428760"/>
            <a:ext cx="4620960" cy="6114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История 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исследования океа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Парус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лад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икинг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Picture 5" descr="C:\Documents and Settings\Сергей\Рабочий стол\v03017i.bmp"/>
          <p:cNvPicPr/>
          <p:nvPr/>
        </p:nvPicPr>
        <p:blipFill>
          <a:blip r:embed="rId1"/>
          <a:stretch/>
        </p:blipFill>
        <p:spPr>
          <a:xfrm>
            <a:off x="2786040" y="2071800"/>
            <a:ext cx="5143680" cy="3840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Эпоха Великих </a:t>
            </a:r>
            <a:br>
              <a:rPr sz="5400"/>
            </a:b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географических открытий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2" descr="C:\Documents and Settings\Сергей\Рабочий стол\k03039i.bmp"/>
          <p:cNvPicPr/>
          <p:nvPr/>
        </p:nvPicPr>
        <p:blipFill>
          <a:blip r:embed="rId1"/>
          <a:stretch/>
        </p:blipFill>
        <p:spPr>
          <a:xfrm rot="21150600">
            <a:off x="731880" y="2641320"/>
            <a:ext cx="2343240" cy="2608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Сергей\Рабочий стол\gama2i.bmp"/>
          <p:cNvPicPr/>
          <p:nvPr/>
        </p:nvPicPr>
        <p:blipFill>
          <a:blip r:embed="rId2"/>
          <a:stretch/>
        </p:blipFill>
        <p:spPr>
          <a:xfrm>
            <a:off x="3571920" y="2214720"/>
            <a:ext cx="2282760" cy="2539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Сергей\Рабочий стол\Pm01134.bmp"/>
          <p:cNvPicPr/>
          <p:nvPr/>
        </p:nvPicPr>
        <p:blipFill>
          <a:blip r:embed="rId3"/>
          <a:stretch/>
        </p:blipFill>
        <p:spPr>
          <a:xfrm rot="400800">
            <a:off x="6289200" y="3130560"/>
            <a:ext cx="2390760" cy="266076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" descr=""/>
          <p:cNvPicPr/>
          <p:nvPr/>
        </p:nvPicPr>
        <p:blipFill>
          <a:blip r:embed="rId4"/>
          <a:stretch/>
        </p:blipFill>
        <p:spPr>
          <a:xfrm>
            <a:off x="396720" y="5181480"/>
            <a:ext cx="3205440" cy="1024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10" descr=""/>
          <p:cNvPicPr/>
          <p:nvPr/>
        </p:nvPicPr>
        <p:blipFill>
          <a:blip r:embed="rId5"/>
          <a:stretch/>
        </p:blipFill>
        <p:spPr>
          <a:xfrm>
            <a:off x="2359080" y="4784760"/>
            <a:ext cx="4638600" cy="7984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11" descr=""/>
          <p:cNvPicPr/>
          <p:nvPr/>
        </p:nvPicPr>
        <p:blipFill>
          <a:blip r:embed="rId6"/>
          <a:stretch/>
        </p:blipFill>
        <p:spPr>
          <a:xfrm>
            <a:off x="5499000" y="5681520"/>
            <a:ext cx="3791160" cy="1024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D:\Мои документы\Мои рисунки\Wallpapers\88.212.197.170_201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2"/>
          <a:stretch/>
        </p:blipFill>
        <p:spPr>
          <a:xfrm>
            <a:off x="139680" y="-36360"/>
            <a:ext cx="6651720" cy="287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5:34:50Z</dcterms:created>
  <dc:creator>Елена</dc:creator>
  <dc:description/>
  <dc:language>en-US</dc:language>
  <cp:lastModifiedBy>КарМаН</cp:lastModifiedBy>
  <dcterms:modified xsi:type="dcterms:W3CDTF">2012-02-11T12:01:21Z</dcterms:modified>
  <cp:revision>37</cp:revision>
  <dc:subject/>
  <dc:title>Слайд 1</dc:title>
</cp:coreProperties>
</file>