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7.jpeg" ContentType="image/jpeg"/>
  <Override PartName="/ppt/media/image28.jpeg" ContentType="image/jpeg"/>
  <Override PartName="/ppt/media/image34.jpeg" ContentType="image/jpeg"/>
  <Override PartName="/ppt/media/image12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E250D-CE13-4E6E-8CE4-1F3CCF54F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C88DF-7E62-4CE8-94BA-B3DCFB1B4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8AD1A-27BC-482D-BB6A-BB43FA801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8D71C-0223-40BF-8D55-77D0D1429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F898C-8CAB-42C2-976B-60A2DF501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97CE1-73BC-4B95-9E00-9A12C009E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CE467-8D77-449F-BD3C-137D0E90D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7F2BC-E033-4D98-A5B7-E1440CE0B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98054-3963-429E-9AD4-509D7BE67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E7673-239A-4777-8258-5AB4ADFEF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3BF12-8DBC-4421-A8CB-121FC871E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9080E-38F0-45BE-94B2-DEB219C15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C57D2-20E8-46C6-9FC0-9FB051A27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6ADF6-621B-46C2-809E-A5E32DCAD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003F6-6B5C-4ACF-8AF6-FCDB4FE6C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E2FF2-CCA5-4046-9D46-941CD12D9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CA83A-4EEB-4611-B245-EE2751DA2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F4EAF-426C-4617-9375-54BC17ED8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F12F6-21DB-40D9-9C72-3A2817C6D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2E672-24F6-48BB-BD24-00FD9DEB6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25792-C305-4420-9B40-A02EE1EE2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E3094-CC8D-4673-B457-90D8C7237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36593-3CB8-4038-968A-2A16E729B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45E67-585B-4B63-926B-4765DFE58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39920"/>
                <a:gd name="textAreaBottom" fmla="*/ 2240280 h 22399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029200"/>
                <a:gd name="textAreaBottom" fmla="*/ 5029560 h 5029200"/>
              </a:gdLst>
              <a:ahLst/>
              <a:rect l="textAreaLeft" t="textAreaTop" r="textAreaRight" b="textAreaBottom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03560"/>
                <a:gd name="textAreaBottom" fmla="*/ 2203920 h 220356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>
                <a:gd name="textAreaLeft" fmla="*/ 0 w 7313760"/>
                <a:gd name="textAreaRight" fmla="*/ 7314120 w 7313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833560"/>
                <a:gd name="textAreaBottom" fmla="*/ 2833920 h 283356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>
                <a:gd name="textAreaLeft" fmla="*/ 0 w 4570560"/>
                <a:gd name="textAreaRight" fmla="*/ 4570920 w 45705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A9E3C-B9D8-46C5-8CC0-2BB19C19C77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105520"/>
                <a:gd name="textAreaBottom" fmla="*/ 5105880 h 5105520"/>
              </a:gdLst>
              <a:ahLst/>
              <a:rect l="textAreaLeft" t="textAreaTop" r="textAreaRight" b="textAreaBottom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3048120"/>
                <a:gd name="textAreaBottom" fmla="*/ 3048480 h 30481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>
                <a:gd name="textAreaLeft" fmla="*/ 0 w 5484960"/>
                <a:gd name="textAreaRight" fmla="*/ 5485320 w 54849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>
                <a:gd name="textAreaLeft" fmla="*/ 0 w 7769520"/>
                <a:gd name="textAreaRight" fmla="*/ 7769880 w 776952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3108240"/>
                <a:gd name="textAreaBottom" fmla="*/ 3108600 h 31082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119920"/>
                <a:gd name="textAreaBottom" fmla="*/ 5120280 h 511992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68204-7592-4B2D-A506-E9BABFEF2835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image" Target="../media/image14.jpeg"/><Relationship Id="rId9" Type="http://schemas.openxmlformats.org/officeDocument/2006/relationships/image" Target="../media/image15.jpeg"/><Relationship Id="rId10" Type="http://schemas.openxmlformats.org/officeDocument/2006/relationships/image" Target="../media/image16.jpeg"/><Relationship Id="rId11" Type="http://schemas.openxmlformats.org/officeDocument/2006/relationships/image" Target="../media/image17.jpeg"/><Relationship Id="rId12" Type="http://schemas.openxmlformats.org/officeDocument/2006/relationships/image" Target="../media/image18.jpeg"/><Relationship Id="rId13" Type="http://schemas.openxmlformats.org/officeDocument/2006/relationships/image" Target="../media/image19.jpeg"/><Relationship Id="rId14" Type="http://schemas.openxmlformats.org/officeDocument/2006/relationships/image" Target="../media/image20.jpeg"/><Relationship Id="rId1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forum.hayastan.com/uploads/monthly_03_2008/post-23605-1205619353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download.loveradio.ru/pub/164262.jpg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gorod.tomsk.ru/2007/jul/mens_weekend6.jpg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9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5888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9900"/>
                </a:solidFill>
                <a:latin typeface="Arial Black"/>
              </a:rPr>
              <a:t>Здоровый образ жизни-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3616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00"/>
                </a:solidFill>
                <a:latin typeface="Arial"/>
              </a:rPr>
              <a:t>основа счастливого человека</a:t>
            </a:r>
            <a:r>
              <a:rPr b="1" lang="ru-RU" sz="4000" spc="-1" strike="noStrike">
                <a:solidFill>
                  <a:srgbClr val="0099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9900"/>
                </a:solidFill>
                <a:latin typeface="Arial"/>
              </a:rPr>
              <a:t>                                      </a:t>
            </a:r>
            <a:r>
              <a:rPr b="0" lang="ru-RU" sz="2000" spc="-1" strike="noStrike">
                <a:solidFill>
                  <a:srgbClr val="009900"/>
                </a:solidFill>
                <a:latin typeface="Arial"/>
              </a:rPr>
              <a:t>Автор разработки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9900"/>
                </a:solidFill>
                <a:latin typeface="Arial"/>
              </a:rPr>
              <a:t>Козлова Ирина Алексеевна учитель географии и биологии МАОУСОШ № 8 города Старая Русса Новгородской области</a:t>
            </a:r>
            <a:r>
              <a:rPr b="0" lang="ru-RU" sz="3200" spc="-1" strike="noStrike">
                <a:solidFill>
                  <a:srgbClr val="0099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50000">
              <a:srgbClr val="99ff66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5" descr="i?id=66083871&amp;tov=4"/>
          <p:cNvPicPr/>
          <p:nvPr/>
        </p:nvPicPr>
        <p:blipFill>
          <a:blip r:embed="rId1"/>
          <a:stretch/>
        </p:blipFill>
        <p:spPr>
          <a:xfrm rot="3353400">
            <a:off x="3645000" y="1916640"/>
            <a:ext cx="3059280" cy="455940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66"/>
                </a:solidFill>
                <a:latin typeface="Arial Black"/>
              </a:rPr>
              <a:t>Как закаляться, чтобы не простужаться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Нужно закаливаться постепенно, начиная с </a:t>
            </a:r>
            <a:r>
              <a:rPr b="1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секунд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 и заканчивая </a:t>
            </a:r>
            <a:r>
              <a:rPr b="1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минутам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Правильное питание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дно только поколение правильно питающихся людей возродит человечество и сделает болезни столь редким явлением, что на них будут смотреть, как на нечто необыкновенное. А молодому растущему организму еженедельно требуется 30 видов разнообразных продуктов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i?id=185658569&amp;tov=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3" descr="i?id=37165832&amp;tov=6"/>
          <p:cNvPicPr/>
          <p:nvPr/>
        </p:nvPicPr>
        <p:blipFill>
          <a:blip r:embed="rId2"/>
          <a:stretch/>
        </p:blipFill>
        <p:spPr>
          <a:xfrm rot="21095400">
            <a:off x="2133360" y="5358960"/>
            <a:ext cx="1904760" cy="14986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4" descr="i?id=85282625&amp;tov=0"/>
          <p:cNvPicPr/>
          <p:nvPr/>
        </p:nvPicPr>
        <p:blipFill>
          <a:blip r:embed="rId3"/>
          <a:stretch/>
        </p:blipFill>
        <p:spPr>
          <a:xfrm>
            <a:off x="6934320" y="4267080"/>
            <a:ext cx="1768320" cy="22669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5" descr="i?id=5574096&amp;tov=4"/>
          <p:cNvPicPr/>
          <p:nvPr/>
        </p:nvPicPr>
        <p:blipFill>
          <a:blip r:embed="rId4"/>
          <a:stretch/>
        </p:blipFill>
        <p:spPr>
          <a:xfrm rot="1306800">
            <a:off x="3657240" y="4267080"/>
            <a:ext cx="3124080" cy="19764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6" descr="i?id=145498711&amp;tov=8"/>
          <p:cNvPicPr/>
          <p:nvPr/>
        </p:nvPicPr>
        <p:blipFill>
          <a:blip r:embed="rId5"/>
          <a:stretch/>
        </p:blipFill>
        <p:spPr>
          <a:xfrm rot="1613400">
            <a:off x="304560" y="3276720"/>
            <a:ext cx="1460520" cy="17334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7" descr="i?id=93127506&amp;tov=3"/>
          <p:cNvPicPr/>
          <p:nvPr/>
        </p:nvPicPr>
        <p:blipFill>
          <a:blip r:embed="rId6"/>
          <a:stretch/>
        </p:blipFill>
        <p:spPr>
          <a:xfrm rot="20946600">
            <a:off x="5181120" y="380520"/>
            <a:ext cx="1847880" cy="18860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8" descr="i?id=7758744&amp;tov=8"/>
          <p:cNvPicPr/>
          <p:nvPr/>
        </p:nvPicPr>
        <p:blipFill>
          <a:blip r:embed="rId7"/>
          <a:stretch/>
        </p:blipFill>
        <p:spPr>
          <a:xfrm>
            <a:off x="3276720" y="1828800"/>
            <a:ext cx="5105160" cy="26049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9" descr="i?id=43421940&amp;tov=6"/>
          <p:cNvPicPr/>
          <p:nvPr/>
        </p:nvPicPr>
        <p:blipFill>
          <a:blip r:embed="rId8"/>
          <a:stretch/>
        </p:blipFill>
        <p:spPr>
          <a:xfrm rot="1992000">
            <a:off x="6171840" y="1371600"/>
            <a:ext cx="2514600" cy="25146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0" descr="i?id=182888925&amp;tov=8"/>
          <p:cNvPicPr/>
          <p:nvPr/>
        </p:nvPicPr>
        <p:blipFill>
          <a:blip r:embed="rId9"/>
          <a:stretch/>
        </p:blipFill>
        <p:spPr>
          <a:xfrm rot="1421400">
            <a:off x="3048120" y="533520"/>
            <a:ext cx="2114280" cy="15937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1" descr="i?id=83248998&amp;tov=0"/>
          <p:cNvPicPr/>
          <p:nvPr/>
        </p:nvPicPr>
        <p:blipFill>
          <a:blip r:embed="rId10"/>
          <a:stretch/>
        </p:blipFill>
        <p:spPr>
          <a:xfrm>
            <a:off x="0" y="5091120"/>
            <a:ext cx="2362320" cy="17668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2" descr="i?id=71550800&amp;tov=3"/>
          <p:cNvPicPr/>
          <p:nvPr/>
        </p:nvPicPr>
        <p:blipFill>
          <a:blip r:embed="rId11"/>
          <a:stretch/>
        </p:blipFill>
        <p:spPr>
          <a:xfrm rot="19867200">
            <a:off x="1523880" y="4114800"/>
            <a:ext cx="2286000" cy="15080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3" descr="i?id=50199848&amp;tov=0"/>
          <p:cNvPicPr/>
          <p:nvPr/>
        </p:nvPicPr>
        <p:blipFill>
          <a:blip r:embed="rId12"/>
          <a:stretch/>
        </p:blipFill>
        <p:spPr>
          <a:xfrm>
            <a:off x="1676520" y="2514600"/>
            <a:ext cx="2352600" cy="17762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4" descr="i?id=50983686&amp;tov=3"/>
          <p:cNvPicPr/>
          <p:nvPr/>
        </p:nvPicPr>
        <p:blipFill>
          <a:blip r:embed="rId13"/>
          <a:stretch/>
        </p:blipFill>
        <p:spPr>
          <a:xfrm rot="19927800">
            <a:off x="380880" y="990360"/>
            <a:ext cx="2862360" cy="22352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5" descr="i?id=203930939&amp;tov=6"/>
          <p:cNvPicPr/>
          <p:nvPr/>
        </p:nvPicPr>
        <p:blipFill>
          <a:blip r:embed="rId14"/>
          <a:stretch/>
        </p:blipFill>
        <p:spPr>
          <a:xfrm>
            <a:off x="304920" y="-152280"/>
            <a:ext cx="2743200" cy="15541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304920"/>
            <a:ext cx="861696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Picture 4" descr="2222222"/>
          <p:cNvPicPr/>
          <p:nvPr/>
        </p:nvPicPr>
        <p:blipFill>
          <a:blip r:embed="rId1"/>
          <a:stretch/>
        </p:blipFill>
        <p:spPr>
          <a:xfrm>
            <a:off x="533520" y="304920"/>
            <a:ext cx="3657600" cy="26175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5" descr="1(2)"/>
          <p:cNvPicPr/>
          <p:nvPr/>
        </p:nvPicPr>
        <p:blipFill>
          <a:blip r:embed="rId2"/>
          <a:stretch/>
        </p:blipFill>
        <p:spPr>
          <a:xfrm>
            <a:off x="3886200" y="304920"/>
            <a:ext cx="4853160" cy="62481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6" descr="йййй"/>
          <p:cNvPicPr/>
          <p:nvPr/>
        </p:nvPicPr>
        <p:blipFill>
          <a:blip r:embed="rId3"/>
          <a:stretch/>
        </p:blipFill>
        <p:spPr>
          <a:xfrm>
            <a:off x="533520" y="2895480"/>
            <a:ext cx="350496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380520"/>
            <a:ext cx="83883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Picture 4" descr="19196638_K_41"/>
          <p:cNvPicPr/>
          <p:nvPr/>
        </p:nvPicPr>
        <p:blipFill>
          <a:blip r:embed="rId1"/>
          <a:stretch/>
        </p:blipFill>
        <p:spPr>
          <a:xfrm>
            <a:off x="533520" y="457200"/>
            <a:ext cx="4292640" cy="58672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6" descr="71617296_1299359920_smayl"/>
          <p:cNvPicPr/>
          <p:nvPr/>
        </p:nvPicPr>
        <p:blipFill>
          <a:blip r:embed="rId2"/>
          <a:stretch/>
        </p:blipFill>
        <p:spPr>
          <a:xfrm>
            <a:off x="4648320" y="3276720"/>
            <a:ext cx="4267080" cy="30207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8" descr="ClappingHands"/>
          <p:cNvPicPr/>
          <p:nvPr/>
        </p:nvPicPr>
        <p:blipFill>
          <a:blip r:embed="rId3"/>
          <a:stretch/>
        </p:blipFill>
        <p:spPr>
          <a:xfrm>
            <a:off x="4800600" y="533520"/>
            <a:ext cx="358128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100000">
              <a:srgbClr val="99ff66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ff0000"/>
                </a:solidFill>
                <a:uFillTx/>
                <a:latin typeface="Arial Black"/>
              </a:rPr>
              <a:t>Здоровый человек!</a:t>
            </a: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37720" y="1143000"/>
            <a:ext cx="8007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Здоровый человек живёт полноценной жизнью и приносит большую пользу обществу. Здоровый образ жизни – система поведения человека, включая физическую культуру, творчество, высоконравственное отношение ко всему окружающему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3851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b7"/>
                </a:solidFill>
                <a:latin typeface="Arial Black"/>
              </a:rPr>
              <a:t>Влияние социальной среды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33520" y="9144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На человека также воздействует социальная среда. Например, малыши пытаются копировать взрослых, для подростков важно мнение сверстников. Но влияние окружающих может быть не только положительным, но и отрицательны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Picture 5" descr="Социальные сети"/>
          <p:cNvPicPr/>
          <p:nvPr/>
        </p:nvPicPr>
        <p:blipFill>
          <a:blip r:embed="rId1"/>
          <a:stretch/>
        </p:blipFill>
        <p:spPr>
          <a:xfrm>
            <a:off x="4267080" y="3962520"/>
            <a:ext cx="3962520" cy="256536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5" descr="i?id=223588157&amp;tov=0"/>
          <p:cNvPicPr/>
          <p:nvPr/>
        </p:nvPicPr>
        <p:blipFill>
          <a:blip r:embed="rId1"/>
          <a:stretch/>
        </p:blipFill>
        <p:spPr>
          <a:xfrm>
            <a:off x="0" y="-187200"/>
            <a:ext cx="9144000" cy="7045200"/>
          </a:xfrm>
          <a:prstGeom prst="rect">
            <a:avLst/>
          </a:prstGeom>
          <a:ln w="0">
            <a:noFill/>
          </a:ln>
        </p:spPr>
      </p:pic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819520" y="-45756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ff0000"/>
                </a:solidFill>
                <a:uFillTx/>
                <a:latin typeface="Arial Black"/>
              </a:rPr>
              <a:t>Порок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Физический, психический, моральный и экономический ущерб человеку и обществу наносят пьянство, алкоголизм, наркомания, курение.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WordArt 2"/>
          <p:cNvSpPr txBox="1"/>
          <p:nvPr/>
        </p:nvSpPr>
        <p:spPr>
          <a:xfrm>
            <a:off x="395280" y="476280"/>
            <a:ext cx="741672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опробуй - пробуют все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55" name="Picture 3" descr="Картинка 77 из 146690"/>
          <p:cNvPicPr/>
          <p:nvPr/>
        </p:nvPicPr>
        <p:blipFill>
          <a:blip r:embed="rId1"/>
          <a:stretch/>
        </p:blipFill>
        <p:spPr>
          <a:xfrm>
            <a:off x="1258920" y="1762200"/>
            <a:ext cx="6840360" cy="50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WordArt 2"/>
          <p:cNvSpPr txBox="1"/>
          <p:nvPr/>
        </p:nvSpPr>
        <p:spPr>
          <a:xfrm>
            <a:off x="611280" y="333360"/>
            <a:ext cx="792144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опробуй-вредных последствий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не будет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57" name="Picture 3" descr="Картинка 92 из 146690"/>
          <p:cNvPicPr/>
          <p:nvPr/>
        </p:nvPicPr>
        <p:blipFill>
          <a:blip r:embed="rId1"/>
          <a:stretch/>
        </p:blipFill>
        <p:spPr>
          <a:xfrm>
            <a:off x="2195640" y="1928880"/>
            <a:ext cx="5545080" cy="49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100000">
              <a:srgbClr val="99ff66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3851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Comic Sans MS"/>
              </a:rPr>
              <a:t>Задачи урок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8007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Дать представление, что такое здоровый образ жизни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Убедить учащихся о необходимости быть здоровым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Объяснить роль здорового образа жизни и деятельности человека, развитии общества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Выяснить факторы здоровь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WordArt 2"/>
          <p:cNvSpPr txBox="1"/>
          <p:nvPr/>
        </p:nvSpPr>
        <p:spPr>
          <a:xfrm>
            <a:off x="1332000" y="404640"/>
            <a:ext cx="619128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опробуй, если не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онравится прекрати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риём.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59" name="Picture 3" descr="Картинка 110 из 146690"/>
          <p:cNvPicPr/>
          <p:nvPr/>
        </p:nvPicPr>
        <p:blipFill>
          <a:blip r:embed="rId1"/>
          <a:stretch/>
        </p:blipFill>
        <p:spPr>
          <a:xfrm>
            <a:off x="900000" y="2612880"/>
            <a:ext cx="7093080" cy="424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WordArt 2"/>
          <p:cNvSpPr txBox="1"/>
          <p:nvPr/>
        </p:nvSpPr>
        <p:spPr>
          <a:xfrm>
            <a:off x="755640" y="476280"/>
            <a:ext cx="4638600" cy="1554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У пьяного ум слепой.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61" name="Picture 3" descr="Картинка 1 из 146690"/>
          <p:cNvPicPr/>
          <p:nvPr/>
        </p:nvPicPr>
        <p:blipFill>
          <a:blip r:embed="rId1"/>
          <a:stretch/>
        </p:blipFill>
        <p:spPr>
          <a:xfrm>
            <a:off x="1763640" y="1943280"/>
            <a:ext cx="7380360" cy="49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WordArt 2"/>
          <p:cNvSpPr txBox="1"/>
          <p:nvPr/>
        </p:nvSpPr>
        <p:spPr>
          <a:xfrm>
            <a:off x="1187280" y="333360"/>
            <a:ext cx="662004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ино полюбил - семью разорил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63" name="Picture 3" descr="Картинка 19 из 59"/>
          <p:cNvPicPr/>
          <p:nvPr/>
        </p:nvPicPr>
        <p:blipFill>
          <a:blip r:embed="rId1"/>
          <a:stretch/>
        </p:blipFill>
        <p:spPr>
          <a:xfrm>
            <a:off x="971640" y="1333440"/>
            <a:ext cx="7380360" cy="552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Факторы здоровья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37720" y="1143000"/>
            <a:ext cx="8007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ПОР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АВИЛЬНОЕ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ИТА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ВЕЖИЙ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ОЗДУ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ХОРОШЕЕ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СТРОЕ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ЕЖИМ ДН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АКАЛИВА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Picture 8" descr="11"/>
          <p:cNvPicPr/>
          <p:nvPr/>
        </p:nvPicPr>
        <p:blipFill>
          <a:blip r:embed="rId1"/>
          <a:stretch/>
        </p:blipFill>
        <p:spPr>
          <a:xfrm>
            <a:off x="4267080" y="1295280"/>
            <a:ext cx="4648320" cy="4876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67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898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898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898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898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898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898" fill="hold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898" fill="hold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898" fill="hold"/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898" fill="hold"/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Picture 4" descr="Картинка 11 из 99837"/>
          <p:cNvPicPr/>
          <p:nvPr/>
        </p:nvPicPr>
        <p:blipFill>
          <a:blip r:embed="rId1"/>
          <a:stretch/>
        </p:blipFill>
        <p:spPr>
          <a:xfrm>
            <a:off x="380880" y="304920"/>
            <a:ext cx="8458200" cy="579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7" descr="Картинка 18 из 1392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-123840"/>
            <a:ext cx="9296280" cy="698184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omic Sans MS"/>
              </a:rPr>
              <a:t>Каждому хочется быть умным, красивым, сильным, здоровым. На протяжении веков люди вырабатывали правила оптимального поведения, следуя которым можно с наибольшей эффективностью поддерживать здоровье тела и духа. Ещё в 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XIX</a:t>
            </a:r>
            <a:r>
              <a:rPr b="0" lang="ru-RU" sz="3200" spc="-1" strike="noStrike">
                <a:solidFill>
                  <a:srgbClr val="0000ff"/>
                </a:solidFill>
                <a:latin typeface="Comic Sans MS"/>
              </a:rPr>
              <a:t> в. Артур Шопенгауэр говорил: «Вообще 9/10 нашего счастья основано на здоровье. При нем всё становится источником наслаждения, тогда как без него решительно никакое внешнее благо не может доставить удовольствия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00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3851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b7"/>
                </a:solidFill>
                <a:latin typeface="Arial Black"/>
              </a:rPr>
              <a:t>Викторин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914400"/>
            <a:ext cx="80074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1.Согласны ли вы, что зарядка – источник бодрости и здоровья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2.Верно ли, что жевательная резинка сохраняет зубы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3.Верно ли, что кактусы снимают излучение от компьютера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4.Верно ли, что от курения ежегодно погибает более  10 000 человек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5.Правда ли, что съев банан поднимается настроение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6.Верно ли, что морковь замедляет процесс старения организма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7.Правда ли, что есть безвредные наркотики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7720" y="457200"/>
            <a:ext cx="800748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8.Отказаться от курения легко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9.Правда ли, что молоко полезнее йогурта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10.Взрослые чаще, чем дети, ломают ноги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11.Правда ли, что недостаток солнца вызывает депрессию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12.Правда ли, что летом можно запастись витаминами на целый год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13.Правда ли, что детям до 15 лет нельзя заниматься тяжёлой атлетикой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14.Правда ли, что ежедневно надо выпить 2 стакана молока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15.Правда ли, что ребёнку достаточно спать ночью 8 часов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518148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Фактор здоровья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520" y="228600"/>
            <a:ext cx="80071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Picture 9" descr="Веселая-зарядка"/>
          <p:cNvPicPr/>
          <p:nvPr/>
        </p:nvPicPr>
        <p:blipFill>
          <a:blip r:embed="rId1"/>
          <a:stretch/>
        </p:blipFill>
        <p:spPr>
          <a:xfrm>
            <a:off x="533520" y="228600"/>
            <a:ext cx="8001000" cy="477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9" descr="Картинка 14 из 1384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-23760"/>
            <a:ext cx="10363320" cy="688176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5050"/>
                </a:solidFill>
                <a:latin typeface="Comic Sans MS"/>
              </a:rPr>
              <a:t>Поднимите, пожалуйста руки, кто никогда не болел. А кто болел один раза в году? А кто два и более раз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5050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ff5050"/>
                </a:solidFill>
                <a:latin typeface="Comic Sans MS"/>
              </a:rPr>
              <a:t>Посмотрите, мы привыкли к тому, что человеку естественно болеть! А ведь это неверная установка! Давайте изменим установку и запомним: что человеку естественно быть здоровым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5" descr="Картинка 4 из 183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-146160"/>
            <a:ext cx="9144000" cy="7004160"/>
          </a:xfrm>
          <a:prstGeom prst="rect">
            <a:avLst/>
          </a:prstGeom>
          <a:ln w="0">
            <a:noFill/>
          </a:ln>
        </p:spPr>
      </p:pic>
      <p:sp>
        <p:nvSpPr>
          <p:cNvPr id="113" name="Line 7"/>
          <p:cNvSpPr/>
          <p:nvPr/>
        </p:nvSpPr>
        <p:spPr>
          <a:xfrm flipH="1">
            <a:off x="685800" y="1676520"/>
            <a:ext cx="7315200" cy="373356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Line 8"/>
          <p:cNvSpPr/>
          <p:nvPr/>
        </p:nvSpPr>
        <p:spPr>
          <a:xfrm>
            <a:off x="1066680" y="1676520"/>
            <a:ext cx="7391520" cy="373356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omic Sans MS"/>
              </a:rPr>
              <a:t>Сегодня медики утверждают: здоровье человека на 10% зависит от наследственности, на 5% от работы медиков. Остальные 85 % в руках самого человека. Значит, наше здоровье зависит от наших привычек, от наших усилий по его укреплению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50000">
              <a:srgbClr val="47762f"/>
            </a:gs>
            <a:gs pos="100000">
              <a:srgbClr val="99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380880" y="380520"/>
            <a:ext cx="87631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Ученые доказывают, что человек должен жить 150-200 лет! Так, например, древние греки (пеласги) считали, что умереть в 70 лет- это почти то же самое, что умереть в колыбели. Как свидетельствуют историки, продолжительность жизни пеласгов составляла около 200 лет. При этом до конца своих дней они сохраняли жизненные силы и не седел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Олег</cp:lastModifiedBy>
  <dcterms:modified xsi:type="dcterms:W3CDTF">2012-01-18T18:28:3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