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4.png" ContentType="image/png"/>
  <Override PartName="/ppt/media/image23.jpeg" ContentType="image/jpeg"/>
  <Override PartName="/ppt/media/image28.jpeg" ContentType="image/jpeg"/>
  <Override PartName="/ppt/media/image11.jpeg" ContentType="image/jpeg"/>
  <Override PartName="/ppt/media/image40.png" ContentType="image/png"/>
  <Override PartName="/ppt/media/image29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8.gif" ContentType="image/gif"/>
  <Override PartName="/ppt/media/image18.jpeg" ContentType="image/jpeg"/>
  <Override PartName="/ppt/media/image31.jpeg" ContentType="image/jpeg"/>
  <Override PartName="/ppt/media/image41.png" ContentType="image/png"/>
  <Override PartName="/ppt/media/bomb.wav" ContentType="audio/x-wav"/>
  <Override PartName="/ppt/media/image5.jpeg" ContentType="image/jpeg"/>
  <Override PartName="/ppt/media/explode.wav" ContentType="audio/x-wav"/>
  <Override PartName="/ppt/media/image3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F367-A61B-408B-AAEE-8D06CBE9C5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4708-A28B-4851-AF1B-AC849F2C29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155B-A189-4120-AE09-C709933108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кла  Везувий   Орисаба   Котопахи   Ключевская Сопка   Фудзияма   Эльбрус    Льюльяйльяко  Кракатау Килиманджа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315-0BEC-46AF-918C-279288AC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EDB-01BC-44DF-81B6-C2DFC6DA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BBA-9968-441C-ADF1-E3A28CCF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33B-308C-4A01-9244-2A10C6C3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3AE8-F91A-4CA4-9B94-67C2BD6F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68E6-C5F4-4C89-BF92-98E5BB33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7C6F-2283-4872-8B98-FDCDF406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49BD-4C0F-4696-944B-83F870C8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F726-D739-489D-AAD8-CC739684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A20A-ADBF-4F27-A396-D5E8379D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F3AA-EAE2-49A9-9690-245E5922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D48-BC78-458B-88B7-BB92C0FC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70F5-62D1-4430-8EAB-A5402C6D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A49-27F3-42B9-8423-B18CE51C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3BF5-9D3D-4ADD-A7AA-B02FCD36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772C-E40C-4C32-8753-272A2542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E2A2-3331-4489-95BB-42E5AA4D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FE695-A329-490D-A7F2-986C9F3D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2DAAA-005E-4F65-9845-880F21FF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AB5B2-5A12-40E0-BDB6-BF875AB2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EEB42-3281-44CF-9778-4D3DED6A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465C1-A0E2-434E-B0E8-381D6476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AD7-08F9-422C-A7C9-8465B14B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98121-B35F-4251-8E93-8E2D22E4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C1B46-672F-4A35-8128-863A8EB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32A71-62DA-4DBC-A4C2-CEDFB3BC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145A3-DA3F-4BDB-BCE1-75F0EB4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7C91A-5895-4B9B-8BC0-EF6E0205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7C221-350D-4544-A161-02BADAF7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CCB84-B4D0-4F25-AAC6-3E1FB87B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C7F9-27B1-4A2C-B7BF-9D6167E4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2589-AA18-4FFD-AC8E-9156DE34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3B4F3-BD5D-4CED-B75B-5FA63EE6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F4C-C504-412C-8AD6-C1AD74EA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704D-8F32-4F9D-B2BE-ADF3595A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D0B7-DADC-4DFC-9689-216B7E0D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D02C-4140-4BBC-8D98-7264C7FC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A7286-B148-42D9-A23D-8B494E25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CE17C-943C-4B1B-99C4-C2E2D87B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4843-F7B4-49D4-8E49-F060F41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67466-9028-4EA8-866B-FD55AA25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2A6B-4E73-472F-8CFD-21C95F7C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F724-B329-414C-9AA4-97CE1560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E25F7-1FD2-4DAE-B309-153065FB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25B-87A2-46AA-9089-A9CBB37A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3F8C-E25E-436C-9EE1-C8EBABBF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CA0CF-E780-4393-A4B7-AD831BC9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A0341-85A6-42AC-AAA1-531712A1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742E-E6A5-497B-8E09-922AFF9F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98D5-DCD6-4226-AC63-F42D6A47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F4F61-D5E9-4942-A9F3-3BA17BB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FB9BF-2D2F-4CDD-9C3E-CA00117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98DFB-B3E9-4D8D-8801-23B16027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3BC19-65D1-4D98-8B65-B2B378CB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022F-A48F-4459-8D9E-73C6B4A6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30F-3FA3-4DFB-B28D-9BAFD2AD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EC468-0D94-46E5-A37C-A8FB0AB6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F86-8E47-49B1-B793-7D27ED0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B33-E848-43EB-B3E8-D57043BC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090-6477-4F87-B224-2D71122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A033-6D18-4A0F-B38B-26E3827FA0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d32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2d32"/>
              </a:buClr>
              <a:buSzPct val="5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2d32"/>
              </a:buClr>
              <a:buSzPct val="50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2d32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2d32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-3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528760" y="27720"/>
            <a:ext cx="587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0FB1-74D1-47FB-90DC-90C2DAD685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9B59-54B9-4870-B483-A420E8EB51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-3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528760" y="27720"/>
            <a:ext cx="587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187C-3207-4E8D-97E8-4BFAB8B810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edd00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7009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-3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528760" y="27720"/>
            <a:ext cx="587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47EC-FC08-404F-B00F-6D42D3A3FE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explode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403280" y="4857480"/>
            <a:ext cx="7383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Monotype Corsiva"/>
              </a:rPr>
              <a:t>Подготовила: Шишкалова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4572000"/>
          </a:xfrm>
          <a:prstGeom prst="rect">
            <a:avLst/>
          </a:prstGeom>
          <a:noFill/>
          <a:ln w="38160">
            <a:solidFill>
              <a:srgbClr val="00ffcc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Министерство образования и науки </a:t>
            </a:r>
            <a:br>
              <a:rPr sz="2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республики Казахстан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Общая средняя школа № 30 имени Ораза Жандосова</a:t>
            </a:r>
            <a:br>
              <a:rPr sz="2400"/>
            </a:br>
            <a:br>
              <a:rPr sz="2400"/>
            </a:br>
            <a:br>
              <a:rPr sz="4000"/>
            </a:br>
            <a:r>
              <a:rPr b="1" lang="ru-RU" sz="4400" spc="-1" strike="noStrike">
                <a:solidFill>
                  <a:srgbClr val="82aeff"/>
                </a:solidFill>
                <a:latin typeface="Monotype Corsiva"/>
              </a:rPr>
              <a:t>Вулканы, горячие источники, гейзеры</a:t>
            </a:r>
            <a:br>
              <a:rPr sz="4400"/>
            </a:br>
            <a:r>
              <a:rPr b="1" lang="ru-RU" sz="2400" spc="-1" strike="noStrike">
                <a:solidFill>
                  <a:srgbClr val="82aeff"/>
                </a:solidFill>
                <a:latin typeface="Monotype Corsiva"/>
              </a:rPr>
              <a:t>6 класс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Продукты извержения: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32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еп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а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вулканические бом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786720" y="4285800"/>
            <a:ext cx="190008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Извержение вулк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37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звержение вулкана сопровождается подземным гулом, иногда землетрясением, лив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о время извержения куски раскаленной лавы  выбрасываются на большую высоту-это </a:t>
            </a:r>
            <a:r>
              <a:rPr b="0" lang="ru-RU" sz="2800" spc="-1" strike="noStrike">
                <a:solidFill>
                  <a:srgbClr val="ff6600"/>
                </a:solidFill>
                <a:latin typeface="Monotype Corsiva"/>
              </a:rPr>
              <a:t>вулканические бом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5" descr="tolb5"/>
          <p:cNvPicPr/>
          <p:nvPr/>
        </p:nvPicPr>
        <p:blipFill>
          <a:blip r:embed="rId1"/>
          <a:stretch/>
        </p:blipFill>
        <p:spPr>
          <a:xfrm>
            <a:off x="4643280" y="1628640"/>
            <a:ext cx="2160720" cy="4392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img 3"/>
          <p:cNvPicPr/>
          <p:nvPr/>
        </p:nvPicPr>
        <p:blipFill>
          <a:blip r:embed="rId2"/>
          <a:stretch/>
        </p:blipFill>
        <p:spPr>
          <a:xfrm>
            <a:off x="6877080" y="1700280"/>
            <a:ext cx="1727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Вулканическая опасность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звержения вулканов угрожают жизни людей и наносят материальный ущер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Лавовые потоки разрушают здания, перекрывают дороги и сельскохозяйственные земли, которые на много столетий исключаются из хозяйственного использо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img 2"/>
          <p:cNvPicPr/>
          <p:nvPr/>
        </p:nvPicPr>
        <p:blipFill>
          <a:blip r:embed="rId1"/>
          <a:stretch/>
        </p:blipFill>
        <p:spPr>
          <a:xfrm>
            <a:off x="4716360" y="907920"/>
            <a:ext cx="3959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Вулканическая опас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13840" y="980640"/>
            <a:ext cx="40006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539640" y="1500120"/>
            <a:ext cx="381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следствие вулканических извержений на крышах зданий накапливаются мощные слои пепла, что грозит их обруш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падание в легкие мельчайших частиц пепла приводит к падежу ск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звесь пепла в воздухе представляет опасность для автомобильного и воздушного трансп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9" descr="tolb1"/>
          <p:cNvPicPr/>
          <p:nvPr/>
        </p:nvPicPr>
        <p:blipFill>
          <a:blip r:embed="rId1"/>
          <a:stretch/>
        </p:blipFill>
        <p:spPr>
          <a:xfrm>
            <a:off x="6948360" y="1052640"/>
            <a:ext cx="2195640" cy="4824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Karim4c"/>
          <p:cNvPicPr/>
          <p:nvPr/>
        </p:nvPicPr>
        <p:blipFill>
          <a:blip r:embed="rId2"/>
          <a:stretch/>
        </p:blipFill>
        <p:spPr>
          <a:xfrm>
            <a:off x="4572000" y="2276640"/>
            <a:ext cx="2305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-500040" y="0"/>
            <a:ext cx="964404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0" y="28584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Arial"/>
              </a:rPr>
              <a:t>Картина  К. Брюллова « Последний день Помпе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келеты, найденные на улицах Помпеи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5" name="Picture 6" descr="помпеи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785880" y="1714680"/>
            <a:ext cx="3105000" cy="2333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346" name="Picture 7" descr="pompei4"/>
          <p:cNvPicPr/>
          <p:nvPr/>
        </p:nvPicPr>
        <p:blipFill>
          <a:blip r:embed="rId2"/>
          <a:stretch/>
        </p:blipFill>
        <p:spPr>
          <a:xfrm>
            <a:off x="857160" y="4214880"/>
            <a:ext cx="3071880" cy="24480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347" name="Picture 3" descr="Гипсовый слепок собаки, погибшей при извержении Везувия в 79 г"/>
          <p:cNvPicPr/>
          <p:nvPr/>
        </p:nvPicPr>
        <p:blipFill>
          <a:blip r:embed="rId3"/>
          <a:stretch/>
        </p:blipFill>
        <p:spPr>
          <a:xfrm>
            <a:off x="4714920" y="1643040"/>
            <a:ext cx="2933640" cy="2333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348" name="Picture 2" descr="pompei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4643280" y="4214880"/>
            <a:ext cx="3132360" cy="24289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00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Рисунки вулк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0" name="Picture 4" descr="img-232bb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557360"/>
            <a:ext cx="8461440" cy="501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Seger_46_night"/>
          <p:cNvPicPr/>
          <p:nvPr/>
        </p:nvPicPr>
        <p:blipFill>
          <a:blip r:embed="rId2"/>
          <a:stretch/>
        </p:blipFill>
        <p:spPr>
          <a:xfrm>
            <a:off x="500040" y="1571760"/>
            <a:ext cx="8429760" cy="5072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376025526"/>
          <p:cNvPicPr/>
          <p:nvPr/>
        </p:nvPicPr>
        <p:blipFill>
          <a:blip r:embed="rId3"/>
          <a:stretch/>
        </p:blipFill>
        <p:spPr>
          <a:xfrm>
            <a:off x="468360" y="1557360"/>
            <a:ext cx="8675640" cy="5086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5"/>
          <p:cNvPicPr/>
          <p:nvPr/>
        </p:nvPicPr>
        <p:blipFill>
          <a:blip r:embed="rId4"/>
          <a:stretch/>
        </p:blipFill>
        <p:spPr>
          <a:xfrm>
            <a:off x="428760" y="1557360"/>
            <a:ext cx="8246880" cy="5086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1205677284_reventador"/>
          <p:cNvPicPr/>
          <p:nvPr/>
        </p:nvPicPr>
        <p:blipFill>
          <a:blip r:embed="rId5"/>
          <a:stretch/>
        </p:blipFill>
        <p:spPr>
          <a:xfrm>
            <a:off x="357120" y="1571760"/>
            <a:ext cx="8318520" cy="5286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Безымянный"/>
          <p:cNvPicPr/>
          <p:nvPr/>
        </p:nvPicPr>
        <p:blipFill>
          <a:blip r:embed="rId6"/>
          <a:stretch/>
        </p:blipFill>
        <p:spPr>
          <a:xfrm>
            <a:off x="214200" y="1484280"/>
            <a:ext cx="8534520" cy="5373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1218127330_glavnaja"/>
          <p:cNvPicPr/>
          <p:nvPr/>
        </p:nvPicPr>
        <p:blipFill>
          <a:blip r:embed="rId7"/>
          <a:stretch/>
        </p:blipFill>
        <p:spPr>
          <a:xfrm>
            <a:off x="0" y="1500120"/>
            <a:ext cx="8858160" cy="535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PICT0122"/>
          <p:cNvPicPr/>
          <p:nvPr/>
        </p:nvPicPr>
        <p:blipFill>
          <a:blip r:embed="rId8"/>
          <a:stretch/>
        </p:blipFill>
        <p:spPr>
          <a:xfrm>
            <a:off x="0" y="1428840"/>
            <a:ext cx="8929800" cy="5729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BB02898ED9FF"/>
          <p:cNvPicPr/>
          <p:nvPr/>
        </p:nvPicPr>
        <p:blipFill>
          <a:blip r:embed="rId9"/>
          <a:stretch/>
        </p:blipFill>
        <p:spPr>
          <a:xfrm>
            <a:off x="0" y="1052640"/>
            <a:ext cx="914400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Польза вулканов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Вулканы согревают. Огромные запасы энергии – одно из главных их достоинств. Вырабатывать электричество их “научили” только в начале XIX века. Когда нагретые вулканами подземные воды закрутили паровые турбины. В лечебных целях вулканы использовали с древности, и горячие целебные ванны остаются популярными до сих п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Для чего изучают вулканы.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звержение вулканов дают ученым сведения о составе и свойствах веществ, находящихся в литосфере. Изучение вулканов помогает определить происхождение полезных ископаемых. Благодаря исследованиям можно предсказать начало извержения вулкана и предотвратить связанные с ним бедств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Прогноз изверж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ногда уже можно предсказать начало извержения вулкана и предупредить бед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03280" y="1125360"/>
            <a:ext cx="381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 flipV="1" rot="10800000">
            <a:off x="614520" y="3493440"/>
            <a:ext cx="374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ля прогноза     извержений составляются карты вулканической опасности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7" descr="MAP зоны опасности"/>
          <p:cNvPicPr/>
          <p:nvPr/>
        </p:nvPicPr>
        <p:blipFill>
          <a:blip r:embed="rId1"/>
          <a:stretch/>
        </p:blipFill>
        <p:spPr>
          <a:xfrm>
            <a:off x="5003640" y="1125360"/>
            <a:ext cx="37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4285ff"/>
                </a:solidFill>
                <a:latin typeface="Arial"/>
              </a:rPr>
              <a:t>Цель урока:</a:t>
            </a:r>
            <a:r>
              <a:rPr b="0" lang="kk-KZ" sz="4400" spc="-1" strike="noStrike">
                <a:solidFill>
                  <a:srgbClr val="4285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новыми понятиями и терминами: вулкан, очаг магмы, жерло, кратер, гейзер, потухший, действующий вулка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ть причины образования вулканов и гейзе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снить географию их размещения по Зем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ть практическое значение знаний о вулканах, горячих источниках, гейзе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ть формирование умения определять географические координаты, работать с контурной кар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564000" y="388152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95280" y="24400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Comic Sans MS"/>
              </a:rPr>
              <a:t>Горячие источники и гейзе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9" name="Picture 14" descr="35"/>
          <p:cNvPicPr/>
          <p:nvPr/>
        </p:nvPicPr>
        <p:blipFill>
          <a:blip r:embed="rId1"/>
          <a:stretch/>
        </p:blipFill>
        <p:spPr>
          <a:xfrm>
            <a:off x="357120" y="208080"/>
            <a:ext cx="8280360" cy="66499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6"/>
          <p:cNvSpPr/>
          <p:nvPr/>
        </p:nvSpPr>
        <p:spPr>
          <a:xfrm>
            <a:off x="1557000" y="60213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Исла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1009080" y="307800"/>
            <a:ext cx="671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f2b"/>
                </a:solidFill>
                <a:uFillTx/>
                <a:latin typeface="Times New Roman"/>
                <a:ea typeface="Times New Roman"/>
              </a:rPr>
              <a:t>Гейзер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источник фонтанирующей горячей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2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63080" cy="838440"/>
          </a:xfrm>
          <a:prstGeom prst="rect">
            <a:avLst/>
          </a:prstGeom>
          <a:gradFill rotWithShape="0">
            <a:gsLst>
              <a:gs pos="0">
                <a:srgbClr val="7ebfff"/>
              </a:gs>
              <a:gs pos="100000">
                <a:srgbClr val="d9eb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3416"/>
                </a:solidFill>
                <a:latin typeface="Arial"/>
              </a:rPr>
              <a:t>Где на Земле встречаются гейзеры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3" name="Содержимое 5" descr="1.jpg"/>
          <p:cNvPicPr/>
          <p:nvPr/>
        </p:nvPicPr>
        <p:blipFill>
          <a:blip r:embed="rId1"/>
          <a:stretch/>
        </p:blipFill>
        <p:spPr>
          <a:xfrm>
            <a:off x="-357120" y="285840"/>
            <a:ext cx="9501120" cy="6357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374" name="5-конечная звезда 9" descr=""/>
          <p:cNvPicPr/>
          <p:nvPr/>
        </p:nvPicPr>
        <p:blipFill>
          <a:blip r:embed="rId2"/>
          <a:stretch/>
        </p:blipFill>
        <p:spPr>
          <a:xfrm>
            <a:off x="6394320" y="1268280"/>
            <a:ext cx="744840" cy="652680"/>
          </a:xfrm>
          <a:prstGeom prst="rect">
            <a:avLst/>
          </a:prstGeom>
          <a:ln w="0">
            <a:noFill/>
          </a:ln>
        </p:spPr>
      </p:pic>
      <p:pic>
        <p:nvPicPr>
          <p:cNvPr id="375" name="5-конечная звезда 10" descr=""/>
          <p:cNvPicPr/>
          <p:nvPr/>
        </p:nvPicPr>
        <p:blipFill>
          <a:blip r:embed="rId3"/>
          <a:stretch/>
        </p:blipFill>
        <p:spPr>
          <a:xfrm>
            <a:off x="6967440" y="4840200"/>
            <a:ext cx="744480" cy="652680"/>
          </a:xfrm>
          <a:prstGeom prst="rect">
            <a:avLst/>
          </a:prstGeom>
          <a:ln w="0">
            <a:noFill/>
          </a:ln>
        </p:spPr>
      </p:pic>
      <p:pic>
        <p:nvPicPr>
          <p:cNvPr id="376" name="5-конечная звезда 12" descr=""/>
          <p:cNvPicPr/>
          <p:nvPr/>
        </p:nvPicPr>
        <p:blipFill>
          <a:blip r:embed="rId4"/>
          <a:stretch/>
        </p:blipFill>
        <p:spPr>
          <a:xfrm>
            <a:off x="1395360" y="398160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377" name="5-конечная звезда 11" descr=""/>
          <p:cNvPicPr/>
          <p:nvPr/>
        </p:nvPicPr>
        <p:blipFill>
          <a:blip r:embed="rId5"/>
          <a:stretch/>
        </p:blipFill>
        <p:spPr>
          <a:xfrm>
            <a:off x="755640" y="169560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378" name="5-конечная звезда 7" descr=""/>
          <p:cNvPicPr/>
          <p:nvPr/>
        </p:nvPicPr>
        <p:blipFill>
          <a:blip r:embed="rId6"/>
          <a:stretch/>
        </p:blipFill>
        <p:spPr>
          <a:xfrm>
            <a:off x="3041640" y="1122480"/>
            <a:ext cx="744480" cy="657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9"/>
          <p:cNvSpPr/>
          <p:nvPr/>
        </p:nvSpPr>
        <p:spPr>
          <a:xfrm>
            <a:off x="714240" y="1500120"/>
            <a:ext cx="16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Йеллоус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3080520" y="92880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О.Исла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21"/>
          <p:cNvSpPr/>
          <p:nvPr/>
        </p:nvSpPr>
        <p:spPr>
          <a:xfrm>
            <a:off x="6014160" y="10717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П-ов Камча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22"/>
          <p:cNvSpPr/>
          <p:nvPr/>
        </p:nvSpPr>
        <p:spPr>
          <a:xfrm>
            <a:off x="1073520" y="378612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Горы 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23"/>
          <p:cNvSpPr/>
          <p:nvPr/>
        </p:nvSpPr>
        <p:spPr>
          <a:xfrm>
            <a:off x="6072120" y="4643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f2b"/>
                </a:solidFill>
                <a:latin typeface="Arial"/>
              </a:rPr>
              <a:t>О.Новая Зела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7935840" y="60721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Видео 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000"/>
                            </p:stCondLst>
                            <p:childTnLst>
                              <p:par>
                                <p:cTn id="7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Использование горячих источников воды и гейзер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181920" cy="46371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  <p:sp>
        <p:nvSpPr>
          <p:cNvPr id="387" name="Text Box 5"/>
          <p:cNvSpPr/>
          <p:nvPr/>
        </p:nvSpPr>
        <p:spPr>
          <a:xfrm>
            <a:off x="3988440" y="5373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тновская ГеоТЭ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мча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056200" y="5781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4911840" y="592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76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760"/>
                            </p:stCondLst>
                            <p:childTnLst>
                              <p:par>
                                <p:cTn id="7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Как человек может использовать энергию внутреннего тепла Земли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улканический пепел – удобрение для раст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улканический туф (горная порода, образованная из рыхлых продуктов вулканических извержений)- возводят з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орячая вода источников и гейзеров- для отопления теплиц и до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ар горячих источников- для вращения турбин электростан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инерализованная горячая вода источников лечит заболе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6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3"/>
          <p:cNvSpPr/>
          <p:nvPr/>
        </p:nvSpPr>
        <p:spPr>
          <a:xfrm>
            <a:off x="75240" y="642960"/>
            <a:ext cx="80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нал по которому поднимается магма называе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1174680" y="107172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рло вулкан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-196560" y="1428840"/>
            <a:ext cx="91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улканы, об извержении которых в истории человече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е сохранилось никаких сведении, называются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6"/>
          <p:cNvSpPr/>
          <p:nvPr/>
        </p:nvSpPr>
        <p:spPr>
          <a:xfrm>
            <a:off x="1221120" y="214308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тухш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266760" y="242892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злившаяся магма называется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4719960" y="242892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9"/>
          <p:cNvSpPr/>
          <p:nvPr/>
        </p:nvSpPr>
        <p:spPr>
          <a:xfrm flipH="1">
            <a:off x="785160" y="2857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улканы,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з жерла которых , постоянно происходя извержения , назы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0"/>
          <p:cNvSpPr/>
          <p:nvPr/>
        </p:nvSpPr>
        <p:spPr>
          <a:xfrm>
            <a:off x="2504160" y="32860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йствующ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2"/>
          <p:cNvSpPr/>
          <p:nvPr/>
        </p:nvSpPr>
        <p:spPr>
          <a:xfrm>
            <a:off x="-109080" y="3571920"/>
            <a:ext cx="75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ашеобразное углубление на вершине вулка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6292080" y="35719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а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14"/>
          <p:cNvSpPr/>
          <p:nvPr/>
        </p:nvSpPr>
        <p:spPr>
          <a:xfrm>
            <a:off x="-225000" y="4071960"/>
            <a:ext cx="92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то означает слово  «вулкан» в древнеримской миф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5"/>
          <p:cNvSpPr/>
          <p:nvPr/>
        </p:nvSpPr>
        <p:spPr>
          <a:xfrm>
            <a:off x="1721160" y="442908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г ог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6"/>
          <p:cNvSpPr/>
          <p:nvPr/>
        </p:nvSpPr>
        <p:spPr>
          <a:xfrm>
            <a:off x="-90360" y="4714920"/>
            <a:ext cx="90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епел, пар, газы, вулканические бомбы, лава – являются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7"/>
          <p:cNvSpPr/>
          <p:nvPr/>
        </p:nvSpPr>
        <p:spPr>
          <a:xfrm>
            <a:off x="1361880" y="5143680"/>
            <a:ext cx="44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дуктами извержения вулк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8"/>
          <p:cNvSpPr/>
          <p:nvPr/>
        </p:nvSpPr>
        <p:spPr>
          <a:xfrm>
            <a:off x="-382680" y="5500800"/>
            <a:ext cx="104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сточники, периодически выбрасывающие фонтаны горячей в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 пара  называются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9"/>
          <p:cNvSpPr/>
          <p:nvPr/>
        </p:nvSpPr>
        <p:spPr>
          <a:xfrm>
            <a:off x="1569600" y="621504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йзе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Заполни таблиц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  географические координаты известных вулка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0c70d4"/>
              </a:gs>
              <a:gs pos="100000">
                <a:srgbClr val="0f95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Заполните</a:t>
            </a: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таблицу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11" name="Group 316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3580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785880"/>
          </a:xfrm>
          <a:prstGeom prst="rect">
            <a:avLst/>
          </a:prstGeom>
          <a:gradFill rotWithShape="0">
            <a:gsLst>
              <a:gs pos="0">
                <a:srgbClr val="0c70d4"/>
              </a:gs>
              <a:gs pos="100000">
                <a:srgbClr val="0f95ff"/>
              </a:gs>
            </a:gsLst>
            <a:lin ang="16200000"/>
          </a:gradFill>
          <a:ln w="9360">
            <a:solidFill>
              <a:srgbClr val="2d95f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Заполните</a:t>
            </a: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f2b"/>
                </a:solidFill>
                <a:latin typeface="Times New Roman"/>
                <a:ea typeface="Times New Roman"/>
              </a:rPr>
              <a:t>таблицу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13" name="Group 316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3580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§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1,2,3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№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готовить сообщение о вулк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img 5"/>
          <p:cNvPicPr/>
          <p:nvPr/>
        </p:nvPicPr>
        <p:blipFill>
          <a:blip r:embed="rId1"/>
          <a:stretch/>
        </p:blipFill>
        <p:spPr>
          <a:xfrm>
            <a:off x="179280" y="1197000"/>
            <a:ext cx="8964720" cy="5661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7921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улкан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(от лат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canu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гонь, пламя), гора конической формы, из горловины которой выбрасываются горячие газы, пар, пепел, обломки горных пород, а также мощные потоки раскаленной лавы, которые растекаются по поверхности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Что такое вулкан</a:t>
            </a:r>
            <a:r>
              <a:rPr b="1" i="1" lang="en-US" sz="4400" spc="-1" strike="noStrike">
                <a:solidFill>
                  <a:srgbClr val="4285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3743280" y="5373720"/>
            <a:ext cx="540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еримской мифологии слово «вулкан» означает – Бог ог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2"/>
          <a:stretch/>
        </p:blipFill>
        <p:spPr>
          <a:xfrm>
            <a:off x="390600" y="-36360"/>
            <a:ext cx="8010360" cy="1133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d32"/>
              </a:buClr>
              <a:buSzPct val="5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19-100738"/>
          <p:cNvPicPr/>
          <p:nvPr/>
        </p:nvPicPr>
        <p:blipFill>
          <a:blip r:embed="rId3"/>
          <a:stretch/>
        </p:blipFill>
        <p:spPr>
          <a:xfrm>
            <a:off x="-15840" y="0"/>
            <a:ext cx="9372600" cy="6858000"/>
          </a:xfrm>
          <a:prstGeom prst="rect">
            <a:avLst/>
          </a:prstGeom>
          <a:ln w="57240">
            <a:solidFill>
              <a:srgbClr val="c24400"/>
            </a:solidFill>
            <a:miter/>
          </a:ln>
        </p:spPr>
      </p:pic>
      <p:sp>
        <p:nvSpPr>
          <p:cNvPr id="265" name="Line 5"/>
          <p:cNvSpPr/>
          <p:nvPr/>
        </p:nvSpPr>
        <p:spPr>
          <a:xfrm>
            <a:off x="3995640" y="5950080"/>
            <a:ext cx="2592360" cy="358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6509880" y="592920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Очаг маг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25092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 flipH="1" flipV="1">
            <a:off x="1979280" y="2133720"/>
            <a:ext cx="1655640" cy="1295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683640" y="1700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жер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 flipH="1" flipV="1">
            <a:off x="2195280" y="1125000"/>
            <a:ext cx="1368360" cy="1079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814320" y="596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кра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5003640" y="2491920"/>
            <a:ext cx="1584360" cy="360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6716520" y="2138400"/>
            <a:ext cx="116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Бок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кра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 flipV="1">
            <a:off x="4572000" y="1773000"/>
            <a:ext cx="1655640" cy="718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6015960" y="141300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л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 flipV="1">
            <a:off x="4211640" y="1916280"/>
            <a:ext cx="3240000" cy="100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 flipH="1">
            <a:off x="7811280" y="957240"/>
            <a:ext cx="19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7380360" y="1268280"/>
            <a:ext cx="20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0507"/>
                </a:solidFill>
                <a:latin typeface="Arial"/>
              </a:rPr>
              <a:t>Застывш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0507"/>
                </a:solidFill>
                <a:latin typeface="Arial"/>
              </a:rPr>
              <a:t>л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3626640" y="45252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Вулкан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0507"/>
                </a:solidFill>
                <a:latin typeface="Arial"/>
              </a:rPr>
              <a:t>Пепел, д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22"/>
          <p:cNvSpPr/>
          <p:nvPr/>
        </p:nvSpPr>
        <p:spPr>
          <a:xfrm>
            <a:off x="1908000" y="2060640"/>
            <a:ext cx="3221280" cy="4530600"/>
          </a:xfrm>
          <a:custGeom>
            <a:avLst/>
            <a:gdLst>
              <a:gd name="textAreaLeft" fmla="*/ 0 w 3221280"/>
              <a:gd name="textAreaRight" fmla="*/ 3221640 w 3221280"/>
              <a:gd name="textAreaTop" fmla="*/ 0 h 4530600"/>
              <a:gd name="textAreaBottom" fmla="*/ 4530600 h 4530600"/>
            </a:gdLst>
            <a:ahLst/>
            <a:rect l="textAreaLeft" t="textAreaTop" r="textAreaRight" b="textAreaBottom"/>
            <a:pathLst>
              <a:path w="2029" h="2854">
                <a:moveTo>
                  <a:pt x="24" y="2674"/>
                </a:moveTo>
                <a:cubicBezTo>
                  <a:pt x="33" y="2635"/>
                  <a:pt x="53" y="2606"/>
                  <a:pt x="71" y="2571"/>
                </a:cubicBezTo>
                <a:cubicBezTo>
                  <a:pt x="75" y="2564"/>
                  <a:pt x="73" y="2554"/>
                  <a:pt x="79" y="2548"/>
                </a:cubicBezTo>
                <a:cubicBezTo>
                  <a:pt x="92" y="2535"/>
                  <a:pt x="108" y="2522"/>
                  <a:pt x="126" y="2516"/>
                </a:cubicBezTo>
                <a:cubicBezTo>
                  <a:pt x="142" y="2511"/>
                  <a:pt x="174" y="2500"/>
                  <a:pt x="174" y="2500"/>
                </a:cubicBezTo>
                <a:cubicBezTo>
                  <a:pt x="226" y="2464"/>
                  <a:pt x="162" y="2508"/>
                  <a:pt x="245" y="2453"/>
                </a:cubicBezTo>
                <a:cubicBezTo>
                  <a:pt x="253" y="2448"/>
                  <a:pt x="260" y="2442"/>
                  <a:pt x="268" y="2437"/>
                </a:cubicBezTo>
                <a:cubicBezTo>
                  <a:pt x="276" y="2432"/>
                  <a:pt x="292" y="2421"/>
                  <a:pt x="292" y="2421"/>
                </a:cubicBezTo>
                <a:cubicBezTo>
                  <a:pt x="303" y="2388"/>
                  <a:pt x="320" y="2360"/>
                  <a:pt x="331" y="2327"/>
                </a:cubicBezTo>
                <a:cubicBezTo>
                  <a:pt x="332" y="2315"/>
                  <a:pt x="334" y="2255"/>
                  <a:pt x="347" y="2232"/>
                </a:cubicBezTo>
                <a:cubicBezTo>
                  <a:pt x="356" y="2215"/>
                  <a:pt x="379" y="2185"/>
                  <a:pt x="379" y="2185"/>
                </a:cubicBezTo>
                <a:cubicBezTo>
                  <a:pt x="388" y="2157"/>
                  <a:pt x="382" y="2160"/>
                  <a:pt x="410" y="2145"/>
                </a:cubicBezTo>
                <a:cubicBezTo>
                  <a:pt x="431" y="2134"/>
                  <a:pt x="473" y="2114"/>
                  <a:pt x="473" y="2114"/>
                </a:cubicBezTo>
                <a:cubicBezTo>
                  <a:pt x="505" y="2066"/>
                  <a:pt x="532" y="2046"/>
                  <a:pt x="576" y="2011"/>
                </a:cubicBezTo>
                <a:cubicBezTo>
                  <a:pt x="591" y="1999"/>
                  <a:pt x="623" y="1979"/>
                  <a:pt x="623" y="1979"/>
                </a:cubicBezTo>
                <a:cubicBezTo>
                  <a:pt x="633" y="1884"/>
                  <a:pt x="623" y="1926"/>
                  <a:pt x="647" y="1853"/>
                </a:cubicBezTo>
                <a:cubicBezTo>
                  <a:pt x="653" y="1835"/>
                  <a:pt x="678" y="1832"/>
                  <a:pt x="694" y="1822"/>
                </a:cubicBezTo>
                <a:cubicBezTo>
                  <a:pt x="702" y="1817"/>
                  <a:pt x="718" y="1806"/>
                  <a:pt x="718" y="1806"/>
                </a:cubicBezTo>
                <a:cubicBezTo>
                  <a:pt x="714" y="1777"/>
                  <a:pt x="723" y="1740"/>
                  <a:pt x="702" y="1719"/>
                </a:cubicBezTo>
                <a:cubicBezTo>
                  <a:pt x="672" y="1689"/>
                  <a:pt x="623" y="1669"/>
                  <a:pt x="584" y="1656"/>
                </a:cubicBezTo>
                <a:cubicBezTo>
                  <a:pt x="566" y="1650"/>
                  <a:pt x="555" y="1626"/>
                  <a:pt x="536" y="1624"/>
                </a:cubicBezTo>
                <a:cubicBezTo>
                  <a:pt x="502" y="1621"/>
                  <a:pt x="468" y="1619"/>
                  <a:pt x="434" y="1616"/>
                </a:cubicBezTo>
                <a:cubicBezTo>
                  <a:pt x="428" y="1612"/>
                  <a:pt x="392" y="1591"/>
                  <a:pt x="387" y="1585"/>
                </a:cubicBezTo>
                <a:cubicBezTo>
                  <a:pt x="360" y="1557"/>
                  <a:pt x="380" y="1567"/>
                  <a:pt x="363" y="1538"/>
                </a:cubicBezTo>
                <a:cubicBezTo>
                  <a:pt x="342" y="1501"/>
                  <a:pt x="326" y="1474"/>
                  <a:pt x="292" y="1451"/>
                </a:cubicBezTo>
                <a:cubicBezTo>
                  <a:pt x="251" y="1390"/>
                  <a:pt x="186" y="1394"/>
                  <a:pt x="118" y="1388"/>
                </a:cubicBezTo>
                <a:cubicBezTo>
                  <a:pt x="199" y="1334"/>
                  <a:pt x="169" y="1347"/>
                  <a:pt x="363" y="1380"/>
                </a:cubicBezTo>
                <a:cubicBezTo>
                  <a:pt x="382" y="1383"/>
                  <a:pt x="366" y="1421"/>
                  <a:pt x="379" y="1435"/>
                </a:cubicBezTo>
                <a:cubicBezTo>
                  <a:pt x="404" y="1461"/>
                  <a:pt x="471" y="1464"/>
                  <a:pt x="497" y="1467"/>
                </a:cubicBezTo>
                <a:cubicBezTo>
                  <a:pt x="500" y="1480"/>
                  <a:pt x="498" y="1495"/>
                  <a:pt x="505" y="1506"/>
                </a:cubicBezTo>
                <a:cubicBezTo>
                  <a:pt x="518" y="1528"/>
                  <a:pt x="563" y="1531"/>
                  <a:pt x="584" y="1538"/>
                </a:cubicBezTo>
                <a:cubicBezTo>
                  <a:pt x="618" y="1535"/>
                  <a:pt x="653" y="1540"/>
                  <a:pt x="686" y="1530"/>
                </a:cubicBezTo>
                <a:cubicBezTo>
                  <a:pt x="694" y="1528"/>
                  <a:pt x="690" y="1513"/>
                  <a:pt x="694" y="1506"/>
                </a:cubicBezTo>
                <a:cubicBezTo>
                  <a:pt x="703" y="1489"/>
                  <a:pt x="726" y="1459"/>
                  <a:pt x="726" y="1459"/>
                </a:cubicBezTo>
                <a:cubicBezTo>
                  <a:pt x="725" y="1447"/>
                  <a:pt x="723" y="1387"/>
                  <a:pt x="710" y="1364"/>
                </a:cubicBezTo>
                <a:cubicBezTo>
                  <a:pt x="701" y="1347"/>
                  <a:pt x="678" y="1317"/>
                  <a:pt x="678" y="1317"/>
                </a:cubicBezTo>
                <a:cubicBezTo>
                  <a:pt x="689" y="1285"/>
                  <a:pt x="698" y="1272"/>
                  <a:pt x="726" y="1253"/>
                </a:cubicBezTo>
                <a:cubicBezTo>
                  <a:pt x="745" y="1226"/>
                  <a:pt x="757" y="1209"/>
                  <a:pt x="789" y="1198"/>
                </a:cubicBezTo>
                <a:cubicBezTo>
                  <a:pt x="804" y="1184"/>
                  <a:pt x="835" y="1179"/>
                  <a:pt x="836" y="1159"/>
                </a:cubicBezTo>
                <a:cubicBezTo>
                  <a:pt x="840" y="1051"/>
                  <a:pt x="896" y="757"/>
                  <a:pt x="750" y="662"/>
                </a:cubicBezTo>
                <a:cubicBezTo>
                  <a:pt x="718" y="613"/>
                  <a:pt x="730" y="618"/>
                  <a:pt x="678" y="567"/>
                </a:cubicBezTo>
                <a:cubicBezTo>
                  <a:pt x="671" y="560"/>
                  <a:pt x="668" y="551"/>
                  <a:pt x="663" y="543"/>
                </a:cubicBezTo>
                <a:cubicBezTo>
                  <a:pt x="658" y="535"/>
                  <a:pt x="639" y="525"/>
                  <a:pt x="647" y="520"/>
                </a:cubicBezTo>
                <a:cubicBezTo>
                  <a:pt x="658" y="513"/>
                  <a:pt x="673" y="525"/>
                  <a:pt x="686" y="528"/>
                </a:cubicBezTo>
                <a:cubicBezTo>
                  <a:pt x="723" y="525"/>
                  <a:pt x="763" y="535"/>
                  <a:pt x="797" y="520"/>
                </a:cubicBezTo>
                <a:cubicBezTo>
                  <a:pt x="812" y="513"/>
                  <a:pt x="808" y="488"/>
                  <a:pt x="813" y="472"/>
                </a:cubicBezTo>
                <a:cubicBezTo>
                  <a:pt x="832" y="414"/>
                  <a:pt x="850" y="352"/>
                  <a:pt x="860" y="291"/>
                </a:cubicBezTo>
                <a:cubicBezTo>
                  <a:pt x="857" y="270"/>
                  <a:pt x="860" y="248"/>
                  <a:pt x="852" y="228"/>
                </a:cubicBezTo>
                <a:cubicBezTo>
                  <a:pt x="848" y="219"/>
                  <a:pt x="835" y="219"/>
                  <a:pt x="828" y="212"/>
                </a:cubicBezTo>
                <a:cubicBezTo>
                  <a:pt x="797" y="180"/>
                  <a:pt x="812" y="187"/>
                  <a:pt x="765" y="173"/>
                </a:cubicBezTo>
                <a:cubicBezTo>
                  <a:pt x="757" y="168"/>
                  <a:pt x="744" y="166"/>
                  <a:pt x="742" y="157"/>
                </a:cubicBezTo>
                <a:cubicBezTo>
                  <a:pt x="730" y="112"/>
                  <a:pt x="776" y="99"/>
                  <a:pt x="805" y="86"/>
                </a:cubicBezTo>
                <a:cubicBezTo>
                  <a:pt x="833" y="57"/>
                  <a:pt x="861" y="35"/>
                  <a:pt x="899" y="23"/>
                </a:cubicBezTo>
                <a:cubicBezTo>
                  <a:pt x="1018" y="27"/>
                  <a:pt x="1079" y="0"/>
                  <a:pt x="1160" y="54"/>
                </a:cubicBezTo>
                <a:cubicBezTo>
                  <a:pt x="1157" y="67"/>
                  <a:pt x="1160" y="83"/>
                  <a:pt x="1152" y="94"/>
                </a:cubicBezTo>
                <a:cubicBezTo>
                  <a:pt x="1147" y="101"/>
                  <a:pt x="1120" y="103"/>
                  <a:pt x="1128" y="101"/>
                </a:cubicBezTo>
                <a:cubicBezTo>
                  <a:pt x="1187" y="89"/>
                  <a:pt x="1186" y="88"/>
                  <a:pt x="1239" y="70"/>
                </a:cubicBezTo>
                <a:cubicBezTo>
                  <a:pt x="1255" y="65"/>
                  <a:pt x="1191" y="86"/>
                  <a:pt x="1191" y="86"/>
                </a:cubicBezTo>
                <a:cubicBezTo>
                  <a:pt x="1186" y="94"/>
                  <a:pt x="1184" y="104"/>
                  <a:pt x="1176" y="109"/>
                </a:cubicBezTo>
                <a:cubicBezTo>
                  <a:pt x="1162" y="118"/>
                  <a:pt x="1128" y="125"/>
                  <a:pt x="1128" y="125"/>
                </a:cubicBezTo>
                <a:cubicBezTo>
                  <a:pt x="1035" y="189"/>
                  <a:pt x="1092" y="266"/>
                  <a:pt x="1097" y="401"/>
                </a:cubicBezTo>
                <a:cubicBezTo>
                  <a:pt x="1100" y="469"/>
                  <a:pt x="1095" y="528"/>
                  <a:pt x="1112" y="591"/>
                </a:cubicBezTo>
                <a:cubicBezTo>
                  <a:pt x="1121" y="624"/>
                  <a:pt x="1141" y="652"/>
                  <a:pt x="1152" y="685"/>
                </a:cubicBezTo>
                <a:cubicBezTo>
                  <a:pt x="1157" y="701"/>
                  <a:pt x="1168" y="733"/>
                  <a:pt x="1168" y="733"/>
                </a:cubicBezTo>
                <a:cubicBezTo>
                  <a:pt x="1180" y="838"/>
                  <a:pt x="1151" y="796"/>
                  <a:pt x="1223" y="796"/>
                </a:cubicBezTo>
                <a:cubicBezTo>
                  <a:pt x="1231" y="796"/>
                  <a:pt x="1239" y="801"/>
                  <a:pt x="1247" y="804"/>
                </a:cubicBezTo>
                <a:cubicBezTo>
                  <a:pt x="1236" y="993"/>
                  <a:pt x="1267" y="916"/>
                  <a:pt x="1168" y="985"/>
                </a:cubicBezTo>
                <a:cubicBezTo>
                  <a:pt x="1173" y="1114"/>
                  <a:pt x="1208" y="1163"/>
                  <a:pt x="1152" y="1246"/>
                </a:cubicBezTo>
                <a:cubicBezTo>
                  <a:pt x="1181" y="1274"/>
                  <a:pt x="1214" y="1279"/>
                  <a:pt x="1247" y="1301"/>
                </a:cubicBezTo>
                <a:cubicBezTo>
                  <a:pt x="1271" y="1384"/>
                  <a:pt x="1264" y="1487"/>
                  <a:pt x="1270" y="1569"/>
                </a:cubicBezTo>
                <a:cubicBezTo>
                  <a:pt x="1275" y="1647"/>
                  <a:pt x="1260" y="1628"/>
                  <a:pt x="1302" y="1656"/>
                </a:cubicBezTo>
                <a:cubicBezTo>
                  <a:pt x="1318" y="1680"/>
                  <a:pt x="1321" y="1706"/>
                  <a:pt x="1349" y="1719"/>
                </a:cubicBezTo>
                <a:cubicBezTo>
                  <a:pt x="1364" y="1726"/>
                  <a:pt x="1397" y="1735"/>
                  <a:pt x="1397" y="1735"/>
                </a:cubicBezTo>
                <a:cubicBezTo>
                  <a:pt x="1411" y="1818"/>
                  <a:pt x="1393" y="1823"/>
                  <a:pt x="1460" y="1845"/>
                </a:cubicBezTo>
                <a:cubicBezTo>
                  <a:pt x="1482" y="1868"/>
                  <a:pt x="1496" y="1886"/>
                  <a:pt x="1507" y="1916"/>
                </a:cubicBezTo>
                <a:cubicBezTo>
                  <a:pt x="1510" y="1961"/>
                  <a:pt x="1512" y="2112"/>
                  <a:pt x="1531" y="2169"/>
                </a:cubicBezTo>
                <a:cubicBezTo>
                  <a:pt x="1539" y="2193"/>
                  <a:pt x="1612" y="2198"/>
                  <a:pt x="1625" y="2200"/>
                </a:cubicBezTo>
                <a:cubicBezTo>
                  <a:pt x="1643" y="2212"/>
                  <a:pt x="1660" y="2221"/>
                  <a:pt x="1673" y="2240"/>
                </a:cubicBezTo>
                <a:cubicBezTo>
                  <a:pt x="1703" y="2284"/>
                  <a:pt x="1682" y="2290"/>
                  <a:pt x="1744" y="2311"/>
                </a:cubicBezTo>
                <a:cubicBezTo>
                  <a:pt x="1751" y="2331"/>
                  <a:pt x="1755" y="2364"/>
                  <a:pt x="1767" y="2382"/>
                </a:cubicBezTo>
                <a:cubicBezTo>
                  <a:pt x="1800" y="2431"/>
                  <a:pt x="1894" y="2425"/>
                  <a:pt x="1941" y="2429"/>
                </a:cubicBezTo>
                <a:cubicBezTo>
                  <a:pt x="1986" y="2496"/>
                  <a:pt x="1967" y="2487"/>
                  <a:pt x="1988" y="2563"/>
                </a:cubicBezTo>
                <a:cubicBezTo>
                  <a:pt x="1992" y="2578"/>
                  <a:pt x="2005" y="2614"/>
                  <a:pt x="2012" y="2634"/>
                </a:cubicBezTo>
                <a:cubicBezTo>
                  <a:pt x="2015" y="2642"/>
                  <a:pt x="2020" y="2658"/>
                  <a:pt x="2020" y="2658"/>
                </a:cubicBezTo>
                <a:cubicBezTo>
                  <a:pt x="2017" y="2676"/>
                  <a:pt x="2029" y="2707"/>
                  <a:pt x="2012" y="2713"/>
                </a:cubicBezTo>
                <a:cubicBezTo>
                  <a:pt x="1960" y="2732"/>
                  <a:pt x="1901" y="2717"/>
                  <a:pt x="1846" y="2721"/>
                </a:cubicBezTo>
                <a:cubicBezTo>
                  <a:pt x="1832" y="2722"/>
                  <a:pt x="1773" y="2743"/>
                  <a:pt x="1767" y="2745"/>
                </a:cubicBezTo>
                <a:cubicBezTo>
                  <a:pt x="1692" y="2770"/>
                  <a:pt x="1610" y="2755"/>
                  <a:pt x="1531" y="2761"/>
                </a:cubicBezTo>
                <a:cubicBezTo>
                  <a:pt x="1371" y="2808"/>
                  <a:pt x="1355" y="2808"/>
                  <a:pt x="1152" y="2816"/>
                </a:cubicBezTo>
                <a:cubicBezTo>
                  <a:pt x="1000" y="2854"/>
                  <a:pt x="839" y="2806"/>
                  <a:pt x="686" y="2839"/>
                </a:cubicBezTo>
                <a:cubicBezTo>
                  <a:pt x="623" y="2825"/>
                  <a:pt x="531" y="2747"/>
                  <a:pt x="481" y="2745"/>
                </a:cubicBezTo>
                <a:cubicBezTo>
                  <a:pt x="331" y="2740"/>
                  <a:pt x="181" y="2740"/>
                  <a:pt x="31" y="2737"/>
                </a:cubicBezTo>
                <a:cubicBezTo>
                  <a:pt x="23" y="2711"/>
                  <a:pt x="9" y="2692"/>
                  <a:pt x="0" y="2666"/>
                </a:cubicBezTo>
                <a:cubicBezTo>
                  <a:pt x="29" y="2656"/>
                  <a:pt x="24" y="2650"/>
                  <a:pt x="24" y="2674"/>
                </a:cubicBezTo>
                <a:close/>
              </a:path>
            </a:pathLst>
          </a:custGeom>
          <a:gradFill rotWithShape="0">
            <a:gsLst>
              <a:gs pos="0">
                <a:srgbClr val="c24400"/>
              </a:gs>
              <a:gs pos="100000">
                <a:srgbClr val="5a1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2071800" y="0"/>
            <a:ext cx="4968720" cy="2293920"/>
          </a:xfrm>
          <a:prstGeom prst="cloudCallout">
            <a:avLst>
              <a:gd name="adj1" fmla="val -24407"/>
              <a:gd name="adj2" fmla="val 44810"/>
            </a:avLst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419640" y="2708280"/>
            <a:ext cx="287280" cy="144360"/>
          </a:xfrm>
          <a:prstGeom prst="ellipse">
            <a:avLst/>
          </a:prstGeom>
          <a:solidFill>
            <a:srgbClr val="c24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419640" y="2349360"/>
            <a:ext cx="288720" cy="144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348000" y="2997360"/>
            <a:ext cx="287280" cy="215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276720" y="2492280"/>
            <a:ext cx="287280" cy="216000"/>
          </a:xfrm>
          <a:prstGeom prst="ellipse">
            <a:avLst/>
          </a:prstGeom>
          <a:solidFill>
            <a:srgbClr val="c24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28"/>
          <p:cNvSpPr/>
          <p:nvPr/>
        </p:nvSpPr>
        <p:spPr>
          <a:xfrm>
            <a:off x="3492360" y="2708280"/>
            <a:ext cx="287640" cy="216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27"/>
          <p:cNvSpPr/>
          <p:nvPr/>
        </p:nvSpPr>
        <p:spPr>
          <a:xfrm>
            <a:off x="6000840" y="2643120"/>
            <a:ext cx="33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0507"/>
                </a:solidFill>
                <a:latin typeface="Arial"/>
              </a:rPr>
              <a:t>Вулканиче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0507"/>
                </a:solidFill>
                <a:latin typeface="Arial"/>
              </a:rPr>
              <a:t>бом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52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5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6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Motion origin="layout" path="M -8.33333E-007 -0.04718 C -0.00521 -0.05296 -0.00694 -0.06568 -0.01024 -0.07609 C -0.01042 -0.10546 -0.01042 -0.13437 -0.01076 -0.16351 C -0.01094 -0.17438 -0.01111 -0.18501 -0.01163 -0.19588 C -0.0118 -0.2012 -0.01528 -0.21022 -0.01597 -0.21207 C -0.01858 -0.22086 -0.01424 -0.21277 -0.01805 -0.22179 C -0.02135 -0.22942 -0.02726 -0.24052 -0.03177 -0.24283 C -0.0368 -0.25069 -0.03055 -0.24168 -0.0368 -0.24769 C -0.03767 -0.24838 -0.03819 -0.25 -0.03906 -0.25093 C -0.04045 -0.25231 -0.0434 -0.25393 -0.0434 -0.25393 C -0.05399 -0.25347 -0.06458 -0.25347 -0.07517 -0.25255 C -0.08038 -0.25208 -0.08403 -0.24376 -0.08889 -0.24121 C -0.08976 -0.23959 -0.09028 -0.23774 -0.09114 -0.23636 C -0.09184 -0.23497 -0.09253 -0.23427 -0.09323 -0.23289 C -0.09705 -0.22526 -0.09809 -0.2204 -0.1026 -0.21693 C -0.10503 -0.21022 -0.10677 -0.20884 -0.10989 -0.20398 C -0.11128 -0.20167 -0.11424 -0.1975 -0.11424 -0.19727 C -0.11493 -0.19519 -0.11562 -0.19288 -0.11649 -0.1908 C -0.11805 -0.1871 -0.12153 -0.1797 -0.12153 -0.1797 C -0.12222 -0.17646 -0.12274 -0.17276 -0.12361 -0.16975 C -0.12448 -0.1679 -0.12552 -0.16698 -0.12656 -0.16513 C -0.1283 -0.16166 -0.12986 -0.15749 -0.1316 -0.15403 L -0.1316 -0.15356 C -0.13455 -0.14339 -0.13785 -0.13483 -0.14167 -0.12627 C -0.14809 -0.11193 -0.1434 -0.11957 -0.14687 -0.10847 C -0.15156 -0.09251 -0.15712 -0.07748 -0.16198 -0.06152 C -0.16337 -0.0525 -0.1618 -0.0599 -0.16562 -0.05042 C -0.16736 -0.04579 -0.16701 -0.04417 -0.16858 -0.03885 C -0.17413 -0.01781 -0.16892 -0.0377 -0.17361 -0.02428 C -0.17795 -0.01156 -0.18021 0.00462 -0.18507 0.01596 C -0.18941 0.02613 -0.1993 0.02567 -0.20469 0.02567 E">
                                      <p:cBhvr>
                                        <p:cTn id="23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Motion origin="layout" path="M 1.94444E-006 -1.12858E-006 C 0.00261 -0.01781 0.00278 -0.01619 0.00278 -0.04394 C 0.00278 -0.08048 0.00226 -0.11679 0.00139 -0.15333 C 0.00087 -0.17831 -0.0316 -0.18895 -0.04548 -0.19357 C -0.06076 -0.19241 -0.07639 -0.19149 -0.09184 -0.18987 C -0.10173 -0.18895 -0.10955 -0.18247 -0.11927 -0.18062 C -0.12413 -0.17831 -0.1283 -0.17646 -0.13298 -0.17345 C -0.13923 -0.16466 -0.14739 -0.15634 -0.15486 -0.14963 C -0.15816 -0.14339 -0.15885 -0.13945 -0.16441 -0.13691 C -0.1691 -0.12743 -0.17205 -0.11771 -0.17951 -0.11147 C -0.18333 -0.10129 -0.18854 -0.09181 -0.19323 -0.0821 C -0.1941 -0.08025 -0.19601 -0.07678 -0.19601 -0.07678 C -0.19878 -0.06429 -0.19982 -0.05111 -0.20555 -0.04024 C -0.20851 -0.02868 -0.2158 -0.01434 -0.22326 -0.0074 C -0.22587 0.00324 -0.23298 0.01156 -0.23559 0.02174 C -0.23819 0.03215 -0.23889 0.04209 -0.23976 0.05296 C -0.23976 0.05342 -0.24132 0.13067 -0.24253 0.14408 C -0.24271 0.14662 -0.24548 0.15772 -0.24792 0.1605 C -0.25035 0.16351 -0.25625 0.1679 -0.25625 0.1679 C -0.26042 0.16651 -0.26267 0.16651 -0.2658 0.16235 C -0.27118 0.15518 -0.26545 0.15796 -0.27257 0.15333 C -0.27726 0.15032 -0.27673 0.15379 -0.27673 0.14963 E">
                                      <p:cBhvr>
                                        <p:cTn id="238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Motion origin="layout" path="M 0.00069 -0.03515 C 0.00173 -0.04833 0.00295 -0.0592 0.00607 -0.07169 C 0.00868 -0.09551 0.01562 -0.10175 0.02934 -0.1154 C 0.03489 -0.12095 0.0401 -0.12835 0.04583 -0.13367 C 0.05034 -0.13806 0.05625 -0.14061 0.06093 -0.14454 C 0.06944 -0.15148 0.07743 -0.16142 0.08698 -0.16466 C 0.09409 -0.16952 0.10017 -0.17044 0.10746 -0.17391 C 0.14271 -0.17322 0.17795 -0.17645 0.21302 -0.17206 C 0.22899 -0.17021 0.24305 -0.1568 0.25816 -0.15009 C 0.2651 -0.14685 0.27882 -0.13922 0.27882 -0.13922 C 0.29444 -0.12164 0.30017 -0.11031 0.31163 -0.08996 C 0.31736 -0.08002 0.32031 -0.06545 0.32812 -0.05897 C 0.32951 -0.05018 0.33142 -0.04694 0.33628 -0.0407 C 0.34635 -0.0141 0.33177 -0.05064 0.34305 -0.02798 C 0.35104 -0.01202 0.3368 -0.03353 0.34722 -0.01688 C 0.35521 -0.00393 0.36198 0.01064 0.37048 0.02313 C 0.37916 0.03585 0.38871 0.04764 0.39791 0.05967 C 0.40659 0.071 0.4125 0.08742 0.42257 0.09621 C 0.42795 0.11032 0.43385 0.12512 0.44045 0.1383 C 0.44166 0.16883 0.43646 0.16929 0.45399 0.16929 E">
                                      <p:cBhvr>
                                        <p:cTn id="24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Motion origin="layout" path="M 1.66667E-006 0.02058 C 0.00955 0.01318 0.01285 -0.00232 0.01857 -0.01527 C 0.0191 -0.05088 0.01927 -0.08673 0.01996 -0.12234 C 0.02014 -0.13576 0.02048 -0.14894 0.02118 -0.16212 C 0.02153 -0.16883 0.02795 -0.17993 0.02917 -0.18201 C 0.03437 -0.19288 0.02604 -0.18294 0.03333 -0.19404 C 0.03941 -0.20329 0.05017 -0.21693 0.05868 -0.21971 C 0.06805 -0.22942 0.05625 -0.21832 0.06805 -0.22572 C 0.06944 -0.22665 0.07048 -0.22873 0.07205 -0.22965 C 0.07465 -0.2315 0.08003 -0.23358 0.08003 -0.23335 C 0.09965 -0.23289 0.1191 -0.23289 0.13871 -0.23173 C 0.14844 -0.23127 0.15521 -0.22086 0.16423 -0.21786 C 0.16545 -0.21578 0.16667 -0.21346 0.16823 -0.21184 C 0.16944 -0.21023 0.17101 -0.2093 0.17205 -0.20768 C 0.17917 -0.1982 0.18107 -0.19219 0.18958 -0.18779 C 0.19375 -0.17947 0.19722 -0.17808 0.20295 -0.17207 C 0.20555 -0.16929 0.21094 -0.1642 0.21094 -0.16397 C 0.21232 -0.16143 0.21337 -0.15865 0.21493 -0.15611 C 0.21788 -0.15148 0.2243 -0.14223 0.2243 -0.142 C 0.22569 -0.1383 0.22656 -0.13368 0.2283 -0.13021 C 0.22969 -0.12766 0.23194 -0.12674 0.23368 -0.12443 C 0.2368 -0.12026 0.23993 -0.11518 0.24305 -0.11055 L 0.24305 -0.11032 C 0.24844 -0.09783 0.25451 -0.08742 0.26163 -0.07655 C 0.27344 -0.05898 0.26493 -0.06846 0.27101 -0.05505 C 0.27986 -0.03539 0.28993 -0.01666 0.29913 0.00277 C 0.30173 0.01387 0.29896 0.00462 0.30573 0.01665 C 0.30903 0.02197 0.30851 0.02405 0.31111 0.03075 C 0.3217 0.05643 0.31198 0.03214 0.32048 0.04856 C 0.32864 0.06406 0.33264 0.08418 0.34184 0.09805 C 0.34982 0.11031 0.36805 0.10985 0.37812 0.10985 E">
                                      <p:cBhvr>
                                        <p:cTn id="24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Motion origin="layout" path="M 1.66667E-006 0.02058 C 0.00955 0.01318 0.01285 -0.00232 0.01857 -0.01527 C 0.0191 -0.05088 0.01927 -0.08673 0.01996 -0.12234 C 0.02014 -0.13576 0.02048 -0.14894 0.02118 -0.16212 C 0.02153 -0.16883 0.02795 -0.17993 0.02917 -0.18201 C 0.03437 -0.19288 0.02604 -0.18294 0.03333 -0.19404 C 0.03941 -0.20329 0.05017 -0.21693 0.05868 -0.21971 C 0.06805 -0.22942 0.05625 -0.21832 0.06805 -0.22572 C 0.06944 -0.22665 0.07048 -0.22873 0.07205 -0.22965 C 0.07465 -0.2315 0.08003 -0.23358 0.08003 -0.23335 C 0.09965 -0.23289 0.1191 -0.23289 0.13871 -0.23173 C 0.14844 -0.23127 0.15521 -0.22086 0.16423 -0.21786 C 0.16545 -0.21578 0.16667 -0.21346 0.16823 -0.21184 C 0.16944 -0.21023 0.17101 -0.2093 0.17205 -0.20768 C 0.17917 -0.1982 0.18107 -0.19219 0.18958 -0.18779 C 0.19375 -0.17947 0.19722 -0.17808 0.20295 -0.17207 C 0.20555 -0.16929 0.21094 -0.1642 0.21094 -0.16397 C 0.21232 -0.16143 0.21337 -0.15865 0.21493 -0.15611 C 0.21788 -0.15148 0.2243 -0.14223 0.2243 -0.142 C 0.22569 -0.1383 0.22656 -0.13368 0.2283 -0.13021 C 0.22969 -0.12766 0.23194 -0.12674 0.23368 -0.12443 C 0.2368 -0.12026 0.23993 -0.11518 0.24305 -0.11055 L 0.24305 -0.11032 C 0.24844 -0.09783 0.25451 -0.08742 0.26163 -0.07655 C 0.27344 -0.05898 0.26493 -0.06846 0.27101 -0.05505 C 0.27986 -0.03539 0.28993 -0.01666 0.29913 0.00277 C 0.30173 0.01387 0.29896 0.00462 0.30573 0.01665 C 0.30903 0.02197 0.30851 0.02405 0.31111 0.03075 C 0.3217 0.05643 0.31198 0.03214 0.32048 0.04856 C 0.32864 0.06406 0.33264 0.08418 0.34184 0.09805 C 0.34982 0.11031 0.36805 0.10985 0.37812 0.10985 E">
                                      <p:cBhvr>
                                        <p:cTn id="25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Новые слов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Очаг магмы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- место под земной корой 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где собирается маг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Жерло вулкана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– канал по которому поднимается маг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Кратер вулкана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– чашеобразное углубление на вершине го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Лава </a:t>
            </a:r>
            <a:r>
              <a:rPr b="0" lang="ru-RU" sz="3600" spc="-1" strike="noStrike">
                <a:solidFill>
                  <a:srgbClr val="e3e3ff"/>
                </a:solidFill>
                <a:latin typeface="Monotype Corsiva"/>
              </a:rPr>
              <a:t>– излившаяся маг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ак образуются вулканы</a:t>
            </a:r>
            <a:r>
              <a:rPr b="1" i="1" lang="en-US" sz="4400" spc="-1" strike="noStrike">
                <a:solidFill>
                  <a:srgbClr val="4285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186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ящаяся на глубине огненно-жидкая масса при вскипании и под большим давлением, расширяя трещину в земной коре, устремляется вверх. Это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аг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лившаяся на поверхность Земли магма называется-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схема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460836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15"/>
          <p:cNvSpPr/>
          <p:nvPr/>
        </p:nvSpPr>
        <p:spPr>
          <a:xfrm>
            <a:off x="7596360" y="51577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30"/>
          <p:cNvSpPr/>
          <p:nvPr/>
        </p:nvSpPr>
        <p:spPr>
          <a:xfrm rot="1857600">
            <a:off x="7164000" y="213372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7929720" y="62866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ео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04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01337 0.10833 C -0.01563 0.13171 -0.02535 0.15972 -0.0401 0.18403 C -0.05677 0.21181 -0.07431 0.22963 -0.09097 0.23773 L -0.16754 0.27893 E">
                                      <p:cBhvr>
                                        <p:cTn id="31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4"/>
          <p:cNvSpPr/>
          <p:nvPr/>
        </p:nvSpPr>
        <p:spPr>
          <a:xfrm>
            <a:off x="3996360" y="105264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Гек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4139640" y="155736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Везу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1554840" y="22050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Ориса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1835280" y="2924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отопах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1977840" y="393372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Льюльяйлья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6516720" y="335772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ракат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5436360" y="170028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Эльбр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6370920" y="112536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лючевск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Соп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7308720" y="22766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Фудзия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4427280" y="33577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f2b"/>
                </a:solidFill>
                <a:latin typeface="Arial"/>
              </a:rPr>
              <a:t>Килиманджа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6" descr="f41527acf60ae385b55f8e0446cc62d6"/>
          <p:cNvPicPr/>
          <p:nvPr/>
        </p:nvPicPr>
        <p:blipFill>
          <a:blip r:embed="rId2"/>
          <a:stretch/>
        </p:blipFill>
        <p:spPr>
          <a:xfrm>
            <a:off x="7524720" y="198900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f41527acf60ae385b55f8e0446cc62d6"/>
          <p:cNvPicPr/>
          <p:nvPr/>
        </p:nvPicPr>
        <p:blipFill>
          <a:blip r:embed="rId3"/>
          <a:stretch/>
        </p:blipFill>
        <p:spPr>
          <a:xfrm>
            <a:off x="7667640" y="1413000"/>
            <a:ext cx="447840" cy="39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8" descr="f41527acf60ae385b55f8e0446cc62d6"/>
          <p:cNvPicPr/>
          <p:nvPr/>
        </p:nvPicPr>
        <p:blipFill>
          <a:blip r:embed="rId4"/>
          <a:stretch/>
        </p:blipFill>
        <p:spPr>
          <a:xfrm>
            <a:off x="1619280" y="249228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9" descr="f41527acf60ae385b55f8e0446cc62d6"/>
          <p:cNvPicPr/>
          <p:nvPr/>
        </p:nvPicPr>
        <p:blipFill>
          <a:blip r:embed="rId5"/>
          <a:stretch/>
        </p:blipFill>
        <p:spPr>
          <a:xfrm>
            <a:off x="2268360" y="371628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0" descr="f41527acf60ae385b55f8e0446cc62d6"/>
          <p:cNvPicPr/>
          <p:nvPr/>
        </p:nvPicPr>
        <p:blipFill>
          <a:blip r:embed="rId6"/>
          <a:stretch/>
        </p:blipFill>
        <p:spPr>
          <a:xfrm>
            <a:off x="1979640" y="321300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1" descr="f41527acf60ae385b55f8e0446cc62d6"/>
          <p:cNvPicPr/>
          <p:nvPr/>
        </p:nvPicPr>
        <p:blipFill>
          <a:blip r:embed="rId7"/>
          <a:stretch/>
        </p:blipFill>
        <p:spPr>
          <a:xfrm>
            <a:off x="6877080" y="314172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2" descr="f41527acf60ae385b55f8e0446cc62d6"/>
          <p:cNvPicPr/>
          <p:nvPr/>
        </p:nvPicPr>
        <p:blipFill>
          <a:blip r:embed="rId8"/>
          <a:stretch/>
        </p:blipFill>
        <p:spPr>
          <a:xfrm>
            <a:off x="5003640" y="321300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3" descr="f41527acf60ae385b55f8e0446cc62d6"/>
          <p:cNvPicPr/>
          <p:nvPr/>
        </p:nvPicPr>
        <p:blipFill>
          <a:blip r:embed="rId9"/>
          <a:stretch/>
        </p:blipFill>
        <p:spPr>
          <a:xfrm>
            <a:off x="5148360" y="1700280"/>
            <a:ext cx="447480" cy="390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4" descr="f41527acf60ae385b55f8e0446cc62d6"/>
          <p:cNvPicPr/>
          <p:nvPr/>
        </p:nvPicPr>
        <p:blipFill>
          <a:blip r:embed="rId10"/>
          <a:stretch/>
        </p:blipFill>
        <p:spPr>
          <a:xfrm>
            <a:off x="4356000" y="1844640"/>
            <a:ext cx="447840" cy="390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5" descr="f41527acf60ae385b55f8e0446cc62d6"/>
          <p:cNvPicPr/>
          <p:nvPr/>
        </p:nvPicPr>
        <p:blipFill>
          <a:blip r:embed="rId11"/>
          <a:stretch/>
        </p:blipFill>
        <p:spPr>
          <a:xfrm>
            <a:off x="3780000" y="1197000"/>
            <a:ext cx="4474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Times New Roman"/>
                <a:ea typeface="Times New Roman"/>
              </a:rPr>
              <a:t>Виды вулкан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600200"/>
            <a:ext cx="8258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ействующи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торые извергаются, и сведения об этом на памя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человечества. Их насчитывается 8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тухшие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об извержении не сохранилось никаких свед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Уснувшие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те,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торые потухли и вдруг начинают действо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Если до извержения вершина вулкана была покрыта снегом и льдом, то раскаленная лава растапливает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Вода, смешанная с пеплом и камнями, образует грязевые потоки, которые несутся вниз, опустошая все на своем пу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Грязевые потоки со временем уплотняются и образуется особый вид твердой породы- вулканический ту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4" descr="img 4"/>
          <p:cNvPicPr/>
          <p:nvPr/>
        </p:nvPicPr>
        <p:blipFill>
          <a:blip r:embed="rId1"/>
          <a:stretch/>
        </p:blipFill>
        <p:spPr>
          <a:xfrm>
            <a:off x="5072040" y="3571920"/>
            <a:ext cx="3672000" cy="2736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etna1999"/>
          <p:cNvPicPr/>
          <p:nvPr/>
        </p:nvPicPr>
        <p:blipFill>
          <a:blip r:embed="rId2"/>
          <a:stretch/>
        </p:blipFill>
        <p:spPr>
          <a:xfrm>
            <a:off x="500040" y="3643200"/>
            <a:ext cx="3672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21:36:49Z</dcterms:created>
  <dc:creator>koor</dc:creator>
  <dc:description>школы №1732 
Г. Москвы СВАО 
Дубовицкой Ирины Юрьевны
</dc:description>
  <dc:language>en-US</dc:language>
  <cp:lastModifiedBy>Admin</cp:lastModifiedBy>
  <dcterms:modified xsi:type="dcterms:W3CDTF">2011-10-19T15:46:12Z</dcterms:modified>
  <cp:revision>88</cp:revision>
  <dc:subject/>
  <dc:title>ВУЛКАНЫ</dc:title>
</cp:coreProperties>
</file>