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gif" ContentType="image/gif"/>
  <Override PartName="/ppt/media/image25.png" ContentType="image/png"/>
  <Override PartName="/ppt/media/image32.gif" ContentType="image/gif"/>
  <Override PartName="/ppt/media/image22.gif" ContentType="image/gif"/>
  <Override PartName="/ppt/media/image24.png" ContentType="image/png"/>
  <Override PartName="/ppt/media/image11.jpeg" ContentType="image/jpeg"/>
  <Override PartName="/ppt/media/image31.gif" ContentType="image/gif"/>
  <Override PartName="/ppt/media/image21.gif" ContentType="image/gif"/>
  <Override PartName="/ppt/media/breeze.wav" ContentType="audio/x-wav"/>
  <Override PartName="/ppt/media/whoosh.wav" ContentType="audio/x-wav"/>
  <Override PartName="/ppt/media/image20.gif" ContentType="image/gif"/>
  <Override PartName="/ppt/media/image18.gif" ContentType="image/gif"/>
  <Override PartName="/ppt/media/image17.gif" ContentType="image/gif"/>
  <Override PartName="/ppt/media/type.wav" ContentType="audio/x-wav"/>
  <Override PartName="/ppt/media/image14.gif" ContentType="image/gif"/>
  <Override PartName="/ppt/media/image1.jpeg" ContentType="image/jpeg"/>
  <Override PartName="/ppt/media/image2.jpeg" ContentType="image/jpeg"/>
  <Override PartName="/ppt/media/image19.wmf" ContentType="image/x-wmf"/>
  <Override PartName="/ppt/media/image33.gif" ContentType="image/gif"/>
  <Override PartName="/ppt/media/image26.png" ContentType="image/png"/>
  <Override PartName="/ppt/media/image28.gif" ContentType="image/gif"/>
  <Override PartName="/ppt/media/image30.gif" ContentType="image/gif"/>
  <Override PartName="/ppt/media/image36.gif" ContentType="image/gif"/>
  <Override PartName="/ppt/media/image41.png" ContentType="image/png"/>
  <Override PartName="/ppt/media/image39.png" ContentType="image/png"/>
  <Override PartName="/ppt/media/image29.gif" ContentType="image/gif"/>
  <Override PartName="/ppt/media/image40.gif" ContentType="image/gif"/>
  <Override PartName="/ppt/media/image8.gif" ContentType="image/gif"/>
  <Override PartName="/ppt/media/image38.gif" ContentType="image/gif"/>
  <Override PartName="/ppt/media/image42.png" ContentType="image/png"/>
  <Override PartName="/ppt/media/image3.wmf" ContentType="image/x-wmf"/>
  <Override PartName="/ppt/media/image37.gif" ContentType="image/gif"/>
  <Override PartName="/ppt/media/image34.gif" ContentType="image/gif"/>
  <Override PartName="/ppt/media/image27.png" ContentType="image/png"/>
  <Override PartName="/ppt/media/image4.png" ContentType="image/png"/>
  <Override PartName="/ppt/media/image43.jpeg" ContentType="image/jpeg"/>
  <Override PartName="/ppt/media/image13.gif" ContentType="image/gif"/>
  <Override PartName="/ppt/media/image9.gif" ContentType="image/gif"/>
  <Override PartName="/ppt/media/image16.jpeg" ContentType="image/jpeg"/>
  <Override PartName="/ppt/media/image15.gif" ContentType="image/gif"/>
  <Override PartName="/ppt/media/image6.png" ContentType="image/png"/>
  <Override PartName="/ppt/media/image10.gif" ContentType="image/gif"/>
  <Override PartName="/ppt/media/image5.gif" ContentType="image/gif"/>
  <Override PartName="/ppt/media/image7.jpeg" ContentType="image/jpeg"/>
  <Override PartName="/ppt/media/image35.gif" ContentType="image/gif"/>
  <Override PartName="/ppt/media/carbrake.wav" ContentType="audio/x-wav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E86-D634-4C7B-8C2F-E37A28A4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14C8-7202-4997-B007-9478886D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726-45A8-4A6C-AE9D-A1A0E946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D25-AAA3-4A39-BAD5-40495161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7A2-2B8C-4A9D-BB3D-008EE10C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10F-A5FA-4B3C-ACB9-293E9E5D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F58-D376-4A6B-A0B8-8C1F0082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A63-888C-4295-9BF7-300E4EFD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C4E-55C7-4421-A6CA-ACD81DD6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7A5-9323-4DE7-ACFC-EE24313A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651-6C76-445B-892B-29E245B5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68E-CED2-4627-A7EF-7E88625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13C0-B3E2-412B-A91E-6E28A01DD5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4.png"/><Relationship Id="rId3" Type="http://schemas.openxmlformats.org/officeDocument/2006/relationships/image" Target="../media/image36.gif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gif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hyperlink" Target="file:///tmp/home/.config/libreoffice/4/user/gallery/wind.wav" TargetMode="External"/><Relationship Id="rId7" Type="http://schemas.openxmlformats.org/officeDocument/2006/relationships/image" Target="../media/image20.gif"/><Relationship Id="rId8" Type="http://schemas.openxmlformats.org/officeDocument/2006/relationships/audio" Target="../media/type.wav"/><Relationship Id="rId9" Type="http://schemas.openxmlformats.org/officeDocument/2006/relationships/audio" Target="../media/carbrake.wav"/><Relationship Id="rId10" Type="http://schemas.openxmlformats.org/officeDocument/2006/relationships/audio" Target="../media/whoosh.wav"/><Relationship Id="rId11" Type="http://schemas.openxmlformats.org/officeDocument/2006/relationships/audio" Target="../media/breeze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K01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EN00242_"/>
          <p:cNvPicPr/>
          <p:nvPr/>
        </p:nvPicPr>
        <p:blipFill>
          <a:blip r:embed="rId2"/>
          <a:stretch/>
        </p:blipFill>
        <p:spPr>
          <a:xfrm>
            <a:off x="684360" y="5445000"/>
            <a:ext cx="4174920" cy="104472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1547640" y="765000"/>
            <a:ext cx="6912000" cy="215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ff00ff"/>
                  </a:solidFill>
                  <a:prstDash val="dash"/>
                  <a:miter/>
                </a:ln>
                <a:solidFill>
                  <a:srgbClr val="ff0000"/>
                </a:solidFill>
                <a:latin typeface="Monotype Corsiva"/>
              </a:rPr>
              <a:t>Влияние шума на организм человека</a:t>
            </a:r>
            <a:endParaRPr b="0" lang="en-US" sz="6600" spc="1" strike="noStrike">
              <a:ln w="9360">
                <a:solidFill>
                  <a:srgbClr val="ff00ff"/>
                </a:solidFill>
                <a:prstDash val="dash"/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46" name="Шопен.WAV" descr=""/>
          <p:cNvPicPr/>
          <p:nvPr/>
        </p:nvPicPr>
        <p:blipFill>
          <a:blip r:embed="rId3"/>
          <a:stretch/>
        </p:blipFill>
        <p:spPr>
          <a:xfrm>
            <a:off x="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7" dur="25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Уровни шума в разных условиях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79640" y="3213000"/>
            <a:ext cx="536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Тихая комната ночью – 20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Обычный разговор  - 60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Шум оживленной улицы – 70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Громкость большинства</a:t>
            </a:r>
            <a:r>
              <a:rPr b="1" lang="en-US" sz="2400" spc="-1" strike="noStrike">
                <a:solidFill>
                  <a:srgbClr val="ffcc00"/>
                </a:solidFill>
                <a:latin typeface="Berlin Sans FB"/>
              </a:rPr>
              <a:t>  mp3-</a:t>
            </a: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плееров – 105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Berlin Sans FB"/>
              </a:rPr>
              <a:t>Взлетающий самолет – 110 дециб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a1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484280"/>
            <a:ext cx="1314360" cy="2487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d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15756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Виды шум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5406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Для гигиенической оценки шум подразделяют: по характеру спектра — на широкополосный с непрерывным спектром шириной более одной октавы и тональный, в спектре которого имеются дискретные тона; по спектральному составу — на низкочастотный (максимум звуковой энергии приходится на частоты ниже 400 гЦ), средне-частотный (максимум звуковой энергии на частотах от 400 до 1000 гЦ) и высокочастотный (максимум звуковой энергии на частотах выше 1000 гЦ); по временным характеристикам — на постоянный (уровень звука изменяется во времени но более чем на 5 Дб — по шкале А) и непостоянный. К непостоянному шуму относятся колеблющийся шум, при котором уровень звука непрерывно изменяется во времени; прерывистый шум (уровень звука остается постоянным в течение интервала длительностью 1 сек. и более); импульсный шум, состоящий из одного или нескольких звуковых сигналов длительностью менее 1 се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Патогенез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Механизм действия шума на организм сложен и недостаточно изучен. Когда речь идет о влиянии шума, то обычно основное внимание уделяют состоянию органа слуха, так как слуховой анализатор в первую очередь воспринимает звуковые колебания и поражение его является адекватным действию шума на организм. Наряду с органом слуха восприятие звуковых колебаний частично может осуществляться и через кожный покров рецепторами вибрационной чувствительности. Имеются наблюдения, что люди, лишенные слуха, при прикосновении к источникам, генерирующим звуки, не только ощущают последние, но и могут оценивать звуковые сигналы определенного характера.</a:t>
            </a:r>
            <a:r>
              <a:rPr b="0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88640"/>
            <a:ext cx="8540640" cy="59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Важное значение в предупреждении развития шумовой патологии имеют предварительные при поступлении на работу и периодические медицинские осмотры. Таким осмотрам подлежат лица, работающие на производствах, где шум превышает предельно допустимый уровень (ПДУ) в любой октавной полосе. Медицинским противопоказаниями к допуску на работу, связанную с воздействием интенсивного шума, являются следующие заболе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1. Стойкое понижение слуха, хотя бы на одно ухо, любой этиолог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2. Отосклероз и другие хронические заболевания уха с заведомо неблагоприятным прогноз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3. Нарушение функции вестибулярного аппарата любой этиологии, в том числе болезнь Менье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4. Наркомании, токсикомании, в том числе хронический алкоголиз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5. Выраженная вегетативная дисфунк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6. Гипертоническая болезнь (все фор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Сроки периодических медицинских осмотров устанавливаются в зависимости от интенсивности шума. При интенсивности шума от 81 до 99 дБА — 1 раз в 24 мес, 100 дБА и выше — 1 раз в 12 мес. Первый осмотр отоларинголог проводит через б мес после предварительного медицинского осмотра при поступлении на работу, связанную с воздействием интенсивного шума. Медицинские осмотры должны проводиться с участием отоларинголога, невропатолога и терапев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2627280" y="2997360"/>
          <a:ext cx="388620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997360"/>
                    <a:ext cx="388620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3"/>
          <p:cNvSpPr/>
          <p:nvPr/>
        </p:nvSpPr>
        <p:spPr>
          <a:xfrm>
            <a:off x="1600200" y="327672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нешнее у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33760" y="380988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нутреннее у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810600" y="609588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реднее у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1619280" y="1413000"/>
          <a:ext cx="64008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41300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2675160" y="88416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Строение ух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1752480" y="1447920"/>
          <a:ext cx="56390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5639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1042920" y="620640"/>
          <a:ext cx="6782040" cy="58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20640"/>
                    <a:ext cx="678204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-1021320" y="765000"/>
            <a:ext cx="109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3f25"/>
                </a:solidFill>
                <a:latin typeface="Monotype Corsiva"/>
              </a:rPr>
              <a:t>Действие «тяжелого рока» на организм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06960" y="1833480"/>
            <a:ext cx="58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Ускорение сердечных сокра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42920" y="43545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нижается способность человека контролир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вое по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58720" y="543384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Усиливается склонность к агре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851040" y="22654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нижение слу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50720" y="2841480"/>
            <a:ext cx="72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Происходит нервное истощение орган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93120" y="3500280"/>
            <a:ext cx="90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Появляется ощущение тревоги, растерянности, стра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0" descr="c04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12000" y="134136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dead_nazis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156360" y="4869000"/>
            <a:ext cx="27716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476360" y="260280"/>
            <a:ext cx="647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Громкая, продолжительная музыка</a:t>
            </a:r>
            <a:r>
              <a:rPr b="1" lang="en-US" sz="32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в</a:t>
            </a:r>
            <a:r>
              <a:rPr b="1" lang="en-US" sz="3200" spc="-1" strike="noStrike">
                <a:solidFill>
                  <a:srgbClr val="ff3300"/>
                </a:solidFill>
                <a:latin typeface="Monotype Corsiva"/>
              </a:rPr>
              <a:t> c</a:t>
            </a: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 сочетании с ярким, мигающим светом приводит к нервному истощению,   нарушению  функций важных орг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anim10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332000" y="2492280"/>
            <a:ext cx="1085760" cy="4124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22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132000" y="3789360"/>
            <a:ext cx="2460600" cy="271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24r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940360" y="2565360"/>
            <a:ext cx="2952720" cy="3816360"/>
          </a:xfrm>
          <a:prstGeom prst="rect">
            <a:avLst/>
          </a:prstGeom>
          <a:ln w="0">
            <a:noFill/>
          </a:ln>
        </p:spPr>
      </p:pic>
      <p:pic>
        <p:nvPicPr>
          <p:cNvPr id="121" name="Колбасный цех 5.mp3" descr=""/>
          <p:cNvPicPr/>
          <p:nvPr/>
        </p:nvPicPr>
        <p:blipFill>
          <a:blip r:embed="rId4"/>
          <a:stretch/>
        </p:blipFill>
        <p:spPr>
          <a:xfrm>
            <a:off x="4419720" y="3011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ыполнила: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ученица 10 класса </a:t>
            </a:r>
            <a:r>
              <a:rPr b="1" i="1" lang="en-US" sz="2800" spc="-1" strike="noStrike">
                <a:solidFill>
                  <a:srgbClr val="ffcc00"/>
                </a:solidFill>
                <a:latin typeface="Berlin Sans FB"/>
              </a:rPr>
              <a:t>“</a:t>
            </a: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Б</a:t>
            </a:r>
            <a:r>
              <a:rPr b="1" i="1" lang="en-US" sz="2800" spc="-1" strike="noStrike">
                <a:solidFill>
                  <a:srgbClr val="ffcc00"/>
                </a:solidFill>
                <a:latin typeface="Berlin Sans FB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Школы №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Демянкова И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реподаватель:</a:t>
            </a:r>
            <a:r>
              <a:rPr b="1" i="1" lang="ru-RU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Berlin Sans FB"/>
              </a:rPr>
              <a:t>Бруссуева Валенти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b2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659640" y="494172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3360" y="90792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-341280" y="476280"/>
            <a:ext cx="94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Monotype Corsiva"/>
              </a:rPr>
              <a:t>Как сохранить слух и не отказаться от от плеера: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11280" y="1844640"/>
            <a:ext cx="79200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Уровень громкости не должен быть больше 60 % от максимально возможно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Громкость нормальная, если вы можете слышать, ч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говорят окружающ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Люди вокруг не должны слышать вашу музык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Если, общаясь с людьми, вы переходите на кри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значит, громкость слишком больш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31r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5640" y="465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fm_radio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156360" y="4684680"/>
            <a:ext cx="23032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979280" y="3228840"/>
            <a:ext cx="55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c371e"/>
                </a:solidFill>
                <a:latin typeface="Times New Roman"/>
              </a:rPr>
              <a:t>Веселые, мажорные мелод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194000" y="167652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Увеличение биома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у растений ранн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цветение и плодоно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795280" y="4149720"/>
            <a:ext cx="26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Повыш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яйценоскости у пти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78000" y="990720"/>
            <a:ext cx="285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Радостное, бодр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настроение у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1" descr="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9640" y="1916280"/>
            <a:ext cx="1177920" cy="1584000"/>
          </a:xfrm>
          <a:prstGeom prst="rect">
            <a:avLst/>
          </a:prstGeom>
          <a:ln w="0">
            <a:noFill/>
          </a:ln>
        </p:spPr>
      </p:pic>
      <p:pic>
        <p:nvPicPr>
          <p:cNvPr id="133" name="Моцарт 2.WAV" descr=""/>
          <p:cNvPicPr/>
          <p:nvPr/>
        </p:nvPicPr>
        <p:blipFill>
          <a:blip r:embed="rId2"/>
          <a:stretch/>
        </p:blipFill>
        <p:spPr>
          <a:xfrm>
            <a:off x="324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smile05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042920" y="4941720"/>
            <a:ext cx="1441440" cy="1239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BIRD20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300720" y="4797360"/>
            <a:ext cx="1460520" cy="1738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164360" y="333360"/>
            <a:ext cx="1695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279440" y="549360"/>
            <a:ext cx="674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Monotype Corsiva"/>
              </a:rPr>
              <a:t>Музыка великого композитора Бетхов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508200" y="2133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рмализует работу моз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282840" y="320040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ызывает положительные эмо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966840" y="4267080"/>
            <a:ext cx="32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Укрепляет иммун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888360" y="5410080"/>
            <a:ext cx="37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особствует росту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9" descr="b01076i"/>
          <p:cNvPicPr/>
          <p:nvPr/>
        </p:nvPicPr>
        <p:blipFill>
          <a:blip r:embed="rId1"/>
          <a:stretch/>
        </p:blipFill>
        <p:spPr>
          <a:xfrm>
            <a:off x="395280" y="1628640"/>
            <a:ext cx="2678040" cy="2979720"/>
          </a:xfrm>
          <a:prstGeom prst="rect">
            <a:avLst/>
          </a:prstGeom>
          <a:ln w="0">
            <a:noFill/>
          </a:ln>
        </p:spPr>
      </p:pic>
      <p:pic>
        <p:nvPicPr>
          <p:cNvPr id="143" name="Бетховен.WAV" descr=""/>
          <p:cNvPicPr/>
          <p:nvPr/>
        </p:nvPicPr>
        <p:blipFill>
          <a:blip r:embed="rId2"/>
          <a:stretch/>
        </p:blipFill>
        <p:spPr>
          <a:xfrm>
            <a:off x="8269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414440" y="976320"/>
            <a:ext cx="55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Целебная сила зву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21120" y="2286000"/>
            <a:ext cx="57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бладает очищающей сил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84200" y="2819520"/>
            <a:ext cx="88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Н-</a:t>
            </a:r>
            <a:r>
              <a:rPr b="1" lang="ru-RU" sz="2400" spc="-1" strike="noStrike">
                <a:solidFill>
                  <a:srgbClr val="6947f7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активизирует процессы и творческие способ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843840" y="3886200"/>
            <a:ext cx="77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справляет неполадки в нервной систем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766800" y="4343400"/>
            <a:ext cx="74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Э</a:t>
            </a:r>
            <a:r>
              <a:rPr b="1" lang="ru-RU" sz="2400" spc="-1" strike="noStrike">
                <a:solidFill>
                  <a:srgbClr val="6947f7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спользуется для снятия сглаза и пор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92640" y="5105520"/>
            <a:ext cx="84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Монотонное произношение звуков  вместе с ритмич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ыханием активизируют энергетические центры челове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лияют на связанные с ними внутренние орг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843840" y="3429000"/>
            <a:ext cx="69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спользуется при воспалении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146240" y="1676520"/>
            <a:ext cx="53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бладает целебной сил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1" descr="25"/>
          <p:cNvPicPr/>
          <p:nvPr/>
        </p:nvPicPr>
        <p:blipFill>
          <a:blip r:embed="rId1"/>
          <a:stretch/>
        </p:blipFill>
        <p:spPr>
          <a:xfrm>
            <a:off x="324000" y="206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ноты"/>
          <p:cNvPicPr/>
          <p:nvPr/>
        </p:nvPicPr>
        <p:blipFill>
          <a:blip r:embed="rId2"/>
          <a:stretch/>
        </p:blipFill>
        <p:spPr>
          <a:xfrm>
            <a:off x="6877080" y="404640"/>
            <a:ext cx="204624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627280" y="44604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3f25"/>
                </a:solidFill>
                <a:latin typeface="Monotype Corsiva"/>
              </a:rPr>
              <a:t>Сочетания зву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29760" y="1268280"/>
            <a:ext cx="85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 ИМ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казывает защитный и очищающий эффе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975240" y="2492280"/>
            <a:ext cx="66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 ОМ»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вышает жизненный тону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1520" y="1916280"/>
            <a:ext cx="89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ГУ-О» 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ри заболеваниях печени и желчного пузы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7760" y="3141720"/>
            <a:ext cx="8135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ЧЕН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т заболевания сердца и тонкой киш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(руки на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ердца области .Произносить 9 раз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68120" y="4076640"/>
            <a:ext cx="896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3f25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d3f25"/>
                </a:solidFill>
                <a:latin typeface="Times New Roman"/>
              </a:rPr>
              <a:t>Звук «ДОН»-</a:t>
            </a:r>
            <a:r>
              <a:rPr b="1" lang="ru-RU" sz="2400" spc="-1" strike="noStrike">
                <a:solidFill>
                  <a:srgbClr val="6947f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ри болезнях селезенки и желуд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(руки на области   солнечного сплетения.Произносить 12 ра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903240" y="5013360"/>
            <a:ext cx="70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Ю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лечит урологические заболев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045440" y="5589720"/>
            <a:ext cx="44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ХЭ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чищает кров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5040" y="6093000"/>
            <a:ext cx="88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3f25"/>
                </a:solidFill>
                <a:latin typeface="Times New Roman"/>
              </a:rPr>
              <a:t>Звук «А» и «О»-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заставляю все клетки организма работ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-840600" y="-60480"/>
            <a:ext cx="10723680" cy="67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Физиолог Эди Росс</a:t>
            </a:r>
            <a:r>
              <a:rPr b="0" lang="ru-RU" sz="2800" spc="-1" strike="noStrike">
                <a:solidFill>
                  <a:srgbClr val="ff3300"/>
                </a:solidFill>
                <a:latin typeface="Showcard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30f6"/>
                </a:solidFill>
                <a:latin typeface="Tempus Sans ITC"/>
              </a:rPr>
              <a:t>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доказал, что магнитные и звуковые  сигналы влияют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остояние мозговых клеток их частей в результате наруш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Нормальный режим деятельности мозга. Соответствен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изменяются и эмоционально-двигательные реакции орган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Механизм биологического действия музыки на жив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организм не исчерпывается только влиянием волнов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сигналов (звуковых и магнитных) на биохи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                   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Негромко звучащая музыка благоприятно влияет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Showcard Gothic"/>
              </a:rPr>
              <a:t>организм человека, вызывает положительные эмо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Волшебница музыка приобретает значение не толь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духовного целителя, но и физического-цел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Showcard Gothic"/>
              </a:rPr>
              <a:t>нашего т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howcard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20060201_makz_wallpapers_ru_eto_vsyo_tebe8230_1280x960_A(98785)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Showcard Gothic"/>
              </a:rPr>
              <a:t>Конец!!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WordArt 5"/>
          <p:cNvSpPr txBox="1"/>
          <p:nvPr/>
        </p:nvSpPr>
        <p:spPr>
          <a:xfrm>
            <a:off x="2195640" y="2421000"/>
            <a:ext cx="5329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</a:t>
            </a:r>
            <a:endParaRPr b="0" lang="en-US" sz="36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одержание: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Введение………………………………..4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Шум и его влияние на человека…….8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Строение уха…………………………15-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Действие музыки на организм……..18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Berlin Sans FB"/>
              </a:rPr>
              <a:t>Физиолог Эди Росс…………………….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p01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00"/>
                </a:solidFill>
                <a:latin typeface="Monotype Corsiva"/>
              </a:rPr>
              <a:t>Всё живое купается в море звуков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08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4000" y="5950080"/>
            <a:ext cx="1447560" cy="67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орабль4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132000" y="3141720"/>
            <a:ext cx="2475000" cy="1922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004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651640" y="620640"/>
            <a:ext cx="1717560" cy="1454400"/>
          </a:xfrm>
          <a:prstGeom prst="rect">
            <a:avLst/>
          </a:prstGeom>
          <a:ln w="0">
            <a:noFill/>
          </a:ln>
        </p:spPr>
      </p:pic>
      <p:pic>
        <p:nvPicPr>
          <p:cNvPr id="58" name="Море.wav" descr=""/>
          <p:cNvPicPr/>
          <p:nvPr/>
        </p:nvPicPr>
        <p:blipFill>
          <a:blip r:embed="rId5"/>
          <a:stretch/>
        </p:blipFill>
        <p:spPr>
          <a:xfrm>
            <a:off x="179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264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146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Monotype Corsiva"/>
              </a:rPr>
              <a:t>Мы всё время слышим различные звуки природы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360" y="2492280"/>
            <a:ext cx="8540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Шум дождя                                                      Пение птиц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Звуки, издаваемые живот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3300"/>
                </a:solidFill>
                <a:latin typeface="Arial"/>
              </a:rPr>
              <a:t>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ani-goldfish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7080" y="5373720"/>
            <a:ext cx="1006560" cy="75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i-whitebird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093080" y="1844640"/>
            <a:ext cx="1550880" cy="74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tu4a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116000" y="1268280"/>
            <a:ext cx="1800360" cy="137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FROG2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71640" y="4581360"/>
            <a:ext cx="2495520" cy="1565280"/>
          </a:xfrm>
          <a:prstGeom prst="rect">
            <a:avLst/>
          </a:prstGeom>
          <a:ln w="0">
            <a:noFill/>
          </a:ln>
        </p:spPr>
      </p:pic>
      <p:pic>
        <p:nvPicPr>
          <p:cNvPr id="66" name="ANIM26.WAV" descr=""/>
          <p:cNvPicPr/>
          <p:nvPr/>
        </p:nvPicPr>
        <p:blipFill>
          <a:blip r:embed="rId6"/>
          <a:stretch/>
        </p:blipFill>
        <p:spPr>
          <a:xfrm>
            <a:off x="6970680" y="132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4158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104457530832347188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Monotype Corsiva"/>
              </a:rPr>
              <a:t>Звуки природы успокаивают, умиротворяют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ANIM11.WAV" descr=""/>
          <p:cNvPicPr/>
          <p:nvPr/>
        </p:nvPicPr>
        <p:blipFill>
          <a:blip r:embed="rId2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5452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2781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Monotype Corsiva"/>
              </a:rPr>
              <a:t>Современный человек живет среди шум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1" descr="CAR11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5084640"/>
            <a:ext cx="2195640" cy="1387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208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479736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BD05680_"/>
          <p:cNvPicPr/>
          <p:nvPr/>
        </p:nvPicPr>
        <p:blipFill>
          <a:blip r:embed="rId5"/>
          <a:stretch/>
        </p:blipFill>
        <p:spPr>
          <a:xfrm>
            <a:off x="1258920" y="404640"/>
            <a:ext cx="3200400" cy="25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3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836640"/>
            <a:ext cx="1863720" cy="1544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89000"/>
            <a:ext cx="8540640" cy="74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Шум – беспорядочное сочетание различных по силе и частоте звуков; способен оказывать неблагоприятное воздействие на организм. Источником шума является любой процесс, вызывающий местное изменение давления или механические колебания в твердых, жидких или газообразных средах. Действие его на организм человека связано главным образом с применением нового, высокопроизводительного оборудования, с механизацией и автоматизацией трудовых процессов: переходом на большие скорости при эксплуатации различных станков и агрегатов. Источниками шума могут быть двигатели, насосы, компрессоры, турбины, пневматические и электрические инструменты, молоты, дробилки, станки, центрифуги, бункеры и прочие установки, имеющие движущиеся детали. Кроме того, за последние годы в связи со значительным развитием городского транспорта возросла интенсивность шума и в быту, поэтому как неблагоприятный фактор он приобрел большое социальное знач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Berlin Sans FB"/>
              </a:rPr>
              <a:t>Шум имеет определенную частоту, или спектр, выражаемый в герцах, и интенсивность – уровень звукового давления, измеряемый в децибелах. Для человека область слышимых звуков определяется в интервале от 16 до 20 000 Гц. Наиболее чувствителен слуховой анализатор к восприятию звуков частотой 1000—3000 Гц (речевая зо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baby2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372360" y="3357720"/>
            <a:ext cx="1773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20:06:08Z</dcterms:created>
  <dc:creator>Первый</dc:creator>
  <dc:description/>
  <dc:language>en-US</dc:language>
  <cp:lastModifiedBy>Admin</cp:lastModifiedBy>
  <dcterms:modified xsi:type="dcterms:W3CDTF">2012-05-08T19:14:03Z</dcterms:modified>
  <cp:revision>21</cp:revision>
  <dc:subject/>
  <dc:title> </dc:title>
</cp:coreProperties>
</file>