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5.png" ContentType="image/png"/>
  <Override PartName="/ppt/media/image32.gif" ContentType="image/gif"/>
  <Override PartName="/ppt/media/image22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21.gif" ContentType="image/gif"/>
  <Override PartName="/ppt/media/breeze.wav" ContentType="audio/x-wav"/>
  <Override PartName="/ppt/media/whoosh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type.wav" ContentType="audio/x-wav"/>
  <Override PartName="/ppt/media/image14.gif" ContentType="image/gif"/>
  <Override PartName="/ppt/media/image1.jpeg" ContentType="image/jpeg"/>
  <Override PartName="/ppt/media/image2.jpeg" ContentType="image/jpeg"/>
  <Override PartName="/ppt/media/image19.wmf" ContentType="image/x-wmf"/>
  <Override PartName="/ppt/media/image33.gif" ContentType="image/gif"/>
  <Override PartName="/ppt/media/image26.png" ContentType="image/png"/>
  <Override PartName="/ppt/media/image28.gif" ContentType="image/gif"/>
  <Override PartName="/ppt/media/image30.gif" ContentType="image/gif"/>
  <Override PartName="/ppt/media/image36.gif" ContentType="image/gif"/>
  <Override PartName="/ppt/media/image41.png" ContentType="image/png"/>
  <Override PartName="/ppt/media/image39.png" ContentType="image/png"/>
  <Override PartName="/ppt/media/image29.gif" ContentType="image/gif"/>
  <Override PartName="/ppt/media/image40.gif" ContentType="image/gif"/>
  <Override PartName="/ppt/media/image8.gif" ContentType="image/gif"/>
  <Override PartName="/ppt/media/image38.gif" ContentType="image/gif"/>
  <Override PartName="/ppt/media/image42.png" ContentType="image/png"/>
  <Override PartName="/ppt/media/image3.wmf" ContentType="image/x-wmf"/>
  <Override PartName="/ppt/media/image37.gif" ContentType="image/gif"/>
  <Override PartName="/ppt/media/image34.gif" ContentType="image/gif"/>
  <Override PartName="/ppt/media/image27.png" ContentType="image/png"/>
  <Override PartName="/ppt/media/image4.png" ContentType="image/png"/>
  <Override PartName="/ppt/media/image43.jpeg" ContentType="image/jpeg"/>
  <Override PartName="/ppt/media/image13.gif" ContentType="image/gif"/>
  <Override PartName="/ppt/media/image9.gif" ContentType="image/gif"/>
  <Override PartName="/ppt/media/image16.jpeg" ContentType="image/jpeg"/>
  <Override PartName="/ppt/media/image15.gif" ContentType="image/gif"/>
  <Override PartName="/ppt/media/image6.png" ContentType="image/png"/>
  <Override PartName="/ppt/media/image10.gif" ContentType="image/gif"/>
  <Override PartName="/ppt/media/image5.gif" ContentType="image/gif"/>
  <Override PartName="/ppt/media/image7.jpeg" ContentType="image/jpeg"/>
  <Override PartName="/ppt/media/image35.gif" ContentType="image/gif"/>
  <Override PartName="/ppt/media/carbrake.wav" ContentType="audio/x-wav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FBB-74F4-4A88-B6FE-2C009FFD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2A1-83AE-4285-8600-F76C1A5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C88-6290-4381-834F-094C943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670-006E-4FB4-BB5D-10CA5D3C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B9F-4DB7-4D47-8389-F0F9DE2E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510-56AF-48F9-AE19-ABA8A58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A8D-F888-4C05-93AE-921E8EE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0B7-4485-4412-90CB-57D5102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661-2949-4D2A-9D7F-322C93D3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2B6-D821-441D-A275-6183DA4C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B02-9171-4600-9232-CB089B54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768-B8F1-486D-93F8-713A313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2C2-9B57-4D34-8140-2183DBAFED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4.pn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image" Target="../media/image20.gif"/><Relationship Id="rId8" Type="http://schemas.openxmlformats.org/officeDocument/2006/relationships/audio" Target="../media/type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K0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EN00242_"/>
          <p:cNvPicPr/>
          <p:nvPr/>
        </p:nvPicPr>
        <p:blipFill>
          <a:blip r:embed="rId2"/>
          <a:stretch/>
        </p:blipFill>
        <p:spPr>
          <a:xfrm>
            <a:off x="684360" y="5445000"/>
            <a:ext cx="4174920" cy="1044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547640" y="765000"/>
            <a:ext cx="6912000" cy="215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ff"/>
                  </a:solidFill>
                  <a:prstDash val="dash"/>
                  <a:miter/>
                </a:ln>
                <a:solidFill>
                  <a:srgbClr val="ff0000"/>
                </a:solidFill>
                <a:latin typeface="Monotype Corsiva"/>
              </a:rPr>
              <a:t>Влияние шума на организм человека</a:t>
            </a:r>
            <a:endParaRPr b="0" lang="en-US" sz="6600" spc="1" strike="noStrike">
              <a:ln w="9360">
                <a:solidFill>
                  <a:srgbClr val="ff00ff"/>
                </a:solidFill>
                <a:prstDash val="dash"/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Шопен.WAV" descr=""/>
          <p:cNvPicPr/>
          <p:nvPr/>
        </p:nvPicPr>
        <p:blipFill>
          <a:blip r:embed="rId3"/>
          <a:stretch/>
        </p:blipFill>
        <p:spPr>
          <a:xfrm>
            <a:off x="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Уровни шума в разных условия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79640" y="3213000"/>
            <a:ext cx="536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Тихая комната ночью – 2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Обычный разговор  - 6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Шум оживленной улицы – 7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Громкость большинства</a:t>
            </a:r>
            <a:r>
              <a:rPr b="1" lang="en-US" sz="2400" spc="-1" strike="noStrike">
                <a:solidFill>
                  <a:srgbClr val="ffcc00"/>
                </a:solidFill>
                <a:latin typeface="Berlin Sans FB"/>
              </a:rPr>
              <a:t>  mp3-</a:t>
            </a: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плееров – 105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Взлетающий самолет – 11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a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484280"/>
            <a:ext cx="1314360" cy="248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d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15756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Виды шу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40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Для гигиенической оценки шум подразделяют: по характеру спектра — на широкополосный с непрерывным спектром шириной более одной октавы и тональный, в спектре которого имеются дискретные тона; по спектральному составу — на низкочастотный (максимум звуковой энергии приходится на частоты ниже 400 гЦ), средне-частотный (максимум звуковой энергии на частотах от 400 до 1000 гЦ) и высокочастотный (максимум звуковой энергии на частотах выше 1000 гЦ); по временным характеристикам — на постоянный (уровень звука изменяется во времени но более чем на 5 Дб — по шкале А) и непостоянный. К непостоянному шуму относятся колеблющийся шум, при котором уровень звука непрерывно изменяется во времени; прерывистый шум (уровень звука остается постоянным в течение интервала длительностью 1 сек. и более); импульсный шум, состоящий из одного или нескольких звуковых сигналов длительностью менее 1 с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атогенез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Механизм действия шума на организм сложен и недостаточно изучен. Когда речь идет о влиянии шума, то обычно основное внимание уделяют состоянию органа слуха, так как слуховой анализатор в первую очередь воспринимает звуковые колебания и поражение его является адекватным действию шума на организм. Наряду с органом слуха восприятие звуковых колебаний частично может осуществляться и через кожный покров рецепторами вибрационной чувствительности. Имеются наблюдения, что люди, лишенные слуха, при прикосновении к источникам, генерирующим звуки, не только ощущают последние, но и могут оценивать звуковые сигналы определенного характера.</a:t>
            </a:r>
            <a:r>
              <a:rPr b="0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Важное значение в предупреждении развития шумовой патологии имеют предварительные при поступлении на работу и периодические медицинские осмотры. Таким осмотрам подлежат лица, работающие на производствах, где шум превышает предельно допустимый уровень (ПДУ) в любой октавной полосе. Медицинским противопоказаниями к допуску на работу, связанную с воздействием интенсивного шума, являются следующие заболе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1. Стойкое понижение слуха, хотя бы на одно ухо, любой эти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2. Отосклероз и другие хронические заболевания уха с заведомо неблагоприятным прогноз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3. Нарушение функции вестибулярного аппарата любой этиологии, в том числе болезнь Мень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4. Наркомании, токсикомании, в том числе хронический алкогол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5. Выраженная вегетативная дисфун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6. Гипертоническая болезнь (все фор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Сроки периодических медицинских осмотров устанавливаются в зависимости от интенсивности шума. При интенсивности шума от 81 до 99 дБА — 1 раз в 24 мес, 100 дБА и выше — 1 раз в 12 мес. Первый осмотр отоларинголог проводит через б мес после предварительного медицинского осмотра при поступлении на работу, связанную с воздействием интенсивного шума. Медицинские осмотры должны проводиться с участием отоларинголога, невропатолога и терапев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2627280" y="2997360"/>
          <a:ext cx="388620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997360"/>
                    <a:ext cx="38862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1600200" y="327672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еш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33760" y="380988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утрен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10600" y="6095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ред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1619280" y="1413000"/>
          <a:ext cx="64008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41300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2675160" y="8841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троение у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1752480" y="1447920"/>
          <a:ext cx="5639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639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1042920" y="620640"/>
          <a:ext cx="6782040" cy="58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678204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-1021320" y="765000"/>
            <a:ext cx="10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Monotype Corsiva"/>
              </a:rPr>
              <a:t>Действие «тяжелого рока» на организм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6960" y="1833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корение сердечных сокра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42920" y="43545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ается способность человека контрол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вое по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58720" y="543384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иливается склонность к агр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851040" y="22654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ение сл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0720" y="284148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исходит нервное истощени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93120" y="3500280"/>
            <a:ext cx="90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оявляется ощущение тревоги, растерянности, стра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c04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12000" y="1341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dead_nazi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156360" y="4869000"/>
            <a:ext cx="27716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76360" y="2602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Громкая, продолжительная музыка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в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c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 сочетании с ярким, мигающим светом приводит к нервному истощению,   нарушению  функций важн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anim10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2492280"/>
            <a:ext cx="1085760" cy="412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132000" y="3789360"/>
            <a:ext cx="246060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4r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0360" y="2565360"/>
            <a:ext cx="2952720" cy="3816360"/>
          </a:xfrm>
          <a:prstGeom prst="rect">
            <a:avLst/>
          </a:prstGeom>
          <a:ln w="0">
            <a:noFill/>
          </a:ln>
        </p:spPr>
      </p:pic>
      <p:pic>
        <p:nvPicPr>
          <p:cNvPr id="121" name="Колбасный цех 5.mp3" descr=""/>
          <p:cNvPicPr/>
          <p:nvPr/>
        </p:nvPicPr>
        <p:blipFill>
          <a:blip r:embed="rId4"/>
          <a:stretch/>
        </p:blipFill>
        <p:spPr>
          <a:xfrm>
            <a:off x="4419720" y="3011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ыполнила: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ученица 10 класса 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“</a:t>
            </a: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Школы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Демянкова И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еподаватель:</a:t>
            </a: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руссуева Валенти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b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9417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336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341280" y="476280"/>
            <a:ext cx="94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Monotype Corsiva"/>
              </a:rPr>
              <a:t>Как сохранить слух и не отказаться от от плеера: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11280" y="1844640"/>
            <a:ext cx="7920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ровень громкости не должен быть больше 60 % от максимально возможн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ромкость нормальная, если вы можете слышать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оворят окружа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Люди вокруг не должны слышать вашу музы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Если, общаясь с людьми, вы переходите на кр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значит, громкость слишком больш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31r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564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fm_radio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156360" y="4684680"/>
            <a:ext cx="2303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979280" y="3228840"/>
            <a:ext cx="55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371e"/>
                </a:solidFill>
                <a:latin typeface="Times New Roman"/>
              </a:rPr>
              <a:t>Веселые, мажорные мело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19400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величение биома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 растений ран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цветение и плодоно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795280" y="4149720"/>
            <a:ext cx="26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овыш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яйценоскости у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8000" y="990720"/>
            <a:ext cx="28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Радостное, бодр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настроение у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9640" y="1916280"/>
            <a:ext cx="1177920" cy="1584000"/>
          </a:xfrm>
          <a:prstGeom prst="rect">
            <a:avLst/>
          </a:prstGeom>
          <a:ln w="0">
            <a:noFill/>
          </a:ln>
        </p:spPr>
      </p:pic>
      <p:pic>
        <p:nvPicPr>
          <p:cNvPr id="133" name="Моцарт 2.WAV" descr=""/>
          <p:cNvPicPr/>
          <p:nvPr/>
        </p:nvPicPr>
        <p:blipFill>
          <a:blip r:embed="rId2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smile0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042920" y="4941720"/>
            <a:ext cx="1441440" cy="123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IRD20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300720" y="4797360"/>
            <a:ext cx="1460520" cy="17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164360" y="333360"/>
            <a:ext cx="1695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79440" y="549360"/>
            <a:ext cx="674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Музыка великого композитора Бетхов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08200" y="2133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рмализует работу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282840" y="320040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66840" y="42670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Укрепляет имму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88360" y="54100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ет росту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b01076i"/>
          <p:cNvPicPr/>
          <p:nvPr/>
        </p:nvPicPr>
        <p:blipFill>
          <a:blip r:embed="rId1"/>
          <a:stretch/>
        </p:blipFill>
        <p:spPr>
          <a:xfrm>
            <a:off x="395280" y="1628640"/>
            <a:ext cx="267804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Бетховен.WAV" descr=""/>
          <p:cNvPicPr/>
          <p:nvPr/>
        </p:nvPicPr>
        <p:blipFill>
          <a:blip r:embed="rId2"/>
          <a:stretch/>
        </p:blipFill>
        <p:spPr>
          <a:xfrm>
            <a:off x="826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14440" y="97632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Целебная сила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21120" y="2286000"/>
            <a:ext cx="57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очищающе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84200" y="2819520"/>
            <a:ext cx="88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Н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активизирует процессы и творческие 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43840" y="3886200"/>
            <a:ext cx="77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равляет неполадки в нервной систем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6800" y="4343400"/>
            <a:ext cx="74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Э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для снятия сглаза и пор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92640" y="51055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онотонное произношение звуков  вместе с ритмич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ыханием активизируют энергетические центры челове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лияют на связанные с ними внутренние орг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43840" y="3429000"/>
            <a:ext cx="69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при воспалении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146240" y="1676520"/>
            <a:ext cx="53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целебно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25"/>
          <p:cNvPicPr/>
          <p:nvPr/>
        </p:nvPicPr>
        <p:blipFill>
          <a:blip r:embed="rId1"/>
          <a:stretch/>
        </p:blipFill>
        <p:spPr>
          <a:xfrm>
            <a:off x="324000" y="206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ноты"/>
          <p:cNvPicPr/>
          <p:nvPr/>
        </p:nvPicPr>
        <p:blipFill>
          <a:blip r:embed="rId2"/>
          <a:stretch/>
        </p:blipFill>
        <p:spPr>
          <a:xfrm>
            <a:off x="6877080" y="404640"/>
            <a:ext cx="20462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27280" y="4460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3f25"/>
                </a:solidFill>
                <a:latin typeface="Monotype Corsiva"/>
              </a:rPr>
              <a:t>Сочетания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9760" y="1268280"/>
            <a:ext cx="85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ИМ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казывает защитный и очищающий эфф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75240" y="2492280"/>
            <a:ext cx="66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ОМ»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вышает жизненный тон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1520" y="1916280"/>
            <a:ext cx="89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ГУ-О» 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заболеваниях печени и желчного пузы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7760" y="3141720"/>
            <a:ext cx="8135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ЧЕН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т заболевания сердца и тонкой ки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рдца области .Произносить 9 раз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8120" y="4076640"/>
            <a:ext cx="89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Звук «ДОН»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болезнях селезенки и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 области   солнечного сплетения.Произносить 12 ра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03240" y="501336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Ю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ечит урологические заболе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45440" y="558972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ХЭ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чищает кр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5040" y="6093000"/>
            <a:ext cx="88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А» и «О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ставляю все клетки организма рабо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840600" y="-60480"/>
            <a:ext cx="1072368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Физиолог Эди Росс</a:t>
            </a:r>
            <a:r>
              <a:rPr b="0" lang="ru-RU" sz="2800" spc="-1" strike="noStrike">
                <a:solidFill>
                  <a:srgbClr val="ff3300"/>
                </a:solidFill>
                <a:latin typeface="Showcard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30f6"/>
                </a:solidFill>
                <a:latin typeface="Tempus Sans ITC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доказал, что магнитные и звуковые  сигналы влияют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остояние мозговых клеток их частей в результате наруш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ормальный режим деятельности мозга. Соответ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изменяются и эмоционально-двигательные реакци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Механизм биологического действия музыки на жи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не исчерпывается только влиянием вол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игналов (звуковых и магнитных) на биохи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егромко звучащая музыка благоприятно влияет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человека, 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Волшебница музыка приобретает значение не 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духовного целителя, но и физического-цел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наш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howcard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060201_makz_wallpapers_ru_eto_vsyo_tebe8230_1280x960_A(98785)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Showcard Gothic"/>
              </a:rPr>
              <a:t>Конец!!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195640" y="2421000"/>
            <a:ext cx="5329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</a:t>
            </a:r>
            <a:endParaRPr b="0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одержание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Введение………………………………..4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Шум и его влияние на человека…….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Строение уха…………………………15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Действие музыки на организм……..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Физиолог Эди Росс……………………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p01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Monotype Corsiva"/>
              </a:rPr>
              <a:t>Всё живое купается в море звук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0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4000" y="5950080"/>
            <a:ext cx="1447560" cy="67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орабль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132000" y="3141720"/>
            <a:ext cx="2475000" cy="192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00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651640" y="620640"/>
            <a:ext cx="1717560" cy="1454400"/>
          </a:xfrm>
          <a:prstGeom prst="rect">
            <a:avLst/>
          </a:prstGeom>
          <a:ln w="0">
            <a:noFill/>
          </a:ln>
        </p:spPr>
      </p:pic>
      <p:pic>
        <p:nvPicPr>
          <p:cNvPr id="58" name="Море.wav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264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4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Мы всё время слышим различные звуки природы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360" y="249228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Шум дождя                                                      Пение пти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вуки, издаваемые живот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ani-goldfish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5373720"/>
            <a:ext cx="100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i-whitebir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93080" y="1844640"/>
            <a:ext cx="1550880" cy="7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tu4a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116000" y="1268280"/>
            <a:ext cx="180036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FROG2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71640" y="4581360"/>
            <a:ext cx="249552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ANIM26.WAV" descr=""/>
          <p:cNvPicPr/>
          <p:nvPr/>
        </p:nvPicPr>
        <p:blipFill>
          <a:blip r:embed="rId6"/>
          <a:stretch/>
        </p:blipFill>
        <p:spPr>
          <a:xfrm>
            <a:off x="6970680" y="132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158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04457530832347188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Звуки природы успокаивают, умиротворяют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ANIM11.WAV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452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278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Современный человек живет среди шум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1" descr="CAR11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084640"/>
            <a:ext cx="2195640" cy="138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208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479736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BD05680_"/>
          <p:cNvPicPr/>
          <p:nvPr/>
        </p:nvPicPr>
        <p:blipFill>
          <a:blip r:embed="rId5"/>
          <a:stretch/>
        </p:blipFill>
        <p:spPr>
          <a:xfrm>
            <a:off x="1258920" y="404640"/>
            <a:ext cx="320040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836640"/>
            <a:ext cx="1863720" cy="154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– беспорядочное сочетание различных по силе и частоте звуков; способен оказывать неблагоприятное воздействие на организм. Источником шума является любой процесс, вызывающий местное изменение давления или механические колебания в твердых, жидких или газообразных средах. Действие его на организм человека связано главным образом с применением нового, высокопроизводительного оборудования, с механизацией и автоматизацией трудовых процессов: переходом на большие скорости при эксплуатации различных станков и агрегатов. Источниками шума могут быть двигатели, насосы, компрессоры, турбины, пневматические и электрические инструменты, молоты, дробилки, станки, центрифуги, бункеры и прочие установки, имеющие движущиеся детали. Кроме того, за последние годы в связи со значительным развитием городского транспорта возросла интенсивность шума и в быту, поэтому как неблагоприятный фактор он приобрел большое социальное знач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имеет определенную частоту, или спектр, выражаемый в герцах, и интенсивность – уровень звукового давления, измеряемый в децибелах. Для человека область слышимых звуков определяется в интервале от 16 до 20 000 Гц. Наиболее чувствителен слуховой анализатор к восприятию звуков частотой 1000—3000 Гц (речевая зо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baby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372360" y="3357720"/>
            <a:ext cx="1773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20:06:08Z</dcterms:created>
  <dc:creator>Первый</dc:creator>
  <dc:description/>
  <dc:language>en-US</dc:language>
  <cp:lastModifiedBy>Admin</cp:lastModifiedBy>
  <dcterms:modified xsi:type="dcterms:W3CDTF">2012-05-08T19:14:03Z</dcterms:modified>
  <cp:revision>21</cp:revision>
  <dc:subject/>
  <dc:title> </dc:title>
</cp:coreProperties>
</file>