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224-38BB-42A4-B88A-DFD20D16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7CD-99C8-45B0-988E-7A73493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1CE-5630-4396-A063-D9169EAB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E5C-EC67-44DC-BA64-D8993F79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FFC7-38A9-4E45-A3C8-57F27AE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5422-8B27-415B-B1D2-C525033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83C-0711-4355-8FAA-2B8AD7C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B67-5C2F-46A5-9BFD-507572F0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7607-8964-4ED9-A263-FAD54C38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73A0-31DC-4004-92F7-58E1311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E882-385D-43BF-BA1D-8CCA6DE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0C8-52C0-4E2D-B1FB-E11CF12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1B6-5E5B-444A-B3EE-37DA6CD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D6C-30D1-455A-AE45-6A38B9A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B742-97B5-4E99-9B06-AA57C53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F54-BBF0-496F-84B2-C1D81820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907-3E62-4945-B05D-95FC852E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C26-5CD0-4B3C-9C21-4689D81E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BEB-0EC1-4280-AB2E-145EF98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EF3-F949-458B-AA0E-6E2ABB30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A0D-4FA1-4332-8DCA-DFA008F3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1FD-C760-41F0-8CD8-CA72299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5E1-0BB3-4DC8-8834-8F6ECE1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DB0-23AA-4472-97FA-DF8E846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7636-86E5-4C9B-B093-267B7A731359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2D2-949F-428A-A6A6-95CD28FC543E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fc78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« Великобритания»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00640"/>
            <a:ext cx="7417080" cy="1152720"/>
          </a:xfrm>
          <a:prstGeom prst="rect">
            <a:avLst/>
          </a:prstGeom>
          <a:solidFill>
            <a:srgbClr val="e9fc7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боту подготовила учитель истор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ветьте на вопросы на стр. 2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араграф 29, вопросы.запис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в политикой Великобритании после Второй Мировой войн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с премьер – министрами Великобритании, проводимой ими политикой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звивать умение анализировать,  сравнивать, обобщать, делать вывод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учаем новы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ейбористы у власти. 1945-1951 гг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Политический маятник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Консервативная революция» М. Тэтч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Третий путь» Энтони Блэр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нические проблем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нешняя политика Великобритани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йбористы (1945-1951 г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 Эт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грамма социальных рефор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оронники усиления государственного регулирован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ледовали идеям кейсианства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ционализация и передача в государственный сектор Английский банк, угольную и газовую промышленность, телеграф,электростанции, транспорт и т.д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ение з/п, новая система страхова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кройте учебник на стр. 204 и прочитайте пункт                                                   « Политический маятник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ативная политика М. Тэтчер (консерваторы) - (1979-1997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консервативный вариант борьбы с кризисом и инфляцией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Жестокое ограничение государственных расходов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вышение уровня безработицы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нят контроль над ценами и з/п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ватизация государственного сектор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Изменение налоговой политики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давление стачек шахтёров;замена отношений с профсоюзами и «новой государственной политикой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944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thather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291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Третий путь» Энтони Блэ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ступал за расширение социальной базы, привлечение на их сторону предпринимателей из малого бизнеса, менеджеров, домовладельцев, врачей, учителей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организация самой парт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лагал « третий путь»  -    « новую смешанную политику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61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bler_entoni_charlz_linton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ическ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сле образования Ирландской республики проблема Олстера остаётся одной из самой большой для Великобритан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ъём движений за национальную и культурную автономию с конца 60-х гг. имел место в Шотландии и Уэльс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7 г. – население Шотландии и Уэльса одобрило план: «деволюции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8 г. – начат этап формирования палаты лордов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9 г. – выборы в новые представительные органы власти – Шотландский парламент и Ассамблею Уэльса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рочитайте пункт « Внешняя политика Великобритании» и выделите её основные направле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57:38Z</dcterms:modified>
  <cp:revision>2</cp:revision>
  <dc:subject/>
  <dc:title>PowerPoint Presentation</dc:title>
</cp:coreProperties>
</file>