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63C-C1A7-4BEE-AC4D-33323299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268-419F-4B47-8514-AFD93192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EEE-1BE3-4775-8525-F56E49B8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CD0-F93F-4EC8-A43E-81D630AE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BBAB-B1D0-4F56-8DE0-9F15926C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F50-3C4B-4937-BEDE-EAAB75A9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C326-61EF-496E-B743-C0D5639A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4E9C-304E-4FA7-A616-77AF181B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EF9D-D764-45E7-85B1-963BA6F7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B819-DD09-40FC-9689-DFACBE5D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6843-E585-45A6-8812-C3E126AE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6AC-EAAE-4D48-895A-2DACCF78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AC6A-6ACF-4842-A997-B2501DF4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5F97-2FFB-4481-958A-C1843D3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F179-A5E9-4215-9D14-2AAED89D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FECC-5139-40DA-9364-130F6C7C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05DF-5133-4DE1-97DD-A39AAFB3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D01-4C70-49EA-87E1-7F183C8D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970-5EE7-49DF-8A36-5CF4C1D0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7AE-7C16-4C08-B3F5-1920A0C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0EE-97EF-42B7-8C3A-313ADC7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A21-2FC9-4C55-A18D-F7C1653A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7B1-5E85-42EA-875E-E5467C9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CCA-64A9-4D24-B28F-29349DC9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6994-6717-4444-8D29-7F2BB9DCE910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0EAA-A998-429C-8573-DF716C79F4F1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fc78"/>
                </a:solidFill>
                <a:latin typeface="Arial"/>
              </a:rPr>
              <a:t>Тема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« Великобритания»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300640"/>
            <a:ext cx="7417080" cy="1152720"/>
          </a:xfrm>
          <a:prstGeom prst="rect">
            <a:avLst/>
          </a:prstGeom>
          <a:solidFill>
            <a:srgbClr val="e9fc78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аботу подготовила учитель истор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тветьте на вопросы на стр. 2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араграф 29, вопросы.запис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ознакомиться в политикой Великобритании после Второй Мировой войны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ознакомиться с премьер – министрами Великобритании, проводимой ими политикой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Развивать умение анализировать,  сравнивать, обобщать, делать выводы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учаем новый матери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Лейбористы у власти. 1945-1951 гг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 Политический маятник»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 Консервативная революция» М. Тэтчер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« Третий путь» Энтони Блэр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нические проблем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нешняя политика Великобритании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йбористы (1945-1951 гг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 Этт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грамма социальных реформ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торонники усиления государственного регулирования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ледовали идеям кейсианства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ционализация и передача в государственный сектор Английский банк, угольную и газовую промышленность, телеграф,электростанции, транспорт и т.д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ение з/п, новая система страховани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Откройте учебник на стр. 204 и прочитайте пункт                                                   « Политический маятник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сервативная политика М. Тэтчер (консерваторы) - (1979-1997 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еоконсервативный вариант борьбы с кризисом и инфляцией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Жестокое ограничение государственных расходов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вышение уровня безработицы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нят контроль над ценами и з/п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ватизация государственного сектора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Изменение налоговой политики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давление стачек шахтёров;замена отношений с профсоюзами и «новой государственной политикой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1944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thather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291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Третий путь» Энтони Блэ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ыступал за расширение социальной базы, привлечение на их сторону предпринимателей из малого бизнеса, менеджеров, домовладельцев, врачей, учителей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еорганизация самой партии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лагал « третий путь»  -    « новую смешанную политику»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61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bler_entoni_charlz_linton" descr=""/>
          <p:cNvPicPr/>
          <p:nvPr/>
        </p:nvPicPr>
        <p:blipFill>
          <a:blip r:embed="rId1"/>
          <a:stretch/>
        </p:blipFill>
        <p:spPr>
          <a:xfrm>
            <a:off x="125748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ническ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сле образования Ирландской республики проблема Олстера остаётся одной из самой большой для Великобритании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одъём движений за национальную и культурную автономию с конца 60-х гг. имел место в Шотландии и Уэльсе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997 г. – население Шотландии и Уэльса одобрило план: «деволюции»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998 г. – начат этап формирования палаты лордов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999 г. – выборы в новые представительные органы власти – Шотландский парламент и Ассамблею Уэльса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ебник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рочитайте пункт « Внешняя политика Великобритании» и выделите её основные направлен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1:57:38Z</dcterms:modified>
  <cp:revision>2</cp:revision>
  <dc:subject/>
  <dc:title>PowerPoint Presentation</dc:title>
</cp:coreProperties>
</file>