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2A0-92D8-467A-B47F-D02ADC8A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38D-B30B-46E9-9633-D488F0F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8D5-3EE0-4D02-A438-96901233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B1D-7928-4C94-A3EB-6BE08B0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2D51-085F-4CD5-AAFA-0F2FB332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15C9-8414-41B8-8484-0CEF23E2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CF7-1554-4B0F-A2A3-7E591BD7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762B-7166-4A78-ADB4-83D84394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D19-B151-473E-8553-0B9CEEC4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EA7A-7533-4C7C-B27A-4C9B1FE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771C-4E9C-4662-B225-49D106E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F4C-2806-4359-A3E4-50BFD6B5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F4B-A60E-4E22-94CF-600DD41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D8F6-F9C1-4409-9D48-E98083D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5E29-678C-4D4C-B9EF-B35685D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5544-CEF5-4BB7-BEE6-DB00D119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CC0-5845-4960-9E3C-0E8C60B7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D44-13CB-4E87-9142-BA90468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FCB-3624-4DCA-AC18-AC4A86C7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C20-8346-4BA5-A3AA-54AB6D0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708-B290-4E02-84A7-8F13586A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C3B-02AB-4517-A04D-BA2D690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45F-05CA-43EE-A86E-5E8BF9B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7D2-D3D4-45CD-96DF-A06855A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B759-1804-4DE5-AEC6-04D629C0DDC4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937F-2F54-49B2-9341-6B48A33514C5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fc78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« Великобритания»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00640"/>
            <a:ext cx="7417080" cy="1152720"/>
          </a:xfrm>
          <a:prstGeom prst="rect">
            <a:avLst/>
          </a:prstGeom>
          <a:solidFill>
            <a:srgbClr val="e9fc7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боту подготовила учитель истор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ветьте на вопросы на стр. 2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араграф 29, вопросы.запис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в политикой Великобритании после Второй Мировой войн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с премьер – министрами Великобритании, проводимой ими политикой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звивать умение анализировать,  сравнивать, обобщать, делать вывод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учаем новы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ейбористы у власти. 1945-1951 гг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Политический маятник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Консервативная революция» М. Тэтч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Третий путь» Энтони Блэр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нические проблем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нешняя политика Великобритани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йбористы (1945-1951 г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 Эт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грамма социальных рефор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оронники усиления государственного регулирован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ледовали идеям кейсианства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ционализация и передача в государственный сектор Английский банк, угольную и газовую промышленность, телеграф,электростанции, транспорт и т.д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ение з/п, новая система страхова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кройте учебник на стр. 204 и прочитайте пункт                                                   « Политический маятник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ативная политика М. Тэтчер (консерваторы) - (1979-1997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консервативный вариант борьбы с кризисом и инфляцией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Жестокое ограничение государственных расходов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вышение уровня безработицы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нят контроль над ценами и з/п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ватизация государственного сектор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Изменение налоговой политики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давление стачек шахтёров;замена отношений с профсоюзами и «новой государственной политикой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944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thather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291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Третий путь» Энтони Блэ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ступал за расширение социальной базы, привлечение на их сторону предпринимателей из малого бизнеса, менеджеров, домовладельцев, врачей, учителей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организация самой парт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лагал « третий путь»  -    « новую смешанную политику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61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bler_entoni_charlz_linton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ическ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сле образования Ирландской республики проблема Олстера остаётся одной из самой большой для Великобритан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ъём движений за национальную и культурную автономию с конца 60-х гг. имел место в Шотландии и Уэльс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7 г. – население Шотландии и Уэльса одобрило план: «деволюции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8 г. – начат этап формирования палаты лордов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9 г. – выборы в новые представительные органы власти – Шотландский парламент и Ассамблею Уэльса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рочитайте пункт « Внешняя политика Великобритании» и выделите её основные направле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57:38Z</dcterms:modified>
  <cp:revision>2</cp:revision>
  <dc:subject/>
  <dc:title>PowerPoint Presentation</dc:title>
</cp:coreProperties>
</file>