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11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Anthems%20-%20British%20National%20Anthem%20-%20Crown%20Imperial%20Anthem%20shortened.wav" ContentType="audio/x-wav"/>
  <Override PartName="/ppt/media/image18.jpeg" ContentType="image/jpeg"/>
  <Override PartName="/ppt/media/image19.wmf" ContentType="image/x-wmf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2C74-11D2-47D2-8B60-C19D02EBE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BB24-08DE-4DBF-AD40-EBF1BD011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64A7-70AD-4F73-8A17-0EDE08AE2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D92A-5074-49E8-92B3-552A4D2C0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E775-343C-4183-9D86-397F15170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1E45-2F29-4CEC-A453-5B43BF512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6C50-911A-4B2F-BDF6-100084248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C2B9-5DC6-46E4-A13C-CD43B2A1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774A-4C37-48E4-970F-FEE27C388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DAA3-5C00-461C-8AC7-934E96594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9F8-FDD4-4BBD-AB12-AB61962B7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4550-021A-4174-9605-A1A4CD9D2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7EB1-9FFD-4D8B-986B-16F1C49FF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35B7-688C-4C46-A2B9-FF2444BB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3058-AD1E-44D1-928E-0F7B9E168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E18-745D-4959-8F35-5B98E05F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183-CA16-4B0A-A705-4AF43756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F07-8A99-4E8E-90BE-EF72C949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5DD-307E-4743-AF97-8BAA7101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DB5-EB4D-4E12-BB76-212BFEA9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06C-A465-42A2-9C7D-F2B65E3A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3C5-B1DA-45AB-9720-77094331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D08-ED38-4FAF-9EF0-25FA5587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671-0738-4CAA-B10C-18C1A5C3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EAC-C607-47C9-A302-0F15A316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EF0-422F-4955-9E7C-4DE02A25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F10-28EB-4852-8495-F78EC31B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5ED7-FCEA-4F62-BAE2-4B5D242EF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audio" Target="../media/Anthems%20-%20British%20National%20Anthem%20-%20Crown%20Imperial%20Anthem%20shortene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3050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189000"/>
            <a:ext cx="8209080" cy="6480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292929"/>
                </a:solidFill>
                <a:latin typeface="Arial"/>
              </a:rPr>
              <a:t>Великобритания</a:t>
            </a:r>
            <a:r>
              <a:rPr b="1" lang="en-GB" sz="7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6000"/>
            </a:br>
            <a:r>
              <a:rPr b="1" lang="en-GB" sz="4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292929"/>
                </a:solidFill>
                <a:latin typeface="Arial"/>
              </a:rPr>
              <a:t>Соединенное Королевство Великобритании и Северной Ирланд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tPaulsCathedralSouth"/>
          <p:cNvPicPr/>
          <p:nvPr/>
        </p:nvPicPr>
        <p:blipFill>
          <a:blip r:embed="rId1"/>
          <a:stretch/>
        </p:blipFill>
        <p:spPr>
          <a:xfrm>
            <a:off x="1187280" y="1050840"/>
            <a:ext cx="4029120" cy="5473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508720" y="4627440"/>
            <a:ext cx="295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р святого Павла, построен в 17 веке по проекту известного Английского архитектора Кристофера Р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Buckingham_Palace_-_May_2006"/>
          <p:cNvPicPr/>
          <p:nvPr/>
        </p:nvPicPr>
        <p:blipFill>
          <a:blip r:embed="rId1"/>
          <a:stretch/>
        </p:blipFill>
        <p:spPr>
          <a:xfrm>
            <a:off x="826920" y="1197000"/>
            <a:ext cx="7266240" cy="4087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71640" y="566100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ингемский дворец – официальная резиденция королевской семьи в Лонд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906560" y="2276640"/>
            <a:ext cx="5329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99"/>
                </a:solidFill>
                <a:latin typeface="Arial"/>
              </a:rPr>
              <a:t>А, ещё..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double-decker"/>
          <p:cNvPicPr/>
          <p:nvPr/>
        </p:nvPicPr>
        <p:blipFill>
          <a:blip r:embed="rId1"/>
          <a:stretch/>
        </p:blipFill>
        <p:spPr>
          <a:xfrm>
            <a:off x="1187280" y="981000"/>
            <a:ext cx="6689880" cy="5018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25892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 двухэтажные автобусы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phone-booth"/>
          <p:cNvPicPr/>
          <p:nvPr/>
        </p:nvPicPr>
        <p:blipFill>
          <a:blip r:embed="rId1"/>
          <a:stretch/>
        </p:blipFill>
        <p:spPr>
          <a:xfrm>
            <a:off x="611280" y="981000"/>
            <a:ext cx="6264360" cy="5508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7236000" y="546588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красные телефонные бу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26920" y="11970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en-GB" sz="7200" spc="-1" strike="noStrike">
                <a:solidFill>
                  <a:srgbClr val="fdf103"/>
                </a:solidFill>
                <a:latin typeface="Bookman Old Style"/>
              </a:rPr>
              <a:t> 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B</a:t>
            </a:r>
            <a:r>
              <a:rPr b="1" lang="en-GB" sz="7200" spc="-1" strike="noStrike">
                <a:solidFill>
                  <a:srgbClr val="33cc33"/>
                </a:solidFill>
                <a:latin typeface="Bookman Old Style"/>
              </a:rPr>
              <a:t> 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C D </a:t>
            </a: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E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 F G H </a:t>
            </a: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I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 J K L M N </a:t>
            </a: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O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 P Q R S T </a:t>
            </a:r>
            <a:r>
              <a:rPr b="1" lang="en-GB" sz="7200" spc="-1" strike="noStrike">
                <a:solidFill>
                  <a:srgbClr val="ff0000"/>
                </a:solidFill>
                <a:latin typeface="Bookman Old Style"/>
              </a:rPr>
              <a:t>U</a:t>
            </a:r>
            <a:r>
              <a:rPr b="1" lang="en-GB" sz="7200" spc="-1" strike="noStrike">
                <a:solidFill>
                  <a:srgbClr val="0066ff"/>
                </a:solidFill>
                <a:latin typeface="Bookman Old Style"/>
              </a:rPr>
              <a:t> V W X Y 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4360" y="47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Bookman Old Style"/>
              </a:rPr>
              <a:t>English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788000" y="595008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Rounded MT Bold"/>
              </a:rPr>
              <a:t>Английская азб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9144000" y="0"/>
          <a:ext cx="3049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0"/>
                    <a:ext cx="304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8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mph" presetID="35">
                                  <p:stCondLst>
                                    <p:cond delay="1000"/>
                                  </p:stCondLst>
                                  <p:iterate type="lt">
                                    <p:tmAbs val="115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9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32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uk-map plain"/>
          <p:cNvPicPr/>
          <p:nvPr/>
        </p:nvPicPr>
        <p:blipFill>
          <a:blip r:embed="rId1"/>
          <a:stretch/>
        </p:blipFill>
        <p:spPr>
          <a:xfrm>
            <a:off x="1784520" y="907920"/>
            <a:ext cx="5451480" cy="5616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7453440" y="436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5236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Шот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380360" y="112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Уэ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79280" y="981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Северная Ир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Flag_of_England"/>
          <p:cNvPicPr/>
          <p:nvPr/>
        </p:nvPicPr>
        <p:blipFill>
          <a:blip r:embed="rId2"/>
          <a:stretch/>
        </p:blipFill>
        <p:spPr>
          <a:xfrm>
            <a:off x="7386480" y="4888080"/>
            <a:ext cx="1289160" cy="772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1" name="Picture 8" descr="Flag_of_Scotland"/>
          <p:cNvPicPr/>
          <p:nvPr/>
        </p:nvPicPr>
        <p:blipFill>
          <a:blip r:embed="rId3"/>
          <a:stretch/>
        </p:blipFill>
        <p:spPr>
          <a:xfrm>
            <a:off x="322200" y="4869000"/>
            <a:ext cx="1225440" cy="7412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2" name="Picture 9" descr="Flag_of_Wales"/>
          <p:cNvPicPr/>
          <p:nvPr/>
        </p:nvPicPr>
        <p:blipFill>
          <a:blip r:embed="rId4"/>
          <a:stretch/>
        </p:blipFill>
        <p:spPr>
          <a:xfrm>
            <a:off x="7236000" y="1628640"/>
            <a:ext cx="1290600" cy="774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3" name="Picture 10" descr="Flag_of_Northern_Ireland"/>
          <p:cNvPicPr/>
          <p:nvPr/>
        </p:nvPicPr>
        <p:blipFill>
          <a:blip r:embed="rId5"/>
          <a:stretch/>
        </p:blipFill>
        <p:spPr>
          <a:xfrm>
            <a:off x="395280" y="1700280"/>
            <a:ext cx="1295280" cy="649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4" name="Text Box 11"/>
          <p:cNvSpPr/>
          <p:nvPr/>
        </p:nvSpPr>
        <p:spPr>
          <a:xfrm>
            <a:off x="1476360" y="260280"/>
            <a:ext cx="59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ТОРИЧЕСКИЕ ПРОВИНЦИИ ВЕЛИКОБРИТ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nglish_countryside_blue_fields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616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059280" y="260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НГ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SC01033"/>
          <p:cNvPicPr/>
          <p:nvPr/>
        </p:nvPicPr>
        <p:blipFill>
          <a:blip r:embed="rId1"/>
          <a:stretch/>
        </p:blipFill>
        <p:spPr>
          <a:xfrm>
            <a:off x="971640" y="98100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348000" y="307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ШОТ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8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629080" y="30780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ЭЛЬ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welsh scenery"/>
          <p:cNvPicPr/>
          <p:nvPr/>
        </p:nvPicPr>
        <p:blipFill>
          <a:blip r:embed="rId1"/>
          <a:stretch/>
        </p:blipFill>
        <p:spPr>
          <a:xfrm>
            <a:off x="1042920" y="1052640"/>
            <a:ext cx="6985080" cy="52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332000" y="476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ЕЛИКОБРИТАНИЯ НА КАРТЕ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world map uk brown"/>
          <p:cNvPicPr/>
          <p:nvPr/>
        </p:nvPicPr>
        <p:blipFill>
          <a:blip r:embed="rId1"/>
          <a:stretch/>
        </p:blipFill>
        <p:spPr>
          <a:xfrm>
            <a:off x="176040" y="1268280"/>
            <a:ext cx="8967960" cy="49294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3924360" y="907920"/>
            <a:ext cx="360360" cy="1152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great-britain brown"/>
          <p:cNvPicPr/>
          <p:nvPr/>
        </p:nvPicPr>
        <p:blipFill>
          <a:blip r:embed="rId2"/>
          <a:stretch/>
        </p:blipFill>
        <p:spPr>
          <a:xfrm>
            <a:off x="4716360" y="2205000"/>
            <a:ext cx="37242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629080" y="30780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ЕВЕРНАЯ ИР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Northern Ireland Giants_Causeway"/>
          <p:cNvPicPr/>
          <p:nvPr/>
        </p:nvPicPr>
        <p:blipFill>
          <a:blip r:embed="rId1"/>
          <a:stretch/>
        </p:blipFill>
        <p:spPr>
          <a:xfrm>
            <a:off x="2340000" y="765000"/>
            <a:ext cx="4408560" cy="587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eer"/>
          <p:cNvPicPr/>
          <p:nvPr/>
        </p:nvPicPr>
        <p:blipFill>
          <a:blip r:embed="rId1"/>
          <a:stretch/>
        </p:blipFill>
        <p:spPr>
          <a:xfrm>
            <a:off x="2268360" y="1008000"/>
            <a:ext cx="4570560" cy="5445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7164360" y="59421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quirrel"/>
          <p:cNvPicPr/>
          <p:nvPr/>
        </p:nvPicPr>
        <p:blipFill>
          <a:blip r:embed="rId1"/>
          <a:stretch/>
        </p:blipFill>
        <p:spPr>
          <a:xfrm>
            <a:off x="1465200" y="1268280"/>
            <a:ext cx="6202440" cy="4653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3708360" y="6237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fox"/>
          <p:cNvPicPr/>
          <p:nvPr/>
        </p:nvPicPr>
        <p:blipFill>
          <a:blip r:embed="rId1"/>
          <a:stretch/>
        </p:blipFill>
        <p:spPr>
          <a:xfrm>
            <a:off x="2124000" y="981000"/>
            <a:ext cx="4924440" cy="5661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7164360" y="602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frog"/>
          <p:cNvPicPr/>
          <p:nvPr/>
        </p:nvPicPr>
        <p:blipFill>
          <a:blip r:embed="rId1"/>
          <a:stretch/>
        </p:blipFill>
        <p:spPr>
          <a:xfrm>
            <a:off x="995400" y="1281240"/>
            <a:ext cx="7105680" cy="40194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042920" y="5661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Flag_of_the_United_Kingdom"/>
          <p:cNvPicPr/>
          <p:nvPr/>
        </p:nvPicPr>
        <p:blipFill>
          <a:blip r:embed="rId1"/>
          <a:stretch/>
        </p:blipFill>
        <p:spPr>
          <a:xfrm>
            <a:off x="1006560" y="2004840"/>
            <a:ext cx="7021440" cy="351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763640" y="6555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ЛАГ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5"/>
          <p:cNvGraphicFramePr/>
          <p:nvPr/>
        </p:nvGraphicFramePr>
        <p:xfrm>
          <a:off x="9144000" y="0"/>
          <a:ext cx="6094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0" y="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8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8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050920" y="806400"/>
            <a:ext cx="48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РОЛЕ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UK_Royal_Coat_of_Arms"/>
          <p:cNvPicPr/>
          <p:nvPr/>
        </p:nvPicPr>
        <p:blipFill>
          <a:blip r:embed="rId1"/>
          <a:stretch/>
        </p:blipFill>
        <p:spPr>
          <a:xfrm>
            <a:off x="2771640" y="2205000"/>
            <a:ext cx="3382920" cy="33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49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Elizabeth_II"/>
          <p:cNvPicPr/>
          <p:nvPr/>
        </p:nvPicPr>
        <p:blipFill>
          <a:blip r:embed="rId1"/>
          <a:stretch/>
        </p:blipFill>
        <p:spPr>
          <a:xfrm>
            <a:off x="6156360" y="1628640"/>
            <a:ext cx="2633760" cy="3600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6157800" y="5300640"/>
            <a:ext cx="23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онация Елизаветы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 1953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971640" y="476280"/>
            <a:ext cx="69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лава государства – королева Елизавета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Queen wedding"/>
          <p:cNvPicPr/>
          <p:nvPr/>
        </p:nvPicPr>
        <p:blipFill>
          <a:blip r:embed="rId2"/>
          <a:stretch/>
        </p:blipFill>
        <p:spPr>
          <a:xfrm>
            <a:off x="395280" y="1628640"/>
            <a:ext cx="2638440" cy="360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lizabeth_II_80th"/>
          <p:cNvPicPr/>
          <p:nvPr/>
        </p:nvPicPr>
        <p:blipFill>
          <a:blip r:embed="rId3"/>
          <a:stretch/>
        </p:blipFill>
        <p:spPr>
          <a:xfrm>
            <a:off x="3238560" y="2060640"/>
            <a:ext cx="2701800" cy="3600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3203640" y="5805360"/>
            <a:ext cx="28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олева Елизавета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свое 80-летие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6 год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95280" y="530064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адьба принцессы Елизаветы и графа Эдинбургского в 1947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1"/>
          <p:cNvSpPr/>
          <p:nvPr/>
        </p:nvSpPr>
        <p:spPr>
          <a:xfrm>
            <a:off x="395280" y="549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олица Великобритании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708360" y="6021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London_Skyline"/>
          <p:cNvPicPr/>
          <p:nvPr/>
        </p:nvPicPr>
        <p:blipFill>
          <a:blip r:embed="rId1"/>
          <a:stretch/>
        </p:blipFill>
        <p:spPr>
          <a:xfrm>
            <a:off x="3851280" y="2637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/>
          <p:cNvSpPr/>
          <p:nvPr/>
        </p:nvSpPr>
        <p:spPr>
          <a:xfrm>
            <a:off x="5148360" y="4842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ЛОН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" descr="London_Landsat"/>
          <p:cNvPicPr/>
          <p:nvPr/>
        </p:nvPicPr>
        <p:blipFill>
          <a:blip r:embed="rId2"/>
          <a:stretch/>
        </p:blipFill>
        <p:spPr>
          <a:xfrm>
            <a:off x="755640" y="1268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8"/>
          <p:cNvSpPr/>
          <p:nvPr/>
        </p:nvSpPr>
        <p:spPr>
          <a:xfrm>
            <a:off x="3708360" y="18288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так он выглядит из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>
            <a:off x="3131640" y="1989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11280" y="450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от так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берега реки Темзы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3059280" y="49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7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7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7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4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ouses"/>
          <p:cNvPicPr/>
          <p:nvPr/>
        </p:nvPicPr>
        <p:blipFill>
          <a:blip r:embed="rId1"/>
          <a:stretch/>
        </p:blipFill>
        <p:spPr>
          <a:xfrm>
            <a:off x="1198440" y="1179360"/>
            <a:ext cx="6613560" cy="4481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84360" y="5877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тминстерский дворец со знаменитой часовой башней «Биг Бен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заседает парламент Соединенного Королев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7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7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Tower_of_London"/>
          <p:cNvPicPr/>
          <p:nvPr/>
        </p:nvPicPr>
        <p:blipFill>
          <a:blip r:embed="rId1"/>
          <a:stretch/>
        </p:blipFill>
        <p:spPr>
          <a:xfrm>
            <a:off x="826920" y="1125360"/>
            <a:ext cx="5832720" cy="5332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6732720" y="357336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ндонский Тауэр -  королевская крепость, построенная в 11 в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Tower"/>
          <p:cNvPicPr/>
          <p:nvPr/>
        </p:nvPicPr>
        <p:blipFill>
          <a:blip r:embed="rId1"/>
          <a:stretch/>
        </p:blipFill>
        <p:spPr>
          <a:xfrm>
            <a:off x="1042920" y="1135080"/>
            <a:ext cx="6913800" cy="4856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476360" y="4762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ОСТОПРИМЕЧАТЕЛЬНОСТИ ЛОНД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82560" y="61578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уэрский 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9:51:58Z</dcterms:created>
  <dc:creator>Robert Brundrett</dc:creator>
  <dc:description/>
  <dc:language>en-US</dc:language>
  <cp:lastModifiedBy>Азат</cp:lastModifiedBy>
  <dcterms:modified xsi:type="dcterms:W3CDTF">2011-06-15T05:16:12Z</dcterms:modified>
  <cp:revision>47</cp:revision>
  <dc:subject/>
  <dc:title>Great Britain  (United Kingdom of Great Britain and Northern Ireland)   Великобритания  (Соединенное Королевство Великобритании и Северной Ирландии)</dc:title>
</cp:coreProperties>
</file>