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8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png" ContentType="image/png"/>
  <Override PartName="/ppt/media/image14.wmf" ContentType="image/x-wmf"/>
  <Override PartName="/ppt/media/image6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1895-2FAB-467E-B797-879361014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6254-5135-4DBB-B81B-16A1F065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014C-7117-4BF1-BD2E-0C1066FD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B3D9-B6C5-4596-8E7E-DA2AD615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8A9A-F575-4FD2-B8A9-751B2995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4C06-9DF2-4052-94F4-869DF5CA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020C-C70A-4E93-A35C-F935D51E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1150-7DDD-46D4-878D-4148FC9E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F117-9696-4D5F-ABB3-84DC51A5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538A-3D9D-41DE-AC4C-9AF7D42B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8F68-30B8-4171-B1D4-4F9B6EFD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EE58-C41C-4E5B-A004-33F770CC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1CD9-B349-46E1-8089-26C7CA52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5948-FB35-4E6C-90CF-792B58A3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BED7-5798-48A3-B6E4-1921F7B5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5F75-C800-4EAA-BC41-9C0904DB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861F-A463-4C1D-BBAC-3278D2A1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2808-7880-4D71-B3A2-35A12E06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8919-D1B9-4AA1-BA7F-CEE4DAF7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42D7-16BE-44E8-9034-B7977F46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10D2-2FFD-45F8-8BAF-5A6B3477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8E64-4CD9-491B-8F8F-1284C998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B331-C7A1-4421-AEAA-41B69398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46E2-F186-43D4-B070-BD7F7440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B23D-826C-4180-9C72-717E0C3B5B5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4568-543D-4359-829C-8F2815F60D0C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 Black"/>
              </a:rPr>
              <a:t>ШКОЛА  БЕЗОПАСНОСТ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Picture 4" descr="image3981"/>
          <p:cNvPicPr/>
          <p:nvPr/>
        </p:nvPicPr>
        <p:blipFill>
          <a:blip r:embed="rId1"/>
          <a:stretch/>
        </p:blipFill>
        <p:spPr>
          <a:xfrm>
            <a:off x="500040" y="1357200"/>
            <a:ext cx="3630600" cy="489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неклассное мероприятие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ля 4 класс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абота выполнена учителем начальных классов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ОУ «БСОШ№96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Заостровных Т.Н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Picture 5" descr="AG00428_"/>
          <p:cNvPicPr/>
          <p:nvPr/>
        </p:nvPicPr>
        <p:blipFill>
          <a:blip r:embed="rId2"/>
          <a:stretch/>
        </p:blipFill>
        <p:spPr>
          <a:xfrm rot="1309200">
            <a:off x="3059280" y="4868640"/>
            <a:ext cx="172692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971640" y="1182600"/>
            <a:ext cx="72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Он  знаток дорожных правил,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и машину здесь заправил. </a:t>
            </a:r>
            <a:br>
              <a:rPr sz="3600"/>
            </a:b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8" name="Picture 6" descr="i?id=123547950&amp;tov=0"/>
          <p:cNvPicPr/>
          <p:nvPr/>
        </p:nvPicPr>
        <p:blipFill>
          <a:blip r:embed="rId1"/>
          <a:stretch/>
        </p:blipFill>
        <p:spPr>
          <a:xfrm>
            <a:off x="5867280" y="2924280"/>
            <a:ext cx="232092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1477800" y="908280"/>
            <a:ext cx="654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Это знак такого рода -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Он на страже перехода. 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ереходим с куклой вместе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Мы дорогу в этом месте.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0" name="Picture 5" descr="MCj04320290000[1]"/>
          <p:cNvPicPr/>
          <p:nvPr/>
        </p:nvPicPr>
        <p:blipFill>
          <a:blip r:embed="rId1"/>
          <a:stretch/>
        </p:blipFill>
        <p:spPr>
          <a:xfrm>
            <a:off x="5796000" y="364500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Это знак всем говорит -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Будь внимателен предельно, 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в этом месте и внезапно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Появиться могут дети!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2" name="Picture 5" descr="i?id=4674581&amp;tov=6"/>
          <p:cNvPicPr/>
          <p:nvPr/>
        </p:nvPicPr>
        <p:blipFill>
          <a:blip r:embed="rId1"/>
          <a:stretch/>
        </p:blipFill>
        <p:spPr>
          <a:xfrm>
            <a:off x="5003640" y="4022640"/>
            <a:ext cx="3403800" cy="25527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i?id=81488350&amp;tov=5"/>
          <p:cNvPicPr/>
          <p:nvPr/>
        </p:nvPicPr>
        <p:blipFill>
          <a:blip r:embed="rId2"/>
          <a:stretch/>
        </p:blipFill>
        <p:spPr>
          <a:xfrm>
            <a:off x="755640" y="400536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Verdana"/>
              </a:rPr>
              <a:t>Конкурс «Если ты заболел?»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5" name="Picture 5" descr="j0240719"/>
          <p:cNvPicPr/>
          <p:nvPr/>
        </p:nvPicPr>
        <p:blipFill>
          <a:blip r:embed="rId1"/>
          <a:stretch/>
        </p:blipFill>
        <p:spPr>
          <a:xfrm>
            <a:off x="5003640" y="1341360"/>
            <a:ext cx="3672000" cy="5040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i?id=45753633&amp;tov=6"/>
          <p:cNvPicPr/>
          <p:nvPr/>
        </p:nvPicPr>
        <p:blipFill>
          <a:blip r:embed="rId2"/>
          <a:stretch/>
        </p:blipFill>
        <p:spPr>
          <a:xfrm>
            <a:off x="611280" y="1557360"/>
            <a:ext cx="2047680" cy="2736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2" descr="i?id=4503946&amp;tov=4"/>
          <p:cNvPicPr/>
          <p:nvPr/>
        </p:nvPicPr>
        <p:blipFill>
          <a:blip r:embed="rId3"/>
          <a:stretch/>
        </p:blipFill>
        <p:spPr>
          <a:xfrm>
            <a:off x="2916360" y="2565360"/>
            <a:ext cx="206532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Verdana"/>
              </a:rPr>
              <a:t>«Когда ты дома один?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Вспомни правила поведения, если ты остался дома один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Picture 5" descr="Правила поведения и безопасности для детей в картинках"/>
          <p:cNvPicPr/>
          <p:nvPr/>
        </p:nvPicPr>
        <p:blipFill>
          <a:blip r:embed="rId1"/>
          <a:stretch/>
        </p:blipFill>
        <p:spPr>
          <a:xfrm>
            <a:off x="1187280" y="2924280"/>
            <a:ext cx="410544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000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AG00428_"/>
          <p:cNvPicPr/>
          <p:nvPr/>
        </p:nvPicPr>
        <p:blipFill>
          <a:blip r:embed="rId2"/>
          <a:stretch/>
        </p:blipFill>
        <p:spPr>
          <a:xfrm rot="19600800">
            <a:off x="755640" y="2492280"/>
            <a:ext cx="2266920" cy="18018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200" spc="-1" strike="noStrike">
                <a:solidFill>
                  <a:srgbClr val="ff0066"/>
                </a:solidFill>
                <a:latin typeface="Kozuka Gothic Pro B"/>
              </a:rPr>
              <a:t>Подведем итоги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Конкурс “Разминка”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2" name="Picture 4" descr="ученик"/>
          <p:cNvPicPr/>
          <p:nvPr/>
        </p:nvPicPr>
        <p:blipFill>
          <a:blip r:embed="rId1"/>
          <a:stretch/>
        </p:blipFill>
        <p:spPr>
          <a:xfrm>
            <a:off x="4427640" y="1197000"/>
            <a:ext cx="42814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Назови  “Дорожные знаки”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4" name="Picture 4" descr="image3961"/>
          <p:cNvPicPr/>
          <p:nvPr/>
        </p:nvPicPr>
        <p:blipFill>
          <a:blip r:embed="rId1"/>
          <a:stretch/>
        </p:blipFill>
        <p:spPr>
          <a:xfrm>
            <a:off x="4859280" y="1916280"/>
            <a:ext cx="2232000" cy="3673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image3781"/>
          <p:cNvPicPr/>
          <p:nvPr/>
        </p:nvPicPr>
        <p:blipFill>
          <a:blip r:embed="rId2"/>
          <a:stretch/>
        </p:blipFill>
        <p:spPr>
          <a:xfrm>
            <a:off x="2556000" y="1916280"/>
            <a:ext cx="2303280" cy="3673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image3371"/>
          <p:cNvPicPr/>
          <p:nvPr/>
        </p:nvPicPr>
        <p:blipFill>
          <a:blip r:embed="rId3"/>
          <a:stretch/>
        </p:blipFill>
        <p:spPr>
          <a:xfrm>
            <a:off x="179280" y="1916280"/>
            <a:ext cx="2421000" cy="3673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image3591"/>
          <p:cNvPicPr/>
          <p:nvPr/>
        </p:nvPicPr>
        <p:blipFill>
          <a:blip r:embed="rId4"/>
          <a:stretch/>
        </p:blipFill>
        <p:spPr>
          <a:xfrm>
            <a:off x="7056360" y="1916280"/>
            <a:ext cx="2087640" cy="36003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9"/>
          <p:cNvSpPr/>
          <p:nvPr/>
        </p:nvSpPr>
        <p:spPr>
          <a:xfrm>
            <a:off x="179280" y="4506840"/>
            <a:ext cx="230508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2484360" y="4506840"/>
            <a:ext cx="226692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7164360" y="4506840"/>
            <a:ext cx="197964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4788000" y="4435560"/>
            <a:ext cx="226836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Verdana"/>
              </a:rPr>
              <a:t>Ответь на вопросы 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Verdana"/>
              </a:rPr>
              <a:t> получи 1 балл 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Verdana"/>
              </a:rPr>
              <a:t>за правильный ответ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333360"/>
            <a:ext cx="8229600" cy="60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Где пешеходы должны ходить, находясь на улице?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де должны ходить пешеходы, если нет тротуар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Почему по тротуару надо идти по правой стороне?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Сколько сигналов у светофор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Где находится “островок безопасности”?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Что обозначает красный сигнал светофор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5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6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Century Gothic"/>
              </a:rPr>
              <a:t>Конкурс “Музыкальный”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5" name="Picture 9" descr="EN00523A"/>
          <p:cNvPicPr/>
          <p:nvPr/>
        </p:nvPicPr>
        <p:blipFill>
          <a:blip r:embed="rId1"/>
          <a:stretch/>
        </p:blipFill>
        <p:spPr>
          <a:xfrm>
            <a:off x="1979640" y="1628640"/>
            <a:ext cx="42498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Verdana"/>
              </a:rPr>
              <a:t>Конкурс “Мы пассажиры”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954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Кого мы называем пассажирами?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Можно ли разговаривать с водителем во время движения?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Можно ли во время проезда в транспорте высовываться из окна?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Можно ли ногами вставать на сиденье в транспорте?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Можно ли ходить по автобусу во время движения?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Можно ли в автобусе громко разговаривать, петь?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6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4e"/>
                </a:solidFill>
                <a:latin typeface="Verdana"/>
              </a:rPr>
              <a:t>Конкурс “Викторина”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311796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Быстро отвечайте на вопросы и получайте по одному баллу за правильный отве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0" name="Picture 15" descr="image3511"/>
          <p:cNvPicPr/>
          <p:nvPr/>
        </p:nvPicPr>
        <p:blipFill>
          <a:blip r:embed="rId1"/>
          <a:stretch/>
        </p:blipFill>
        <p:spPr>
          <a:xfrm>
            <a:off x="468360" y="1268280"/>
            <a:ext cx="1295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Verdana"/>
              </a:rPr>
              <a:t>Конкурс “Загадка”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О каких дорожных знаках идет речь?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Picture 4" descr="MCj04326510000[1]"/>
          <p:cNvPicPr/>
          <p:nvPr/>
        </p:nvPicPr>
        <p:blipFill>
          <a:blip r:embed="rId1"/>
          <a:stretch/>
        </p:blipFill>
        <p:spPr>
          <a:xfrm>
            <a:off x="6300720" y="32846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i?id=67691683&amp;tov=2"/>
          <p:cNvPicPr/>
          <p:nvPr/>
        </p:nvPicPr>
        <p:blipFill>
          <a:blip r:embed="rId2"/>
          <a:stretch/>
        </p:blipFill>
        <p:spPr>
          <a:xfrm>
            <a:off x="684360" y="3284640"/>
            <a:ext cx="2663640" cy="25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Тут и вилка, тут и ложка,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Подзаправились немножко,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Накормили и собаку,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Говорим “спасибо” знаку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6" name="Picture 5" descr="i?id=26792133&amp;tov=5"/>
          <p:cNvPicPr/>
          <p:nvPr/>
        </p:nvPicPr>
        <p:blipFill>
          <a:blip r:embed="rId1"/>
          <a:stretch/>
        </p:blipFill>
        <p:spPr>
          <a:xfrm>
            <a:off x="1187280" y="3789360"/>
            <a:ext cx="1594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14:33:45Z</dcterms:created>
  <dc:creator>мама</dc:creator>
  <dc:description/>
  <dc:language>en-US</dc:language>
  <cp:lastModifiedBy>Николай</cp:lastModifiedBy>
  <dcterms:modified xsi:type="dcterms:W3CDTF">2013-04-25T09:10:00Z</dcterms:modified>
  <cp:revision>10</cp:revision>
  <dc:subject/>
  <dc:title>Слайд 1</dc:title>
</cp:coreProperties>
</file>