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773-B781-4776-9FCD-2FA5D188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81F-2C15-442D-9943-70C966DC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71C-D939-4C39-A4EC-4CA8B2FA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F39-1946-494B-8CC0-34508325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6773-AB04-4850-8616-74113C76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45DA-6965-42E4-99DE-5CE34A39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AC1D-347E-43F6-8A46-050073A0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AD2D-5098-4525-8F0D-87746044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C942-41AF-4C2E-A231-C72547B0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9FED-2D82-48D3-9BB5-32A50343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F45F-2370-4E42-A2E5-0D6ED5B1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DB8-A917-4B50-BF5F-78796FFC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9B42-3388-476C-9C9D-48B7D345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252E-7D4F-48A2-AEA3-37ED7874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84F6-7A3F-4AE7-AFB4-07D30484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5D9B-E0DD-46EE-A298-AF8D2E7A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4076-E34D-4EC4-9376-09B52229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2A8-3709-49D6-BB03-753F147C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29D-D6BE-4D55-90E9-7838C24C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293-1201-4E9A-A50C-52F8B5AC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6A9-78D8-4D76-A034-E4C098A2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7B0-F62F-4BC5-BD46-921FE70A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2CE-08D1-47E1-A7EB-5D2823DB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62B-B0EC-4558-9355-DF6795F5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B2A7-E9F2-4CA7-863F-7C713E78A6D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3EFE-B7FE-4236-B5F1-CCFEB54397F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ШКОЛА  БЕЗОПАС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image3981"/>
          <p:cNvPicPr/>
          <p:nvPr/>
        </p:nvPicPr>
        <p:blipFill>
          <a:blip r:embed="rId1"/>
          <a:stretch/>
        </p:blipFill>
        <p:spPr>
          <a:xfrm>
            <a:off x="500040" y="1357200"/>
            <a:ext cx="3630600" cy="489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неклассное мероприятие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ля 4 кла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бота выполнена учителем начальных классов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У «БСОШ№96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островных Т.Н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5" descr="AG00428_"/>
          <p:cNvPicPr/>
          <p:nvPr/>
        </p:nvPicPr>
        <p:blipFill>
          <a:blip r:embed="rId2"/>
          <a:stretch/>
        </p:blipFill>
        <p:spPr>
          <a:xfrm rot="1309200">
            <a:off x="3059280" y="4868640"/>
            <a:ext cx="172692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971640" y="118260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н  знаток дорожных правил,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 машину здесь заправил. </a:t>
            </a:r>
            <a:br>
              <a:rPr sz="3600"/>
            </a:b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Picture 6" descr="i?id=123547950&amp;tov=0"/>
          <p:cNvPicPr/>
          <p:nvPr/>
        </p:nvPicPr>
        <p:blipFill>
          <a:blip r:embed="rId1"/>
          <a:stretch/>
        </p:blipFill>
        <p:spPr>
          <a:xfrm>
            <a:off x="5867280" y="2924280"/>
            <a:ext cx="23209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1477800" y="90828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Это знак такого рода -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н на страже перехода.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ереходим с куклой вместе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ы дорогу в этом месте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5" descr="MCj04320290000[1]"/>
          <p:cNvPicPr/>
          <p:nvPr/>
        </p:nvPicPr>
        <p:blipFill>
          <a:blip r:embed="rId1"/>
          <a:stretch/>
        </p:blipFill>
        <p:spPr>
          <a:xfrm>
            <a:off x="5796000" y="3645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Это знак всем говорит -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Будь внимателен предельно,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в этом месте и внезапн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Появиться могут дети!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Picture 5" descr="i?id=4674581&amp;tov=6"/>
          <p:cNvPicPr/>
          <p:nvPr/>
        </p:nvPicPr>
        <p:blipFill>
          <a:blip r:embed="rId1"/>
          <a:stretch/>
        </p:blipFill>
        <p:spPr>
          <a:xfrm>
            <a:off x="5003640" y="4022640"/>
            <a:ext cx="3403800" cy="2552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i?id=81488350&amp;tov=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Verdana"/>
              </a:rPr>
              <a:t>Конкурс «Если ты заболел?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5" name="Picture 5" descr="j0240719"/>
          <p:cNvPicPr/>
          <p:nvPr/>
        </p:nvPicPr>
        <p:blipFill>
          <a:blip r:embed="rId1"/>
          <a:stretch/>
        </p:blipFill>
        <p:spPr>
          <a:xfrm>
            <a:off x="5003640" y="1341360"/>
            <a:ext cx="3672000" cy="5040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i?id=45753633&amp;tov=6"/>
          <p:cNvPicPr/>
          <p:nvPr/>
        </p:nvPicPr>
        <p:blipFill>
          <a:blip r:embed="rId2"/>
          <a:stretch/>
        </p:blipFill>
        <p:spPr>
          <a:xfrm>
            <a:off x="611280" y="1557360"/>
            <a:ext cx="2047680" cy="273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i?id=4503946&amp;tov=4"/>
          <p:cNvPicPr/>
          <p:nvPr/>
        </p:nvPicPr>
        <p:blipFill>
          <a:blip r:embed="rId3"/>
          <a:stretch/>
        </p:blipFill>
        <p:spPr>
          <a:xfrm>
            <a:off x="2916360" y="2565360"/>
            <a:ext cx="20653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Verdana"/>
              </a:rPr>
              <a:t>«Когда ты дома один?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Вспомни правила поведения, если ты остался дома один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5" descr="Правила поведения и безопасности для детей в картинках"/>
          <p:cNvPicPr/>
          <p:nvPr/>
        </p:nvPicPr>
        <p:blipFill>
          <a:blip r:embed="rId1"/>
          <a:stretch/>
        </p:blipFill>
        <p:spPr>
          <a:xfrm>
            <a:off x="1187280" y="2924280"/>
            <a:ext cx="41054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00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AG00428_"/>
          <p:cNvPicPr/>
          <p:nvPr/>
        </p:nvPicPr>
        <p:blipFill>
          <a:blip r:embed="rId2"/>
          <a:stretch/>
        </p:blipFill>
        <p:spPr>
          <a:xfrm rot="19600800">
            <a:off x="755640" y="2492280"/>
            <a:ext cx="2266920" cy="1801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200" spc="-1" strike="noStrike">
                <a:solidFill>
                  <a:srgbClr val="ff0066"/>
                </a:solidFill>
                <a:latin typeface="Kozuka Gothic Pro B"/>
              </a:rPr>
              <a:t>Подведем итоги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Конкурс “Разминк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Picture 4" descr="ученик"/>
          <p:cNvPicPr/>
          <p:nvPr/>
        </p:nvPicPr>
        <p:blipFill>
          <a:blip r:embed="rId1"/>
          <a:stretch/>
        </p:blipFill>
        <p:spPr>
          <a:xfrm>
            <a:off x="4427640" y="1197000"/>
            <a:ext cx="4281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Назови  “Дорожные знаки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Picture 4" descr="image3961"/>
          <p:cNvPicPr/>
          <p:nvPr/>
        </p:nvPicPr>
        <p:blipFill>
          <a:blip r:embed="rId1"/>
          <a:stretch/>
        </p:blipFill>
        <p:spPr>
          <a:xfrm>
            <a:off x="4859280" y="1916280"/>
            <a:ext cx="2232000" cy="36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image3781"/>
          <p:cNvPicPr/>
          <p:nvPr/>
        </p:nvPicPr>
        <p:blipFill>
          <a:blip r:embed="rId2"/>
          <a:stretch/>
        </p:blipFill>
        <p:spPr>
          <a:xfrm>
            <a:off x="2556000" y="1916280"/>
            <a:ext cx="2303280" cy="367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image3371"/>
          <p:cNvPicPr/>
          <p:nvPr/>
        </p:nvPicPr>
        <p:blipFill>
          <a:blip r:embed="rId3"/>
          <a:stretch/>
        </p:blipFill>
        <p:spPr>
          <a:xfrm>
            <a:off x="179280" y="1916280"/>
            <a:ext cx="2421000" cy="3673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image3591"/>
          <p:cNvPicPr/>
          <p:nvPr/>
        </p:nvPicPr>
        <p:blipFill>
          <a:blip r:embed="rId4"/>
          <a:stretch/>
        </p:blipFill>
        <p:spPr>
          <a:xfrm>
            <a:off x="7056360" y="1916280"/>
            <a:ext cx="2087640" cy="3600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9"/>
          <p:cNvSpPr/>
          <p:nvPr/>
        </p:nvSpPr>
        <p:spPr>
          <a:xfrm>
            <a:off x="179280" y="450684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2484360" y="4506840"/>
            <a:ext cx="226692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164360" y="4506840"/>
            <a:ext cx="197964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4788000" y="4435560"/>
            <a:ext cx="226836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Ответь на вопросы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 получи 1 балл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за правильный ответ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де пешеходы должны ходить, находясь на улице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де должны ходить пешеходы, если нет тротуа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Почему по тротуару надо идти по правой стороне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колько сигналов у светофо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де находится “островок безопасности”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Что обозначает красный сигнал светофо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entury Gothic"/>
              </a:rPr>
              <a:t>Конкурс “Музыкальный”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Picture 9" descr="EN00523A"/>
          <p:cNvPicPr/>
          <p:nvPr/>
        </p:nvPicPr>
        <p:blipFill>
          <a:blip r:embed="rId1"/>
          <a:stretch/>
        </p:blipFill>
        <p:spPr>
          <a:xfrm>
            <a:off x="1979640" y="1628640"/>
            <a:ext cx="4249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Verdana"/>
              </a:rPr>
              <a:t>Конкурс “Мы пассажиры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954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Кого мы называем пассажирами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разговаривать с водителем во время движения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жно ли во время проезда в транспорте высовываться из окна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ногами вставать на сиденье в транспорте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жно ли ходить по автобусу во время движения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в автобусе громко разговаривать, петь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4e"/>
                </a:solidFill>
                <a:latin typeface="Verdana"/>
              </a:rPr>
              <a:t>Конкурс “Викторин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11796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Быстро отвечайте на вопросы и получайте по одному баллу за правильный отве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15" descr="image3511"/>
          <p:cNvPicPr/>
          <p:nvPr/>
        </p:nvPicPr>
        <p:blipFill>
          <a:blip r:embed="rId1"/>
          <a:stretch/>
        </p:blipFill>
        <p:spPr>
          <a:xfrm>
            <a:off x="468360" y="1268280"/>
            <a:ext cx="1295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Конкурс “Загадк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О каких дорожных знаках идет речь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4" descr="MCj04326510000[1]"/>
          <p:cNvPicPr/>
          <p:nvPr/>
        </p:nvPicPr>
        <p:blipFill>
          <a:blip r:embed="rId1"/>
          <a:stretch/>
        </p:blipFill>
        <p:spPr>
          <a:xfrm>
            <a:off x="6300720" y="3284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i?id=67691683&amp;tov=2"/>
          <p:cNvPicPr/>
          <p:nvPr/>
        </p:nvPicPr>
        <p:blipFill>
          <a:blip r:embed="rId2"/>
          <a:stretch/>
        </p:blipFill>
        <p:spPr>
          <a:xfrm>
            <a:off x="684360" y="3284640"/>
            <a:ext cx="266364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Тут и вилка, тут и ложка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Подзаправились немножко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Накормили и собаку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оворим “спасибо” знак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5" descr="i?id=26792133&amp;tov=5"/>
          <p:cNvPicPr/>
          <p:nvPr/>
        </p:nvPicPr>
        <p:blipFill>
          <a:blip r:embed="rId1"/>
          <a:stretch/>
        </p:blipFill>
        <p:spPr>
          <a:xfrm>
            <a:off x="1187280" y="3789360"/>
            <a:ext cx="1594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4:33:45Z</dcterms:created>
  <dc:creator>мама</dc:creator>
  <dc:description/>
  <dc:language>en-US</dc:language>
  <cp:lastModifiedBy>Николай</cp:lastModifiedBy>
  <dcterms:modified xsi:type="dcterms:W3CDTF">2013-04-25T09:10:00Z</dcterms:modified>
  <cp:revision>10</cp:revision>
  <dc:subject/>
  <dc:title>Слайд 1</dc:title>
</cp:coreProperties>
</file>