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7.wmf" ContentType="image/x-wmf"/>
  <Override PartName="/ppt/media/image8.png" ContentType="image/png"/>
  <Override PartName="/ppt/media/image7.png" ContentType="image/png"/>
  <Override PartName="/ppt/media/image10.png" ContentType="image/png"/>
  <Override PartName="/ppt/media/image5.png" ContentType="image/png"/>
  <Override PartName="/ppt/media/image2.gif" ContentType="image/gif"/>
  <Override PartName="/ppt/media/image13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.png" ContentType="image/png"/>
  <Override PartName="/ppt/media/image14.wmf" ContentType="image/x-wmf"/>
  <Override PartName="/ppt/media/image6.png" ContentType="image/png"/>
  <Override PartName="/ppt/media/image12.jpeg" ContentType="image/jpeg"/>
  <Override PartName="/ppt/media/image11.png" ContentType="image/png"/>
  <Override PartName="/ppt/media/image19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10E20-DA86-4041-88FE-6154D1B23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4EEE0-78E1-466D-A39C-772516DF5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CF662-F7D8-499A-A7AE-923CFAB76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085D7-1ACE-46DA-98BA-B01D7B20F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A730E-7055-4CAD-BD6A-5098FCDDF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A0C75-A70D-4C49-961C-EE442D3E1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DF1B2-242A-4700-950E-6C47D9E5F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35810-8AC7-4FB7-BB15-DB4B5085B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B4FDF-192C-4D81-8879-8E989C05B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4D22F-E594-49BB-B8A4-4526381AD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80C35-7DEF-46D4-8C90-D7106A884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D6E92-4C14-4FBC-9099-2127A1E4B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924B1-A564-46D6-BFF5-BC60359BB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AAE9B-FB66-49C2-B5AA-DDEDC640C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53D0D-EDEC-4946-A09F-6B1E1A381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339BC-9BED-4E88-9EF3-3F50BB43B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13749-A264-463A-96E9-6855E5CF0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3F208-EA50-4150-B3F4-47FF4BDDB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2F9FB-7BAD-47B2-99B3-6AFD7B0A3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4A1BF-428A-4845-BF44-13F74D9FF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64D10-436C-417B-8161-E79B51CFB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893CF-54F5-49E1-9DB3-2BEF762E2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D1AF0-3382-4EDA-BFB3-C94D6E131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97919-9517-49A8-947B-A8930F213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3080" cy="6950160"/>
            <a:chOff x="-86760" y="-93600"/>
            <a:chExt cx="277308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prstGeom prst="pie">
              <a:avLst/>
            </a:pr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prstGeom prst="pie">
              <a:avLst/>
            </a:pr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400" cy="3117960"/>
              <a:chOff x="-1080" y="2601000"/>
              <a:chExt cx="2687400" cy="311796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7840" y="3850560"/>
                <a:ext cx="65520" cy="1825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120" y="4055040"/>
                <a:ext cx="1834200" cy="1663920"/>
                <a:chOff x="852120" y="4055040"/>
                <a:chExt cx="1834200" cy="166392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3600" y="3943800"/>
                  <a:ext cx="475560" cy="121932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33880" y="4975200"/>
                  <a:ext cx="109800" cy="50040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2000" y="5569200"/>
                  <a:ext cx="199080" cy="8424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800" bIns="37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280" y="6173640"/>
              <a:ext cx="790920" cy="634680"/>
              <a:chOff x="467280" y="6173640"/>
              <a:chExt cx="790920" cy="63468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2680" y="6172560"/>
                <a:ext cx="196560" cy="2541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59600" y="6513480"/>
                <a:ext cx="336600" cy="2109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280" y="6410880"/>
                <a:ext cx="352080" cy="1072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prstGeom prst="pie">
              <a:avLst/>
            </a:pr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4E086-85F1-430A-BF56-1E1F4E15C74A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50760" cy="6858000"/>
            <a:chOff x="-20160" y="0"/>
            <a:chExt cx="905076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409360" y="61560"/>
              <a:ext cx="3621240" cy="6130800"/>
              <a:chOff x="5409360" y="61560"/>
              <a:chExt cx="3621240" cy="613080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2600" y="346680"/>
                <a:ext cx="2115000" cy="235764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21760" y="1959480"/>
                <a:ext cx="906120" cy="8427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7040" y="2591640"/>
                <a:ext cx="439200" cy="3952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51840" y="673920"/>
                <a:ext cx="388440" cy="55080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55360" y="2644920"/>
                <a:ext cx="163080" cy="3319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40600" y="1241280"/>
                <a:ext cx="190440" cy="1429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40000" y="2930400"/>
                <a:ext cx="523440" cy="326844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3480" y="3106800"/>
              <a:ext cx="512280" cy="10303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400" y="2000160"/>
              <a:ext cx="1998360" cy="24321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1160" cy="7286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4520" y="4532400"/>
              <a:ext cx="561600" cy="7365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7560" y="4728960"/>
              <a:ext cx="137880" cy="43488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88920" y="5195880"/>
              <a:ext cx="1758600" cy="16621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49720" y="1033560"/>
              <a:ext cx="1015200" cy="1262160"/>
              <a:chOff x="4149720" y="1033560"/>
              <a:chExt cx="1015200" cy="126216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63720" y="1071360"/>
                <a:ext cx="285840" cy="378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48680" y="1604520"/>
                <a:ext cx="488880" cy="3142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09760" y="1962000"/>
                <a:ext cx="511200" cy="1602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52360" y="294840"/>
              <a:ext cx="891360" cy="829440"/>
              <a:chOff x="5652360" y="294840"/>
              <a:chExt cx="891360" cy="82944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63960" y="793440"/>
                <a:ext cx="179280" cy="3618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12840" y="473760"/>
                <a:ext cx="306360" cy="300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54280" y="394560"/>
                <a:ext cx="319320" cy="153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68760" y="5261400"/>
              <a:ext cx="1059120" cy="829800"/>
              <a:chOff x="968760" y="5261400"/>
              <a:chExt cx="1059120" cy="82980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711080" y="5526360"/>
                <a:ext cx="250920" cy="2995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93040" y="5736600"/>
                <a:ext cx="429480" cy="2487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60120" y="5385960"/>
                <a:ext cx="448920" cy="126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75840" y="447840"/>
              <a:ext cx="1690200" cy="1146600"/>
              <a:chOff x="375840" y="447840"/>
              <a:chExt cx="1690200" cy="114660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76080" y="1066320"/>
                <a:ext cx="355320" cy="53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22760" y="591480"/>
                <a:ext cx="608400" cy="44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78640" y="1105200"/>
                <a:ext cx="636120" cy="2239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380720" y="3712320"/>
              <a:ext cx="1155600" cy="1607760"/>
              <a:chOff x="7380720" y="3712320"/>
              <a:chExt cx="1155600" cy="160776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35440" y="4755960"/>
                <a:ext cx="355320" cy="53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886160" y="4455360"/>
                <a:ext cx="608040" cy="44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578720" y="3781080"/>
                <a:ext cx="635760" cy="2242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1760" y="3240"/>
              <a:ext cx="1368000" cy="140652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25040" y="161280"/>
              <a:ext cx="1080720" cy="9414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69080" y="1361160"/>
              <a:ext cx="523440" cy="4410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29440" y="1282320"/>
              <a:ext cx="195120" cy="37044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4120" y="0"/>
              <a:ext cx="196560" cy="19224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48800" y="1963800"/>
              <a:ext cx="623520" cy="365148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6880" cy="2095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B54E4-8F38-4A8F-AF48-CD0A4814E1BF}" type="slidenum">
              <a:rPr b="0" lang="ru-RU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Arial Black"/>
              </a:rPr>
              <a:t>ШКОЛА  БЕЗОПАСНОСТИ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68" name="Picture 4" descr="image3981"/>
          <p:cNvPicPr/>
          <p:nvPr/>
        </p:nvPicPr>
        <p:blipFill>
          <a:blip r:embed="rId1"/>
          <a:stretch/>
        </p:blipFill>
        <p:spPr>
          <a:xfrm>
            <a:off x="500040" y="1357200"/>
            <a:ext cx="3630600" cy="48960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Внеклассное мероприятие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для 4 класса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2580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Работа выполнена учителем начальных классов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2580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МОУ «БСОШ№96»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2580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Заостровных Т.Н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Picture 5" descr="AG00428_"/>
          <p:cNvPicPr/>
          <p:nvPr/>
        </p:nvPicPr>
        <p:blipFill>
          <a:blip r:embed="rId2"/>
          <a:stretch/>
        </p:blipFill>
        <p:spPr>
          <a:xfrm rot="1309200">
            <a:off x="3059280" y="4868640"/>
            <a:ext cx="1726920" cy="137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4"/>
          <p:cNvSpPr/>
          <p:nvPr/>
        </p:nvSpPr>
        <p:spPr>
          <a:xfrm>
            <a:off x="971640" y="1182600"/>
            <a:ext cx="7200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Он  знаток дорожных правил,</a:t>
            </a:r>
            <a:br>
              <a:rPr sz="3600"/>
            </a:b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и машину здесь заправил. </a:t>
            </a:r>
            <a:br>
              <a:rPr sz="3600"/>
            </a:b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98" name="Picture 6" descr="i?id=123547950&amp;tov=0"/>
          <p:cNvPicPr/>
          <p:nvPr/>
        </p:nvPicPr>
        <p:blipFill>
          <a:blip r:embed="rId1"/>
          <a:stretch/>
        </p:blipFill>
        <p:spPr>
          <a:xfrm>
            <a:off x="5867280" y="2924280"/>
            <a:ext cx="232092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4"/>
          <p:cNvSpPr/>
          <p:nvPr/>
        </p:nvSpPr>
        <p:spPr>
          <a:xfrm>
            <a:off x="1477800" y="908280"/>
            <a:ext cx="6541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Это знак такого рода -</a:t>
            </a:r>
            <a:br>
              <a:rPr sz="3600"/>
            </a:b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Он на страже перехода. </a:t>
            </a:r>
            <a:br>
              <a:rPr sz="3600"/>
            </a:b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Переходим с куклой вместе</a:t>
            </a:r>
            <a:br>
              <a:rPr sz="3600"/>
            </a:b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Мы дорогу в этом месте. 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00" name="Picture 5" descr="MCj04320290000[1]"/>
          <p:cNvPicPr/>
          <p:nvPr/>
        </p:nvPicPr>
        <p:blipFill>
          <a:blip r:embed="rId1"/>
          <a:stretch/>
        </p:blipFill>
        <p:spPr>
          <a:xfrm>
            <a:off x="5796000" y="3645000"/>
            <a:ext cx="259236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395280" y="69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Verdana"/>
              </a:rPr>
              <a:t>Это знак всем говорит -</a:t>
            </a:r>
            <a:br>
              <a:rPr sz="3600"/>
            </a:br>
            <a:r>
              <a:rPr b="1" lang="ru-RU" sz="3600" spc="-1" strike="noStrike">
                <a:solidFill>
                  <a:srgbClr val="0000ff"/>
                </a:solidFill>
                <a:latin typeface="Verdana"/>
              </a:rPr>
              <a:t>Будь внимателен предельно, </a:t>
            </a:r>
            <a:br>
              <a:rPr sz="3600"/>
            </a:br>
            <a:r>
              <a:rPr b="1" lang="ru-RU" sz="3600" spc="-1" strike="noStrike">
                <a:solidFill>
                  <a:srgbClr val="0000ff"/>
                </a:solidFill>
                <a:latin typeface="Verdana"/>
              </a:rPr>
              <a:t>в этом месте и внезапно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Verdana"/>
              </a:rPr>
              <a:t>Появиться могут дети!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02" name="Picture 5" descr="i?id=4674581&amp;tov=6"/>
          <p:cNvPicPr/>
          <p:nvPr/>
        </p:nvPicPr>
        <p:blipFill>
          <a:blip r:embed="rId1"/>
          <a:stretch/>
        </p:blipFill>
        <p:spPr>
          <a:xfrm>
            <a:off x="5003640" y="4022640"/>
            <a:ext cx="3403800" cy="255276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7" descr="i?id=81488350&amp;tov=5"/>
          <p:cNvPicPr/>
          <p:nvPr/>
        </p:nvPicPr>
        <p:blipFill>
          <a:blip r:embed="rId2"/>
          <a:stretch/>
        </p:blipFill>
        <p:spPr>
          <a:xfrm>
            <a:off x="755640" y="4005360"/>
            <a:ext cx="244800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Verdana"/>
              </a:rPr>
              <a:t>Конкурс «Если ты заболел?»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05" name="Picture 5" descr="j0240719"/>
          <p:cNvPicPr/>
          <p:nvPr/>
        </p:nvPicPr>
        <p:blipFill>
          <a:blip r:embed="rId1"/>
          <a:stretch/>
        </p:blipFill>
        <p:spPr>
          <a:xfrm>
            <a:off x="5003640" y="1341360"/>
            <a:ext cx="3672000" cy="504036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10" descr="i?id=45753633&amp;tov=6"/>
          <p:cNvPicPr/>
          <p:nvPr/>
        </p:nvPicPr>
        <p:blipFill>
          <a:blip r:embed="rId2"/>
          <a:stretch/>
        </p:blipFill>
        <p:spPr>
          <a:xfrm>
            <a:off x="611280" y="1557360"/>
            <a:ext cx="2047680" cy="273672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2" descr="i?id=4503946&amp;tov=4"/>
          <p:cNvPicPr/>
          <p:nvPr/>
        </p:nvPicPr>
        <p:blipFill>
          <a:blip r:embed="rId3"/>
          <a:stretch/>
        </p:blipFill>
        <p:spPr>
          <a:xfrm>
            <a:off x="2916360" y="2565360"/>
            <a:ext cx="2065320" cy="210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00"/>
                </a:solidFill>
                <a:latin typeface="Verdana"/>
              </a:rPr>
              <a:t>«Когда ты дома один?»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Verdana"/>
              </a:rPr>
              <a:t>Вспомни правила поведения, если ты остался дома один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10" name="Picture 5" descr="Правила поведения и безопасности для детей в картинках"/>
          <p:cNvPicPr/>
          <p:nvPr/>
        </p:nvPicPr>
        <p:blipFill>
          <a:blip r:embed="rId1"/>
          <a:stretch/>
        </p:blipFill>
        <p:spPr>
          <a:xfrm>
            <a:off x="1187280" y="2924280"/>
            <a:ext cx="4105440" cy="28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2" descr="0006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3" descr="AG00428_"/>
          <p:cNvPicPr/>
          <p:nvPr/>
        </p:nvPicPr>
        <p:blipFill>
          <a:blip r:embed="rId2"/>
          <a:stretch/>
        </p:blipFill>
        <p:spPr>
          <a:xfrm rot="19600800">
            <a:off x="755640" y="2492280"/>
            <a:ext cx="2266920" cy="1801800"/>
          </a:xfrm>
          <a:prstGeom prst="rect">
            <a:avLst/>
          </a:prstGeom>
          <a:ln w="0">
            <a:noFill/>
          </a:ln>
        </p:spPr>
      </p:pic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200" spc="-1" strike="noStrike">
                <a:solidFill>
                  <a:srgbClr val="ff0066"/>
                </a:solidFill>
                <a:latin typeface="Kozuka Gothic Pro B"/>
              </a:rPr>
              <a:t>Подведем итоги</a:t>
            </a:r>
            <a:endParaRPr b="0" lang="en-US" sz="52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66"/>
                </a:solidFill>
                <a:latin typeface="Verdana"/>
              </a:rPr>
              <a:t>Конкурс “Разминка”</a:t>
            </a:r>
            <a:br>
              <a:rPr sz="4000"/>
            </a:b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2" name="Picture 4" descr="ученик"/>
          <p:cNvPicPr/>
          <p:nvPr/>
        </p:nvPicPr>
        <p:blipFill>
          <a:blip r:embed="rId1"/>
          <a:stretch/>
        </p:blipFill>
        <p:spPr>
          <a:xfrm>
            <a:off x="4427640" y="1197000"/>
            <a:ext cx="428148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44000" cy="131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66"/>
                </a:solidFill>
                <a:latin typeface="Verdana"/>
              </a:rPr>
              <a:t>Назови  “Дорожные знаки”</a:t>
            </a:r>
            <a:br>
              <a:rPr sz="4000"/>
            </a:b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4" name="Picture 4" descr="image3961"/>
          <p:cNvPicPr/>
          <p:nvPr/>
        </p:nvPicPr>
        <p:blipFill>
          <a:blip r:embed="rId1"/>
          <a:stretch/>
        </p:blipFill>
        <p:spPr>
          <a:xfrm>
            <a:off x="4859280" y="1916280"/>
            <a:ext cx="2232000" cy="367344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5" descr="image3781"/>
          <p:cNvPicPr/>
          <p:nvPr/>
        </p:nvPicPr>
        <p:blipFill>
          <a:blip r:embed="rId2"/>
          <a:stretch/>
        </p:blipFill>
        <p:spPr>
          <a:xfrm>
            <a:off x="2556000" y="1916280"/>
            <a:ext cx="2303280" cy="367344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6" descr="image3371"/>
          <p:cNvPicPr/>
          <p:nvPr/>
        </p:nvPicPr>
        <p:blipFill>
          <a:blip r:embed="rId3"/>
          <a:stretch/>
        </p:blipFill>
        <p:spPr>
          <a:xfrm>
            <a:off x="179280" y="1916280"/>
            <a:ext cx="2421000" cy="367344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8" descr="image3591"/>
          <p:cNvPicPr/>
          <p:nvPr/>
        </p:nvPicPr>
        <p:blipFill>
          <a:blip r:embed="rId4"/>
          <a:stretch/>
        </p:blipFill>
        <p:spPr>
          <a:xfrm>
            <a:off x="7056360" y="1916280"/>
            <a:ext cx="2087640" cy="3600360"/>
          </a:xfrm>
          <a:prstGeom prst="rect">
            <a:avLst/>
          </a:prstGeom>
          <a:ln w="0">
            <a:noFill/>
          </a:ln>
        </p:spPr>
      </p:pic>
      <p:sp>
        <p:nvSpPr>
          <p:cNvPr id="178" name="Rectangle 9"/>
          <p:cNvSpPr/>
          <p:nvPr/>
        </p:nvSpPr>
        <p:spPr>
          <a:xfrm>
            <a:off x="179280" y="4506840"/>
            <a:ext cx="2305080" cy="100800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9" name="Rectangle 10"/>
          <p:cNvSpPr/>
          <p:nvPr/>
        </p:nvSpPr>
        <p:spPr>
          <a:xfrm>
            <a:off x="2484360" y="4506840"/>
            <a:ext cx="2266920" cy="100800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0" name="Rectangle 11"/>
          <p:cNvSpPr/>
          <p:nvPr/>
        </p:nvSpPr>
        <p:spPr>
          <a:xfrm>
            <a:off x="7164360" y="4506840"/>
            <a:ext cx="1979640" cy="100800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1" name="Rectangle 12"/>
          <p:cNvSpPr/>
          <p:nvPr/>
        </p:nvSpPr>
        <p:spPr>
          <a:xfrm>
            <a:off x="4788000" y="4435560"/>
            <a:ext cx="2268360" cy="100800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" dur="50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" dur="50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9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" dur="50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3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3" dur="50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66"/>
                </a:solidFill>
                <a:latin typeface="Verdana"/>
              </a:rPr>
              <a:t>Ответь на вопросы </a:t>
            </a:r>
            <a:br>
              <a:rPr sz="4000"/>
            </a:br>
            <a:r>
              <a:rPr b="1" lang="ru-RU" sz="4000" spc="-1" strike="noStrike">
                <a:solidFill>
                  <a:srgbClr val="ff0066"/>
                </a:solidFill>
                <a:latin typeface="Verdana"/>
              </a:rPr>
              <a:t> получи 1 балл </a:t>
            </a:r>
            <a:br>
              <a:rPr sz="4000"/>
            </a:br>
            <a:r>
              <a:rPr b="1" lang="ru-RU" sz="4000" spc="-1" strike="noStrike">
                <a:solidFill>
                  <a:srgbClr val="ff0066"/>
                </a:solidFill>
                <a:latin typeface="Verdana"/>
              </a:rPr>
              <a:t>за правильный ответ</a:t>
            </a:r>
            <a:r>
              <a:rPr b="0" lang="en-US" sz="40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68360" y="333360"/>
            <a:ext cx="8229600" cy="603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Verdana"/>
              </a:rPr>
              <a:t>Где пешеходы должны ходить, находясь на улице?</a:t>
            </a: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Где должны ходить пешеходы, если нет тротуара?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Verdana"/>
              </a:rPr>
              <a:t>Почему по тротуару надо идти по правой стороне?</a:t>
            </a: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Сколько сигналов у светофора?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Verdana"/>
              </a:rPr>
              <a:t>Где находится “островок безопасности”?</a:t>
            </a: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Что обозначает красный сигнал светофора?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indefinite"/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65" dur="indefinite"/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66" dur="indefinite"/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0" dur="50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4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2400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ff"/>
                </a:solidFill>
                <a:latin typeface="Century Gothic"/>
              </a:rPr>
              <a:t>Конкурс “Музыкальный”</a:t>
            </a:r>
            <a:br>
              <a:rPr sz="4400"/>
            </a:b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5" name="Picture 9" descr="EN00523A"/>
          <p:cNvPicPr/>
          <p:nvPr/>
        </p:nvPicPr>
        <p:blipFill>
          <a:blip r:embed="rId1"/>
          <a:stretch/>
        </p:blipFill>
        <p:spPr>
          <a:xfrm>
            <a:off x="1979640" y="1628640"/>
            <a:ext cx="4249800" cy="42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00"/>
                </a:solidFill>
                <a:latin typeface="Verdana"/>
              </a:rPr>
              <a:t>Конкурс “Мы пассажиры”</a:t>
            </a:r>
            <a:br>
              <a:rPr sz="4000"/>
            </a:b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68360" y="95400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Verdana"/>
              </a:rPr>
              <a:t>Кого мы называем пассажирами?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Можно ли разговаривать с водителем во время движения?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Verdana"/>
              </a:rPr>
              <a:t>Можно ли во время проезда в транспорте высовываться из окна?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Можно ли ногами вставать на сиденье в транспорте?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Verdana"/>
              </a:rPr>
              <a:t>Можно ли ходить по автобусу во время движения?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Можно ли в автобусе громко разговаривать, петь?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6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0" dur="50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36" dur="20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1" dur="500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4e"/>
                </a:solidFill>
                <a:latin typeface="Verdana"/>
              </a:rPr>
              <a:t>Конкурс “Викторина”</a:t>
            </a:r>
            <a:br>
              <a:rPr sz="4000"/>
            </a:b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3117960"/>
            <a:ext cx="8229600" cy="293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Verdana"/>
              </a:rPr>
              <a:t>Быстро отвечайте на вопросы и получайте по одному баллу за правильный ответ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90" name="Picture 15" descr="image3511"/>
          <p:cNvPicPr/>
          <p:nvPr/>
        </p:nvPicPr>
        <p:blipFill>
          <a:blip r:embed="rId1"/>
          <a:stretch/>
        </p:blipFill>
        <p:spPr>
          <a:xfrm>
            <a:off x="468360" y="1268280"/>
            <a:ext cx="129528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66"/>
                </a:solidFill>
                <a:latin typeface="Verdana"/>
              </a:rPr>
              <a:t>Конкурс “Загадка”</a:t>
            </a:r>
            <a:br>
              <a:rPr sz="4000"/>
            </a:b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Verdana"/>
              </a:rPr>
              <a:t>О каких дорожных знаках идет речь?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93" name="Picture 4" descr="MCj04326510000[1]"/>
          <p:cNvPicPr/>
          <p:nvPr/>
        </p:nvPicPr>
        <p:blipFill>
          <a:blip r:embed="rId1"/>
          <a:stretch/>
        </p:blipFill>
        <p:spPr>
          <a:xfrm>
            <a:off x="6300720" y="328464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6" descr="i?id=67691683&amp;tov=2"/>
          <p:cNvPicPr/>
          <p:nvPr/>
        </p:nvPicPr>
        <p:blipFill>
          <a:blip r:embed="rId2"/>
          <a:stretch/>
        </p:blipFill>
        <p:spPr>
          <a:xfrm>
            <a:off x="684360" y="3284640"/>
            <a:ext cx="2663640" cy="253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32400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Verdana"/>
              </a:rPr>
              <a:t>Тут и вилка, тут и ложка,</a:t>
            </a:r>
            <a:br>
              <a:rPr sz="3200"/>
            </a:br>
            <a:r>
              <a:rPr b="1" lang="ru-RU" sz="3200" spc="-1" strike="noStrike">
                <a:solidFill>
                  <a:srgbClr val="0000ff"/>
                </a:solidFill>
                <a:latin typeface="Verdana"/>
              </a:rPr>
              <a:t>Подзаправились немножко,</a:t>
            </a:r>
            <a:br>
              <a:rPr sz="3200"/>
            </a:br>
            <a:r>
              <a:rPr b="1" lang="ru-RU" sz="3200" spc="-1" strike="noStrike">
                <a:solidFill>
                  <a:srgbClr val="0000ff"/>
                </a:solidFill>
                <a:latin typeface="Verdana"/>
              </a:rPr>
              <a:t>Накормили и собаку,</a:t>
            </a:r>
            <a:br>
              <a:rPr sz="3200"/>
            </a:br>
            <a:r>
              <a:rPr b="1" lang="ru-RU" sz="3200" spc="-1" strike="noStrike">
                <a:solidFill>
                  <a:srgbClr val="0000ff"/>
                </a:solidFill>
                <a:latin typeface="Verdana"/>
              </a:rPr>
              <a:t>Говорим “спасибо” знаку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96" name="Picture 5" descr="i?id=26792133&amp;tov=5"/>
          <p:cNvPicPr/>
          <p:nvPr/>
        </p:nvPicPr>
        <p:blipFill>
          <a:blip r:embed="rId1"/>
          <a:stretch/>
        </p:blipFill>
        <p:spPr>
          <a:xfrm>
            <a:off x="1187280" y="3789360"/>
            <a:ext cx="159408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31T14:33:45Z</dcterms:created>
  <dc:creator>мама</dc:creator>
  <dc:description/>
  <dc:language>en-US</dc:language>
  <cp:lastModifiedBy>Николай</cp:lastModifiedBy>
  <dcterms:modified xsi:type="dcterms:W3CDTF">2013-04-25T09:10:00Z</dcterms:modified>
  <cp:revision>10</cp:revision>
  <dc:subject/>
  <dc:title>Слайд 1</dc:title>
</cp:coreProperties>
</file>