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2F10D-2728-4191-8FAB-EC4C65AB0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E7B1-085F-4CFC-9FA4-2DB1F16BF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621A4-D1C1-4314-B45D-94E1E6644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5D840-8826-4CE6-9065-C40036B1A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DB499-E2BC-4F08-A5D8-B5FA6B6EC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43A3A-893B-48C3-A1DA-779ABD950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3AA8B-D7E4-4390-A3D5-D7ADF7CFA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153C-16AE-4663-A3E8-AA2874780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5007A-E747-44DD-A8E6-DDE9F2D1C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3BCC2-032E-4147-A00E-6876C66C4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0308-FD64-4AC0-87A8-04ED9A709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CB70F-BDB1-4B7D-81A9-CF9DA44F5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C6AAB-D929-4BC0-9A69-4D15F6B0D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B10C-C188-475B-9543-2C06B4319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DC721-8F55-4015-B028-17038E01A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37688-C0B7-462C-B496-7463D529D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75B01-BC3B-4CC4-B6CD-F0477CA0C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342D-D6B7-4E8D-8C17-9E9F0798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F37C-3CE9-489E-86EE-455B4941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46452-2A0E-4FD8-8329-D159ECC6C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D443B-4541-4CDC-B665-D5CFCB21A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8AB7-2F7C-4509-839E-9E0FE0AF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CAD6-3672-4D4D-8F10-CF1C37890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46FE-8F4D-4759-919C-0CD1AE285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D86B-B24B-49DE-BC2C-20FB5BF966F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27AA-1274-4CA5-9B5D-A6C67E60289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Убежать от тысячи инфекций</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Обносов А.В.</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11г.</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ебный проект, ОБ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Наркологи</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Развитию каких инфекционных болезней способствует наркомания?</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Диетологи</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правильно питаться при инфекционной болезн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Удачи всем исследователям!</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4" name="" descr=""/>
          <p:cNvPicPr/>
          <p:nvPr/>
        </p:nvPicPr>
        <p:blipFill>
          <a:blip r:embed="rId1"/>
          <a:stretch/>
        </p:blipFill>
        <p:spPr>
          <a:xfrm>
            <a:off x="2700360" y="2349360"/>
            <a:ext cx="3619440" cy="361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ahoma"/>
              </a:rPr>
              <a:t>Использованы изображения</a:t>
            </a:r>
            <a:endParaRPr b="0" lang="en-US" sz="4000" spc="-1" strike="noStrike">
              <a:solidFill>
                <a:srgbClr val="333399"/>
              </a:solidFill>
              <a:latin typeface="Tahoma"/>
            </a:endParaRPr>
          </a:p>
        </p:txBody>
      </p:sp>
      <p:sp>
        <p:nvSpPr>
          <p:cNvPr id="126"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http://images.yandex.ru/yandsearch?lr=47&amp;noreask=1&amp;text=%D1%81%D1%82%D0%B8%D1%85%D0%B8%20%D0%B8%D0%BD%D1%84%D0%B5%D0%BA%D1%86%D0%B8%D1%8F%20%D0%B8%D0%BD%D1%84%D0%B5%D0%BA%D1%86%D0%B8%D0%BE%D0%BD%D0%BD%D1%8B%D0%B5%20%D0%B1%D0%BE%D0%BB%D0%B5%D0%B7%D0%BD%D0%B8&amp;p=11&amp;img_url=www.aptekafz.ru%2Fupload%2Fnewspaper%2F43%2FAstma.jpg&amp;rpt=simage</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http://images.yandex.ru/yandsearch?lr=47&amp;noreask=1&amp;text=%D1%81%D1%82%D0%B8%D1%85%D0%B8%20%D0%B8%D0%BD%D1%84%D0%B5%D0%BA%D1%86%D0%B8%D1%8F%20%D0%B8%D0%BD%D1%84%D0%B5%D0%BA%D1%86%D0%B8%D0%BE%D0%BD%D0%BD%D1%8B%D0%B5%20%D0%B1%D0%BE%D0%BB%D0%B5%D0%B7%D0%BD%D0%B8&amp;p=24&amp;img_url=telegraf.by%2FimgDbPermanent%2F06%2F06325828df0e4af882fa316974da73ff_NewsThumb465x262.jpg&amp;rpt=sim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Что вы знаете об инфекционных болезнях?</a:t>
            </a:r>
            <a:endParaRPr b="0" lang="en-US" sz="4400" spc="-1" strike="noStrike">
              <a:solidFill>
                <a:srgbClr val="333399"/>
              </a:solidFill>
              <a:latin typeface="Tahoma"/>
            </a:endParaRPr>
          </a:p>
        </p:txBody>
      </p:sp>
      <p:sp>
        <p:nvSpPr>
          <p:cNvPr id="102" name="PlaceHolder 2"/>
          <p:cNvSpPr>
            <a:spLocks noGrp="1"/>
          </p:cNvSpPr>
          <p:nvPr>
            <p:ph/>
          </p:nvPr>
        </p:nvSpPr>
        <p:spPr>
          <a:xfrm>
            <a:off x="250920" y="5661000"/>
            <a:ext cx="8704080" cy="100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Существует тысячи болезней, но здоровье бывает только одно. </a:t>
            </a:r>
            <a:endParaRPr b="0" lang="en-US" sz="2400" spc="-1" strike="noStrike">
              <a:solidFill>
                <a:srgbClr val="000000"/>
              </a:solidFill>
              <a:latin typeface="Tahoma"/>
            </a:endParaRPr>
          </a:p>
          <a:p>
            <a:pPr lvl="4" marL="19339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Карл Людвиг Бёрне</a:t>
            </a:r>
            <a:endParaRPr b="0" lang="en-US" sz="1600" spc="-1" strike="noStrike">
              <a:solidFill>
                <a:srgbClr val="000000"/>
              </a:solidFill>
              <a:latin typeface="Tahoma"/>
            </a:endParaRPr>
          </a:p>
        </p:txBody>
      </p:sp>
      <p:pic>
        <p:nvPicPr>
          <p:cNvPr id="103" name="" descr=""/>
          <p:cNvPicPr/>
          <p:nvPr/>
        </p:nvPicPr>
        <p:blipFill>
          <a:blip r:embed="rId1"/>
          <a:stretch/>
        </p:blipFill>
        <p:spPr>
          <a:xfrm>
            <a:off x="2124000" y="2205000"/>
            <a:ext cx="571356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3399"/>
                </a:solidFill>
                <a:latin typeface="Tahoma"/>
              </a:rPr>
              <a:t>Сиквейн</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Инфекци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Заразная, опасна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Внедряется, губит, убивае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Инфекционные болезни – проблема всего человечеств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Зараза</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Немного истории</a:t>
            </a:r>
            <a:endParaRPr b="0" lang="en-US" sz="4400" spc="-1" strike="noStrike">
              <a:solidFill>
                <a:srgbClr val="333399"/>
              </a:solidFill>
              <a:latin typeface="Tahoma"/>
            </a:endParaRPr>
          </a:p>
        </p:txBody>
      </p:sp>
      <p:sp>
        <p:nvSpPr>
          <p:cNvPr id="107"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нфекционные болезни сопровождают человека с момента его становления как вида. По мере возникновения общества и развития социального образа жизни человека многие инфекции получили массовое распространение. Сведения о заразных болезнях можно найти в древнейших памятниках письменности: в индийских ведах, иероглифическом письме Древнего Китая и Древнего Египта, Библии, а затем и в русских летописях, где они описаны под названием поветрий, повальных, моровых болезней. Опустошительные эпидемии и пандемии инфекционных болезней были свойственны всем историческим периодам жизни человека. Так, в средние века от чумы («черной смерти») вымерла треть населения Европы, а всего на земном шаре в XIV в. от этого заболевания погибли более 50 млн человек. В XVII–XVIII вв. ежегодно только в европейских странах натуральной оспой болели около 10 млн человек. Эпидемии сыпного тифа были постоянными спутниками всех прошлых войн. От этого заболевания погибло больше людей, чем от всех видов оружия, вместе взятых. Пандемия гриппа во время первой мировой войны («испанка») поразила 500 млн человек, 20 млн из них умерли.</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Широчайшее распространение инфекционных болезней во все времена не только приводило к гибели многие миллионы людей, но и было основной причиной малой продолжительности жизни человека, которая в прошлом не превышала 20–30 лет, а в некоторых районах Африки и сейчас составляет 35–40 ле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2636640"/>
            <a:ext cx="779328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ahoma"/>
              </a:rPr>
              <a:t>На</a:t>
            </a:r>
            <a:r>
              <a:rPr b="1" lang="en-US" sz="4000" spc="-1" strike="noStrike">
                <a:solidFill>
                  <a:srgbClr val="333399"/>
                </a:solidFill>
                <a:latin typeface="Tahoma"/>
              </a:rPr>
              <a:t> какие вопросы вы хотели бы найти ответы в ходе проектной деятельности?</a:t>
            </a:r>
            <a:endParaRPr b="0" lang="en-US" sz="40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Основополагающий вопрос</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озможно ли безопасное существование человека с миром вирусов и микробо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ак помочь себе и близки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Цели проекта:</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формировать понятия об инфекционном и эпидемическом процессах; изучить эпидемиологическую классификацию инфекционных болезней; рассмотреть общую характеристику и свойства микроорганизмов; узнать об основных принципах профилактики инфекционных болезней;</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вышение гигиенической культуры, развитие нетерпимости к нарушению этических норм и правил;</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аучить получать информацию из различных источников, обрабатывать её, делать вывод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Социологи</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ова статистика инфекционных заболеваний в нашем регион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ими инфекционными заболеваниями болеют ученики нашей школ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Медики</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ова классификация инфекционных болезней?</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повысить иммунитет?</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снизить риск инфекционных заболеваний?</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Выпустить бюллетени о наиболее распространённых заболеваниях.</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6:45:21Z</dcterms:created>
  <dc:creator>Оля</dc:creator>
  <dc:description/>
  <dc:language>en-US</dc:language>
  <cp:lastModifiedBy>Оля</cp:lastModifiedBy>
  <dcterms:modified xsi:type="dcterms:W3CDTF">2011-12-19T17:32:32Z</dcterms:modified>
  <cp:revision>3</cp:revision>
  <dc:subject/>
  <dc:title>Убежать от тысячи инфекций</dc:title>
</cp:coreProperties>
</file>