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29D78C-5E30-4D1B-8473-06D1D0F4E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EE1630-97A2-4A09-8CE7-684EE1CE9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7E3684-5E37-44D1-87ED-30B278CD3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CE17B-5040-4429-96D5-4417D27526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5A67E2-8439-4ED5-B06B-E20344C04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EC25C0-DFFD-4AAE-90D4-9944C817D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98BC1-EEBD-4D1D-8185-D209E5430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3F968C-1049-4921-80BE-4DC927C3AF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F7289C-F2B2-4B22-99E5-B386C151D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355A86-A16D-4432-8D32-20D43A9D5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112E50-7B64-452D-AAE2-BCD8ABCD2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5003B9-AA25-4E5C-8E96-1863F3177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949FCB-AFAB-490D-BB09-9BF2FE064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6FAD69-7E8D-444A-9672-4EF7543D8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C48BB-9342-4E27-BD30-BFFABACFE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007239-E66B-4523-80C5-21CE17DA9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559CE9-BB20-4462-B18B-C132C7517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F10718-7552-4BB0-AF91-9E621B24B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4D22DE-9677-4AED-81A7-B1D6420E8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77D633-7F46-4E0C-9389-69BDF7618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ABDAEA-1E49-46AF-8DE1-4085DE768D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64AF53-2F8E-441A-A678-93C9057E2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47C71-50A2-4A5E-ADA4-FA1C7B140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893EA-8838-4D7F-B9CE-90DAB1AD6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FB6325-49EB-41CA-AB36-11DC3738F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A4AA98-6E45-4F60-B31B-CB2CEAAB8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E7A5B3-627E-4D45-AF06-0DD018739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5909DE-8584-479F-8D28-0976E576D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25A2CE-792B-49F9-BC80-157289639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AFE080-D89D-47EB-9AF5-F51E1A081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32CAB-58A5-436F-A270-6EF75AC8D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2EAB50-6CF6-435C-9577-3A2CD6CE8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A7DFA-552B-452C-8186-54BCC07B9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C360C-44C1-4982-9F8D-31A9DC6C9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79D85D-E2DC-4071-A58C-8FF13119D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47B467-0C88-496B-A6F7-55D1B7367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49946-7EFD-41DF-9AA4-8519F1157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CE7065-8F66-45A5-8A2F-C0C7083E6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8A1615-A334-4F9D-B564-897DFC2CF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A12-C20E-4CA2-B461-99103A8F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D95-06F8-49BD-A172-FFDBB8C5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3EC-7062-45E9-88AF-05CEE63E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ED5-1A78-4D79-9F27-738A240F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A68F-45B0-4863-A440-5FB479F0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FE0-BBBF-462B-B03C-5A2AB7B1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309-A1EA-489D-A793-6EF232CB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6084-0086-4D4E-9869-F2B7E4C3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7C18-65E9-4C2F-B3A9-8B5107DF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D3CD-205A-49D5-9A68-E14C55D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169-6349-4305-AE0C-BABCB7B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263-C055-4233-82DF-DB057DA9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F710-4400-4090-A5BE-FC09ED2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FF6B-B372-4BD9-B6F7-927E2F83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5C1F-9A27-4208-BA97-4319AC92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4BD6-5CE8-4363-9845-5B1FB8C5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14D8-43DA-4E54-A03C-D4FE8415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6A9-B06E-48C5-9A4B-1F64086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CBA-8B20-44B2-B9B6-91CF2F2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CB1-C0C8-4ED6-A55D-78CFA1B2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9FF-A353-417A-8A1E-BAD68AA7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A92-BDE8-479E-8E51-899A2CE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BC7-D334-4663-BAA1-FAA04E5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94A-8D90-473E-90CB-7B97543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E864C1-9023-4F98-89A0-76CC599C3FE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3ECD48-6CAC-46C0-BAE0-14F063DAD6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4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402419-5BE4-4D30-AD35-D5662A4AFAC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9068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 Black"/>
              </a:rPr>
              <a:t>Терроризм- угроза обществу</a:t>
            </a:r>
            <a:br>
              <a:rPr sz="6000"/>
            </a:br>
            <a:br>
              <a:rPr sz="6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079640" y="4794120"/>
            <a:ext cx="8180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УЧИТЕЛЬ МОУ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"СОШ № 58" г.Омск Коваленко С.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Захват автобуса с деть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декабря 1988 г. в Минеральных водах 4 бандита потребовали крупную сумму денег в иностранной валюте и самолет для вылета за рубеж. В противном случае угрожали всех сжечь: под каждым сиденьем террористы поставили по три 3-литровых банки бензина. История с захватом детей прогремела на всю страну. По горячим следам были сняты 2 фильма: документальный «Заложники из 4-го «Г» и художественный «Взбесившийся автобус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Разрушение Всемирного Торгов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348000" y="836640"/>
            <a:ext cx="561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 сентября 2001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в 28-ю годовщину подготовленного ЦРУ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военного путч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в Чили, и 11-ю годовщину речи Буша-старшего "Новый мировой порядок", террористы захватили четыре самолета. Согласно официальной версии девятнадцать арабов угнали 4 самолета; врезались на двух из них в башни Всемирного Торгового центра, что стало причиной пожара внутри, и врезались на третьем в Пентагон. Согласно официальной версии, в результате пожара стальные несущие балки расплавились, что стало причиной обрушения баш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334960" cy="3516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619280" y="3284640"/>
            <a:ext cx="2011320" cy="33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198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100" spc="-1" strike="noStrike">
                <a:solidFill>
                  <a:srgbClr val="ff9900"/>
                </a:solidFill>
                <a:latin typeface="Arial"/>
              </a:rPr>
              <a:t>Терроризм в Москв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79280" y="90792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еррористический акт в Москве 200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3 октября 2002 года в 21.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центре Москвы (в театральном центре на Дубровке)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вооруженных террористо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захватили зал, в котором шел популярный мюзик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«Норд-Ост»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октября в 5.3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сле уникальной в мировой истории спецоперации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0 заложников были освобожден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Уничтожены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террорис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32 мужчин и 18 женщин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 заложник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8 ок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30798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50920" y="260280"/>
            <a:ext cx="8683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на Тушинском аэрод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5 июл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Москве был совершён террористический акт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 входа на Тушинский аэродр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где в это время проходи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ок-фестиваль «Крылья»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и взорваны две бомбы. Взрывы произвел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ве террористки-смерт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По официальным данным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огибло 13 и ранено 59 челове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Больших жертв удалось избежать только потому, что охрана, заподозрив этих женщи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 пропустила их в толп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око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гостиницы «Национа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декабр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дна террористка-смертн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50920" y="-17640"/>
            <a:ext cx="8713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ff9900"/>
                </a:solidFill>
                <a:latin typeface="Arial"/>
              </a:rPr>
              <a:t>Захват заложников в Беслане</a:t>
            </a:r>
            <a:br>
              <a:rPr sz="1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79280" y="1143000"/>
            <a:ext cx="8678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мерно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 8 утра 1 сен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995640" y="500040"/>
            <a:ext cx="49388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о время проведения торжественной линейки по случаю 1 сентября они ворвались на территорию школы №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сего на линейке, по данным комитета образования администрации Беслана, присутствовали 895 учеников и 59 учителей и технических сотрудников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Количество родителей, пришедших проводить детей в школу, неизвестно. Открыв беспорядочную стрельбу в воздух, боевики приказали всем присутствующим зайти в здание школы, однако большинство - в основном старшеклассники и взрослые - смогли просто разбежаться. Тех кто не смог это сделать - учеников младших классов и их родителей и часть учителей - бандиты загнали в спортз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79280" y="189000"/>
            <a:ext cx="860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се погибшие - гражданские л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911840" y="285768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"/>
          <p:cNvGrpSpPr/>
          <p:nvPr/>
        </p:nvGrpSpPr>
        <p:grpSpPr>
          <a:xfrm>
            <a:off x="0" y="0"/>
            <a:ext cx="3311640" cy="2637000"/>
            <a:chOff x="0" y="0"/>
            <a:chExt cx="3311640" cy="2637000"/>
          </a:xfrm>
        </p:grpSpPr>
        <p:pic>
          <p:nvPicPr>
            <p:cNvPr id="25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1164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3"/>
            <p:cNvSpPr/>
            <p:nvPr/>
          </p:nvSpPr>
          <p:spPr>
            <a:xfrm>
              <a:off x="0" y="0"/>
              <a:ext cx="3311640" cy="26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3781440" cy="283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3355920" cy="2516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tretch/>
        </p:blipFill>
        <p:spPr>
          <a:xfrm>
            <a:off x="5148360" y="0"/>
            <a:ext cx="3787560" cy="284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157320"/>
            <a:ext cx="8507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Боевики захватили </a:t>
            </a:r>
            <a:br>
              <a:rPr sz="2800"/>
            </a:b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300 школьников в Пакистане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50920" y="1484280"/>
            <a:ext cx="8642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8.09.2008 18:15 | lent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оевик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захватили школу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Верхний Дир в Северо-Западной Пограничной провинции. В заложниках у бандитов оказались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коло трехсот детей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орреспонденты с места событий утверждали, что боевики такж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треляли в местных жителе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пытавшихся вызволить детей из пл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50920" y="260280"/>
            <a:ext cx="86421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1) объяснить сущность терроризма, его типы и цели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совершенствовать знания о терроризм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основы безопасности в ЧС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общественного сознания и гражданскую позицию подрастающего поко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определить, почему терроризм стал обыденным явлением российской действи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) способствовать воспитанию в детях толерантного отношения друг к другу и формировать  умение жить в мире с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развивать самостоятельность суждений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Изучить правила поведения при теракт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Развивать навыки поисковой, исследовательской работы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умения работы в группах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Arial"/>
              </a:rPr>
              <a:t>Политики объявляют войну терроризму. Мы не очень верим, что в этой войне можно одержать окончательную победу, но верим, что </a:t>
            </a:r>
            <a:r>
              <a:rPr b="1" i="1" lang="en-GB" sz="4400" spc="-1" strike="noStrike">
                <a:solidFill>
                  <a:srgbClr val="ff0066"/>
                </a:solidFill>
                <a:latin typeface="Arial"/>
              </a:rPr>
              <a:t>можно научиться жить в эпоху терроризм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cc6600"/>
                </a:solidFill>
                <a:uFillTx/>
                <a:latin typeface="Arial"/>
              </a:rPr>
              <a:t>Что делать, если вы оказались в заложник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Не выделяйтесь и не сопротивля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Не пытайтесь  беж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старайтесь оценить обстановку и избегайте необдуманных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Не оказывайте  сопротив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 Как можно быстрее постарайтесь взять себя в руки, всеми силами подавить в себе панику и, на сколько это возможно успок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Подготовиться к моральным, физическим и эмоциональным испыт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Говорить спокойным ровным голо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Переносить лишения, оскорбления и унижения без вызова и воз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Экономьте и поддерживайте силы, чем угодно используйте любую возмож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GB" sz="32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Максимально выполняйте требования преступников, особенно в перв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Не совершайте любых действий, спрашивайте раз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. Меньше двигай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. Постоянно напоминайте себе, что ваша цель – остаться в жи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4. Помните, что для вашего освобождения делается всё необходимое и возмож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Правила заложн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16072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5940360" y="4317840"/>
            <a:ext cx="2114640" cy="1731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2916360" y="476280"/>
            <a:ext cx="340812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70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ебя вести заложник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пытаться беж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оказывать сопротивл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Что такое «стокгольмский синдр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передать весточку на во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осредоточиться и успокоиться в состоянии шока или сильного стре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ри начавшемся штурм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осле освобождения, в том числе — с представителями спецслуж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236000" y="3500280"/>
            <a:ext cx="139356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7280" y="360360"/>
            <a:ext cx="47718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 Black"/>
              </a:rPr>
              <a:t>Терроризм – это одна из форм организованного насил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95280" y="3068640"/>
            <a:ext cx="50022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556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5560"/>
                <a:tab algn="l" pos="939960"/>
                <a:tab algn="l" pos="1854360"/>
                <a:tab algn="l" pos="2768760"/>
                <a:tab algn="l" pos="3683160"/>
                <a:tab algn="l" pos="4597560"/>
                <a:tab algn="l" pos="5511960"/>
                <a:tab algn="l" pos="6426360"/>
                <a:tab algn="l" pos="7340760"/>
                <a:tab algn="l" pos="8255160"/>
                <a:tab algn="l" pos="9169560"/>
                <a:tab algn="l" pos="1008396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320e04"/>
                </a:solidFill>
                <a:latin typeface="Arial"/>
              </a:rPr>
              <a:t>Терроризм глобален по масштабам, «порочен» по природе, безжалостен к врагам и стремиться контролировать все сферы жизни и мысл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000840" y="28576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4560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50920" y="-1260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ecff"/>
                </a:solidFill>
                <a:latin typeface="Arial"/>
              </a:rPr>
              <a:t>Террористические организации мира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404640"/>
            <a:ext cx="9142560" cy="6451920"/>
            <a:chOff x="0" y="404640"/>
            <a:chExt cx="9142560" cy="6451920"/>
          </a:xfrm>
        </p:grpSpPr>
        <p:pic>
          <p:nvPicPr>
            <p:cNvPr id="2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9142560" cy="64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"/>
            <p:cNvSpPr/>
            <p:nvPr/>
          </p:nvSpPr>
          <p:spPr>
            <a:xfrm>
              <a:off x="0" y="404640"/>
              <a:ext cx="914256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рганизация "Абу Нидал" (ОАН) - революционная организация социалистических мусуль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рганизация басков за родину и свободу (ЭТА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ХАМАС (Исламское движение сопротивления)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Хезболла (партия Всевышнего)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Японская Красная армия (ЯКА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Эль-Джихад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игры освобождения Тамиль Элама (ТОТЭ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179280" y="0"/>
            <a:ext cx="8785440" cy="70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Аль-Кайда</a:t>
            </a:r>
            <a:br>
              <a:rPr sz="20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снована Усамой бен Ладеном примерно в 1990 г. с целью объединения арабов, которые боролись в Афганистане против советского вторжения. Оказывала финансовую помощь, комплектовала и обучала экстремистов из числа мусульман-суннитов для афганского сопротивления. В настоящее время преследует цель "восстановления мусульманского государства" во всем мире. Сотрудничает с объединенными исламскими группами экстремистов в целях свержения режимов, которые она считает "неисламистскими", и удаления из мусульманских стран представителей запада. В феврале 1998 г. выпустила заявление под шапкой "Всемирного исламского фронта джихада против евреев и крестоносцев", где утверждала, что все мусульмане обязаны повсеместно убивать американских граждан, как невоенных, так и военных, и их союзн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 августа произвела взрывы в американских посольствах в Найроби, Кения, и Дар-эс-Саламе, Танзания, в результате которых были убиты не менее 301 человека и ранены еще более 5000 человек. Заявляет о том, что в 1993 г. в Сомали сбивала американские вертолеты и убивала американских военнослужащих, а также произвела три взрыва, направленных против присутствия войск США в Адене, Йемен, в декабре 1992 г. Организация связана с планами попыток совершения террористических операций, включая план убийства Папы в ходе его визита в Манилу в конце 1994 г., одновременные взрывы в американском и израильском посольствах в Маниле и других азиатских столицах в конце 1994 г., взрывы в воздухе десятка самолетов, совершавших рейсы из США над Тихим океаном, в 1995 г. и план убийства Президента Клинтона в ходе его визита на Филиппины в начале 1995 г., взрыв Торгового центра в Нью-Йорке и здания Пентагона в Вашингтоне 11 сентября 2001 г. Организация продолжает обучать, финансировать и оказывать материально-техническую поддержку террористическим группам, которые разделяют указанные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79280" y="168120"/>
            <a:ext cx="8785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«ФЕДЕРАЛЬНОГО ЗАКОНА РОССИЙСКОЙ ФЕДЕРАЦИИ О БОРЬБЕ С ТЕРРОРИЗМОМ»</a:t>
            </a:r>
            <a:r>
              <a:rPr b="1" lang="en-GB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1125360"/>
            <a:ext cx="8683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нят Государственной Думой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 июля 1998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 одобрен Советом Федераци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июля 1998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акон определяет правовые и организационные основы борьбы с терроризмом в Российской Федерации, порядок координации деятельности осуществляющих борьбу с терроризмом федеральных органов исполнительной власти, органов исполнительной власти субъектов Российской Федерации, общественных объединений и организаций независимо от форм собственности, должностных лиц и отдельных гражда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 также права, обязанности и гарантии граждан в связи с осуществлением борьбы с терроризм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176832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7560" y="325080"/>
            <a:ext cx="7958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Impact"/>
              </a:rPr>
              <a:t>Функции субъектов, осуществляющих борьбу с терроризмом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Сбор информации о деятельности радикальных и террористических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дуп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работка основ государственной политики в области борьбы с террориз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с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Защита вооружения и объектов повышенной 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Безопасность национального, воздушного пространства, железнодорожного и трубопроводного транспорта, важнейших энергетических и хозяйственных объе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 причин и условий, способствующих осуществлению террористи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Минимизация последствий терроризма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С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реди причин роста терроризма в России при социальном опросе 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респонденты указали: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 - расслоение населения по имущественному признаку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приграничное положение, близость к местности, где происходят межнациональные конфликты, войны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рост числа безработных в самых различных социальных группах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- деятельность или влияние зарубежных террористических групп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24000" y="-42840"/>
            <a:ext cx="856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200" spc="-1" strike="noStrike">
                <a:solidFill>
                  <a:srgbClr val="cc0000"/>
                </a:solidFill>
                <a:latin typeface="Arial"/>
              </a:rPr>
              <a:t>SOS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250920" y="1125360"/>
            <a:ext cx="86421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ссия сегодня, в начале 21 века имеет около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-х миллионов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еспризорных детей. Через несколько лет те, кто из них останется в живых, станут базой НОВОГО ТЕРРОРА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ЦИАЛЬНОГО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внутреннего, на каждой улице, в каждом городе, в каждом доме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ЛЮДИ, ОПОМНИТЕСЬ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24000" y="47671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9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Рефлексия в групп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 же не стать жертвой теракта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Что такое гражданская бдительность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ие действия необходимо применить при обнаружении подозрительных предметов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ы услышали выстрелы, находясь дома, ваши первые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ам поступила угроза по телефону вам необходимо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рядом прогремел взрыв, ваши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Терракты, военные конфликты – почему это стало реальностью нашего време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его не хватает всем людям сегодня, что, как вам кажется, должно измениться в ми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Есть ли надежда, что человечество будет жить без потрясений и конфликт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82404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0000"/>
                </a:solidFill>
                <a:latin typeface="Arial Black"/>
              </a:rPr>
              <a:t>Терроризм </a:t>
            </a:r>
            <a:r>
              <a:rPr b="0" lang="en-GB" sz="4800" spc="-1" strike="noStrike">
                <a:solidFill>
                  <a:srgbClr val="afe1ff"/>
                </a:solidFill>
                <a:latin typeface="Arial Black"/>
              </a:rPr>
              <a:t>– это использование силы в политических целях, специфическая форма политического насилия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5400"/>
            <a:ext cx="8229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Терроризм –</a:t>
            </a: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5472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cccc"/>
                </a:solidFill>
                <a:latin typeface="Arial"/>
              </a:rPr>
              <a:t>Террористическая акция рассчитана на определённый эффект: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посеять страх, создать угрозу широкому кругу лиц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Impact"/>
              </a:rPr>
              <a:t>Три стороны конфликта террористической ак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то совершает теракт (террористы)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Непосредственные жертвы а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ого хотят запугать и заставить вести себя определённым образ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79280" y="-37296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Террористическая деятельность 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включа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79280" y="981000"/>
            <a:ext cx="8747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, планирование, подготовку и реализацию террористичес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дстрекательство к террористической акции, насилию над физическими лицами или организациями, уничтожению материальных объектов в террористически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совершения террористической акции, а равно участие в та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рбовку, вооружение, обучение и использование террорист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Финансирование заведомо террористической организации или террористической группы или иное содействие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8596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572080" y="4857840"/>
            <a:ext cx="27208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6600" spc="-1" strike="noStrike">
                <a:solidFill>
                  <a:srgbClr val="ff0066"/>
                </a:solidFill>
                <a:latin typeface="Arial"/>
              </a:rPr>
              <a:t>Статистика терроризм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Николай</cp:lastModifiedBy>
  <dcterms:modified xsi:type="dcterms:W3CDTF">2012-07-03T07:18:09Z</dcterms:modified>
  <cp:revision>1</cp:revision>
  <dc:subject/>
  <dc:title>Защита населения</dc:title>
</cp:coreProperties>
</file>