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DA261B-D71F-47EC-8C38-D9437B3859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D80809-D9A7-4F35-BA37-6EE1FEB65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1A356D-F7B6-4F2B-8DDA-F3997F754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708408-BEE7-4C6D-9C08-D7EE2470DC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D38C5C-7F96-4F88-B3DC-6EC19A310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92CE11-4A25-4495-B881-CF54ECC62E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3AE8C7-18E1-4F87-9F91-0178BDDB52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907757-AF0B-4D1C-A1CB-2362FDE796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E17936-6A47-4FBE-A1A0-66661BF36E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B06DD0-1127-41CB-A652-0F8FE1D519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019B5D-EB3E-4B44-8D55-D9E6FEE3A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63EBC3-95F5-4FE2-A210-75C88FBA5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D4C209-F152-41E2-94C6-3CAF3DDD73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80B179-0D2A-4D19-991B-5AD172786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93ED0E-4188-43FE-9E48-748564032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C149EF-52CB-4269-846F-39A4F51D8A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E01F78-5B98-44DB-96DD-DDBECE5183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F51C4E-732E-43CD-BBEE-EB91C91F93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ADF616-D8C8-4271-BCE5-B300EFBF02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981910-3AC4-4DF6-BD61-68FC2E44B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A8B42D-14C3-4274-A3F5-F3265BD58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728CAC-5B07-4A06-9D9F-44A225DB11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B3C3F9-8BA2-4658-93ED-5D3C2DC87D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BAD508-6EE6-4CE0-A3F8-D58A02374F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178814-DD82-4A4D-AE37-D36331CC9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38B5C9-84D9-445E-BD10-9BF1B85B7A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05465C-F671-478D-A98D-96CF9600F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68B9C8-1A52-4980-A0B8-343D9B9E51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6F3935-4128-40DB-AB41-8AAC07DA8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BB83D1-1674-4304-BE37-43C559FF38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5675E5-E7B2-43DC-83D1-E61AAD775F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F99557-70E9-4664-B787-BE15B5E85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1BB5C6-35DB-469D-BCF8-01225C4689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AD4A51-097B-4866-909F-DE05C4037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259082-C0B9-4757-8777-FDF5657A8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0D6224-2D44-4EA3-8FA7-3135C769BF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79803A-92B0-472D-87D6-E0CA3F667D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7F50AF-9DC1-4A92-8F20-7EFB949BA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519F39-DD45-470F-9B2E-DC816F057C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811-924C-4427-89A8-BDD25D0F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152-9D56-4D3B-9B5B-57125F15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E50-FDCC-4338-8689-C7B8AB3D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CA4-4854-4E5D-B188-19C30A71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DB32-9D8C-4400-9C33-2CFDA53D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D3AD-AAC6-427B-AF7A-04F5ECE7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E0DA-F740-4DA6-B448-249F9CAD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53E0-AE45-413D-8D7A-3D23F939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E185-6581-4507-AC7F-2AA8629D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8C57-041E-431F-9A1F-C7325B85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FC34-CF60-4DA2-9D3C-28D249ED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7A4-69D4-41B6-B394-E8C47C5D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06DD-922C-4DA2-81C0-92D45FE4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741F-3C62-455D-9C49-FFF76D66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CF68-2F92-4073-9A0C-CC9F2DFD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394D-F14E-4CEF-A6B2-0AF6BC36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A7FD-4027-497E-A9E3-CB8DF9E7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4CA-F915-40CF-9BFC-20D0FDA0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093-9CCD-4D16-876F-448A0AC1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991-7A8B-4A04-9EA1-759CEACD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392-9839-4E45-B9FC-4926433A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9B6-98CD-4B54-B87C-497D08E0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7B1-91A5-4947-ADEF-3943D2D8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A8E-5176-46B6-96FB-80E795F7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39320" cy="258948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Oval 5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6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8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9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5675400" y="5896440"/>
                <a:ext cx="606960" cy="254520"/>
              </a:xfrm>
              <a:prstGeom prst="pi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865480" y="6616440"/>
                <a:ext cx="703800" cy="104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5599800" y="6198480"/>
                <a:ext cx="140760" cy="3420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666040" y="5943600"/>
                <a:ext cx="1188720" cy="7293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07640" y="5905800"/>
                <a:ext cx="152280" cy="47160"/>
              </a:xfrm>
              <a:prstGeom prst="pi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5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Oval 17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8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19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0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1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2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3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4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1480" y="6065640"/>
                <a:ext cx="712080" cy="294480"/>
              </a:xfrm>
              <a:prstGeom prst="pi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399120" y="6112800"/>
                <a:ext cx="1414440" cy="731880"/>
              </a:xfrm>
              <a:prstGeom prst="pie">
                <a:avLst/>
              </a:pr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3720" y="6074640"/>
                <a:ext cx="645480" cy="770040"/>
              </a:xfrm>
              <a:prstGeom prst="pi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39040" y="6417000"/>
                <a:ext cx="171000" cy="398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1400" y="5848560"/>
                <a:ext cx="1324080" cy="2372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2800" y="6114600"/>
                <a:ext cx="271080" cy="7300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1800" y="5952960"/>
                <a:ext cx="570960" cy="8917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8120" y="5763240"/>
                <a:ext cx="1709280" cy="672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1960" y="6474240"/>
                <a:ext cx="155160" cy="370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8800" y="5829480"/>
                <a:ext cx="762480" cy="101520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5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Freeform 36"/>
              <p:cNvSpPr/>
              <p:nvPr/>
            </p:nvSpPr>
            <p:spPr>
              <a:xfrm>
                <a:off x="6666120" y="5399640"/>
                <a:ext cx="1904400" cy="115776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6552000" y="5342400"/>
                <a:ext cx="862560" cy="116748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7605000" y="5333400"/>
                <a:ext cx="965880" cy="398880"/>
              </a:xfrm>
              <a:prstGeom prst="pie">
                <a:avLst/>
              </a:pr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8325000" y="6358320"/>
                <a:ext cx="114120" cy="85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0"/>
              <p:cNvSpPr/>
              <p:nvPr/>
            </p:nvSpPr>
            <p:spPr>
              <a:xfrm>
                <a:off x="7149960" y="6462720"/>
                <a:ext cx="1117800" cy="1710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1"/>
              <p:cNvSpPr/>
              <p:nvPr/>
            </p:nvSpPr>
            <p:spPr>
              <a:xfrm>
                <a:off x="8467560" y="5798880"/>
                <a:ext cx="226800" cy="540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2"/>
              <p:cNvSpPr/>
              <p:nvPr/>
            </p:nvSpPr>
            <p:spPr>
              <a:xfrm>
                <a:off x="8031600" y="5751360"/>
                <a:ext cx="131400" cy="14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3"/>
              <p:cNvSpPr/>
              <p:nvPr/>
            </p:nvSpPr>
            <p:spPr>
              <a:xfrm>
                <a:off x="7054560" y="5637240"/>
                <a:ext cx="1136880" cy="6829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4"/>
              <p:cNvSpPr/>
              <p:nvPr/>
            </p:nvSpPr>
            <p:spPr>
              <a:xfrm>
                <a:off x="6902640" y="5570640"/>
                <a:ext cx="1441080" cy="844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5"/>
              <p:cNvSpPr/>
              <p:nvPr/>
            </p:nvSpPr>
            <p:spPr>
              <a:xfrm>
                <a:off x="7243560" y="5542200"/>
                <a:ext cx="578880" cy="10440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6"/>
              <p:cNvSpPr/>
              <p:nvPr/>
            </p:nvSpPr>
            <p:spPr>
              <a:xfrm>
                <a:off x="7083360" y="5646960"/>
                <a:ext cx="104400" cy="7560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7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8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49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0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1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2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3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Freeform 54"/>
              <p:cNvSpPr/>
              <p:nvPr/>
            </p:nvSpPr>
            <p:spPr>
              <a:xfrm>
                <a:off x="8380440" y="5055840"/>
                <a:ext cx="606240" cy="151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5"/>
              <p:cNvSpPr/>
              <p:nvPr/>
            </p:nvSpPr>
            <p:spPr>
              <a:xfrm>
                <a:off x="8435880" y="4800240"/>
                <a:ext cx="407880" cy="84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6"/>
              <p:cNvSpPr/>
              <p:nvPr/>
            </p:nvSpPr>
            <p:spPr>
              <a:xfrm>
                <a:off x="8958240" y="4866480"/>
                <a:ext cx="94680" cy="246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7"/>
              <p:cNvSpPr/>
              <p:nvPr/>
            </p:nvSpPr>
            <p:spPr>
              <a:xfrm>
                <a:off x="8530560" y="5150520"/>
                <a:ext cx="303840" cy="28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8"/>
              <p:cNvSpPr/>
              <p:nvPr/>
            </p:nvSpPr>
            <p:spPr>
              <a:xfrm>
                <a:off x="8418240" y="4828320"/>
                <a:ext cx="254880" cy="2937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>
                <a:off x="8711280" y="4828320"/>
                <a:ext cx="294120" cy="331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>
                <a:off x="8483400" y="4853880"/>
                <a:ext cx="473040" cy="293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B606F8-D8CD-4503-B1FF-60E03547A4D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Freeform 2"/>
            <p:cNvSpPr/>
            <p:nvPr/>
          </p:nvSpPr>
          <p:spPr>
            <a:xfrm>
              <a:off x="3240" y="4267080"/>
              <a:ext cx="9139320" cy="258948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3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Oval 4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6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8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5675400" y="5896440"/>
                <a:ext cx="606960" cy="254520"/>
              </a:xfrm>
              <a:prstGeom prst="pi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5865480" y="6616440"/>
                <a:ext cx="703800" cy="104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5599800" y="6198480"/>
                <a:ext cx="140760" cy="3420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5666040" y="5943600"/>
                <a:ext cx="1188720" cy="7293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6407640" y="5905800"/>
                <a:ext cx="152280" cy="47160"/>
              </a:xfrm>
              <a:prstGeom prst="pi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4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5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Oval 16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7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8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9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0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1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2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3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4101480" y="6065640"/>
                <a:ext cx="712080" cy="294480"/>
              </a:xfrm>
              <a:prstGeom prst="pi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3399120" y="6112800"/>
                <a:ext cx="1414440" cy="731880"/>
              </a:xfrm>
              <a:prstGeom prst="pie">
                <a:avLst/>
              </a:pr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3303720" y="6074640"/>
                <a:ext cx="645480" cy="770040"/>
              </a:xfrm>
              <a:prstGeom prst="pi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4739040" y="6417000"/>
                <a:ext cx="171000" cy="398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3281400" y="5848560"/>
                <a:ext cx="1324080" cy="23724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9"/>
              <p:cNvSpPr/>
              <p:nvPr/>
            </p:nvSpPr>
            <p:spPr>
              <a:xfrm>
                <a:off x="2962800" y="6114600"/>
                <a:ext cx="271080" cy="7300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0"/>
              <p:cNvSpPr/>
              <p:nvPr/>
            </p:nvSpPr>
            <p:spPr>
              <a:xfrm>
                <a:off x="4681800" y="5952960"/>
                <a:ext cx="570960" cy="8917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1"/>
              <p:cNvSpPr/>
              <p:nvPr/>
            </p:nvSpPr>
            <p:spPr>
              <a:xfrm>
                <a:off x="3678120" y="5763240"/>
                <a:ext cx="1709280" cy="672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2"/>
              <p:cNvSpPr/>
              <p:nvPr/>
            </p:nvSpPr>
            <p:spPr>
              <a:xfrm>
                <a:off x="5241960" y="6474240"/>
                <a:ext cx="155160" cy="370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3"/>
              <p:cNvSpPr/>
              <p:nvPr/>
            </p:nvSpPr>
            <p:spPr>
              <a:xfrm>
                <a:off x="2818800" y="5829480"/>
                <a:ext cx="762480" cy="101520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4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6666120" y="5399640"/>
                <a:ext cx="1904400" cy="115776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6552000" y="5342400"/>
                <a:ext cx="862560" cy="116748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7"/>
              <p:cNvSpPr/>
              <p:nvPr/>
            </p:nvSpPr>
            <p:spPr>
              <a:xfrm>
                <a:off x="7605000" y="5333400"/>
                <a:ext cx="965880" cy="398880"/>
              </a:xfrm>
              <a:prstGeom prst="pie">
                <a:avLst/>
              </a:pr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8"/>
              <p:cNvSpPr/>
              <p:nvPr/>
            </p:nvSpPr>
            <p:spPr>
              <a:xfrm>
                <a:off x="8325000" y="6358320"/>
                <a:ext cx="114120" cy="853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39"/>
              <p:cNvSpPr/>
              <p:nvPr/>
            </p:nvSpPr>
            <p:spPr>
              <a:xfrm>
                <a:off x="7149960" y="6462720"/>
                <a:ext cx="1117800" cy="1710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>
                <a:off x="8467560" y="5798880"/>
                <a:ext cx="226800" cy="540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>
                <a:off x="8031600" y="5751360"/>
                <a:ext cx="131400" cy="142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>
                <a:off x="7054560" y="5637240"/>
                <a:ext cx="1136880" cy="6829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>
                <a:off x="6902640" y="5570640"/>
                <a:ext cx="1441080" cy="844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>
                <a:off x="7243560" y="5542200"/>
                <a:ext cx="578880" cy="10440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5"/>
              <p:cNvSpPr/>
              <p:nvPr/>
            </p:nvSpPr>
            <p:spPr>
              <a:xfrm>
                <a:off x="7083360" y="5646960"/>
                <a:ext cx="104400" cy="75600"/>
              </a:xfrm>
              <a:prstGeom prst="pi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6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7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8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49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0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1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2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Freeform 53"/>
              <p:cNvSpPr/>
              <p:nvPr/>
            </p:nvSpPr>
            <p:spPr>
              <a:xfrm>
                <a:off x="8380440" y="5055840"/>
                <a:ext cx="606240" cy="1515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4"/>
              <p:cNvSpPr/>
              <p:nvPr/>
            </p:nvSpPr>
            <p:spPr>
              <a:xfrm>
                <a:off x="8435880" y="4800240"/>
                <a:ext cx="407880" cy="84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5"/>
              <p:cNvSpPr/>
              <p:nvPr/>
            </p:nvSpPr>
            <p:spPr>
              <a:xfrm>
                <a:off x="8958240" y="4866480"/>
                <a:ext cx="94680" cy="2462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6"/>
              <p:cNvSpPr/>
              <p:nvPr/>
            </p:nvSpPr>
            <p:spPr>
              <a:xfrm>
                <a:off x="8530560" y="5150520"/>
                <a:ext cx="303840" cy="28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7"/>
              <p:cNvSpPr/>
              <p:nvPr/>
            </p:nvSpPr>
            <p:spPr>
              <a:xfrm>
                <a:off x="8418240" y="4828320"/>
                <a:ext cx="254880" cy="2937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8"/>
              <p:cNvSpPr/>
              <p:nvPr/>
            </p:nvSpPr>
            <p:spPr>
              <a:xfrm>
                <a:off x="8711280" y="4828320"/>
                <a:ext cx="294120" cy="331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8483400" y="4853880"/>
                <a:ext cx="473040" cy="2934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0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Oval 61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2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3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4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7BBE68-F2E3-4612-B73D-4D18EB60AAA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4"/>
          <p:cNvSpPr/>
          <p:nvPr/>
        </p:nvSpPr>
        <p:spPr>
          <a:xfrm>
            <a:off x="655308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244800-3E04-471C-B36B-7B233EEE83B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490680"/>
            <a:ext cx="829152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 Black"/>
              </a:rPr>
              <a:t>Терроризм- угроза обществу</a:t>
            </a:r>
            <a:br>
              <a:rPr sz="6000"/>
            </a:br>
            <a:br>
              <a:rPr sz="6000"/>
            </a:b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079640" y="4794120"/>
            <a:ext cx="8180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УЧИТЕЛЬ МОУ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"СОШ № 58" г.Омск Коваленко С.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Захват автобуса с деть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декабря 1988 г. в Минеральных водах 4 бандита потребовали крупную сумму денег в иностранной валюте и самолет для вылета за рубеж. В противном случае угрожали всех сжечь: под каждым сиденьем террористы поставили по три 3-литровых банки бензина. История с захватом детей прогремела на всю страну. По горячим следам были сняты 2 фильма: документальный «Заложники из 4-го «Г» и художественный «Взбесившийся автобус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57200" y="277920"/>
            <a:ext cx="822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Разрушение Всемирного Торгового Цен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3348000" y="836640"/>
            <a:ext cx="56167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 сентября 2001 год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в 28-ю годовщину подготовленного ЦРУ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военного путч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в Чили, и 11-ю годовщину речи Буша-старшего "Новый мировой порядок", террористы захватили четыре самолета. Согласно официальной версии девятнадцать арабов угнали 4 самолета; врезались на двух из них в башни Всемирного Торгового центра, что стало причиной пожара внутри, и врезались на третьем в Пентагон. Согласно официальной версии, в результате пожара стальные несущие балки расплавились, что стало причиной обрушения баш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334960" cy="3516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1619280" y="3284640"/>
            <a:ext cx="2011320" cy="33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198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100" spc="-1" strike="noStrike">
                <a:solidFill>
                  <a:srgbClr val="ff9900"/>
                </a:solidFill>
                <a:latin typeface="Arial"/>
              </a:rPr>
              <a:t>Терроризм в Москв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79280" y="907920"/>
            <a:ext cx="87854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ctr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Террористический акт в Москве 2002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3 октября 2002 года в 21.05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центре Москвы (в театральном центре на Дубровке) боле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 вооруженных террористов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захватили зал, в котором шел популярный мюзикл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«Норд-Ост»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еррористы требовали прекратить войну в Чечне, угрожая расстрелять заложников и взорвать зал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6 октября в 5.32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сле уникальной в мировой истории спецоперации боле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0 заложников были освобожден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Уничтожены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 террористо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32 мужчин и 18 женщин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7 заложнико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гиб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8 октября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ыл объявлен день трау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5796000" y="4437000"/>
            <a:ext cx="30798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250920" y="260280"/>
            <a:ext cx="86835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Террористический акт на Тушинском аэродро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5 июля 2003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Москве был совершён террористический акт: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 входа на Тушинский аэродром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где в это время проходил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ок-фестиваль «Крылья»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ыли взорваны две бомбы. Взрывы произвел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две террористки-смертниц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По официальным данным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погибло 13 и ранено 59 человек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Больших жертв удалось избежать только потому, что охрана, заподозрив этих женщин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е пропустила их в толп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участников фестива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179280" y="189000"/>
            <a:ext cx="87552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Террористический акт окол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гостиницы «Национал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 декабря 2003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езультате взрыва около гостиницы "Националь" в центре Москвы, по уточненным данным, пять человек погибли и 13 получили ранения. Теракт возле гостиницы "Националь" совершила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дна террористка-смертниц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250920" y="-17640"/>
            <a:ext cx="8713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ff9900"/>
                </a:solidFill>
                <a:latin typeface="Arial"/>
              </a:rPr>
              <a:t>Захват заложников в Беслане</a:t>
            </a:r>
            <a:br>
              <a:rPr sz="1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79280" y="1143000"/>
            <a:ext cx="86788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римерно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 8 утра 1 сентября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айоне села Хурикау, на границе Моздокского и Правобережного районов Северной Осетии, примерно в 60 км от Беслана, вооруженные люди остановили местного участкового, майора милиции и посадили его в свою маши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 предварительным данным, именно с помощью удостоверения сотрудника МВД боевики на ГАЗ-66 и двух легковых автомобилях беспрепятственно миновали несколько КПП по пути до Бесл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928960" y="3786120"/>
            <a:ext cx="38988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3995640" y="500040"/>
            <a:ext cx="493884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Во время проведения торжественной линейки по случаю 1 сентября они ворвались на территорию школы №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Всего на линейке, по данным комитета образования администрации Беслана, присутствовали 895 учеников и 59 учителей и технических сотрудников шко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Количество родителей, пришедших проводить детей в школу, неизвестно. Открыв беспорядочную стрельбу в воздух, боевики приказали всем присутствующим зайти в здание школы, однако большинство - в основном старшеклассники и взрослые - смогли просто разбежаться. Тех кто не смог это сделать - учеников младших классов и их родителей и часть учителей - бандиты загнали в спортз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179280" y="189000"/>
            <a:ext cx="8604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первые же минуты захвата на звуки выстрелов к школе начали сбегаться сотрудники горотдела милиции. В хаотичной перестрелке погибли трое человек. Одно тело лежало у входа в здание, два других - на проезжей части у ограды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се погибшие - гражданские лиц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В течение всего дня боевики не давали забрать тела, открывая огонь при приближении людей к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911840" y="2857680"/>
            <a:ext cx="3946320" cy="2857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36655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1"/>
          <p:cNvGrpSpPr/>
          <p:nvPr/>
        </p:nvGrpSpPr>
        <p:grpSpPr>
          <a:xfrm>
            <a:off x="0" y="0"/>
            <a:ext cx="3311640" cy="2637000"/>
            <a:chOff x="0" y="0"/>
            <a:chExt cx="3311640" cy="2637000"/>
          </a:xfrm>
        </p:grpSpPr>
        <p:pic>
          <p:nvPicPr>
            <p:cNvPr id="257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31164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3"/>
            <p:cNvSpPr/>
            <p:nvPr/>
          </p:nvSpPr>
          <p:spPr>
            <a:xfrm>
              <a:off x="0" y="0"/>
              <a:ext cx="3311640" cy="26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3781440" cy="2835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3355920" cy="2516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4"/>
          <a:stretch/>
        </p:blipFill>
        <p:spPr>
          <a:xfrm>
            <a:off x="5148360" y="0"/>
            <a:ext cx="3787560" cy="2840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5"/>
          <a:stretch/>
        </p:blipFill>
        <p:spPr>
          <a:xfrm>
            <a:off x="5148360" y="378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457200" y="157320"/>
            <a:ext cx="8507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alibri"/>
              </a:rPr>
              <a:t>Боевики захватили </a:t>
            </a:r>
            <a:br>
              <a:rPr sz="2800"/>
            </a:br>
            <a:r>
              <a:rPr b="1" lang="en-GB" sz="2800" spc="-1" strike="noStrike">
                <a:solidFill>
                  <a:srgbClr val="ff9900"/>
                </a:solidFill>
                <a:latin typeface="Calibri"/>
              </a:rPr>
              <a:t>300 школьников в Пакистане</a:t>
            </a:r>
            <a:br>
              <a:rPr sz="1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250920" y="1484280"/>
            <a:ext cx="8642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8.09.2008 18:15 | lenta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оевик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захватили школу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айоне Верхний Дир в Северо-Западной Пограничной провинции. В заложниках у бандитов оказались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коло трехсот детей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Корреспонденты с места событий утверждали, что боевики такж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треляли в местных жителе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пытавшихся вызволить детей из пле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250920" y="260280"/>
            <a:ext cx="8642160" cy="61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372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1) объяснить сущность терроризма, его типы и цели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совершенствовать знания о терроризме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основы безопасности в ЧС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формировать общественного сознания и гражданскую позицию подрастающего поко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) определить, почему терроризм стал обыденным явлением российской действи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) способствовать воспитанию в детях толерантного отношения друг к другу и формировать  умение жить в мире с другими людь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развивать самостоятельность суждений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372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23720"/>
                <a:tab algn="l" pos="1338120"/>
                <a:tab algn="l" pos="2252520"/>
                <a:tab algn="l" pos="3166920"/>
                <a:tab algn="l" pos="4081320"/>
                <a:tab algn="l" pos="4995720"/>
                <a:tab algn="l" pos="5910120"/>
                <a:tab algn="l" pos="6824520"/>
                <a:tab algn="l" pos="7738920"/>
                <a:tab algn="l" pos="8653320"/>
                <a:tab algn="l" pos="9567720"/>
                <a:tab algn="l" pos="10482120"/>
                <a:tab algn="l" pos="10782360"/>
              </a:tabLst>
            </a:pPr>
            <a:r>
              <a:rPr b="1" lang="en-GB" sz="2400" spc="-1" strike="noStrike">
                <a:solidFill>
                  <a:srgbClr val="ccecff"/>
                </a:solidFill>
                <a:latin typeface="Arial"/>
              </a:rPr>
              <a:t>Задачи: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Изучить правила поведения при теракте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Развивать навыки поисковой, исследовательской работы;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Формировать умения работы в группах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 u="sng">
                <a:solidFill>
                  <a:srgbClr val="cc0000"/>
                </a:solidFill>
                <a:uFillTx/>
                <a:latin typeface="Arial"/>
              </a:rPr>
              <a:t>Как не стать жертвой тера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Террористы выбирают для атак известные и заметные цели, например, крупные города, международные аэропорты, места проведения крупных международных мероприятий,  международные курорты и т.д. Обязательным  условием совершения атаки является возможность избежать пристального внимания правоохранительных структур – например, досмотра до и после совершения теракта. Будьте внимательны находясь в подобных мест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Возьмите за правило всегда уточнять, где находиться резервные выходы из помещений. Заранее подумайте, как вы будете покидать здание, если в нем произойдёт ЧП. Никогда не пытайтесь выбраться из горящего здания на лифте. Во-первых, механизм лифта может быть повреждён. Во-вторых, обычно испуганные люди бегут к лифтам. Лифты не рассчитаны на перевозку столь большого количества пассажиров - поэтому драгоценные минуты, необходимые для спасения, могут быть потеря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В залах ожидания аэропортов, вокзалов и т.д. старайтесь располагаться подальше от хрупких и тяжелых конструкций. В случае взрыва они могут упасть или разлететься на мелкие кусочки, которые выступят в роли осколков, как правило, именно они могут явиться причиной факторов вторичного поражения и большинства ра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Будьте особо внимательны во время путешествий. Обращайте внимание на подозрительные детали и мелочи - лучше сообщить о них сотрудникам правоохранительных органов. Никогда не принимайте пакеты, вещи и посылки для передачи от незнакомцев и никогда не оставляйте свой багаж без присмо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Arial"/>
              </a:rPr>
              <a:t>Политики объявляют войну терроризму. Мы не очень верим, что в этой войне можно одержать окончательную победу, но верим, что </a:t>
            </a:r>
            <a:r>
              <a:rPr b="1" i="1" lang="en-GB" sz="4400" spc="-1" strike="noStrike">
                <a:solidFill>
                  <a:srgbClr val="ff0066"/>
                </a:solidFill>
                <a:latin typeface="Arial"/>
              </a:rPr>
              <a:t>можно научиться жить в эпоху терроризм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cc6600"/>
                </a:solidFill>
                <a:uFillTx/>
                <a:latin typeface="Arial"/>
              </a:rPr>
              <a:t>Что делать, если вы оказались в заложниках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Не выделяйтесь и не сопротивляйте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Не пытайтесь  беж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Постарайтесь оценить обстановку и избегайте необдуманных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Не оказывайте  сопротив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  Как можно быстрее постарайтесь взять себя в руки, всеми силами подавить в себе панику и, на сколько это возможно успоко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.  Подготовиться к моральным, физическим и эмоциональным испыта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.  Говорить спокойным ровным голос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.   Ни в коем случае не допускать действий, которые могут спровоцировать нападающих к применению оружия и привести к человеческим жер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.  Переносить лишения, оскорбления и унижения без вызова и возра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 Экономьте и поддерживайте силы, чем угодно используйте любую возмож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en-GB" sz="3200" spc="-1" strike="noStrike">
                <a:solidFill>
                  <a:srgbClr val="0068ae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Максимально выполняйте требования преступников, особенно в первое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Не совершайте любых действий, спрашивайте разреш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2. Меньше двигайте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. Постоянно напоминайте себе, что ваша цель – остаться в жив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4. Помните, что для вашего освобождения делается всё необходимое и возможн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Arial"/>
              </a:rPr>
              <a:t>Правила заложник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Основные вопро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160720" cy="177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5940360" y="4317840"/>
            <a:ext cx="2114640" cy="1731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2916360" y="476280"/>
            <a:ext cx="340812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70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себя вести заложника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Надо ли пытаться беж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Надо ли оказывать сопротивл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Что такое «стокгольмский синдром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передать весточку на вол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сосредоточиться и успокоиться в состоянии шока или сильного стрес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вести себя при начавшемся штурм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Как вести себя после освобождения, в том числе — с представителями спецслужб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236000" y="3500280"/>
            <a:ext cx="1393560" cy="11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067280" y="360360"/>
            <a:ext cx="47718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 Black"/>
              </a:rPr>
              <a:t>Терроризм – это одна из форм организованного насилия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95280" y="3068640"/>
            <a:ext cx="500220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556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25560"/>
                <a:tab algn="l" pos="939960"/>
                <a:tab algn="l" pos="1854360"/>
                <a:tab algn="l" pos="2768760"/>
                <a:tab algn="l" pos="3683160"/>
                <a:tab algn="l" pos="4597560"/>
                <a:tab algn="l" pos="5511960"/>
                <a:tab algn="l" pos="6426360"/>
                <a:tab algn="l" pos="7340760"/>
                <a:tab algn="l" pos="8255160"/>
                <a:tab algn="l" pos="9169560"/>
                <a:tab algn="l" pos="1008396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320e04"/>
                </a:solidFill>
                <a:latin typeface="Arial"/>
              </a:rPr>
              <a:t>Терроризм глобален по масштабам, «порочен» по природе, безжалостен к врагам и стремиться контролировать все сферы жизни и мысли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6000840" y="285768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45600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50920" y="-12600"/>
            <a:ext cx="867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ccecff"/>
                </a:solidFill>
                <a:latin typeface="Arial"/>
              </a:rPr>
              <a:t>Террористические организации мира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2"/>
          <p:cNvGrpSpPr/>
          <p:nvPr/>
        </p:nvGrpSpPr>
        <p:grpSpPr>
          <a:xfrm>
            <a:off x="0" y="404640"/>
            <a:ext cx="9142560" cy="6451920"/>
            <a:chOff x="0" y="404640"/>
            <a:chExt cx="9142560" cy="6451920"/>
          </a:xfrm>
        </p:grpSpPr>
        <p:pic>
          <p:nvPicPr>
            <p:cNvPr id="28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404640"/>
              <a:ext cx="9142560" cy="645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4"/>
            <p:cNvSpPr/>
            <p:nvPr/>
          </p:nvSpPr>
          <p:spPr>
            <a:xfrm>
              <a:off x="0" y="404640"/>
              <a:ext cx="9142560" cy="64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179280" y="189000"/>
            <a:ext cx="87552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648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Организация "Абу Нидал" (ОАН) - революционная организация социалистических мусульман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6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рганизация басков за родину и свободу (ЭТА)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ХАМАС (Исламское движение сопротивления)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6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Хезболла (партия Всевышнего)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Японская Красная армия (ЯКА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648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Эль-Джихад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Тигры освобождения Тамиль Элама (ТОТЭ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179280" y="0"/>
            <a:ext cx="8785440" cy="70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Аль-Кайда</a:t>
            </a:r>
            <a:br>
              <a:rPr sz="20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снована Усамой бен Ладеном примерно в 1990 г. с целью объединения арабов, которые боролись в Афганистане против советского вторжения. Оказывала финансовую помощь, комплектовала и обучала экстремистов из числа мусульман-суннитов для афганского сопротивления. В настоящее время преследует цель "восстановления мусульманского государства" во всем мире. Сотрудничает с объединенными исламскими группами экстремистов в целях свержения режимов, которые она считает "неисламистскими", и удаления из мусульманских стран представителей запада. В феврале 1998 г. выпустила заявление под шапкой "Всемирного исламского фронта джихада против евреев и крестоносцев", где утверждала, что все мусульмане обязаны повсеместно убивать американских граждан, как невоенных, так и военных, и их союзник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Деятель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7 августа произвела взрывы в американских посольствах в Найроби, Кения, и Дар-эс-Саламе, Танзания, в результате которых были убиты не менее 301 человека и ранены еще более 5000 человек. Заявляет о том, что в 1993 г. в Сомали сбивала американские вертолеты и убивала американских военнослужащих, а также произвела три взрыва, направленных против присутствия войск США в Адене, Йемен, в декабре 1992 г. Организация связана с планами попыток совершения террористических операций, включая план убийства Папы в ходе его визита в Манилу в конце 1994 г., одновременные взрывы в американском и израильском посольствах в Маниле и других азиатских столицах в конце 1994 г., взрывы в воздухе десятка самолетов, совершавших рейсы из США над Тихим океаном, в 1995 г. и план убийства Президента Клинтона в ходе его визита на Филиппины в начале 1995 г., взрыв Торгового центра в Нью-Йорке и здания Пентагона в Вашингтоне 11 сентября 2001 г. Организация продолжает обучать, финансировать и оказывать материально-техническую поддержку террористическим группам, которые разделяют указанные ц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179280" y="168120"/>
            <a:ext cx="8785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ecff"/>
                </a:solidFill>
                <a:latin typeface="Arial"/>
              </a:rPr>
              <a:t>«ФЕДЕРАЛЬНОГО ЗАКОНА РОССИЙСКОЙ ФЕДЕРАЦИИ О БОРЬБЕ С ТЕРРОРИЗМОМ»</a:t>
            </a:r>
            <a:r>
              <a:rPr b="1" lang="en-GB" sz="3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250920" y="1125360"/>
            <a:ext cx="86835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ринят Государственной Думой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 июля 1998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и одобрен Советом Федераци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 июля 1998 год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  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Закон определяет правовые и организационные основы борьбы с терроризмом в Российской Федерации, порядок координации деятельности осуществляющих борьбу с терроризмом федеральных органов исполнительной власти, органов исполнительной власти субъектов Российской Федерации, общественных объединений и организаций независимо от форм собственности, должностных лиц и отдельных граждан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 также права, обязанности и гарантии граждан в связи с осуществлением борьбы с терроризмом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6516720" y="4508640"/>
            <a:ext cx="176832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7560" y="325080"/>
            <a:ext cx="79581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Impact"/>
              </a:rPr>
              <a:t>Функции субъектов, осуществляющих борьбу с терроризмом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Сбор информации о деятельности радикальных и террористических организ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Предуп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Выя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Выработка основ государственной политики в области борьбы с терроризм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Пресе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Защита вооружения и объектов повышенной опас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Безопасность национального, воздушного пространства, железнодорожного и трубопроводного транспорта, важнейших энергетических и хозяйственных объе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Выявление причин и условий, способствующих осуществлению террористическ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Минимизация последствий терроризма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85760">
              <a:spcBef>
                <a:spcPts val="499"/>
              </a:spcBef>
              <a:tabLst>
                <a:tab algn="l" pos="0"/>
                <a:tab algn="l" pos="842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С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реди причин роста терроризма в России при социальном опросе </a:t>
            </a:r>
            <a:r>
              <a:rPr b="0" lang="en-GB" sz="2000" spc="-1" strike="noStrike">
                <a:solidFill>
                  <a:srgbClr val="ff9900"/>
                </a:solidFill>
                <a:latin typeface="Arial"/>
              </a:rPr>
              <a:t>респонденты указали: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4240" indent="185760">
              <a:spcBef>
                <a:spcPts val="499"/>
              </a:spcBef>
              <a:tabLst>
                <a:tab algn="l" pos="0"/>
                <a:tab algn="l" pos="842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4240" indent="185760">
              <a:spcBef>
                <a:spcPts val="499"/>
              </a:spcBef>
              <a:tabLst>
                <a:tab algn="l" pos="0"/>
                <a:tab algn="l" pos="842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ухудшение социально-экономического положения населения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усиление противоборства криминальных группировок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  - расслоение населения по имущественному признаку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деятельность национально- и регилиозно-экстремистских группировок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   - приграничное положение, близость к местности, где происходят межнациональные конфликты, войны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   - рост числа безработных в самых различных социальных группах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приток мигрантов из стран ближнего зарубежья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рост национального самосознания, стремление этнических групп к национальному обособлению;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- деятельность или влияние зарубежных террористических групп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4240" indent="185760">
              <a:spcBef>
                <a:spcPts val="499"/>
              </a:spcBef>
              <a:tabLst>
                <a:tab algn="l" pos="0"/>
                <a:tab algn="l" pos="8424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факторы дискриминации отдельных национальных общно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324000" y="-42840"/>
            <a:ext cx="8569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200" spc="-1" strike="noStrike">
                <a:solidFill>
                  <a:srgbClr val="cc0000"/>
                </a:solidFill>
                <a:latin typeface="Arial"/>
              </a:rPr>
              <a:t>SOS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250920" y="1125360"/>
            <a:ext cx="86421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оссия сегодня, в начале 21 века имеет около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4-х миллионов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беспризорных детей. Через несколько лет те, кто из них останется в живых, станут базой НОВОГО ТЕРРОРА -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СОЦИАЛЬНОГО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внутреннего, на каждой улице, в каждом городе, в каждом доме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ЛЮДИ, ОПОМНИТЕСЬ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324000" y="4767120"/>
            <a:ext cx="2447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169560"/>
            <a:ext cx="871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Рефлексия в групп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Как же не стать жертвой теракта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Что такое гражданская бдительность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Какие действия необходимо применить при обнаружении подозрительных предметов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Если вы услышали выстрелы, находясь дома, ваши первые действия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Если вам поступила угроза по телефону вам необходимо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Если рядом прогремел взрыв, ваши действия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Терракты, военные конфликты – почему это стало реальностью нашего време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Чего не хватает всем людям сегодня, что, как вам кажется, должно измениться в мир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Есть ли надежда, что человечество будет жить без потрясений и конфликт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824040"/>
            <a:ext cx="82296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0000"/>
                </a:solidFill>
                <a:latin typeface="Arial Black"/>
              </a:rPr>
              <a:t>Терроризм </a:t>
            </a:r>
            <a:r>
              <a:rPr b="0" lang="en-GB" sz="4800" spc="-1" strike="noStrike">
                <a:solidFill>
                  <a:srgbClr val="afe1ff"/>
                </a:solidFill>
                <a:latin typeface="Arial Black"/>
              </a:rPr>
              <a:t>– это использование силы в политических целях, специфическая форма политического насилия.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5400"/>
            <a:ext cx="822960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Терроризм –</a:t>
            </a: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кции, сопряженные с применением насилия или угрозой насилия, сопровождаемые выдвижением конкретных требований. Насилие направлено против гражданских объектов и лиц. Мотивы имеют политический или иной характер. Исполнители малочисленны, оторваны от населения, являются членами организованных групп, берут на себя ответственность  за совершаемые акции. Акции совершаются так, чтобы привлечь максимум внимания и оказать воздействие на власть или определённые группы населения, выходя за рамки причинения непосредственного физического ущерба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54720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cccc"/>
                </a:solidFill>
                <a:latin typeface="Arial"/>
              </a:rPr>
              <a:t>Террористическая акция рассчитана на определённый эффект: </a:t>
            </a: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посеять страх, создать угрозу широкому кругу лиц.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68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68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33"/>
                </a:solidFill>
                <a:latin typeface="Impact"/>
              </a:rPr>
              <a:t>Три стороны конфликта террористической акц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Те, кто совершает теракт (террористы)</a:t>
            </a:r>
            <a:r>
              <a:rPr b="1" lang="ar-SA" sz="40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Непосредственные жертвы а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Те, кого хотят запугать и заставить вести себя определённым образ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79280" y="-372960"/>
            <a:ext cx="8964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Террористическая деятельность </a:t>
            </a: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включает следующие действия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79280" y="981000"/>
            <a:ext cx="87472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рганизацию, планирование, подготовку и реализацию террористической ак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Подстрекательство к террористической акции, насилию над физическими лицами или организациями, уничтожению материальных объектов в террористических цел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рганизацию незаконного вооруженного формирования, преступного сообщества (преступной организации), организованной группы для совершения террористической акции, а равно участие в такой ак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Вербовку, вооружение, обучение и использование террорист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Финансирование заведомо террористической организации или террористической группы или иное содействие 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785960" y="485784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572080" y="4857840"/>
            <a:ext cx="272088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ctr"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6600" spc="-1" strike="noStrike">
                <a:solidFill>
                  <a:srgbClr val="ff0066"/>
                </a:solidFill>
                <a:latin typeface="Arial"/>
              </a:rPr>
              <a:t>Статистика терроризм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Николай</cp:lastModifiedBy>
  <dcterms:modified xsi:type="dcterms:W3CDTF">2012-07-03T07:18:09Z</dcterms:modified>
  <cp:revision>1</cp:revision>
  <dc:subject/>
  <dc:title>Защита населения</dc:title>
</cp:coreProperties>
</file>