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C81C-53BF-420F-B1A1-92CA076B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AE6C-D6E2-472B-AD17-ED80CB61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DEB4-E2F0-421B-A565-62735367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0E0D-0542-4BCC-BE3D-9EDB21A9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3EA5F-0367-4D72-9FC0-34C9790A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3357-BD1B-4BE2-BC6A-A95AAB1A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1F108-1455-4E97-9673-5DB552A9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8F64A-96D7-4C08-A8F4-08FDF7A5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FF9E9-86FB-44B7-8488-ABAA7AB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870BF-946C-4EEE-BA5A-E5803A1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EA3A7-5E27-489A-AD0F-7A99BE9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C7C2-1D54-4FD3-8A51-15B4994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C527B-02F8-4A84-9BC6-75646A1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EB8FE-F88D-48D4-85EC-02B2AF3A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328DA-86BC-442A-AAEC-1F329C3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68817-6A54-4D2E-A033-3DB76BAB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C154E-BBC5-499C-AC5D-30907648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70A28-B5A5-46AC-ABF8-10548B5C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6C08E-63DD-4F50-875D-2DD420BA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66730-BC4B-4C93-9077-B737204A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3977B-8EFE-4261-9894-B7E413D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B7697-4D96-4B65-A102-F069CFD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953C-E7E5-4AD4-9545-B38CE489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A473A-41AA-443F-8D5D-13040AC9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196EC-75CC-4861-A9B3-C2A55D8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AC389-82E4-4190-B153-56CF514C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4430F-6B89-4546-8631-261D631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DE927-643C-4226-9FD5-799D876A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EDA3A-12F4-4FE0-9F87-A1C7D9C1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3572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995280" y="19810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6765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83572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3995280" y="4130280"/>
            <a:ext cx="1103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1CFA1-3132-4236-8103-9606A711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4A79-6331-4921-A41D-6A0790B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DF31-AC8F-41F9-9A95-DDF1715A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520" y="457200"/>
            <a:ext cx="70099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8BDA-4592-4541-AE38-E538CD3A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0392-6652-4323-80B1-A4FAF24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33320" y="41302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37B0-670A-49EE-9B29-14F11EFA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3320" y="1981080"/>
            <a:ext cx="16729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520" y="4130280"/>
            <a:ext cx="34286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6FC6-AA53-444F-9CC3-503DB85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3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4A19F8-7DA1-4C9D-A813-4D3CCDF82A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60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AD01D5-FEBA-4C3E-8661-3FA68A330A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6"/>
          <p:cNvSpPr/>
          <p:nvPr/>
        </p:nvSpPr>
        <p:spPr>
          <a:xfrm>
            <a:off x="266400" y="6172200"/>
            <a:ext cx="861084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" y="304560"/>
            <a:ext cx="8610480" cy="360"/>
          </a:xfrm>
          <a:prstGeom prst="line">
            <a:avLst/>
          </a:prstGeom>
          <a:ln w="762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228600" y="457200"/>
            <a:ext cx="1245960" cy="1371240"/>
            <a:chOff x="228600" y="457200"/>
            <a:chExt cx="1245960" cy="1371240"/>
          </a:xfrm>
        </p:grpSpPr>
        <p:sp>
          <p:nvSpPr>
            <p:cNvPr id="118" name="Rectangle 9"/>
            <p:cNvSpPr/>
            <p:nvPr/>
          </p:nvSpPr>
          <p:spPr>
            <a:xfrm>
              <a:off x="934920" y="457200"/>
              <a:ext cx="43920" cy="84744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835200" y="457200"/>
              <a:ext cx="43920" cy="745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33320" y="457200"/>
              <a:ext cx="43920" cy="6361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1800" y="457200"/>
              <a:ext cx="43920" cy="52992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31720" y="457200"/>
              <a:ext cx="43920" cy="42660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30200" y="457200"/>
              <a:ext cx="43920" cy="3124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28680" y="457200"/>
              <a:ext cx="45720" cy="215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228600" y="457200"/>
              <a:ext cx="43920" cy="10764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1036800" y="457200"/>
              <a:ext cx="41040" cy="950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1135080" y="457200"/>
              <a:ext cx="41040" cy="1058400"/>
            </a:xfrm>
            <a:prstGeom prst="rect">
              <a:avLst/>
            </a:pr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1231920" y="457200"/>
              <a:ext cx="42480" cy="116028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1332000" y="457200"/>
              <a:ext cx="43920" cy="12697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1432080" y="457200"/>
              <a:ext cx="42480" cy="13712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676520" y="457200"/>
            <a:ext cx="7009920" cy="5638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78f0"/>
              </a:buClr>
              <a:buSzPct val="70000"/>
              <a:buFont typeface="Wingdings" charset="2"/>
              <a:buChar char=""/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1B9B63-092E-477B-9684-294C51FA63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6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6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Техника безопасности для детей в каникулярное время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осенних каникулах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зимних каникулах. 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весенних каникулах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ская безопасность на летних каникулах. 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i[4]"/>
          <p:cNvPicPr/>
          <p:nvPr/>
        </p:nvPicPr>
        <p:blipFill>
          <a:blip r:embed="rId1"/>
          <a:stretch/>
        </p:blipFill>
        <p:spPr>
          <a:xfrm>
            <a:off x="2916360" y="2565360"/>
            <a:ext cx="4463640" cy="316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13014949764515[1]"/>
          <p:cNvPicPr/>
          <p:nvPr/>
        </p:nvPicPr>
        <p:blipFill>
          <a:blip r:embed="rId1"/>
          <a:stretch/>
        </p:blipFill>
        <p:spPr>
          <a:xfrm>
            <a:off x="1908000" y="2452680"/>
            <a:ext cx="6408360" cy="3712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етская безопасность на       зим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ДД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на льду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терегайся гололёда, во избежание падений и получения травм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играй вблизи зданий, с крыш которых свисает снег и лёд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5" descr="mit02[1]"/>
          <p:cNvPicPr/>
          <p:nvPr/>
        </p:nvPicPr>
        <p:blipFill>
          <a:blip r:embed="rId1"/>
          <a:stretch/>
        </p:blipFill>
        <p:spPr>
          <a:xfrm>
            <a:off x="1763640" y="1773360"/>
            <a:ext cx="6810120" cy="431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76480" y="620640"/>
            <a:ext cx="7067160" cy="136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41_120311[1]"/>
          <p:cNvPicPr/>
          <p:nvPr/>
        </p:nvPicPr>
        <p:blipFill>
          <a:blip r:embed="rId1"/>
          <a:stretch/>
        </p:blipFill>
        <p:spPr>
          <a:xfrm>
            <a:off x="2843280" y="2060640"/>
            <a:ext cx="3673080" cy="4053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47028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 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30_120311[1]"/>
          <p:cNvPicPr/>
          <p:nvPr/>
        </p:nvPicPr>
        <p:blipFill>
          <a:blip r:embed="rId1"/>
          <a:stretch/>
        </p:blipFill>
        <p:spPr>
          <a:xfrm>
            <a:off x="3203640" y="1413000"/>
            <a:ext cx="3987360" cy="4701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02[1]"/>
          <p:cNvPicPr/>
          <p:nvPr/>
        </p:nvPicPr>
        <p:blipFill>
          <a:blip r:embed="rId1"/>
          <a:stretch/>
        </p:blipFill>
        <p:spPr>
          <a:xfrm>
            <a:off x="2916360" y="1628640"/>
            <a:ext cx="3816000" cy="4485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на льду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39_120311[1]"/>
          <p:cNvPicPr/>
          <p:nvPr/>
        </p:nvPicPr>
        <p:blipFill>
          <a:blip r:embed="rId1"/>
          <a:stretch/>
        </p:blipFill>
        <p:spPr>
          <a:xfrm>
            <a:off x="2916360" y="1700280"/>
            <a:ext cx="396036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0015-038-Domashnie-opasnosti[2]"/>
          <p:cNvPicPr/>
          <p:nvPr/>
        </p:nvPicPr>
        <p:blipFill>
          <a:blip r:embed="rId1"/>
          <a:stretch/>
        </p:blipFill>
        <p:spPr>
          <a:xfrm>
            <a:off x="3132000" y="1700280"/>
            <a:ext cx="4176360" cy="439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151762_image_large[1]"/>
          <p:cNvPicPr/>
          <p:nvPr/>
        </p:nvPicPr>
        <p:blipFill>
          <a:blip r:embed="rId1"/>
          <a:stretch/>
        </p:blipFill>
        <p:spPr>
          <a:xfrm>
            <a:off x="3492360" y="2060640"/>
            <a:ext cx="3455640" cy="410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нструктаж по ТБ 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а осен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ДД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 около водоёмов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br>
              <a:rPr sz="2000"/>
            </a:br>
            <a:br>
              <a:rPr sz="3500"/>
            </a:b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plakat2[1]"/>
          <p:cNvPicPr/>
          <p:nvPr/>
        </p:nvPicPr>
        <p:blipFill>
          <a:blip r:embed="rId1"/>
          <a:stretch/>
        </p:blipFill>
        <p:spPr>
          <a:xfrm>
            <a:off x="1935000" y="1981080"/>
            <a:ext cx="2910960" cy="411444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8" descr="i[4]"/>
          <p:cNvPicPr/>
          <p:nvPr/>
        </p:nvPicPr>
        <p:blipFill>
          <a:blip r:embed="rId2"/>
          <a:stretch/>
        </p:blipFill>
        <p:spPr>
          <a:xfrm>
            <a:off x="5724360" y="2060640"/>
            <a:ext cx="2592000" cy="388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стерегайся гололёда, во избежание падений и получения травм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_l[1]"/>
          <p:cNvPicPr/>
          <p:nvPr/>
        </p:nvPicPr>
        <p:blipFill>
          <a:blip r:embed="rId1"/>
          <a:stretch/>
        </p:blipFill>
        <p:spPr>
          <a:xfrm>
            <a:off x="1547640" y="1916280"/>
            <a:ext cx="7056000" cy="434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е играй вблизи зданий, с крыш которых свисает снег и лёд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8cdbb8e6c2eb88f5a851fa2781a85bd4-1[1]"/>
          <p:cNvPicPr/>
          <p:nvPr/>
        </p:nvPicPr>
        <p:blipFill>
          <a:blip r:embed="rId1"/>
          <a:stretch/>
        </p:blipFill>
        <p:spPr>
          <a:xfrm>
            <a:off x="1692360" y="1989000"/>
            <a:ext cx="691164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25(1)[1]"/>
          <p:cNvPicPr/>
          <p:nvPr/>
        </p:nvPicPr>
        <p:blipFill>
          <a:blip r:embed="rId1"/>
          <a:stretch/>
        </p:blipFill>
        <p:spPr>
          <a:xfrm>
            <a:off x="2340000" y="2133720"/>
            <a:ext cx="5471640" cy="3958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етская безопасность на весенних каникулах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0_72cb7_d52d96f6_XL[1]"/>
          <p:cNvPicPr/>
          <p:nvPr/>
        </p:nvPicPr>
        <p:blipFill>
          <a:blip r:embed="rId1"/>
          <a:stretch/>
        </p:blipFill>
        <p:spPr>
          <a:xfrm>
            <a:off x="1692360" y="1989000"/>
            <a:ext cx="691164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0035-035-Pomni-Bud-ostorozhen-pri-obraschenii-s-elektrichestvom[1]"/>
          <p:cNvPicPr/>
          <p:nvPr/>
        </p:nvPicPr>
        <p:blipFill>
          <a:blip r:embed="rId1"/>
          <a:stretch/>
        </p:blipFill>
        <p:spPr>
          <a:xfrm>
            <a:off x="1116000" y="1916280"/>
            <a:ext cx="7632360" cy="4249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029ea4c5f200[1]"/>
          <p:cNvPicPr/>
          <p:nvPr/>
        </p:nvPicPr>
        <p:blipFill>
          <a:blip r:embed="rId1"/>
          <a:stretch/>
        </p:blipFill>
        <p:spPr>
          <a:xfrm>
            <a:off x="5518080" y="1981080"/>
            <a:ext cx="2906280" cy="411444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7" descr="2ad37ec55eee[1]"/>
          <p:cNvPicPr/>
          <p:nvPr/>
        </p:nvPicPr>
        <p:blipFill>
          <a:blip r:embed="rId2"/>
          <a:stretch/>
        </p:blipFill>
        <p:spPr>
          <a:xfrm>
            <a:off x="1936800" y="1981080"/>
            <a:ext cx="290628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02[1]"/>
          <p:cNvPicPr/>
          <p:nvPr/>
        </p:nvPicPr>
        <p:blipFill>
          <a:blip r:embed="rId1"/>
          <a:stretch/>
        </p:blipFill>
        <p:spPr>
          <a:xfrm>
            <a:off x="2916360" y="1557360"/>
            <a:ext cx="4463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01[1]"/>
          <p:cNvPicPr/>
          <p:nvPr/>
        </p:nvPicPr>
        <p:blipFill>
          <a:blip r:embed="rId1"/>
          <a:stretch/>
        </p:blipFill>
        <p:spPr>
          <a:xfrm>
            <a:off x="3276720" y="1700280"/>
            <a:ext cx="381924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02_2[1]"/>
          <p:cNvPicPr/>
          <p:nvPr/>
        </p:nvPicPr>
        <p:blipFill>
          <a:blip r:embed="rId1"/>
          <a:stretch/>
        </p:blipFill>
        <p:spPr>
          <a:xfrm>
            <a:off x="1946160" y="1981080"/>
            <a:ext cx="2887200" cy="4114440"/>
          </a:xfrm>
          <a:prstGeom prst="rect">
            <a:avLst/>
          </a:prstGeom>
          <a:ln w="9525">
            <a:noFill/>
          </a:ln>
        </p:spPr>
      </p:pic>
      <p:pic>
        <p:nvPicPr>
          <p:cNvPr id="178" name="Picture 7" descr="skazki-0043[1]"/>
          <p:cNvPicPr/>
          <p:nvPr/>
        </p:nvPicPr>
        <p:blipFill>
          <a:blip r:embed="rId2"/>
          <a:stretch/>
        </p:blipFill>
        <p:spPr>
          <a:xfrm>
            <a:off x="5292720" y="2565360"/>
            <a:ext cx="3526920" cy="261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klesch[1]"/>
          <p:cNvPicPr/>
          <p:nvPr/>
        </p:nvPicPr>
        <p:blipFill>
          <a:blip r:embed="rId1"/>
          <a:stretch/>
        </p:blipFill>
        <p:spPr>
          <a:xfrm>
            <a:off x="2843280" y="2205000"/>
            <a:ext cx="4536720" cy="38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i[4]"/>
          <p:cNvPicPr/>
          <p:nvPr/>
        </p:nvPicPr>
        <p:blipFill>
          <a:blip r:embed="rId1"/>
          <a:stretch/>
        </p:blipFill>
        <p:spPr>
          <a:xfrm>
            <a:off x="3132000" y="2133720"/>
            <a:ext cx="388728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1373764[1]"/>
          <p:cNvPicPr/>
          <p:nvPr/>
        </p:nvPicPr>
        <p:blipFill>
          <a:blip r:embed="rId1"/>
          <a:stretch/>
        </p:blipFill>
        <p:spPr>
          <a:xfrm>
            <a:off x="1042920" y="1844640"/>
            <a:ext cx="7779960" cy="418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закон 15.39 - КЗ</a:t>
            </a:r>
            <a:br>
              <a:rPr sz="3500"/>
            </a:b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55zzx7hsb2scgo0sks4g88ok4[1]"/>
          <p:cNvPicPr/>
          <p:nvPr/>
        </p:nvPicPr>
        <p:blipFill>
          <a:blip r:embed="rId1"/>
          <a:stretch/>
        </p:blipFill>
        <p:spPr>
          <a:xfrm>
            <a:off x="1619280" y="2060640"/>
            <a:ext cx="7056000" cy="403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Детская безопасность на летних каникулах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го поведения на воде летом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играй с острыми, колющими и режущими, легковоспламеняющимися и взрывоопасными предметами, огнестрельным и холодным оружием, боеприпасами. 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лесу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й закон 15.39 – КЗ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0"/>
              </a:spcBef>
              <a:buClr>
                <a:srgbClr val="0078f0"/>
              </a:buClr>
              <a:buSzPct val="85000"/>
              <a:buFont typeface="Wingdings" charset="2"/>
              <a:buChar char="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ПДД.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07[1]"/>
          <p:cNvPicPr/>
          <p:nvPr/>
        </p:nvPicPr>
        <p:blipFill>
          <a:blip r:embed="rId1"/>
          <a:stretch/>
        </p:blipFill>
        <p:spPr>
          <a:xfrm>
            <a:off x="3139920" y="1197000"/>
            <a:ext cx="4082760" cy="489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0035-035-Pomni-Bud-ostorozhen-pri-obraschenii-s-elektrichestvom[1]"/>
          <p:cNvPicPr/>
          <p:nvPr/>
        </p:nvPicPr>
        <p:blipFill>
          <a:blip r:embed="rId1"/>
          <a:stretch/>
        </p:blipFill>
        <p:spPr>
          <a:xfrm>
            <a:off x="1116000" y="1989000"/>
            <a:ext cx="755928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6" descr="2c9dba2a507bt[1]"/>
          <p:cNvPicPr/>
          <p:nvPr/>
        </p:nvPicPr>
        <p:blipFill>
          <a:blip r:embed="rId1"/>
          <a:stretch/>
        </p:blipFill>
        <p:spPr>
          <a:xfrm>
            <a:off x="2048040" y="2133720"/>
            <a:ext cx="2685600" cy="3809520"/>
          </a:xfrm>
          <a:prstGeom prst="rect">
            <a:avLst/>
          </a:prstGeom>
          <a:ln w="9525">
            <a:noFill/>
          </a:ln>
        </p:spPr>
      </p:pic>
      <p:pic>
        <p:nvPicPr>
          <p:cNvPr id="258" name="Picture 7" descr="9fc11cb6fc5ft[1]"/>
          <p:cNvPicPr/>
          <p:nvPr/>
        </p:nvPicPr>
        <p:blipFill>
          <a:blip r:embed="rId2"/>
          <a:stretch/>
        </p:blipFill>
        <p:spPr>
          <a:xfrm>
            <a:off x="5629320" y="2133720"/>
            <a:ext cx="268560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 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02[1]"/>
          <p:cNvPicPr/>
          <p:nvPr/>
        </p:nvPicPr>
        <p:blipFill>
          <a:blip r:embed="rId1"/>
          <a:stretch/>
        </p:blipFill>
        <p:spPr>
          <a:xfrm>
            <a:off x="3276720" y="1700280"/>
            <a:ext cx="380664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го поведения на воде летом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91012265[1]"/>
          <p:cNvPicPr/>
          <p:nvPr/>
        </p:nvPicPr>
        <p:blipFill>
          <a:blip r:embed="rId1"/>
          <a:stretch/>
        </p:blipFill>
        <p:spPr>
          <a:xfrm>
            <a:off x="3492360" y="1628640"/>
            <a:ext cx="3455640" cy="453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жарной безопасности и обращения с электроприбора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3" descr="safety10[1]"/>
          <p:cNvPicPr/>
          <p:nvPr/>
        </p:nvPicPr>
        <p:blipFill>
          <a:blip r:embed="rId1"/>
          <a:stretch/>
        </p:blipFill>
        <p:spPr>
          <a:xfrm>
            <a:off x="2195640" y="2133720"/>
            <a:ext cx="4752720" cy="397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safety10[1]"/>
          <p:cNvPicPr/>
          <p:nvPr/>
        </p:nvPicPr>
        <p:blipFill>
          <a:blip r:embed="rId1"/>
          <a:stretch/>
        </p:blipFill>
        <p:spPr>
          <a:xfrm>
            <a:off x="2309760" y="1700280"/>
            <a:ext cx="6006600" cy="4465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 .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0237899498[1]"/>
          <p:cNvPicPr/>
          <p:nvPr/>
        </p:nvPicPr>
        <p:blipFill>
          <a:blip r:embed="rId1"/>
          <a:stretch/>
        </p:blipFill>
        <p:spPr>
          <a:xfrm>
            <a:off x="1676520" y="2503440"/>
            <a:ext cx="3428640" cy="30682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8" descr="linka-i-drugije-njeprijatnosti-britanskoj-koshki[1]"/>
          <p:cNvPicPr/>
          <p:nvPr/>
        </p:nvPicPr>
        <p:blipFill>
          <a:blip r:embed="rId2"/>
          <a:stretch/>
        </p:blipFill>
        <p:spPr>
          <a:xfrm>
            <a:off x="5292720" y="2492280"/>
            <a:ext cx="3428640" cy="302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играй с острыми, колющими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ежущими, легковоспламеняющимися и взрывоопасными предметами, огнестрельным и холодным оружием, боеприпасами. </a:t>
            </a:r>
            <a:br>
              <a:rPr sz="2400"/>
            </a:b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009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i[4]"/>
          <p:cNvPicPr/>
          <p:nvPr/>
        </p:nvPicPr>
        <p:blipFill>
          <a:blip r:embed="rId1"/>
          <a:stretch/>
        </p:blipFill>
        <p:spPr>
          <a:xfrm>
            <a:off x="1692360" y="1989000"/>
            <a:ext cx="6982920" cy="4163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лесу.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1306383473_deti[1]"/>
          <p:cNvPicPr/>
          <p:nvPr/>
        </p:nvPicPr>
        <p:blipFill>
          <a:blip r:embed="rId1"/>
          <a:stretch/>
        </p:blipFill>
        <p:spPr>
          <a:xfrm>
            <a:off x="1042920" y="2060640"/>
            <a:ext cx="3962160" cy="3528720"/>
          </a:xfrm>
          <a:prstGeom prst="rect">
            <a:avLst/>
          </a:prstGeom>
          <a:ln w="9525">
            <a:noFill/>
          </a:ln>
        </p:spPr>
      </p:pic>
      <p:pic>
        <p:nvPicPr>
          <p:cNvPr id="273" name="Picture 7" descr="03[1]"/>
          <p:cNvPicPr/>
          <p:nvPr/>
        </p:nvPicPr>
        <p:blipFill>
          <a:blip r:embed="rId2"/>
          <a:stretch/>
        </p:blipFill>
        <p:spPr>
          <a:xfrm>
            <a:off x="5364000" y="1989000"/>
            <a:ext cx="3028680" cy="367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закон 15.39 – КЗ</a:t>
            </a:r>
            <a:br>
              <a:rPr sz="3900"/>
            </a:b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70[1]"/>
          <p:cNvPicPr/>
          <p:nvPr/>
        </p:nvPicPr>
        <p:blipFill>
          <a:blip r:embed="rId1"/>
          <a:stretch/>
        </p:blipFill>
        <p:spPr>
          <a:xfrm>
            <a:off x="3492360" y="1628640"/>
            <a:ext cx="3455640" cy="446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500"/>
            </a:br>
            <a:br>
              <a:rPr sz="35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поведения на железной дороге</a:t>
            </a:r>
            <a:br>
              <a:rPr sz="2800"/>
            </a:br>
            <a:br>
              <a:rPr sz="3500"/>
            </a:b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8" descr="iCAL7SUP4"/>
          <p:cNvPicPr/>
          <p:nvPr/>
        </p:nvPicPr>
        <p:blipFill>
          <a:blip r:embed="rId1"/>
          <a:stretch/>
        </p:blipFill>
        <p:spPr>
          <a:xfrm>
            <a:off x="1547640" y="2349360"/>
            <a:ext cx="3311280" cy="388728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9" descr="iCARL7FHI"/>
          <p:cNvPicPr/>
          <p:nvPr/>
        </p:nvPicPr>
        <p:blipFill>
          <a:blip r:embed="rId2"/>
          <a:stretch/>
        </p:blipFill>
        <p:spPr>
          <a:xfrm>
            <a:off x="5003640" y="2349360"/>
            <a:ext cx="3239640" cy="38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654156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в общественных местах.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2c9dba2a507bt[1]"/>
          <p:cNvPicPr/>
          <p:nvPr/>
        </p:nvPicPr>
        <p:blipFill>
          <a:blip r:embed="rId1"/>
          <a:stretch/>
        </p:blipFill>
        <p:spPr>
          <a:xfrm>
            <a:off x="1547640" y="2060640"/>
            <a:ext cx="2685600" cy="380952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6" descr="515baf9e19a8t[1]"/>
          <p:cNvPicPr/>
          <p:nvPr/>
        </p:nvPicPr>
        <p:blipFill>
          <a:blip r:embed="rId2"/>
          <a:stretch/>
        </p:blipFill>
        <p:spPr>
          <a:xfrm>
            <a:off x="5364000" y="2060640"/>
            <a:ext cx="2685600" cy="3809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облюдай правила личной безопасности на улице.</a:t>
            </a: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02[1]"/>
          <p:cNvPicPr/>
          <p:nvPr/>
        </p:nvPicPr>
        <p:blipFill>
          <a:blip r:embed="rId1"/>
          <a:stretch/>
        </p:blipFill>
        <p:spPr>
          <a:xfrm>
            <a:off x="2556000" y="1700280"/>
            <a:ext cx="4103280" cy="441432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6" descr="02[1]"/>
          <p:cNvPicPr/>
          <p:nvPr/>
        </p:nvPicPr>
        <p:blipFill>
          <a:blip r:embed="rId2"/>
          <a:stretch/>
        </p:blipFill>
        <p:spPr>
          <a:xfrm>
            <a:off x="2556000" y="1700280"/>
            <a:ext cx="4103280" cy="44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 около водоёмов.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91012265[1]"/>
          <p:cNvPicPr/>
          <p:nvPr/>
        </p:nvPicPr>
        <p:blipFill>
          <a:blip r:embed="rId1"/>
          <a:stretch/>
        </p:blipFill>
        <p:spPr>
          <a:xfrm>
            <a:off x="3059280" y="1557360"/>
            <a:ext cx="3401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поведения, когда ты один дома </a:t>
            </a:r>
            <a:br>
              <a:rPr sz="3500"/>
            </a:b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0015-038-Domashnie-opasnosti[2]"/>
          <p:cNvPicPr/>
          <p:nvPr/>
        </p:nvPicPr>
        <p:blipFill>
          <a:blip r:embed="rId1"/>
          <a:stretch/>
        </p:blipFill>
        <p:spPr>
          <a:xfrm>
            <a:off x="2627280" y="1700280"/>
            <a:ext cx="4752720" cy="432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720" y="457200"/>
            <a:ext cx="7009920" cy="1294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блюдай правила безопасности при обращении с животными</a:t>
            </a:r>
            <a:endParaRPr b="0" lang="ru-RU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7" descr="linka-i-drugije-njeprijatnosti-britanskoj-koshki[1]"/>
          <p:cNvPicPr/>
          <p:nvPr/>
        </p:nvPicPr>
        <p:blipFill>
          <a:blip r:embed="rId1"/>
          <a:stretch/>
        </p:blipFill>
        <p:spPr>
          <a:xfrm>
            <a:off x="1908000" y="1916280"/>
            <a:ext cx="6479640" cy="41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Каскад">
  <a:themeElements>
    <a:clrScheme name="Каскад 4">
      <a:dk1>
        <a:srgbClr val="ffffcc"/>
      </a:dk1>
      <a:lt1>
        <a:srgbClr val="ffffff"/>
      </a:lt1>
      <a:dk2>
        <a:srgbClr val="000066"/>
      </a:dk2>
      <a:lt2>
        <a:srgbClr val="ffffff"/>
      </a:lt2>
      <a:accent1>
        <a:srgbClr val="0078f0"/>
      </a:accent1>
      <a:accent2>
        <a:srgbClr val="ccecff"/>
      </a:accent2>
      <a:accent3>
        <a:srgbClr val="aaaab8"/>
      </a:accent3>
      <a:accent4>
        <a:srgbClr val="dadada"/>
      </a:accent4>
      <a:accent5>
        <a:srgbClr val="aabef6"/>
      </a:accent5>
      <a:accent6>
        <a:srgbClr val="b9d6e7"/>
      </a:accent6>
      <a:hlink>
        <a:srgbClr val="3399ff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ascade</Template>
  <TotalTime>299</TotalTime>
  <Application>LibreOffice/7.4.7.2$Linux_X86_64 LibreOffice_project/40$Build-2</Application>
  <AppVersion>15.0000</AppVersion>
  <Words>670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8:54:14Z</dcterms:created>
  <dc:creator>Ященко А.В.</dc:creator>
  <dc:description/>
  <dc:language>en-US</dc:language>
  <cp:lastModifiedBy>1</cp:lastModifiedBy>
  <dcterms:modified xsi:type="dcterms:W3CDTF">2013-03-25T08:14:06Z</dcterms:modified>
  <cp:revision>9</cp:revision>
  <dc:subject>Техника безопасности</dc:subject>
  <dc:title>приложение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5</vt:r8>
  </property>
</Properties>
</file>