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62E-0CF3-4F31-9DE5-AF02578D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1B7-B9B5-441E-9ED2-98D2B0F7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4F0-F0E5-4526-94DB-555C02CC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239-D851-47F6-844B-75C18A87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5FC-9983-442D-B738-C607BB74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18B-9122-49CF-9281-5EDDC5EC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E62-26FB-4568-B787-B35E4A9E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7CF-BC29-4B80-AABB-47C7B165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840-01CB-4858-A0F8-DD953C2E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0E8-5FF4-4F8A-856F-0036BCCF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0B4-0946-41F0-934C-F3B6AD32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D6D-A2BB-4462-8DA4-616C7DBE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8F0E-23D4-49B8-A0D8-2AD379B48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randars.ru/shkola/bezopasnostzhiznedeyatelnosti/vooruzhennye-sily.html" TargetMode="External"/><Relationship Id="rId3" Type="http://schemas.openxmlformats.org/officeDocument/2006/relationships/hyperlink" Target="http://www.grandars.ru/shkola/bezopasnostzhiznedeyatelnosti/vooruzhennye-sily.html" TargetMode="External"/><Relationship Id="rId4" Type="http://schemas.openxmlformats.org/officeDocument/2006/relationships/hyperlink" Target="http://www.liveinternet.ru/users/4427164/rubric/2223197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042920" y="285264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 "Структура ВС РФ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223440" y="4572360"/>
            <a:ext cx="471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Учитель ОБ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МБОУ СОШ № 9 с. Во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Кошехабль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Р. Адыг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ремов Султан Амерби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419280" y="259920"/>
            <a:ext cx="5545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Тыл ВС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 </a:t>
            </a: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– это силы и средства, осуществляющие тыловое и техническое обеспечение армии и флота в мирное и военное время. В состав тыла входят различные части, учреждения и подразделения, необходимые для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выполнения следующих основных зада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3348000" cy="251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48000" cy="230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0" y="4629240"/>
            <a:ext cx="3348000" cy="2228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- постоянно содержать запас материальных средств и обеспечивать ими войс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- осуществлять подготовку, эксплуатацию, техническое прикрытие и восстановление путей сообщения и транспортных сред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- обеспечивать воинские перевозки всех ви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- восстанавливать военную технику, имущество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92720" y="4183200"/>
            <a:ext cx="3851280" cy="2674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Bookman Old Style"/>
              </a:rPr>
              <a:t>Вопросы для закрепления материала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27280" y="1628640"/>
            <a:ext cx="65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Bookman Old Style"/>
              </a:rPr>
              <a:t>а) Что такое род войс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Bookman Old Style"/>
              </a:rPr>
              <a:t>б) В чем заключается основное различие между родами войск?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Bookman Old Style"/>
              </a:rPr>
              <a:t>в) Назвать рода войс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20034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84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354400" y="981000"/>
            <a:ext cx="678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Bookman Old Style"/>
              </a:rPr>
              <a:t>Изучить материал учебника на стр.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Bookman Old Style"/>
              </a:rPr>
              <a:t>Уметь дать определение терминам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Bookman Old Style"/>
              </a:rPr>
              <a:t>«вид ВС», «род войск», «объединение», «соединение», «воинская часть».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Bookman Old Style"/>
              </a:rPr>
              <a:t>Знать структуру ВС Р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5600" y="16020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Bookman Old Style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1424" t="0" r="6910" b="0"/>
          <a:stretch/>
        </p:blipFill>
        <p:spPr>
          <a:xfrm>
            <a:off x="0" y="1773360"/>
            <a:ext cx="2340000" cy="1790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4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08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Список использованных печатных источ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. А.Т.Смирнов, Б.И.Мишин, В.А.Васнев – «Основы безопасности жизнедеятельности» 10 класс. – М., «Просвещение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0"/>
            <a:ext cx="429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Bookman Old Style"/>
              </a:rPr>
              <a:t>Р е с у р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7002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Активные ссылки на страницы материалов в Интер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133720"/>
            <a:ext cx="856908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04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татья «Вооруженные силы РФ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ookman Old Style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ookman Old Style"/>
                <a:hlinkClick r:id="rId3"/>
              </a:rPr>
              <a:t>://www.grandars.ru/shkola/bezopasnostzhiznedeyatelnosti/vooruzhennye-sil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04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татья «Структура ВС РФ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ookman Old Style"/>
                <a:hlinkClick r:id="rId4"/>
              </a:rPr>
              <a:t>http://www.liveinternet.ru/users/4427164/rubric/22231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789360"/>
            <a:ext cx="76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татья «Структура Вооруженных сил РФ (ВС РФ)» http://www.statesymbol.ru/russymbols/arms/20050422/3959587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43700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Активные ссылки на использованные изображения Интер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Изображение В.В. Путина http://www.regnum.ru/news/polit/164176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Изображение Шайгу С.К. http://ipim.ru/news/5454.html?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Изображение  коллективные вооружённые силы http://www.skyscrapercity.com/showthread.php?p=1000407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Изображение «Дом.задание» http://www.hms.henderson.k12.nc.us/teachers/lrogers-web/Dear%20Par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ookman Old Style"/>
              </a:rPr>
              <a:t>Тема урока: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Bookman Old Style"/>
              </a:rPr>
              <a:t>Структура ВС РФ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man Old Style"/>
              </a:rPr>
              <a:t>Цель у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1. Познакомить с историей создания и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развития организационн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структуры ВС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2. Изучить назначение и возможнос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видов Вооруженных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3. Формировать чувство гордости за В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man Old Style"/>
              </a:rPr>
              <a:t>Изучаемые вопросы на ур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1. История создания Вооруженных  сил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2. Организационная структура ВС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3. Виды Вооруженных сил РФ и ро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войск, их назначение и боевы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возмож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2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187280" y="1197000"/>
            <a:ext cx="6985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3640" y="1268280"/>
            <a:ext cx="5400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Bookman Old Style"/>
              </a:rPr>
              <a:t>Общее руководство ВС РФ осуществляет Верховный главнокомандующий. </a:t>
            </a:r>
            <a:r>
              <a:rPr b="0" lang="en-US" sz="2800" spc="-1" strike="noStrike">
                <a:solidFill>
                  <a:srgbClr val="800000"/>
                </a:solidFill>
                <a:latin typeface="Bookman Old Style"/>
              </a:rPr>
              <a:t>Конституция и Федеральный закон «Об обороне»</a:t>
            </a:r>
            <a:r>
              <a:rPr b="0" lang="en-US" sz="2800" spc="-1" strike="noStrike">
                <a:solidFill>
                  <a:srgbClr val="0000cc"/>
                </a:solidFill>
                <a:latin typeface="Bookman Old Style"/>
              </a:rPr>
              <a:t> устанавливают, что Верховным Главнокомандующим Вооружёнными Силами является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Президент России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89000"/>
            <a:ext cx="770436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>
                  <a:alpha val="59215"/>
                </a:srgbClr>
              </a:gs>
              <a:gs pos="50000">
                <a:srgbClr val="ffffff">
                  <a:alpha val="55294"/>
                </a:srgbClr>
              </a:gs>
              <a:gs pos="100000">
                <a:srgbClr val="0099ff">
                  <a:alpha val="5921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89080" y="332640"/>
            <a:ext cx="52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Руководство ВС Р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67280" y="1844640"/>
            <a:ext cx="3087720" cy="3973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35280" y="3860640"/>
            <a:ext cx="550872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man Old Style"/>
              </a:rPr>
              <a:t>Также он осуществляет 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man Old Style"/>
              </a:rPr>
              <a:t>полномочия,  возложенные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man Old Style"/>
              </a:rPr>
              <a:t>него Конституцией</a:t>
            </a: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Российской Федераци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федеральными  зако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Конституция РФ.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7625" t="0" r="7625" b="0"/>
          <a:stretch/>
        </p:blipFill>
        <p:spPr>
          <a:xfrm>
            <a:off x="0" y="3884760"/>
            <a:ext cx="3600360" cy="2973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197000"/>
            <a:ext cx="89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ookman Old Style"/>
              </a:rPr>
              <a:t>- </a:t>
            </a: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утверждает концепцию армии и фло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- назначает и освобождает от должности высшее военное  команд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- объявляет состояние войны в случае нападения на РФ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- отдаёт приказы Вооружённым Силам на ведение военн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0"/>
            <a:ext cx="8785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>
                  <a:alpha val="59215"/>
                </a:srgbClr>
              </a:gs>
              <a:gs pos="50000">
                <a:srgbClr val="ffffff">
                  <a:alpha val="55294"/>
                </a:srgbClr>
              </a:gs>
              <a:gs pos="100000">
                <a:srgbClr val="0099ff">
                  <a:alpha val="5921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Bookman Old Style"/>
              </a:rPr>
              <a:t>Верховный Главнокомандующ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5472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Bookman Old Style"/>
              </a:rPr>
              <a:t>Непосредственное руководство ВС РФ осуществляет </a:t>
            </a: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Министр обороны РФ</a:t>
            </a:r>
            <a:r>
              <a:rPr b="1" lang="en-US" sz="2800" spc="-1" strike="noStrike">
                <a:solidFill>
                  <a:srgbClr val="0000cc"/>
                </a:solidFill>
                <a:latin typeface="Bookman Old Style"/>
              </a:rPr>
              <a:t> через Министерство обороны. Министерство обороны реализует политику в области строительства ВС РФ в соответствии с решениями высших органов государственной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власти Российской Федерации.</a:t>
            </a:r>
            <a:r>
              <a:rPr b="1" lang="en-US" sz="2800" spc="-1" strike="noStrike">
                <a:solidFill>
                  <a:srgbClr val="0000cc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0" r="2820" b="0"/>
          <a:stretch/>
        </p:blipFill>
        <p:spPr>
          <a:xfrm>
            <a:off x="5940360" y="404640"/>
            <a:ext cx="2930760" cy="453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96000" y="5084640"/>
            <a:ext cx="28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Шойгу Сергей Кужугет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инистр обороны Российской Федерации, генерал ар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58920" y="1341360"/>
            <a:ext cx="57718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man Old Style"/>
              </a:rPr>
              <a:t>Вооружённые Силы Российской Федерации состоят из: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Bookman Old Style"/>
              </a:rPr>
              <a:t>органов управления, объединений, соединений, воинских частей, учреждений,            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а также военно-учебных завед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224172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4602240"/>
            <a:ext cx="3132000" cy="2255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132000" cy="2236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03640" y="189000"/>
            <a:ext cx="576108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>
                  <a:alpha val="59215"/>
                </a:srgbClr>
              </a:gs>
              <a:gs pos="50000">
                <a:srgbClr val="ffffff">
                  <a:alpha val="55294"/>
                </a:srgbClr>
              </a:gs>
              <a:gs pos="100000">
                <a:srgbClr val="0099ff">
                  <a:alpha val="5921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3419640" y="-36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Bookman Old Style"/>
              </a:rPr>
              <a:t>Состав ВС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5545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Bookman Old Style"/>
              </a:rPr>
              <a:t>Часть ВС РФ может входить в состав коллективных вооружённых сил или находиться под объединённым командованием в соответствии с международными </a:t>
            </a: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договорами </a:t>
            </a: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Российской Федер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96000" y="2368440"/>
            <a:ext cx="3348000" cy="2276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796000" y="4629240"/>
            <a:ext cx="3348000" cy="2228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796000" y="0"/>
            <a:ext cx="3348000" cy="2389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Rectangle 3"/>
          <p:cNvGrpSpPr/>
          <p:nvPr/>
        </p:nvGrpSpPr>
        <p:grpSpPr>
          <a:xfrm>
            <a:off x="0" y="1557360"/>
            <a:ext cx="2242800" cy="2231640"/>
            <a:chOff x="0" y="1557360"/>
            <a:chExt cx="2242800" cy="2231640"/>
          </a:xfrm>
        </p:grpSpPr>
        <p:pic>
          <p:nvPicPr>
            <p:cNvPr id="72" name="Rectangle 3" descr=""/>
            <p:cNvPicPr/>
            <p:nvPr/>
          </p:nvPicPr>
          <p:blipFill>
            <a:blip r:embed="rId2"/>
            <a:stretch/>
          </p:blipFill>
          <p:spPr>
            <a:xfrm>
              <a:off x="0" y="155736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76040" y="169344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3"/>
          <p:cNvSpPr/>
          <p:nvPr/>
        </p:nvSpPr>
        <p:spPr>
          <a:xfrm>
            <a:off x="250920" y="1844640"/>
            <a:ext cx="2592360" cy="244800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1. Сухопу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вой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(С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Rectangle 3"/>
          <p:cNvGrpSpPr/>
          <p:nvPr/>
        </p:nvGrpSpPr>
        <p:grpSpPr>
          <a:xfrm>
            <a:off x="6227640" y="1700280"/>
            <a:ext cx="2242800" cy="2231640"/>
            <a:chOff x="6227640" y="1700280"/>
            <a:chExt cx="2242800" cy="2231640"/>
          </a:xfrm>
        </p:grpSpPr>
        <p:pic>
          <p:nvPicPr>
            <p:cNvPr id="76" name="Rectangle 3" descr=""/>
            <p:cNvPicPr/>
            <p:nvPr/>
          </p:nvPicPr>
          <p:blipFill>
            <a:blip r:embed="rId3"/>
            <a:stretch/>
          </p:blipFill>
          <p:spPr>
            <a:xfrm>
              <a:off x="6227640" y="170028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403680" y="183636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Rectangle 3"/>
          <p:cNvGrpSpPr/>
          <p:nvPr/>
        </p:nvGrpSpPr>
        <p:grpSpPr>
          <a:xfrm>
            <a:off x="3132000" y="3213000"/>
            <a:ext cx="2242800" cy="2231640"/>
            <a:chOff x="3132000" y="3213000"/>
            <a:chExt cx="2242800" cy="2231640"/>
          </a:xfrm>
        </p:grpSpPr>
        <p:pic>
          <p:nvPicPr>
            <p:cNvPr id="79" name="Rectangle 3" descr=""/>
            <p:cNvPicPr/>
            <p:nvPr/>
          </p:nvPicPr>
          <p:blipFill>
            <a:blip r:embed="rId4"/>
            <a:stretch/>
          </p:blipFill>
          <p:spPr>
            <a:xfrm>
              <a:off x="3132000" y="321300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308040" y="334908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3"/>
          <p:cNvSpPr/>
          <p:nvPr/>
        </p:nvSpPr>
        <p:spPr>
          <a:xfrm>
            <a:off x="6443640" y="1844640"/>
            <a:ext cx="2484360" cy="230508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Вое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Мор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Фл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(ВМФ).</a:t>
            </a:r>
            <a:r>
              <a:rPr b="0" lang="ru-RU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419640" y="3500280"/>
            <a:ext cx="2447640" cy="230508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Вое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воздуш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силы (ВВ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89000"/>
            <a:ext cx="856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>
                  <a:alpha val="59215"/>
                </a:srgbClr>
              </a:gs>
              <a:gs pos="50000">
                <a:srgbClr val="ffffff">
                  <a:alpha val="55294"/>
                </a:srgbClr>
              </a:gs>
              <a:gs pos="100000">
                <a:srgbClr val="0099ff">
                  <a:alpha val="5921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50920" y="333360"/>
            <a:ext cx="835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Bookman Old Style"/>
              </a:rPr>
              <a:t>Структурно ВС РФ делятся на виды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Rectangle 3"/>
          <p:cNvGrpSpPr/>
          <p:nvPr/>
        </p:nvGrpSpPr>
        <p:grpSpPr>
          <a:xfrm>
            <a:off x="324000" y="1916280"/>
            <a:ext cx="2242800" cy="2231640"/>
            <a:chOff x="324000" y="1916280"/>
            <a:chExt cx="2242800" cy="2231640"/>
          </a:xfrm>
        </p:grpSpPr>
        <p:pic>
          <p:nvPicPr>
            <p:cNvPr id="86" name="Rectangle 3" descr=""/>
            <p:cNvPicPr/>
            <p:nvPr/>
          </p:nvPicPr>
          <p:blipFill>
            <a:blip r:embed="rId2"/>
            <a:stretch/>
          </p:blipFill>
          <p:spPr>
            <a:xfrm>
              <a:off x="324000" y="191628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00040" y="205236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3"/>
          <p:cNvSpPr/>
          <p:nvPr/>
        </p:nvSpPr>
        <p:spPr>
          <a:xfrm>
            <a:off x="539640" y="2060640"/>
            <a:ext cx="3384720" cy="244800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Раке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вой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стратег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назна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(РВС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ectangle 3"/>
          <p:cNvGrpSpPr/>
          <p:nvPr/>
        </p:nvGrpSpPr>
        <p:grpSpPr>
          <a:xfrm>
            <a:off x="5508720" y="1916280"/>
            <a:ext cx="2242800" cy="2231640"/>
            <a:chOff x="5508720" y="1916280"/>
            <a:chExt cx="2242800" cy="2231640"/>
          </a:xfrm>
        </p:grpSpPr>
        <p:pic>
          <p:nvPicPr>
            <p:cNvPr id="90" name="Rectangle 3" descr=""/>
            <p:cNvPicPr/>
            <p:nvPr/>
          </p:nvPicPr>
          <p:blipFill>
            <a:blip r:embed="rId3"/>
            <a:stretch/>
          </p:blipFill>
          <p:spPr>
            <a:xfrm>
              <a:off x="5508720" y="191628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684760" y="205236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ectangle 3"/>
          <p:cNvGrpSpPr/>
          <p:nvPr/>
        </p:nvGrpSpPr>
        <p:grpSpPr>
          <a:xfrm>
            <a:off x="3276720" y="4626000"/>
            <a:ext cx="2242800" cy="2231640"/>
            <a:chOff x="3276720" y="4626000"/>
            <a:chExt cx="2242800" cy="2231640"/>
          </a:xfrm>
        </p:grpSpPr>
        <p:pic>
          <p:nvPicPr>
            <p:cNvPr id="93" name="Rectangle 3" descr=""/>
            <p:cNvPicPr/>
            <p:nvPr/>
          </p:nvPicPr>
          <p:blipFill>
            <a:blip r:embed="rId4"/>
            <a:stretch/>
          </p:blipFill>
          <p:spPr>
            <a:xfrm>
              <a:off x="3276720" y="462600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452760" y="476208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3"/>
          <p:cNvSpPr/>
          <p:nvPr/>
        </p:nvSpPr>
        <p:spPr>
          <a:xfrm>
            <a:off x="5867280" y="1989000"/>
            <a:ext cx="2881440" cy="244800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972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Воздуш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десан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вой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(ВДВ)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492360" y="4365720"/>
            <a:ext cx="2808360" cy="230508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" indent="-9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Косм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войска (К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0"/>
            <a:ext cx="8569440" cy="184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>
                  <a:alpha val="59215"/>
                </a:srgbClr>
              </a:gs>
              <a:gs pos="50000">
                <a:srgbClr val="ffffff">
                  <a:alpha val="55294"/>
                </a:srgbClr>
              </a:gs>
              <a:gs pos="100000">
                <a:srgbClr val="0099ff">
                  <a:alpha val="5921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50920" y="549360"/>
            <a:ext cx="860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Bookman Old Style"/>
              </a:rPr>
              <a:t>В настоящее время Вооружённые Силы РФ состоят</a:t>
            </a:r>
            <a:r>
              <a:rPr b="1" lang="en-US" sz="4000" spc="-1" strike="noStrike">
                <a:solidFill>
                  <a:srgbClr val="800000"/>
                </a:solidFill>
                <a:latin typeface="Bookman Old Style"/>
              </a:rPr>
              <a:t> из трёх родов войс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0:37:39Z</dcterms:created>
  <dc:creator>Ильдар</dc:creator>
  <dc:description/>
  <dc:language>en-US</dc:language>
  <cp:lastModifiedBy>Мама</cp:lastModifiedBy>
  <dcterms:modified xsi:type="dcterms:W3CDTF">2014-04-18T11:32:09Z</dcterms:modified>
  <cp:revision>49</cp:revision>
  <dc:subject/>
  <dc:title>Шаблон для презентации</dc:title>
</cp:coreProperties>
</file>