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5A9D-7818-4BDE-8CC7-AA8C6D55A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D570-5124-4730-8A5A-C22CAC902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82CD-BDA8-43D8-8CE9-638558C75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00D5-F2E3-4E7E-8A80-486155FB7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5E5E-8247-475E-B5B7-862F52BB3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61D8-919F-4161-810F-3C23A440D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F386-06BD-4A98-AAAA-FDD7CEB72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0FC7-CF46-44DD-A860-7DBE32F9A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61E3-1785-4600-8746-7F323ABC9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E495-0311-409A-B0E0-1D2484FBA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0C03-CA4B-402B-A440-370F0F0BC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D31A-86CA-402E-AD89-81EF976C0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0303E-DD2E-4ADC-8DE2-8870CCFA33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randars.ru/shkola/bezopasnostzhiznedeyatelnosti/vooruzhennye-sily.html" TargetMode="External"/><Relationship Id="rId3" Type="http://schemas.openxmlformats.org/officeDocument/2006/relationships/hyperlink" Target="http://www.grandars.ru/shkola/bezopasnostzhiznedeyatelnosti/vooruzhennye-sily.html" TargetMode="External"/><Relationship Id="rId4" Type="http://schemas.openxmlformats.org/officeDocument/2006/relationships/hyperlink" Target="http://www.liveinternet.ru/users/4427164/rubric/2223197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1042920" y="2852640"/>
            <a:ext cx="6985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ма: "Структура ВС РФ"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"/>
          <p:cNvSpPr/>
          <p:nvPr/>
        </p:nvSpPr>
        <p:spPr>
          <a:xfrm>
            <a:off x="3223440" y="4572360"/>
            <a:ext cx="4711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Bookman Old Style"/>
              </a:rPr>
              <a:t>Учитель ОБ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Bookman Old Style"/>
              </a:rPr>
              <a:t>МБОУ СОШ № 9 с. Воль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Bookman Old Style"/>
              </a:rPr>
              <a:t>Кошехабльского райо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Bookman Old Style"/>
              </a:rPr>
              <a:t>Р. Адыге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еремов Султан Амерби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419280" y="259920"/>
            <a:ext cx="55450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Bookman Old Style"/>
              </a:rPr>
              <a:t>Тыл ВС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 </a:t>
            </a:r>
            <a:r>
              <a:rPr b="1" lang="en-US" sz="2800" spc="-1" strike="noStrike">
                <a:solidFill>
                  <a:srgbClr val="333399"/>
                </a:solidFill>
                <a:latin typeface="Bookman Old Style"/>
              </a:rPr>
              <a:t>– это силы и средства, осуществляющие тыловое и техническое обеспечение армии и флота в мирное и военное время. В состав тыла входят различные части, учреждения и подразделения, необходимые для 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выполнения следующих основных задач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2276640"/>
            <a:ext cx="3348000" cy="2511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348000" cy="23004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0" y="4629240"/>
            <a:ext cx="3348000" cy="22287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Bookman Old Style"/>
              </a:rPr>
              <a:t>- постоянно содержать запас материальных средств и обеспечивать ими войс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Bookman Old Style"/>
              </a:rPr>
              <a:t>- осуществлять подготовку, эксплуатацию, техническое прикрытие и восстановление путей сообщения и транспортных средст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Bookman Old Style"/>
              </a:rPr>
              <a:t>- обеспечивать воинские перевозки всех вид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Bookman Old Style"/>
              </a:rPr>
              <a:t>- восстанавливать военную технику, имущество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292720" y="4183200"/>
            <a:ext cx="3851280" cy="26748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00"/>
                </a:solidFill>
                <a:latin typeface="Bookman Old Style"/>
              </a:rPr>
              <a:t>Вопросы для закрепления материала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27280" y="1628640"/>
            <a:ext cx="651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Bookman Old Style"/>
              </a:rPr>
              <a:t>а) Что такое род войск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Bookman Old Style"/>
              </a:rPr>
              <a:t>б) В чем заключается основное различие между родами войск?</a:t>
            </a: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Bookman Old Style"/>
              </a:rPr>
              <a:t>в) Назвать рода войс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68360" y="1125360"/>
            <a:ext cx="2003400" cy="28083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800"/>
                            </p:stCondLst>
                            <p:childTnLst>
                              <p:par>
                                <p:cTn id="1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840"/>
                            </p:stCondLst>
                            <p:childTnLst>
                              <p:par>
                                <p:cTn id="1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354400" y="981000"/>
            <a:ext cx="678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Bookman Old Style"/>
              </a:rPr>
              <a:t>Изучить материал учебника на стр.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Bookman Old Style"/>
              </a:rPr>
              <a:t>Уметь дать определение терминам</a:t>
            </a: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3200" spc="-1" strike="noStrike">
                <a:solidFill>
                  <a:srgbClr val="990033"/>
                </a:solidFill>
                <a:latin typeface="Bookman Old Style"/>
              </a:rPr>
              <a:t>«вид ВС», «род войск», «объединение», «соединение», «воинская часть».</a:t>
            </a: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3200" spc="-1" strike="noStrike">
                <a:solidFill>
                  <a:srgbClr val="0033cc"/>
                </a:solidFill>
                <a:latin typeface="Bookman Old Style"/>
              </a:rPr>
              <a:t>Знать структуру ВС РФ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515600" y="160200"/>
            <a:ext cx="594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Bookman Old Style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rcRect l="1424" t="0" r="6910" b="0"/>
          <a:stretch/>
        </p:blipFill>
        <p:spPr>
          <a:xfrm>
            <a:off x="0" y="1773360"/>
            <a:ext cx="2340000" cy="17906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400"/>
                            </p:stCondLst>
                            <p:childTnLst>
                              <p:par>
                                <p:cTn id="1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24000" y="692280"/>
            <a:ext cx="820872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Список использованных печатных источ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1. А.Т.Смирнов, Б.И.Мишин, В.А.Васнев – «Основы безопасности жизнедеятельности» 10 класс. – М., «Просвещение, 200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68360" y="0"/>
            <a:ext cx="429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Bookman Old Style"/>
              </a:rPr>
              <a:t>Р е с у р с 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1700280"/>
            <a:ext cx="86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Активные ссылки на страницы материалов в Интерне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2133720"/>
            <a:ext cx="8569080" cy="14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047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татья «Вооруженные силы РФ»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Bookman Old Style"/>
                <a:hlinkClick r:id="rId2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Bookman Old Style"/>
                <a:hlinkClick r:id="rId3"/>
              </a:rPr>
              <a:t>://www.grandars.ru/shkola/bezopasnostzhiznedeyatelnosti/vooruzhennye-sily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047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татья «Структура ВС РФ»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Bookman Old Style"/>
                <a:hlinkClick r:id="rId4"/>
              </a:rPr>
              <a:t>http://www.liveinternet.ru/users/4427164/rubric/22231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3789360"/>
            <a:ext cx="767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Статья «Структура Вооруженных сил РФ (ВС РФ)» http://www.statesymbol.ru/russymbols/arms/20050422/39595877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4437000"/>
            <a:ext cx="87487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Активные ссылки на использованные изображения Интерне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</a:rPr>
              <a:t>Изображение В.В. Путина http://www.regnum.ru/news/polit/1641768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</a:rPr>
              <a:t>Изображение Шайгу С.К. http://ipim.ru/news/5454.html?pr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</a:rPr>
              <a:t>Изображение  коллективные вооружённые силы http://www.skyscrapercity.com/showthread.php?p=1000407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</a:rPr>
              <a:t>Изображение «Дом.задание» http://www.hms.henderson.k12.nc.us/teachers/lrogers-web/Dear%20Par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Bookman Old Style"/>
              </a:rPr>
              <a:t>Тема урока: </a:t>
            </a:r>
            <a:r>
              <a:rPr b="1" lang="en-US" sz="4000" spc="-1" strike="noStrike" u="sng">
                <a:solidFill>
                  <a:srgbClr val="0000ff"/>
                </a:solidFill>
                <a:uFillTx/>
                <a:latin typeface="Bookman Old Style"/>
              </a:rPr>
              <a:t>Структура ВС РФ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893080" cy="31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marL="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Bookman Old Style"/>
              </a:rPr>
              <a:t>Цель урок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1. Познакомить с историей создания и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развития организационной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структуры ВС Росс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2. Изучить назначение и возможност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видов Вооруженных си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3. Формировать чувство гордости за ВС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Росс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Bookman Old Style"/>
              </a:rPr>
              <a:t>Изучаемые вопросы на урок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1. История создания Вооруженных  сил Р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2. Организационная структура ВС Р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3. Виды Вооруженных сил РФ и род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войск, их назначение и боевые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возмож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2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2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20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20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20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20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2000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2000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2000"/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2000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2000"/>
                                        <p:tgtEl>
                                          <p:spTgt spid="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1187280" y="1197000"/>
            <a:ext cx="698508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23640" y="1268280"/>
            <a:ext cx="540036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Bookman Old Style"/>
              </a:rPr>
              <a:t>Общее руководство ВС РФ осуществляет Верховный главнокомандующий. </a:t>
            </a:r>
            <a:r>
              <a:rPr b="0" lang="en-US" sz="2800" spc="-1" strike="noStrike">
                <a:solidFill>
                  <a:srgbClr val="800000"/>
                </a:solidFill>
                <a:latin typeface="Bookman Old Style"/>
              </a:rPr>
              <a:t>Конституция и Федеральный закон «Об обороне»</a:t>
            </a:r>
            <a:r>
              <a:rPr b="0" lang="en-US" sz="2800" spc="-1" strike="noStrike">
                <a:solidFill>
                  <a:srgbClr val="0000cc"/>
                </a:solidFill>
                <a:latin typeface="Bookman Old Style"/>
              </a:rPr>
              <a:t> устанавливают, что Верховным Главнокомандующим Вооружёнными Силами является 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Президент России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189000"/>
            <a:ext cx="7704360" cy="107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ff">
                  <a:alpha val="59215"/>
                </a:srgbClr>
              </a:gs>
              <a:gs pos="50000">
                <a:srgbClr val="ffffff">
                  <a:alpha val="55294"/>
                </a:srgbClr>
              </a:gs>
              <a:gs pos="100000">
                <a:srgbClr val="0099ff">
                  <a:alpha val="59215"/>
                </a:srgbClr>
              </a:gs>
            </a:gsLst>
            <a:lin ang="5400000"/>
          </a:gra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089080" y="332640"/>
            <a:ext cx="527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man Old Style"/>
              </a:rPr>
              <a:t>Руководство ВС РФ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867280" y="1844640"/>
            <a:ext cx="3087720" cy="39736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3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635280" y="3860640"/>
            <a:ext cx="5508720" cy="31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Bookman Old Style"/>
              </a:rPr>
              <a:t>Также он осуществляет и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Bookman Old Style"/>
              </a:rPr>
              <a:t>полномочия,  возложенные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Bookman Old Style"/>
              </a:rPr>
              <a:t>него Конституцией</a:t>
            </a:r>
            <a:r>
              <a:rPr b="1" lang="en-US" sz="2400" spc="-1" strike="noStrike">
                <a:solidFill>
                  <a:srgbClr val="0000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Российской Федерации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федеральными  закон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Конституция РФ.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rcRect l="7625" t="0" r="7625" b="0"/>
          <a:stretch/>
        </p:blipFill>
        <p:spPr>
          <a:xfrm>
            <a:off x="0" y="3884760"/>
            <a:ext cx="3600360" cy="2973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79280" y="1197000"/>
            <a:ext cx="896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Bookman Old Style"/>
              </a:rPr>
              <a:t>- </a:t>
            </a:r>
            <a:r>
              <a:rPr b="1" lang="en-US" sz="2400" spc="-1" strike="noStrike">
                <a:solidFill>
                  <a:srgbClr val="0000ff"/>
                </a:solidFill>
                <a:latin typeface="Bookman Old Style"/>
              </a:rPr>
              <a:t>утверждает концепцию армии и флот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Bookman Old Style"/>
              </a:rPr>
              <a:t>- назначает и освобождает от должности высшее военное  командова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Bookman Old Style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Bookman Old Style"/>
              </a:rPr>
              <a:t>- объявляет состояние войны в случае нападения на РФ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Bookman Old Style"/>
              </a:rPr>
              <a:t>- отдаёт приказы Вооружённым Силам на ведение военных действ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9280" y="0"/>
            <a:ext cx="878544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ff">
                  <a:alpha val="59215"/>
                </a:srgbClr>
              </a:gs>
              <a:gs pos="50000">
                <a:srgbClr val="ffffff">
                  <a:alpha val="55294"/>
                </a:srgbClr>
              </a:gs>
              <a:gs pos="100000">
                <a:srgbClr val="0099ff">
                  <a:alpha val="59215"/>
                </a:srgbClr>
              </a:gs>
            </a:gsLst>
            <a:lin ang="5400000"/>
          </a:gra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Bookman Old Style"/>
              </a:rPr>
              <a:t>Верховный Главнокомандующ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24000" y="549000"/>
            <a:ext cx="547200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Bookman Old Style"/>
              </a:rPr>
              <a:t>Непосредственное руководство ВС РФ осуществляет </a:t>
            </a:r>
            <a:r>
              <a:rPr b="1" lang="en-US" sz="2800" spc="-1" strike="noStrike">
                <a:solidFill>
                  <a:srgbClr val="800000"/>
                </a:solidFill>
                <a:latin typeface="Bookman Old Style"/>
              </a:rPr>
              <a:t>Министр обороны РФ</a:t>
            </a:r>
            <a:r>
              <a:rPr b="1" lang="en-US" sz="2800" spc="-1" strike="noStrike">
                <a:solidFill>
                  <a:srgbClr val="0000cc"/>
                </a:solidFill>
                <a:latin typeface="Bookman Old Style"/>
              </a:rPr>
              <a:t> через Министерство обороны. Министерство обороны реализует политику в области строительства ВС РФ в соответствии с решениями высших органов государственной 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власти Российской Федерации.</a:t>
            </a:r>
            <a:r>
              <a:rPr b="1" lang="en-US" sz="2800" spc="-1" strike="noStrike">
                <a:solidFill>
                  <a:srgbClr val="0000cc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rcRect l="0" t="0" r="2820" b="0"/>
          <a:stretch/>
        </p:blipFill>
        <p:spPr>
          <a:xfrm>
            <a:off x="5940360" y="404640"/>
            <a:ext cx="2930760" cy="4537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796000" y="5084640"/>
            <a:ext cx="2879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Шойгу Сергей Кужугетови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Министр обороны Российской Федерации, генерал арм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04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058920" y="1341360"/>
            <a:ext cx="577188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Bookman Old Style"/>
              </a:rPr>
              <a:t>Вооружённые Силы Российской Федерации состоят из: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Bookman Old Style"/>
              </a:rPr>
              <a:t>органов управления, объединений, соединений, воинских частей, учреждений,             </a:t>
            </a: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а также военно-учебных заведен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2241720"/>
            <a:ext cx="3132000" cy="2347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0" y="4602240"/>
            <a:ext cx="3132000" cy="2255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132000" cy="22366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203640" y="189000"/>
            <a:ext cx="5761080" cy="107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ff">
                  <a:alpha val="59215"/>
                </a:srgbClr>
              </a:gs>
              <a:gs pos="50000">
                <a:srgbClr val="ffffff">
                  <a:alpha val="55294"/>
                </a:srgbClr>
              </a:gs>
              <a:gs pos="100000">
                <a:srgbClr val="0099ff">
                  <a:alpha val="59215"/>
                </a:srgbClr>
              </a:gs>
            </a:gsLst>
            <a:lin ang="5400000"/>
          </a:gra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3419640" y="-360"/>
            <a:ext cx="512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33"/>
                </a:solidFill>
                <a:latin typeface="Bookman Old Style"/>
              </a:rPr>
              <a:t>Состав ВС Р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1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4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78920" y="0"/>
            <a:ext cx="554508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Bookman Old Style"/>
              </a:rPr>
              <a:t>Часть ВС РФ может входить в состав коллективных вооружённых сил или находиться под объединённым командованием в соответствии с международными </a:t>
            </a:r>
            <a:r>
              <a:rPr b="1" lang="en-US" sz="3600" spc="-1" strike="noStrike">
                <a:solidFill>
                  <a:srgbClr val="0000ff"/>
                </a:solidFill>
                <a:latin typeface="Bookman Old Style"/>
              </a:rPr>
              <a:t>договорами </a:t>
            </a: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Российской Федерац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796000" y="2368440"/>
            <a:ext cx="3348000" cy="2276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5796000" y="4629240"/>
            <a:ext cx="3348000" cy="22287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5796000" y="0"/>
            <a:ext cx="3348000" cy="23893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Rectangle 3"/>
          <p:cNvGrpSpPr/>
          <p:nvPr/>
        </p:nvGrpSpPr>
        <p:grpSpPr>
          <a:xfrm>
            <a:off x="0" y="1557360"/>
            <a:ext cx="2242800" cy="2231640"/>
            <a:chOff x="0" y="1557360"/>
            <a:chExt cx="2242800" cy="2231640"/>
          </a:xfrm>
        </p:grpSpPr>
        <p:pic>
          <p:nvPicPr>
            <p:cNvPr id="72" name="Rectangle 3" descr=""/>
            <p:cNvPicPr/>
            <p:nvPr/>
          </p:nvPicPr>
          <p:blipFill>
            <a:blip r:embed="rId2"/>
            <a:stretch/>
          </p:blipFill>
          <p:spPr>
            <a:xfrm>
              <a:off x="0" y="1557360"/>
              <a:ext cx="2242800" cy="22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176040" y="1693440"/>
              <a:ext cx="1899720" cy="19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88920" indent="-9720" algn="ctr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Rectangle 3"/>
          <p:cNvSpPr/>
          <p:nvPr/>
        </p:nvSpPr>
        <p:spPr>
          <a:xfrm>
            <a:off x="250920" y="1844640"/>
            <a:ext cx="2592360" cy="2448000"/>
          </a:xfrm>
          <a:prstGeom prst="pi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360" indent="-93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ookman Old Style"/>
              </a:rPr>
              <a:t>1. Сухопут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ookman Old Style"/>
              </a:rPr>
              <a:t>войс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ookman Old Style"/>
              </a:rPr>
              <a:t>(С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Rectangle 3"/>
          <p:cNvGrpSpPr/>
          <p:nvPr/>
        </p:nvGrpSpPr>
        <p:grpSpPr>
          <a:xfrm>
            <a:off x="6227640" y="1700280"/>
            <a:ext cx="2242800" cy="2231640"/>
            <a:chOff x="6227640" y="1700280"/>
            <a:chExt cx="2242800" cy="2231640"/>
          </a:xfrm>
        </p:grpSpPr>
        <p:pic>
          <p:nvPicPr>
            <p:cNvPr id="76" name="Rectangle 3" descr=""/>
            <p:cNvPicPr/>
            <p:nvPr/>
          </p:nvPicPr>
          <p:blipFill>
            <a:blip r:embed="rId3"/>
            <a:stretch/>
          </p:blipFill>
          <p:spPr>
            <a:xfrm>
              <a:off x="6227640" y="1700280"/>
              <a:ext cx="2242800" cy="22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6403680" y="1836360"/>
              <a:ext cx="1899720" cy="19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88920" indent="-9720" algn="ctr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Rectangle 3"/>
          <p:cNvGrpSpPr/>
          <p:nvPr/>
        </p:nvGrpSpPr>
        <p:grpSpPr>
          <a:xfrm>
            <a:off x="3132000" y="3213000"/>
            <a:ext cx="2242800" cy="2231640"/>
            <a:chOff x="3132000" y="3213000"/>
            <a:chExt cx="2242800" cy="2231640"/>
          </a:xfrm>
        </p:grpSpPr>
        <p:pic>
          <p:nvPicPr>
            <p:cNvPr id="79" name="Rectangle 3" descr=""/>
            <p:cNvPicPr/>
            <p:nvPr/>
          </p:nvPicPr>
          <p:blipFill>
            <a:blip r:embed="rId4"/>
            <a:stretch/>
          </p:blipFill>
          <p:spPr>
            <a:xfrm>
              <a:off x="3132000" y="3213000"/>
              <a:ext cx="2242800" cy="22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3308040" y="3349080"/>
              <a:ext cx="1899720" cy="19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88920" indent="-9720" algn="ctr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3"/>
          <p:cNvSpPr/>
          <p:nvPr/>
        </p:nvSpPr>
        <p:spPr>
          <a:xfrm>
            <a:off x="6443640" y="1844640"/>
            <a:ext cx="2484360" cy="2305080"/>
          </a:xfrm>
          <a:prstGeom prst="pi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97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man Old Style"/>
              </a:rPr>
              <a:t>3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97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man Old Style"/>
              </a:rPr>
              <a:t>Военн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97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man Old Style"/>
              </a:rPr>
              <a:t>Морск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97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man Old Style"/>
              </a:rPr>
              <a:t>Фло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97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man Old Style"/>
              </a:rPr>
              <a:t>(ВМФ).</a:t>
            </a:r>
            <a:r>
              <a:rPr b="0" lang="ru-RU" sz="2400" spc="-1" strike="noStrike">
                <a:solidFill>
                  <a:srgbClr val="ffff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3419640" y="3500280"/>
            <a:ext cx="2447640" cy="2305080"/>
          </a:xfrm>
          <a:prstGeom prst="pi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97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man Old Style"/>
              </a:rPr>
              <a:t>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97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man Old Style"/>
              </a:rPr>
              <a:t>Военн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97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man Old Style"/>
              </a:rPr>
              <a:t>воздуш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97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man Old Style"/>
              </a:rPr>
              <a:t>силы (ВВС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5280" y="189000"/>
            <a:ext cx="8569440" cy="11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ff">
                  <a:alpha val="59215"/>
                </a:srgbClr>
              </a:gs>
              <a:gs pos="50000">
                <a:srgbClr val="ffffff">
                  <a:alpha val="55294"/>
                </a:srgbClr>
              </a:gs>
              <a:gs pos="100000">
                <a:srgbClr val="0099ff">
                  <a:alpha val="59215"/>
                </a:srgbClr>
              </a:gs>
            </a:gsLst>
            <a:lin ang="5400000"/>
          </a:gra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250920" y="333360"/>
            <a:ext cx="835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Bookman Old Style"/>
              </a:rPr>
              <a:t>Структурно ВС РФ делятся на виды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Rectangle 3"/>
          <p:cNvGrpSpPr/>
          <p:nvPr/>
        </p:nvGrpSpPr>
        <p:grpSpPr>
          <a:xfrm>
            <a:off x="324000" y="1916280"/>
            <a:ext cx="2242800" cy="2231640"/>
            <a:chOff x="324000" y="1916280"/>
            <a:chExt cx="2242800" cy="2231640"/>
          </a:xfrm>
        </p:grpSpPr>
        <p:pic>
          <p:nvPicPr>
            <p:cNvPr id="86" name="Rectangle 3" descr=""/>
            <p:cNvPicPr/>
            <p:nvPr/>
          </p:nvPicPr>
          <p:blipFill>
            <a:blip r:embed="rId2"/>
            <a:stretch/>
          </p:blipFill>
          <p:spPr>
            <a:xfrm>
              <a:off x="324000" y="1916280"/>
              <a:ext cx="2242800" cy="22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500040" y="2052360"/>
              <a:ext cx="1899720" cy="19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88920" indent="-9720" algn="ctr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Rectangle 3"/>
          <p:cNvSpPr/>
          <p:nvPr/>
        </p:nvSpPr>
        <p:spPr>
          <a:xfrm>
            <a:off x="539640" y="2060640"/>
            <a:ext cx="3384720" cy="2448000"/>
          </a:xfrm>
          <a:prstGeom prst="pi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360" indent="-93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ookman Old Style"/>
              </a:rPr>
              <a:t>Ракет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ookman Old Style"/>
              </a:rPr>
              <a:t>войс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ookman Old Style"/>
              </a:rPr>
              <a:t>стратегическ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ookman Old Style"/>
              </a:rPr>
              <a:t>назнач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ookman Old Style"/>
              </a:rPr>
              <a:t>(РВС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Rectangle 3"/>
          <p:cNvGrpSpPr/>
          <p:nvPr/>
        </p:nvGrpSpPr>
        <p:grpSpPr>
          <a:xfrm>
            <a:off x="5508720" y="1916280"/>
            <a:ext cx="2242800" cy="2231640"/>
            <a:chOff x="5508720" y="1916280"/>
            <a:chExt cx="2242800" cy="2231640"/>
          </a:xfrm>
        </p:grpSpPr>
        <p:pic>
          <p:nvPicPr>
            <p:cNvPr id="90" name="Rectangle 3" descr=""/>
            <p:cNvPicPr/>
            <p:nvPr/>
          </p:nvPicPr>
          <p:blipFill>
            <a:blip r:embed="rId3"/>
            <a:stretch/>
          </p:blipFill>
          <p:spPr>
            <a:xfrm>
              <a:off x="5508720" y="1916280"/>
              <a:ext cx="2242800" cy="22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5684760" y="2052360"/>
              <a:ext cx="1899720" cy="19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88920" indent="-9720" algn="ctr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Rectangle 3"/>
          <p:cNvGrpSpPr/>
          <p:nvPr/>
        </p:nvGrpSpPr>
        <p:grpSpPr>
          <a:xfrm>
            <a:off x="3276720" y="4626000"/>
            <a:ext cx="2242800" cy="2231640"/>
            <a:chOff x="3276720" y="4626000"/>
            <a:chExt cx="2242800" cy="2231640"/>
          </a:xfrm>
        </p:grpSpPr>
        <p:pic>
          <p:nvPicPr>
            <p:cNvPr id="93" name="Rectangle 3" descr=""/>
            <p:cNvPicPr/>
            <p:nvPr/>
          </p:nvPicPr>
          <p:blipFill>
            <a:blip r:embed="rId4"/>
            <a:stretch/>
          </p:blipFill>
          <p:spPr>
            <a:xfrm>
              <a:off x="3276720" y="4626000"/>
              <a:ext cx="2242800" cy="22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3452760" y="4762080"/>
              <a:ext cx="1899720" cy="19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88920" indent="-9720" algn="ctr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Rectangle 3"/>
          <p:cNvSpPr/>
          <p:nvPr/>
        </p:nvSpPr>
        <p:spPr>
          <a:xfrm>
            <a:off x="5867280" y="1989000"/>
            <a:ext cx="2881440" cy="2448000"/>
          </a:xfrm>
          <a:prstGeom prst="pi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972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8920" indent="-97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ookman Old Style"/>
              </a:rPr>
              <a:t>Воздушн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97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ookman Old Style"/>
              </a:rPr>
              <a:t>десант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97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ookman Old Style"/>
              </a:rPr>
              <a:t>войс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97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ookman Old Style"/>
              </a:rPr>
              <a:t>(ВДВ)</a:t>
            </a:r>
            <a:r>
              <a:rPr b="0" lang="en-US" sz="2400" spc="-1" strike="noStrike">
                <a:solidFill>
                  <a:srgbClr val="ffff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3492360" y="4365720"/>
            <a:ext cx="2808360" cy="2305080"/>
          </a:xfrm>
          <a:prstGeom prst="pi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360" indent="-936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ookman Old Style"/>
              </a:rPr>
              <a:t>Космическ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ookman Old Style"/>
              </a:rPr>
              <a:t>войска (К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0"/>
            <a:ext cx="8569440" cy="1844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ff">
                  <a:alpha val="59215"/>
                </a:srgbClr>
              </a:gs>
              <a:gs pos="50000">
                <a:srgbClr val="ffffff">
                  <a:alpha val="55294"/>
                </a:srgbClr>
              </a:gs>
              <a:gs pos="100000">
                <a:srgbClr val="0099ff">
                  <a:alpha val="59215"/>
                </a:srgbClr>
              </a:gs>
            </a:gsLst>
            <a:lin ang="5400000"/>
          </a:gra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250920" y="549360"/>
            <a:ext cx="8604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Bookman Old Style"/>
              </a:rPr>
              <a:t>В настоящее время Вооружённые Силы РФ состоят</a:t>
            </a:r>
            <a:r>
              <a:rPr b="1" lang="en-US" sz="4000" spc="-1" strike="noStrike">
                <a:solidFill>
                  <a:srgbClr val="800000"/>
                </a:solidFill>
                <a:latin typeface="Bookman Old Style"/>
              </a:rPr>
              <a:t> из трёх родов войск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1T10:37:39Z</dcterms:created>
  <dc:creator>Ильдар</dc:creator>
  <dc:description/>
  <dc:language>en-US</dc:language>
  <cp:lastModifiedBy>Мама</cp:lastModifiedBy>
  <dcterms:modified xsi:type="dcterms:W3CDTF">2014-04-18T11:32:09Z</dcterms:modified>
  <cp:revision>49</cp:revision>
  <dc:subject/>
  <dc:title>Шаблон для презентации</dc:title>
</cp:coreProperties>
</file>