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E839-90A9-4360-9B7C-30EE2C359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B83F-22B0-4345-8734-F77FEE26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9E16-77A8-4E28-B027-1C0EB3E77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015E-CA1B-46CF-808D-26D379289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2C92-F9BE-4DA3-9416-41D140FA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C9E3-16B4-44A2-9E13-23649B25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6C77-E1BF-4593-97AA-4878B3C1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B628-0EF0-4281-A92F-5714B093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12B1-6634-4A12-ABD6-53EBE976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999E-6D95-4BC7-A969-5FE7ADD3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75E6-CAAC-41CB-BD7C-2A0F9411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CC30-0B6E-415E-AAA3-DDC46A53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536B-7E3D-43CF-8802-BF6CB0AEF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randars.ru/shkola/bezopasnostzhiznedeyatelnosti/vooruzhennye-sily.html" TargetMode="External"/><Relationship Id="rId3" Type="http://schemas.openxmlformats.org/officeDocument/2006/relationships/hyperlink" Target="http://www.grandars.ru/shkola/bezopasnostzhiznedeyatelnosti/vooruzhennye-sily.html" TargetMode="External"/><Relationship Id="rId4" Type="http://schemas.openxmlformats.org/officeDocument/2006/relationships/hyperlink" Target="http://www.liveinternet.ru/users/4427164/rubric/2223197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042920" y="2852640"/>
            <a:ext cx="698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ма: "Структура ВС РФ"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3223440" y="4572360"/>
            <a:ext cx="471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ookman Old Style"/>
              </a:rPr>
              <a:t>Учитель ОБ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ookman Old Style"/>
              </a:rPr>
              <a:t>МБОУ СОШ № 9 с. Воль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ookman Old Style"/>
              </a:rPr>
              <a:t>Кошехабльского рай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ookman Old Style"/>
              </a:rPr>
              <a:t>Р. Адыге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еремов Султан Амерби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419280" y="259920"/>
            <a:ext cx="5545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Bookman Old Style"/>
              </a:rPr>
              <a:t>Тыл ВС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 </a:t>
            </a:r>
            <a:r>
              <a:rPr b="1" lang="en-US" sz="2800" spc="-1" strike="noStrike">
                <a:solidFill>
                  <a:srgbClr val="333399"/>
                </a:solidFill>
                <a:latin typeface="Bookman Old Style"/>
              </a:rPr>
              <a:t>– это силы и средства, осуществляющие тыловое и техническое обеспечение армии и флота в мирное и военное время. В состав тыла входят различные части, учреждения и подразделения, необходимые для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выполнения следующих основных задач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2276640"/>
            <a:ext cx="3348000" cy="2511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348000" cy="2300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0" y="4629240"/>
            <a:ext cx="3348000" cy="22287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Bookman Old Style"/>
              </a:rPr>
              <a:t>- постоянно содержать запас материальных средств и обеспечивать ими войс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Bookman Old Style"/>
              </a:rPr>
              <a:t>- осуществлять подготовку, эксплуатацию, техническое прикрытие и восстановление путей сообщения и транспортных средст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Bookman Old Style"/>
              </a:rPr>
              <a:t>- обеспечивать воинские перевозки всех вид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Bookman Old Style"/>
              </a:rPr>
              <a:t>- восстанавливать военную технику, имущество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292720" y="4183200"/>
            <a:ext cx="3851280" cy="2674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Bookman Old Style"/>
              </a:rPr>
              <a:t>Вопросы для закрепления материала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27280" y="1628640"/>
            <a:ext cx="651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Bookman Old Style"/>
              </a:rPr>
              <a:t>а) Что такое род войск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Bookman Old Style"/>
              </a:rPr>
              <a:t>б) В чем заключается основное различие между родами войск?</a:t>
            </a: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Bookman Old Style"/>
              </a:rPr>
              <a:t>в) Назвать рода войс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68360" y="1125360"/>
            <a:ext cx="200340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800"/>
                            </p:stCondLst>
                            <p:childTnLst>
                              <p:par>
                                <p:cTn id="1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840"/>
                            </p:stCondLst>
                            <p:childTnLst>
                              <p:par>
                                <p:cTn id="1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354400" y="981000"/>
            <a:ext cx="678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Bookman Old Style"/>
              </a:rPr>
              <a:t>Изучить материал учебника на стр.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Bookman Old Style"/>
              </a:rPr>
              <a:t>Уметь дать определение терминам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3200" spc="-1" strike="noStrike">
                <a:solidFill>
                  <a:srgbClr val="990033"/>
                </a:solidFill>
                <a:latin typeface="Bookman Old Style"/>
              </a:rPr>
              <a:t>«вид ВС», «род войск», «объединение», «соединение», «воинская часть».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3200" spc="-1" strike="noStrike">
                <a:solidFill>
                  <a:srgbClr val="0033cc"/>
                </a:solidFill>
                <a:latin typeface="Bookman Old Style"/>
              </a:rPr>
              <a:t>Знать структуру ВС РФ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15600" y="160200"/>
            <a:ext cx="594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Bookman Old Style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1424" t="0" r="6910" b="0"/>
          <a:stretch/>
        </p:blipFill>
        <p:spPr>
          <a:xfrm>
            <a:off x="0" y="1773360"/>
            <a:ext cx="2340000" cy="1790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400"/>
                            </p:stCondLst>
                            <p:childTnLst>
                              <p:par>
                                <p:cTn id="1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24000" y="692280"/>
            <a:ext cx="8208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Список использованных печатных источ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1. А.Т.Смирнов, Б.И.Мишин, В.А.Васнев – «Основы безопасности жизнедеятельности» 10 класс. – М., «Просвещение, 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68360" y="0"/>
            <a:ext cx="429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Bookman Old Style"/>
              </a:rPr>
              <a:t>Р е с у р с 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170028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Активные ссылки на страницы материалов в Интерн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2133720"/>
            <a:ext cx="8569080" cy="14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047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татья «Вооруженные силы РФ»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ookman Old Style"/>
                <a:hlinkClick r:id="rId2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ookman Old Style"/>
                <a:hlinkClick r:id="rId3"/>
              </a:rPr>
              <a:t>://www.grandars.ru/shkola/bezopasnostzhiznedeyatelnosti/vooruzhennye-sil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047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татья «Структура ВС РФ»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ookman Old Style"/>
                <a:hlinkClick r:id="rId4"/>
              </a:rPr>
              <a:t>http://www.liveinternet.ru/users/4427164/rubric/22231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3789360"/>
            <a:ext cx="767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Статья «Структура Вооруженных сил РФ (ВС РФ)» http://www.statesymbol.ru/russymbols/arms/20050422/39595877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4437000"/>
            <a:ext cx="8748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Активные ссылки на использованные изображения Интерн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Изображение В.В. Путина http://www.regnum.ru/news/polit/1641768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Изображение Шайгу С.К. http://ipim.ru/news/5454.html?pr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Изображение  коллективные вооружённые силы http://www.skyscrapercity.com/showthread.php?p=1000407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Изображение «Дом.задание» http://www.hms.henderson.k12.nc.us/teachers/lrogers-web/Dear%20Par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Bookman Old Style"/>
              </a:rPr>
              <a:t>Тема урока: </a:t>
            </a:r>
            <a:r>
              <a:rPr b="1" lang="en-US" sz="4000" spc="-1" strike="noStrike" u="sng">
                <a:solidFill>
                  <a:srgbClr val="0000ff"/>
                </a:solidFill>
                <a:uFillTx/>
                <a:latin typeface="Bookman Old Style"/>
              </a:rPr>
              <a:t>Структура ВС РФ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893080" cy="31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Bookman Old Style"/>
              </a:rPr>
              <a:t>Цель уро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1. Познакомить с историей создания и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развития организационно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структуры ВС Росс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2. Изучить назначение и возможност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видов Вооруженных с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3. Формировать чувство гордости за ВС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Росс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Bookman Old Style"/>
              </a:rPr>
              <a:t>Изучаемые вопросы на уро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1. История создания Вооруженных  сил Р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2. Организационная структура ВС Р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3. Виды Вооруженных сил РФ и род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войск, их назначение и боевые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возмож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2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20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20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200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2000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200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2000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1187280" y="1197000"/>
            <a:ext cx="69850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23640" y="1268280"/>
            <a:ext cx="54003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Bookman Old Style"/>
              </a:rPr>
              <a:t>Общее руководство ВС РФ осуществляет Верховный главнокомандующий. </a:t>
            </a:r>
            <a:r>
              <a:rPr b="0" lang="en-US" sz="2800" spc="-1" strike="noStrike">
                <a:solidFill>
                  <a:srgbClr val="800000"/>
                </a:solidFill>
                <a:latin typeface="Bookman Old Style"/>
              </a:rPr>
              <a:t>Конституция и Федеральный закон «Об обороне»</a:t>
            </a:r>
            <a:r>
              <a:rPr b="0" lang="en-US" sz="2800" spc="-1" strike="noStrike">
                <a:solidFill>
                  <a:srgbClr val="0000cc"/>
                </a:solidFill>
                <a:latin typeface="Bookman Old Style"/>
              </a:rPr>
              <a:t> устанавливают, что Верховным Главнокомандующим Вооружёнными Силами является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Президент России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89000"/>
            <a:ext cx="7704360" cy="107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ff">
                  <a:alpha val="59215"/>
                </a:srgbClr>
              </a:gs>
              <a:gs pos="50000">
                <a:srgbClr val="ffffff">
                  <a:alpha val="55294"/>
                </a:srgbClr>
              </a:gs>
              <a:gs pos="100000">
                <a:srgbClr val="0099ff">
                  <a:alpha val="59215"/>
                </a:srgbClr>
              </a:gs>
            </a:gsLst>
            <a:lin ang="5400000"/>
          </a:gra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89080" y="332640"/>
            <a:ext cx="527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Руководство ВС РФ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867280" y="1844640"/>
            <a:ext cx="3087720" cy="39736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3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635280" y="3860640"/>
            <a:ext cx="5508720" cy="31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Bookman Old Style"/>
              </a:rPr>
              <a:t>Также он осуществляет и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Bookman Old Style"/>
              </a:rPr>
              <a:t>полномочия,  возложенные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Bookman Old Style"/>
              </a:rPr>
              <a:t>него Конституцией</a:t>
            </a:r>
            <a:r>
              <a:rPr b="1" lang="en-US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Российской Федераци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федеральными  закон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Конституция РФ.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rcRect l="7625" t="0" r="7625" b="0"/>
          <a:stretch/>
        </p:blipFill>
        <p:spPr>
          <a:xfrm>
            <a:off x="0" y="3884760"/>
            <a:ext cx="3600360" cy="2973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1197000"/>
            <a:ext cx="896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Bookman Old Style"/>
              </a:rPr>
              <a:t>- </a:t>
            </a:r>
            <a:r>
              <a:rPr b="1" lang="en-US" sz="2400" spc="-1" strike="noStrike">
                <a:solidFill>
                  <a:srgbClr val="0000ff"/>
                </a:solidFill>
                <a:latin typeface="Bookman Old Style"/>
              </a:rPr>
              <a:t>утверждает концепцию армии и фло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man Old Style"/>
              </a:rPr>
              <a:t>- назначает и освобождает от должности высшее военное  командов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Bookman Old Style"/>
              </a:rPr>
              <a:t>- объявляет состояние войны в случае нападения на РФ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man Old Style"/>
              </a:rPr>
              <a:t>- отдаёт приказы Вооружённым Силам на ведение военных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0"/>
            <a:ext cx="878544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ff">
                  <a:alpha val="59215"/>
                </a:srgbClr>
              </a:gs>
              <a:gs pos="50000">
                <a:srgbClr val="ffffff">
                  <a:alpha val="55294"/>
                </a:srgbClr>
              </a:gs>
              <a:gs pos="100000">
                <a:srgbClr val="0099ff">
                  <a:alpha val="59215"/>
                </a:srgbClr>
              </a:gs>
            </a:gsLst>
            <a:lin ang="5400000"/>
          </a:gra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Bookman Old Style"/>
              </a:rPr>
              <a:t>Верховный Главнокомандующ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54720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Bookman Old Style"/>
              </a:rPr>
              <a:t>Непосредственное руководство ВС РФ осуществляет </a:t>
            </a:r>
            <a:r>
              <a:rPr b="1" lang="en-US" sz="2800" spc="-1" strike="noStrike">
                <a:solidFill>
                  <a:srgbClr val="800000"/>
                </a:solidFill>
                <a:latin typeface="Bookman Old Style"/>
              </a:rPr>
              <a:t>Министр обороны РФ</a:t>
            </a:r>
            <a:r>
              <a:rPr b="1" lang="en-US" sz="2800" spc="-1" strike="noStrike">
                <a:solidFill>
                  <a:srgbClr val="0000cc"/>
                </a:solidFill>
                <a:latin typeface="Bookman Old Style"/>
              </a:rPr>
              <a:t> через Министерство обороны. Министерство обороны реализует политику в области строительства ВС РФ в соответствии с решениями высших органов государственной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власти Российской Федерации.</a:t>
            </a:r>
            <a:r>
              <a:rPr b="1" lang="en-US" sz="2800" spc="-1" strike="noStrike">
                <a:solidFill>
                  <a:srgbClr val="0000cc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rcRect l="0" t="0" r="2820" b="0"/>
          <a:stretch/>
        </p:blipFill>
        <p:spPr>
          <a:xfrm>
            <a:off x="5940360" y="404640"/>
            <a:ext cx="2930760" cy="4537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796000" y="5084640"/>
            <a:ext cx="287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Шойгу Сергей Кужугет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Министр обороны Российской Федерации, генерал ар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04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58920" y="1341360"/>
            <a:ext cx="57718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Bookman Old Style"/>
              </a:rPr>
              <a:t>Вооружённые Силы Российской Федерации состоят из: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Bookman Old Style"/>
              </a:rPr>
              <a:t>органов управления, объединений, соединений, воинских частей, учреждений,             </a:t>
            </a: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а также военно-учебных заведе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2241720"/>
            <a:ext cx="3132000" cy="2347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0" y="4602240"/>
            <a:ext cx="3132000" cy="2255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132000" cy="2236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203640" y="189000"/>
            <a:ext cx="5761080" cy="107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ff">
                  <a:alpha val="59215"/>
                </a:srgbClr>
              </a:gs>
              <a:gs pos="50000">
                <a:srgbClr val="ffffff">
                  <a:alpha val="55294"/>
                </a:srgbClr>
              </a:gs>
              <a:gs pos="100000">
                <a:srgbClr val="0099ff">
                  <a:alpha val="59215"/>
                </a:srgbClr>
              </a:gs>
            </a:gsLst>
            <a:lin ang="5400000"/>
          </a:gra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3419640" y="-360"/>
            <a:ext cx="512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33"/>
                </a:solidFill>
                <a:latin typeface="Bookman Old Style"/>
              </a:rPr>
              <a:t>Состав ВС Р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1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4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78920" y="0"/>
            <a:ext cx="55450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Bookman Old Style"/>
              </a:rPr>
              <a:t>Часть ВС РФ может входить в состав коллективных вооружённых сил или находиться под объединённым командованием в соответствии с международными </a:t>
            </a:r>
            <a:r>
              <a:rPr b="1" lang="en-US" sz="3600" spc="-1" strike="noStrike">
                <a:solidFill>
                  <a:srgbClr val="0000ff"/>
                </a:solidFill>
                <a:latin typeface="Bookman Old Style"/>
              </a:rPr>
              <a:t>договорами </a:t>
            </a: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Российской Федера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796000" y="2368440"/>
            <a:ext cx="3348000" cy="2276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796000" y="4629240"/>
            <a:ext cx="3348000" cy="2228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5796000" y="0"/>
            <a:ext cx="3348000" cy="23893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Rectangle 3"/>
          <p:cNvGrpSpPr/>
          <p:nvPr/>
        </p:nvGrpSpPr>
        <p:grpSpPr>
          <a:xfrm>
            <a:off x="0" y="1557360"/>
            <a:ext cx="2242800" cy="2231640"/>
            <a:chOff x="0" y="1557360"/>
            <a:chExt cx="2242800" cy="2231640"/>
          </a:xfrm>
        </p:grpSpPr>
        <p:pic>
          <p:nvPicPr>
            <p:cNvPr id="72" name="Rectangle 3" descr=""/>
            <p:cNvPicPr/>
            <p:nvPr/>
          </p:nvPicPr>
          <p:blipFill>
            <a:blip r:embed="rId2"/>
            <a:stretch/>
          </p:blipFill>
          <p:spPr>
            <a:xfrm>
              <a:off x="0" y="1557360"/>
              <a:ext cx="2242800" cy="22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176040" y="1693440"/>
              <a:ext cx="1899720" cy="19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8920" indent="-9720" algn="ctr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Rectangle 3"/>
          <p:cNvSpPr/>
          <p:nvPr/>
        </p:nvSpPr>
        <p:spPr>
          <a:xfrm>
            <a:off x="250920" y="1844640"/>
            <a:ext cx="2592360" cy="2448000"/>
          </a:xfrm>
          <a:prstGeom prst="pi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360" indent="-93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1. Сухопут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войс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(С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Rectangle 3"/>
          <p:cNvGrpSpPr/>
          <p:nvPr/>
        </p:nvGrpSpPr>
        <p:grpSpPr>
          <a:xfrm>
            <a:off x="6227640" y="1700280"/>
            <a:ext cx="2242800" cy="2231640"/>
            <a:chOff x="6227640" y="1700280"/>
            <a:chExt cx="2242800" cy="2231640"/>
          </a:xfrm>
        </p:grpSpPr>
        <p:pic>
          <p:nvPicPr>
            <p:cNvPr id="76" name="Rectangle 3" descr=""/>
            <p:cNvPicPr/>
            <p:nvPr/>
          </p:nvPicPr>
          <p:blipFill>
            <a:blip r:embed="rId3"/>
            <a:stretch/>
          </p:blipFill>
          <p:spPr>
            <a:xfrm>
              <a:off x="6227640" y="1700280"/>
              <a:ext cx="2242800" cy="22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6403680" y="1836360"/>
              <a:ext cx="1899720" cy="19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8920" indent="-9720" algn="ctr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Rectangle 3"/>
          <p:cNvGrpSpPr/>
          <p:nvPr/>
        </p:nvGrpSpPr>
        <p:grpSpPr>
          <a:xfrm>
            <a:off x="3132000" y="3213000"/>
            <a:ext cx="2242800" cy="2231640"/>
            <a:chOff x="3132000" y="3213000"/>
            <a:chExt cx="2242800" cy="2231640"/>
          </a:xfrm>
        </p:grpSpPr>
        <p:pic>
          <p:nvPicPr>
            <p:cNvPr id="79" name="Rectangle 3" descr=""/>
            <p:cNvPicPr/>
            <p:nvPr/>
          </p:nvPicPr>
          <p:blipFill>
            <a:blip r:embed="rId4"/>
            <a:stretch/>
          </p:blipFill>
          <p:spPr>
            <a:xfrm>
              <a:off x="3132000" y="3213000"/>
              <a:ext cx="2242800" cy="22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3308040" y="3349080"/>
              <a:ext cx="1899720" cy="19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8920" indent="-9720" algn="ctr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3"/>
          <p:cNvSpPr/>
          <p:nvPr/>
        </p:nvSpPr>
        <p:spPr>
          <a:xfrm>
            <a:off x="6443640" y="1844640"/>
            <a:ext cx="2484360" cy="2305080"/>
          </a:xfrm>
          <a:prstGeom prst="pi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9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9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Воен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9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Морск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9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Фло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9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(ВМФ).</a:t>
            </a:r>
            <a:r>
              <a:rPr b="0" lang="ru-RU" sz="2400" spc="-1" strike="noStrike">
                <a:solidFill>
                  <a:srgbClr val="ffff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3419640" y="3500280"/>
            <a:ext cx="2447640" cy="2305080"/>
          </a:xfrm>
          <a:prstGeom prst="pi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9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9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Воен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9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воздуш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9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силы (ВВ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189000"/>
            <a:ext cx="856944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ff">
                  <a:alpha val="59215"/>
                </a:srgbClr>
              </a:gs>
              <a:gs pos="50000">
                <a:srgbClr val="ffffff">
                  <a:alpha val="55294"/>
                </a:srgbClr>
              </a:gs>
              <a:gs pos="100000">
                <a:srgbClr val="0099ff">
                  <a:alpha val="59215"/>
                </a:srgbClr>
              </a:gs>
            </a:gsLst>
            <a:lin ang="5400000"/>
          </a:gra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250920" y="333360"/>
            <a:ext cx="835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Bookman Old Style"/>
              </a:rPr>
              <a:t>Структурно ВС РФ делятся на виды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Rectangle 3"/>
          <p:cNvGrpSpPr/>
          <p:nvPr/>
        </p:nvGrpSpPr>
        <p:grpSpPr>
          <a:xfrm>
            <a:off x="324000" y="1916280"/>
            <a:ext cx="2242800" cy="2231640"/>
            <a:chOff x="324000" y="1916280"/>
            <a:chExt cx="2242800" cy="2231640"/>
          </a:xfrm>
        </p:grpSpPr>
        <p:pic>
          <p:nvPicPr>
            <p:cNvPr id="86" name="Rectangle 3" descr=""/>
            <p:cNvPicPr/>
            <p:nvPr/>
          </p:nvPicPr>
          <p:blipFill>
            <a:blip r:embed="rId2"/>
            <a:stretch/>
          </p:blipFill>
          <p:spPr>
            <a:xfrm>
              <a:off x="324000" y="1916280"/>
              <a:ext cx="2242800" cy="22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500040" y="2052360"/>
              <a:ext cx="1899720" cy="19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8920" indent="-9720" algn="ctr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Rectangle 3"/>
          <p:cNvSpPr/>
          <p:nvPr/>
        </p:nvSpPr>
        <p:spPr>
          <a:xfrm>
            <a:off x="539640" y="2060640"/>
            <a:ext cx="3384720" cy="2448000"/>
          </a:xfrm>
          <a:prstGeom prst="pi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360" indent="-93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Ракет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войс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стратегическ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назнач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(РВС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Rectangle 3"/>
          <p:cNvGrpSpPr/>
          <p:nvPr/>
        </p:nvGrpSpPr>
        <p:grpSpPr>
          <a:xfrm>
            <a:off x="5508720" y="1916280"/>
            <a:ext cx="2242800" cy="2231640"/>
            <a:chOff x="5508720" y="1916280"/>
            <a:chExt cx="2242800" cy="2231640"/>
          </a:xfrm>
        </p:grpSpPr>
        <p:pic>
          <p:nvPicPr>
            <p:cNvPr id="90" name="Rectangle 3" descr=""/>
            <p:cNvPicPr/>
            <p:nvPr/>
          </p:nvPicPr>
          <p:blipFill>
            <a:blip r:embed="rId3"/>
            <a:stretch/>
          </p:blipFill>
          <p:spPr>
            <a:xfrm>
              <a:off x="5508720" y="1916280"/>
              <a:ext cx="2242800" cy="22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5684760" y="2052360"/>
              <a:ext cx="1899720" cy="19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8920" indent="-9720" algn="ctr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Rectangle 3"/>
          <p:cNvGrpSpPr/>
          <p:nvPr/>
        </p:nvGrpSpPr>
        <p:grpSpPr>
          <a:xfrm>
            <a:off x="3276720" y="4626000"/>
            <a:ext cx="2242800" cy="2231640"/>
            <a:chOff x="3276720" y="4626000"/>
            <a:chExt cx="2242800" cy="2231640"/>
          </a:xfrm>
        </p:grpSpPr>
        <p:pic>
          <p:nvPicPr>
            <p:cNvPr id="93" name="Rectangle 3" descr=""/>
            <p:cNvPicPr/>
            <p:nvPr/>
          </p:nvPicPr>
          <p:blipFill>
            <a:blip r:embed="rId4"/>
            <a:stretch/>
          </p:blipFill>
          <p:spPr>
            <a:xfrm>
              <a:off x="3276720" y="4626000"/>
              <a:ext cx="2242800" cy="22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3452760" y="4762080"/>
              <a:ext cx="1899720" cy="19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8920" indent="-9720" algn="ctr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3"/>
          <p:cNvSpPr/>
          <p:nvPr/>
        </p:nvSpPr>
        <p:spPr>
          <a:xfrm>
            <a:off x="5867280" y="1989000"/>
            <a:ext cx="2881440" cy="2448000"/>
          </a:xfrm>
          <a:prstGeom prst="pi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972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9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Воздуш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9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десант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9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войс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9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(ВДВ)</a:t>
            </a:r>
            <a:r>
              <a:rPr b="0" lang="en-US" sz="2400" spc="-1" strike="noStrike">
                <a:solidFill>
                  <a:srgbClr val="ffff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492360" y="4365720"/>
            <a:ext cx="2808360" cy="2305080"/>
          </a:xfrm>
          <a:prstGeom prst="pi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360" indent="-936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Косм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войска (К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0"/>
            <a:ext cx="8569440" cy="1844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ff">
                  <a:alpha val="59215"/>
                </a:srgbClr>
              </a:gs>
              <a:gs pos="50000">
                <a:srgbClr val="ffffff">
                  <a:alpha val="55294"/>
                </a:srgbClr>
              </a:gs>
              <a:gs pos="100000">
                <a:srgbClr val="0099ff">
                  <a:alpha val="59215"/>
                </a:srgbClr>
              </a:gs>
            </a:gsLst>
            <a:lin ang="5400000"/>
          </a:gra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250920" y="549360"/>
            <a:ext cx="860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Bookman Old Style"/>
              </a:rPr>
              <a:t>В настоящее время Вооружённые Силы РФ состоят</a:t>
            </a:r>
            <a:r>
              <a:rPr b="1" lang="en-US" sz="4000" spc="-1" strike="noStrike">
                <a:solidFill>
                  <a:srgbClr val="800000"/>
                </a:solidFill>
                <a:latin typeface="Bookman Old Style"/>
              </a:rPr>
              <a:t> из трёх родов войск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0:37:39Z</dcterms:created>
  <dc:creator>Ильдар</dc:creator>
  <dc:description/>
  <dc:language>en-US</dc:language>
  <cp:lastModifiedBy>Мама</cp:lastModifiedBy>
  <dcterms:modified xsi:type="dcterms:W3CDTF">2014-04-18T11:32:09Z</dcterms:modified>
  <cp:revision>49</cp:revision>
  <dc:subject/>
  <dc:title>Шаблон для презентации</dc:title>
</cp:coreProperties>
</file>