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A242-9ADC-4E38-BDD0-82EDC6868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A0D6-E8D2-4383-8D5E-BB01FC11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9C29-79CA-403F-9C3C-76CB7703B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DABE-E8CD-419D-A1C5-996D1B2F5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5AFC-C479-4BDD-9D0F-BCBA589D2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8425-B2AC-433E-9094-DFE18D4A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56D3-9034-4CB8-BC2D-110CB84F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0AE0-BEB7-45B5-9C68-7987820D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DC20-8AEC-49AA-A358-043AFC3E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606D-E800-4963-85A5-54E0D734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E795-7D13-441A-8128-9DAF8352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10BF-4BC9-46CE-B0E4-B0E6EFC5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A456-6591-421D-95A5-35395741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E8F5-2385-416D-A295-EEB67CC5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894D-D584-45FD-8DAD-490F1595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34F0-52AB-4EA0-B377-BE099FFC6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A429-0018-4EDE-9868-8BFC4E849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A3334-35C0-4C05-BFC6-BDA962426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4F42F-C1E2-4CED-BD8B-6EA12984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2479E-6F3A-4733-86F8-2D59A40C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F0ED1-24AA-4DAB-9450-94A71C47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DFCAB-93C6-474B-B378-33CD67F8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172A-921A-49CD-B741-86FCBA47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1CAEB-DE4D-4475-A20F-0F5E6BB0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62D8F-CE96-4312-BC1D-D979A18E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2F344-DBA7-4CC5-8FB4-CC21202A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07C23-CFC9-4F70-BEFB-956637C7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399BA-F4A7-4EC1-9B51-DC1A7F74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43DBC-1B24-4974-9E3A-0B989052E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3FE06-D945-4381-B571-D1197F901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2C19C-6A59-4881-9766-D5170C896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E426E-6E36-48F1-95B5-AE3DA94D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260EF-6C7D-416C-A0EC-28012A15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DC3D-53C5-4061-90CF-F37C93F1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1D83D-0BF9-4D8B-8D1B-4CED2C05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3046D-717F-4270-A460-EC17E711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E0DB1-6067-436F-9EDD-718767FA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CBDE1-CED0-4738-9AE7-288F8192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E2385-378D-4D8E-9458-0259F4D9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531A3-4CC2-49E1-8D5F-09183963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01152-972F-40BF-BC6D-40FD7C1F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7A094-B522-4CA3-8173-A5C5625B0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43120-2243-4B3F-989D-1E2DDE6EA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6C4A4-7382-458E-B945-849E3821C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2CAA-63CB-4DBF-BD39-8390D933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48B01-B58F-4EBD-8242-F634EA42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2494A-A3BE-4592-A4FE-0CE51818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E4A1A-24C4-4B57-BC5C-50EF580A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F1D42-14F4-49F4-B254-62B9E595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294DE-9A5F-4B44-8170-E190FED0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5DE8B-61EF-4207-B08A-91D5B912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44752-A779-49F5-A510-60E1DD2E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78546-F391-44B3-B536-746563E5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9876A-8D86-4E9B-8132-A85A5691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AB0B0-A94A-4391-95FB-C44C38159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39BB-F2D6-49E0-85F4-B52A618D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8850B-0376-4265-A4A2-00FD67ACC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64747-9083-42DF-BB14-2EED8A31D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CA1FF-DC63-4E62-95EA-0E6A066F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691F2-94E2-44E1-AD1B-CD80D935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9D0AB-646A-467A-B30E-515337CA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DB21E-99EF-48E3-A105-F93EB1E9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1EF94-52DB-470C-BCCF-7F4FE37D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46642-5997-452F-BA27-DAE97019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B9AF5-43B8-4710-97D0-7D9A71D8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B0775-9980-49AF-B92E-86C84BB2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3D07-12EC-4256-AE7C-ABA51E2F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DBA17-AE64-446D-B4DD-A7C00815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BCA4F-C17E-41F1-A2BD-87F1B8054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9A847-B3A0-4966-98DA-614B55C2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98B17-749D-4FC8-BAA6-A92D54ADE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1BB20-7937-41BD-B7DF-9EC17FD8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8CDBD-0D36-4C20-B7EA-E7A51791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469F8-CAFB-4A85-8EA4-8C9F8781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431DC-AB00-484C-AD46-DD3722B8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5F6BC-3945-4190-96FB-83840FA8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99CE0-8E4E-4CAD-B4F6-EE0ABD36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936D-9A16-4AF9-A7C1-552C2DBF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B493E-9A0E-49D0-BA5C-7CA2B4D4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2A47E-D3DE-4634-AD5C-88E92D9A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17A33-3DE6-42BB-AEB5-0F1BD294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4F260-1C76-406B-9EBB-097088CA9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0F659-90A9-4442-A222-EAE7F76FA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F886-B1DB-4AE3-B5CF-63B76D05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E9CB-610C-4C46-A4F7-DAE9901E5856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E59E-E7AE-42F8-8F51-F0392F24E6F4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3D6D-7D86-41FB-B220-6E12ACE96547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3446-FBC8-4EE5-B24D-FCB4329AE4D8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2CD7-2CEC-474D-93F4-DA4447D563C4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B3BF-59AB-4FD1-BB34-7902AF35EFE5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3760" y="12175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520" y="12826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3760" y="12823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6760" y="137016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101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6760" y="143496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8640" y="14731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400" y="15382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8640" y="15379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14D2-F3D7-4CBD-B5A0-DC5B752FAB94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712800" y="4248000"/>
            <a:ext cx="7980480" cy="231804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Обобщающий урок по теме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41624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ru-RU" sz="4000" spc="-1" strike="noStrike">
                <a:solidFill>
                  <a:srgbClr val="835e01"/>
                </a:solidFill>
                <a:latin typeface="Consolas"/>
              </a:rPr>
              <a:t>Рефлексия: «Радуга чувств»</a:t>
            </a:r>
            <a:br>
              <a:rPr sz="4000"/>
            </a:br>
            <a:r>
              <a:rPr b="0" lang="ru-RU" sz="2000" spc="-1" strike="noStrike">
                <a:solidFill>
                  <a:srgbClr val="835e01"/>
                </a:solidFill>
                <a:latin typeface="Consolas"/>
              </a:rPr>
              <a:t>«Эмоции- это чёткий показатель на правильном ли мы пути …».</a:t>
            </a:r>
            <a:br>
              <a:rPr sz="2000"/>
            </a:b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9" name="Схема 3" descr=""/>
          <p:cNvPicPr/>
          <p:nvPr/>
        </p:nvPicPr>
        <p:blipFill>
          <a:blip r:embed="rId1"/>
          <a:stretch/>
        </p:blipFill>
        <p:spPr>
          <a:xfrm>
            <a:off x="1517760" y="1706400"/>
            <a:ext cx="6108480" cy="4797720"/>
          </a:xfrm>
          <a:prstGeom prst="rect">
            <a:avLst/>
          </a:prstGeom>
          <a:ln w="0">
            <a:noFill/>
          </a:ln>
        </p:spPr>
      </p:pic>
      <p:pic>
        <p:nvPicPr>
          <p:cNvPr id="400" name="Схема 4" descr=""/>
          <p:cNvPicPr/>
          <p:nvPr/>
        </p:nvPicPr>
        <p:blipFill>
          <a:blip r:embed="rId2"/>
          <a:stretch/>
        </p:blipFill>
        <p:spPr>
          <a:xfrm>
            <a:off x="1560600" y="2560680"/>
            <a:ext cx="612612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120204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en-US" sz="4000" spc="-1" strike="noStrike">
                <a:solidFill>
                  <a:srgbClr val="c58d01"/>
                </a:solidFill>
                <a:latin typeface="Consolas"/>
              </a:rPr>
              <a:t>II</a:t>
            </a:r>
            <a:r>
              <a:rPr b="0" lang="ru-RU" sz="4000" spc="-1" strike="noStrike">
                <a:solidFill>
                  <a:srgbClr val="c58d01"/>
                </a:solidFill>
                <a:latin typeface="Consolas"/>
              </a:rPr>
              <a:t>«Радуга чувств»</a:t>
            </a:r>
            <a:br>
              <a:rPr sz="4000"/>
            </a:br>
            <a:r>
              <a:rPr b="0" lang="ru-RU" sz="2800" spc="-1" strike="noStrike">
                <a:solidFill>
                  <a:srgbClr val="c58d01"/>
                </a:solidFill>
                <a:latin typeface="Consolas"/>
              </a:rPr>
              <a:t>« Мысли создают эмоции…»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2" name="Содержимое 4" descr=""/>
          <p:cNvPicPr/>
          <p:nvPr/>
        </p:nvPicPr>
        <p:blipFill>
          <a:blip r:embed="rId1"/>
          <a:stretch/>
        </p:blipFill>
        <p:spPr>
          <a:xfrm>
            <a:off x="907920" y="1773360"/>
            <a:ext cx="778536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1eeff"/>
                </a:solidFill>
                <a:latin typeface="Consolas"/>
              </a:rPr>
              <a:t>Цель:</a:t>
            </a: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ru-RU" sz="1800" spc="-1" strike="noStrike">
                <a:solidFill>
                  <a:srgbClr val="c1eeff"/>
                </a:solidFill>
                <a:latin typeface="Consolas"/>
              </a:rPr>
              <a:t>интеграция учебного материала по теме «Строение клетки»,как способ синхронизированного обучения, направленный на развитие познавательного интереса.</a:t>
            </a:r>
            <a:endParaRPr b="0" lang="en-US" sz="1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1" name="Содержимое 5" descr=""/>
          <p:cNvPicPr/>
          <p:nvPr/>
        </p:nvPicPr>
        <p:blipFill>
          <a:blip r:embed="rId1"/>
          <a:stretch/>
        </p:blipFill>
        <p:spPr>
          <a:xfrm>
            <a:off x="785880" y="1706400"/>
            <a:ext cx="7986600" cy="4597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eea"/>
                </a:solidFill>
                <a:latin typeface="Consolas"/>
              </a:rPr>
              <a:t> </a:t>
            </a:r>
            <a:r>
              <a:rPr b="0" lang="ru-RU" sz="3600" spc="-1" strike="noStrike">
                <a:solidFill>
                  <a:srgbClr val="007eea"/>
                </a:solidFill>
                <a:latin typeface="Consolas"/>
              </a:rPr>
              <a:t>Основные аспекты изучения строения клетки: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3" name="Содержимое 3" descr=""/>
          <p:cNvPicPr/>
          <p:nvPr/>
        </p:nvPicPr>
        <p:blipFill>
          <a:blip r:embed="rId1"/>
          <a:stretch/>
        </p:blipFill>
        <p:spPr>
          <a:xfrm>
            <a:off x="907920" y="1779480"/>
            <a:ext cx="7785360" cy="4584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solidFill>
            <a:srgbClr val="5fe8d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f75"/>
                </a:solidFill>
                <a:latin typeface="Consolas"/>
              </a:rPr>
              <a:t>   </a:t>
            </a:r>
            <a:r>
              <a:rPr b="0" lang="ru-RU" sz="4000" spc="-1" strike="noStrike">
                <a:solidFill>
                  <a:srgbClr val="003f75"/>
                </a:solidFill>
                <a:latin typeface="Consolas"/>
              </a:rPr>
              <a:t>Создание «кластера»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5a50"/>
                </a:solidFill>
                <a:latin typeface="Corbel"/>
              </a:rPr>
              <a:t>Методы цитологии:                                                                Клеточная теория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Световая микроскопия                                                                                                                   Т. Шванн и М. Шлейден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Электронная микроскопия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Сканирующая электронная микроскопия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Ультрацентрифугирования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5a50"/>
                </a:solidFill>
                <a:latin typeface="Corbel"/>
              </a:rPr>
              <a:t>Многообразие клеток:                                                             Органоиды клетки: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Прокариотические                                                                                                    Ядро и ядрышко. Митохондрии. ЭПС. Комплекс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бактерии                                                                                                                                    Гольджи. Лизосомы. Клеточный центр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Эукариотические                                                </a:t>
            </a:r>
            <a:r>
              <a:rPr b="0" lang="ru-RU" sz="2000" spc="-1" strike="noStrike">
                <a:solidFill>
                  <a:srgbClr val="0d5a50"/>
                </a:solidFill>
                <a:latin typeface="Corbel"/>
              </a:rPr>
              <a:t>Цитоплазматическая мембрана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5a50"/>
                </a:solidFill>
                <a:latin typeface="Corbe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растения, грибы, животные</a:t>
            </a:r>
            <a:r>
              <a:rPr b="0" lang="ru-RU" sz="2000" spc="-1" strike="noStrike">
                <a:solidFill>
                  <a:srgbClr val="0d5a50"/>
                </a:solidFill>
                <a:latin typeface="Corbel"/>
              </a:rPr>
              <a:t>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Белковые молекулы. Молекулы липидов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Овал 3"/>
          <p:cNvSpPr/>
          <p:nvPr/>
        </p:nvSpPr>
        <p:spPr>
          <a:xfrm>
            <a:off x="3286080" y="3857760"/>
            <a:ext cx="3357720" cy="914400"/>
          </a:xfrm>
          <a:prstGeom prst="ellipse">
            <a:avLst/>
          </a:prstGeom>
          <a:solidFill>
            <a:srgbClr val="138677"/>
          </a:solidFill>
          <a:ln w="19080">
            <a:solidFill>
              <a:srgbClr val="0d5a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5a50"/>
                </a:solidFill>
                <a:latin typeface="Corbel"/>
              </a:rPr>
              <a:t>Строение клет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7" name="Прямая со стрелкой 5"/>
          <p:cNvCxnSpPr/>
          <p:nvPr/>
        </p:nvCxnSpPr>
        <p:spPr>
          <a:xfrm>
            <a:off x="5928840" y="4643280"/>
            <a:ext cx="715320" cy="64332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cxnSp>
        <p:nvCxnSpPr>
          <p:cNvPr id="378" name="Прямая со стрелкой 7"/>
          <p:cNvCxnSpPr>
            <a:stCxn id="376" idx="3"/>
          </p:cNvCxnSpPr>
          <p:nvPr/>
        </p:nvCxnSpPr>
        <p:spPr>
          <a:xfrm flipH="1">
            <a:off x="3071520" y="4638240"/>
            <a:ext cx="707040" cy="64836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cxnSp>
        <p:nvCxnSpPr>
          <p:cNvPr id="379" name="Прямая со стрелкой 10"/>
          <p:cNvCxnSpPr>
            <a:stCxn id="376" idx="4"/>
          </p:cNvCxnSpPr>
          <p:nvPr/>
        </p:nvCxnSpPr>
        <p:spPr>
          <a:xfrm>
            <a:off x="4964760" y="4772160"/>
            <a:ext cx="35640" cy="72936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cxnSp>
        <p:nvCxnSpPr>
          <p:cNvPr id="380" name="Прямая со стрелкой 14"/>
          <p:cNvCxnSpPr/>
          <p:nvPr/>
        </p:nvCxnSpPr>
        <p:spPr>
          <a:xfrm flipV="1">
            <a:off x="5571000" y="3214440"/>
            <a:ext cx="715320" cy="71496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cxnSp>
        <p:nvCxnSpPr>
          <p:cNvPr id="381" name="Прямая со стрелкой 19"/>
          <p:cNvCxnSpPr/>
          <p:nvPr/>
        </p:nvCxnSpPr>
        <p:spPr>
          <a:xfrm flipH="1" flipV="1">
            <a:off x="3142800" y="3357360"/>
            <a:ext cx="1000800" cy="78624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</p:spTree>
  </p:cSld>
  <p:transition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28800" y="500040"/>
            <a:ext cx="7772400" cy="914400"/>
          </a:xfrm>
          <a:prstGeom prst="rect">
            <a:avLst/>
          </a:prstGeom>
          <a:solidFill>
            <a:srgbClr val="138677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5a50"/>
                </a:solidFill>
                <a:latin typeface="Consolas"/>
              </a:rPr>
              <a:t>Интеграция учебных знаний: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3" name="Содержимое 3" descr=""/>
          <p:cNvPicPr/>
          <p:nvPr/>
        </p:nvPicPr>
        <p:blipFill>
          <a:blip r:embed="rId1"/>
          <a:stretch/>
        </p:blipFill>
        <p:spPr>
          <a:xfrm>
            <a:off x="901800" y="1700280"/>
            <a:ext cx="7797600" cy="5529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8229600" cy="1162080"/>
          </a:xfrm>
          <a:prstGeom prst="rect">
            <a:avLst/>
          </a:prstGeom>
          <a:solidFill>
            <a:srgbClr val="00192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a1ca"/>
                </a:solidFill>
                <a:latin typeface="Consolas"/>
              </a:rPr>
              <a:t>Работа в группах.</a:t>
            </a:r>
            <a:br>
              <a:rPr sz="3600"/>
            </a:br>
            <a:r>
              <a:rPr b="0" lang="ru-RU" sz="1400" spc="-1" strike="noStrike">
                <a:solidFill>
                  <a:srgbClr val="f7a1ca"/>
                </a:solidFill>
                <a:latin typeface="Consolas"/>
              </a:rPr>
              <a:t>«Всякое обучение по своей сути есть создание условий для развития личности…»</a:t>
            </a:r>
            <a:br>
              <a:rPr sz="1400"/>
            </a:br>
            <a:r>
              <a:rPr b="0" lang="ru-RU" sz="1400" spc="-1" strike="noStrike">
                <a:solidFill>
                  <a:srgbClr val="f7a1ca"/>
                </a:solidFill>
                <a:latin typeface="Consolas"/>
              </a:rPr>
              <a:t>                                                                  И.С. Якиманская</a:t>
            </a:r>
            <a:endParaRPr b="0" lang="en-US" sz="1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434960"/>
            <a:ext cx="3171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0b3d"/>
                </a:solidFill>
                <a:latin typeface="Corbel"/>
              </a:rPr>
              <a:t>Инструктаж учителя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Работая в группах учащиеся готовят ответ на 5  вопросов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Соблюдается регламент выступления-3 мин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При ответе соблюдается: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А). Логика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Б). Ответ развёрнутый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В). Наглядность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285800" y="1434960"/>
            <a:ext cx="4071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0b3d"/>
                </a:solidFill>
                <a:latin typeface="Corbel"/>
              </a:rPr>
              <a:t>   </a:t>
            </a:r>
            <a:r>
              <a:rPr b="0" lang="ru-RU" sz="2800" spc="-1" strike="noStrike">
                <a:solidFill>
                  <a:srgbClr val="750b3d"/>
                </a:solidFill>
                <a:latin typeface="Corbel"/>
              </a:rPr>
              <a:t>Критерии оценки учащихся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a1ca"/>
                </a:solidFill>
                <a:latin typeface="Corbel"/>
              </a:rPr>
              <a:t>«5»- все требования соблюдены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a1ca"/>
                </a:solidFill>
                <a:latin typeface="Corbel"/>
              </a:rPr>
              <a:t>«4»-нет чёткой логики  в изложении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a1ca"/>
                </a:solidFill>
                <a:latin typeface="Corbel"/>
              </a:rPr>
              <a:t>«3»-не все вопросы раскрыты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pull dir="r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644720" y="2999880"/>
            <a:ext cx="4041720" cy="34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1. Какие молекулы органических веществ присутствуют в мембране клеток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2. Как свойства липидов влияют на функции, выполняемые цитоплазматической мембраной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3. Какое имеет значение для клетки гидрофильность молекул липидов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4. Молекулы белка располагаются на внешней, внутренней стороне мембраны либо пронизывают её насквозь, почему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5*. Какова роль углеводов, расположенных на поверхности белковых молекул в мемб</a:t>
            </a: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-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           </a:t>
            </a: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ране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4720" y="512640"/>
            <a:ext cx="7772400" cy="914400"/>
          </a:xfrm>
          <a:prstGeom prst="rect">
            <a:avLst/>
          </a:prstGeom>
          <a:solidFill>
            <a:srgbClr val="f7a1ca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50b3d"/>
                </a:solidFill>
                <a:latin typeface="Consolas"/>
              </a:rPr>
              <a:t>Вопросы для обсужден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809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marL="65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157a"/>
                </a:solidFill>
                <a:latin typeface="Corbel"/>
              </a:rPr>
              <a:t>I</a:t>
            </a:r>
            <a:r>
              <a:rPr b="1" lang="ru-RU" sz="4000" spc="-1" strike="noStrike">
                <a:solidFill>
                  <a:srgbClr val="ea157a"/>
                </a:solidFill>
                <a:latin typeface="Corbel"/>
              </a:rPr>
              <a:t>  Физики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44720" y="1809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marL="65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157a"/>
                </a:solidFill>
                <a:latin typeface="Corbel"/>
              </a:rPr>
              <a:t>II</a:t>
            </a:r>
            <a:r>
              <a:rPr b="1" lang="ru-RU" sz="4000" spc="-1" strike="noStrike">
                <a:solidFill>
                  <a:srgbClr val="ea157a"/>
                </a:solidFill>
                <a:latin typeface="Corbel"/>
              </a:rPr>
              <a:t>   Химики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2999880"/>
            <a:ext cx="4040280" cy="34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1. Какой принцип лежит в основе строения школьного микроскопа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2.В чём отличие светового микроскопа от электронного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3. Почему возникла идея использования в микроскопе вместо луча света поток электронов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4. Какие возможности для изучения клетки раскрывает сканирующий микроскоп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5*. Для выделения и изучения отдельных органоидов клетки используют метод  ультрацентрифугирования. На какие знания из области физики опирается этот метод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solidFill>
            <a:srgbClr val="f7a1ca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 </a:t>
            </a:r>
            <a:r>
              <a:rPr b="0" lang="en-US" sz="4000" spc="-1" strike="noStrike">
                <a:solidFill>
                  <a:srgbClr val="b0105c"/>
                </a:solidFill>
                <a:latin typeface="Consolas"/>
              </a:rPr>
              <a:t>II</a:t>
            </a:r>
            <a:r>
              <a:rPr b="0" lang="ru-RU" sz="4000" spc="-1" strike="noStrike">
                <a:solidFill>
                  <a:srgbClr val="b0105c"/>
                </a:solidFill>
                <a:latin typeface="Consolas"/>
              </a:rPr>
              <a:t>.Вопросы для обсуждения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28800" y="1714680"/>
            <a:ext cx="7772400" cy="4572000"/>
          </a:xfrm>
          <a:prstGeom prst="rect">
            <a:avLst/>
          </a:prstGeom>
          <a:solidFill>
            <a:srgbClr val="750b3d"/>
          </a:solidFill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7d6ff"/>
                </a:solidFill>
                <a:latin typeface="Corbel"/>
              </a:rPr>
              <a:t>Биологи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73af"/>
                </a:solidFill>
                <a:latin typeface="Corbel"/>
              </a:rPr>
              <a:t>I</a:t>
            </a:r>
            <a:r>
              <a:rPr b="0" lang="ru-RU" sz="1200" spc="-1" strike="noStrike">
                <a:solidFill>
                  <a:srgbClr val="f273af"/>
                </a:solidFill>
                <a:latin typeface="Corbel"/>
              </a:rPr>
              <a:t> «Цитоплазма и цитоскелет»                                                             </a:t>
            </a:r>
            <a:r>
              <a:rPr b="0" lang="en-US" sz="1200" spc="-1" strike="noStrike">
                <a:solidFill>
                  <a:srgbClr val="f273af"/>
                </a:solidFill>
                <a:latin typeface="Corbel"/>
              </a:rPr>
              <a:t>II</a:t>
            </a:r>
            <a:r>
              <a:rPr b="0" lang="ru-RU" sz="1200" spc="-1" strike="noStrike">
                <a:solidFill>
                  <a:srgbClr val="f273af"/>
                </a:solidFill>
                <a:latin typeface="Corbel"/>
              </a:rPr>
              <a:t> «Ядро- как важнейшая структура клеток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1. Чем представлена цитоплазма клетки?                                                                             </a:t>
            </a:r>
            <a:r>
              <a:rPr b="0" lang="ru-RU" sz="1200" spc="-1" strike="noStrike">
                <a:solidFill>
                  <a:srgbClr val="f273af"/>
                </a:solidFill>
                <a:latin typeface="Corbel"/>
              </a:rPr>
              <a:t>эукариот»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2. Как называется основное вещество цитоплазмы?                1. Каково строение ядра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3.Что относится к опорной системе цитоплазмы?                      2. Почему ядро называют  «хранилищем»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4. Каково строение микротрубочек?                                                            наследственной информаци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5. Какую функцию выполняет цитоплазма?                                   3. Что такое хромосомный набор,  каковы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его разновидност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4. Какие хромосомы называют гомологичным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5. Отличается ли набор хромосом соматических и              </a:t>
            </a:r>
            <a:r>
              <a:rPr b="0" lang="en-US" sz="1200" spc="-1" strike="noStrike">
                <a:solidFill>
                  <a:srgbClr val="f273af"/>
                </a:solidFill>
                <a:latin typeface="Corbel"/>
              </a:rPr>
              <a:t>III</a:t>
            </a:r>
            <a:r>
              <a:rPr b="0" lang="ru-RU" sz="1200" spc="-1" strike="noStrike">
                <a:solidFill>
                  <a:srgbClr val="f273af"/>
                </a:solidFill>
                <a:latin typeface="Corbel"/>
              </a:rPr>
              <a:t>     «Мембранные органоиды»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                           половых клеток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Какая структура располагается вблизи ядра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Каково  строение и функции рибосом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Значение  комплекса Гольдж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Почему митохондрии называют « силовыми станциями» клетк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Какова роль хлоропластов и клеточных включений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solidFill>
            <a:srgbClr val="138677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fe8d6"/>
                </a:solidFill>
                <a:latin typeface="Consolas"/>
              </a:rPr>
              <a:t>Бланк подведения итогов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-360" y="1809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fe8d6"/>
                </a:solidFill>
                <a:latin typeface="Corbel"/>
              </a:rPr>
              <a:t>Групп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56760" y="2286000"/>
            <a:ext cx="4040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     Физик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I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    Химик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II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   Биологи-</a:t>
            </a: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V   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Биологи</a:t>
            </a: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-I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V    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Биологи</a:t>
            </a: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-II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fe8d6"/>
                </a:solidFill>
                <a:latin typeface="Corbel"/>
              </a:rPr>
              <a:t>Общий балл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457440" y="1809360"/>
            <a:ext cx="568656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fe8d6"/>
                </a:solidFill>
                <a:latin typeface="Corbel"/>
              </a:rPr>
              <a:t>  </a:t>
            </a:r>
            <a:r>
              <a:rPr b="0" lang="ru-RU" sz="3000" spc="-1" strike="noStrike">
                <a:solidFill>
                  <a:srgbClr val="5fe8d6"/>
                </a:solidFill>
                <a:latin typeface="Corbel"/>
              </a:rPr>
              <a:t>Вопросы:            1  2   3  4  5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7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2" dur="2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9T15:36:13Z</dcterms:created>
  <dc:creator>Admin</dc:creator>
  <dc:description/>
  <dc:language>en-US</dc:language>
  <cp:lastModifiedBy>Admin</cp:lastModifiedBy>
  <dcterms:modified xsi:type="dcterms:W3CDTF">2013-03-10T16:59:44Z</dcterms:modified>
  <cp:revision>42</cp:revision>
  <dc:subject/>
  <dc:title>«Строение клетки»     10 класс учебник: «Общая биология 10-11 класс А.А. Каменский, Е.А. Криксунов, В.В. Пасечник «Дрофа», 2010г.   </dc:title>
</cp:coreProperties>
</file>