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5FE-7F38-4282-B09A-574BF56A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B2F-71CA-4163-8463-329C717D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BCD-ADBA-4512-8230-487BF9E3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4FF-6D43-4991-8324-E5F1858B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A3F7-CE3B-4E5A-B5C7-6BC17FF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31B4-BBD7-446B-8594-8047072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A86-3866-46FB-85AC-4322B307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4C06-EC36-46BF-8CE4-3F0BC441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D1A2-AE16-48AF-90BE-5374E825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457C-66E3-415D-AB3C-1203BB16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C28D-7231-4754-9420-C9DEB11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E52-C084-47EF-9F1C-56A3F3BD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947-C98F-42FC-AE76-2441196C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D84E-CEF3-4DB5-9B76-8AFC697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3DD0-7AEE-44A2-B4CB-3C572620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8D05-1F32-402E-BDD1-B923EF8B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696-E785-40A9-8609-59A6A917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B41F-2E50-4498-89A1-BFFCB4D7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1577B-F7B6-41D8-A392-7133A4E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E480-155C-4644-9DE1-6618572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C4A5-B38F-429D-A4D0-A1F56A24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B1B7-2239-4080-AC78-8B272322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B84-AC8D-48EA-9BEC-19D860EB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5167-DE13-484F-BC47-55D96B91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F9BC-90A5-4B89-B73C-687B237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A3DF-8D11-47A9-BDF9-C3C5D2A6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2BA5-90FE-4092-A17E-98041D41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A35F-38FF-42F5-8DCE-1F9DC88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6831-147B-4B94-8D97-C910966A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3200-E5A5-4C17-9279-74AFF4F8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A98C-FD35-47FA-AF65-D0FC7BC5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F188-68A1-47A9-B302-48EEC10F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CA1F-7892-4C16-BE28-4A3CEF8C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801-013F-451F-B22A-222116F4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C2F8C-3F0C-45D6-B51B-966D0942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43D0-EAD9-4DAD-A2DF-8986B1D3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B9C15-4E72-4237-A1A0-E0CEF27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3194-7D23-4B70-8FDA-94092AB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68A4-FB63-4D82-AC23-9D293C1A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1516-170E-4048-8569-23F6E4CA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0070-1281-488C-997B-48AC995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9E17-2F11-4B51-93FB-FC85D31F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F20F-C603-4FDC-9670-F24E653B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6BCB-2EE6-48C0-B10A-EB64577E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79C-39DD-435D-B695-0E2E94DA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45623-B9B7-4E58-B92B-11318F43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BD944-26B8-457D-A258-C5814038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B6E18-E568-4206-9DC3-D5789A8E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6C3F-6F1D-4A6B-9D2F-8F6980C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5645A-0161-44B0-9A83-9AD3F92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64ED-C51F-45E2-82BD-D270499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89BC9-64E3-4099-9C2D-C72D8AF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B5CA-FDD0-46CB-82CB-7F9DFE98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5BA7-E6D3-433E-9CF5-53E9E3F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5361-CF87-4B14-8332-42177A6A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A14-709E-4923-8019-EB973FDB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4A5E-3E44-4D7F-B156-CFB8F4BF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CD12-834B-4F7A-A660-46BCB5EF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76D52-37CB-41CE-BA57-35FA556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2CBA-4C17-4495-8B72-43C07CA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615B-CC66-492A-8AF2-069DA130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CCAB0-3209-47BC-A6E5-916118C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C9A33-DBE4-43AB-9E77-A950E82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6313-B9FA-47A5-989F-61EF0396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86B2-11AB-41DE-AF27-D57B690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905F2-D91B-4878-9CF6-764306D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B5F-326B-4B9C-92C2-C515D869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234E-CC03-4906-AFC2-DE26002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7E72-0AD8-4069-AB2E-E2A935E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04506-488D-485D-AD7B-8720744F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83DE2-DAFE-4D58-9CE3-86FFB7B1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175E-1B29-493F-8CEC-1A48945C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6A9BC-E283-4098-AA97-B17139D4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45DA2-A9A5-459F-ABF3-FB08E2D0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C6EE2-F2D0-49C2-B9FB-8D1C43E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922C-DB57-4153-A280-AC3C9A0F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FBC04-6CB9-4A1D-8CF9-B568CFC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E78-0756-4CD7-9523-A25ABB9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F6ED9-E9F6-400D-885C-E12B7B3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9393-30FF-47D5-8B90-1E65F29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FCCF-6A80-4920-AF7B-CC3F9D3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FB64-D0E5-40CD-9AE5-24241EA2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3DBF-AD90-487D-B7CB-D72E5193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CF7-3C93-4E0C-BF79-D8B7A01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5F7-9022-4742-B58A-2DA7D15D15F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FA0-27A1-4BEA-B259-AE57FF3C9B1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A524-2DC8-4A6C-8BA9-784B40FB14B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0F3D-2B77-4C7D-A993-327960593CF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5DEE-A5E8-40C9-8916-D3FF49F8FA0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C50F-EB67-4966-8BAB-C2A88EDA0F9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AC6E-F73F-4121-BFFA-744AB45A881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12800" y="4248000"/>
            <a:ext cx="7980480" cy="2318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9" name="Схема 3" descr=""/>
          <p:cNvPicPr/>
          <p:nvPr/>
        </p:nvPicPr>
        <p:blipFill>
          <a:blip r:embed="rId1"/>
          <a:stretch/>
        </p:blipFill>
        <p:spPr>
          <a:xfrm>
            <a:off x="1517760" y="1706400"/>
            <a:ext cx="6108480" cy="4797720"/>
          </a:xfrm>
          <a:prstGeom prst="rect">
            <a:avLst/>
          </a:prstGeom>
          <a:ln w="0">
            <a:noFill/>
          </a:ln>
        </p:spPr>
      </p:pic>
      <p:pic>
        <p:nvPicPr>
          <p:cNvPr id="400" name="Схема 4" descr=""/>
          <p:cNvPicPr/>
          <p:nvPr/>
        </p:nvPicPr>
        <p:blipFill>
          <a:blip r:embed="rId2"/>
          <a:stretch/>
        </p:blipFill>
        <p:spPr>
          <a:xfrm>
            <a:off x="1560600" y="2560680"/>
            <a:ext cx="6126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2" name="Содержимое 4" descr=""/>
          <p:cNvPicPr/>
          <p:nvPr/>
        </p:nvPicPr>
        <p:blipFill>
          <a:blip r:embed="rId1"/>
          <a:stretch/>
        </p:blipFill>
        <p:spPr>
          <a:xfrm>
            <a:off x="907920" y="1773360"/>
            <a:ext cx="77853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Содержимое 5" descr=""/>
          <p:cNvPicPr/>
          <p:nvPr/>
        </p:nvPicPr>
        <p:blipFill>
          <a:blip r:embed="rId1"/>
          <a:stretch/>
        </p:blipFill>
        <p:spPr>
          <a:xfrm>
            <a:off x="785880" y="1706400"/>
            <a:ext cx="7986600" cy="459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79480"/>
            <a:ext cx="7785360" cy="458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78" name="Прямая со стрелкой 7"/>
          <p:cNvCxnSpPr>
            <a:stCxn id="37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79" name="Прямая со стрелкой 10"/>
          <p:cNvCxnSpPr>
            <a:stCxn id="37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Содержимое 3" descr=""/>
          <p:cNvPicPr/>
          <p:nvPr/>
        </p:nvPicPr>
        <p:blipFill>
          <a:blip r:embed="rId1"/>
          <a:stretch/>
        </p:blipFill>
        <p:spPr>
          <a:xfrm>
            <a:off x="901800" y="1700280"/>
            <a:ext cx="7797600" cy="552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Admin</cp:lastModifiedBy>
  <dcterms:modified xsi:type="dcterms:W3CDTF">2013-03-10T16:59:44Z</dcterms:modified>
  <cp:revision>42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