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96E-A851-41D0-9429-016A9B61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F5C-592C-4389-A281-52959ED4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56B-D4EC-4155-9918-77C66E8F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2E7-4838-43E0-9136-516D0F84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CA71-62FB-424A-97DB-853F62B8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22F8-EC6A-4A14-8B43-F60AB2F3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74D5-0DC4-4E84-9BB6-12E1ADAF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BB0C-520E-4944-A5AD-074968C9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AF42-AD20-421A-81B5-A3A55EF0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1DB4-74A6-4709-B519-1E130507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D7B3-73FC-4343-A1BA-EF09DC63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EC6E-AC40-462F-B8F5-D6860F85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00CB-6D41-4647-AE1D-6A2885DE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A40A-6A23-4AA0-B47C-28344406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B276-5EA8-4616-A274-BBFA8357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5DF5-04C8-4ABE-933E-C901A971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020B-0425-4403-A28D-C9ADF7AF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EC2E7-5C53-4D12-A1FE-86DEE8FF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DE2D0-5DEA-4161-9039-63404131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E292A-407C-489D-AEEE-5111272B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53FAD-9CDF-4F6F-8CA5-CF70CE14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A4A59-F3CB-4F00-AF79-CB5DFC29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3595-DAB6-456E-9973-0C11DD33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E6057-D558-4526-A69E-C53736D2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45CF1-19E0-4B7E-B715-27658B24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0CEED-0F56-482B-B94B-F8407C82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7363D-905A-4BED-8C62-C12C3985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C0556-3E65-44A0-8106-AE32EA17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F1110-14E6-4190-8AED-7E10F029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4B359-DD45-467F-8736-8790E17D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B470A-486D-45C9-A813-104FAE4C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19675-31D2-457A-BF87-BCA36B34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955E7-06F1-4CA0-AA50-D5A53170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CC01-DFAE-46AA-B17D-B7B419DF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924FE-8955-47ED-B457-5A131479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B56A1-03A8-4D49-A84A-640AC678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69009-D86F-41B3-A41B-F1F812A6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1A356-4B34-4C5C-856D-905A7487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D1CAD-D501-4642-B905-E7D95597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2E995-9D83-4713-B064-DDE16861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CDA48-FBD3-4626-85F3-86644990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BF8BF-AA52-4F29-BA32-9B55C516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32E00-7DF8-4516-8C33-3C8BE968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A9350-2278-423D-9CB5-A7ED741A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020-62D4-408E-95D5-383B2797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2EE5C-E0CA-41C3-99EC-74FEC851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360AE-3907-4F0B-AE34-52C77912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B8E8C-D39A-4490-8BDB-06DFEC2E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CE9D6-6512-43AD-80C2-74C7DBD2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515C8-E296-484F-BA64-CFBFF57B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2CCC3-194F-4AE2-AB45-7D560956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3B769-5A7B-4541-94A9-FC2A4E5F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B8981-3650-4FFA-B8DA-424DF668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AD5EF-2ED3-47EE-A43B-CB25C0BD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D0217-8B0D-45CC-A4C6-074B4791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264-8724-43A2-9F23-3DF16125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CBC3E-06B1-4480-8131-CCCA0748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6EA8E-8CEB-4146-9795-E901EC69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CA27E-FAB3-4CC1-BB36-69946CF8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C6CD8-4DDF-4A57-9A97-FCDB2BE6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6685F-3CFB-4884-BB99-E9DE3B14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1BACA-E8C2-4B48-A171-CC1F4038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4C119-B4AA-4C3F-AFEE-E082597A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F92E7-539F-47B0-AC1B-50E16885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E5CC4-0161-4F44-B4F8-AA630C97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C47DA-17E0-4C44-B43D-0AFACB8F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1F51-16CE-433F-B69D-C017AFDE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705D0-D5A8-4CB2-906A-DF001997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C7B33-6C3B-4764-AD56-122232AD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1126A-A050-4409-A114-E49B3742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7D687-7A18-4070-B309-05DED525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0F132-A77D-4AF5-AC52-3F376BC3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E6FE6-9F9A-41C8-A628-1778BB64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57133-C531-4ADD-A987-C432B80D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E5E84-3A66-4F21-A704-C32C3DC8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07524-CB44-46CC-8318-5A36CFD4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66328-1606-4727-B337-D3CF9C60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4083-7972-493E-B5A8-A403F3A4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44CF0-01E1-436F-9AE3-970B1F59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A9B4F-B5BE-4CD0-BA03-263520E0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8C322-125F-49F3-9B32-902FE4A6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F54F6-B9AE-4A1A-A39B-4C00FF20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F43CB-4763-4059-BE86-52C858A8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3437-6599-4C9C-BE54-AF9C4067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B756-6AE8-47BD-9788-C01E2FFA4DA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6E35-7061-433A-B175-583C3535299C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9CD6-6516-4295-B27D-40977205BE6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FD81-F058-4537-AA4F-9533786452B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6CCA-029C-4C71-B92B-7AA76635167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E535-B137-4045-AAA6-E5D9CC7AFC4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72EC-55D3-4C15-8079-79AD6D6E61FA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712800" y="4248000"/>
            <a:ext cx="7980480" cy="23180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бобщающий урок по теме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4000" spc="-1" strike="noStrike">
                <a:solidFill>
                  <a:srgbClr val="835e01"/>
                </a:solidFill>
                <a:latin typeface="Consolas"/>
              </a:rPr>
              <a:t>Рефлексия: «Радуга чувств»</a:t>
            </a:r>
            <a:br>
              <a:rPr sz="4000"/>
            </a:br>
            <a:r>
              <a:rPr b="0" lang="ru-RU" sz="2000" spc="-1" strike="noStrike">
                <a:solidFill>
                  <a:srgbClr val="835e01"/>
                </a:solidFill>
                <a:latin typeface="Consolas"/>
              </a:rPr>
              <a:t>«Эмоции- это чёткий показатель на правильном ли мы пути …».</a:t>
            </a:r>
            <a:br>
              <a:rPr sz="2000"/>
            </a:b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9" name="Схема 3" descr=""/>
          <p:cNvPicPr/>
          <p:nvPr/>
        </p:nvPicPr>
        <p:blipFill>
          <a:blip r:embed="rId1"/>
          <a:stretch/>
        </p:blipFill>
        <p:spPr>
          <a:xfrm>
            <a:off x="1517760" y="1706400"/>
            <a:ext cx="6108480" cy="4797720"/>
          </a:xfrm>
          <a:prstGeom prst="rect">
            <a:avLst/>
          </a:prstGeom>
          <a:ln w="0">
            <a:noFill/>
          </a:ln>
        </p:spPr>
      </p:pic>
      <p:pic>
        <p:nvPicPr>
          <p:cNvPr id="400" name="Схема 4" descr=""/>
          <p:cNvPicPr/>
          <p:nvPr/>
        </p:nvPicPr>
        <p:blipFill>
          <a:blip r:embed="rId2"/>
          <a:stretch/>
        </p:blipFill>
        <p:spPr>
          <a:xfrm>
            <a:off x="1560600" y="2560680"/>
            <a:ext cx="61261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2020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en-US" sz="4000" spc="-1" strike="noStrike">
                <a:solidFill>
                  <a:srgbClr val="c58d01"/>
                </a:solidFill>
                <a:latin typeface="Consolas"/>
              </a:rPr>
              <a:t>II</a:t>
            </a:r>
            <a:r>
              <a:rPr b="0" lang="ru-RU" sz="4000" spc="-1" strike="noStrike">
                <a:solidFill>
                  <a:srgbClr val="c58d01"/>
                </a:solidFill>
                <a:latin typeface="Consolas"/>
              </a:rPr>
              <a:t>«Радуга чувств»</a:t>
            </a:r>
            <a:br>
              <a:rPr sz="4000"/>
            </a:br>
            <a:r>
              <a:rPr b="0" lang="ru-RU" sz="2800" spc="-1" strike="noStrike">
                <a:solidFill>
                  <a:srgbClr val="c58d01"/>
                </a:solidFill>
                <a:latin typeface="Consolas"/>
              </a:rPr>
              <a:t>« Мысли создают эмоции…»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2" name="Содержимое 4" descr=""/>
          <p:cNvPicPr/>
          <p:nvPr/>
        </p:nvPicPr>
        <p:blipFill>
          <a:blip r:embed="rId1"/>
          <a:stretch/>
        </p:blipFill>
        <p:spPr>
          <a:xfrm>
            <a:off x="907920" y="1773360"/>
            <a:ext cx="778536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Цель:</a:t>
            </a: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1800" spc="-1" strike="noStrike">
                <a:solidFill>
                  <a:srgbClr val="c1eeff"/>
                </a:solidFill>
                <a:latin typeface="Consolas"/>
              </a:rPr>
              <a:t>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1" name="Содержимое 5" descr=""/>
          <p:cNvPicPr/>
          <p:nvPr/>
        </p:nvPicPr>
        <p:blipFill>
          <a:blip r:embed="rId1"/>
          <a:stretch/>
        </p:blipFill>
        <p:spPr>
          <a:xfrm>
            <a:off x="785880" y="1706400"/>
            <a:ext cx="7986600" cy="4597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eea"/>
                </a:solidFill>
                <a:latin typeface="Consolas"/>
              </a:rPr>
              <a:t> </a:t>
            </a:r>
            <a:r>
              <a:rPr b="0" lang="ru-RU" sz="3600" spc="-1" strike="noStrike">
                <a:solidFill>
                  <a:srgbClr val="007eea"/>
                </a:solidFill>
                <a:latin typeface="Consolas"/>
              </a:rPr>
              <a:t>Основные аспекты изучения строения клетки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3" name="Содержимое 3" descr=""/>
          <p:cNvPicPr/>
          <p:nvPr/>
        </p:nvPicPr>
        <p:blipFill>
          <a:blip r:embed="rId1"/>
          <a:stretch/>
        </p:blipFill>
        <p:spPr>
          <a:xfrm>
            <a:off x="907920" y="1779480"/>
            <a:ext cx="7785360" cy="4584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5fe8d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f75"/>
                </a:solidFill>
                <a:latin typeface="Consolas"/>
              </a:rPr>
              <a:t>   </a:t>
            </a:r>
            <a:r>
              <a:rPr b="0" lang="ru-RU" sz="4000" spc="-1" strike="noStrike">
                <a:solidFill>
                  <a:srgbClr val="003f75"/>
                </a:solidFill>
                <a:latin typeface="Consolas"/>
              </a:rPr>
              <a:t>Создание «кластера»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Методы цитологии:                                                                Клеточная теория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Ультрацентрифугирования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Многообразие клеток:                                                             Органоиды клетки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Эукариотические                                                </a:t>
            </a: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Цитоплазматическая мембрана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растения, грибы, животные</a:t>
            </a: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елковые молекулы. Молекулы липидов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Овал 3"/>
          <p:cNvSpPr/>
          <p:nvPr/>
        </p:nvSpPr>
        <p:spPr>
          <a:xfrm>
            <a:off x="3286080" y="3857760"/>
            <a:ext cx="3357720" cy="914400"/>
          </a:xfrm>
          <a:prstGeom prst="ellipse">
            <a:avLst/>
          </a:prstGeom>
          <a:solidFill>
            <a:srgbClr val="138677"/>
          </a:solidFill>
          <a:ln w="19080">
            <a:solidFill>
              <a:srgbClr val="0d5a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Строение кле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7" name="Прямая со стрелкой 5"/>
          <p:cNvCxnSpPr/>
          <p:nvPr/>
        </p:nvCxnSpPr>
        <p:spPr>
          <a:xfrm>
            <a:off x="5928840" y="4643280"/>
            <a:ext cx="715320" cy="64332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78" name="Прямая со стрелкой 7"/>
          <p:cNvCxnSpPr>
            <a:stCxn id="376" idx="3"/>
          </p:cNvCxnSpPr>
          <p:nvPr/>
        </p:nvCxnSpPr>
        <p:spPr>
          <a:xfrm flipH="1">
            <a:off x="3071520" y="4638240"/>
            <a:ext cx="707040" cy="6483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79" name="Прямая со стрелкой 10"/>
          <p:cNvCxnSpPr>
            <a:stCxn id="376" idx="4"/>
          </p:cNvCxnSpPr>
          <p:nvPr/>
        </p:nvCxnSpPr>
        <p:spPr>
          <a:xfrm>
            <a:off x="4964760" y="4772160"/>
            <a:ext cx="35640" cy="7293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80" name="Прямая со стрелкой 14"/>
          <p:cNvCxnSpPr/>
          <p:nvPr/>
        </p:nvCxnSpPr>
        <p:spPr>
          <a:xfrm flipV="1">
            <a:off x="5571000" y="3214440"/>
            <a:ext cx="715320" cy="7149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81" name="Прямая со стрелкой 19"/>
          <p:cNvCxnSpPr/>
          <p:nvPr/>
        </p:nvCxnSpPr>
        <p:spPr>
          <a:xfrm flipH="1" flipV="1">
            <a:off x="3142800" y="3357360"/>
            <a:ext cx="1000800" cy="78624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914400"/>
          </a:xfrm>
          <a:prstGeom prst="rect">
            <a:avLst/>
          </a:prstGeom>
          <a:solidFill>
            <a:srgbClr val="13867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5a50"/>
                </a:solidFill>
                <a:latin typeface="Consolas"/>
              </a:rPr>
              <a:t>Интеграция учебных знаний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3" name="Содержимое 3" descr=""/>
          <p:cNvPicPr/>
          <p:nvPr/>
        </p:nvPicPr>
        <p:blipFill>
          <a:blip r:embed="rId1"/>
          <a:stretch/>
        </p:blipFill>
        <p:spPr>
          <a:xfrm>
            <a:off x="901800" y="1700280"/>
            <a:ext cx="7797600" cy="5529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8229600" cy="1162080"/>
          </a:xfrm>
          <a:prstGeom prst="rect">
            <a:avLst/>
          </a:prstGeom>
          <a:solidFill>
            <a:srgbClr val="00192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a1ca"/>
                </a:solidFill>
                <a:latin typeface="Consolas"/>
              </a:rPr>
              <a:t>Работа в группах.</a:t>
            </a:r>
            <a:br>
              <a:rPr sz="3600"/>
            </a:br>
            <a:r>
              <a:rPr b="0" lang="ru-RU" sz="1400" spc="-1" strike="noStrike">
                <a:solidFill>
                  <a:srgbClr val="f7a1ca"/>
                </a:solidFill>
                <a:latin typeface="Consolas"/>
              </a:rPr>
              <a:t>«Всякое обучение по своей сути есть создание условий для развития личности…»</a:t>
            </a:r>
            <a:br>
              <a:rPr sz="1400"/>
            </a:br>
            <a:r>
              <a:rPr b="0" lang="ru-RU" sz="1400" spc="-1" strike="noStrike">
                <a:solidFill>
                  <a:srgbClr val="f7a1ca"/>
                </a:solidFill>
                <a:latin typeface="Consolas"/>
              </a:rPr>
              <a:t>                                                                  И.С. Якиманская</a:t>
            </a:r>
            <a:endParaRPr b="0" lang="en-US" sz="1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434960"/>
            <a:ext cx="31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Инструктаж учител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Работая в группах учащиеся готовят ответ на 5  вопросов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Соблюдается регламент выступления-3 мин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При ответе соблюдается: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А). Логик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Б). Ответ развёрнутый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В). Наглядность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285800" y="1434960"/>
            <a:ext cx="40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Критерии оценки учащихс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5»- все требования соблюден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4»-нет чёткой логики  в изложени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3»-не все вопросы раскрыт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ll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644720" y="2999880"/>
            <a:ext cx="404172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. Какие молекулы органических веществ присутствуют в мембране клеток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2. Как свойства липидов влияют на функции, выполняемые цитоплазматической мембраной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. Какое имеет значение для клетки гидрофильность молекул липидов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*. Какова роль углеводов, расположенных на поверхности белковых молекул в мемб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ране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0b3d"/>
                </a:solidFill>
                <a:latin typeface="Consolas"/>
              </a:rPr>
              <a:t>Вопросы для обсужд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65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orbel"/>
              </a:rPr>
              <a:t>I</a:t>
            </a:r>
            <a:r>
              <a:rPr b="1" lang="ru-RU" sz="4000" spc="-1" strike="noStrike">
                <a:solidFill>
                  <a:srgbClr val="ea157a"/>
                </a:solidFill>
                <a:latin typeface="Corbel"/>
              </a:rPr>
              <a:t>  Физик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44720" y="1809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65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orbel"/>
              </a:rPr>
              <a:t>II</a:t>
            </a:r>
            <a:r>
              <a:rPr b="1" lang="ru-RU" sz="4000" spc="-1" strike="noStrike">
                <a:solidFill>
                  <a:srgbClr val="ea157a"/>
                </a:solidFill>
                <a:latin typeface="Corbel"/>
              </a:rPr>
              <a:t>   Химик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2999880"/>
            <a:ext cx="404028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. Какой принцип лежит в основе строения школьного микроскопа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2.В чём отличие светового микроскопа от электронного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. Почему возникла идея использования в микроскопе вместо луча света поток электронов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. Какие возможности для изучения клетки раскрывает сканирующий микроскоп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 </a:t>
            </a:r>
            <a:r>
              <a:rPr b="0" lang="en-US" sz="4000" spc="-1" strike="noStrike">
                <a:solidFill>
                  <a:srgbClr val="b0105c"/>
                </a:solidFill>
                <a:latin typeface="Consolas"/>
              </a:rPr>
              <a:t>II</a:t>
            </a:r>
            <a:r>
              <a:rPr b="0" lang="ru-RU" sz="4000" spc="-1" strike="noStrike">
                <a:solidFill>
                  <a:srgbClr val="b0105c"/>
                </a:solidFill>
                <a:latin typeface="Consolas"/>
              </a:rPr>
              <a:t>.Вопросы для обсуждения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28800" y="1714680"/>
            <a:ext cx="7772400" cy="4572000"/>
          </a:xfrm>
          <a:prstGeom prst="rect">
            <a:avLst/>
          </a:prstGeom>
          <a:solidFill>
            <a:srgbClr val="750b3d"/>
          </a:solidFill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7d6ff"/>
                </a:solidFill>
                <a:latin typeface="Corbel"/>
              </a:rPr>
              <a:t>Биолог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«Цитоплазма и цитоскелет»                                                             </a:t>
            </a: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«Ядро- как важнейшая структура клеток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1. Чем представлена цитоплазма клетки?                                                                             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эукариот»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его разновидност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5. Отличается ли набор хромосом соматических и              </a:t>
            </a: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I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    «Мембранные органоиды»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ово  строение и функции рибосом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Значение  комплекса Гольдж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13867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e8d6"/>
                </a:solidFill>
                <a:latin typeface="Consolas"/>
              </a:rPr>
              <a:t>Бланк подведения итог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-36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Групп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56760" y="228600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  Физи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 Хими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I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Биологи-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V   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Биологи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-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V    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Биологи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-I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Общий балл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457440" y="1809360"/>
            <a:ext cx="56865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Вопросы:            1  2   3  4  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5:36:13Z</dcterms:created>
  <dc:creator>Admin</dc:creator>
  <dc:description/>
  <dc:language>en-US</dc:language>
  <cp:lastModifiedBy>Admin</cp:lastModifiedBy>
  <dcterms:modified xsi:type="dcterms:W3CDTF">2013-03-10T16:59:44Z</dcterms:modified>
  <cp:revision>42</cp:revision>
  <dc:subject/>
  <dc:title>«Строение клетки»     10 класс учебник: «Общая биология 10-11 класс А.А. Каменский, Е.А. Криксунов, В.В. Пасечник «Дрофа», 2010г.   </dc:title>
</cp:coreProperties>
</file>