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B975-ADE9-42FB-B0BA-E88F52868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3621-5C67-48DE-8BD4-1E032393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2184-43B5-442C-8928-7CDCC31F5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B0F5-DBEB-44F6-BFC4-CC6CFEAE8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A0D8-FFDA-4139-9046-022D3EAE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178D-1EF2-4343-95B1-339EC12E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BC79-C377-4B3F-80D9-450B9394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9854-CA03-415E-8547-E0D8C749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1058-4B9D-434B-8F16-936CAE37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05CF-EA92-46E4-A5E1-C1597873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E5FD-204A-45EF-ADF5-E32717E5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6BB7-C86F-4854-BB44-922266CD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74F5-F6EA-4442-9939-9DE7D4C50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wer.ru/files/u771081/screen12/Roseqx0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desktop.kazansoft.ru/bigimages/flowers/roses/img-a613d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nterpres.ru/catalog/images/068793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12240" y="990720"/>
            <a:ext cx="914796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Урок литературного чтени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          </a:t>
            </a: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в 4  класс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Картинка 19 из 115317"/>
          <p:cNvPicPr/>
          <p:nvPr/>
        </p:nvPicPr>
        <p:blipFill>
          <a:blip r:embed="rId1"/>
          <a:stretch/>
        </p:blipFill>
        <p:spPr>
          <a:xfrm>
            <a:off x="4419720" y="2971800"/>
            <a:ext cx="4267080" cy="29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Картинка 46 из 136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609480"/>
            <a:ext cx="4214880" cy="3156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572000" y="685800"/>
            <a:ext cx="4572000" cy="2976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28600" y="4876920"/>
            <a:ext cx="4343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Роз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символ доб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4800600"/>
            <a:ext cx="4343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Жаб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символ з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371600" y="609480"/>
            <a:ext cx="716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685800"/>
            <a:ext cx="5076720" cy="3800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8160" y="4799520"/>
            <a:ext cx="8722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Verdana"/>
              </a:rPr>
              <a:t>Пусть ваша душа будет также прекрасн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Verdana"/>
              </a:rPr>
              <a:t>как этот удивительный цвето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Verdana"/>
              </a:rPr>
              <a:t>Учитесь у мира только хорош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Мои документы\Наташа\Школа\Чтение\Гаршин\708ru.jpg"/>
          <p:cNvPicPr/>
          <p:nvPr/>
        </p:nvPicPr>
        <p:blipFill>
          <a:blip r:embed="rId1"/>
          <a:stretch/>
        </p:blipFill>
        <p:spPr>
          <a:xfrm>
            <a:off x="609480" y="457200"/>
            <a:ext cx="4348440" cy="5715000"/>
          </a:xfrm>
          <a:prstGeom prst="rect">
            <a:avLst/>
          </a:prstGeom>
          <a:ln w="0">
            <a:noFill/>
          </a:ln>
        </p:spPr>
      </p:pic>
      <p:sp>
        <p:nvSpPr>
          <p:cNvPr id="44" name="Подзаголовок 2"/>
          <p:cNvSpPr/>
          <p:nvPr/>
        </p:nvSpPr>
        <p:spPr>
          <a:xfrm>
            <a:off x="4191120" y="1447920"/>
            <a:ext cx="424800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6600"/>
                </a:solidFill>
                <a:latin typeface="Arial"/>
              </a:rPr>
              <a:t>Всеволод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700" spc="-1" strike="noStrike">
                <a:solidFill>
                  <a:srgbClr val="006600"/>
                </a:solidFill>
                <a:latin typeface="Arial"/>
              </a:rPr>
              <a:t>Михайлович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6600"/>
                </a:solidFill>
                <a:latin typeface="Arial"/>
              </a:rPr>
              <a:t>Гаршин </a:t>
            </a:r>
            <a:br>
              <a:rPr sz="3700"/>
            </a:br>
            <a:r>
              <a:rPr b="1" lang="en-US" sz="3700" spc="-1" strike="noStrike">
                <a:solidFill>
                  <a:srgbClr val="006600"/>
                </a:solidFill>
                <a:latin typeface="Arial"/>
              </a:rPr>
              <a:t>(1855-1888)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2697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Картинка 6 из 1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380880"/>
            <a:ext cx="4213080" cy="60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735720" y="457200"/>
            <a:ext cx="236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Arial"/>
              </a:rPr>
              <a:t>Цели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1371600"/>
            <a:ext cx="89154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Знакомство с произведением В.М.Гаршина «Сказка о жабе и роз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Выявление главной идеи произведения через характеристику героев и художественные особен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Осмысление мира как воплощение добра и з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14400" y="838080"/>
            <a:ext cx="76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84880" y="152280"/>
            <a:ext cx="255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Задачи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762120"/>
            <a:ext cx="8915400" cy="65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Познакомиться с содержанием сказки, ее геро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Раскрыть образ героев сказ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Внешний вид геро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Характер геро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Взаимоотношения геро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Мечты геро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Характеристика действий и поступков геро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Определить художественные особенности сказ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895480" y="1981080"/>
            <a:ext cx="480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440" y="1187280"/>
            <a:ext cx="747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Мир жабы злобен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Нам предстоит его раскры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А роза, милое создань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Она сотворена люби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Вот эти два противореч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Без них никак нельзя нам бы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Задача наша на сегодня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Добро и зло разоблачи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438280" y="5335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20240" y="533520"/>
            <a:ext cx="4138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Задача урока</a:t>
            </a:r>
            <a:r>
              <a:rPr b="1" lang="en-US" sz="6000" spc="-1" strike="noStrike">
                <a:solidFill>
                  <a:srgbClr val="008000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2895480"/>
            <a:ext cx="89154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Раскрыть понятия «ДОБРО» и «ЗЛО» через характеристику геро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Картинка 44 из 28741"/>
          <p:cNvPicPr/>
          <p:nvPr/>
        </p:nvPicPr>
        <p:blipFill>
          <a:blip r:embed="rId1"/>
          <a:stretch/>
        </p:blipFill>
        <p:spPr>
          <a:xfrm>
            <a:off x="6705720" y="4518000"/>
            <a:ext cx="2209680" cy="1989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Картинка 6 из 82264"/>
          <p:cNvPicPr/>
          <p:nvPr/>
        </p:nvPicPr>
        <p:blipFill>
          <a:blip r:embed="rId2"/>
          <a:stretch/>
        </p:blipFill>
        <p:spPr>
          <a:xfrm>
            <a:off x="380880" y="228600"/>
            <a:ext cx="180504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609480"/>
            <a:ext cx="86104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8000"/>
                </a:solidFill>
                <a:latin typeface="Arial"/>
              </a:rPr>
              <a:t>Добро</a:t>
            </a: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 – нечто положительное, хорошее, полезное, противоположное зл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8000"/>
                </a:solidFill>
                <a:latin typeface="Arial"/>
              </a:rPr>
              <a:t>Зло </a:t>
            </a: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– нечто дурное, вредное, противоположное добр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451520" y="1828440"/>
            <a:ext cx="65552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Окружающая обстанов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Внешний ви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Дейст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Мечты, эмоции, чув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1066680"/>
            <a:ext cx="563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e</cp:lastModifiedBy>
  <dcterms:modified xsi:type="dcterms:W3CDTF">2011-11-20T06:50:00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