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BB456-E9EB-46D0-90F8-A59324164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A700A-1E32-460A-9746-E78763A10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31F35-33B9-4BF6-9DC3-E780D53C7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38888-A623-4809-8358-8F3D74DA0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93E92-0F73-496C-ACF9-5EF4E348B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C3710-5BF9-48F3-95ED-919C21BDC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54D99-C564-4116-89CB-259E258D8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B01E3-8E10-479E-87A8-DC00AC5EF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9A232-F807-4C6D-A0DA-6EE89972F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BE9DE-9DA2-4320-973A-22919A893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B1B4E-781A-4751-B062-41D097393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59BE0-F27D-4500-A6BF-9A65BD1E2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2fda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A28B5-BB29-47C4-B195-414C2C6E5D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cwer.ru/files/u771081/screen12/Roseqx0.jpg" TargetMode="External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desktop.kazansoft.ru/bigimages/flowers/roses/img-a613d.jpg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interpres.ru/catalog/images/068793.jpg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2fda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-12240" y="990720"/>
            <a:ext cx="9147960" cy="170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8000"/>
                </a:solidFill>
                <a:latin typeface="Arial"/>
              </a:rPr>
              <a:t>Урок литературного чтения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8000"/>
                </a:solidFill>
                <a:latin typeface="Arial"/>
              </a:rPr>
              <a:t>          </a:t>
            </a:r>
            <a:r>
              <a:rPr b="1" lang="en-US" sz="4800" spc="-1" strike="noStrike">
                <a:solidFill>
                  <a:srgbClr val="008000"/>
                </a:solidFill>
                <a:latin typeface="Arial"/>
              </a:rPr>
              <a:t>в 4  классе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Картинка 19 из 115317"/>
          <p:cNvPicPr/>
          <p:nvPr/>
        </p:nvPicPr>
        <p:blipFill>
          <a:blip r:embed="rId1"/>
          <a:stretch/>
        </p:blipFill>
        <p:spPr>
          <a:xfrm>
            <a:off x="4419720" y="2971800"/>
            <a:ext cx="4267080" cy="291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2fda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Картинка 46 из 13600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8600" y="609480"/>
            <a:ext cx="4214880" cy="31561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4572000" y="685800"/>
            <a:ext cx="4572000" cy="29764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228600" y="4876920"/>
            <a:ext cx="43434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Роза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символ доб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4800600"/>
            <a:ext cx="43434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Жаба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символ з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2fda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371600" y="609480"/>
            <a:ext cx="7162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133720" y="685800"/>
            <a:ext cx="5076720" cy="38005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308160" y="4799520"/>
            <a:ext cx="8722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8000"/>
                </a:solidFill>
                <a:latin typeface="Verdana"/>
              </a:rPr>
              <a:t>Пусть ваша душа будет также прекрасна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8000"/>
                </a:solidFill>
                <a:latin typeface="Verdana"/>
              </a:rPr>
              <a:t>как этот удивительный цветок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8000"/>
                </a:solidFill>
                <a:latin typeface="Verdana"/>
              </a:rPr>
              <a:t>Учитесь у мира только хорошем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2fda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C:\Мои документы\Наташа\Школа\Чтение\Гаршин\708ru.jpg"/>
          <p:cNvPicPr/>
          <p:nvPr/>
        </p:nvPicPr>
        <p:blipFill>
          <a:blip r:embed="rId1"/>
          <a:stretch/>
        </p:blipFill>
        <p:spPr>
          <a:xfrm>
            <a:off x="609480" y="457200"/>
            <a:ext cx="4348440" cy="5715000"/>
          </a:xfrm>
          <a:prstGeom prst="rect">
            <a:avLst/>
          </a:prstGeom>
          <a:ln w="0">
            <a:noFill/>
          </a:ln>
        </p:spPr>
      </p:pic>
      <p:sp>
        <p:nvSpPr>
          <p:cNvPr id="44" name="Подзаголовок 2"/>
          <p:cNvSpPr/>
          <p:nvPr/>
        </p:nvSpPr>
        <p:spPr>
          <a:xfrm>
            <a:off x="4191120" y="1447920"/>
            <a:ext cx="4248000" cy="24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8360" tIns="46800" bIns="46800" anchor="t">
            <a:noAutofit/>
          </a:bodyPr>
          <a:p>
            <a:pPr algn="r"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6600"/>
                </a:solidFill>
                <a:latin typeface="Arial"/>
              </a:rPr>
              <a:t>Всеволод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3700" spc="-1" strike="noStrike">
                <a:solidFill>
                  <a:srgbClr val="006600"/>
                </a:solidFill>
                <a:latin typeface="Arial"/>
              </a:rPr>
              <a:t>Михайлович 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6600"/>
                </a:solidFill>
                <a:latin typeface="Arial"/>
              </a:rPr>
              <a:t>Гаршин </a:t>
            </a:r>
            <a:br>
              <a:rPr sz="3700"/>
            </a:br>
            <a:r>
              <a:rPr b="1" lang="en-US" sz="3700" spc="-1" strike="noStrike">
                <a:solidFill>
                  <a:srgbClr val="006600"/>
                </a:solidFill>
                <a:latin typeface="Arial"/>
              </a:rPr>
              <a:t>(1855-1888)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8610480" y="6324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" restart="whenNotActive" nodeType="interactiveSeq" fill="hold">
                <p:stCondLst>
                  <p:cond evt="onClick">
                    <p:tgtEl>
                      <p:spTgt spid="45"/>
                    </p:tgtEl>
                  </p:cond>
                </p:stCondLst>
                <p:childTnLst>
                  <p:par>
                    <p:cTn id="18" fill="hold">
                      <p:stCondLst>
                        <p:cond evt="onClick">
                          <p:tgtEl>
                            <p:spTgt spid="45"/>
                          </p:tgtEl>
                        </p:cond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" dur="126971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2fda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Картинка 6 из 10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14600" y="380880"/>
            <a:ext cx="4213080" cy="6019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2fda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735720" y="457200"/>
            <a:ext cx="2367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8000"/>
                </a:solidFill>
                <a:latin typeface="Arial"/>
              </a:rPr>
              <a:t>Цели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28600" y="1371600"/>
            <a:ext cx="8915400" cy="45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Arial"/>
              </a:rPr>
              <a:t>Знакомство с произведением В.М.Гаршина «Сказка о жабе и розе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Arial"/>
              </a:rPr>
              <a:t>Выявление главной идеи произведения через характеристику героев и художественные особенно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Arial"/>
              </a:rPr>
              <a:t>Осмысление мира как воплощение добра и з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2fda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14400" y="838080"/>
            <a:ext cx="7696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584880" y="152280"/>
            <a:ext cx="2558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8000"/>
                </a:solidFill>
                <a:latin typeface="Arial"/>
              </a:rPr>
              <a:t>Задачи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762120"/>
            <a:ext cx="8915400" cy="65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buClr>
                <a:srgbClr val="008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Познакомиться с содержанием сказки, ее героя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8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Раскрыть образ героев сказк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1500"/>
              </a:spcBef>
              <a:buClr>
                <a:srgbClr val="008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Внешний вид герое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1500"/>
              </a:spcBef>
              <a:buClr>
                <a:srgbClr val="008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Характер герое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1500"/>
              </a:spcBef>
              <a:buClr>
                <a:srgbClr val="008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Взаимоотношения герое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1500"/>
              </a:spcBef>
              <a:buClr>
                <a:srgbClr val="008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Мечты герое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1500"/>
              </a:spcBef>
              <a:buClr>
                <a:srgbClr val="008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Характеристика действий и поступков герое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8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Определить художественные особенности сказ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2fda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895480" y="1981080"/>
            <a:ext cx="4800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838440" y="1187280"/>
            <a:ext cx="7470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Мир жабы злобен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Нам предстоит его раскрыть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А роза, милое созданье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Она сотворена любить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Вот эти два противоречь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Без них никак нельзя нам быть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Задача наша на сегодня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Добро и зло разоблачить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2fda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438280" y="533520"/>
            <a:ext cx="8229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20240" y="533520"/>
            <a:ext cx="4138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Arial"/>
              </a:rPr>
              <a:t>Задача урока</a:t>
            </a:r>
            <a:r>
              <a:rPr b="1" lang="en-US" sz="6000" spc="-1" strike="noStrike">
                <a:solidFill>
                  <a:srgbClr val="008000"/>
                </a:solidFill>
                <a:latin typeface="Arial"/>
              </a:rPr>
              <a:t>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28600" y="2895480"/>
            <a:ext cx="891540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Arial"/>
              </a:rPr>
              <a:t>Раскрыть понятия «ДОБРО» и «ЗЛО» через характеристику герое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Картинка 44 из 28741"/>
          <p:cNvPicPr/>
          <p:nvPr/>
        </p:nvPicPr>
        <p:blipFill>
          <a:blip r:embed="rId1"/>
          <a:stretch/>
        </p:blipFill>
        <p:spPr>
          <a:xfrm>
            <a:off x="6705720" y="4518000"/>
            <a:ext cx="2209680" cy="19890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Картинка 6 из 82264"/>
          <p:cNvPicPr/>
          <p:nvPr/>
        </p:nvPicPr>
        <p:blipFill>
          <a:blip r:embed="rId2"/>
          <a:stretch/>
        </p:blipFill>
        <p:spPr>
          <a:xfrm>
            <a:off x="380880" y="228600"/>
            <a:ext cx="1805040" cy="243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2fda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04920" y="609480"/>
            <a:ext cx="861048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8000"/>
                </a:solidFill>
                <a:latin typeface="Arial"/>
              </a:rPr>
              <a:t>Добро</a:t>
            </a:r>
            <a:r>
              <a:rPr b="0" lang="en-US" sz="4400" spc="-1" strike="noStrike">
                <a:solidFill>
                  <a:srgbClr val="008000"/>
                </a:solidFill>
                <a:latin typeface="Arial"/>
              </a:rPr>
              <a:t> – нечто положительное, хорошее, полезное, противоположное злу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8000"/>
                </a:solidFill>
                <a:latin typeface="Arial"/>
              </a:rPr>
              <a:t>Зло </a:t>
            </a:r>
            <a:r>
              <a:rPr b="0" lang="en-US" sz="4400" spc="-1" strike="noStrike">
                <a:solidFill>
                  <a:srgbClr val="008000"/>
                </a:solidFill>
                <a:latin typeface="Arial"/>
              </a:rPr>
              <a:t>– нечто дурное, вредное, противоположное добру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2fda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451520" y="1828440"/>
            <a:ext cx="655524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8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000"/>
                </a:solidFill>
                <a:latin typeface="Arial"/>
              </a:rPr>
              <a:t>Окружающая обстанов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8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000"/>
                </a:solidFill>
                <a:latin typeface="Arial"/>
              </a:rPr>
              <a:t>Внешний ви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8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000"/>
                </a:solidFill>
                <a:latin typeface="Arial"/>
              </a:rPr>
              <a:t>Действ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8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000"/>
                </a:solidFill>
                <a:latin typeface="Arial"/>
              </a:rPr>
              <a:t>Мечты, эмоции, чувст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286000" y="1066680"/>
            <a:ext cx="5638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Arial"/>
              </a:rPr>
              <a:t>Пла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arie</cp:lastModifiedBy>
  <dcterms:modified xsi:type="dcterms:W3CDTF">2011-11-20T06:50:00Z</dcterms:modified>
  <cp:revision>1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