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C05-AE0E-45AA-9DE0-F9DA4552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164-BBAF-4D0C-99AA-CC101C5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52A-1679-4D3B-BEB3-E91A690E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DDF-C84F-40EF-8920-90167CFA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E13E1-9138-4075-8721-D99E4177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13ED7-BF1C-4470-9B2B-B256E635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51AD-1F70-4D8B-8791-DD8EBFF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1E97-C4D6-4470-B3D8-A3DE1A6F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4F200-430C-49D2-BDEA-6AF6463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F8733-AEFF-4AFF-9FB0-0F7C75D5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42A49-3134-4FC0-84E2-2691A5C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6AC-FEBA-4507-B1E4-11665017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6476-06C2-469E-A880-9E5DC2B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E2F8-7152-4378-AFCF-568AC00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999B6-98A6-4050-B8A8-93372573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4398D-E516-4ECF-8348-DE7FF306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98330-BEFD-40DF-A7F1-70668A7F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C6F-4446-4724-8008-D8256E46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2E5-41C7-4124-9E3B-640A8BC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30E-8912-44A5-A5F0-E43922AA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D2E-4C5C-4461-AD0D-814D9AF2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A2D-D9C7-4904-BF3F-DBBE047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F0B-07AD-45AA-B7EB-2E76D95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C32-EDD2-487A-8003-DF27677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B847-D941-4B7B-B8A5-E797EB8AE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28D-5ADC-4852-8C15-53084A3DE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631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Сказка </a:t>
            </a:r>
            <a:br>
              <a:rPr sz="9600"/>
            </a:b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мудростью </a:t>
            </a:r>
            <a:br>
              <a:rPr sz="9600"/>
            </a:b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богата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Сарыбай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5280" y="2205000"/>
            <a:ext cx="68515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м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удр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альновид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Живые быстро забывают слова умерших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Аксакал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тарейшина (кирг.),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елобороды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Даанышман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ими были главные герои сказки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бот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ед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ел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приз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ло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пе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ящи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342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отб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3429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анышм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00" y="3357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3284640"/>
            <a:ext cx="2663640" cy="93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востоком и запа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небом и земл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правдой и ложь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олотбек стал хан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олотбек правил ханств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аанышман взяла с собой то, что больше всего люби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616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925560"/>
            <a:ext cx="5400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рассказ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зовут героя сказ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м он бы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он(а) стал(а) ханом (ханшей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ступки совершал(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гда ли правильно поступал(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качествами обладает гер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ё отношение к гер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атарская сказка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ый старик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30440" y="2384280"/>
            <a:ext cx="40831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79280" y="1052640"/>
            <a:ext cx="8785080" cy="3888000"/>
            <a:chOff x="179280" y="1052640"/>
            <a:chExt cx="8785080" cy="3888000"/>
          </a:xfrm>
        </p:grpSpPr>
        <p:cxnSp>
          <p:nvCxnSpPr>
            <p:cNvPr id="155" name="_s61457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890680" y="1288080"/>
              <a:ext cx="778320" cy="341676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8" name="_s61453"/>
            <p:cNvCxnSpPr>
              <a:stCxn id="159" idx="0"/>
              <a:endCxn id="157" idx="2"/>
            </p:cNvCxnSpPr>
            <p:nvPr/>
          </p:nvCxnSpPr>
          <p:spPr>
            <a:xfrm flipV="1" rot="16200000">
              <a:off x="4752000" y="2426760"/>
              <a:ext cx="778320" cy="113904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0" name="_s61452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3613320" y="2426760"/>
              <a:ext cx="778320" cy="113976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61451"/>
            <p:cNvCxnSpPr>
              <a:stCxn id="163" idx="0"/>
              <a:endCxn id="157" idx="2"/>
            </p:cNvCxnSpPr>
            <p:nvPr/>
          </p:nvCxnSpPr>
          <p:spPr>
            <a:xfrm flipH="1" flipV="1" rot="5400000">
              <a:off x="2474280" y="1288080"/>
              <a:ext cx="778320" cy="341712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7" name="_s61447"/>
            <p:cNvSpPr/>
            <p:nvPr/>
          </p:nvSpPr>
          <p:spPr>
            <a:xfrm>
              <a:off x="3595680" y="10526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Какие сказки 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уже читал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61448"/>
            <p:cNvSpPr/>
            <p:nvPr/>
          </p:nvSpPr>
          <p:spPr>
            <a:xfrm>
              <a:off x="17928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Волшеб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61449"/>
            <p:cNvSpPr/>
            <p:nvPr/>
          </p:nvSpPr>
          <p:spPr>
            <a:xfrm>
              <a:off x="245664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61450"/>
            <p:cNvSpPr/>
            <p:nvPr/>
          </p:nvSpPr>
          <p:spPr>
            <a:xfrm>
              <a:off x="473436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1456"/>
            <p:cNvSpPr/>
            <p:nvPr/>
          </p:nvSpPr>
          <p:spPr>
            <a:xfrm>
              <a:off x="701208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иметы сказ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ые гер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одная мудр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оекратный пов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ые собы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ро побеждает з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79640" y="1089000"/>
            <a:ext cx="5545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49068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арий -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мно-коричнев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о цвете глаз и масти лошадей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240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Рябой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 пятнистый, пестрый</a:t>
            </a: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Боров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самец свинь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ручиниться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оревать, грусти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иргизская сказ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ая девуш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57440" y="2365200"/>
            <a:ext cx="4027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ыйканбай и Дэв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(киргизская сказка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24000" y="2771640"/>
            <a:ext cx="50007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иргизская сказ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ая девуш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7440" y="2365200"/>
            <a:ext cx="4027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Падишах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итул некоторых правителей восточных стр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Наставление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учающее указание,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равоу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Именитый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сокий по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бщественному положению,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тенны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Хан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нязь у некоторых народ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8:40:43Z</dcterms:created>
  <dc:creator>User</dc:creator>
  <dc:description/>
  <dc:language>en-US</dc:language>
  <cp:lastModifiedBy>ольга</cp:lastModifiedBy>
  <dcterms:modified xsi:type="dcterms:W3CDTF">2011-02-23T07:12:29Z</dcterms:modified>
  <cp:revision>6</cp:revision>
  <dc:subject/>
  <dc:title>Сказка  мудростью  богата</dc:title>
</cp:coreProperties>
</file>