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156-2A96-4425-9FA7-DB23F644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E09-BF8C-40FC-9625-DE927678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2C7-4B2C-40B7-96FE-C315BA1D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40B5-29C6-4065-A547-605207F7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6066F-B0E2-496C-A0BF-54DCE715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26E8F-D813-4B71-BFAE-B55D57B3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2B220-AB37-4ED9-8D5B-0BA65596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5A61E-A5AC-4B52-A86A-28F1F7BA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D513D-F4F0-4692-8672-0B804A4C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F3F7E-FCE2-4C54-B119-2FA5299A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5CF42-7DB1-4524-A35B-24191B4D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BAB-7212-4AED-8EC2-65CB2B9A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A264C-1927-44D7-974D-D8D963DF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13AC4-76B9-4AE9-90A7-BA862146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7999D-54E7-4A41-BC05-6B1B42F4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ED2B4-C924-456E-A57A-8917C18A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9BE07-762D-4FC6-8319-2F3702A9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888-ECC9-4A0B-A2F6-2A62081D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EF1-FACE-49C2-B08A-5E34EDAD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E46-C961-4039-99A9-86489839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9AA-EA54-4B95-8672-6DAA1D98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763-A9E0-4780-8372-2B8988BA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A24-FC5E-41DC-BACB-90892C2E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AC6-C6EE-49AA-BFCB-B5BB4D2F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0CB5-D8D0-4F75-A6F3-0B612AB385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B90F-4808-45E1-8845-5BF2AEE993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6312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3e3ff"/>
                </a:solidFill>
                <a:latin typeface="Arial"/>
              </a:rPr>
              <a:t>Сказка </a:t>
            </a:r>
            <a:br>
              <a:rPr sz="9600"/>
            </a:br>
            <a:r>
              <a:rPr b="0" lang="en-US" sz="9600" spc="-1" strike="noStrike">
                <a:solidFill>
                  <a:srgbClr val="e3e3ff"/>
                </a:solidFill>
                <a:latin typeface="Arial"/>
              </a:rPr>
              <a:t>мудростью </a:t>
            </a:r>
            <a:br>
              <a:rPr sz="9600"/>
            </a:br>
            <a:r>
              <a:rPr b="0" lang="en-US" sz="9600" spc="-1" strike="noStrike">
                <a:solidFill>
                  <a:srgbClr val="e3e3ff"/>
                </a:solidFill>
                <a:latin typeface="Arial"/>
              </a:rPr>
              <a:t>богата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e3ff"/>
                </a:solidFill>
                <a:latin typeface="Arial"/>
              </a:rPr>
              <a:t>Сарыбай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35280" y="2205000"/>
            <a:ext cx="68515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мн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удр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альновидн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Живые быстро забывают слова умерших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e3ff"/>
                </a:solidFill>
                <a:latin typeface="Arial"/>
              </a:rPr>
              <a:t>Аксакал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–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тарейшина (кирг.),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белобороды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e3ff"/>
                </a:solidFill>
                <a:latin typeface="Arial"/>
              </a:rPr>
              <a:t>Даанышман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кими были главные герои сказки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27280" y="155736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ботлив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аведлив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н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др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сел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призн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ло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койн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пелив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ящи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3429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отб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3429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анышм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8000" y="3357720"/>
            <a:ext cx="2232000" cy="79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3284640"/>
            <a:ext cx="2663640" cy="93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е расстояние между востоком и запад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е расстояние между небом и земл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е расстояние между правдой и ложь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Болотбек стал хан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Болотбек правил ханств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Даанышман взяла с собой то, что больше всего люби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61636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79640" y="925560"/>
            <a:ext cx="54007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лан рассказ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зовут героя сказ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ем он бы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он(а) стал(а) ханом (ханшей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поступки совершал(а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гда ли правильно поступал(а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ми качествами обладает гер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воё отношение к геро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атарская сказка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«Мудрый старик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30440" y="2384280"/>
            <a:ext cx="408312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179280" y="1052640"/>
            <a:ext cx="8785080" cy="3888000"/>
            <a:chOff x="179280" y="1052640"/>
            <a:chExt cx="8785080" cy="3888000"/>
          </a:xfrm>
        </p:grpSpPr>
        <p:cxnSp>
          <p:nvCxnSpPr>
            <p:cNvPr id="155" name="_s61457"/>
            <p:cNvCxnSpPr>
              <a:stCxn id="156" idx="0"/>
              <a:endCxn id="157" idx="2"/>
            </p:cNvCxnSpPr>
            <p:nvPr/>
          </p:nvCxnSpPr>
          <p:spPr>
            <a:xfrm flipV="1" rot="16200000">
              <a:off x="5890680" y="1288080"/>
              <a:ext cx="778320" cy="3416760"/>
            </a:xfrm>
            <a:prstGeom prst="bentConnector3">
              <a:avLst>
                <a:gd name="adj1" fmla="val 176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8" name="_s61453"/>
            <p:cNvCxnSpPr>
              <a:stCxn id="159" idx="0"/>
              <a:endCxn id="157" idx="2"/>
            </p:cNvCxnSpPr>
            <p:nvPr/>
          </p:nvCxnSpPr>
          <p:spPr>
            <a:xfrm flipV="1" rot="16200000">
              <a:off x="4752000" y="2426760"/>
              <a:ext cx="778320" cy="1139040"/>
            </a:xfrm>
            <a:prstGeom prst="bentConnector3">
              <a:avLst>
                <a:gd name="adj1" fmla="val 176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0" name="_s61452"/>
            <p:cNvCxnSpPr>
              <a:stCxn id="161" idx="0"/>
              <a:endCxn id="157" idx="2"/>
            </p:cNvCxnSpPr>
            <p:nvPr/>
          </p:nvCxnSpPr>
          <p:spPr>
            <a:xfrm flipH="1" flipV="1" rot="5400000">
              <a:off x="3613320" y="2426760"/>
              <a:ext cx="778320" cy="1139760"/>
            </a:xfrm>
            <a:prstGeom prst="bentConnector3">
              <a:avLst>
                <a:gd name="adj1" fmla="val 176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2" name="_s61451"/>
            <p:cNvCxnSpPr>
              <a:stCxn id="163" idx="0"/>
              <a:endCxn id="157" idx="2"/>
            </p:cNvCxnSpPr>
            <p:nvPr/>
          </p:nvCxnSpPr>
          <p:spPr>
            <a:xfrm flipH="1" flipV="1" rot="5400000">
              <a:off x="2474280" y="1288080"/>
              <a:ext cx="778320" cy="3417120"/>
            </a:xfrm>
            <a:prstGeom prst="bentConnector3">
              <a:avLst>
                <a:gd name="adj1" fmla="val 176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7" name="_s61447"/>
            <p:cNvSpPr/>
            <p:nvPr/>
          </p:nvSpPr>
          <p:spPr>
            <a:xfrm>
              <a:off x="3595680" y="1052640"/>
              <a:ext cx="1952280" cy="1555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Какие сказки м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уже читал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61448"/>
            <p:cNvSpPr/>
            <p:nvPr/>
          </p:nvSpPr>
          <p:spPr>
            <a:xfrm>
              <a:off x="179280" y="3385440"/>
              <a:ext cx="1952280" cy="1555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Волшебн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61449"/>
            <p:cNvSpPr/>
            <p:nvPr/>
          </p:nvSpPr>
          <p:spPr>
            <a:xfrm>
              <a:off x="2456640" y="3385440"/>
              <a:ext cx="1952280" cy="1555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61450"/>
            <p:cNvSpPr/>
            <p:nvPr/>
          </p:nvSpPr>
          <p:spPr>
            <a:xfrm>
              <a:off x="4734360" y="3385440"/>
              <a:ext cx="1952280" cy="1555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61456"/>
            <p:cNvSpPr/>
            <p:nvPr/>
          </p:nvSpPr>
          <p:spPr>
            <a:xfrm>
              <a:off x="7012080" y="3385440"/>
              <a:ext cx="1952280" cy="1555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риметы сказ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ч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ц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лшебные геро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одная мудр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оекратный пов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лшебные собы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бро побеждает з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337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979640" y="1089000"/>
            <a:ext cx="5545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49068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Карий -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емно-коричневы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о цвете глаз и масти лошадей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31240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Рябой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– пятнистый, пестрый</a:t>
            </a:r>
            <a:br>
              <a:rPr sz="4000"/>
            </a:br>
            <a:br>
              <a:rPr sz="40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Боров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–самец свинь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Кручиниться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горевать, грусти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Конец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иргизская сказк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«Мудрая девушка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57440" y="2365200"/>
            <a:ext cx="40276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ыйканбай и Дэв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(киргизская сказка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24000" y="2771640"/>
            <a:ext cx="50007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иргизская сказк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«Мудрая девушка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57440" y="2365200"/>
            <a:ext cx="40276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Падишах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итул некоторых правителей восточных стра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Наставление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учающее указание,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равоу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Именитый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ысокий по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бщественному положению,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чтенны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Хан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нязь у некоторых народ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08:40:43Z</dcterms:created>
  <dc:creator>User</dc:creator>
  <dc:description/>
  <dc:language>en-US</dc:language>
  <cp:lastModifiedBy>ольга</cp:lastModifiedBy>
  <dcterms:modified xsi:type="dcterms:W3CDTF">2011-02-23T07:12:29Z</dcterms:modified>
  <cp:revision>6</cp:revision>
  <dc:subject/>
  <dc:title>Сказка  мудростью  богата</dc:title>
</cp:coreProperties>
</file>