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281-263F-4D31-B90A-EC1F4AA6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4AD-F1D1-4934-A117-06A302F9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6AD-6C83-44B5-BD8D-CE467F4E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99B-2734-4639-9D25-E85DB608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6A97B-A9BB-4FBC-B4D6-4FC994EF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C6802-9398-419E-88E6-64C76D69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17D7E-8C12-481B-85B1-2DB48E54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76630-07FD-4D3F-B2EB-6CEEAD0D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40C30-E55F-47D9-9745-63B5E449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C7CEC-4091-4906-93E9-84B634EF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92989-14B5-42B2-B158-3CFA74FF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3ED-C92F-4AEF-9411-7BA78DE6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BDFAF-5D6C-4510-907C-23371F7E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1D8A6-655B-4618-8351-2E5C6267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7C51D-41F3-454B-AC0E-F42F2946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D21B4-341B-4FCC-95BD-13BACF46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C9CCD-76E5-4CB9-8E2A-66EC3BE4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751-05A6-4838-841A-40B37727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3AD-429A-4F60-9E91-9C32257B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6EC-7F0D-47AD-853E-AF7AA5FF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362-A90B-4E88-9D2D-9E79993E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BA7-D833-4A16-B6C7-E717CDAB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BED-9A7B-4706-B5C5-33298038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E18-F1B9-49EF-8D8B-B4CE2D88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C722-5D34-4F7E-820A-544121B2DA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7BD8-CF47-4150-B586-E8E4F3FB44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6312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Сказка </a:t>
            </a:r>
            <a:br>
              <a:rPr sz="9600"/>
            </a:b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мудростью </a:t>
            </a:r>
            <a:br>
              <a:rPr sz="9600"/>
            </a:b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богата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e3ff"/>
                </a:solidFill>
                <a:latin typeface="Arial"/>
              </a:rPr>
              <a:t>Сарыбай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35280" y="2205000"/>
            <a:ext cx="68515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м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удр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альновид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Живые быстро забывают слова умерших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e3ff"/>
                </a:solidFill>
                <a:latin typeface="Arial"/>
              </a:rPr>
              <a:t>Аксакал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тарейшина (кирг.),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белобороды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e3ff"/>
                </a:solidFill>
                <a:latin typeface="Arial"/>
              </a:rPr>
              <a:t>Даанышман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ими были главные герои сказки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27280" y="155736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ботлив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едлив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н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сел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призн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ло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койн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пеливы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ящий(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3429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отб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3429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анышм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8000" y="3357720"/>
            <a:ext cx="223200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3284640"/>
            <a:ext cx="2663640" cy="93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расстояние между востоком и запад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расстояние между небом и земл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расстояние между правдой и ложь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Болотбек стал хан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Болотбек правил ханств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аанышман взяла с собой то, что больше всего люби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61636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79640" y="925560"/>
            <a:ext cx="54007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лан рассказ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зовут героя сказ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ем он бы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он(а) стал(а) ханом (ханшей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оступки совершал(а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гда ли правильно поступал(а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ми качествами обладает гер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оё отношение к гер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атарская сказка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«Мудрый старик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30440" y="2384280"/>
            <a:ext cx="408312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79280" y="1052640"/>
            <a:ext cx="8785080" cy="3888000"/>
            <a:chOff x="179280" y="1052640"/>
            <a:chExt cx="8785080" cy="3888000"/>
          </a:xfrm>
        </p:grpSpPr>
        <p:cxnSp>
          <p:nvCxnSpPr>
            <p:cNvPr id="155" name="_s61457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890680" y="1288080"/>
              <a:ext cx="778320" cy="3416760"/>
            </a:xfrm>
            <a:prstGeom prst="bentConnector3">
              <a:avLst>
                <a:gd name="adj1" fmla="val 176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8" name="_s61453"/>
            <p:cNvCxnSpPr>
              <a:stCxn id="159" idx="0"/>
              <a:endCxn id="157" idx="2"/>
            </p:cNvCxnSpPr>
            <p:nvPr/>
          </p:nvCxnSpPr>
          <p:spPr>
            <a:xfrm flipV="1" rot="16200000">
              <a:off x="4752000" y="2426760"/>
              <a:ext cx="778320" cy="1139040"/>
            </a:xfrm>
            <a:prstGeom prst="bentConnector3">
              <a:avLst>
                <a:gd name="adj1" fmla="val 176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0" name="_s61452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3613320" y="2426760"/>
              <a:ext cx="778320" cy="1139760"/>
            </a:xfrm>
            <a:prstGeom prst="bentConnector3">
              <a:avLst>
                <a:gd name="adj1" fmla="val 176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61451"/>
            <p:cNvCxnSpPr>
              <a:stCxn id="163" idx="0"/>
              <a:endCxn id="157" idx="2"/>
            </p:cNvCxnSpPr>
            <p:nvPr/>
          </p:nvCxnSpPr>
          <p:spPr>
            <a:xfrm flipH="1" flipV="1" rot="5400000">
              <a:off x="2474280" y="1288080"/>
              <a:ext cx="778320" cy="3417120"/>
            </a:xfrm>
            <a:prstGeom prst="bentConnector3">
              <a:avLst>
                <a:gd name="adj1" fmla="val 176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7" name="_s61447"/>
            <p:cNvSpPr/>
            <p:nvPr/>
          </p:nvSpPr>
          <p:spPr>
            <a:xfrm>
              <a:off x="3595680" y="10526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Какие сказки м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уже читал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61448"/>
            <p:cNvSpPr/>
            <p:nvPr/>
          </p:nvSpPr>
          <p:spPr>
            <a:xfrm>
              <a:off x="179280" y="33854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Волшеб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61449"/>
            <p:cNvSpPr/>
            <p:nvPr/>
          </p:nvSpPr>
          <p:spPr>
            <a:xfrm>
              <a:off x="2456640" y="33854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61450"/>
            <p:cNvSpPr/>
            <p:nvPr/>
          </p:nvSpPr>
          <p:spPr>
            <a:xfrm>
              <a:off x="4734360" y="33854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61456"/>
            <p:cNvSpPr/>
            <p:nvPr/>
          </p:nvSpPr>
          <p:spPr>
            <a:xfrm>
              <a:off x="7012080" y="3385440"/>
              <a:ext cx="1952280" cy="1555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риметы сказ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лшебные геро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одная мудр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оекратный пов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лшебные собы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ро побеждает з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337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79640" y="1089000"/>
            <a:ext cx="5545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49068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Карий -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мно-коричневы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о цвете глаз и масти лошадей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240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Рябой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– пятнистый, пестрый</a:t>
            </a:r>
            <a:br>
              <a:rPr sz="4000"/>
            </a:br>
            <a:br>
              <a:rPr sz="40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Боров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–самец свинь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Кручиниться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оревать, грусти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иргизская сказ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«Мудрая девушка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57440" y="2365200"/>
            <a:ext cx="40276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ыйканбай и Дэв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(киргизская сказка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24000" y="2771640"/>
            <a:ext cx="50007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иргизская сказка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«Мудрая девушка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57440" y="2365200"/>
            <a:ext cx="40276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Падишах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итул некоторых правителей восточных стр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Наставление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учающее указание,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равоу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Именитый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ысокий по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бщественному положению,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чтенны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Хан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–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нязь у некоторых народ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8:40:43Z</dcterms:created>
  <dc:creator>User</dc:creator>
  <dc:description/>
  <dc:language>en-US</dc:language>
  <cp:lastModifiedBy>ольга</cp:lastModifiedBy>
  <dcterms:modified xsi:type="dcterms:W3CDTF">2011-02-23T07:12:29Z</dcterms:modified>
  <cp:revision>6</cp:revision>
  <dc:subject/>
  <dc:title>Сказка  мудростью  богата</dc:title>
</cp:coreProperties>
</file>