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52E-6D2D-47AB-BCF8-6E9D97C3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7DF-6ECB-4CA2-9308-F517879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D3B-59D2-4AA5-98EF-3651A395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717-DECB-407A-AB0B-D38F8C70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001A-1590-4D8A-BEBB-2163AB85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9C04-9D79-4C90-B366-F69456F5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4B54-D28B-4D56-B8F0-DE7DA2EE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A0AA-EA4A-4DAC-950A-D4C0C30E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4193-0278-4338-868E-81B307B3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0780-BA32-4F30-AAB9-5BF15389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3401-090A-4384-BBC3-8469633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1CF-F444-43CE-83AC-1C5EA895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C1FF-5C00-43D1-BA76-ACB99803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D93B-965B-4438-A76F-EDA5CFD9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4480-EE1B-4713-AD53-D6282A8D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AE95-D192-44AB-9E11-CB7E95F8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1DC-BFAA-439F-B894-8C344899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E616-9866-4D65-9EA9-A5AB040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4954-79A8-4B9C-8504-7BD63EF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9026-7B84-4516-A64F-1177BD4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F149-9ED5-4795-B857-D9A0718B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0BC8-2423-4F32-99F0-B92FAC28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205-FA77-442E-A054-67C2E7C4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5DF8-65B0-4F88-AA18-EE7CEDA4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62B2-A0CA-41F9-8F85-2EF8FE0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2094-D36C-4294-B208-389B15E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9646-DDC0-47D3-9980-F5C77AF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B145-5762-4B78-97D2-6F78F65D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F06E-0570-45C9-B313-E3B33209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DDEE-F43B-4143-BDDE-A9D38BD8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986D-2203-4096-8EF6-AA2EC19B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BF06-BCEE-4423-8AD3-F7C44E1B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E19C-FF7D-4C1B-A698-6F768F8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867-4124-44C0-9AB6-05A9DBFC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826E-C096-4546-BD1D-ACCC8782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F49E-553C-4E9D-B0E3-C96EDB74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42A2-7EF1-4C80-BB54-37B74EA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9BDE-F9EF-4D36-B65E-FD41FC8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1BBA-9819-47C7-B9D3-9730CC43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C785-3A5A-42CE-964F-4CDDE89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7B20-E360-4790-8661-788FF1E5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953A-6A70-4EC6-86C7-560448FC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D8B8-28D8-4630-AE68-664C24E5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0FAF-C933-492C-9B51-2107CB9E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E3B-2B47-4677-9C14-3B9D95DD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E6B5C-4A5D-412B-ADE4-BB1092D2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9F67-DB0B-4243-99F5-8826B60F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0A84-A9CA-4344-A54A-D2ED9397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5CEF-444D-4EFF-A8D8-364A702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03C6-C7F5-4091-B8F1-9219D019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B119-C520-410C-AFB6-21B8BAA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D855-D187-4271-AAE6-A128D3A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1CA8-460D-4129-85CF-452DDE16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EFFB-1FF7-441F-BEEC-D3130D4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F3D5A-C051-4309-BDFB-ECE9DF77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20B-FDFD-48E8-B0E3-A3CE800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FDFE-2868-4F0B-AA16-7DB4BB05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C85-4298-4C98-82BA-1817B211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FC7-F5AC-405E-A586-38E71F78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336-841B-461A-A78B-8E885D3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B456-E621-46F4-9FC4-FFCA5B102D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33A0-4E65-43FF-B5A5-20E9D676E20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F3A5-84AB-40DE-A67F-2320CBF45C4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6FFA-05BC-4587-8170-C5F3C59151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F2BF-3CAB-44A9-90A1-B97941BA2A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Arial"/>
              </a:rPr>
              <a:t>Редкие животные Росси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0012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7" descr="Картинка 2 из 183"/>
          <p:cNvPicPr/>
          <p:nvPr/>
        </p:nvPicPr>
        <p:blipFill>
          <a:blip r:embed="rId1"/>
          <a:stretch/>
        </p:blipFill>
        <p:spPr>
          <a:xfrm>
            <a:off x="857160" y="114300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Файл:Naemorhedus goral.jpg"/>
          <p:cNvPicPr/>
          <p:nvPr/>
        </p:nvPicPr>
        <p:blipFill>
          <a:blip r:embed="rId2"/>
          <a:stretch/>
        </p:blipFill>
        <p:spPr>
          <a:xfrm>
            <a:off x="5072040" y="1428840"/>
            <a:ext cx="2546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Кабар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Picture 5" descr="Кабарга"/>
          <p:cNvPicPr/>
          <p:nvPr/>
        </p:nvPicPr>
        <p:blipFill>
          <a:blip r:embed="rId1"/>
          <a:stretch/>
        </p:blipFill>
        <p:spPr>
          <a:xfrm>
            <a:off x="1363680" y="857160"/>
            <a:ext cx="63514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Кабарга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622480" y="1483920"/>
            <a:ext cx="3521160" cy="568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арга́, или сиби́рская кабарга́ (лат. Moschus moschiferus) — небольшое парнокопытное оленевидное животное, представитель семейства кабарговых (Moschida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тинское название вида происходит от др.-греч. μόσχος — мускус. Moschiferus переводится как «несущий муск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Картинка 3 из 44"/>
          <p:cNvPicPr/>
          <p:nvPr/>
        </p:nvPicPr>
        <p:blipFill>
          <a:blip r:embed="rId1"/>
          <a:stretch/>
        </p:blipFill>
        <p:spPr>
          <a:xfrm>
            <a:off x="179280" y="1428840"/>
            <a:ext cx="5087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опар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Рисунок 4" descr="лео-грустный.jpg"/>
          <p:cNvPicPr/>
          <p:nvPr/>
        </p:nvPicPr>
        <p:blipFill>
          <a:blip r:embed="rId1"/>
          <a:stretch/>
        </p:blipFill>
        <p:spPr>
          <a:xfrm>
            <a:off x="1357200" y="725400"/>
            <a:ext cx="6939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опар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14240" y="5214960"/>
            <a:ext cx="8429760" cy="1238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стоящее время дальневосточный леопард находится на грани вымирания. Это самый редкий из подвидов: в природе сохранилось не более 30 — 35 особ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Рисунок 5" descr="Amur_Leopard_(P.p._amurensis).jpg"/>
          <p:cNvPicPr/>
          <p:nvPr/>
        </p:nvPicPr>
        <p:blipFill>
          <a:blip r:embed="rId1"/>
          <a:stretch/>
        </p:blipFill>
        <p:spPr>
          <a:xfrm>
            <a:off x="1285920" y="785880"/>
            <a:ext cx="6649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сной ко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785600" y="5714640"/>
            <a:ext cx="7358040" cy="88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ета Банка России — Серия: «Красная книга», Амурский лесной кот, 1 руб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Рисунок 6" descr="bc9d6fb629efe1e7a89ee74b52778154_original.jpg"/>
          <p:cNvPicPr/>
          <p:nvPr/>
        </p:nvPicPr>
        <p:blipFill>
          <a:blip r:embed="rId1"/>
          <a:stretch/>
        </p:blipFill>
        <p:spPr>
          <a:xfrm>
            <a:off x="714240" y="1071720"/>
            <a:ext cx="7858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Амурский лесной к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785600" y="5714640"/>
            <a:ext cx="7358040" cy="88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кий подвид, внесён в Красную книгу Приморского кр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Рисунок 5" descr="427708.jpg"/>
          <p:cNvPicPr/>
          <p:nvPr/>
        </p:nvPicPr>
        <p:blipFill>
          <a:blip r:embed="rId1"/>
          <a:stretch/>
        </p:blipFill>
        <p:spPr>
          <a:xfrm>
            <a:off x="1857240" y="714240"/>
            <a:ext cx="58579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Дзере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5" descr="gazelle"/>
          <p:cNvPicPr/>
          <p:nvPr/>
        </p:nvPicPr>
        <p:blipFill>
          <a:blip r:embed="rId1"/>
          <a:stretch/>
        </p:blipFill>
        <p:spPr>
          <a:xfrm>
            <a:off x="1000080" y="928800"/>
            <a:ext cx="733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зере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044720" y="5214960"/>
            <a:ext cx="8099280" cy="109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зерен, или зобастая антилопа (лат. Procapra gutturosa, Gazella gutturosa) — копытное животное рода дзеренов семейства полоро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5" descr="2314"/>
          <p:cNvPicPr/>
          <p:nvPr/>
        </p:nvPicPr>
        <p:blipFill>
          <a:blip r:embed="rId1"/>
          <a:stretch/>
        </p:blipFill>
        <p:spPr>
          <a:xfrm>
            <a:off x="928800" y="928800"/>
            <a:ext cx="7634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Гора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5" descr="Файл:Naemorhedus goral.jpg"/>
          <p:cNvPicPr/>
          <p:nvPr/>
        </p:nvPicPr>
        <p:blipFill>
          <a:blip r:embed="rId1"/>
          <a:stretch/>
        </p:blipFill>
        <p:spPr>
          <a:xfrm>
            <a:off x="542880" y="785880"/>
            <a:ext cx="79344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Гора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649840" y="1557360"/>
            <a:ext cx="3494160" cy="50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́л (лат. Naemorhedus goral) — жвачное парнокопытное животное подсемейства козлов (Caprinae). Животное козлиного облика, средних размеров. По географической изменчивости окраски принимаются 6 подвидов горалов. Обитающий в российском Приморье подвид сейчас рассматривается в качестве отдельного вида амурский гор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rr5109-0055r"/>
          <p:cNvPicPr/>
          <p:nvPr/>
        </p:nvPicPr>
        <p:blipFill>
          <a:blip r:embed="rId1"/>
          <a:stretch/>
        </p:blipFill>
        <p:spPr>
          <a:xfrm>
            <a:off x="35712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Козел безоаров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7" descr="Картинка 2 из 183"/>
          <p:cNvPicPr/>
          <p:nvPr/>
        </p:nvPicPr>
        <p:blipFill>
          <a:blip r:embed="rId1"/>
          <a:stretch/>
        </p:blipFill>
        <p:spPr>
          <a:xfrm>
            <a:off x="590400" y="857160"/>
            <a:ext cx="7696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Козел безоаровы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622480" y="1483920"/>
            <a:ext cx="352116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оа́ровый козёл, или борода́тый козёл (лат. Capra aegagrus) — вид млекопитающих из семейства полорогих (Bovidae), являющийся прародителем домашней ко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5" descr="Безоаровый козёл"/>
          <p:cNvPicPr/>
          <p:nvPr/>
        </p:nvPicPr>
        <p:blipFill>
          <a:blip r:embed="rId1"/>
          <a:stretch/>
        </p:blipFill>
        <p:spPr>
          <a:xfrm>
            <a:off x="500040" y="808200"/>
            <a:ext cx="4357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Хорь-перевяз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5" descr="Картинка 3 из 63"/>
          <p:cNvPicPr/>
          <p:nvPr/>
        </p:nvPicPr>
        <p:blipFill>
          <a:blip r:embed="rId1"/>
          <a:stretch/>
        </p:blipFill>
        <p:spPr>
          <a:xfrm>
            <a:off x="312840" y="785880"/>
            <a:ext cx="87343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Хорь-перевяз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29840" y="5000400"/>
            <a:ext cx="7813800" cy="1452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воему внешнему виду перевязка напоминает лесного и степного хорька, но является более малым видом, чем они, насчитывая в длину лишь от 29 до 38 см с хвостом от 15 до 22 см. Вес взрослых перевязок составляет от 370 до 730 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5" descr="Картинка 6 из 63"/>
          <p:cNvPicPr/>
          <p:nvPr/>
        </p:nvPicPr>
        <p:blipFill>
          <a:blip r:embed="rId1"/>
          <a:stretch/>
        </p:blipFill>
        <p:spPr>
          <a:xfrm>
            <a:off x="1428840" y="714240"/>
            <a:ext cx="66405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23:02Z</dcterms:created>
  <dc:creator>user</dc:creator>
  <dc:description/>
  <dc:language>en-US</dc:language>
  <cp:lastModifiedBy>Николай</cp:lastModifiedBy>
  <dcterms:modified xsi:type="dcterms:W3CDTF">2013-01-23T07:33:42Z</dcterms:modified>
  <cp:revision>11</cp:revision>
  <dc:subject/>
  <dc:title>Слайд 1</dc:title>
</cp:coreProperties>
</file>