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56D-2104-4C98-B4C2-030EF514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7ACC-8898-4C4A-B744-20652A58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6117-4C41-4AD0-A15D-47DEADCA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E5E-D81A-43E6-99ED-ABF5DA1F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7331-54C8-4652-92AE-F590106E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E651-4BF0-48FA-8C62-F6538F27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5B69-3EA7-4EC8-B2C3-5686C424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EEA3-6E0E-446A-9D27-F64DB7FF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FAD9-44BA-4DE9-8D3D-A22D2859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0B43-B25B-41A6-94E7-88269958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3357-FB01-4881-B3CD-B5A72225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F62-EB1D-443F-A282-6A61035B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D401-5F6A-4448-B569-A139CAE1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F4C8-48BC-4266-82BC-5B5CCCF0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747E-EB78-4015-86A6-5513BEE1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E99B-249A-4D80-9774-45ABC2FF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E091-5BE9-449D-A399-7652823F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1BDE2-E2CF-4A61-8B07-0536C8C8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B2215-6718-488A-A898-7C0365F3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CACC7-29BE-4795-9098-213A9948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CA3A8-EC34-4B5A-AC59-36310FBF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2464A-BDBB-43B9-9E79-AD7F4F45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368B-3906-4EA3-AC85-9DEC452C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65705-37AB-4642-9CAB-E27E40F2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30F48-0E46-4335-A3B1-62BCE555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294DE-9042-482C-8FE7-EBC8FD1F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B8682-1246-4D44-9FDC-358CBD32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434E8-8B2D-4C5D-92DA-E8E0FFC4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8F0B3-ED75-4D06-AEED-274876A1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F912F-53E0-4F30-831F-B28DD2EC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8DDE3-0A83-4CAE-97FA-A4773637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F48BC-D29C-444B-B4B6-0FACECE4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F13DD-0052-4DC9-9A04-F4282311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094C-4847-48DD-98A0-CC52C889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3E7D2-213B-40CA-82B5-84CD37A8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B2C23-0D1B-4EF5-A1FE-C9433BAE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8FF36-5B19-4676-A134-101C33FB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5BA82-3920-48FB-9D7C-0AC9D8FF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7A638-767E-494D-A6C5-1BC977B5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CDE1B-D9E3-464C-9233-F6C9B73A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764BB-9B7E-4A31-BAB1-53450B0B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7AA39-864F-4B79-8C7B-7FD0FD8A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F64CC-7C21-4724-B935-81AFD0A0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1CDA3-9BB4-49E9-B6DB-3D199D1B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2F5-F723-4AD4-B349-A4C3F737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16FCB-9E74-4073-A7FB-8A225A67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2F5E6-9FAF-4BE2-9281-5E0B2124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BB8FD-7A56-4093-8037-3B1361B6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F8A0C-C4D0-4BA2-9D1A-8AFD4886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53908-6687-47CA-95C9-0E4CA6A4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83BB1-7BD0-45A8-8426-431B83D9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C84C0-460D-47D5-9DDB-1A149BBB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06C99-3701-4755-8AFD-12B839E0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00450-F8C0-49D9-ADE7-683F0D93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0C7A9-DD28-49F2-B673-8F12F38E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55C-A6C3-4078-B194-C8E8A94E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A23A0-E8F5-4763-BE81-8A71AE92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44A-88F2-437D-B443-A229BD0B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8D40-E9EC-4F47-8D9E-8949248B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F874-941B-441D-BF24-540A2B08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788B-E63A-4FC6-94FD-0174A362CF1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9493-8E51-44BC-B24B-50BE32874AC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8932-B89F-4B81-9DAF-53858ED50B5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9A02-123C-46E0-A75E-AF8CB418DF1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DFF2-2B7A-4704-A037-A7330028ED1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588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Arial"/>
              </a:rPr>
              <a:t>Редкие животные России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500120" y="4928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Arial"/>
              </a:rPr>
              <a:t>Млекопитающ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7" descr="Картинка 2 из 183"/>
          <p:cNvPicPr/>
          <p:nvPr/>
        </p:nvPicPr>
        <p:blipFill>
          <a:blip r:embed="rId1"/>
          <a:stretch/>
        </p:blipFill>
        <p:spPr>
          <a:xfrm>
            <a:off x="857160" y="114300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Файл:Naemorhedus goral.jpg"/>
          <p:cNvPicPr/>
          <p:nvPr/>
        </p:nvPicPr>
        <p:blipFill>
          <a:blip r:embed="rId2"/>
          <a:stretch/>
        </p:blipFill>
        <p:spPr>
          <a:xfrm>
            <a:off x="5072040" y="1428840"/>
            <a:ext cx="25462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"/>
              </a:rPr>
              <a:t>Кабарг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5" name="Picture 5" descr="Кабарга"/>
          <p:cNvPicPr/>
          <p:nvPr/>
        </p:nvPicPr>
        <p:blipFill>
          <a:blip r:embed="rId1"/>
          <a:stretch/>
        </p:blipFill>
        <p:spPr>
          <a:xfrm>
            <a:off x="1363680" y="857160"/>
            <a:ext cx="635148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Кабарга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5622480" y="1483920"/>
            <a:ext cx="3521160" cy="5689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барга́, или сиби́рская кабарга́ (лат. Moschus moschiferus) — небольшое парнокопытное оленевидное животное, представитель семейства кабарговых (Moschida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тинское название вида происходит от др.-греч. μόσχος — мускус. Moschiferus переводится как «несущий мускус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5" descr="Картинка 3 из 44"/>
          <p:cNvPicPr/>
          <p:nvPr/>
        </p:nvPicPr>
        <p:blipFill>
          <a:blip r:embed="rId1"/>
          <a:stretch/>
        </p:blipFill>
        <p:spPr>
          <a:xfrm>
            <a:off x="179280" y="1428840"/>
            <a:ext cx="5087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600" y="21384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Амурский леопард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Рисунок 4" descr="лео-грустный.jpg"/>
          <p:cNvPicPr/>
          <p:nvPr/>
        </p:nvPicPr>
        <p:blipFill>
          <a:blip r:embed="rId1"/>
          <a:stretch/>
        </p:blipFill>
        <p:spPr>
          <a:xfrm>
            <a:off x="1357200" y="725400"/>
            <a:ext cx="69390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21384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Амурский леопард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14240" y="5214960"/>
            <a:ext cx="8429760" cy="1238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астоящее время дальневосточный леопард находится на грани вымирания. Это самый редкий из подвидов: в природе сохранилось не более 30 — 35 особе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Рисунок 5" descr="Amur_Leopard_(P.p._amurensis).jpg"/>
          <p:cNvPicPr/>
          <p:nvPr/>
        </p:nvPicPr>
        <p:blipFill>
          <a:blip r:embed="rId1"/>
          <a:stretch/>
        </p:blipFill>
        <p:spPr>
          <a:xfrm>
            <a:off x="1285920" y="785880"/>
            <a:ext cx="66499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21384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Амурский лесной кот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785600" y="5714640"/>
            <a:ext cx="7358040" cy="880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ета Банка России — Серия: «Красная книга», Амурский лесной кот, 1 руб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Рисунок 6" descr="bc9d6fb629efe1e7a89ee74b52778154_original.jpg"/>
          <p:cNvPicPr/>
          <p:nvPr/>
        </p:nvPicPr>
        <p:blipFill>
          <a:blip r:embed="rId1"/>
          <a:stretch/>
        </p:blipFill>
        <p:spPr>
          <a:xfrm>
            <a:off x="714240" y="1071720"/>
            <a:ext cx="7858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21384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"/>
              </a:rPr>
              <a:t>Амурский лесной кот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785600" y="5714640"/>
            <a:ext cx="7358040" cy="880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кий подвид, внесён в Красную книгу Приморского кр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Рисунок 5" descr="427708.jpg"/>
          <p:cNvPicPr/>
          <p:nvPr/>
        </p:nvPicPr>
        <p:blipFill>
          <a:blip r:embed="rId1"/>
          <a:stretch/>
        </p:blipFill>
        <p:spPr>
          <a:xfrm>
            <a:off x="1857240" y="714240"/>
            <a:ext cx="5857920" cy="49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77724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Дзерен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5" name="Picture 5" descr="gazelle"/>
          <p:cNvPicPr/>
          <p:nvPr/>
        </p:nvPicPr>
        <p:blipFill>
          <a:blip r:embed="rId1"/>
          <a:stretch/>
        </p:blipFill>
        <p:spPr>
          <a:xfrm>
            <a:off x="1000080" y="928800"/>
            <a:ext cx="73310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33336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Дзерен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044720" y="5214960"/>
            <a:ext cx="8099280" cy="1093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зерен, или зобастая антилопа (лат. Procapra gutturosa, Gazella gutturosa) — копытное животное рода дзеренов семейства полорогих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5" descr="2314"/>
          <p:cNvPicPr/>
          <p:nvPr/>
        </p:nvPicPr>
        <p:blipFill>
          <a:blip r:embed="rId1"/>
          <a:stretch/>
        </p:blipFill>
        <p:spPr>
          <a:xfrm>
            <a:off x="928800" y="928800"/>
            <a:ext cx="76341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Горал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Picture 5" descr="Файл:Naemorhedus goral.jpg"/>
          <p:cNvPicPr/>
          <p:nvPr/>
        </p:nvPicPr>
        <p:blipFill>
          <a:blip r:embed="rId1"/>
          <a:stretch/>
        </p:blipFill>
        <p:spPr>
          <a:xfrm>
            <a:off x="542880" y="785880"/>
            <a:ext cx="79344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33336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"/>
              </a:rPr>
              <a:t>Гора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649840" y="1557360"/>
            <a:ext cx="3494160" cy="50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а́л (лат. Naemorhedus goral) — жвачное парнокопытное животное подсемейства козлов (Caprinae). Животное козлиного облика, средних размеров. По географической изменчивости окраски принимаются 6 подвидов горалов. Обитающий в российском Приморье подвид сейчас рассматривается в качестве отдельного вида амурский гора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5" descr="rr5109-0055r"/>
          <p:cNvPicPr/>
          <p:nvPr/>
        </p:nvPicPr>
        <p:blipFill>
          <a:blip r:embed="rId1"/>
          <a:stretch/>
        </p:blipFill>
        <p:spPr>
          <a:xfrm>
            <a:off x="357120" y="1428840"/>
            <a:ext cx="5072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"/>
              </a:rPr>
              <a:t>Козел безоаровы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5" name="Picture 7" descr="Картинка 2 из 183"/>
          <p:cNvPicPr/>
          <p:nvPr/>
        </p:nvPicPr>
        <p:blipFill>
          <a:blip r:embed="rId1"/>
          <a:stretch/>
        </p:blipFill>
        <p:spPr>
          <a:xfrm>
            <a:off x="590400" y="857160"/>
            <a:ext cx="769644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Козел безоаровый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5622480" y="1483920"/>
            <a:ext cx="3521160" cy="4824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езоа́ровый козёл, или борода́тый козёл (лат. Capra aegagrus) — вид млекопитающих из семейства полорогих (Bovidae), являющийся прародителем домашней коз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5" descr="Безоаровый козёл"/>
          <p:cNvPicPr/>
          <p:nvPr/>
        </p:nvPicPr>
        <p:blipFill>
          <a:blip r:embed="rId1"/>
          <a:stretch/>
        </p:blipFill>
        <p:spPr>
          <a:xfrm>
            <a:off x="500040" y="808200"/>
            <a:ext cx="43578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42920"/>
            <a:ext cx="77724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Хорь-перевязк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0" name="Picture 5" descr="Картинка 3 из 63"/>
          <p:cNvPicPr/>
          <p:nvPr/>
        </p:nvPicPr>
        <p:blipFill>
          <a:blip r:embed="rId1"/>
          <a:stretch/>
        </p:blipFill>
        <p:spPr>
          <a:xfrm>
            <a:off x="312840" y="785880"/>
            <a:ext cx="87343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600" y="142920"/>
            <a:ext cx="77724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Хорь-перевязк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29840" y="5000400"/>
            <a:ext cx="7813800" cy="1452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своему внешнему виду перевязка напоминает лесного и степного хорька, но является более малым видом, чем они, насчитывая в длину лишь от 29 до 38 см с хвостом от 15 до 22 см. Вес взрослых перевязок составляет от 370 до 730 г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5" descr="Картинка 6 из 63"/>
          <p:cNvPicPr/>
          <p:nvPr/>
        </p:nvPicPr>
        <p:blipFill>
          <a:blip r:embed="rId1"/>
          <a:stretch/>
        </p:blipFill>
        <p:spPr>
          <a:xfrm>
            <a:off x="1428840" y="714240"/>
            <a:ext cx="66405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0:23:02Z</dcterms:created>
  <dc:creator>user</dc:creator>
  <dc:description/>
  <dc:language>en-US</dc:language>
  <cp:lastModifiedBy>Николай</cp:lastModifiedBy>
  <dcterms:modified xsi:type="dcterms:W3CDTF">2013-01-23T07:33:42Z</dcterms:modified>
  <cp:revision>11</cp:revision>
  <dc:subject/>
  <dc:title>Слайд 1</dc:title>
</cp:coreProperties>
</file>