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A825-3BA2-4FF1-B344-8B6AD25D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69E9-1686-47D3-8E22-D38A407F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FA03-53DE-438D-9CBC-36749388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0C15-1301-4AA1-8A10-5CA589E9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D87A-E52D-4A7D-9BD3-AC0B9616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3DD1-3B2F-48F2-9A8B-361AAA98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0605-FE5D-4385-BE20-E6046782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7809-04BC-4217-A94C-274BC289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90B2-0766-4538-888B-2ACADB6B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A4AB-51E5-45C2-B2CD-13C961CD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59EF-DBD5-4D3B-9BC2-D786B7B7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A045-84D8-4967-A635-9F3008BF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E3AC-4455-469F-B809-D4541FB9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027B-8982-40D4-AD67-091DD4FE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1C3C-C38D-472D-A1E9-36A63795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E361-AB2B-47C7-AEC6-1FB96C3D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18A3-5E5A-44AC-82C2-FEF7971B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7C7ED-005C-451B-8E87-888F5E52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DB764-4450-4166-BE2E-335F67C6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AAF58-26E4-4E4D-AA29-32E191AD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9E908-F06C-42E8-8357-7CDBE931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28E7A-628A-4B94-BAF9-F859E447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ABF-24AE-4BFD-923E-5CE33098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977C3-CF4F-4D62-93D6-27D200BC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EFB8D-3D02-4070-89D2-22ABA65E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BEB66-F822-4D3A-8FB1-E06E8646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51DF2-95E3-4B1A-A9DC-CDC68664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57307-B83C-40A6-93F1-EABFB15B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CE950-C43C-41A4-A95A-0A19DE90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B7DB1-BBC9-4C44-910D-76DB8D06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FAE2C-78E4-42DC-ACED-CBA2FF6C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FF262-61D2-4383-97E8-6A369FE4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1E3DF-32B6-44C9-A7AB-42E8616A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067B-E206-43AD-9497-734C8D70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EE55A-B7EC-4AA6-BB7A-41E3F6D4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3A879-D079-4699-B901-0CDF2CF7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686EA-4C5C-4FDA-8515-72EFB390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FAEDB-AC7E-4AD3-908A-F5BF830E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FBAB4-E3BD-41F0-9929-3F085FA3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C72C5-86D2-4D7D-A81C-B5FD9E20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E972B-7923-4002-BDBC-7B8DECB5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6FF7C-B301-4E8E-90F1-E772F961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288A2-691F-4517-9C03-68C2B041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643A0-1FFF-42CB-8D40-5CD97C06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01C1-AD4D-4E06-B2C9-D69F136A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E6A6E-4105-40B4-9448-EC8F7106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85F0E-E9F1-4B25-84A8-FF68E072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33667-FBAC-47A6-BBA5-DAACB64A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ACD6C-C311-45FC-A6F1-938D57CE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B5B94-B4FB-4635-9C13-A142A731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41659-54D3-4994-9A79-52525D40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9FEB3-8A4F-44E1-AD23-F80BAB31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86838-D9B1-492F-A081-C81FE43F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38726-D364-4FF9-B806-53299757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B2007-B9C3-45B3-AAFD-59D5BBDB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BC87-9DE4-4338-B8FE-F5A74C23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989E7-A453-43E9-BACC-924797A6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1310-2B10-48A0-860B-E5473890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6C9-7D65-41FD-80BF-0EFF9775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CB81-AB93-4F2A-8BCF-DBEFB9FE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7283-8A5A-45B0-9734-B10276D9141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6544-499F-4514-BAB0-66CA625EBF8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C763-F7F5-4BF4-9414-2930AFA93A6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06F3-B69E-411C-8E19-0E6D43CE474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65E4-1D5F-483B-BDE8-8A8B6C222A7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588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Arial"/>
              </a:rPr>
              <a:t>Редкие животные России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500120" y="4928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Arial"/>
              </a:rPr>
              <a:t>Млекопитающ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7" descr="Картинка 2 из 183"/>
          <p:cNvPicPr/>
          <p:nvPr/>
        </p:nvPicPr>
        <p:blipFill>
          <a:blip r:embed="rId1"/>
          <a:stretch/>
        </p:blipFill>
        <p:spPr>
          <a:xfrm>
            <a:off x="857160" y="114300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Файл:Naemorhedus goral.jpg"/>
          <p:cNvPicPr/>
          <p:nvPr/>
        </p:nvPicPr>
        <p:blipFill>
          <a:blip r:embed="rId2"/>
          <a:stretch/>
        </p:blipFill>
        <p:spPr>
          <a:xfrm>
            <a:off x="5072040" y="1428840"/>
            <a:ext cx="25462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"/>
              </a:rPr>
              <a:t>Кабарг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5" name="Picture 5" descr="Кабарга"/>
          <p:cNvPicPr/>
          <p:nvPr/>
        </p:nvPicPr>
        <p:blipFill>
          <a:blip r:embed="rId1"/>
          <a:stretch/>
        </p:blipFill>
        <p:spPr>
          <a:xfrm>
            <a:off x="1363680" y="857160"/>
            <a:ext cx="635148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Кабарга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5622480" y="1483920"/>
            <a:ext cx="3521160" cy="5689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барга́, или сиби́рская кабарга́ (лат. Moschus moschiferus) — небольшое парнокопытное оленевидное животное, представитель семейства кабарговых (Moschida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тинское название вида происходит от др.-греч. μόσχος — мускус. Moschiferus переводится как «несущий мускус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5" descr="Картинка 3 из 44"/>
          <p:cNvPicPr/>
          <p:nvPr/>
        </p:nvPicPr>
        <p:blipFill>
          <a:blip r:embed="rId1"/>
          <a:stretch/>
        </p:blipFill>
        <p:spPr>
          <a:xfrm>
            <a:off x="179280" y="1428840"/>
            <a:ext cx="5087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600" y="21384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Амурский леопард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Рисунок 4" descr="лео-грустный.jpg"/>
          <p:cNvPicPr/>
          <p:nvPr/>
        </p:nvPicPr>
        <p:blipFill>
          <a:blip r:embed="rId1"/>
          <a:stretch/>
        </p:blipFill>
        <p:spPr>
          <a:xfrm>
            <a:off x="1357200" y="725400"/>
            <a:ext cx="69390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21384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Амурский леопард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14240" y="5214960"/>
            <a:ext cx="8429760" cy="1238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астоящее время дальневосточный леопард находится на грани вымирания. Это самый редкий из подвидов: в природе сохранилось не более 30 — 35 особе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Рисунок 5" descr="Amur_Leopard_(P.p._amurensis).jpg"/>
          <p:cNvPicPr/>
          <p:nvPr/>
        </p:nvPicPr>
        <p:blipFill>
          <a:blip r:embed="rId1"/>
          <a:stretch/>
        </p:blipFill>
        <p:spPr>
          <a:xfrm>
            <a:off x="1285920" y="785880"/>
            <a:ext cx="66499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21384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Амурский лесной кот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785600" y="5714640"/>
            <a:ext cx="7358040" cy="880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ета Банка России — Серия: «Красная книга», Амурский лесной кот, 1 руб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Рисунок 6" descr="bc9d6fb629efe1e7a89ee74b52778154_original.jpg"/>
          <p:cNvPicPr/>
          <p:nvPr/>
        </p:nvPicPr>
        <p:blipFill>
          <a:blip r:embed="rId1"/>
          <a:stretch/>
        </p:blipFill>
        <p:spPr>
          <a:xfrm>
            <a:off x="714240" y="1071720"/>
            <a:ext cx="7858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21384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"/>
              </a:rPr>
              <a:t>Амурский лесной кот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785600" y="5714640"/>
            <a:ext cx="7358040" cy="880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кий подвид, внесён в Красную книгу Приморского кр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Рисунок 5" descr="427708.jpg"/>
          <p:cNvPicPr/>
          <p:nvPr/>
        </p:nvPicPr>
        <p:blipFill>
          <a:blip r:embed="rId1"/>
          <a:stretch/>
        </p:blipFill>
        <p:spPr>
          <a:xfrm>
            <a:off x="1857240" y="714240"/>
            <a:ext cx="5857920" cy="49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77724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Дзерен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5" name="Picture 5" descr="gazelle"/>
          <p:cNvPicPr/>
          <p:nvPr/>
        </p:nvPicPr>
        <p:blipFill>
          <a:blip r:embed="rId1"/>
          <a:stretch/>
        </p:blipFill>
        <p:spPr>
          <a:xfrm>
            <a:off x="1000080" y="928800"/>
            <a:ext cx="73310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33336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Дзерен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044720" y="5214960"/>
            <a:ext cx="8099280" cy="1093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зерен, или зобастая антилопа (лат. Procapra gutturosa, Gazella gutturosa) — копытное животное рода дзеренов семейства полорогих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5" descr="2314"/>
          <p:cNvPicPr/>
          <p:nvPr/>
        </p:nvPicPr>
        <p:blipFill>
          <a:blip r:embed="rId1"/>
          <a:stretch/>
        </p:blipFill>
        <p:spPr>
          <a:xfrm>
            <a:off x="928800" y="928800"/>
            <a:ext cx="76341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Горал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Picture 5" descr="Файл:Naemorhedus goral.jpg"/>
          <p:cNvPicPr/>
          <p:nvPr/>
        </p:nvPicPr>
        <p:blipFill>
          <a:blip r:embed="rId1"/>
          <a:stretch/>
        </p:blipFill>
        <p:spPr>
          <a:xfrm>
            <a:off x="542880" y="785880"/>
            <a:ext cx="79344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33336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"/>
              </a:rPr>
              <a:t>Гора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649840" y="1557360"/>
            <a:ext cx="3494160" cy="50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а́л (лат. Naemorhedus goral) — жвачное парнокопытное животное подсемейства козлов (Caprinae). Животное козлиного облика, средних размеров. По географической изменчивости окраски принимаются 6 подвидов горалов. Обитающий в российском Приморье подвид сейчас рассматривается в качестве отдельного вида амурский гора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5" descr="rr5109-0055r"/>
          <p:cNvPicPr/>
          <p:nvPr/>
        </p:nvPicPr>
        <p:blipFill>
          <a:blip r:embed="rId1"/>
          <a:stretch/>
        </p:blipFill>
        <p:spPr>
          <a:xfrm>
            <a:off x="357120" y="1428840"/>
            <a:ext cx="5072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"/>
              </a:rPr>
              <a:t>Козел безоаровы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5" name="Picture 7" descr="Картинка 2 из 183"/>
          <p:cNvPicPr/>
          <p:nvPr/>
        </p:nvPicPr>
        <p:blipFill>
          <a:blip r:embed="rId1"/>
          <a:stretch/>
        </p:blipFill>
        <p:spPr>
          <a:xfrm>
            <a:off x="590400" y="857160"/>
            <a:ext cx="769644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Козел безоаровый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5622480" y="1483920"/>
            <a:ext cx="3521160" cy="4824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езоа́ровый козёл, или борода́тый козёл (лат. Capra aegagrus) — вид млекопитающих из семейства полорогих (Bovidae), являющийся прародителем домашней коз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5" descr="Безоаровый козёл"/>
          <p:cNvPicPr/>
          <p:nvPr/>
        </p:nvPicPr>
        <p:blipFill>
          <a:blip r:embed="rId1"/>
          <a:stretch/>
        </p:blipFill>
        <p:spPr>
          <a:xfrm>
            <a:off x="500040" y="808200"/>
            <a:ext cx="43578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42920"/>
            <a:ext cx="77724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Хорь-перевязк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0" name="Picture 5" descr="Картинка 3 из 63"/>
          <p:cNvPicPr/>
          <p:nvPr/>
        </p:nvPicPr>
        <p:blipFill>
          <a:blip r:embed="rId1"/>
          <a:stretch/>
        </p:blipFill>
        <p:spPr>
          <a:xfrm>
            <a:off x="312840" y="785880"/>
            <a:ext cx="87343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600" y="142920"/>
            <a:ext cx="77724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Хорь-перевязк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29840" y="5000400"/>
            <a:ext cx="7813800" cy="1452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своему внешнему виду перевязка напоминает лесного и степного хорька, но является более малым видом, чем они, насчитывая в длину лишь от 29 до 38 см с хвостом от 15 до 22 см. Вес взрослых перевязок составляет от 370 до 730 г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5" descr="Картинка 6 из 63"/>
          <p:cNvPicPr/>
          <p:nvPr/>
        </p:nvPicPr>
        <p:blipFill>
          <a:blip r:embed="rId1"/>
          <a:stretch/>
        </p:blipFill>
        <p:spPr>
          <a:xfrm>
            <a:off x="1428840" y="714240"/>
            <a:ext cx="66405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0:23:02Z</dcterms:created>
  <dc:creator>user</dc:creator>
  <dc:description/>
  <dc:language>en-US</dc:language>
  <cp:lastModifiedBy>Николай</cp:lastModifiedBy>
  <dcterms:modified xsi:type="dcterms:W3CDTF">2013-01-23T07:33:42Z</dcterms:modified>
  <cp:revision>11</cp:revision>
  <dc:subject/>
  <dc:title>Слайд 1</dc:title>
</cp:coreProperties>
</file>