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6.gif" ContentType="image/gif"/>
  <Override PartName="/ppt/media/image1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8.png" ContentType="image/pn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40.jpeg" ContentType="image/jpeg"/>
  <Override PartName="/ppt/media/image44.jpeg" ContentType="image/jpeg"/>
  <Override PartName="/ppt/media/image13.png" ContentType="image/png"/>
  <Override PartName="/ppt/media/image48.png" ContentType="image/png"/>
  <Override PartName="/ppt/media/image33.gif" ContentType="image/gif"/>
  <Override PartName="/ppt/media/image37.png" ContentType="image/png"/>
  <Override PartName="/ppt/media/image45.jpeg" ContentType="image/jpeg"/>
  <Override PartName="/ppt/media/image46.jpeg" ContentType="image/jpeg"/>
  <Override PartName="/ppt/media/image42.jpeg" ContentType="image/jpeg"/>
  <Override PartName="/ppt/media/image32.gif" ContentType="image/gif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18.png" ContentType="image/png"/>
  <Override PartName="/ppt/media/image20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35.png" ContentType="image/png"/>
  <Override PartName="/ppt/media/image4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218D-1B77-4D46-BAD2-9A554103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3EF-9751-4593-AF76-F89F9FD1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2032-CE8F-49EA-8612-DBB40419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7FE9-1F84-4328-9B4C-B9CD536F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C859-61BE-4F69-9904-3E286122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F417-FFD5-43AE-AF20-6D319439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D448-8A17-47A7-A91A-C0EE88A5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E6B0-A17F-4FDB-962A-5B515BA3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29E5-1BB4-41BC-A89A-0FD748F7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EB0B-79D4-4A9B-8A15-E420B9F9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F233-79F0-492A-8F6D-2C3D5D68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7CF9-B598-4C79-86A8-A604937C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DD42-FCFB-473D-8A74-B521F1E9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688C-7022-4E0F-84D8-A4FA1B50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E3BC-3AB8-4D3C-B2EB-D71D8DBC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946E-5997-407C-A08D-4D1FE769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E5CB-FE56-4484-92FA-E4235566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0720-3D53-447C-A3A9-A4EA0E62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335-91EB-4EE5-9E5E-017D0E5C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CDFB-EB6B-40DA-BCB6-1D6A4684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FBA-6C53-4CA1-993D-A2991E4B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654-E679-4D78-8B7D-2D83D5B7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5D4-2DBA-4386-A6DE-136FA550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33C-2612-492C-BBA0-AFD00F1C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41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DE29-E523-4431-AA33-C0BB8206A52A}" type="slidenum"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41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7B93-FD33-47D2-B684-A79565A7E538}" type="slidenum"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gif"/><Relationship Id="rId9" Type="http://schemas.openxmlformats.org/officeDocument/2006/relationships/image" Target="../media/image33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8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9.xml"/><Relationship Id="rId3" Type="http://schemas.openxmlformats.org/officeDocument/2006/relationships/image" Target="../media/image14.jpeg"/><Relationship Id="rId4" Type="http://schemas.openxmlformats.org/officeDocument/2006/relationships/slide" Target="slide8.xml"/><Relationship Id="rId5" Type="http://schemas.openxmlformats.org/officeDocument/2006/relationships/image" Target="../media/image15.jpeg"/><Relationship Id="rId6" Type="http://schemas.openxmlformats.org/officeDocument/2006/relationships/slide" Target="slide4.xml"/><Relationship Id="rId7" Type="http://schemas.openxmlformats.org/officeDocument/2006/relationships/image" Target="../media/image16.jpeg"/><Relationship Id="rId8" Type="http://schemas.openxmlformats.org/officeDocument/2006/relationships/slide" Target="slide7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4.xml"/><Relationship Id="rId3" Type="http://schemas.openxmlformats.org/officeDocument/2006/relationships/image" Target="../media/image16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82560" y="1189080"/>
            <a:ext cx="7785000" cy="2419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85680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                                  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икторина для детей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84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2792520"/>
            <a:ext cx="85172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400" y="272520"/>
            <a:ext cx="82580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Крепко помните, друзья,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Что с огнем шалить  ... .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Дым увидел — не зевай.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И пожарных  ... .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5720" y="1356840"/>
            <a:ext cx="2357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f174a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f174a"/>
                </a:solidFill>
                <a:latin typeface="Times New Roman"/>
              </a:rPr>
              <a:t>                  </a:t>
            </a: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f174a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35" name="Picture 2" descr="C:\Documents and Settings\умис\Мои документы\основы безопасности\картинки пож\ogon.JPG"/>
          <p:cNvPicPr/>
          <p:nvPr/>
        </p:nvPicPr>
        <p:blipFill>
          <a:blip r:embed="rId6"/>
          <a:stretch/>
        </p:blipFill>
        <p:spPr>
          <a:xfrm>
            <a:off x="5214960" y="0"/>
            <a:ext cx="3929040" cy="2946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:\Documents and Settings\умис\Мои документы\основы безопасности\картинки пож\1185890193.jpg"/>
          <p:cNvPicPr/>
          <p:nvPr/>
        </p:nvPicPr>
        <p:blipFill>
          <a:blip r:embed="rId7"/>
          <a:stretch/>
        </p:blipFill>
        <p:spPr>
          <a:xfrm>
            <a:off x="285840" y="3429000"/>
            <a:ext cx="3929040" cy="3143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C:\Documents and Settings\умис\Мои документы\анимашки\15.gif"/>
          <p:cNvPicPr/>
          <p:nvPr/>
        </p:nvPicPr>
        <p:blipFill>
          <a:blip r:embed="rId8"/>
          <a:stretch/>
        </p:blipFill>
        <p:spPr>
          <a:xfrm>
            <a:off x="4572000" y="1928880"/>
            <a:ext cx="1905120" cy="1218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C:\Documents and Settings\умис\Мои документы\анимашки\2.gif"/>
          <p:cNvPicPr/>
          <p:nvPr/>
        </p:nvPicPr>
        <p:blipFill>
          <a:blip r:embed="rId9"/>
          <a:stretch/>
        </p:blipFill>
        <p:spPr>
          <a:xfrm>
            <a:off x="7643880" y="5357880"/>
            <a:ext cx="10191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85840"/>
            <a:ext cx="86868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9432b"/>
                </a:solidFill>
                <a:latin typeface="Times New Roman"/>
              </a:rPr>
              <a:t>Какой номер у пожарной </a:t>
            </a:r>
            <a:endParaRPr b="0" lang="en-US" sz="4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9432b"/>
                </a:solidFill>
                <a:latin typeface="Times New Roman"/>
              </a:rPr>
              <a:t>                    </a:t>
            </a:r>
            <a:r>
              <a:rPr b="1" lang="ru-RU" sz="4400" spc="-1" strike="noStrike">
                <a:solidFill>
                  <a:srgbClr val="a9432b"/>
                </a:solidFill>
                <a:latin typeface="Times New Roman"/>
              </a:rPr>
              <a:t>охраны?  </a:t>
            </a:r>
            <a:r>
              <a:rPr b="1" lang="ru-RU" sz="2400" spc="-1" strike="noStrike">
                <a:solidFill>
                  <a:srgbClr val="a9432b"/>
                </a:solidFill>
                <a:latin typeface="Times New Roman"/>
              </a:rPr>
              <a:t>(нажми на номер)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42" name="Прямоугольник 5" descr=""/>
          <p:cNvPicPr/>
          <p:nvPr/>
        </p:nvPicPr>
        <p:blipFill>
          <a:blip r:embed="rId2"/>
          <a:stretch/>
        </p:blipFill>
        <p:spPr>
          <a:xfrm>
            <a:off x="731880" y="1944720"/>
            <a:ext cx="2822400" cy="171288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6" descr=""/>
          <p:cNvPicPr/>
          <p:nvPr/>
        </p:nvPicPr>
        <p:blipFill>
          <a:blip r:embed="rId3"/>
          <a:stretch/>
        </p:blipFill>
        <p:spPr>
          <a:xfrm>
            <a:off x="4943520" y="4230720"/>
            <a:ext cx="2828880" cy="171288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7" descr=""/>
          <p:cNvPicPr/>
          <p:nvPr/>
        </p:nvPicPr>
        <p:blipFill>
          <a:blip r:embed="rId4"/>
          <a:stretch/>
        </p:blipFill>
        <p:spPr>
          <a:xfrm>
            <a:off x="5016600" y="2084400"/>
            <a:ext cx="2822400" cy="171288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8" descr=""/>
          <p:cNvPicPr/>
          <p:nvPr/>
        </p:nvPicPr>
        <p:blipFill>
          <a:blip r:embed="rId5"/>
          <a:stretch/>
        </p:blipFill>
        <p:spPr>
          <a:xfrm>
            <a:off x="658800" y="4230720"/>
            <a:ext cx="28227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28400" y="356760"/>
            <a:ext cx="81867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174a"/>
                </a:solidFill>
                <a:latin typeface="Times New Roman"/>
              </a:rPr>
              <a:t>Ошибка, это номер скорой помощи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03</a:t>
            </a:r>
            <a:endParaRPr b="0" lang="en-US" sz="72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49" name="Стрелка вправо с вырезом 4" descr=""/>
          <p:cNvPicPr/>
          <p:nvPr/>
        </p:nvPicPr>
        <p:blipFill>
          <a:blip r:embed="rId2"/>
          <a:stretch/>
        </p:blipFill>
        <p:spPr>
          <a:xfrm>
            <a:off x="7407360" y="5973840"/>
            <a:ext cx="1547640" cy="77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Documents and Settings\умис\Мои документы\8d46aa203e34d28c243bec90cf00ec5f_big.jpg"/>
          <p:cNvPicPr/>
          <p:nvPr/>
        </p:nvPicPr>
        <p:blipFill>
          <a:blip r:embed="rId3"/>
          <a:stretch/>
        </p:blipFill>
        <p:spPr>
          <a:xfrm>
            <a:off x="2071800" y="1857240"/>
            <a:ext cx="5019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13840" y="272520"/>
            <a:ext cx="8472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174a"/>
                </a:solidFill>
                <a:latin typeface="Times New Roman"/>
              </a:rPr>
              <a:t>Подумай ещё, это телефон милиции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174a"/>
                </a:solidFill>
                <a:latin typeface="Times New Roman"/>
              </a:rPr>
              <a:t>      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02</a:t>
            </a:r>
            <a:endParaRPr b="0" lang="en-US" sz="72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54" name="Стрелка вправо с вырезом 4" descr=""/>
          <p:cNvPicPr/>
          <p:nvPr/>
        </p:nvPicPr>
        <p:blipFill>
          <a:blip r:embed="rId2"/>
          <a:stretch/>
        </p:blipFill>
        <p:spPr>
          <a:xfrm>
            <a:off x="7407360" y="5973840"/>
            <a:ext cx="1547640" cy="77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Documents and Settings\умис\Мои документы\142353200909040.jpg"/>
          <p:cNvPicPr/>
          <p:nvPr/>
        </p:nvPicPr>
        <p:blipFill>
          <a:blip r:embed="rId3"/>
          <a:stretch/>
        </p:blipFill>
        <p:spPr>
          <a:xfrm>
            <a:off x="428760" y="3571920"/>
            <a:ext cx="3619440" cy="2971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Documents and Settings\умис\Мои документы\222f9966d987b7e28e96e2a648d3d614_big.jpg"/>
          <p:cNvPicPr/>
          <p:nvPr/>
        </p:nvPicPr>
        <p:blipFill>
          <a:blip r:embed="rId4"/>
          <a:stretch/>
        </p:blipFill>
        <p:spPr>
          <a:xfrm>
            <a:off x="4357800" y="1071720"/>
            <a:ext cx="45720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28400" y="272520"/>
            <a:ext cx="82580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5f174a"/>
                </a:solidFill>
                <a:latin typeface="Times New Roman"/>
              </a:rPr>
              <a:t>Будь внимателен, это номер аварийной службы  ГАЗА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04</a:t>
            </a:r>
            <a:endParaRPr b="0" lang="en-US" sz="72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60" name="Стрелка вправо с вырезом 4" descr=""/>
          <p:cNvPicPr/>
          <p:nvPr/>
        </p:nvPicPr>
        <p:blipFill>
          <a:blip r:embed="rId2"/>
          <a:stretch/>
        </p:blipFill>
        <p:spPr>
          <a:xfrm>
            <a:off x="7334280" y="5907240"/>
            <a:ext cx="1620720" cy="841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Documents and Settings\умис\Мои документы\G_gorgaz.jpg"/>
          <p:cNvPicPr/>
          <p:nvPr/>
        </p:nvPicPr>
        <p:blipFill>
          <a:blip r:embed="rId3"/>
          <a:stretch/>
        </p:blipFill>
        <p:spPr>
          <a:xfrm>
            <a:off x="5000760" y="1643040"/>
            <a:ext cx="3800520" cy="2857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Documents and Settings\умис\Мои документы\0_1f693_1cddbd1c_XL.jpeg"/>
          <p:cNvPicPr/>
          <p:nvPr/>
        </p:nvPicPr>
        <p:blipFill>
          <a:blip r:embed="rId4"/>
          <a:stretch/>
        </p:blipFill>
        <p:spPr>
          <a:xfrm>
            <a:off x="500040" y="3429000"/>
            <a:ext cx="4282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7120" y="272520"/>
            <a:ext cx="83296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5f174a"/>
                </a:solidFill>
                <a:latin typeface="Times New Roman"/>
              </a:rPr>
              <a:t>Ты прав, это номер пожарной охраны</a:t>
            </a:r>
            <a:endParaRPr b="0" lang="en-US" sz="40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832968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72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66" name="Picture 2" descr="C:\Documents and Settings\умис\Мои документы\основы безопасности\картинки пож\026.jpg"/>
          <p:cNvPicPr/>
          <p:nvPr/>
        </p:nvPicPr>
        <p:blipFill>
          <a:blip r:embed="rId2"/>
          <a:stretch/>
        </p:blipFill>
        <p:spPr>
          <a:xfrm>
            <a:off x="214200" y="3000240"/>
            <a:ext cx="3791160" cy="2981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C:\Documents and Settings\умис\Мои документы\основы безопасности\картинки пож\440a32957e997a9b755fcef9dc428b1a.jpg"/>
          <p:cNvPicPr/>
          <p:nvPr/>
        </p:nvPicPr>
        <p:blipFill>
          <a:blip r:embed="rId3"/>
          <a:stretch/>
        </p:blipFill>
        <p:spPr>
          <a:xfrm>
            <a:off x="4714920" y="157176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6" descr=""/>
          <p:cNvPicPr/>
          <p:nvPr/>
        </p:nvPicPr>
        <p:blipFill>
          <a:blip r:embed="rId4"/>
          <a:stretch/>
        </p:blipFill>
        <p:spPr>
          <a:xfrm>
            <a:off x="3925800" y="4638600"/>
            <a:ext cx="522468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24104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ff0000"/>
                </a:solidFill>
                <a:latin typeface="Arial"/>
              </a:rPr>
              <a:t>Служба "Ноль один"</a:t>
            </a:r>
            <a:br>
              <a:rPr sz="2300"/>
            </a:br>
            <a:endParaRPr b="0" lang="en-US" sz="23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28440"/>
            <a:ext cx="40384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Я расскажу немного о службе "Ноль один",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И в праздники любые, и в выходные дни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Пожарные на службе - совсем не спят они.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Диспетчер днём и ночью за городом следит -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Наш номер всех короче: всего лишь - "Ноль один".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Вот телефон сработал - диспетчер трубку снял, 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И слушая кого-то, в журнал всё записал: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857160"/>
            <a:ext cx="40384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Объект и его адрес, что именно горит.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И сразу кому надо об этом сообщит.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На вызов очень часто мы едем не одни,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За нами следом мчаться "Ноль два" или "Ноль три".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"02" - чтоб за порядком на  месте проследить,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"03" - чтоб пострадавших в больницу увозить.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7310"/>
                </a:solidFill>
                <a:latin typeface="Times New Roman"/>
              </a:rPr>
              <a:t>Правила пожарные без запинки знай.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7310"/>
                </a:solidFill>
                <a:latin typeface="Times New Roman"/>
              </a:rPr>
              <a:t>Правила пожарные строго соблюдай.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731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731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7310"/>
                </a:solidFill>
                <a:latin typeface="Times New Roman"/>
              </a:rPr>
              <a:t>                                 </a:t>
            </a:r>
            <a:r>
              <a:rPr b="1" lang="ru-RU" sz="3200" spc="-1" strike="noStrike">
                <a:solidFill>
                  <a:srgbClr val="f87310"/>
                </a:solidFill>
                <a:latin typeface="Times New Roman"/>
              </a:rPr>
              <a:t>Утром, вечером и днем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7310"/>
                </a:solidFill>
                <a:latin typeface="Times New Roman"/>
              </a:rPr>
              <a:t>                                  </a:t>
            </a:r>
            <a:r>
              <a:rPr b="1" lang="ru-RU" sz="3200" spc="-1" strike="noStrike">
                <a:solidFill>
                  <a:srgbClr val="f87310"/>
                </a:solidFill>
                <a:latin typeface="Times New Roman"/>
              </a:rPr>
              <a:t>Осторожен будь с огнем!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74" name="Прямоугольник 8" descr=""/>
          <p:cNvPicPr/>
          <p:nvPr/>
        </p:nvPicPr>
        <p:blipFill>
          <a:blip r:embed="rId1"/>
          <a:stretch/>
        </p:blipFill>
        <p:spPr>
          <a:xfrm>
            <a:off x="-255600" y="2992320"/>
            <a:ext cx="4218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-360" y="1214280"/>
            <a:ext cx="89298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С огнем бороться мы должны — 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Мы смелые работники.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Мы очень людям всем нужны, 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Так кто же мы ?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        </a:t>
            </a: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Если дым валит  клубами,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        </a:t>
            </a: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пламя бьется языками,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        </a:t>
            </a: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и огонь везде, и жар –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        </a:t>
            </a: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это бедствие -   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87" name="Содержимое 5" descr="5e9fb013e80613204cb4c11fd054bbcb_big.jpg"/>
          <p:cNvPicPr/>
          <p:nvPr/>
        </p:nvPicPr>
        <p:blipFill>
          <a:blip r:embed="rId2"/>
          <a:stretch/>
        </p:blipFill>
        <p:spPr>
          <a:xfrm>
            <a:off x="5072040" y="1214280"/>
            <a:ext cx="3882960" cy="2857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Documents and Settings\умис\Мои документы\основы безопасности\картинки пож\aWDJZ4WIoDQ.jpg"/>
          <p:cNvPicPr/>
          <p:nvPr/>
        </p:nvPicPr>
        <p:blipFill>
          <a:blip r:embed="rId3"/>
          <a:stretch/>
        </p:blipFill>
        <p:spPr>
          <a:xfrm>
            <a:off x="285840" y="3286080"/>
            <a:ext cx="414324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5" descr="pushc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42920" y="3643200"/>
            <a:ext cx="4038480" cy="301176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tanc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86200" y="3714840"/>
            <a:ext cx="4038840" cy="295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Documents and Settings\умис\Мои документы\основы безопасности\картинки пож\32602117_1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1680" y="1071720"/>
            <a:ext cx="3340080" cy="2428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Documents and Settings\умис\Мои документы\основы безопасности\картинки пож\5568009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072040" y="1000080"/>
            <a:ext cx="3429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500040"/>
            <a:ext cx="8472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f174a"/>
                </a:solidFill>
                <a:latin typeface="Times New Roman"/>
              </a:rPr>
              <a:t>Да, ты прав, это средства пожаротушения, а все остальное -техника</a:t>
            </a:r>
            <a:endParaRPr b="0" lang="en-US" sz="4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96" name="Picture 2" descr="C:\Documents and Settings\умис\Мои документы\основы безопасности\картинки пож\32602117_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85960" y="2786040"/>
            <a:ext cx="4813200" cy="3500640"/>
          </a:xfrm>
          <a:prstGeom prst="rect">
            <a:avLst/>
          </a:prstGeom>
          <a:ln w="0">
            <a:noFill/>
          </a:ln>
        </p:spPr>
      </p:pic>
      <p:pic>
        <p:nvPicPr>
          <p:cNvPr id="97" name="Стрелка вправо с вырезом 7" descr=""/>
          <p:cNvPicPr/>
          <p:nvPr/>
        </p:nvPicPr>
        <p:blipFill>
          <a:blip r:embed="rId4"/>
          <a:stretch/>
        </p:blipFill>
        <p:spPr>
          <a:xfrm>
            <a:off x="7047000" y="5907240"/>
            <a:ext cx="190800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287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Где с огнем беспечны люди,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Там взовьется в небо шар,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Там всегда грозить нам будет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Злой...  ….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Дым столбом поднялся вдруг. 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Кто не выключил ... ?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00" name="Содержимое 4" descr="house-on-fire.jpg"/>
          <p:cNvPicPr/>
          <p:nvPr/>
        </p:nvPicPr>
        <p:blipFill>
          <a:blip r:embed="rId2"/>
          <a:stretch/>
        </p:blipFill>
        <p:spPr>
          <a:xfrm>
            <a:off x="5143680" y="14288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Documents and Settings\умис\Мои документы\1_14346_4.jpg"/>
          <p:cNvPicPr/>
          <p:nvPr/>
        </p:nvPicPr>
        <p:blipFill>
          <a:blip r:embed="rId3"/>
          <a:stretch/>
        </p:blipFill>
        <p:spPr>
          <a:xfrm>
            <a:off x="5857920" y="4786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pic>
        <p:nvPicPr>
          <p:cNvPr id="103" name="Содержимое 7" descr="1401944.jpg"/>
          <p:cNvPicPr/>
          <p:nvPr/>
        </p:nvPicPr>
        <p:blipFill>
          <a:blip r:embed="rId1"/>
          <a:stretch/>
        </p:blipFill>
        <p:spPr>
          <a:xfrm>
            <a:off x="214200" y="3286080"/>
            <a:ext cx="4672080" cy="3357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8472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Стол и шкаф сгорели разом. 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Кто сушил белье над  ... ?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             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            </a:t>
            </a: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Пламя прыгнуло в листву. 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             </a:t>
            </a: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Кто у дома жег  ... ?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f174a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05" name="Стрелка вправо с вырезом 8" descr=""/>
          <p:cNvPicPr/>
          <p:nvPr/>
        </p:nvPicPr>
        <p:blipFill>
          <a:blip r:embed="rId2"/>
          <a:stretch/>
        </p:blipFill>
        <p:spPr>
          <a:xfrm>
            <a:off x="7407360" y="6046920"/>
            <a:ext cx="1547640" cy="701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MCj03969140000[1]"/>
          <p:cNvPicPr/>
          <p:nvPr/>
        </p:nvPicPr>
        <p:blipFill>
          <a:blip r:embed="rId3"/>
          <a:stretch/>
        </p:blipFill>
        <p:spPr>
          <a:xfrm flipH="1">
            <a:off x="5714640" y="857160"/>
            <a:ext cx="2103480" cy="2871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MMj02363570000[1]"/>
          <p:cNvPicPr/>
          <p:nvPr/>
        </p:nvPicPr>
        <p:blipFill>
          <a:blip r:embed="rId4"/>
          <a:stretch/>
        </p:blipFill>
        <p:spPr>
          <a:xfrm>
            <a:off x="6858000" y="1357200"/>
            <a:ext cx="279360" cy="381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MMj02363570000[1]"/>
          <p:cNvPicPr/>
          <p:nvPr/>
        </p:nvPicPr>
        <p:blipFill>
          <a:blip r:embed="rId5"/>
          <a:stretch/>
        </p:blipFill>
        <p:spPr>
          <a:xfrm>
            <a:off x="6072120" y="1285920"/>
            <a:ext cx="27936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MMj02363570000[1]"/>
          <p:cNvPicPr/>
          <p:nvPr/>
        </p:nvPicPr>
        <p:blipFill>
          <a:blip r:embed="rId6"/>
          <a:stretch/>
        </p:blipFill>
        <p:spPr>
          <a:xfrm>
            <a:off x="1500120" y="4286160"/>
            <a:ext cx="541440" cy="738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MMj02363570000[1]"/>
          <p:cNvPicPr/>
          <p:nvPr/>
        </p:nvPicPr>
        <p:blipFill>
          <a:blip r:embed="rId7"/>
          <a:stretch/>
        </p:blipFill>
        <p:spPr>
          <a:xfrm>
            <a:off x="3714840" y="4699080"/>
            <a:ext cx="50004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14320" y="272520"/>
            <a:ext cx="69721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f174a"/>
                </a:solidFill>
                <a:latin typeface="Times New Roman"/>
              </a:rPr>
              <a:t>Нет, подумай ещё</a:t>
            </a:r>
            <a:endParaRPr b="0" lang="en-US" sz="54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14" name="Picture 3" descr="C:\Documents and Settings\умис\Мои документы\основы безопасности\картинки пож\5568009.jpg"/>
          <p:cNvPicPr/>
          <p:nvPr/>
        </p:nvPicPr>
        <p:blipFill>
          <a:blip r:embed="rId2"/>
          <a:stretch/>
        </p:blipFill>
        <p:spPr>
          <a:xfrm>
            <a:off x="500040" y="1928880"/>
            <a:ext cx="5929200" cy="4200480"/>
          </a:xfrm>
          <a:prstGeom prst="rect">
            <a:avLst/>
          </a:prstGeom>
          <a:ln w="0">
            <a:noFill/>
          </a:ln>
        </p:spPr>
      </p:pic>
      <p:pic>
        <p:nvPicPr>
          <p:cNvPr id="115" name="Стрелка вправо с вырезом 5" descr=""/>
          <p:cNvPicPr/>
          <p:nvPr/>
        </p:nvPicPr>
        <p:blipFill>
          <a:blip r:embed="rId3"/>
          <a:stretch/>
        </p:blipFill>
        <p:spPr>
          <a:xfrm>
            <a:off x="7407360" y="5973840"/>
            <a:ext cx="1547640" cy="7747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ая соединительная линия 7"/>
          <p:cNvSpPr/>
          <p:nvPr/>
        </p:nvSpPr>
        <p:spPr>
          <a:xfrm>
            <a:off x="285840" y="1500120"/>
            <a:ext cx="6357960" cy="450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11"/>
          <p:cNvSpPr/>
          <p:nvPr/>
        </p:nvSpPr>
        <p:spPr>
          <a:xfrm flipH="1">
            <a:off x="142920" y="1500120"/>
            <a:ext cx="6215040" cy="457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8760" y="1434600"/>
            <a:ext cx="850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f174a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42720" y="356760"/>
            <a:ext cx="65437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f174a"/>
                </a:solidFill>
                <a:latin typeface="Times New Roman"/>
              </a:rPr>
              <a:t>Нет, подумай ещё</a:t>
            </a:r>
            <a:endParaRPr b="0" lang="en-US" sz="5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21" name="Содержимое 4" descr="tanc.jpg"/>
          <p:cNvPicPr/>
          <p:nvPr/>
        </p:nvPicPr>
        <p:blipFill>
          <a:blip r:embed="rId2"/>
          <a:stretch/>
        </p:blipFill>
        <p:spPr>
          <a:xfrm>
            <a:off x="928800" y="2162160"/>
            <a:ext cx="5572080" cy="4083120"/>
          </a:xfrm>
          <a:prstGeom prst="rect">
            <a:avLst/>
          </a:prstGeom>
          <a:ln w="0">
            <a:noFill/>
          </a:ln>
        </p:spPr>
      </p:pic>
      <p:pic>
        <p:nvPicPr>
          <p:cNvPr id="122" name="Стрелка вправо с вырезом 11" descr=""/>
          <p:cNvPicPr/>
          <p:nvPr/>
        </p:nvPicPr>
        <p:blipFill>
          <a:blip r:embed="rId3"/>
          <a:stretch/>
        </p:blipFill>
        <p:spPr>
          <a:xfrm>
            <a:off x="7334280" y="5907240"/>
            <a:ext cx="1620720" cy="84132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ая соединительная линия 13"/>
          <p:cNvSpPr/>
          <p:nvPr/>
        </p:nvSpPr>
        <p:spPr>
          <a:xfrm>
            <a:off x="714240" y="1785960"/>
            <a:ext cx="6072480" cy="464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15"/>
          <p:cNvSpPr/>
          <p:nvPr/>
        </p:nvSpPr>
        <p:spPr>
          <a:xfrm flipH="1">
            <a:off x="714240" y="1785960"/>
            <a:ext cx="5857920" cy="457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14320" y="272520"/>
            <a:ext cx="69721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f174a"/>
                </a:solidFill>
                <a:latin typeface="Times New Roman"/>
              </a:rPr>
              <a:t>Нет, подумай  ещё</a:t>
            </a:r>
            <a:endParaRPr b="0" lang="en-US" sz="54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28" name="Содержимое 5" descr="pushca.jpg"/>
          <p:cNvPicPr/>
          <p:nvPr/>
        </p:nvPicPr>
        <p:blipFill>
          <a:blip r:embed="rId2"/>
          <a:stretch/>
        </p:blipFill>
        <p:spPr>
          <a:xfrm>
            <a:off x="142920" y="1857240"/>
            <a:ext cx="6433920" cy="4797720"/>
          </a:xfrm>
          <a:prstGeom prst="rect">
            <a:avLst/>
          </a:prstGeom>
          <a:ln w="0">
            <a:noFill/>
          </a:ln>
        </p:spPr>
      </p:pic>
      <p:pic>
        <p:nvPicPr>
          <p:cNvPr id="129" name="Стрелка вправо с вырезом 5" descr=""/>
          <p:cNvPicPr/>
          <p:nvPr/>
        </p:nvPicPr>
        <p:blipFill>
          <a:blip r:embed="rId3"/>
          <a:stretch/>
        </p:blipFill>
        <p:spPr>
          <a:xfrm>
            <a:off x="7334280" y="5907240"/>
            <a:ext cx="1620720" cy="8413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ая соединительная линия 7"/>
          <p:cNvSpPr/>
          <p:nvPr/>
        </p:nvSpPr>
        <p:spPr>
          <a:xfrm>
            <a:off x="0" y="1500120"/>
            <a:ext cx="7072200" cy="5143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9"/>
          <p:cNvSpPr/>
          <p:nvPr/>
        </p:nvSpPr>
        <p:spPr>
          <a:xfrm flipH="1">
            <a:off x="0" y="1356480"/>
            <a:ext cx="6572160" cy="5072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56:39Z</dcterms:created>
  <dc:creator>Лариса</dc:creator>
  <dc:description/>
  <dc:language>en-US</dc:language>
  <cp:lastModifiedBy>Elli 4Free</cp:lastModifiedBy>
  <dcterms:modified xsi:type="dcterms:W3CDTF">2010-12-08T16:24:52Z</dcterms:modified>
  <cp:revision>31</cp:revision>
  <dc:subject/>
  <dc:title>Что ? Где? Когда?</dc:title>
</cp:coreProperties>
</file>