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6.gif" ContentType="image/gif"/>
  <Override PartName="/ppt/media/image1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8.png" ContentType="image/pn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40.jpeg" ContentType="image/jpeg"/>
  <Override PartName="/ppt/media/image44.jpeg" ContentType="image/jpeg"/>
  <Override PartName="/ppt/media/image13.png" ContentType="image/png"/>
  <Override PartName="/ppt/media/image48.png" ContentType="image/png"/>
  <Override PartName="/ppt/media/image33.gif" ContentType="image/gif"/>
  <Override PartName="/ppt/media/image37.png" ContentType="image/png"/>
  <Override PartName="/ppt/media/image45.jpeg" ContentType="image/jpeg"/>
  <Override PartName="/ppt/media/image46.jpeg" ContentType="image/jpeg"/>
  <Override PartName="/ppt/media/image42.jpeg" ContentType="image/jpeg"/>
  <Override PartName="/ppt/media/image32.gif" ContentType="image/gif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35.png" ContentType="image/png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345-5493-4AF5-926B-F0BB51A2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9A3-0C89-4778-A8A4-8B661A81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5C2-C472-4980-BF5C-9B7ED662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082-91A2-4EED-B612-7CD2BCE6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2822-8316-4B04-A13F-9C896B07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15F0-6325-42E1-AF1B-DE0643CC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0A72-3953-497A-A66B-C20EF1CC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06A9-6E0E-4039-ABE7-78E89510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36A9-420F-48B2-9766-4DEA794C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91FB-1DAC-4112-B971-DFA071B3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1FCC-8681-4AE5-9B37-EEF50F03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0AB-648C-47AD-94E2-68207353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9925-16D2-447A-8759-32C60DAC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27E8-D119-4F3B-93BC-CEDAE4CA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F35F-E266-4E7E-8EF8-E49687C5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A09C-A9E4-423E-8009-E7FF010D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1735-DE67-4802-8600-C4A74754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F06-943B-47B3-B3EA-C5AF0ADE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979-8D38-4CE9-B2D3-CFAA1847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169-41B6-4C02-94A2-56D92737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ACE-E525-400A-845E-4E8AEA6F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DF2-8579-4C16-B4C1-1F1F1E47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6CD-0068-417D-9FC8-32FCCBC3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82B-EE08-4D49-92E7-A0C17751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83DE-0A04-455C-BCE5-0FC048F48FE2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28B5-BC0B-4339-944A-2A2F003B31FE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gif"/><Relationship Id="rId9" Type="http://schemas.openxmlformats.org/officeDocument/2006/relationships/image" Target="../media/image33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8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slide" Target="slide8.xml"/><Relationship Id="rId5" Type="http://schemas.openxmlformats.org/officeDocument/2006/relationships/image" Target="../media/image15.jpeg"/><Relationship Id="rId6" Type="http://schemas.openxmlformats.org/officeDocument/2006/relationships/slide" Target="slide4.xml"/><Relationship Id="rId7" Type="http://schemas.openxmlformats.org/officeDocument/2006/relationships/image" Target="../media/image16.jpeg"/><Relationship Id="rId8" Type="http://schemas.openxmlformats.org/officeDocument/2006/relationships/slide" Target="slide7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4.xml"/><Relationship Id="rId3" Type="http://schemas.openxmlformats.org/officeDocument/2006/relationships/image" Target="../media/image16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82560" y="1189080"/>
            <a:ext cx="7785000" cy="2419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85680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                                  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икторина для детей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84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2792520"/>
            <a:ext cx="85172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400" y="272520"/>
            <a:ext cx="82580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Крепко помните, друзья,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Что с огнем шалить  ... 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Дым увидел — не зевай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И пожарных  ... 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5720" y="1356840"/>
            <a:ext cx="23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                  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35" name="Picture 2" descr="C:\Documents and Settings\умис\Мои документы\основы безопасности\картинки пож\ogon.JPG"/>
          <p:cNvPicPr/>
          <p:nvPr/>
        </p:nvPicPr>
        <p:blipFill>
          <a:blip r:embed="rId6"/>
          <a:stretch/>
        </p:blipFill>
        <p:spPr>
          <a:xfrm>
            <a:off x="5214960" y="0"/>
            <a:ext cx="3929040" cy="2946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Documents and Settings\умис\Мои документы\основы безопасности\картинки пож\1185890193.jpg"/>
          <p:cNvPicPr/>
          <p:nvPr/>
        </p:nvPicPr>
        <p:blipFill>
          <a:blip r:embed="rId7"/>
          <a:stretch/>
        </p:blipFill>
        <p:spPr>
          <a:xfrm>
            <a:off x="285840" y="3429000"/>
            <a:ext cx="392904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Documents and Settings\умис\Мои документы\анимашки\15.gif"/>
          <p:cNvPicPr/>
          <p:nvPr/>
        </p:nvPicPr>
        <p:blipFill>
          <a:blip r:embed="rId8"/>
          <a:stretch/>
        </p:blipFill>
        <p:spPr>
          <a:xfrm>
            <a:off x="4572000" y="1928880"/>
            <a:ext cx="1905120" cy="121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C:\Documents and Settings\умис\Мои документы\анимашки\2.gif"/>
          <p:cNvPicPr/>
          <p:nvPr/>
        </p:nvPicPr>
        <p:blipFill>
          <a:blip r:embed="rId9"/>
          <a:stretch/>
        </p:blipFill>
        <p:spPr>
          <a:xfrm>
            <a:off x="7643880" y="5357880"/>
            <a:ext cx="1019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85840"/>
            <a:ext cx="86868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Какой номер у пожарной </a:t>
            </a: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                    </a:t>
            </a: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охраны?  </a:t>
            </a:r>
            <a:r>
              <a:rPr b="1" lang="ru-RU" sz="2400" spc="-1" strike="noStrike">
                <a:solidFill>
                  <a:srgbClr val="a9432b"/>
                </a:solidFill>
                <a:latin typeface="Times New Roman"/>
              </a:rPr>
              <a:t>(нажми на номер)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42" name="Прямоугольник 5" descr=""/>
          <p:cNvPicPr/>
          <p:nvPr/>
        </p:nvPicPr>
        <p:blipFill>
          <a:blip r:embed="rId2"/>
          <a:stretch/>
        </p:blipFill>
        <p:spPr>
          <a:xfrm>
            <a:off x="731880" y="1944720"/>
            <a:ext cx="2822400" cy="17128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6" descr=""/>
          <p:cNvPicPr/>
          <p:nvPr/>
        </p:nvPicPr>
        <p:blipFill>
          <a:blip r:embed="rId3"/>
          <a:stretch/>
        </p:blipFill>
        <p:spPr>
          <a:xfrm>
            <a:off x="4943520" y="4230720"/>
            <a:ext cx="2828880" cy="171288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7" descr=""/>
          <p:cNvPicPr/>
          <p:nvPr/>
        </p:nvPicPr>
        <p:blipFill>
          <a:blip r:embed="rId4"/>
          <a:stretch/>
        </p:blipFill>
        <p:spPr>
          <a:xfrm>
            <a:off x="5016600" y="2084400"/>
            <a:ext cx="2822400" cy="171288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8" descr=""/>
          <p:cNvPicPr/>
          <p:nvPr/>
        </p:nvPicPr>
        <p:blipFill>
          <a:blip r:embed="rId5"/>
          <a:stretch/>
        </p:blipFill>
        <p:spPr>
          <a:xfrm>
            <a:off x="658800" y="4230720"/>
            <a:ext cx="28227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400" y="356760"/>
            <a:ext cx="81867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174a"/>
                </a:solidFill>
                <a:latin typeface="Times New Roman"/>
              </a:rPr>
              <a:t>Ошибка, это номер скорой помощ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49" name="Стрелка вправо с вырезом 4" descr=""/>
          <p:cNvPicPr/>
          <p:nvPr/>
        </p:nvPicPr>
        <p:blipFill>
          <a:blip r:embed="rId2"/>
          <a:stretch/>
        </p:blipFill>
        <p:spPr>
          <a:xfrm>
            <a:off x="7407360" y="5973840"/>
            <a:ext cx="1547640" cy="77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умис\Мои документы\8d46aa203e34d28c243bec90cf00ec5f_big.jpg"/>
          <p:cNvPicPr/>
          <p:nvPr/>
        </p:nvPicPr>
        <p:blipFill>
          <a:blip r:embed="rId3"/>
          <a:stretch/>
        </p:blipFill>
        <p:spPr>
          <a:xfrm>
            <a:off x="2071800" y="1857240"/>
            <a:ext cx="5019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3840" y="272520"/>
            <a:ext cx="8472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174a"/>
                </a:solidFill>
                <a:latin typeface="Times New Roman"/>
              </a:rPr>
              <a:t>Подумай ещё, это телефон милици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174a"/>
                </a:solidFill>
                <a:latin typeface="Times New Roman"/>
              </a:rPr>
              <a:t>     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02</a:t>
            </a: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54" name="Стрелка вправо с вырезом 4" descr=""/>
          <p:cNvPicPr/>
          <p:nvPr/>
        </p:nvPicPr>
        <p:blipFill>
          <a:blip r:embed="rId2"/>
          <a:stretch/>
        </p:blipFill>
        <p:spPr>
          <a:xfrm>
            <a:off x="7407360" y="5973840"/>
            <a:ext cx="1547640" cy="77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Documents and Settings\умис\Мои документы\142353200909040.jpg"/>
          <p:cNvPicPr/>
          <p:nvPr/>
        </p:nvPicPr>
        <p:blipFill>
          <a:blip r:embed="rId3"/>
          <a:stretch/>
        </p:blipFill>
        <p:spPr>
          <a:xfrm>
            <a:off x="428760" y="3571920"/>
            <a:ext cx="3619440" cy="29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умис\Мои документы\222f9966d987b7e28e96e2a648d3d614_big.jpg"/>
          <p:cNvPicPr/>
          <p:nvPr/>
        </p:nvPicPr>
        <p:blipFill>
          <a:blip r:embed="rId4"/>
          <a:stretch/>
        </p:blipFill>
        <p:spPr>
          <a:xfrm>
            <a:off x="4357800" y="1071720"/>
            <a:ext cx="4572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400" y="272520"/>
            <a:ext cx="82580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5f174a"/>
                </a:solidFill>
                <a:latin typeface="Times New Roman"/>
              </a:rPr>
              <a:t>Будь внимателен, это номер аварийной службы  ГАЗА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04</a:t>
            </a: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60" name="Стрелка вправо с вырезом 4" descr=""/>
          <p:cNvPicPr/>
          <p:nvPr/>
        </p:nvPicPr>
        <p:blipFill>
          <a:blip r:embed="rId2"/>
          <a:stretch/>
        </p:blipFill>
        <p:spPr>
          <a:xfrm>
            <a:off x="7334280" y="5907240"/>
            <a:ext cx="1620720" cy="841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Documents and Settings\умис\Мои документы\G_gorgaz.jpg"/>
          <p:cNvPicPr/>
          <p:nvPr/>
        </p:nvPicPr>
        <p:blipFill>
          <a:blip r:embed="rId3"/>
          <a:stretch/>
        </p:blipFill>
        <p:spPr>
          <a:xfrm>
            <a:off x="5000760" y="1643040"/>
            <a:ext cx="3800520" cy="285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Documents and Settings\умис\Мои документы\0_1f693_1cddbd1c_XL.jpeg"/>
          <p:cNvPicPr/>
          <p:nvPr/>
        </p:nvPicPr>
        <p:blipFill>
          <a:blip r:embed="rId4"/>
          <a:stretch/>
        </p:blipFill>
        <p:spPr>
          <a:xfrm>
            <a:off x="500040" y="3429000"/>
            <a:ext cx="4282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7120" y="272520"/>
            <a:ext cx="83296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5f174a"/>
                </a:solidFill>
                <a:latin typeface="Times New Roman"/>
              </a:rPr>
              <a:t>Ты прав, это номер пожарной охраны</a:t>
            </a:r>
            <a:endParaRPr b="0" lang="en-US" sz="40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32968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66" name="Picture 2" descr="C:\Documents and Settings\умис\Мои документы\основы безопасности\картинки пож\026.jpg"/>
          <p:cNvPicPr/>
          <p:nvPr/>
        </p:nvPicPr>
        <p:blipFill>
          <a:blip r:embed="rId2"/>
          <a:stretch/>
        </p:blipFill>
        <p:spPr>
          <a:xfrm>
            <a:off x="214200" y="3000240"/>
            <a:ext cx="3791160" cy="2981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Documents and Settings\умис\Мои документы\основы безопасности\картинки пож\440a32957e997a9b755fcef9dc428b1a.jpg"/>
          <p:cNvPicPr/>
          <p:nvPr/>
        </p:nvPicPr>
        <p:blipFill>
          <a:blip r:embed="rId3"/>
          <a:stretch/>
        </p:blipFill>
        <p:spPr>
          <a:xfrm>
            <a:off x="4714920" y="157176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6" descr=""/>
          <p:cNvPicPr/>
          <p:nvPr/>
        </p:nvPicPr>
        <p:blipFill>
          <a:blip r:embed="rId4"/>
          <a:stretch/>
        </p:blipFill>
        <p:spPr>
          <a:xfrm>
            <a:off x="3925800" y="4638600"/>
            <a:ext cx="522468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24104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Служба "Ноль один"</a:t>
            </a:r>
            <a:br>
              <a:rPr sz="2300"/>
            </a:br>
            <a:endParaRPr b="0" lang="en-US" sz="23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28440"/>
            <a:ext cx="40384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Я расскажу немного о службе "Ноль один",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И в праздники любые, и в выходные дни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Пожарные на службе - совсем не спят они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Диспетчер днём и ночью за городом следит -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Наш номер всех короче: всего лишь - "Ноль один"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Вот телефон сработал - диспетчер трубку снял, 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И слушая кого-то, в журнал всё записал: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85716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Объект и его адрес, что именно горит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И сразу кому надо об этом сообщит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На вызов очень часто мы едем не одни,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За нами следом мчаться "Ноль два" или "Ноль три"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"02" - чтоб за порядком на  месте проследить,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"03" - чтоб пострадавших в больницу увозить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Правила пожарные без запинки знай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Правила пожарные строго соблюдай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731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731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731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Утром, вечером и днем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Осторожен будь с огнем!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74" name="Прямоугольник 8" descr=""/>
          <p:cNvPicPr/>
          <p:nvPr/>
        </p:nvPicPr>
        <p:blipFill>
          <a:blip r:embed="rId1"/>
          <a:stretch/>
        </p:blipFill>
        <p:spPr>
          <a:xfrm>
            <a:off x="-255600" y="2992320"/>
            <a:ext cx="4218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-360" y="1214280"/>
            <a:ext cx="89298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С огнем бороться мы должны —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Мы смелые работники.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Мы очень людям всем нужны,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Так кто же мы ?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</a:t>
            </a: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Если дым валит  клубами,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</a:t>
            </a: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пламя бьется языками,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</a:t>
            </a: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и огонь везде, и жар –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</a:t>
            </a: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это бедствие -  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87" name="Содержимое 5" descr="5e9fb013e80613204cb4c11fd054bbcb_big.jpg"/>
          <p:cNvPicPr/>
          <p:nvPr/>
        </p:nvPicPr>
        <p:blipFill>
          <a:blip r:embed="rId2"/>
          <a:stretch/>
        </p:blipFill>
        <p:spPr>
          <a:xfrm>
            <a:off x="5072040" y="1214280"/>
            <a:ext cx="388296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Documents and Settings\умис\Мои документы\основы безопасности\картинки пож\aWDJZ4WIoDQ.jpg"/>
          <p:cNvPicPr/>
          <p:nvPr/>
        </p:nvPicPr>
        <p:blipFill>
          <a:blip r:embed="rId3"/>
          <a:stretch/>
        </p:blipFill>
        <p:spPr>
          <a:xfrm>
            <a:off x="285840" y="3286080"/>
            <a:ext cx="414324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5" descr="pushc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2920" y="3643200"/>
            <a:ext cx="4038480" cy="301176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tanc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86200" y="3714840"/>
            <a:ext cx="4038840" cy="29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умис\Мои документы\основы безопасности\картинки пож\32602117_1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1680" y="1071720"/>
            <a:ext cx="3340080" cy="2428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умис\Мои документы\основы безопасности\картинки пож\5568009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72040" y="1000080"/>
            <a:ext cx="3429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500040"/>
            <a:ext cx="8472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f174a"/>
                </a:solidFill>
                <a:latin typeface="Times New Roman"/>
              </a:rPr>
              <a:t>Да, ты прав, это средства пожаротушения, а все остальное -техника</a:t>
            </a: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96" name="Picture 2" descr="C:\Documents and Settings\умис\Мои документы\основы безопасности\картинки пож\32602117_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85960" y="2786040"/>
            <a:ext cx="4813200" cy="3500640"/>
          </a:xfrm>
          <a:prstGeom prst="rect">
            <a:avLst/>
          </a:prstGeom>
          <a:ln w="0">
            <a:noFill/>
          </a:ln>
        </p:spPr>
      </p:pic>
      <p:pic>
        <p:nvPicPr>
          <p:cNvPr id="97" name="Стрелка вправо с вырезом 7" descr=""/>
          <p:cNvPicPr/>
          <p:nvPr/>
        </p:nvPicPr>
        <p:blipFill>
          <a:blip r:embed="rId4"/>
          <a:stretch/>
        </p:blipFill>
        <p:spPr>
          <a:xfrm>
            <a:off x="7047000" y="5907240"/>
            <a:ext cx="190800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8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Где с огнем беспечны люди,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Там взовьется в небо шар,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Там всегда грозить нам будет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Злой...  ….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Дым столбом поднялся вдруг. 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Кто не выключил ... ?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00" name="Содержимое 4" descr="house-on-fire.jpg"/>
          <p:cNvPicPr/>
          <p:nvPr/>
        </p:nvPicPr>
        <p:blipFill>
          <a:blip r:embed="rId2"/>
          <a:stretch/>
        </p:blipFill>
        <p:spPr>
          <a:xfrm>
            <a:off x="5143680" y="14288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умис\Мои документы\1_14346_4.jpg"/>
          <p:cNvPicPr/>
          <p:nvPr/>
        </p:nvPicPr>
        <p:blipFill>
          <a:blip r:embed="rId3"/>
          <a:stretch/>
        </p:blipFill>
        <p:spPr>
          <a:xfrm>
            <a:off x="5857920" y="4786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pic>
        <p:nvPicPr>
          <p:cNvPr id="103" name="Содержимое 7" descr="1401944.jpg"/>
          <p:cNvPicPr/>
          <p:nvPr/>
        </p:nvPicPr>
        <p:blipFill>
          <a:blip r:embed="rId1"/>
          <a:stretch/>
        </p:blipFill>
        <p:spPr>
          <a:xfrm>
            <a:off x="214200" y="3286080"/>
            <a:ext cx="4672080" cy="335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472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Стол и шкаф сгорели разом. 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Кто сушил белье над  ... ?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     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    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Пламя прыгнуло в листву. 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Кто у дома жег  ... ?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05" name="Стрелка вправо с вырезом 8" descr=""/>
          <p:cNvPicPr/>
          <p:nvPr/>
        </p:nvPicPr>
        <p:blipFill>
          <a:blip r:embed="rId2"/>
          <a:stretch/>
        </p:blipFill>
        <p:spPr>
          <a:xfrm>
            <a:off x="7407360" y="6046920"/>
            <a:ext cx="1547640" cy="70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MCj03969140000[1]"/>
          <p:cNvPicPr/>
          <p:nvPr/>
        </p:nvPicPr>
        <p:blipFill>
          <a:blip r:embed="rId3"/>
          <a:stretch/>
        </p:blipFill>
        <p:spPr>
          <a:xfrm flipH="1">
            <a:off x="5714640" y="857160"/>
            <a:ext cx="2103480" cy="2871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MMj02363570000[1]"/>
          <p:cNvPicPr/>
          <p:nvPr/>
        </p:nvPicPr>
        <p:blipFill>
          <a:blip r:embed="rId4"/>
          <a:stretch/>
        </p:blipFill>
        <p:spPr>
          <a:xfrm>
            <a:off x="6858000" y="1357200"/>
            <a:ext cx="279360" cy="381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Mj02363570000[1]"/>
          <p:cNvPicPr/>
          <p:nvPr/>
        </p:nvPicPr>
        <p:blipFill>
          <a:blip r:embed="rId5"/>
          <a:stretch/>
        </p:blipFill>
        <p:spPr>
          <a:xfrm>
            <a:off x="6072120" y="1285920"/>
            <a:ext cx="2793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MMj02363570000[1]"/>
          <p:cNvPicPr/>
          <p:nvPr/>
        </p:nvPicPr>
        <p:blipFill>
          <a:blip r:embed="rId6"/>
          <a:stretch/>
        </p:blipFill>
        <p:spPr>
          <a:xfrm>
            <a:off x="1500120" y="4286160"/>
            <a:ext cx="541440" cy="73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MMj02363570000[1]"/>
          <p:cNvPicPr/>
          <p:nvPr/>
        </p:nvPicPr>
        <p:blipFill>
          <a:blip r:embed="rId7"/>
          <a:stretch/>
        </p:blipFill>
        <p:spPr>
          <a:xfrm>
            <a:off x="3714840" y="4699080"/>
            <a:ext cx="5000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14320" y="272520"/>
            <a:ext cx="6972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174a"/>
                </a:solidFill>
                <a:latin typeface="Times New Roman"/>
              </a:rPr>
              <a:t>Нет, подумай ещё</a:t>
            </a:r>
            <a:endParaRPr b="0" lang="en-US" sz="5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14" name="Picture 3" descr="C:\Documents and Settings\умис\Мои документы\основы безопасности\картинки пож\5568009.jpg"/>
          <p:cNvPicPr/>
          <p:nvPr/>
        </p:nvPicPr>
        <p:blipFill>
          <a:blip r:embed="rId2"/>
          <a:stretch/>
        </p:blipFill>
        <p:spPr>
          <a:xfrm>
            <a:off x="500040" y="1928880"/>
            <a:ext cx="5929200" cy="4200480"/>
          </a:xfrm>
          <a:prstGeom prst="rect">
            <a:avLst/>
          </a:prstGeom>
          <a:ln w="0">
            <a:noFill/>
          </a:ln>
        </p:spPr>
      </p:pic>
      <p:pic>
        <p:nvPicPr>
          <p:cNvPr id="115" name="Стрелка вправо с вырезом 5" descr=""/>
          <p:cNvPicPr/>
          <p:nvPr/>
        </p:nvPicPr>
        <p:blipFill>
          <a:blip r:embed="rId3"/>
          <a:stretch/>
        </p:blipFill>
        <p:spPr>
          <a:xfrm>
            <a:off x="7407360" y="5973840"/>
            <a:ext cx="1547640" cy="7747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7"/>
          <p:cNvSpPr/>
          <p:nvPr/>
        </p:nvSpPr>
        <p:spPr>
          <a:xfrm>
            <a:off x="285840" y="1500120"/>
            <a:ext cx="6357960" cy="450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1"/>
          <p:cNvSpPr/>
          <p:nvPr/>
        </p:nvSpPr>
        <p:spPr>
          <a:xfrm flipH="1">
            <a:off x="142920" y="1500120"/>
            <a:ext cx="6215040" cy="457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760" y="1434600"/>
            <a:ext cx="850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42720" y="356760"/>
            <a:ext cx="6543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174a"/>
                </a:solidFill>
                <a:latin typeface="Times New Roman"/>
              </a:rPr>
              <a:t>Нет, подумай ещё</a:t>
            </a:r>
            <a:endParaRPr b="0" lang="en-US" sz="5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21" name="Содержимое 4" descr="tanc.jpg"/>
          <p:cNvPicPr/>
          <p:nvPr/>
        </p:nvPicPr>
        <p:blipFill>
          <a:blip r:embed="rId2"/>
          <a:stretch/>
        </p:blipFill>
        <p:spPr>
          <a:xfrm>
            <a:off x="928800" y="2162160"/>
            <a:ext cx="5572080" cy="4083120"/>
          </a:xfrm>
          <a:prstGeom prst="rect">
            <a:avLst/>
          </a:prstGeom>
          <a:ln w="0">
            <a:noFill/>
          </a:ln>
        </p:spPr>
      </p:pic>
      <p:pic>
        <p:nvPicPr>
          <p:cNvPr id="122" name="Стрелка вправо с вырезом 11" descr=""/>
          <p:cNvPicPr/>
          <p:nvPr/>
        </p:nvPicPr>
        <p:blipFill>
          <a:blip r:embed="rId3"/>
          <a:stretch/>
        </p:blipFill>
        <p:spPr>
          <a:xfrm>
            <a:off x="7334280" y="5907240"/>
            <a:ext cx="1620720" cy="8413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ая соединительная линия 13"/>
          <p:cNvSpPr/>
          <p:nvPr/>
        </p:nvSpPr>
        <p:spPr>
          <a:xfrm>
            <a:off x="714240" y="1785960"/>
            <a:ext cx="6072480" cy="464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5"/>
          <p:cNvSpPr/>
          <p:nvPr/>
        </p:nvSpPr>
        <p:spPr>
          <a:xfrm flipH="1">
            <a:off x="714240" y="1785960"/>
            <a:ext cx="5857920" cy="457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14320" y="272520"/>
            <a:ext cx="6972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174a"/>
                </a:solidFill>
                <a:latin typeface="Times New Roman"/>
              </a:rPr>
              <a:t>Нет, подумай  ещё</a:t>
            </a:r>
            <a:endParaRPr b="0" lang="en-US" sz="5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28" name="Содержимое 5" descr="pushca.jpg"/>
          <p:cNvPicPr/>
          <p:nvPr/>
        </p:nvPicPr>
        <p:blipFill>
          <a:blip r:embed="rId2"/>
          <a:stretch/>
        </p:blipFill>
        <p:spPr>
          <a:xfrm>
            <a:off x="142920" y="1857240"/>
            <a:ext cx="6433920" cy="4797720"/>
          </a:xfrm>
          <a:prstGeom prst="rect">
            <a:avLst/>
          </a:prstGeom>
          <a:ln w="0">
            <a:noFill/>
          </a:ln>
        </p:spPr>
      </p:pic>
      <p:pic>
        <p:nvPicPr>
          <p:cNvPr id="129" name="Стрелка вправо с вырезом 5" descr=""/>
          <p:cNvPicPr/>
          <p:nvPr/>
        </p:nvPicPr>
        <p:blipFill>
          <a:blip r:embed="rId3"/>
          <a:stretch/>
        </p:blipFill>
        <p:spPr>
          <a:xfrm>
            <a:off x="7334280" y="5907240"/>
            <a:ext cx="1620720" cy="8413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ая соединительная линия 7"/>
          <p:cNvSpPr/>
          <p:nvPr/>
        </p:nvSpPr>
        <p:spPr>
          <a:xfrm>
            <a:off x="0" y="1500120"/>
            <a:ext cx="7072200" cy="5143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9"/>
          <p:cNvSpPr/>
          <p:nvPr/>
        </p:nvSpPr>
        <p:spPr>
          <a:xfrm flipH="1">
            <a:off x="0" y="1356480"/>
            <a:ext cx="6572160" cy="5072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56:39Z</dcterms:created>
  <dc:creator>Лариса</dc:creator>
  <dc:description/>
  <dc:language>en-US</dc:language>
  <cp:lastModifiedBy>Elli 4Free</cp:lastModifiedBy>
  <dcterms:modified xsi:type="dcterms:W3CDTF">2010-12-08T16:24:52Z</dcterms:modified>
  <cp:revision>31</cp:revision>
  <dc:subject/>
  <dc:title>Что ? Где? Когда?</dc:title>
</cp:coreProperties>
</file>