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4.gif" ContentType="image/gif"/>
  <Override PartName="/ppt/media/image5.png" ContentType="image/png"/>
  <Override PartName="/ppt/media/image6.gif" ContentType="image/gif"/>
  <Override PartName="/ppt/media/image9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40A-F1A5-49B9-8CE3-16D5A292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D89-96D2-4C54-8679-0E3DD78E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A3B-D01F-424F-8EB1-4CE36D53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E7E-B35D-4AA0-818A-F51798B1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9ECB-DEFA-40B6-A387-DDA98F29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7FD-5CF5-4818-884B-B66C47A9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DE77-E198-461D-AA21-87625D25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30D2-1B39-4057-AF33-8A7177D9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2260-414B-405F-BE52-4B96175D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D925-F4CA-495D-83A7-1A134763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3F23-5095-4A20-99BA-701F1BB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1BF-A334-43DC-A790-8F71BE07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263-F01F-405D-957D-54F4EF4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2B6D-7AE4-4C6F-A89D-E51A60B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3CC-66BA-4E1C-8D77-4309AD0E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282D-866F-47BE-ACCA-47554BF9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AD0-102A-438A-BE3F-60AE8A40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931-D17C-4926-8ED7-C6E438B3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2C7-18BD-40B9-98EA-11D18704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389-F4A4-46D5-9A0A-86E15F71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985-029B-41AC-89DC-CE58896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288-F516-4804-8D16-A3B9A94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46B-B47F-4AE3-ADB8-CB2C30C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0C2-2C1C-464B-847C-F1B55DF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6C7-FA85-447C-A1EA-59533FDB93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961-96C4-4862-8ABC-692D080EFE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росвещение, устное народное творчество,литература в XIV-   XVI веках     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витие литературы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XVI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е внимания уделяет проблеме крупнейшей великокняжеской, а затем царской в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вестный автор создал «Сказание о князьях владимирски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ED00184_"/>
          <p:cNvPicPr/>
          <p:nvPr/>
        </p:nvPicPr>
        <p:blipFill>
          <a:blip r:embed="rId1"/>
          <a:stretch/>
        </p:blipFill>
        <p:spPr>
          <a:xfrm>
            <a:off x="2771640" y="4576680"/>
            <a:ext cx="4392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PE00014_"/>
          <p:cNvPicPr/>
          <p:nvPr/>
        </p:nvPicPr>
        <p:blipFill>
          <a:blip r:embed="rId1"/>
          <a:stretch/>
        </p:blipFill>
        <p:spPr>
          <a:xfrm>
            <a:off x="3492360" y="2276640"/>
            <a:ext cx="3311640" cy="2253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дведение итог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, создание единого Русского государства, избавление от ордынского владычества привели к формированию национальной русской культуры, к небывалому культурному взлёту России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Особенности развития русской культура в XIV-XVI век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Со второй половины </a:t>
            </a: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XIV</a:t>
            </a: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 века вместе с хозяйственным восстановлением русских земель начинается и культурное возрождение Рус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В это же время начинается постепенное преодоление культурной разобщённости русских земель и возрождение единой русск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eestyle Script"/>
              </a:rPr>
              <a:t>Создание единого государства делают возможным культурные контакты России с другими стра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MCj04124000000[1]"/>
          <p:cNvPicPr/>
          <p:nvPr/>
        </p:nvPicPr>
        <p:blipFill>
          <a:blip r:embed="rId1"/>
          <a:stretch/>
        </p:blipFill>
        <p:spPr>
          <a:xfrm>
            <a:off x="7020000" y="5445000"/>
            <a:ext cx="1711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свещение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чало книгопеча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е на Русь стали ввозить бумагу. Книги стали дешевле, их стало больше, изменились технике пись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мену «уставу» пришёл «полуустав» - более беглое и свободное письмо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7"/>
          <p:cNvPicPr/>
          <p:nvPr/>
        </p:nvPicPr>
        <p:blipFill>
          <a:blip r:embed="rId1"/>
          <a:stretch/>
        </p:blipFill>
        <p:spPr>
          <a:xfrm>
            <a:off x="0" y="505764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6"/>
          <p:cNvPicPr/>
          <p:nvPr/>
        </p:nvPicPr>
        <p:blipFill>
          <a:blip r:embed="rId2"/>
          <a:stretch/>
        </p:blipFill>
        <p:spPr>
          <a:xfrm>
            <a:off x="7524720" y="0"/>
            <a:ext cx="129708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нигопеча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пнейшим событием середин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 стало возникновение российского книгопечатания. Оно началось по инициативе Ивана Грозного и при поддержке церкв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564 году в Москве на Печатном дворе Иван Федоров и его помощник Петр Мстиславец напечатали первую русскую книгу «Апостол». В 1565 году был издан «Часословец» - книга для обучения грамо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jr"/>
          <p:cNvPicPr/>
          <p:nvPr/>
        </p:nvPicPr>
        <p:blipFill>
          <a:blip r:embed="rId1"/>
          <a:stretch/>
        </p:blipFill>
        <p:spPr>
          <a:xfrm>
            <a:off x="3924360" y="5259240"/>
            <a:ext cx="19429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стное народное        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творче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высшего расцвета достиг героический былинный эпос. Любимый герой – Владимир Красное Солнышк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ился новый жанр – исторические пес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sova"/>
          <p:cNvPicPr/>
          <p:nvPr/>
        </p:nvPicPr>
        <p:blipFill>
          <a:blip r:embed="rId1"/>
          <a:stretch/>
        </p:blipFill>
        <p:spPr>
          <a:xfrm>
            <a:off x="4067280" y="4437000"/>
            <a:ext cx="1700280" cy="188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ческие пес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 Авдотье – Рязаноч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Щелкане Дудентьевич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песен было посвящено взятию Каз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ый цикл исторических песен был посвящён присоединению Сибири и его герою - Ермак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4859280" y="4686480"/>
            <a:ext cx="428472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й темой в русской литератур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ов была борьба против иноземных захватч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им из распространённых жанров становится воинская пов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портфель"/>
          <p:cNvPicPr/>
          <p:nvPr/>
        </p:nvPicPr>
        <p:blipFill>
          <a:blip r:embed="rId1"/>
          <a:stretch/>
        </p:blipFill>
        <p:spPr>
          <a:xfrm>
            <a:off x="3564000" y="4724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32720" y="-5410440"/>
            <a:ext cx="309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ающимся памятником литерату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весть о разорении Рязани Батые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донщ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лова о полку Игорев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казание о Мамаевом побоищ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Хождение за три моря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HH00546_"/>
          <p:cNvPicPr/>
          <p:nvPr/>
        </p:nvPicPr>
        <p:blipFill>
          <a:blip r:embed="rId1"/>
          <a:stretch/>
        </p:blipFill>
        <p:spPr>
          <a:xfrm>
            <a:off x="4075200" y="4292640"/>
            <a:ext cx="2512800" cy="256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8880" y="-38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топис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052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общерусская  летопись была составлена в Москве в начал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а – Троицкая летопись. Около 1418 года при участии митрополита Фотия была составлена новая летопись главной идеей которой был союз московской великокняжеской власти с городским населением в целях политического объединения Рус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HH00623_"/>
          <p:cNvPicPr/>
          <p:nvPr/>
        </p:nvPicPr>
        <p:blipFill>
          <a:blip r:embed="rId1"/>
          <a:stretch/>
        </p:blipFill>
        <p:spPr>
          <a:xfrm>
            <a:off x="3851280" y="4956120"/>
            <a:ext cx="3313080" cy="18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ya_COOL</cp:lastModifiedBy>
  <dcterms:modified xsi:type="dcterms:W3CDTF">2013-05-05T15:59:15Z</dcterms:modified>
  <cp:revision>8</cp:revision>
  <dc:subject/>
  <dc:title>PowerPoint Presentation</dc:title>
</cp:coreProperties>
</file>