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4.gif" ContentType="image/gif"/>
  <Override PartName="/ppt/media/image5.png" ContentType="image/png"/>
  <Override PartName="/ppt/media/image6.gif" ContentType="image/gif"/>
  <Override PartName="/ppt/media/image9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5BB-4BCD-4BC1-AA47-21EBA3B3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360-BA78-4F63-ABFD-8CBC00E5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3DB-8F3D-41B5-809A-A623AF63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5E6-1E7B-40E7-B565-32139FE5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6BB9-AB2A-4AB8-82D7-BB87A77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4D5-ADBF-4C74-B582-4E5F697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B3C-8C14-46E0-92FF-6F4A53B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5799-FDAF-4428-8F65-3481AD3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58BB-A492-43CA-AC86-D42A06B7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2E44-12A8-4634-9D98-AAB37864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C92-CD8A-4213-9C2C-7487B2D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7DC-DDC6-469B-962D-A0C0555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5C8C-1A7C-44DF-97BC-624240B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F649-6AF5-48C2-8D0B-FC0A10F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F835-31FC-43AE-A7B7-E23E107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FD59-8E0D-478F-B5AF-F82E82CD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7A7-75E5-499D-8570-75BB1F02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69C-5A81-40AB-8610-1BFE4EB8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24E-AB71-4BCD-B16A-687C1685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EB7-0ED0-49A7-9559-1E1C7F6A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BA2-2F3A-436F-B30F-DF070B3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46E-450C-4893-965E-C5E2DD9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BCE-6406-4FE1-8A63-5791178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FB4-141E-4F6D-8C10-624FF6F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44D-8D75-4AE4-9320-DFF30C5661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FA37-818E-4E41-B097-1FD0EDC377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освещение, устное народное творчество,литература в XIV-   XVI веках   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тие литературы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XVI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е внимания уделяет проблеме крупнейшей великокняжеской, а затем царской в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вестный автор создал «Сказание о князьях владимирски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ED00184_"/>
          <p:cNvPicPr/>
          <p:nvPr/>
        </p:nvPicPr>
        <p:blipFill>
          <a:blip r:embed="rId1"/>
          <a:stretch/>
        </p:blipFill>
        <p:spPr>
          <a:xfrm>
            <a:off x="2771640" y="4576680"/>
            <a:ext cx="4392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E00014_"/>
          <p:cNvPicPr/>
          <p:nvPr/>
        </p:nvPicPr>
        <p:blipFill>
          <a:blip r:embed="rId1"/>
          <a:stretch/>
        </p:blipFill>
        <p:spPr>
          <a:xfrm>
            <a:off x="3492360" y="2276640"/>
            <a:ext cx="3311640" cy="2253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дведение итог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создание единого Русского государства, избавление от ордынского владычества привели к формированию национальной русской культуры, к небывалому культурному взлёту Росси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собенности развития русской культура в XIV-XVI век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 второй половины </a:t>
            </a: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 века вместе с хозяйственным восстановлением русских земель начинается и культурное возрождение Ру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В это же время начинается постепенное преодоление культурной разобщённости русских земель и возрождение единой русск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здание единого государства делают возможным культурные контакты России с другими стра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MCj04124000000[1]"/>
          <p:cNvPicPr/>
          <p:nvPr/>
        </p:nvPicPr>
        <p:blipFill>
          <a:blip r:embed="rId1"/>
          <a:stretch/>
        </p:blipFill>
        <p:spPr>
          <a:xfrm>
            <a:off x="7020000" y="5445000"/>
            <a:ext cx="1711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свещение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чало книгопеча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е на Русь стали ввозить бумагу. Книги стали дешевле, их стало больше, изменились технике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мену «уставу» пришёл «полуустав» - более беглое и свободное письмо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1"/>
          <a:stretch/>
        </p:blipFill>
        <p:spPr>
          <a:xfrm>
            <a:off x="0" y="505764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6"/>
          <p:cNvPicPr/>
          <p:nvPr/>
        </p:nvPicPr>
        <p:blipFill>
          <a:blip r:embed="rId2"/>
          <a:stretch/>
        </p:blipFill>
        <p:spPr>
          <a:xfrm>
            <a:off x="7524720" y="0"/>
            <a:ext cx="129708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нигопеча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пнейшим событием середин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 стало возникновение российского книгопечатания. Оно началось по инициативе Ивана Грозного и при поддержке церкв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564 году в Москве на Печатном дворе Иван Федоров и его помощник Петр Мстиславец напечатали первую русскую книгу «Апостол». В 1565 году был издан «Часословец» - книга для обучения грам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jr"/>
          <p:cNvPicPr/>
          <p:nvPr/>
        </p:nvPicPr>
        <p:blipFill>
          <a:blip r:embed="rId1"/>
          <a:stretch/>
        </p:blipFill>
        <p:spPr>
          <a:xfrm>
            <a:off x="3924360" y="5259240"/>
            <a:ext cx="1942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тное народное        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творче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высшего расцвета достиг героический былинный эпос. Любимый герой – Владимир Красное Солныш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лся новый жанр – исторические пес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sova"/>
          <p:cNvPicPr/>
          <p:nvPr/>
        </p:nvPicPr>
        <p:blipFill>
          <a:blip r:embed="rId1"/>
          <a:stretch/>
        </p:blipFill>
        <p:spPr>
          <a:xfrm>
            <a:off x="4067280" y="4437000"/>
            <a:ext cx="1700280" cy="18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ческие пес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Авдотье – Рязаноч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Щелкане Дудентьеви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песен было посвящено взятию Каз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ый цикл исторических песен был посвящён присоединению Сибири и его герою - Ерма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4859280" y="4686480"/>
            <a:ext cx="428472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й темой в русской литератур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ов была борьба против иноземных захватч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 из распространённых жанров становится воинская пов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портфель"/>
          <p:cNvPicPr/>
          <p:nvPr/>
        </p:nvPicPr>
        <p:blipFill>
          <a:blip r:embed="rId1"/>
          <a:stretch/>
        </p:blipFill>
        <p:spPr>
          <a:xfrm>
            <a:off x="3564000" y="4724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32720" y="-541044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ающимся памятником литерату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весть о разорении Рязани Батые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донщ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лова о полку Игорев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азание о Мамаевом побоищ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Хождение за три моря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HH00546_"/>
          <p:cNvPicPr/>
          <p:nvPr/>
        </p:nvPicPr>
        <p:blipFill>
          <a:blip r:embed="rId1"/>
          <a:stretch/>
        </p:blipFill>
        <p:spPr>
          <a:xfrm>
            <a:off x="4075200" y="4292640"/>
            <a:ext cx="2512800" cy="256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топис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общерусская  летопись была составлена в Москве в начал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а – Троицкая летопись. Около 1418 года при участии митрополита Фотия была составлена новая летопись главной идеей которой был союз московской великокняжеской власти с городским населением в целях политического объединения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HH00623_"/>
          <p:cNvPicPr/>
          <p:nvPr/>
        </p:nvPicPr>
        <p:blipFill>
          <a:blip r:embed="rId1"/>
          <a:stretch/>
        </p:blipFill>
        <p:spPr>
          <a:xfrm>
            <a:off x="3851280" y="4956120"/>
            <a:ext cx="3313080" cy="18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ya_COOL</cp:lastModifiedBy>
  <dcterms:modified xsi:type="dcterms:W3CDTF">2013-05-05T15:59:15Z</dcterms:modified>
  <cp:revision>8</cp:revision>
  <dc:subject/>
  <dc:title>PowerPoint Presentation</dc:title>
</cp:coreProperties>
</file>