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4.gif" ContentType="image/gif"/>
  <Override PartName="/ppt/media/image5.png" ContentType="image/png"/>
  <Override PartName="/ppt/media/image6.gif" ContentType="image/gif"/>
  <Override PartName="/ppt/media/image9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0E2-B675-49CB-81FA-A8BBA0B7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ECA-F6FD-470A-B8C7-19B79ABC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38B-E7E9-4CE4-AC78-D43BF964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BB3-4FCA-4791-9C94-4BDD78FB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687-8C56-47D4-8059-C22A0687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03A3-E0C1-41A0-AA34-9FF6F0F3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F0F4-FEC5-4B63-913B-5E34F9F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4E2-8CAF-4064-B1BD-29963CC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E41-8498-4B9C-B0E1-4C5D5C18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8FF-363E-47C5-9140-75CE483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98A-1516-4DA4-A4FB-52D3A3D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3CB-0A5C-40DD-A7C4-889A1ED7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BC4D-A1CC-45DF-95C4-63B910C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99EB-609A-4CC6-8668-F168594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E44-F74F-4267-B78B-5E5613FA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2B1-CA04-4646-96C1-02331E6E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693D-5C73-412C-8490-D4E6DEFE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B79-F533-491F-87C0-A2E475B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ABF-3E48-4056-A5B8-C1E5360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CC5-80EA-46B7-BCA3-9B4B4A0D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CFB-AF1E-4EAD-B87C-ED21183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C3C-FE09-40D5-A808-6CB9BE4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8AB-8B1D-4A76-AE27-A800AE1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5D5-CC58-450A-AE53-5B3D1E9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3C2-236F-4040-B2E0-07846C1615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D86-1DB0-4E62-A0E5-96B6A1E4F6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освещение, устное народное творчество,литература в XIV-   XVI веках   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тие литературы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XVI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е внимания уделяет проблеме крупнейшей великокняжеской, а затем царской в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вестный автор создал «Сказание о князьях владимирски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ED00184_"/>
          <p:cNvPicPr/>
          <p:nvPr/>
        </p:nvPicPr>
        <p:blipFill>
          <a:blip r:embed="rId1"/>
          <a:stretch/>
        </p:blipFill>
        <p:spPr>
          <a:xfrm>
            <a:off x="2771640" y="4576680"/>
            <a:ext cx="4392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E00014_"/>
          <p:cNvPicPr/>
          <p:nvPr/>
        </p:nvPicPr>
        <p:blipFill>
          <a:blip r:embed="rId1"/>
          <a:stretch/>
        </p:blipFill>
        <p:spPr>
          <a:xfrm>
            <a:off x="3492360" y="2276640"/>
            <a:ext cx="3311640" cy="2253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дведение итог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создание единого Русского государства, избавление от ордынского владычества привели к формированию национальной русской культуры, к небывалому культурному взлёту Росси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собенности развития русской культура в XIV-XVI век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 второй половины </a:t>
            </a: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 века вместе с хозяйственным восстановлением русских земель начинается и культурное возрождение Ру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В это же время начинается постепенное преодоление культурной разобщённости русских земель и возрождение единой русск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здание единого государства делают возможным культурные контакты России с другими стра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MCj04124000000[1]"/>
          <p:cNvPicPr/>
          <p:nvPr/>
        </p:nvPicPr>
        <p:blipFill>
          <a:blip r:embed="rId1"/>
          <a:stretch/>
        </p:blipFill>
        <p:spPr>
          <a:xfrm>
            <a:off x="7020000" y="5445000"/>
            <a:ext cx="1711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свещение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чало книгопеча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е на Русь стали ввозить бумагу. Книги стали дешевле, их стало больше, изменились технике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мену «уставу» пришёл «полуустав» - более беглое и свободное письмо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1"/>
          <a:stretch/>
        </p:blipFill>
        <p:spPr>
          <a:xfrm>
            <a:off x="0" y="505764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6"/>
          <p:cNvPicPr/>
          <p:nvPr/>
        </p:nvPicPr>
        <p:blipFill>
          <a:blip r:embed="rId2"/>
          <a:stretch/>
        </p:blipFill>
        <p:spPr>
          <a:xfrm>
            <a:off x="7524720" y="0"/>
            <a:ext cx="129708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нигопеча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пнейшим событием середин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 стало возникновение российского книгопечатания. Оно началось по инициативе Ивана Грозного и при поддержке церкв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564 году в Москве на Печатном дворе Иван Федоров и его помощник Петр Мстиславец напечатали первую русскую книгу «Апостол». В 1565 году был издан «Часословец» - книга для обучения грам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jr"/>
          <p:cNvPicPr/>
          <p:nvPr/>
        </p:nvPicPr>
        <p:blipFill>
          <a:blip r:embed="rId1"/>
          <a:stretch/>
        </p:blipFill>
        <p:spPr>
          <a:xfrm>
            <a:off x="3924360" y="5259240"/>
            <a:ext cx="1942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тное народное        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творче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высшего расцвета достиг героический былинный эпос. Любимый герой – Владимир Красное Солныш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лся новый жанр – исторические пес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sova"/>
          <p:cNvPicPr/>
          <p:nvPr/>
        </p:nvPicPr>
        <p:blipFill>
          <a:blip r:embed="rId1"/>
          <a:stretch/>
        </p:blipFill>
        <p:spPr>
          <a:xfrm>
            <a:off x="4067280" y="4437000"/>
            <a:ext cx="1700280" cy="18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ческие пес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Авдотье – Рязаноч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Щелкане Дудентьеви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песен было посвящено взятию Каз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ый цикл исторических песен был посвящён присоединению Сибири и его герою - Ерма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4859280" y="4686480"/>
            <a:ext cx="428472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й темой в русской литератур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ов была борьба против иноземных захватч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 из распространённых жанров становится воинская пов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портфель"/>
          <p:cNvPicPr/>
          <p:nvPr/>
        </p:nvPicPr>
        <p:blipFill>
          <a:blip r:embed="rId1"/>
          <a:stretch/>
        </p:blipFill>
        <p:spPr>
          <a:xfrm>
            <a:off x="3564000" y="4724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32720" y="-541044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ающимся памятником литерату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весть о разорении Рязани Батые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донщ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лова о полку Игорев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азание о Мамаевом побоищ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Хождение за три моря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HH00546_"/>
          <p:cNvPicPr/>
          <p:nvPr/>
        </p:nvPicPr>
        <p:blipFill>
          <a:blip r:embed="rId1"/>
          <a:stretch/>
        </p:blipFill>
        <p:spPr>
          <a:xfrm>
            <a:off x="4075200" y="4292640"/>
            <a:ext cx="2512800" cy="256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топис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общерусская  летопись была составлена в Москве в начал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а – Троицкая летопись. Около 1418 года при участии митрополита Фотия была составлена новая летопись главной идеей которой был союз московской великокняжеской власти с городским населением в целях политического объединения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HH00623_"/>
          <p:cNvPicPr/>
          <p:nvPr/>
        </p:nvPicPr>
        <p:blipFill>
          <a:blip r:embed="rId1"/>
          <a:stretch/>
        </p:blipFill>
        <p:spPr>
          <a:xfrm>
            <a:off x="3851280" y="4956120"/>
            <a:ext cx="3313080" cy="18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ya_COOL</cp:lastModifiedBy>
  <dcterms:modified xsi:type="dcterms:W3CDTF">2013-05-05T15:59:15Z</dcterms:modified>
  <cp:revision>8</cp:revision>
  <dc:subject/>
  <dc:title>PowerPoint Presentation</dc:title>
</cp:coreProperties>
</file>