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6FE7-B5DE-4196-908E-910F0B15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3157-E7F2-411B-B949-A519A7DC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2AF7-0B1F-4447-9DE7-B1F424C3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ADE2-4142-4EE2-B609-E6DFD07C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15D2-B446-43FA-AACA-CBA61B43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D94B-CE1D-4BAD-AF4D-06EDA6D1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B308-2559-4F87-80F3-F713DEDA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3BC2-A6EF-48D2-9200-EB456F7A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15B1-7564-4076-AF9D-3097C014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D5D8-76E3-41E0-986A-41A2D602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6460-ECF9-4EE6-BB65-CE4C9B5B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23EB-FE09-46F3-86AA-66832E76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1601-8C64-4935-9B2C-B79FCD43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D21E-6097-477A-B45F-8A6B1FAF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BAB0-7139-4524-A1E4-956015A9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2E4A-0120-433E-8696-15385074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8119-B321-4965-8B9B-284633A2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A40E-033B-4CFA-B3A8-172EB55E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39D8-9A28-4D3C-875A-90E2A544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244B4-5055-4D72-9780-EE0BEC3D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AE7E-51F2-46C1-A6E5-716E2577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CDCB-87E3-4B2C-9FEF-0104E295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7F0F-0871-45DE-86A2-775A8B40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121D-74AC-4028-8738-2B494BB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1035-1C42-41EF-97B1-D1EF15AD0B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1996-BB2B-42A3-B57F-11D92049BE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Природа и человек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класс. ОБЖ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уро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онтрольные вопрос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Почему в последнее время стал популярен активный отдых на природ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Объясните, почему человек должен беречь окружающую его природную сре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Определите основные трудности, с которыми встретится неподготовленный человек в природных условия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В каких местах на природе (лес, горы, вода) вам нравится отдыхать и почему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омашнее задан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аграф 1.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ие ситуации случаются с человеком в природных условиях. Опишите ситуацию, поведение героя рассказа. Дайте оценку и сделайте вывод: как бы вы поступили в этой ситу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. Основные причины возрастания потребности современного человека в общении с природой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Человек- неотъемлемая часть природы и не может существовать вне её. Однако для обеспечения своей безопасности и благополучия человек создал искусственную среду обитания и постоянно совершенствует её: он построил города, создал комплексную систему жизнеобеспечения и удовлетворения своих духовных и физических потребностей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. Основные причины возрастания потребности современного человека в общении с природой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Создав искусственную среду обитания, человек отделился от естественной природной среды и большую часть времени проводит вне природы, постепенно теряя способность общаться с естественной природной сред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. Основные причины возрастания потребности современного человека в общении с природой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щение с живой природой помогает человеку формировать выдержку, уверенность в себе, умение управлять своими эмоциями, анализировать обстановку, самостоятельно принимать решения и мобилизовывать себя на их выполнение, добиваться поставленной це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. Основные причины возрастания потребности современного человека в общении с природой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 процессе общения человека с природой происходит совершенствование его физических качеств: выносливости, силы, ловкости, скорост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. Особенности поведения человека в природной среде для обеспечения личной безопасности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бое пребывание человека на природе требует определенной подготов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природной среде человек должен владеть определенными умениями для обеспечения безопасной жизнедеяте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ля правильного перемещения в желаемом направлении надо знать, как ориентироваться в природной сре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. Особенности поведения человека в природной среде для обеспечения личной безопасности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тобы прожить на природе хотя бы один день, необходимо уметь обеспечить себя пищей и водой, а при необходимости соорудить временное укрытие от непогоды. Необходимо знать особенности того места, где планируется организовать отдых (горы, лес, вода); соблюдать меры безопасного поведения в этих местах, уметь оказывать первую медицинскую помощ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.Активный туризм- наиболее эффективный способ общения человека с природой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дним из видов отдыха на природе   является активный туризм. К активному туризму  относятся все виды туристических путешествий, характеризующиеся активным способом передвижения по маршруту, когда турист для передвижения затрачивает собственные физические усил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.Активный туризм- наиболее эффективный способ общения человека с природой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 таким видам туризма относится большинство видов самодеятельного туризма. (Самодеятельный туризм – это многодневные и однодневные путешествия, которые организуются силами и средствами самих участников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Это могут быть походы выходного дня, массовые походы, а также спортивные пешие, лыжные, горные, водные и велосипедные пох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2:58:22Z</dcterms:created>
  <dc:creator>54</dc:creator>
  <dc:description/>
  <dc:language>en-US</dc:language>
  <cp:lastModifiedBy>54</cp:lastModifiedBy>
  <dcterms:modified xsi:type="dcterms:W3CDTF">2011-09-02T13:27:49Z</dcterms:modified>
  <cp:revision>2</cp:revision>
  <dc:subject/>
  <dc:title>Природа и человек</dc:title>
</cp:coreProperties>
</file>