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A28D-C8C7-404C-863C-6A9D6A02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7F56-DFFF-46CD-8020-CE1E51F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6D53-983D-4B9F-A9B1-5BB56F37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E099-9C47-47B3-A0D0-2198E5E2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563-7E15-4906-B174-8B3ABA06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C26-066B-4216-9FA0-07BD5631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DA1-6F34-4BCE-8C3F-122957C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561-C971-4CE4-9F22-EF694BE5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C0F7-5C4D-4C78-BD26-1EA297D4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8A0-90FC-41C7-A06B-569B1F0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5D3-3242-473B-A764-0BA99D15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98ED-2DC6-40AA-B11D-6FE5E0E4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376-CB65-4E88-AC8C-D787DCF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362-2072-4494-842A-602AC94F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292B-69EA-486C-9F4E-DE54F10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AE5E-F10D-4C2F-B029-7BCDD7DC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D149-8C6F-4D30-8AAA-6DEE6D6B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CA8F-F562-44C2-A710-05291CD4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8042-3F99-4C98-A98E-79211B26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2158-E0D3-4B9E-A7A7-56EA2E39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B2A6-7D4A-4760-A92E-B9E1203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2599-4938-4193-95D5-490E2F32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824E-C6DF-4A0B-9F54-90258205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933B-42B2-46E9-BA06-D62A1D4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51B-A490-4573-AE6B-F45A38EF9B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05B-719E-41D7-9C51-9FBEB329B5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Природа и человек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класс. ОБЖ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уро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онтрольные вопрос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Почему в последнее время стал популярен активный отдых на природ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Объясните, почему человек должен беречь окружающую его природную сре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Определите основные трудности, с которыми встретится неподготовленный человек в природных услови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В каких местах на природе (лес, горы, вода) вам нравится отдыхать и почему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омашнее зада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граф 1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ситуации случаются с человеком в природных условиях. Опишите ситуацию, поведение героя рассказа. Дайте оценку и сделайте вывод: как бы вы поступили в этой ситу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Человек- неотъемлемая часть природы и не может существовать вне её. Однако для обеспечения своей безопасности и благополучия человек создал искусственную среду обитания и постоянно совершенствует её: он построил города, создал комплексную систему жизнеобеспечения и удовлетворения своих духовных и физических потребносте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Создав искусственную среду обитания, человек отделился от естественной природной среды и большую часть времени проводит вне природы, постепенно теряя способность общаться с естественной природной сред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щение с живой природой помогает человеку формировать выдержку, уверенность в себе, умение управлять своими эмоциями, анализировать обстановку, самостоятельно принимать решения и мобилизовывать себя на их выполнение, добиваться поставленной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. Основные причины возрастания потребности современного человека в общении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 процессе общения человека с природой происходит совершенствование его физических качеств: выносливости, силы, ловкости, скорост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бое пребывание человека на природе требует определенной подгото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 природной среде человек должен владеть определенными умениями для обеспечения безопасной жизне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ля правильного перемещения в желаемом направлении надо знать, как ориентироваться в природной сред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. Особенности поведения человека в природной среде для обеспечения личной безопасности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тобы прожить на природе хотя бы один день, необходимо уметь обеспечить себя пищей и водой, а при необходимости соорудить временное укрытие от непогоды. Необходимо знать особенности того места, где планируется организовать отдых (горы, лес, вода); соблюдать меры безопасного поведения в этих местах, уметь оказывать первую медицинскую помощ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дним из видов отдыха на природе   является активный туризм. К активному туризму  относятся все виды туристических путешествий, характеризующиеся активным способом передвижения по маршруту, когда турист для передвижения затрачивает собственные физические усил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.Активный туризм- наиболее эффективный способ общения человека с природой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 таким видам туризма относится большинство видов самодеятельного туризма. (Самодеятельный туризм – это многодневные и однодневные путешествия, которые организуются силами и средствами самих участников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Это могут быть походы выходного дня, массовые походы, а также спортивные пешие, лыжные, горные, водные и велосипедные пох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2:58:22Z</dcterms:created>
  <dc:creator>54</dc:creator>
  <dc:description/>
  <dc:language>en-US</dc:language>
  <cp:lastModifiedBy>54</cp:lastModifiedBy>
  <dcterms:modified xsi:type="dcterms:W3CDTF">2011-09-02T13:27:49Z</dcterms:modified>
  <cp:revision>2</cp:revision>
  <dc:subject/>
  <dc:title>Природа и человек</dc:title>
</cp:coreProperties>
</file>