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CAE8E-288F-41E5-9223-68B95FE8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431D4-65F1-4100-83E8-E242D252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5C46D-2228-42B1-9279-8645C60B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40704-B906-489A-AD6C-77D1545B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E866-5B66-4049-AF64-C15693AC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C477-D0F1-46CD-A1D0-D14CBBF0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CFAC-D0B9-4508-8AA4-2BE111ED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A036-27B6-4855-BD3D-5CAC69F7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EDFB-3A7B-417E-B839-58B0DECF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CDCD-5E4F-46A6-A7EC-682EDC90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829E-E651-4E7F-AB0F-37486713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CC40B-4A7F-4406-9EEA-44CFD8C6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FFA8-F159-44DB-B188-D94B1A3B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63FC-1047-4968-B3A2-9DCC7E38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A1C0-D6F4-4EB0-A078-07F48643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DE4A-B84E-4676-AE46-9F550805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CF9E-C2C6-4380-B57A-C9204295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2F610-0AF3-46FF-B281-67FC9143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6EBE1-9E5F-4720-B3E5-60EBF382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924CE-628F-490E-8A35-F8A0F2EB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247F1-2503-4543-BC3F-96FB6530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EF574-6B9E-44F4-84A4-39CE4A10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7EABE-2CA5-4E71-AFCB-D61FB39E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8BA1D-0DF9-4542-B4BC-7D5BD878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EFA9-0996-4B8F-ABDB-AD5F5813FA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3FCB-C45C-4482-B0F4-5BB07FEDB2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Природа и человек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 класс. ОБЖ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 уро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Контрольные вопросы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Почему в последнее время стал популярен активный отдых на природ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Объясните, почему человек должен беречь окружающую его природную сред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Определите основные трудности, с которыми встретится неподготовленный человек в природных условия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В каких местах на природе (лес, горы, вода) вам нравится отдыхать и почему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Домашнее задание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раграф 1.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ие ситуации случаются с человеком в природных условиях. Опишите ситуацию, поведение героя рассказа. Дайте оценку и сделайте вывод: как бы вы поступили в этой ситу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1. Основные причины возрастания потребности современного человека в общении с природой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Человек- неотъемлемая часть природы и не может существовать вне её. Однако для обеспечения своей безопасности и благополучия человек создал искусственную среду обитания и постоянно совершенствует её: он построил города, создал комплексную систему жизнеобеспечения и удовлетворения своих духовных и физических потребностей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1. Основные причины возрастания потребности современного человека в общении с природой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Создав искусственную среду обитания, человек отделился от естественной природной среды и большую часть времени проводит вне природы, постепенно теряя способность общаться с естественной природной средо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1. Основные причины возрастания потребности современного человека в общении с природой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бщение с живой природой помогает человеку формировать выдержку, уверенность в себе, умение управлять своими эмоциями, анализировать обстановку, самостоятельно принимать решения и мобилизовывать себя на их выполнение, добиваться поставленной цел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1. Основные причины возрастания потребности современного человека в общении с природой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 процессе общения человека с природой происходит совершенствование его физических качеств: выносливости, силы, ловкости, скорост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2. Особенности поведения человека в природной среде для обеспечения личной безопасности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юбое пребывание человека на природе требует определенной подготов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 природной среде человек должен владеть определенными умениями для обеспечения безопасной жизнедеятель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ля правильного перемещения в желаемом направлении надо знать, как ориентироваться в природной сред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2. Особенности поведения человека в природной среде для обеспечения личной безопасности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тобы прожить на природе хотя бы один день, необходимо уметь обеспечить себя пищей и водой, а при необходимости соорудить временное укрытие от непогоды. Необходимо знать особенности того места, где планируется организовать отдых (горы, лес, вода); соблюдать меры безопасного поведения в этих местах, уметь оказывать первую медицинскую помощ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3.Активный туризм- наиболее эффективный способ общения человека с природой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дним из видов отдыха на природе   является активный туризм. К активному туризму  относятся все виды туристических путешествий, характеризующиеся активным способом передвижения по маршруту, когда турист для передвижения затрачивает собственные физические усили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3.Активный туризм- наиболее эффективный способ общения человека с природой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 таким видам туризма относится большинство видов самодеятельного туризма. (Самодеятельный туризм – это многодневные и однодневные путешествия, которые организуются силами и средствами самих участников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Это могут быть походы выходного дня, массовые походы, а также спортивные пешие, лыжные, горные, водные и велосипедные поход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12:58:22Z</dcterms:created>
  <dc:creator>54</dc:creator>
  <dc:description/>
  <dc:language>en-US</dc:language>
  <cp:lastModifiedBy>54</cp:lastModifiedBy>
  <dcterms:modified xsi:type="dcterms:W3CDTF">2011-09-02T13:27:49Z</dcterms:modified>
  <cp:revision>2</cp:revision>
  <dc:subject/>
  <dc:title>Природа и человек</dc:title>
</cp:coreProperties>
</file>