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3.gif" ContentType="image/gif"/>
  <Override PartName="/ppt/media/image14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0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6.gif" ContentType="image/gi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C0F2-F019-473C-A4BE-069AF59F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422E-9E5E-4254-AE91-771AA249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35AE-23DB-4B3E-AF7F-B8643B52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F3F1-D82E-40F5-9F84-915AF2CF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735A-0C53-44D2-8CBF-A5F5B52D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1FB6-D756-477F-BABE-F44E8342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30BC-A1AC-491B-9D9A-98823E6F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F557-F020-44BE-BA04-4AE0E71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3464-EB0A-48E9-B14C-86510759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F010-B6BD-48EE-ADC8-DC88C03C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5712-3A01-476B-A812-152A256A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9DE6-A355-40D9-838B-A8DC0881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038C-0D9C-4121-9E38-8A44F776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5F76-C8F3-4C4D-B5C1-D5954E39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ED5C-B43D-4617-BD85-AC2D7F38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B32D-BD4C-44FF-9108-97FE1348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106-AD7E-4B41-8A57-1EB2AEEE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2714-2A6C-4DCC-9BD3-296706BC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1CC4-B343-443A-BE65-3B7F7ADD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8AB2-861F-457D-BF29-D429266A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C120-A9A8-4BB6-A494-4A1E37F8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E29B-C737-4B7B-A471-DF386BB8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2224-E909-4F95-9BD7-483C3FD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8DFD-48A1-45EC-873A-79D3DD2B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CF82-0815-4275-9249-37CF988E1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20F6-E050-46F9-935C-CA31D8595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mayli.ru/smile/knigi-190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onotype Corsiva"/>
              </a:rPr>
              <a:t>«МОУ  Мугунская средняя общеобразовательная школа»</a:t>
            </a:r>
            <a:br>
              <a:rPr sz="2400"/>
            </a:b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«Уроки ОБЖ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8920" y="2133360"/>
            <a:ext cx="6481800" cy="360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рави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овед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на улиц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 Black"/>
              </a:rPr>
              <a:t>Учитель ОБЖ: Зайцева Н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профессор"/>
          <p:cNvPicPr/>
          <p:nvPr/>
        </p:nvPicPr>
        <p:blipFill>
          <a:blip r:embed="rId1"/>
          <a:stretch/>
        </p:blipFill>
        <p:spPr>
          <a:xfrm>
            <a:off x="0" y="4606920"/>
            <a:ext cx="2376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lonna MT"/>
              </a:rPr>
              <a:t>Приставание незнакомых людей, нападение на у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83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Ястреб! Ястреб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ыш злоде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й, кричите посиль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у-ка выпусти цыпл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лой разбойник, из ког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к советовали грузинские бабушки своим внукам при опасности захвата злоумышлен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 потому запомни самые важные правила и постарайся никогда их не наруш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316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разговаривай с незнакомыми людьми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А незнакомый человек – это тот, кого ты лично хорошо не знаеш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 пусть ты видишь его у вас во дворе или он называет тебя по имени, а также знает как зовут твоих родных, это ни о чем не говорит. Если он спросит о чем-либо, ответь коротко и в беседу не вступай. Опытный мошенник может быстро разговорит тебя в нужном направл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2920" y="549000"/>
            <a:ext cx="4038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забывай о том, что всегда существует опасность повстречать маньяка – человека одержимого болезненным пристрастием к совершению насилия над жертвой. И маньяки зачастую совсем не похожи на Фредди Крюгера из «Кошмара на улице Вязов». При обычном взгляде они вполне приличные люди, хорошие собеседники, часто с приятной внеш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профессор"/>
          <p:cNvPicPr/>
          <p:nvPr/>
        </p:nvPicPr>
        <p:blipFill>
          <a:blip r:embed="rId1"/>
          <a:stretch/>
        </p:blipFill>
        <p:spPr>
          <a:xfrm>
            <a:off x="2340000" y="4365720"/>
            <a:ext cx="252108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591840"/>
            <a:ext cx="633564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чего ни бери у незнакомых люд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если они предлагают интересные для тебя предметы, конфеты, фрукты, щенка,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блюдай осторожность в отношениях с новыми знакомы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специально завязывают знакомства, чтобы использовать их для совершения преступлений. Вспомни сюжет фильма «Вор», в котором преступник предлагал соседям билеты в цирк, чтобы без помех ограбить их кварт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позволяй преступнику «сыграть» на твоем любопытств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Пойдем я тебе что-то покажу! Там так интересно! Ты такого никогда не видел!» и подросток вслед за преступником отправляется туда, где уже никто не может прийти ему 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16720" y="342900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906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задерживайся и не отвлекайся по пути своего следовани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школу, в магазин, в гости, домо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е оставайся на улице без сопровождения старших с наступлением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когда не садись в чужую автомашину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без разрешения родителей, тем более к незнаком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же если он обещает что-то заманчивое. При излишне настойчивом приставании подними ш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31338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3789360"/>
            <a:ext cx="8280360" cy="2735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помн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рядочный человек, как прав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не обратится к ребенку за помощ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Чтобы не попасть в бе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блюдай эти правила, избегай опасных ме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сам не создавай заведомо опас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0" y="259920"/>
            <a:ext cx="6418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Некоторые фак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Симпатичный водитель знакомился с мальчиками и предлагал им заработать. Ребята легко соглашались, преступник сажал их в свою машину и увозил их в гараж. Больше ребят никто не видел. Через много месяцев милиция задержала преступника и нашла могилы замученных им жер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45600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. Избегай одиночных прогулок, где мало людей. В темное время суток не выходи из дома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Идя по улице навстречу движению транспорта, вы не подвергнетесь внезапному нападению из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 Если навстречу движется группа подростков, а по близости нет людей, лучше перейти на другую сторону или повернуть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 Если кто-то преследует, беги к месту большого скопления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. Если у тебя требуют деньги, телефон и другие вещи – отдай сразу, не сопротив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.Если тебя кто-то силой пытается увлечь за собой, кричи громк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«Помогите! Я не знаю этого человека!» Пытайся вырваться люб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050560" y="1341360"/>
            <a:ext cx="66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Внимательно рассмотри компанию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Если ты идешь со своими приятелями и тебя отзывают, просят подойти на минутку, никогда не отходи от своих спу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гуляя в одиночку, дорогие, привлекающие внимание вещи (украшения, фотоаппараты, бинокли, час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с собой крупные суммы денег. Если  у тебя требуют деньги – отдай мелочь сразу, не сопротивляя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04640"/>
            <a:ext cx="864216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5000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Как не стать жертвой ищущей приключения комп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0322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62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гуляй в одиночеств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Как показали специальные исследования, ходьба по улице с одним спутником снижает риск подвергнуться нападению на 65%, а с двумя и более на 9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Идя по пустынной дороге или тротуару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ержись на некотором расстоянии от кустов, невысоких стен, темных подъез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Для прогулки одевайся так чтобы одежда не препятствовала свободе движений и бе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33360"/>
            <a:ext cx="7561080" cy="79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Как вести себя на прогу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профессор"/>
          <p:cNvPicPr/>
          <p:nvPr/>
        </p:nvPicPr>
        <p:blipFill>
          <a:blip r:embed="rId1"/>
          <a:stretch/>
        </p:blipFill>
        <p:spPr>
          <a:xfrm>
            <a:off x="6588000" y="2924280"/>
            <a:ext cx="2374920" cy="224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6202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бя преследуют, иди к людным местам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отделению мили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охожие могут не броситься тебе на помощь, но само их присутствие сдерживает насильников и граб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бязатель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общай о любом происшествии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одителям, учителю или милиционе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старайся описать им приметы подозритель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Если тебе придется защищаться самостоятельно, если существует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ействительна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опасность для твоего здоровья или жизни, делай все возможное для их спасе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он предусматривает право каждого на необходимую самооб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селые 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 Что делать, если тебя хватает в твоем подъезде неизвестный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а всякий случай помал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Кричать: « Помогите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ичать: «Пожар!», а когда выйдут соседи, попросить о пом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Когда Катя идет из школы и слушает плеер, она не замечает ничего вокруг и ничего не слышит. В чем ее – ошиб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По дороге из школы лучше смотреть «видик», а не слушать пле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Ей нужна собака-повод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Плеер лучше оставить дома, так как на улице много опасностей и надо быть вниматель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 Какой сказочный персонаж нарушил сразу две заповеди знатоков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иди по знакомой тропинки, никуда не сворачи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не вступай в разговор с посторонним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Желтый Чемодан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Голубой Слон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асная Шап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иняя Б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2000" y="4292640"/>
            <a:ext cx="1616040" cy="2349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plus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1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-main-pic" descr="Картинка 7 из 16"/>
          <p:cNvPicPr/>
          <p:nvPr/>
        </p:nvPicPr>
        <p:blipFill>
          <a:blip r:embed="rId1"/>
          <a:stretch/>
        </p:blipFill>
        <p:spPr>
          <a:xfrm>
            <a:off x="6659640" y="1484280"/>
            <a:ext cx="2457360" cy="3600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634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Опасная ситуац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это неблагоприятная обстановка, в которой действуют вредные факторы различной природы, угрожающие здоровью, жизни человека, его имуществу и среде об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кстремальными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называют наиболее сложные опасные ситуации, которые требуют для защиты жизни и здоровья человека напряжения всех его физических и духовн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ять « Н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915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Не задерживайся на улице по дороге из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Не играй на улице с наступлением темн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Не впускай незнакомца в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Не ходи никуда с незнакомым челове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Не садись в машину с незнаком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И заключ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Каждый грамотный 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Должен твердо знать с пел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ли вас зовут куп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 телевизоре сним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бещают дать конф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ам предложат обезьян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денег б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в цирк биле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зовут летать к Лу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кататься на сло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ть на все простой от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Ты ответить должен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профессор"/>
          <p:cNvPicPr/>
          <p:nvPr/>
        </p:nvPicPr>
        <p:blipFill>
          <a:blip r:embed="rId1"/>
          <a:stretch/>
        </p:blipFill>
        <p:spPr>
          <a:xfrm>
            <a:off x="5076720" y="2421000"/>
            <a:ext cx="3384720" cy="320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00000" y="333360"/>
            <a:ext cx="766944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за внимание!!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2841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07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пасные ситуации очень многообразны, они складываются для каждого индивидуально. Часто опасности возникают именно в тот момент, когда их не ждешь и не готов к их появлению. И задача нашего обучения ОБЖ состоит в том, чтобы всегда быть готовым к встрече с любыми трудностями. И делать при этом как можно меньше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каждой опасной ситуации обязательно есть явная или скрытая причина её возникновения, являющаяся результатом твоей невнимательности, незнания, каприза, глупости, непослуш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52072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112000" cy="408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Rockwell"/>
              </a:rPr>
              <a:t>Какие опасности подстерегают нас на ули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00280"/>
            <a:ext cx="25192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шен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5445000"/>
            <a:ext cx="29527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хи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1413000"/>
            <a:ext cx="259236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бе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789360"/>
            <a:ext cx="287964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8560" y="3645000"/>
            <a:ext cx="2665440" cy="93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катас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9200" y="404640"/>
            <a:ext cx="4114800" cy="619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lonna MT"/>
              </a:rPr>
              <a:t>Опасные места на у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ере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еосвещенные улицы и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5013360"/>
            <a:ext cx="8209080" cy="720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мни: никто от этого не застрахован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626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тист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971640" y="2204640"/>
            <a:ext cx="7200720" cy="2232000"/>
          </a:xfrm>
          <a:prstGeom prst="wedgeRectCallout">
            <a:avLst>
              <a:gd name="adj1" fmla="val -4189"/>
              <a:gd name="adj2" fmla="val 91962"/>
            </a:avLst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жедневно на улицах, дорогах, на транспорте и в других местах совершается более тысячи пре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ще больше вероятность столкнуться с административным правонарушите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ьяниц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Хулиган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добросовестным продав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437000"/>
            <a:ext cx="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32720" y="4408560"/>
            <a:ext cx="204156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Давайте рассмотрим некоторые ситуации и советы по правильному поведению в случае опас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500280"/>
            <a:ext cx="3672000" cy="318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60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ТУА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96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тьяна покупала в магазине дорогой подарок и не заметила, что за ней внимательно следит черноглазый стройный молодой человек в темной куртке. Только в подъезде она почувствовала за спиной чьи–то быстрые шаги, и в ту же секунду парень стал вырывать из рук девушки сумку. Татьяна не растерялась, стала громко кричать и отбиваться ногами. Парень достал нож, но девушка, бросила сумку, подбежала к двери соседской квартиры и громко стала звать соседей по имени. Нападавший поспешил скры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к ты думаешь, правильно ли поступила Тан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5765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от как советуют поступать в таких случаях работники мил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ты возвращаешься из гостей поздно вечером, попроси проводить их тебя до дома, или позвони родителям и попроси чтобы тебя встрети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сегда предупреждай своих домашних о времени прихода домой. Старайся быть точным в расчетах времени на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ще будет лучше если ты не будешь задерживаться в гостях до поздн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914480" cy="494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2:49:57Z</dcterms:created>
  <dc:creator>MSHOME</dc:creator>
  <dc:description/>
  <dc:language>en-US</dc:language>
  <cp:lastModifiedBy>MSHOME</cp:lastModifiedBy>
  <dcterms:modified xsi:type="dcterms:W3CDTF">2010-06-01T01:00:51Z</dcterms:modified>
  <cp:revision>12</cp:revision>
  <dc:subject/>
  <dc:title>«Уроки ОБЖ»</dc:title>
</cp:coreProperties>
</file>