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13.gif" ContentType="image/gif"/>
  <Override PartName="/ppt/media/image14.gif" ContentType="image/gif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10.jpeg" ContentType="image/jpeg"/>
  <Override PartName="/ppt/media/image5.jpeg" ContentType="image/jpeg"/>
  <Override PartName="/ppt/media/image7.gif" ContentType="image/gif"/>
  <Override PartName="/ppt/media/image12.gif" ContentType="image/gif"/>
  <Override PartName="/ppt/media/image6.gif" ContentType="image/gif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38208-68B4-44F9-8FC6-85661C95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CAC7A-3CF2-4665-997D-D372C163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8AAE-7A03-494F-B964-463289FD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BDE46-D031-4198-84FB-DBB17D4C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99DE-EF3E-4A58-9437-6240B78F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A9ED-0953-4C59-8EDB-8C27CA80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E4B7-2271-43A8-AC19-597164A3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DB21-117C-4B70-B4CF-984567B4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A682-F97F-49D7-84DD-A829B151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FEE2-28EA-4C76-90B2-674611AB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24BE-A025-43BE-8066-D819649F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754A-5DF5-4724-A61F-B914BCF7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E151-90AA-443E-B872-4F3CD9ED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D66B-69D9-48E2-A75C-42D3EC58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3D30-86EC-4582-97CF-0259CCEF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75B7-52C9-4D68-A6E3-7C1DD1C2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FFF6-1140-431B-85EC-179487F5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907A-2E76-4539-9BBD-4C7A60D5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DA9C-4570-4142-A8FA-7B7F79F9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2218-C340-4D44-8F2A-5CD234E1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26A0-59BA-4847-9833-FF5A0C34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2FA6A-F9C2-48D9-9061-A2542564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D37E4-6967-4E06-92C6-574AA96A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5DFF-1E1F-49F4-811A-DC48AC52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4AC1-0A76-4C8A-8032-E17E8386F3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9E80-FB8F-4FBE-A168-4A25817BE4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mayli.ru/smile/knigi-190.html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onotype Corsiva"/>
              </a:rPr>
              <a:t>«МОУ  Мугунская средняя общеобразовательная школа»</a:t>
            </a:r>
            <a:br>
              <a:rPr sz="2400"/>
            </a:br>
            <a:r>
              <a:rPr b="1" i="1" lang="en-US" sz="6000" spc="-1" strike="noStrike">
                <a:solidFill>
                  <a:srgbClr val="ff0000"/>
                </a:solidFill>
                <a:latin typeface="Monotype Corsiva"/>
              </a:rPr>
              <a:t>«Уроки ОБЖ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18920" y="2133360"/>
            <a:ext cx="6481800" cy="3600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Прави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Повед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на улиц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 Black"/>
              </a:rPr>
              <a:t>Учитель ОБЖ: Зайцева Н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профессор"/>
          <p:cNvPicPr/>
          <p:nvPr/>
        </p:nvPicPr>
        <p:blipFill>
          <a:blip r:embed="rId1"/>
          <a:stretch/>
        </p:blipFill>
        <p:spPr>
          <a:xfrm>
            <a:off x="0" y="4606920"/>
            <a:ext cx="237636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lonna MT"/>
              </a:rPr>
              <a:t>Приставание незнакомых людей, нападение на у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835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Ястреб! Ястреб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ыш злодей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Эй, кричите посиль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у-ка выпусти цыпле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лой разбойник, из когт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ак советовали грузинские бабушки своим внукам при опасности захвата злоумышлен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А потому запомни самые важные правила и постарайся никогда их не наруш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316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 разговаривай с незнакомыми людьми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А незнакомый человек – это тот, кого ты лично хорошо не знаеш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 пусть ты видишь его у вас во дворе или он называет тебя по имени, а также знает как зовут твоих родных, это ни о чем не говорит. Если он спросит о чем-либо, ответь коротко и в беседу не вступай. Опытный мошенник может быстро разговорит тебя в нужном направл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2920" y="549000"/>
            <a:ext cx="4038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 забывай о том, что всегда существует опасность повстречать маньяка – человека одержимого болезненным пристрастием к совершению насилия над жертвой. И маньяки зачастую совсем не похожи на Фредди Крюгера из «Кошмара на улице Вязов». При обычном взгляде они вполне приличные люди, хорошие собеседники, часто с приятной внеш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профессор"/>
          <p:cNvPicPr/>
          <p:nvPr/>
        </p:nvPicPr>
        <p:blipFill>
          <a:blip r:embed="rId1"/>
          <a:stretch/>
        </p:blipFill>
        <p:spPr>
          <a:xfrm>
            <a:off x="2340000" y="4365720"/>
            <a:ext cx="2521080" cy="2387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591840"/>
            <a:ext cx="633564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ичего ни бери у незнакомых люде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же если они предлагают интересные для тебя предметы, конфеты, фрукты, щенка,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блюдай осторожность в отношениях с новыми знакомы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оторые специально завязывают знакомства, чтобы использовать их для совершения преступлений. Вспомни сюжет фильма «Вор», в котором преступник предлагал соседям билеты в цирк, чтобы без помех ограбить их кварти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позволяй преступнику «сыграть» на твоем любопытств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Пойдем я тебе что-то покажу! Там так интересно! Ты такого никогда не видел!» и подросток вслед за преступником отправляется туда, где уже никто не может прийти ему на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16720" y="3429000"/>
            <a:ext cx="262728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906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задерживайся и не отвлекайся по пути своего следования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 школу, в магазин, в гости, домой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е оставайся на улице без сопровождения старших с наступлением темн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икогда не садись в чужую автомашину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без разрешения родителей, тем более к незнакомц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даже если он обещает что-то заманчивое. При излишне настойчивом приставании подними ш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313380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3789360"/>
            <a:ext cx="8280360" cy="2735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Запомн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рядочный человек, как прави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не обратится к ребенку за помощ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Чтобы не попасть в бе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облюдай эти правила, избегай опасных ме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 сам не создавай заведомо опасных ситу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25200" y="259920"/>
            <a:ext cx="64184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Некоторые фак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Симпатичный водитель знакомился с мальчиками и предлагал им заработать. Ребята легко соглашались, преступник сажал их в свою машину и увозил их в гараж. Больше ребят никто не видел. Через много месяцев милиция задержала преступника и нашла могилы замученных им жер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3456000" cy="1555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авила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. Избегай одиночных прогулок, где мало людей. В темное время суток не выходи из дома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. Идя по улице навстречу движению транспорта, вы не подвергнетесь внезапному нападению из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. Если навстречу движется группа подростков, а по близости нет людей, лучше перейти на другую сторону или повернуть 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. Если кто-то преследует, беги к месту большого скопления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5. Если у тебя требуют деньги, телефон и другие вещи – отдай сразу, не сопротивля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6.Если тебя кто-то силой пытается увлечь за собой, кричи громк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«Помогите! Я не знаю этого человека!» Пытайся вырваться любыми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050560" y="1341360"/>
            <a:ext cx="66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Внимательно рассмотри компанию подрост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Если ты идешь со своими приятелями и тебя отзывают, просят подойти на минутку, никогда не отходи от своих спу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Не носи гуляя в одиночку, дорогие, привлекающие внимание вещи (украшения, фотоаппараты, бинокли, час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Не носи с собой крупные суммы денег. Если  у тебя требуют деньги – отдай мелочь сразу, не сопротивляя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04640"/>
            <a:ext cx="8642160" cy="936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0000"/>
              </a:gs>
              <a:gs pos="50000">
                <a:srgbClr val="ffcc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Как не стать жертвой ищущей приключения комп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203220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1196640"/>
            <a:ext cx="6202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гуляй в одиночеств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Как показали специальные исследования, ходьба по улице с одним спутником снижает риск подвергнуться нападению на 65%, а с двумя и более на 90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Идя по пустынной дороге или тротуару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ержись на некотором расстоянии от кустов, невысоких стен, темных подъез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Для прогулки одевайся так чтобы одежда не препятствовала свободе движений и бег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33360"/>
            <a:ext cx="7561080" cy="792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Как вести себя на прогул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профессор"/>
          <p:cNvPicPr/>
          <p:nvPr/>
        </p:nvPicPr>
        <p:blipFill>
          <a:blip r:embed="rId1"/>
          <a:stretch/>
        </p:blipFill>
        <p:spPr>
          <a:xfrm>
            <a:off x="6588000" y="2924280"/>
            <a:ext cx="2374920" cy="224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7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6202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Есл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ебя преследуют, иди к людным местам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отделению мили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рохожие могут не броситься тебе на помощь, но само их присутствие сдерживает насильников и грабит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бязательн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общай о любом происшествии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одителям, учителю или милиционе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остарайся описать им приметы подозрительны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Если тебе придется защищаться самостоятельно, если существует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ействительная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опасность для твоего здоровья или жизни, делай все возможное для их спасен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кон предусматривает право каждого на необходимую самооб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74644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селые те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 Что делать, если тебя хватает в твоем подъезде неизвестный челов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На всякий случай помал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Кричать: « Помогите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Кричать: «Пожар!», а когда выйдут соседи, попросить о помощ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 Когда Катя идет из школы и слушает плеер, она не замечает ничего вокруг и ничего не слышит. В чем ее – ошиб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По дороге из школы лучше смотреть «видик», а не слушать пле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Ей нужна собака-поводы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Плеер лучше оставить дома, так как на улице много опасностей и надо быть вниматель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. Какой сказочный персонаж нарушил сразу две заповеди знатоков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) иди по знакомой тропинки, никуда не сворачив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 не вступай в разговор с посторонним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Желтый Чемоданч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Голубой Слоне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Красная Шап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Синяя Бо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12000" y="4292640"/>
            <a:ext cx="1616040" cy="2349360"/>
          </a:xfrm>
          <a:prstGeom prst="rect">
            <a:avLst/>
          </a:prstGeom>
          <a:ln w="0">
            <a:noFill/>
          </a:ln>
        </p:spPr>
      </p:pic>
    </p:spTree>
  </p:cSld>
  <p:transition spd="slow" advTm="0">
    <p:plus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10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10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1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10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-main-pic" descr="Картинка 7 из 16"/>
          <p:cNvPicPr/>
          <p:nvPr/>
        </p:nvPicPr>
        <p:blipFill>
          <a:blip r:embed="rId1"/>
          <a:stretch/>
        </p:blipFill>
        <p:spPr>
          <a:xfrm>
            <a:off x="6659640" y="1484280"/>
            <a:ext cx="2457360" cy="3600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6346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Опасная ситуаци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это неблагоприятная обстановка, в которой действуют вредные факторы различной природы, угрожающие здоровью, жизни человека, его имуществу и среде об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Экстремальными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называют наиболее сложные опасные ситуации, которые требуют для защиты жизни и здоровья человека напряжения всех его физических и духовны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ять « Н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5915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Не задерживайся на улице по дороге из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Не играй на улице с наступлением темн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Не впускай незнакомца в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Не ходи никуда с незнакомым челове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 Не садись в машину с незнакомц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74644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0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3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6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9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И заключен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5464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Каждый грамотный ребен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Должен твердо знать с пелен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Если вас зовут купа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В телевизоре снима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бещают дать конф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твечайте твердо: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Вам предложат обезьян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Или даже денег бан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Или даже в цирк биле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твечайте твердо: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Позовут летать к Лун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Покататься на слон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Есть на все простой от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Ты ответить должен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профессор"/>
          <p:cNvPicPr/>
          <p:nvPr/>
        </p:nvPicPr>
        <p:blipFill>
          <a:blip r:embed="rId1"/>
          <a:stretch/>
        </p:blipFill>
        <p:spPr>
          <a:xfrm>
            <a:off x="5076720" y="2421000"/>
            <a:ext cx="3384720" cy="3205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1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10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100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00000" y="333360"/>
            <a:ext cx="7669440" cy="257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cc33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Times New Roman"/>
              </a:rPr>
              <a:t>Спасибо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cc3300"/>
                  </a:gs>
                  <a:gs pos="100000">
                    <a:srgbClr val="ff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cc33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Times New Roman"/>
              </a:rPr>
              <a:t>за внимание!!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cc3300"/>
                  </a:gs>
                  <a:gs pos="100000">
                    <a:srgbClr val="ff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28414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071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пасные ситуации очень многообразны, они складываются для каждого индивидуально. Часто опасности возникают именно в тот момент, когда их не ждешь и не готов к их появлению. И задача нашего обучения ОБЖ состоит в том, чтобы всегда быть готовым к встрече с любыми трудностями. И делать при этом как можно меньше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 каждой опасной ситуации обязательно есть явная или скрытая причина её возникновения, являющаяся результатом твоей невнимательности, незнания, каприза, глупости, непослуш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2520720" cy="2309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5112000" cy="4089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Rockwell"/>
              </a:rPr>
              <a:t>Какие опасности подстерегают нас на ули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00280"/>
            <a:ext cx="251928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шен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5445000"/>
            <a:ext cx="2952720" cy="12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хи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1413000"/>
            <a:ext cx="259236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бе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789360"/>
            <a:ext cx="287964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8560" y="3645000"/>
            <a:ext cx="2665440" cy="936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катастро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29200" y="404640"/>
            <a:ext cx="4114800" cy="619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lonna MT"/>
              </a:rPr>
              <a:t>Опасные места на ул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устынные переу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устынные па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еосвещенные улицы и д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Стро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5013360"/>
            <a:ext cx="8209080" cy="7207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омни: никто от этого не застрахован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6264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татисти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971640" y="2204640"/>
            <a:ext cx="7200720" cy="2232000"/>
          </a:xfrm>
          <a:prstGeom prst="wedgeRectCallout">
            <a:avLst>
              <a:gd name="adj1" fmla="val -4189"/>
              <a:gd name="adj2" fmla="val 91962"/>
            </a:avLst>
          </a:pr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Ежедневно на улицах, дорогах, на транспорте и в других местах совершается более тысячи преступ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Еще больше вероятность столкнуться с административным правонарушите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ьяниц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Хулиган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едобросовестным продав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4437000"/>
            <a:ext cx="0" cy="72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32720" y="4408560"/>
            <a:ext cx="204156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 Black"/>
              </a:rPr>
              <a:t>Давайте рассмотрим некоторые ситуации и советы по правильному поведению в случае опас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500280"/>
            <a:ext cx="3672000" cy="318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60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ИТУАЦ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96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атьяна покупала в магазине дорогой подарок и не заметила, что за ней внимательно следит черноглазый стройный молодой человек в темной куртке. Только в подъезде она почувствовала за спиной чьи–то быстрые шаги, и в ту же секунду парень стал вырывать из рук девушки сумку. Татьяна не растерялась, стала громко кричать и отбиваться ногами. Парень достал нож, но девушка, бросила сумку, подбежала к двери соседской квартиры и громко стала звать соседей по имени. Нападавший поспешил скры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к ты думаешь, правильно ли поступила Тан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57652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от как советуют поступать в таких случаях работники мил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6716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сли ты возвращаешься из гостей поздно вечером, попроси проводить их тебя до дома, или позвони родителям и попроси чтобы тебя встрети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сегда предупреждай своих домашних о времени прихода домой. Старайся быть точным в расчетах времени на дор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ще будет лучше если ты не будешь задерживаться в гостях до поздне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1914480" cy="4942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02:49:57Z</dcterms:created>
  <dc:creator>MSHOME</dc:creator>
  <dc:description/>
  <dc:language>en-US</dc:language>
  <cp:lastModifiedBy>MSHOME</cp:lastModifiedBy>
  <dcterms:modified xsi:type="dcterms:W3CDTF">2010-06-01T01:00:51Z</dcterms:modified>
  <cp:revision>12</cp:revision>
  <dc:subject/>
  <dc:title>«Уроки ОБЖ»</dc:title>
</cp:coreProperties>
</file>