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235D-96C2-41F2-90B1-69091A25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3C16-3AD0-492F-B111-AC6C6C6A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DFF1-1318-49AD-8D67-B8F19B59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D466-FCA0-4494-88EA-BE8D2503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4D95-F6E6-47D5-8A59-C8BF5BEA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D9EF-CD16-4004-8FE3-C1CB581C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A481-C28E-4DB5-8464-8EF4B24E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3035-8BD7-48BB-902C-C39F828E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B61A-8A33-4DB7-89E9-EE715331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5FB1-3677-455F-8FDB-476D538D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5386-3938-4702-8C6F-304213C2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B3FA-3936-4E8E-A3DC-4B87BFC7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7118-AEB2-4E99-8B5F-3F296F9A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6A1F-9A04-4B6E-9FBF-8DCAB94D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FCAE-5811-4099-B461-46297D31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E7B1-582E-4718-AB03-FF9DEB7E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76CE-F786-4D42-8651-F36242FA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CA6E2-539B-49DD-8BC8-5ADE32FE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FFCC0-58A6-4F33-8A39-946CAB19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F0B45-9605-40D8-849F-BD28997C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FA62C-7E7C-4F4D-8035-4583BF93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56ECA-7771-43EC-9B0E-97A34613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3E4C-D9D7-41D6-B7D0-A01250D2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5F2C0-71AA-46D7-9D3E-66BF7650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55BFF-4667-41FB-9438-E8759923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74E43-CC1B-4061-B636-A8CD3B42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9E54E-A3E5-42E2-A75D-9B09D4A5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F2208-B3FF-41C4-8452-3F7ADCDB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0BE95-83AD-40FD-8CC6-2421CAD0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14A13-6533-4173-9960-EED71290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B177F-9D97-44DF-BCFD-DA2A572D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B3E70-8606-4F36-9404-F5CE8D6E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3B7C8-C1C6-49E9-86CA-238AB570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1BF4-F17E-4EA9-9679-F5A2A9E8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8CE9B-01CF-4F67-BFFF-DE2CB5E1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38FDE-B762-42DF-A297-177F8E5D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43E10-EC2D-4C55-B886-9DB4FDEB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4B55F-AB71-48DE-942C-2F7D673D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A97BC-01D2-4A7D-90F6-A7160C49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B1A35-8285-421D-90C5-DB134B19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DD259-DAD9-425B-8205-2EA3698B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4F188-2C2B-4300-9C80-6D4B3477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43013-6AC6-47DC-8A6A-CF806CC3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2DFD-89A1-4D52-920F-183E68D8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1B33-A06C-46D7-9A0F-74BFD1F5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4B7-23A8-4AE0-AC5F-FE88A44B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DB80-A6E4-4C63-AEE9-BE7C6AFC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01C1-4EA3-41DB-AAF6-E015D84E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696D-91F5-4A90-B3C5-71C20ACFC48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0455-2A85-43E5-8721-0C51F21CE43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8B37-4B9F-4A92-AD77-707960D3F1C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92E0-D83C-4D57-AA93-88758DE916D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as-txtreme.ru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3" descr=""/>
          <p:cNvPicPr/>
          <p:nvPr/>
        </p:nvPicPr>
        <p:blipFill>
          <a:blip r:embed="rId1"/>
          <a:stretch/>
        </p:blipFill>
        <p:spPr>
          <a:xfrm>
            <a:off x="1133640" y="987480"/>
            <a:ext cx="783432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285840" y="2214720"/>
            <a:ext cx="842940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Constantia"/>
              </a:rPr>
              <a:t>Материал подготовила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Constantia"/>
              </a:rPr>
              <a:t>Хлучина Т.А., социальный педагог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Constantia"/>
              </a:rPr>
              <a:t>МОУ ДОД ЦВР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             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ссылки: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www.spas-txtreme.ru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                            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www. 900igr.net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571560" y="1499760"/>
            <a:ext cx="51433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Под весенними лучами солнца лед на водоемах становиться рыхлым и непрочным. </a:t>
            </a:r>
            <a:br>
              <a:rPr sz="2800"/>
            </a:b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   В это время выходить  на его поверхность крайне опасно. Однако каждый год многие люди пренебрегают мерами предосторожности и выходят на тонкий лед, тем самым подвергают себя опасности.</a:t>
            </a:r>
            <a:br>
              <a:rPr sz="45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7" name="Picture 17" descr="неизвестное фото 006"/>
          <p:cNvPicPr/>
          <p:nvPr/>
        </p:nvPicPr>
        <p:blipFill>
          <a:blip r:embed="rId2"/>
          <a:stretch/>
        </p:blipFill>
        <p:spPr>
          <a:xfrm>
            <a:off x="428760" y="1857240"/>
            <a:ext cx="2963880" cy="371484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4" descr=""/>
          <p:cNvPicPr/>
          <p:nvPr/>
        </p:nvPicPr>
        <p:blipFill>
          <a:blip r:embed="rId3"/>
          <a:stretch/>
        </p:blipFill>
        <p:spPr>
          <a:xfrm>
            <a:off x="615960" y="396720"/>
            <a:ext cx="80406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2876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just">
              <a:lnSpc>
                <a:spcPct val="8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8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Безопасным для человека считается лед толщиной не менее 10 сантиметров в пресной воде и 15 сантиметров  - в соленой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8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Если температура воздуха выше О градусов держится более 3 дней, то прочность льда снижается на 25%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8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Прочность льда можно определить визуально: лед голубого цвета – прочный, прочность льда белого цвета в 2 раза меньше, а самый ненадежный лед, серого, матово-белого цвета или с желтоватым оттенком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Содержимое 3" descr="C:\Documents and Settings\Администратор\Local Settings\Temporary Internet Files\Content.Word\led_1.jpg"/>
          <p:cNvPicPr/>
          <p:nvPr/>
        </p:nvPicPr>
        <p:blipFill>
          <a:blip r:embed="rId2"/>
          <a:stretch/>
        </p:blipFill>
        <p:spPr>
          <a:xfrm>
            <a:off x="1285920" y="642960"/>
            <a:ext cx="6286320" cy="428616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4"/>
          <p:cNvSpPr/>
          <p:nvPr/>
        </p:nvSpPr>
        <p:spPr>
          <a:xfrm>
            <a:off x="428760" y="491976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В устьях рек и притоках прочность льда ослаблена. Лед непрочен в местах быстрого течения, бьющих ключей и стоковых вод, а также в районе произрастания водной растительности, вблизи деревьев, кустов и камыш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неизвестное фото 010"/>
          <p:cNvPicPr/>
          <p:nvPr/>
        </p:nvPicPr>
        <p:blipFill>
          <a:blip r:embed="rId2"/>
          <a:stretch/>
        </p:blipFill>
        <p:spPr>
          <a:xfrm>
            <a:off x="5214960" y="1055520"/>
            <a:ext cx="3357720" cy="28670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285840" y="3785760"/>
            <a:ext cx="59292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Не ходи один по льду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Можешь ты попасть в беду –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В лунку или в полынью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И загубишь жизнь свою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Рисунок 5" descr="C:\Documents and Settings\Администратор\Local Settings\Temporary Internet Files\Content.Word\Копия led.jpg"/>
          <p:cNvPicPr/>
          <p:nvPr/>
        </p:nvPicPr>
        <p:blipFill>
          <a:blip r:embed="rId3"/>
          <a:stretch/>
        </p:blipFill>
        <p:spPr>
          <a:xfrm>
            <a:off x="714240" y="1071720"/>
            <a:ext cx="3857760" cy="228600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6" descr="C:\Documents and Settings\Администратор\Local Settings\Temporary Internet Files\Content.Word\Копия led.jpg"/>
          <p:cNvPicPr/>
          <p:nvPr/>
        </p:nvPicPr>
        <p:blipFill>
          <a:blip r:embed="rId4"/>
          <a:stretch/>
        </p:blipFill>
        <p:spPr>
          <a:xfrm>
            <a:off x="6143760" y="4429080"/>
            <a:ext cx="270972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85840" y="1071720"/>
            <a:ext cx="857232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onstantia"/>
              </a:rPr>
              <a:t>Что делать, если вы уже провалилис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onstantia"/>
              </a:rPr>
              <a:t>в холодную воду?</a:t>
            </a:r>
            <a:r>
              <a:rPr b="1" lang="en-US" sz="2800" spc="-1" strike="noStrike">
                <a:solidFill>
                  <a:srgbClr val="7030a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Не паникуйте, не делайте резких движений, стабилизируйте дыхание. Раскиньте руки в стороны и постарайтесь зацепиться за кромку льда, придав телу горизонтальное положение по направлению тече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Попытайтесь осторожно налечь грудью на край льда и забросить одну, а потом другую ноги на лед. Если лед выдержал, перекатываясь, медленно ползите к берегу. Ползите в ту сторону, откуда пришли, ведь там лед уже проверен на прочнос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Прямоугольник 3" descr=""/>
          <p:cNvPicPr/>
          <p:nvPr/>
        </p:nvPicPr>
        <p:blipFill>
          <a:blip r:embed="rId2"/>
          <a:stretch/>
        </p:blipFill>
        <p:spPr>
          <a:xfrm>
            <a:off x="706320" y="-201600"/>
            <a:ext cx="80042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неизвестное фото 011"/>
          <p:cNvPicPr/>
          <p:nvPr/>
        </p:nvPicPr>
        <p:blipFill>
          <a:blip r:embed="rId1"/>
          <a:stretch/>
        </p:blipFill>
        <p:spPr>
          <a:xfrm>
            <a:off x="6216480" y="5072040"/>
            <a:ext cx="2927520" cy="1785960"/>
          </a:xfrm>
          <a:prstGeom prst="rect">
            <a:avLst/>
          </a:prstGeom>
          <a:ln w="0">
            <a:noFill/>
          </a:ln>
        </p:spPr>
      </p:pic>
      <p:pic>
        <p:nvPicPr>
          <p:cNvPr id="209" name="Заголовок 3" descr=""/>
          <p:cNvPicPr/>
          <p:nvPr/>
        </p:nvPicPr>
        <p:blipFill>
          <a:blip r:embed="rId2"/>
          <a:stretch/>
        </p:blipFill>
        <p:spPr>
          <a:xfrm>
            <a:off x="328680" y="195120"/>
            <a:ext cx="8474040" cy="11527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357120" y="1714680"/>
            <a:ext cx="8072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Вооружитесь любой длинной палкой, доской, шестом или веревкой. Можно связать воедино шарф, ремень или одежд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Следует ползком, широко расставляя при этом руки и ноги и толкая перед собой спасательные средства, осторожно двигаться по направлению к полынь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Остановитесь от находящегося в полынье человека в нескольких метрах, бросьте ему веревку, край одежды, подайте палку или шест. Осторожно вытащите пострадавшего на лед и вместе ползком выбирайтесь из опасной зо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Ползите в ту сторону, откуда пришл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3" descr=""/>
          <p:cNvPicPr/>
          <p:nvPr/>
        </p:nvPicPr>
        <p:blipFill>
          <a:blip r:embed="rId2"/>
          <a:stretch/>
        </p:blipFill>
        <p:spPr>
          <a:xfrm>
            <a:off x="328680" y="731880"/>
            <a:ext cx="8474040" cy="11523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457200" y="1600200"/>
            <a:ext cx="840096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Доставьте пострадавшего в теплое место. Окажите ему помощь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Снимите с него мокрую одежд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Энергично разотрите его тело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(до покраснения кожи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Напоите пострадавшего горячим чаем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(ни в коем случае нельзя давать пострадавшему алкоголь – это может привести к летальному исходу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85480" y="0"/>
            <a:ext cx="837252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Следуйте принципам безопасного поведения: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71680" y="714240"/>
            <a:ext cx="82152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28960" indent="-22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Предвидеть опасность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По возможности избегать её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Заголовок 1"/>
          <p:cNvSpPr/>
          <p:nvPr/>
        </p:nvSpPr>
        <p:spPr>
          <a:xfrm>
            <a:off x="500040" y="1785960"/>
            <a:ext cx="82296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4" descr="неизвестное фото 007"/>
          <p:cNvPicPr/>
          <p:nvPr/>
        </p:nvPicPr>
        <p:blipFill>
          <a:blip r:embed="rId2"/>
          <a:stretch/>
        </p:blipFill>
        <p:spPr>
          <a:xfrm>
            <a:off x="1857240" y="2428920"/>
            <a:ext cx="5929560" cy="250020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7"/>
          <p:cNvSpPr/>
          <p:nvPr/>
        </p:nvSpPr>
        <p:spPr>
          <a:xfrm>
            <a:off x="571680" y="528624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Constantia"/>
              </a:rPr>
              <a:t>Человек!  Ты – не пингвин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Constantia"/>
              </a:rPr>
              <a:t>Не гуляй один средь льдин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06:33:01Z</dcterms:created>
  <dc:creator>Тамара</dc:creator>
  <dc:description/>
  <dc:language>en-US</dc:language>
  <cp:lastModifiedBy>КарМаН</cp:lastModifiedBy>
  <dcterms:modified xsi:type="dcterms:W3CDTF">2012-06-18T21:37:52Z</dcterms:modified>
  <cp:revision>15</cp:revision>
  <dc:subject/>
  <dc:title>ИНСТРУКТАЖ  ПО БЕЗОПАСНОМУ ПОВЕДЕНИЮ  В ВЕСЕННЕ-ЛЕТНИЙ ПЕРИОД  НА ВОДНЫХ ОБЪЕКТАХ</dc:title>
</cp:coreProperties>
</file>