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A4D-C0E8-4E8C-A5B7-23DFBD7B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76D-4FEF-434F-BC11-E15C01D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947-AEF9-421F-9561-5122DF0D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7D2-A6FA-4B18-91E1-5EDDAAD5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8CE9-D685-446D-A551-F0A49FB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EE2-4D57-4809-9F42-E1AAC4B5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B481-C02E-44ED-B3B7-A51EE219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E28C-D587-4184-A957-EF7AFF5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D48B-5245-41A8-83A8-D59A525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5136-BB98-4E0B-87EE-BA74281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854B-98E4-4EFD-AE27-196CD0C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370-42C8-482B-B6B9-3A039676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BAE4-414C-4BEB-8F49-41EB88EB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9E1-BA82-4B7B-B902-C0FD84F0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69A2-C9A8-4C96-A170-B419ED08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14B5-4D4A-49EB-B1B2-4F1725C5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3CA-3FEA-45A0-875D-F2B51CF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6BA44-2C0A-4253-8F0B-563934A2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669B-D3A9-4672-8B29-7DFE996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F68A-DBD0-4039-9C58-87D7F9F4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F13C-83DD-4040-95AC-ADF770A8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E725-D25B-4377-8C63-CAA8B76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EC9-970C-49D2-A2BB-3418E7C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CDFD-D43D-49C3-9534-FAAE92E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36A02-EAD5-4E5E-BF8A-C31AC28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C18C-E21E-4498-998D-40977BA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9A40-20E7-474E-A2AF-AC18E32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69FB-3E59-48BB-A449-628E1964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2E60-B079-4A0D-A500-4AA2219B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13E1-F6C7-4060-B5CF-BD746B5D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90E1F-5827-439F-ACFF-E55CBD04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DA57-26F5-4D64-A7A0-2F480F7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793B-A55D-4FB7-A628-D32DC9A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C53-AB58-4CFE-A1B2-9A6863F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44712-60C6-4BB2-B351-0B9BDE2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B385-B724-4D4E-A0ED-E856FD61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C587-C60C-4372-9244-E5A2297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4F1B-4CBC-46E1-8ACA-1DB95468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9C44-36A4-4ABA-AB1F-69816E59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DC5D-EA2A-426E-931D-43842D8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756E-E67C-4830-8373-F662DD0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90CB-C17B-4D6B-B11A-2B8B8241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E2F1-1EFA-407C-8F0F-6578E3FD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168-3BE7-4E79-9FC5-E9EFDCD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066-06C6-4145-91FA-0D652266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E6A-30D3-400C-ADD2-529E8CF4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482-E325-4692-B0CE-A93216CA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C73-3871-446D-A23A-FB986F0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9C6F-27CD-478F-BA10-0A86E2122A0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198C-AC63-4F23-89EE-330514859E9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D0DA-13E2-477B-996D-AD16B76E5F3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B5D-51D4-455D-AD73-451DC4FCA5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as-txtreme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87480"/>
            <a:ext cx="78343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285840" y="2214720"/>
            <a:ext cx="842940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nstantia"/>
              </a:rPr>
              <a:t>Материал подготовил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Хлучина Т.А., социальный педаг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МОУ ДОД ЦВ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ссылки: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spas-txtreme.ru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www. 900igr.net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560" y="1499760"/>
            <a:ext cx="5143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од весенними лучами солнца лед на водоемах становиться рыхлым и непрочным.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  В это время выходить  на его поверхность крайне опасно. Однако каждый год многие люди пренебрегают мерами предосторожности и выходят на тонкий лед, тем самым подвергают себя опасности.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7" name="Picture 17" descr="неизвестное фото 006"/>
          <p:cNvPicPr/>
          <p:nvPr/>
        </p:nvPicPr>
        <p:blipFill>
          <a:blip r:embed="rId2"/>
          <a:stretch/>
        </p:blipFill>
        <p:spPr>
          <a:xfrm>
            <a:off x="428760" y="1857240"/>
            <a:ext cx="296388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3"/>
          <a:stretch/>
        </p:blipFill>
        <p:spPr>
          <a:xfrm>
            <a:off x="615960" y="396720"/>
            <a:ext cx="8040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Безопасным для человека считается лед толщиной не менее 10 сантиметров в пресной воде и 15 сантиметров  - в соленой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Если температура воздуха выше О градусов держится более 3 дней, то прочность льда снижается на 25%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Прочность льда можно определить визуально: лед голубого цвета – прочный, прочность льда белого цвета в 2 раза меньше, а самый ненадежный лед, серого, матово-белого цвета или с желтоватым оттенком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3" descr="C:\Documents and Settings\Администратор\Local Settings\Temporary Internet Files\Content.Word\led_1.jpg"/>
          <p:cNvPicPr/>
          <p:nvPr/>
        </p:nvPicPr>
        <p:blipFill>
          <a:blip r:embed="rId2"/>
          <a:stretch/>
        </p:blipFill>
        <p:spPr>
          <a:xfrm>
            <a:off x="1285920" y="6429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428760" y="4919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е произрастания водной растительности, вблизи деревьев, кустов и камыш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неизвестное фото 010"/>
          <p:cNvPicPr/>
          <p:nvPr/>
        </p:nvPicPr>
        <p:blipFill>
          <a:blip r:embed="rId2"/>
          <a:stretch/>
        </p:blipFill>
        <p:spPr>
          <a:xfrm>
            <a:off x="5214960" y="1055520"/>
            <a:ext cx="3357720" cy="286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85840" y="37857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Не ходи один по льд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Можешь ты попасть в беду 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В лунку или в полынью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И загубишь жизнь св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C:\Documents and Settings\Администратор\Local Settings\Temporary Internet Files\Content.Word\Копия led.jpg"/>
          <p:cNvPicPr/>
          <p:nvPr/>
        </p:nvPicPr>
        <p:blipFill>
          <a:blip r:embed="rId3"/>
          <a:stretch/>
        </p:blipFill>
        <p:spPr>
          <a:xfrm>
            <a:off x="714240" y="1071720"/>
            <a:ext cx="385776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C:\Documents and Settings\Администратор\Local Settings\Temporary Internet Files\Content.Word\Копия led.jpg"/>
          <p:cNvPicPr/>
          <p:nvPr/>
        </p:nvPicPr>
        <p:blipFill>
          <a:blip r:embed="rId4"/>
          <a:stretch/>
        </p:blipFill>
        <p:spPr>
          <a:xfrm>
            <a:off x="6143760" y="4429080"/>
            <a:ext cx="27097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840" y="107172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Что делать, если вы уже провалилис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в холодную воду?</a:t>
            </a: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е паникуйте, не делайте резких движений, стабилизируйте дыхание. 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пытайтесь осторожно налечь грудью на край льда и забросить одну, а потом другую ноги на лед. Если лед выдержал, перекатываясь, медленно ползите к берегу. Ползите в ту сторону, откуда пришли, ведь там лед уже проверен на проч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706320" y="-201600"/>
            <a:ext cx="8004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6216480" y="5072040"/>
            <a:ext cx="2927520" cy="178596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3" descr=""/>
          <p:cNvPicPr/>
          <p:nvPr/>
        </p:nvPicPr>
        <p:blipFill>
          <a:blip r:embed="rId2"/>
          <a:stretch/>
        </p:blipFill>
        <p:spPr>
          <a:xfrm>
            <a:off x="328680" y="1951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57120" y="171468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оружитесь любой длинной палкой, доской, шестом или веревкой. Можно связать воедино шарф, ремень или одеж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едует ползком, широко расставляя при этом руки и ноги и толкая перед собой спасательные средства, осторожно двигаться по направлению к полынь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становитесь от находящегося в полынье человека в нескольких метрах, бросьте ему веревку, край одежды, подайте палку или шест. Осторожно вытащите пострадавшего на лед и вместе ползком выбирайтесь из опасной з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лзите в ту сторону, откуда приш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3" descr=""/>
          <p:cNvPicPr/>
          <p:nvPr/>
        </p:nvPicPr>
        <p:blipFill>
          <a:blip r:embed="rId2"/>
          <a:stretch/>
        </p:blipFill>
        <p:spPr>
          <a:xfrm>
            <a:off x="328680" y="73188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ставьте пострадавшего в теплое место. Окажите ему помощ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нимите с него мокрую одежд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Энергично разотрите его тел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до покраснения кож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Напоите пострадавшего горячим ча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ни в коем случае нельзя давать пострадавшему алкоголь – это может привести к летальному исходу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725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ледуйте принципам безопасного поведения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7142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редвидеть опасность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о возможности избегать её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500040" y="17859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неизвестное фото 007"/>
          <p:cNvPicPr/>
          <p:nvPr/>
        </p:nvPicPr>
        <p:blipFill>
          <a:blip r:embed="rId2"/>
          <a:stretch/>
        </p:blipFill>
        <p:spPr>
          <a:xfrm>
            <a:off x="1857240" y="2428920"/>
            <a:ext cx="5929560" cy="2500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52862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Человек!  Ты – не пингвин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Не гуляй один средь льдин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6:33:01Z</dcterms:created>
  <dc:creator>Тамара</dc:creator>
  <dc:description/>
  <dc:language>en-US</dc:language>
  <cp:lastModifiedBy>КарМаН</cp:lastModifiedBy>
  <dcterms:modified xsi:type="dcterms:W3CDTF">2012-06-18T21:37:52Z</dcterms:modified>
  <cp:revision>15</cp:revision>
  <dc:subject/>
  <dc:title>ИНСТРУКТАЖ  ПО БЕЗОПАСНОМУ ПОВЕДЕНИЮ  В ВЕСЕННЕ-ЛЕТНИЙ ПЕРИОД  НА ВОДНЫХ ОБЪЕКТАХ</dc:title>
</cp:coreProperties>
</file>