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45D-21A9-4625-962A-06BE92D6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DCB-58A4-4592-AA95-D61A65B4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498-2C9B-46B4-86C5-8A818697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F42-1B32-419B-B504-253695F1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980F-EF17-42A8-9360-B154B9FD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767A-E608-4288-A826-B6325603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DEF8-9B7C-4ACF-A1DE-DC4CDF96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27DA-36F9-4DED-94BF-B4DEA78B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2492-FB42-4224-A488-2EA01D80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1B53-E297-4377-8658-D0E7DF3B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6C02-A5FB-4ADB-BFEA-3A593BFD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6FF-291E-45E7-9EE9-AB637011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7020-E56C-40C7-94C4-938F3EE5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179E-6E32-4B14-A7FA-E7A15CF6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445B-2924-44D3-BDD8-C88D4955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7FFA-D2BA-4064-80A9-70735B91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9853-8C03-4CE6-8F60-76136966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59A6-72E1-451E-942C-D8DE8F42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A1EBB-5CB6-40CD-AFE3-2CA7654B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FF29D-2AA4-481C-8E21-5C035A09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D701-25EA-47AB-8915-C8EA10FB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110F-A14D-4000-8F8C-F5AE5B9C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F9B-7061-4DFF-ADFA-3E4351C4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D13C0-F8D5-4801-83C8-004C57D5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A831-A04C-4BE2-9AF5-32FCC686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AEFA-3C38-4DF0-ABD8-45A9C913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9195-566F-46D2-A978-2E58AD1D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052D-B185-4BF7-BB86-91171E37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4437-C041-4A28-8B0C-206E36DA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D7C4-126C-432D-8164-62FCC609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714D-1AD2-4FE7-A4EB-BD25DBBA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AB178-0DEF-430E-AACE-996829DA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42668-D976-44B6-B51D-FCE1A4DC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210-BA5C-42E1-BB96-9188DA9D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50CC3-A62B-43EE-B878-9F4C1467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57C24-1CD9-40B7-986B-424F4A68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04B69-6CD9-4DA0-BD2C-DA2F0C7E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44E9B-C3FB-493A-8BCB-C4E64CA2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D7AA-F325-42E9-8744-03C16FE1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553FC-62D9-4481-BF2D-0AF527D8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A7987-A600-401C-A910-F1836259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222D8-263F-4AEE-B8BF-07484044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87CD-A979-4B68-B07E-9DE764A7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C68A-831C-46C1-875F-ADF32FF6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7F7-5208-4C71-B54A-65B631CC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243-1B27-4422-94D0-AEA9885D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846-54B3-410B-A5DE-C55B5EEA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03B1-8EB2-4F09-89F6-74331913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8842-5412-4F87-84EC-8DD40F2096F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EC57-AAB3-4CA6-8D31-F8AD150C980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36E9-2E2A-4A1B-8AC4-9B1172B070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4C87-D1B0-4CA7-9EA1-F76A0A3B80E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as-txtreme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987480"/>
            <a:ext cx="78343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285840" y="2214720"/>
            <a:ext cx="842940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nstantia"/>
              </a:rPr>
              <a:t>Материал подготовила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nstantia"/>
              </a:rPr>
              <a:t>Хлучина Т.А., социальный педаг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nstantia"/>
              </a:rPr>
              <a:t>МОУ ДОД ЦВР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             </a:t>
            </a:r>
            <a:r>
              <a:rPr b="0" lang="ru-RU" sz="2400" spc="-1" strike="noStrike">
                <a:solidFill>
                  <a:srgbClr val="7030a0"/>
                </a:solidFill>
                <a:latin typeface="Constantia"/>
              </a:rPr>
              <a:t>ссылки: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spas-txtreme.ru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                            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www. 900igr.net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71560" y="1499760"/>
            <a:ext cx="51433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Под весенними лучами солнца лед на водоемах становиться рыхлым и непрочным. 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  В это время выходить  на его поверхность крайне опасно. Однако каждый год многие люди пренебрегают мерами предосторожности и выходят на тонкий лед, тем самым подвергают себя опасности.</a:t>
            </a:r>
            <a:br>
              <a:rPr sz="45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7" name="Picture 17" descr="неизвестное фото 006"/>
          <p:cNvPicPr/>
          <p:nvPr/>
        </p:nvPicPr>
        <p:blipFill>
          <a:blip r:embed="rId2"/>
          <a:stretch/>
        </p:blipFill>
        <p:spPr>
          <a:xfrm>
            <a:off x="428760" y="1857240"/>
            <a:ext cx="296388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3"/>
          <a:stretch/>
        </p:blipFill>
        <p:spPr>
          <a:xfrm>
            <a:off x="615960" y="396720"/>
            <a:ext cx="8040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2876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Безопасным для человека считается лед толщиной не менее 10 сантиметров в пресной воде и 15 сантиметров  - в соленой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Если температура воздуха выше О градусов держится более 3 дней, то прочность льда снижается на 25%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80000"/>
              </a:lnSpc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Прочность льда можно определить визуально: лед голубого цвета – прочный, прочность льда белого цвета в 2 раза меньше, а самый ненадежный лед, серого, матово-белого цвета или с желтоватым оттенком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Содержимое 3" descr="C:\Documents and Settings\Администратор\Local Settings\Temporary Internet Files\Content.Word\led_1.jpg"/>
          <p:cNvPicPr/>
          <p:nvPr/>
        </p:nvPicPr>
        <p:blipFill>
          <a:blip r:embed="rId2"/>
          <a:stretch/>
        </p:blipFill>
        <p:spPr>
          <a:xfrm>
            <a:off x="1285920" y="642960"/>
            <a:ext cx="6286320" cy="428616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4"/>
          <p:cNvSpPr/>
          <p:nvPr/>
        </p:nvSpPr>
        <p:spPr>
          <a:xfrm>
            <a:off x="428760" y="4919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 устьях рек и притоках прочность льда ослаблена. Лед непрочен в местах быстрого течения, бьющих ключей и стоковых вод, а также в районе произрастания водной растительности, вблизи деревьев, кустов и камыш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неизвестное фото 010"/>
          <p:cNvPicPr/>
          <p:nvPr/>
        </p:nvPicPr>
        <p:blipFill>
          <a:blip r:embed="rId2"/>
          <a:stretch/>
        </p:blipFill>
        <p:spPr>
          <a:xfrm>
            <a:off x="5214960" y="1055520"/>
            <a:ext cx="3357720" cy="2867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85840" y="3785760"/>
            <a:ext cx="59292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Не ходи один по льд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Можешь ты попасть в беду –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В лунку или в полынью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И загубишь жизнь свою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5" descr="C:\Documents and Settings\Администратор\Local Settings\Temporary Internet Files\Content.Word\Копия led.jpg"/>
          <p:cNvPicPr/>
          <p:nvPr/>
        </p:nvPicPr>
        <p:blipFill>
          <a:blip r:embed="rId3"/>
          <a:stretch/>
        </p:blipFill>
        <p:spPr>
          <a:xfrm>
            <a:off x="714240" y="1071720"/>
            <a:ext cx="3857760" cy="22860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6" descr="C:\Documents and Settings\Администратор\Local Settings\Temporary Internet Files\Content.Word\Копия led.jpg"/>
          <p:cNvPicPr/>
          <p:nvPr/>
        </p:nvPicPr>
        <p:blipFill>
          <a:blip r:embed="rId4"/>
          <a:stretch/>
        </p:blipFill>
        <p:spPr>
          <a:xfrm>
            <a:off x="6143760" y="4429080"/>
            <a:ext cx="270972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840" y="1071720"/>
            <a:ext cx="85723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Что делать, если вы уже провалилис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onstantia"/>
              </a:rPr>
              <a:t>в холодную воду?</a:t>
            </a: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е паникуйте, не делайте резких движений, стабилизируйте дыхание. 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Попытайтесь осторожно налечь грудью на край льда и забросить одну, а потом другую ноги на лед. Если лед выдержал, перекатываясь, медленно ползите к берегу. Ползите в ту сторону, откуда пришли, ведь там лед уже проверен на прочнос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706320" y="-201600"/>
            <a:ext cx="8004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неизвестное фото 011"/>
          <p:cNvPicPr/>
          <p:nvPr/>
        </p:nvPicPr>
        <p:blipFill>
          <a:blip r:embed="rId1"/>
          <a:stretch/>
        </p:blipFill>
        <p:spPr>
          <a:xfrm>
            <a:off x="6216480" y="5072040"/>
            <a:ext cx="2927520" cy="1785960"/>
          </a:xfrm>
          <a:prstGeom prst="rect">
            <a:avLst/>
          </a:prstGeom>
          <a:ln w="0">
            <a:noFill/>
          </a:ln>
        </p:spPr>
      </p:pic>
      <p:pic>
        <p:nvPicPr>
          <p:cNvPr id="209" name="Заголовок 3" descr=""/>
          <p:cNvPicPr/>
          <p:nvPr/>
        </p:nvPicPr>
        <p:blipFill>
          <a:blip r:embed="rId2"/>
          <a:stretch/>
        </p:blipFill>
        <p:spPr>
          <a:xfrm>
            <a:off x="328680" y="195120"/>
            <a:ext cx="8474040" cy="1152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57120" y="171468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оружитесь любой длинной палкой, доской, шестом или веревкой. Можно связать воедино шарф, ремень или одежд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ледует ползком, широко расставляя при этом руки и ноги и толкая перед собой спасательные средства, осторожно двигаться по направлению к полынь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Остановитесь от находящегося в полынье человека в нескольких метрах, бросьте ему веревку, край одежды, подайте палку или шест. Осторожно вытащите пострадавшего на лед и вместе ползком выбирайтесь из опасной зо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Ползите в ту сторону, откуда приш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3" descr=""/>
          <p:cNvPicPr/>
          <p:nvPr/>
        </p:nvPicPr>
        <p:blipFill>
          <a:blip r:embed="rId2"/>
          <a:stretch/>
        </p:blipFill>
        <p:spPr>
          <a:xfrm>
            <a:off x="328680" y="731880"/>
            <a:ext cx="8474040" cy="1152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7200" y="1600200"/>
            <a:ext cx="8400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Доставьте пострадавшего в теплое место. Окажите ему помощ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Снимите с него мокрую одежд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Энергично разотрите его тел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до покраснения кож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Напоите пострадавшего горячим чае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ни в коем случае нельзя давать пострадавшему алкоголь – это может привести к летальному исходу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83725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Следуйте принципам безопасного поведения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1680" y="71424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Предвидеть опасность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По возможности избегать её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Заголовок 1"/>
          <p:cNvSpPr/>
          <p:nvPr/>
        </p:nvSpPr>
        <p:spPr>
          <a:xfrm>
            <a:off x="500040" y="178596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4" descr="неизвестное фото 007"/>
          <p:cNvPicPr/>
          <p:nvPr/>
        </p:nvPicPr>
        <p:blipFill>
          <a:blip r:embed="rId2"/>
          <a:stretch/>
        </p:blipFill>
        <p:spPr>
          <a:xfrm>
            <a:off x="1857240" y="2428920"/>
            <a:ext cx="5929560" cy="25002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7"/>
          <p:cNvSpPr/>
          <p:nvPr/>
        </p:nvSpPr>
        <p:spPr>
          <a:xfrm>
            <a:off x="571680" y="528624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nstantia"/>
              </a:rPr>
              <a:t>Человек!  Ты – не пингвин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nstantia"/>
              </a:rPr>
              <a:t>Не гуляй один средь льдин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6:33:01Z</dcterms:created>
  <dc:creator>Тамара</dc:creator>
  <dc:description/>
  <dc:language>en-US</dc:language>
  <cp:lastModifiedBy>КарМаН</cp:lastModifiedBy>
  <dcterms:modified xsi:type="dcterms:W3CDTF">2012-06-18T21:37:52Z</dcterms:modified>
  <cp:revision>15</cp:revision>
  <dc:subject/>
  <dc:title>ИНСТРУКТАЖ  ПО БЕЗОПАСНОМУ ПОВЕДЕНИЮ  В ВЕСЕННЕ-ЛЕТНИЙ ПЕРИОД  НА ВОДНЫХ ОБЪЕКТАХ</dc:title>
</cp:coreProperties>
</file>