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37.png" ContentType="image/png"/>
  <Override PartName="/ppt/media/image13.png" ContentType="image/png"/>
  <Override PartName="/ppt/media/image41.wmf" ContentType="image/x-wmf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9.png" ContentType="image/png"/>
  <Override PartName="/ppt/media/image10.wmf" ContentType="image/x-wmf"/>
  <Override PartName="/ppt/media/image25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F11C-5B35-4D1E-BA58-D7B606764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BAFB-F4E6-4A1B-A265-F1175DE86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3814-8B2D-4EDD-996D-44C3E8AC0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0156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6168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0156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A5D4-ECCD-46FC-99AE-89AB35CE3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BB16-1F8C-4474-866D-344DD15CB1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B39D-4B67-4FC7-AB85-7BBEF07A17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8DA4-D974-4DA1-BECD-C280ED41B8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217CD-AAD8-478A-8192-70C953B417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0BA1-75C1-4574-910F-5324D2AE86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1275-35B0-429F-9BF7-BBE3BCF3F2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6C1BD-4F57-46C1-943E-C320D493E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CF1A-704C-4B12-8C3C-23B8F797B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F390-C81A-4186-A70D-0730EC9A5E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AA8C-D7F3-4F74-9718-4E95F58030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8EB8-B458-4A1A-B403-9753440E9D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2A78-D064-44E5-A810-B70CBED340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0156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6168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0156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9F7B-3721-4C66-B29C-149476FF9C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AADD-374C-4F96-8D16-6B2E852C72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0156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6168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0156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A5AC-A6D0-4952-970F-0CD84869D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0C02-CA13-49A3-825A-7382D83CB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50F7-7620-4401-90A0-981D1B938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6E46-AD13-4D6F-B8E8-D181F3229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4C03-8BFD-490E-86A6-EEAD4ED7F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D374-92BC-4BE8-94D0-18C5D63E0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548680" y="-624240"/>
            <a:ext cx="4309920" cy="3872160"/>
            <a:chOff x="5548680" y="-624240"/>
            <a:chExt cx="4309920" cy="387216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2000"/>
              <a:ext cx="996840" cy="745920"/>
              <a:chOff x="7567560" y="2502000"/>
              <a:chExt cx="996840" cy="74592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2000"/>
                <a:ext cx="996840" cy="74592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30680"/>
                <a:ext cx="2332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996840" cy="746280"/>
              <a:chOff x="7797960" y="1442880"/>
              <a:chExt cx="996840" cy="74628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996840" cy="74628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4800"/>
                <a:ext cx="2332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996840" cy="746280"/>
              <a:chOff x="6329520" y="0"/>
              <a:chExt cx="996840" cy="74628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996840" cy="74628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332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5548680" y="-624240"/>
              <a:ext cx="4309920" cy="3570480"/>
              <a:chOff x="5548680" y="-624240"/>
              <a:chExt cx="4309920" cy="35704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0760" cy="1096920"/>
                <a:chOff x="6991200" y="403200"/>
                <a:chExt cx="1490760" cy="109692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0760" cy="109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88720" cy="20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5548680" y="-624240"/>
                <a:ext cx="4309920" cy="3570480"/>
                <a:chOff x="5548680" y="-624240"/>
                <a:chExt cx="4309920" cy="35704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6365880" y="812880"/>
                  <a:ext cx="2969280" cy="1988280"/>
                  <a:chOff x="6365880" y="812880"/>
                  <a:chExt cx="2969280" cy="19882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6398640" y="1169640"/>
                    <a:ext cx="1266120" cy="61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16800" y="1732680"/>
                    <a:ext cx="672480" cy="9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702200" y="-624240"/>
                  <a:ext cx="2156400" cy="2971080"/>
                  <a:chOff x="7702200" y="-624240"/>
                  <a:chExt cx="2156400" cy="29710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761240" y="-285840"/>
                    <a:ext cx="138168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898120" y="1208520"/>
                    <a:ext cx="734400" cy="10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675920" y="-303120"/>
                  <a:ext cx="1971360" cy="2313360"/>
                  <a:chOff x="7675920" y="-303120"/>
                  <a:chExt cx="1971360" cy="231336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733880" y="-61560"/>
                    <a:ext cx="1227600" cy="54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835120" y="1040400"/>
                    <a:ext cx="654480" cy="87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665120" y="-28440"/>
                  <a:ext cx="1866240" cy="1724400"/>
                  <a:chOff x="7665120" y="-28440"/>
                  <a:chExt cx="1866240" cy="17244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718040" y="136440"/>
                    <a:ext cx="1151280" cy="52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805600" y="782280"/>
                    <a:ext cx="610920" cy="83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777800" y="370440"/>
                  <a:ext cx="1425960" cy="845640"/>
                  <a:chOff x="7777800" y="370440"/>
                  <a:chExt cx="1425960" cy="845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797600" y="431280"/>
                    <a:ext cx="9021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88240" y="627840"/>
                    <a:ext cx="47880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62400" y="601200"/>
                  <a:ext cx="1122840" cy="240480"/>
                  <a:chOff x="7862400" y="601200"/>
                  <a:chExt cx="1122840" cy="2404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64560" y="629280"/>
                    <a:ext cx="72792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93560" y="608040"/>
                    <a:ext cx="38772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730640" y="222840"/>
                  <a:ext cx="1321920" cy="921600"/>
                  <a:chOff x="7730640" y="222840"/>
                  <a:chExt cx="1321920" cy="92160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765920" y="663120"/>
                    <a:ext cx="79848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560800" y="264600"/>
                    <a:ext cx="422280" cy="62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087960" y="881280"/>
                  <a:ext cx="2968920" cy="1976040"/>
                  <a:chOff x="6087960" y="881280"/>
                  <a:chExt cx="2968920" cy="19760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7766280" y="1236960"/>
                    <a:ext cx="1258920" cy="61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330960" y="1797120"/>
                    <a:ext cx="669600" cy="9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5548680" y="-533520"/>
                  <a:ext cx="2155320" cy="2967840"/>
                  <a:chOff x="5548680" y="-533520"/>
                  <a:chExt cx="2155320" cy="29678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270120" y="-196920"/>
                    <a:ext cx="1374480" cy="63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5772600" y="1302120"/>
                    <a:ext cx="732240" cy="101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5749200" y="-213840"/>
                  <a:ext cx="1978200" cy="2315160"/>
                  <a:chOff x="5749200" y="-213840"/>
                  <a:chExt cx="1978200" cy="231516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436440" y="28440"/>
                    <a:ext cx="1232640" cy="55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5907960" y="1124640"/>
                    <a:ext cx="654840" cy="87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5872320" y="68040"/>
                  <a:ext cx="1860480" cy="1718280"/>
                  <a:chOff x="5872320" y="68040"/>
                  <a:chExt cx="1860480" cy="17182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537600" y="231480"/>
                    <a:ext cx="114228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5985720" y="877680"/>
                    <a:ext cx="609840" cy="83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201360" y="461520"/>
                  <a:ext cx="1422360" cy="843840"/>
                  <a:chOff x="6201360" y="461520"/>
                  <a:chExt cx="1422360" cy="843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03560" y="522360"/>
                    <a:ext cx="900000" cy="34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237360" y="720720"/>
                    <a:ext cx="481320" cy="55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17000" y="690120"/>
                  <a:ext cx="1123920" cy="240120"/>
                  <a:chOff x="6417000" y="690120"/>
                  <a:chExt cx="1123920" cy="2401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0120" y="714600"/>
                    <a:ext cx="727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20240" y="696600"/>
                    <a:ext cx="38808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346080" y="313920"/>
                  <a:ext cx="1323720" cy="920520"/>
                  <a:chOff x="6346080" y="313920"/>
                  <a:chExt cx="1323720" cy="92052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838200" y="758160"/>
                    <a:ext cx="796320" cy="38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415200" y="355680"/>
                    <a:ext cx="422280" cy="62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279840" y="119880"/>
                  <a:ext cx="1457280" cy="1321920"/>
                  <a:chOff x="6279840" y="119880"/>
                  <a:chExt cx="1457280" cy="13219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827760" y="875520"/>
                    <a:ext cx="861480" cy="42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385680" y="179280"/>
                    <a:ext cx="457200" cy="67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235560" y="-120600"/>
                  <a:ext cx="1519200" cy="1867680"/>
                  <a:chOff x="6235560" y="-120600"/>
                  <a:chExt cx="1519200" cy="18676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6798600" y="1090800"/>
                    <a:ext cx="910800" cy="43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391440" y="-46080"/>
                    <a:ext cx="481680" cy="70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297480" y="-262440"/>
                  <a:ext cx="1384560" cy="2113560"/>
                  <a:chOff x="6297480" y="-262440"/>
                  <a:chExt cx="1384560" cy="21135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6785640" y="1185840"/>
                    <a:ext cx="878400" cy="41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467040" y="-196560"/>
                    <a:ext cx="464400" cy="67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796080" y="-417240"/>
                  <a:ext cx="1709280" cy="1306800"/>
                  <a:chOff x="6796080" y="-417240"/>
                  <a:chExt cx="1709280" cy="1306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710480" y="248760"/>
                    <a:ext cx="82872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6951240" y="-375120"/>
                    <a:ext cx="436320" cy="6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046640" y="-315000"/>
                  <a:ext cx="1225080" cy="1207800"/>
                  <a:chOff x="7046640" y="-315000"/>
                  <a:chExt cx="1225080" cy="12078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607520" y="314640"/>
                    <a:ext cx="744120" cy="33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174080" y="-305280"/>
                    <a:ext cx="394920" cy="54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647480" y="-11160"/>
                  <a:ext cx="1469520" cy="1375920"/>
                  <a:chOff x="7647480" y="-11160"/>
                  <a:chExt cx="1469520" cy="137592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696080" y="786960"/>
                    <a:ext cx="87228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541720" y="50400"/>
                    <a:ext cx="463320" cy="68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613640" y="-205560"/>
                  <a:ext cx="1525320" cy="1814040"/>
                  <a:chOff x="7613640" y="-205560"/>
                  <a:chExt cx="1525320" cy="181404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660800" y="955080"/>
                    <a:ext cx="92016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499960" y="-129960"/>
                    <a:ext cx="487800" cy="70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22120" y="496080"/>
                  <a:ext cx="519120" cy="666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4000" y="109080"/>
                  <a:ext cx="274680" cy="109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031880" y="-336960"/>
                  <a:ext cx="1395720" cy="1200600"/>
                  <a:chOff x="7031880" y="-336960"/>
                  <a:chExt cx="1395720" cy="12006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6969960" y="291960"/>
                    <a:ext cx="74556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902720" y="-308160"/>
                    <a:ext cx="396360" cy="53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608880" y="-597960"/>
                  <a:ext cx="2145240" cy="1434600"/>
                  <a:chOff x="6608880" y="-597960"/>
                  <a:chExt cx="2145240" cy="14346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6631560" y="93240"/>
                    <a:ext cx="95796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055360" y="-528120"/>
                    <a:ext cx="509040" cy="74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535160" y="-47880"/>
                  <a:ext cx="429120" cy="804240"/>
                  <a:chOff x="7535160" y="-47880"/>
                  <a:chExt cx="429120" cy="8042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372080" y="427680"/>
                    <a:ext cx="5209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5800" y="720"/>
                    <a:ext cx="27576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216120" y="772560"/>
                  <a:ext cx="2726640" cy="2173680"/>
                  <a:chOff x="6216120" y="772560"/>
                  <a:chExt cx="2726640" cy="21736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7638840" y="1169280"/>
                    <a:ext cx="1311480" cy="64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485040" y="1850400"/>
                    <a:ext cx="701280" cy="10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639480" y="761760"/>
                  <a:ext cx="1819080" cy="1995840"/>
                  <a:chOff x="6639480" y="761760"/>
                  <a:chExt cx="1819080" cy="199584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7360920" y="1118520"/>
                    <a:ext cx="1183320" cy="61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891840" y="1797120"/>
                    <a:ext cx="63144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113240" y="885600"/>
                  <a:ext cx="952200" cy="1559160"/>
                  <a:chOff x="7113240" y="885600"/>
                  <a:chExt cx="952200" cy="15591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269120" y="1167480"/>
                    <a:ext cx="955800" cy="46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68040" y="1758600"/>
                    <a:ext cx="50760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416640" y="779040"/>
                  <a:ext cx="2806560" cy="2154600"/>
                  <a:chOff x="6416640" y="779040"/>
                  <a:chExt cx="2806560" cy="2154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6417720" y="1173600"/>
                    <a:ext cx="1316520" cy="64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53360" y="1828800"/>
                    <a:ext cx="700200" cy="10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13280" y="750240"/>
                  <a:ext cx="2231280" cy="2104200"/>
                  <a:chOff x="6713280" y="750240"/>
                  <a:chExt cx="2231280" cy="21042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6658920" y="1134000"/>
                    <a:ext cx="1245960" cy="62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18280" y="1832040"/>
                    <a:ext cx="664200" cy="9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041960" y="848520"/>
                  <a:ext cx="1540800" cy="1777680"/>
                  <a:chOff x="7041960" y="848520"/>
                  <a:chExt cx="1540800" cy="177768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6918840" y="1186560"/>
                    <a:ext cx="1078200" cy="50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23880" y="1822320"/>
                    <a:ext cx="570960" cy="80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457040" y="987120"/>
                  <a:ext cx="692280" cy="1359000"/>
                  <a:chOff x="7457040" y="987120"/>
                  <a:chExt cx="692280" cy="13590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262640" y="1260000"/>
                    <a:ext cx="8640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02480" y="1789920"/>
                    <a:ext cx="455760" cy="57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395840" y="1046160"/>
                  <a:ext cx="565920" cy="1222920"/>
                  <a:chOff x="7395840" y="1046160"/>
                  <a:chExt cx="565920" cy="12229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419240" y="1341000"/>
                    <a:ext cx="7873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380720" y="1871640"/>
                    <a:ext cx="416160" cy="34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200"/>
                <a:ext cx="241200" cy="750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49320"/>
                <a:ext cx="1082520" cy="11732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826400" y="230760"/>
                <a:ext cx="1309680" cy="104148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840" y="758880"/>
                <a:ext cx="628560" cy="12128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0160" y="822240"/>
                <a:ext cx="1027080" cy="12114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211040" cy="12128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61240" y="771480"/>
                <a:ext cx="187200" cy="12128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13800" y="765000"/>
                <a:ext cx="507960" cy="12132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58080" y="606600"/>
                <a:ext cx="723960" cy="12128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39400" cy="750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6520" y="1099080"/>
                <a:ext cx="217440" cy="422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2120" y="417600"/>
                <a:ext cx="1295280" cy="121284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706440" y="160200"/>
                <a:ext cx="941400" cy="117324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721640" y="657360"/>
                <a:ext cx="384120" cy="11746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160" y="1285920"/>
                <a:ext cx="547560" cy="772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160" y="457200"/>
                <a:ext cx="349200" cy="77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5560" y="225360"/>
                <a:ext cx="206280" cy="773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09760" cy="814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1480" cy="539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1920" cy="72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1560" y="785520"/>
                <a:ext cx="219240" cy="422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1200" y="777600"/>
                <a:ext cx="219240" cy="422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35F49-EFC0-4196-AB08-39530F11184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44440" y="-1208160"/>
            <a:ext cx="10406160" cy="8613000"/>
            <a:chOff x="244440" y="-1208160"/>
            <a:chExt cx="10406160" cy="86130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38160" cy="701640"/>
              <a:chOff x="3483000" y="954000"/>
              <a:chExt cx="938160" cy="70164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38160" cy="70164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0680" cy="1256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44440" y="-1208160"/>
              <a:ext cx="10406160" cy="8613000"/>
              <a:chOff x="244440" y="-1208160"/>
              <a:chExt cx="10406160" cy="86130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44440" y="-1208160"/>
                <a:ext cx="10406160" cy="8613000"/>
                <a:chOff x="244440" y="-1208160"/>
                <a:chExt cx="10406160" cy="86130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1000" cy="2644920"/>
                  <a:chOff x="3735360" y="1266840"/>
                  <a:chExt cx="3591000" cy="26449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1000" cy="2644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06320" cy="49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ff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44440" y="-1208160"/>
                  <a:ext cx="10406160" cy="8613000"/>
                  <a:chOff x="244440" y="-1208160"/>
                  <a:chExt cx="10406160" cy="86130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2229120" y="2244600"/>
                    <a:ext cx="7165800" cy="4794840"/>
                    <a:chOff x="2229120" y="2244600"/>
                    <a:chExt cx="7165800" cy="4794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2308680" y="3104280"/>
                      <a:ext cx="3048840" cy="148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71200" y="4452120"/>
                      <a:ext cx="1629000" cy="235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430960" y="-1208160"/>
                    <a:ext cx="5219640" cy="7157160"/>
                    <a:chOff x="5430960" y="-1208160"/>
                    <a:chExt cx="5219640" cy="71571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578200" y="-394920"/>
                      <a:ext cx="3328200" cy="156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8320680" y="3192120"/>
                      <a:ext cx="1783080" cy="246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375160" y="-442080"/>
                    <a:ext cx="4784760" cy="5587920"/>
                    <a:chOff x="5375160" y="-442080"/>
                    <a:chExt cx="4784760" cy="558792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519520" y="142560"/>
                      <a:ext cx="2979720" cy="134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8179560" y="2780640"/>
                      <a:ext cx="1595880" cy="212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352480" y="222840"/>
                    <a:ext cx="4507200" cy="4167360"/>
                    <a:chOff x="5352480" y="222840"/>
                    <a:chExt cx="4507200" cy="41673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482800" y="620640"/>
                      <a:ext cx="2778480" cy="12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8093520" y="2183400"/>
                      <a:ext cx="1489680" cy="20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622840" y="1182600"/>
                    <a:ext cx="3449160" cy="2045880"/>
                    <a:chOff x="5622840" y="1182600"/>
                    <a:chExt cx="3449160" cy="2045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671800" y="1330200"/>
                      <a:ext cx="2181960" cy="85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814160" y="1796040"/>
                      <a:ext cx="1168920" cy="135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26600" y="1736280"/>
                    <a:ext cx="2716920" cy="597240"/>
                    <a:chOff x="5826600" y="1736280"/>
                    <a:chExt cx="2716920" cy="5972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32000" y="1780920"/>
                      <a:ext cx="1759680" cy="35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93120" y="1752120"/>
                      <a:ext cx="940680" cy="56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512320" y="825840"/>
                    <a:ext cx="3201120" cy="2239560"/>
                    <a:chOff x="5512320" y="825840"/>
                    <a:chExt cx="3201120" cy="22395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598720" y="1891800"/>
                      <a:ext cx="1932840" cy="9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512840" y="928440"/>
                      <a:ext cx="1033920" cy="15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1558440" y="2391120"/>
                    <a:ext cx="7166520" cy="4804920"/>
                    <a:chOff x="1558440" y="2391120"/>
                    <a:chExt cx="7166520" cy="48049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5591520" y="3251520"/>
                      <a:ext cx="3052800" cy="149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153880" y="4601160"/>
                      <a:ext cx="1635120" cy="236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44440" y="-995400"/>
                    <a:ext cx="5231520" cy="7168320"/>
                    <a:chOff x="244440" y="-995400"/>
                    <a:chExt cx="5231520" cy="71683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1989720" y="-179280"/>
                      <a:ext cx="3339000" cy="15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793800" y="3404880"/>
                      <a:ext cx="1787040" cy="247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748080" y="-227520"/>
                    <a:ext cx="4779720" cy="5584680"/>
                    <a:chOff x="748080" y="-227520"/>
                    <a:chExt cx="4779720" cy="558468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2406600" y="357120"/>
                      <a:ext cx="2977200" cy="134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1130760" y="2997000"/>
                      <a:ext cx="1593720" cy="211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1043640" y="439200"/>
                    <a:ext cx="4510440" cy="4167000"/>
                    <a:chOff x="1043640" y="439200"/>
                    <a:chExt cx="4510440" cy="416700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2637360" y="838080"/>
                      <a:ext cx="2785680" cy="12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1320480" y="2396520"/>
                      <a:ext cx="1490760" cy="20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825560" y="1401840"/>
                    <a:ext cx="3448800" cy="2044080"/>
                    <a:chOff x="1825560" y="1401840"/>
                    <a:chExt cx="3448800" cy="204408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044520" y="1549080"/>
                      <a:ext cx="2180520" cy="85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1913760" y="2014920"/>
                      <a:ext cx="1164960" cy="13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60880" y="1953720"/>
                    <a:ext cx="2718000" cy="597240"/>
                    <a:chOff x="2360880" y="1953720"/>
                    <a:chExt cx="2718000" cy="5972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08040" y="1996920"/>
                      <a:ext cx="176472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369880" y="1969920"/>
                      <a:ext cx="942840" cy="56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188080" y="1045440"/>
                    <a:ext cx="3202560" cy="2238840"/>
                    <a:chOff x="2188080" y="1045440"/>
                    <a:chExt cx="3202560" cy="223884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371400" y="2108520"/>
                      <a:ext cx="1932120" cy="9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355120" y="1147680"/>
                      <a:ext cx="1031040" cy="151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022840" y="574920"/>
                    <a:ext cx="3534480" cy="3211560"/>
                    <a:chOff x="2022840" y="574920"/>
                    <a:chExt cx="3534480" cy="32115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337200" y="2396880"/>
                      <a:ext cx="2101680" cy="10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280240" y="720720"/>
                      <a:ext cx="1120320" cy="164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1899000" y="-5760"/>
                    <a:ext cx="3704400" cy="4537440"/>
                    <a:chOff x="1899000" y="-5760"/>
                    <a:chExt cx="3704400" cy="45374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254040" y="2908800"/>
                      <a:ext cx="2234880" cy="109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2281320" y="178920"/>
                      <a:ext cx="1190880" cy="173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2067120" y="-350640"/>
                    <a:ext cx="3376800" cy="5129280"/>
                    <a:chOff x="2067120" y="-350640"/>
                    <a:chExt cx="3376800" cy="51292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3244320" y="3134520"/>
                      <a:ext cx="2147400" cy="10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2478600" y="-185760"/>
                      <a:ext cx="1145160" cy="16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3260520" y="-728280"/>
                    <a:ext cx="4136400" cy="3199320"/>
                    <a:chOff x="3260520" y="-728280"/>
                    <a:chExt cx="4136400" cy="319932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5450040" y="889200"/>
                      <a:ext cx="2018880" cy="9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3641760" y="-621720"/>
                      <a:ext cx="1081440" cy="149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3861720" y="-477360"/>
                    <a:ext cx="2991600" cy="2949120"/>
                    <a:chOff x="3861720" y="-477360"/>
                    <a:chExt cx="2991600" cy="29491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5208840" y="1034640"/>
                      <a:ext cx="1831680" cy="85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177440" y="-453240"/>
                      <a:ext cx="978480" cy="134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303880" y="266400"/>
                    <a:ext cx="3567600" cy="3326760"/>
                    <a:chOff x="5303880" y="266400"/>
                    <a:chExt cx="3567600" cy="332676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424120" y="2179800"/>
                      <a:ext cx="2117520" cy="105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469280" y="417240"/>
                      <a:ext cx="1131120" cy="166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220720" y="-207000"/>
                    <a:ext cx="3716640" cy="4391640"/>
                    <a:chOff x="5220720" y="-207000"/>
                    <a:chExt cx="3716640" cy="439164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340240" y="2581560"/>
                      <a:ext cx="2236680" cy="109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7372080" y="-22320"/>
                      <a:ext cx="1194840" cy="173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7120" y="1470960"/>
                    <a:ext cx="12589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8440" y="546480"/>
                    <a:ext cx="67248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3826800" y="-521280"/>
                    <a:ext cx="3384000" cy="2925720"/>
                    <a:chOff x="3826800" y="-521280"/>
                    <a:chExt cx="3384000" cy="2925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3686760" y="995760"/>
                      <a:ext cx="1815840" cy="82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932080" y="-450000"/>
                      <a:ext cx="968040" cy="129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793600" y="-1159560"/>
                    <a:ext cx="5209200" cy="3488400"/>
                    <a:chOff x="2793600" y="-1159560"/>
                    <a:chExt cx="5209200" cy="34884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2851920" y="509040"/>
                      <a:ext cx="2337480" cy="11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293160" y="-987480"/>
                      <a:ext cx="1247760" cy="18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043960" y="179280"/>
                    <a:ext cx="1047960" cy="1947600"/>
                    <a:chOff x="5043960" y="179280"/>
                    <a:chExt cx="1047960" cy="194760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4662720" y="1331640"/>
                      <a:ext cx="1245600" cy="31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64440" y="293400"/>
                      <a:ext cx="666000" cy="50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1878840" y="2141640"/>
                    <a:ext cx="6597000" cy="5263200"/>
                    <a:chOff x="1878840" y="2141640"/>
                    <a:chExt cx="6597000" cy="526320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5303520" y="3105720"/>
                      <a:ext cx="3189600" cy="15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2537280" y="4731840"/>
                      <a:ext cx="1705680" cy="249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895840" y="2109240"/>
                    <a:ext cx="4399920" cy="4828320"/>
                    <a:chOff x="2895840" y="2109240"/>
                    <a:chExt cx="4399920" cy="48283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4633920" y="2966760"/>
                      <a:ext cx="2861280" cy="149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511440" y="4605120"/>
                      <a:ext cx="1530000" cy="236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030200" y="2409480"/>
                    <a:ext cx="2303640" cy="3773160"/>
                    <a:chOff x="4030200" y="2409480"/>
                    <a:chExt cx="2303640" cy="37731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394520" y="3084120"/>
                      <a:ext cx="2315520" cy="114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412880" y="4502160"/>
                      <a:ext cx="1238400" cy="180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358360" y="2153160"/>
                    <a:ext cx="6765120" cy="5196600"/>
                    <a:chOff x="2358360" y="2153160"/>
                    <a:chExt cx="6765120" cy="51966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2365560" y="3101760"/>
                      <a:ext cx="3170880" cy="156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778800" y="4682160"/>
                      <a:ext cx="1694880" cy="247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077640" y="2084040"/>
                    <a:ext cx="5382360" cy="5074920"/>
                    <a:chOff x="3077640" y="2084040"/>
                    <a:chExt cx="5382360" cy="507492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2952000" y="3006720"/>
                      <a:ext cx="3004560" cy="152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220800" y="4689720"/>
                      <a:ext cx="1608480" cy="239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856680" y="2316960"/>
                    <a:ext cx="3733200" cy="4309920"/>
                    <a:chOff x="3856680" y="2316960"/>
                    <a:chExt cx="3733200" cy="4309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3567240" y="3129120"/>
                      <a:ext cx="2610360" cy="125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730480" y="4657320"/>
                      <a:ext cx="1396440" cy="197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862160" y="2657880"/>
                    <a:ext cx="1683000" cy="3280320"/>
                    <a:chOff x="4862160" y="2657880"/>
                    <a:chExt cx="1683000" cy="328032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410360" y="3301560"/>
                      <a:ext cx="2075760" cy="89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215680" y="4587120"/>
                      <a:ext cx="111204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711680" y="2804760"/>
                    <a:ext cx="1374480" cy="2946960"/>
                    <a:chOff x="4711680" y="2804760"/>
                    <a:chExt cx="1374480" cy="294696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774680" y="3506400"/>
                      <a:ext cx="1893240" cy="53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679280" y="4778640"/>
                      <a:ext cx="1013760" cy="84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724440" cy="4513320"/>
                <a:chOff x="2174760" y="682560"/>
                <a:chExt cx="6724440" cy="45133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724440" cy="4513320"/>
                  <a:chOff x="2174760" y="682560"/>
                  <a:chExt cx="6724440" cy="4513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742720" y="857880"/>
                    <a:ext cx="3156480" cy="2514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3920" y="2270160"/>
                    <a:ext cx="2476800" cy="2925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20480" y="1752480"/>
                    <a:ext cx="1749960" cy="2925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121920" cy="2925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3060000" y="682560"/>
                    <a:ext cx="2270520" cy="28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491800" y="1876320"/>
                    <a:ext cx="933480" cy="28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4880" y="836640"/>
                    <a:ext cx="507960" cy="18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4680" y="2184120"/>
                  <a:ext cx="536400" cy="1023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3240" y="712800"/>
              <a:ext cx="6402240" cy="4700520"/>
              <a:chOff x="2343240" y="712800"/>
              <a:chExt cx="6402240" cy="47005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240" y="3235320"/>
                <a:ext cx="590400" cy="1816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000" y="2579760"/>
                <a:ext cx="2608200" cy="283356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4280" y="2122560"/>
                <a:ext cx="1525320" cy="29257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3240" y="1738440"/>
                <a:ext cx="2922480" cy="29257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86480" y="2151000"/>
                <a:ext cx="461880" cy="29257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710320" y="2136600"/>
                <a:ext cx="1230120" cy="29260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0760" cy="1816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30440" y="2943000"/>
                <a:ext cx="536760" cy="102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3800" y="3384720"/>
                <a:ext cx="1330200" cy="1871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6320" y="1398600"/>
                <a:ext cx="851040" cy="1871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33360" cy="1967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63720" cy="1307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09640" cy="1760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79240" y="2157480"/>
                <a:ext cx="536400" cy="102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894E7C-EB90-4F2D-B4F5-EDC6028662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11280" y="26028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Black"/>
              </a:rPr>
              <a:t>              </a:t>
            </a:r>
            <a:r>
              <a:rPr b="1" lang="ru-RU" sz="2800" spc="-1" strike="noStrike">
                <a:solidFill>
                  <a:srgbClr val="ff9966"/>
                </a:solidFill>
                <a:latin typeface="Arial Black"/>
              </a:rPr>
              <a:t>Тема: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ожары и взрывы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" y="981000"/>
            <a:ext cx="86421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Аварии на пожаро- и взрывоопасных объектах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бщие сведения о взрыв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бщие сведения о пожар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чины возникновения пожаров и взрывов и их последстви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сновные поражающие факторы пожаров и взрывов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авила безопасного поведения при пожарах и взрыва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ожары и пани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3 L 0.125 0 L 0.177 0 L 0.177 0.06929 L 0.213 0.11858 L 0.177 0.16655 L 0.177 0.23584 L 0.125 0.23584 L 0.089 0.2838 L 0.052 0.23584 L 0 0.23584 L 0 0.16655 L -0.037 0.11858 L 0 0.06929 L 0 0 Z">
                                      <p:cBhvr>
                                        <p:cTn id="100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250920" y="404640"/>
            <a:ext cx="2873160" cy="4888080"/>
            <a:chOff x="250920" y="404640"/>
            <a:chExt cx="2873160" cy="4888080"/>
          </a:xfrm>
        </p:grpSpPr>
        <p:graphicFrame>
          <p:nvGraphicFramePr>
            <p:cNvPr id="464" name=""/>
            <p:cNvGraphicFramePr/>
            <p:nvPr/>
          </p:nvGraphicFramePr>
          <p:xfrm>
            <a:off x="250920" y="404640"/>
            <a:ext cx="2873160" cy="488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404640"/>
                      <a:ext cx="2873160" cy="48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250920" y="404640"/>
              <a:ext cx="2873160" cy="48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116000" y="0"/>
            <a:ext cx="763272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Lucida Sans Unicode"/>
              </a:rPr>
              <a:t>Что дел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  <a:ea typeface="Lucida Sans Unicode"/>
              </a:rPr>
              <a:t>Обнаружив предмет, похожий на взрывное устройство</a:t>
            </a:r>
            <a:r>
              <a:rPr b="1" lang="ru-RU" sz="2000" spc="-1" strike="noStrike">
                <a:solidFill>
                  <a:srgbClr val="ffff00"/>
                </a:solidFill>
                <a:latin typeface="Arial Black"/>
                <a:ea typeface="Lucida Sans Unicode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трогайте е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создавая паники, предупредите окружающи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Сообщите о находке в милицию, любому должностному лиц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  <a:ea typeface="Lucida Sans Unicode"/>
              </a:rPr>
              <a:t>При угрозе взрыв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подходите к взрывоопасному предмет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медленно покиньте опасное место, предупредите окружающих об опас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Сообщите в милици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Если взрыв неизбежен, лягте, прикрыв голову рук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"/>
          <p:cNvSpPr/>
          <p:nvPr/>
        </p:nvSpPr>
        <p:spPr>
          <a:xfrm>
            <a:off x="4592520" y="-2221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dur="indefinite" fill="hold">
                      <p:stCondLst>
                        <p:cond delay="indefinite"/>
                      </p:stCondLst>
                      <p:childTnLst>
                        <p:par>
                          <p:cTn id="9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dur="indefinite" fill="hold">
                      <p:stCondLst>
                        <p:cond delay="indefinite"/>
                      </p:stCondLst>
                      <p:childTnLst>
                        <p:par>
                          <p:cTn id="9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dur="indefinite" fill="hold">
                      <p:stCondLst>
                        <p:cond delay="indefinite"/>
                      </p:stCondLst>
                      <p:childTnLst>
                        <p:par>
                          <p:cTn id="9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dur="indefinite" fill="hold">
                      <p:stCondLst>
                        <p:cond delay="indefinite"/>
                      </p:stCondLst>
                      <p:childTnLst>
                        <p:par>
                          <p:cTn id="9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dur="indefinite" fill="hold">
                      <p:stCondLst>
                        <p:cond delay="indefinite"/>
                      </p:stCondLst>
                      <p:childTnLst>
                        <p:par>
                          <p:cTn id="9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2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2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2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dur="indefinite" fill="hold">
                      <p:stCondLst>
                        <p:cond delay="indefinite"/>
                      </p:stCondLst>
                      <p:childTnLst>
                        <p:par>
                          <p:cTn id="9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dur="indefinite" fill="hold">
                      <p:stCondLst>
                        <p:cond delay="indefinite"/>
                      </p:stCondLst>
                      <p:childTnLst>
                        <p:par>
                          <p:cTn id="9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3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dur="indefinite" fill="hold">
                      <p:stCondLst>
                        <p:cond delay="indefinite"/>
                      </p:stCondLst>
                      <p:childTnLst>
                        <p:par>
                          <p:cTn id="9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dur="indefinite" fill="hold">
                      <p:stCondLst>
                        <p:cond delay="indefinite"/>
                      </p:stCondLst>
                      <p:childTnLst>
                        <p:par>
                          <p:cTn id="9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7" dur="1000" fill="hold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dur="indefinite" fill="hold">
                      <p:stCondLst>
                        <p:cond delay="indefinite"/>
                      </p:stCondLst>
                      <p:childTnLst>
                        <p:par>
                          <p:cTn id="9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4" dur="1000" fill="hold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dur="indefinite" fill="hold">
                      <p:stCondLst>
                        <p:cond delay="indefinite"/>
                      </p:stCondLst>
                      <p:childTnLst>
                        <p:par>
                          <p:cTn id="1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50920" y="1773360"/>
            <a:ext cx="8532720" cy="482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"/>
          <p:cNvSpPr/>
          <p:nvPr/>
        </p:nvSpPr>
        <p:spPr>
          <a:xfrm>
            <a:off x="1800360" y="1871640"/>
            <a:ext cx="2160360" cy="647640"/>
          </a:xfrm>
          <a:prstGeom prst="octagon">
            <a:avLst>
              <a:gd name="adj" fmla="val 23148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юче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ще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"/>
          <p:cNvSpPr/>
          <p:nvPr/>
        </p:nvSpPr>
        <p:spPr>
          <a:xfrm>
            <a:off x="396720" y="3860640"/>
            <a:ext cx="1943280" cy="567000"/>
          </a:xfrm>
          <a:prstGeom prst="octagon">
            <a:avLst>
              <a:gd name="adj" fmla="val 23148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сточник воспламе-н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"/>
          <p:cNvSpPr/>
          <p:nvPr/>
        </p:nvSpPr>
        <p:spPr>
          <a:xfrm>
            <a:off x="3419640" y="3932280"/>
            <a:ext cx="1800000" cy="577800"/>
          </a:xfrm>
          <a:prstGeom prst="octagon">
            <a:avLst>
              <a:gd name="adj" fmla="val 23148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кислител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2341440" y="2924280"/>
            <a:ext cx="1081080" cy="10252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flipV="1">
            <a:off x="468360" y="1907640"/>
            <a:ext cx="1873080" cy="2032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"/>
          <p:cNvSpPr/>
          <p:nvPr/>
        </p:nvSpPr>
        <p:spPr>
          <a:xfrm>
            <a:off x="3349800" y="1987560"/>
            <a:ext cx="1582560" cy="2089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"/>
          <p:cNvSpPr/>
          <p:nvPr/>
        </p:nvSpPr>
        <p:spPr>
          <a:xfrm>
            <a:off x="1332000" y="4435560"/>
            <a:ext cx="273672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"/>
          <p:cNvSpPr/>
          <p:nvPr/>
        </p:nvSpPr>
        <p:spPr>
          <a:xfrm>
            <a:off x="5219640" y="2060640"/>
            <a:ext cx="3240000" cy="2232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 воспламенения –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кий тепловой импульс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ющий температуру 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с тепла, достаточны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гревания веществ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возникновения горен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"/>
          <p:cNvSpPr/>
          <p:nvPr/>
        </p:nvSpPr>
        <p:spPr>
          <a:xfrm>
            <a:off x="2160720" y="179280"/>
            <a:ext cx="4500360" cy="102888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Условия возникнов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пожар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"/>
          <p:cNvSpPr/>
          <p:nvPr/>
        </p:nvSpPr>
        <p:spPr>
          <a:xfrm>
            <a:off x="900000" y="4581360"/>
            <a:ext cx="7345440" cy="18003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орение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имическая реакция окисления вещества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ждающаяся большим выделением тепла и ярки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чение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ожар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о неконтролируемый процесс горения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ждающийся уничтожением материальных ценносте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оздающий опасность для жизни и здоровья людей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dur="indefinite" fill="hold">
                      <p:stCondLst>
                        <p:cond delay="indefinite"/>
                      </p:stCondLst>
                      <p:childTnLst>
                        <p:par>
                          <p:cTn id="1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dur="indefinite" fill="hold">
                      <p:stCondLst>
                        <p:cond delay="indefinite"/>
                      </p:stCondLst>
                      <p:childTnLst>
                        <p:par>
                          <p:cTn id="10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 fill="hold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dur="indefinite" fill="hold">
                      <p:stCondLst>
                        <p:cond delay="indefinite"/>
                      </p:stCondLst>
                      <p:childTnLst>
                        <p:par>
                          <p:cTn id="10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 fill="hold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dur="indefinite" fill="hold">
                      <p:stCondLst>
                        <p:cond delay="indefinite"/>
                      </p:stCondLst>
                      <p:childTnLst>
                        <p:par>
                          <p:cTn id="10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 fill="hold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dur="indefinite" fill="hold">
                      <p:stCondLst>
                        <p:cond delay="indefinite"/>
                      </p:stCondLst>
                      <p:childTnLst>
                        <p:par>
                          <p:cTn id="10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 fill="hold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 fill="hold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 fill="hold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dur="indefinite" fill="hold">
                      <p:stCondLst>
                        <p:cond delay="indefinite"/>
                      </p:stCondLst>
                      <p:childTnLst>
                        <p:par>
                          <p:cTn id="10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 fill="hold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dur="indefinite" fill="hold">
                      <p:stCondLst>
                        <p:cond delay="indefinite"/>
                      </p:stCondLst>
                      <p:childTnLst>
                        <p:par>
                          <p:cTn id="10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 fill="hold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dur="indefinite" fill="hold">
                      <p:stCondLst>
                        <p:cond delay="indefinite"/>
                      </p:stCondLst>
                      <p:childTnLst>
                        <p:par>
                          <p:cTn id="10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50920" y="179280"/>
            <a:ext cx="591480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 Black"/>
              </a:rPr>
              <a:t>Основные причины возникновения пожаров.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2. На промышленных предприятиях.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арушения, допущенные при проектировании и строительстве зданий и сооружений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есоблюдение простейших мер пожарной безопасности производственным персоналом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еосторожное обращение с огнем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арушение технологической дисциплины (напр. сварочные работы)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арушение правил безопасности при эксплуатации электрооборудования и электроустановок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эксплуатация неисправного оборудования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202440" y="1557360"/>
            <a:ext cx="2746440" cy="4168800"/>
            <a:chOff x="6202440" y="1557360"/>
            <a:chExt cx="2746440" cy="416880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6202440" y="1557360"/>
              <a:ext cx="27464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6202440" y="1557360"/>
              <a:ext cx="2746440" cy="41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641840" y="4114800"/>
            <a:ext cx="381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dur="indefinite" fill="hold">
                      <p:stCondLst>
                        <p:cond delay="indefinite"/>
                      </p:stCondLst>
                      <p:childTnLst>
                        <p:par>
                          <p:cTn id="10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dur="indefinite" fill="hold">
                      <p:stCondLst>
                        <p:cond delay="indefinite"/>
                      </p:stCondLst>
                      <p:childTnLst>
                        <p:par>
                          <p:cTn id="10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dur="indefinite" fill="hold">
                      <p:stCondLst>
                        <p:cond delay="indefinite"/>
                      </p:stCondLst>
                      <p:childTnLst>
                        <p:par>
                          <p:cTn id="10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8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dur="indefinite" fill="hold">
                      <p:stCondLst>
                        <p:cond delay="indefinite"/>
                      </p:stCondLst>
                      <p:childTnLst>
                        <p:par>
                          <p:cTn id="1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8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8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dur="indefinite" fill="hold">
                      <p:stCondLst>
                        <p:cond delay="indefinite"/>
                      </p:stCondLst>
                      <p:childTnLst>
                        <p:par>
                          <p:cTn id="1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8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8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8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dur="indefinite" fill="hold">
                      <p:stCondLst>
                        <p:cond delay="indefinite"/>
                      </p:stCondLst>
                      <p:childTnLst>
                        <p:par>
                          <p:cTn id="1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dur="indefinite" fill="hold">
                      <p:stCondLst>
                        <p:cond delay="indefinite"/>
                      </p:stCondLst>
                      <p:childTnLst>
                        <p:par>
                          <p:cTn id="1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dur="indefinite" fill="hold">
                      <p:stCondLst>
                        <p:cond delay="indefinite"/>
                      </p:stCondLst>
                      <p:childTnLst>
                        <p:par>
                          <p:cTn id="1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5" name=""/>
          <p:cNvCxnSpPr>
            <a:stCxn id="486" idx="0"/>
            <a:endCxn id="487" idx="0"/>
          </p:cNvCxnSpPr>
          <p:nvPr/>
        </p:nvCxnSpPr>
        <p:spPr>
          <a:xfrm flipH="1">
            <a:off x="2160360" y="1728360"/>
            <a:ext cx="2160" cy="349164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6" idx="1"/>
            <a:endCxn id="489" idx="0"/>
          </p:cNvCxnSpPr>
          <p:nvPr/>
        </p:nvCxnSpPr>
        <p:spPr>
          <a:xfrm>
            <a:off x="2160360" y="1728360"/>
            <a:ext cx="4678920" cy="3528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sp>
        <p:nvSpPr>
          <p:cNvPr id="486" name=""/>
          <p:cNvSpPr/>
          <p:nvPr/>
        </p:nvSpPr>
        <p:spPr>
          <a:xfrm>
            <a:off x="2160720" y="720720"/>
            <a:ext cx="3958920" cy="1008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d159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ажающие факторы  пожар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060720"/>
            <a:ext cx="2664000" cy="1511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ольшое количество тепла, выделяемого в зоне гор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"/>
          <p:cNvSpPr/>
          <p:nvPr/>
        </p:nvSpPr>
        <p:spPr>
          <a:xfrm>
            <a:off x="6300720" y="3060720"/>
            <a:ext cx="2449440" cy="1520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сокая токсичность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дуктов гор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"/>
          <p:cNvSpPr/>
          <p:nvPr/>
        </p:nvSpPr>
        <p:spPr>
          <a:xfrm>
            <a:off x="719280" y="5219640"/>
            <a:ext cx="2881080" cy="135900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теря видим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ледствие задым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>
            <a:off x="5218200" y="5256360"/>
            <a:ext cx="3241440" cy="122364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начительное понижени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центрации кислород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"/>
          <p:cNvSpPr/>
          <p:nvPr/>
        </p:nvSpPr>
        <p:spPr>
          <a:xfrm>
            <a:off x="3060720" y="3060720"/>
            <a:ext cx="2878200" cy="1520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сокая температура в результате интенсивно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пловыд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93" name=""/>
          <p:cNvCxnSpPr>
            <a:stCxn id="486" idx="2"/>
            <a:endCxn id="491" idx="0"/>
          </p:cNvCxnSpPr>
          <p:nvPr/>
        </p:nvCxnSpPr>
        <p:spPr>
          <a:xfrm>
            <a:off x="6119280" y="720720"/>
            <a:ext cx="1407240" cy="2340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86" idx="3"/>
            <a:endCxn id="490" idx="0"/>
          </p:cNvCxnSpPr>
          <p:nvPr/>
        </p:nvCxnSpPr>
        <p:spPr>
          <a:xfrm flipH="1">
            <a:off x="1510560" y="720720"/>
            <a:ext cx="4609080" cy="2340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stCxn id="486" idx="4"/>
            <a:endCxn id="492" idx="0"/>
          </p:cNvCxnSpPr>
          <p:nvPr/>
        </p:nvCxnSpPr>
        <p:spPr>
          <a:xfrm flipH="1">
            <a:off x="4500000" y="720720"/>
            <a:ext cx="1619640" cy="2340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dur="indefinite" fill="hold">
                      <p:stCondLst>
                        <p:cond delay="indefinite"/>
                      </p:stCondLst>
                      <p:childTnLst>
                        <p:par>
                          <p:cTn id="1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 fill="hold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dur="indefinite" fill="hold">
                      <p:stCondLst>
                        <p:cond delay="indefinite"/>
                      </p:stCondLst>
                      <p:childTnLst>
                        <p:par>
                          <p:cTn id="1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dur="indefinite" fill="hold">
                      <p:stCondLst>
                        <p:cond delay="indefinite"/>
                      </p:stCondLst>
                      <p:childTnLst>
                        <p:par>
                          <p:cTn id="1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dur="indefinite" fill="hold">
                      <p:stCondLst>
                        <p:cond delay="indefinite"/>
                      </p:stCondLst>
                      <p:childTnLst>
                        <p:par>
                          <p:cTn id="1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0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dur="indefinite" fill="hold">
                      <p:stCondLst>
                        <p:cond delay="indefinite"/>
                      </p:stCondLst>
                      <p:childTnLst>
                        <p:par>
                          <p:cTn id="1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5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dur="indefinite" fill="hold">
                      <p:stCondLst>
                        <p:cond delay="indefinite"/>
                      </p:stCondLst>
                      <p:childTnLst>
                        <p:par>
                          <p:cTn id="1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dur="indefinite" fill="hold">
                      <p:stCondLst>
                        <p:cond delay="indefinite"/>
                      </p:stCondLst>
                      <p:childTnLst>
                        <p:par>
                          <p:cTn id="1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9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dur="indefinite" fill="hold">
                      <p:stCondLst>
                        <p:cond delay="indefinite"/>
                      </p:stCondLst>
                      <p:childTnLst>
                        <p:par>
                          <p:cTn id="1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dur="indefinite" fill="hold">
                      <p:stCondLst>
                        <p:cond delay="indefinite"/>
                      </p:stCondLst>
                      <p:childTnLst>
                        <p:par>
                          <p:cTn id="1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dur="indefinite" fill="hold">
                      <p:stCondLst>
                        <p:cond delay="indefinite"/>
                      </p:stCondLst>
                      <p:childTnLst>
                        <p:par>
                          <p:cTn id="1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7" dur="500" fill="hold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dur="indefinite" fill="hold">
                      <p:stCondLst>
                        <p:cond delay="indefinite"/>
                      </p:stCondLst>
                      <p:childTnLst>
                        <p:par>
                          <p:cTn id="1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dur="indefinite" fill="hold">
                      <p:stCondLst>
                        <p:cond delay="indefinite"/>
                      </p:stCondLst>
                      <p:childTnLst>
                        <p:par>
                          <p:cTn id="1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 fill="hold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dur="indefinite" fill="hold">
                      <p:stCondLst>
                        <p:cond delay="indefinite"/>
                      </p:stCondLst>
                      <p:childTnLst>
                        <p:par>
                          <p:cTn id="1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7" dur="500" fill="hold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dur="indefinite" fill="hold">
                      <p:stCondLst>
                        <p:cond delay="indefinite"/>
                      </p:stCondLst>
                      <p:childTnLst>
                        <p:par>
                          <p:cTn id="1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 fill="hold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dur="indefinite" fill="hold">
                      <p:stCondLst>
                        <p:cond delay="indefinite"/>
                      </p:stCondLst>
                      <p:childTnLst>
                        <p:par>
                          <p:cTn id="1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1" dur="500" fill="hold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dur="indefinite" fill="hold">
                      <p:stCondLst>
                        <p:cond delay="indefinite"/>
                      </p:stCondLst>
                      <p:childTnLst>
                        <p:par>
                          <p:cTn id="1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 fill="hold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 fill="hold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 fill="hold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dur="indefinite" fill="hold">
                      <p:stCondLst>
                        <p:cond delay="indefinite"/>
                      </p:stCondLst>
                      <p:childTnLst>
                        <p:par>
                          <p:cTn id="1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dur="indefinite" fill="hold">
                      <p:stCondLst>
                        <p:cond delay="indefinite"/>
                      </p:stCondLst>
                      <p:childTnLst>
                        <p:par>
                          <p:cTn id="1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179280"/>
            <a:ext cx="9144000" cy="66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крытый огонь воздействует редко. Наибольшую опасность представляет тепловое излуч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дыхание нагретого воздуха приводит к поражению верхних дыхательных путей, удушью и смерти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гретый воздух при температуре свыше 100 С приводит к потере сознания и гибели уже через несколько минут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жоги кожи – при площади ожогов кожи человека 30 % и более  - возникает опасность смерт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Токсичные продукты горения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оксид углерода – вступает в реакцию с гемоглобином крови человека в 200-300 раз быстрее, чем кислород и наступает кислородное голодание – оцепенение, апатия, равнодушие к происходящему, депрессия, головокружение, нарушение координации движений, остановка дыхания – смерть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продукты горения полимерных материалов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теря видимости вследствие задымления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движения людей становятся хаотичными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затрудняется эвакуация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угроза паник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 Black"/>
              </a:rPr>
              <a:t>Понижение концентрации кислорода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 Black"/>
              </a:rPr>
              <a:t>кислород “выгорает” вместе с продуктами горения (вступает в реакцию)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 Black"/>
              </a:rPr>
              <a:t>3 % -е понижение концентрации вызывает ухудшение двигательных функций организма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 Black"/>
              </a:rPr>
              <a:t>14 % и более – нарушение мозговой деятельност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8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8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8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8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8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8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8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8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8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8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8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8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8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8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8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8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8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8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800" fill="hold"/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800" fill="hold"/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800" fill="hold"/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800" fill="hold"/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800" fill="hold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800" fill="hold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800" fill="hold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800" fill="hold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800" fill="hold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800" fill="hold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800" fill="hold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800" fill="hold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800" fill="hold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800" fill="hold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260360" y="360360"/>
            <a:ext cx="6659640" cy="5047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ДИИ РАЗВИТИЯ ПОЖАР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450720" y="1079640"/>
          <a:ext cx="8498160" cy="5579640"/>
        </p:xfrm>
        <a:graphic>
          <a:graphicData uri="http://schemas.openxmlformats.org/drawingml/2006/table">
            <a:tbl>
              <a:tblPr/>
              <a:tblGrid>
                <a:gridCol w="2160720"/>
                <a:gridCol w="1008000"/>
                <a:gridCol w="532944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ИМЕНОВА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РАТКАЯ ХАРАКТЕРИСТ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ЧАЛЬНА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-3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большая температура горения и скорость распространения ог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ЗГОРА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-6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езкое увеличение температуры горения  (до1000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с )  и  скорости распространения огня.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ВЕРШАЮЩ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слабление силы пожара по мере выгорания огнеопасных материало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936720" y="2865600"/>
            <a:ext cx="1942920" cy="91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"/>
          <p:cNvSpPr/>
          <p:nvPr/>
        </p:nvSpPr>
        <p:spPr>
          <a:xfrm>
            <a:off x="4140360" y="2160720"/>
            <a:ext cx="2519280" cy="197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дукт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360360"/>
            <a:ext cx="302256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лное  горение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"/>
          <p:cNvSpPr/>
          <p:nvPr/>
        </p:nvSpPr>
        <p:spPr>
          <a:xfrm>
            <a:off x="5972040" y="216000"/>
            <a:ext cx="2916360" cy="113976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учаются продукты, НЕ способные больше горет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"/>
          <p:cNvSpPr/>
          <p:nvPr/>
        </p:nvSpPr>
        <p:spPr>
          <a:xfrm>
            <a:off x="620640" y="5694480"/>
            <a:ext cx="3340080" cy="6062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полное горение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"/>
          <p:cNvSpPr/>
          <p:nvPr/>
        </p:nvSpPr>
        <p:spPr>
          <a:xfrm>
            <a:off x="5940360" y="5400720"/>
            <a:ext cx="2679840" cy="91440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олучаются продуты ЕЩЁ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ПОСОБНЫЕ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гореть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505" name=""/>
          <p:cNvCxnSpPr>
            <a:stCxn id="499" idx="0"/>
            <a:endCxn id="501" idx="2"/>
          </p:cNvCxnSpPr>
          <p:nvPr/>
        </p:nvCxnSpPr>
        <p:spPr>
          <a:xfrm flipV="1">
            <a:off x="1908000" y="816840"/>
            <a:ext cx="324720" cy="2048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99" idx="4"/>
            <a:endCxn id="503" idx="0"/>
          </p:cNvCxnSpPr>
          <p:nvPr/>
        </p:nvCxnSpPr>
        <p:spPr>
          <a:xfrm>
            <a:off x="1907640" y="3780000"/>
            <a:ext cx="381960" cy="19152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1" idx="3"/>
            <a:endCxn id="500" idx="0"/>
          </p:cNvCxnSpPr>
          <p:nvPr/>
        </p:nvCxnSpPr>
        <p:spPr>
          <a:xfrm>
            <a:off x="3743280" y="588960"/>
            <a:ext cx="1658160" cy="157248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508" name=""/>
          <p:cNvCxnSpPr>
            <a:stCxn id="503" idx="3"/>
            <a:endCxn id="500" idx="4"/>
          </p:cNvCxnSpPr>
          <p:nvPr/>
        </p:nvCxnSpPr>
        <p:spPr>
          <a:xfrm flipV="1">
            <a:off x="3958920" y="4139640"/>
            <a:ext cx="1440360" cy="185652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509" name=""/>
          <p:cNvCxnSpPr>
            <a:stCxn id="501" idx="3"/>
            <a:endCxn id="502" idx="1"/>
          </p:cNvCxnSpPr>
          <p:nvPr/>
        </p:nvCxnSpPr>
        <p:spPr>
          <a:xfrm>
            <a:off x="3742920" y="588600"/>
            <a:ext cx="2229480" cy="197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3" idx="3"/>
            <a:endCxn id="504" idx="1"/>
          </p:cNvCxnSpPr>
          <p:nvPr/>
        </p:nvCxnSpPr>
        <p:spPr>
          <a:xfrm flipV="1">
            <a:off x="3958920" y="5857560"/>
            <a:ext cx="1980360" cy="1404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500" idx="5"/>
            <a:endCxn id="504" idx="1"/>
          </p:cNvCxnSpPr>
          <p:nvPr/>
        </p:nvCxnSpPr>
        <p:spPr>
          <a:xfrm flipH="1">
            <a:off x="5940000" y="3849480"/>
            <a:ext cx="351360" cy="200700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512" name=""/>
          <p:cNvCxnSpPr>
            <a:stCxn id="500" idx="7"/>
            <a:endCxn id="502" idx="1"/>
          </p:cNvCxnSpPr>
          <p:nvPr/>
        </p:nvCxnSpPr>
        <p:spPr>
          <a:xfrm flipH="1" flipV="1">
            <a:off x="5971320" y="785160"/>
            <a:ext cx="320040" cy="166428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dur="indefinite" fill="hold">
                      <p:stCondLst>
                        <p:cond delay="indefinite"/>
                      </p:stCondLst>
                      <p:childTnLst>
                        <p:par>
                          <p:cTn id="14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dur="indefinite" fill="hold">
                      <p:stCondLst>
                        <p:cond delay="indefinite"/>
                      </p:stCondLst>
                      <p:childTnLst>
                        <p:par>
                          <p:cTn id="1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9" dur="1000" fill="hold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dur="indefinite" fill="hold">
                      <p:stCondLst>
                        <p:cond delay="indefinite"/>
                      </p:stCondLst>
                      <p:childTnLst>
                        <p:par>
                          <p:cTn id="1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dur="indefinite" fill="hold">
                      <p:stCondLst>
                        <p:cond delay="indefinite"/>
                      </p:stCondLst>
                      <p:childTnLst>
                        <p:par>
                          <p:cTn id="1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 fill="hold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dur="indefinite" fill="hold">
                      <p:stCondLst>
                        <p:cond delay="indefinite"/>
                      </p:stCondLst>
                      <p:childTnLst>
                        <p:par>
                          <p:cTn id="14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dur="indefinite" fill="hold">
                      <p:stCondLst>
                        <p:cond delay="indefinite"/>
                      </p:stCondLst>
                      <p:childTnLst>
                        <p:par>
                          <p:cTn id="1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1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6" dur="10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dur="indefinite" fill="hold">
                      <p:stCondLst>
                        <p:cond delay="indefinite"/>
                      </p:stCondLst>
                      <p:childTnLst>
                        <p:par>
                          <p:cTn id="14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dur="indefinite" fill="hold">
                      <p:stCondLst>
                        <p:cond delay="indefinite"/>
                      </p:stCondLst>
                      <p:childTnLst>
                        <p:par>
                          <p:cTn id="1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dur="indefinite" fill="hold">
                      <p:stCondLst>
                        <p:cond delay="indefinite"/>
                      </p:stCondLst>
                      <p:childTnLst>
                        <p:par>
                          <p:cTn id="15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dur="indefinite" fill="hold">
                      <p:stCondLst>
                        <p:cond delay="indefinite"/>
                      </p:stCondLst>
                      <p:childTnLst>
                        <p:par>
                          <p:cTn id="15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dur="indefinite" fill="hold">
                      <p:stCondLst>
                        <p:cond delay="indefinite"/>
                      </p:stCondLst>
                      <p:childTnLst>
                        <p:par>
                          <p:cTn id="1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dur="indefinite" fill="hold">
                      <p:stCondLst>
                        <p:cond delay="indefinite"/>
                      </p:stCondLst>
                      <p:childTnLst>
                        <p:par>
                          <p:cTn id="15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7" dur="1000" fill="hold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 fill="hold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dur="indefinite" fill="hold">
                      <p:stCondLst>
                        <p:cond delay="indefinite"/>
                      </p:stCondLst>
                      <p:childTnLst>
                        <p:par>
                          <p:cTn id="15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9" dur="1000" fill="hold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dur="indefinite" fill="hold">
                      <p:stCondLst>
                        <p:cond delay="indefinite"/>
                      </p:stCondLst>
                      <p:childTnLst>
                        <p:par>
                          <p:cTn id="15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dur="indefinite" fill="hold">
                      <p:stCondLst>
                        <p:cond delay="indefinite"/>
                      </p:stCondLst>
                      <p:childTnLst>
                        <p:par>
                          <p:cTn id="1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0" dur="10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 fill="hold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dur="indefinite" fill="hold">
                      <p:stCondLst>
                        <p:cond delay="indefinite"/>
                      </p:stCondLst>
                      <p:childTnLst>
                        <p:par>
                          <p:cTn id="1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dur="indefinite" fill="hold">
                      <p:stCondLst>
                        <p:cond delay="indefinite"/>
                      </p:stCondLst>
                      <p:childTnLst>
                        <p:par>
                          <p:cTn id="1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6" dur="1000" fill="hold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dur="indefinite" fill="hold">
                      <p:stCondLst>
                        <p:cond delay="indefinite"/>
                      </p:stCondLst>
                      <p:childTnLst>
                        <p:par>
                          <p:cTn id="15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5" dur="1000" fill="hold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0" dur="10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5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dur="indefinite" fill="hold">
                      <p:stCondLst>
                        <p:cond delay="indefinite"/>
                      </p:stCondLst>
                      <p:childTnLst>
                        <p:par>
                          <p:cTn id="1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dur="indefinite" fill="hold">
                      <p:stCondLst>
                        <p:cond delay="indefinite"/>
                      </p:stCondLst>
                      <p:childTnLst>
                        <p:par>
                          <p:cTn id="16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3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dur="indefinite" fill="hold">
                      <p:stCondLst>
                        <p:cond delay="indefinite"/>
                      </p:stCondLst>
                      <p:childTnLst>
                        <p:par>
                          <p:cTn id="16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3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9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5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dur="indefinite" fill="hold">
                      <p:stCondLst>
                        <p:cond delay="indefinite"/>
                      </p:stCondLst>
                      <p:childTnLst>
                        <p:par>
                          <p:cTn id="16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5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6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1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7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dur="indefinite" fill="hold">
                      <p:stCondLst>
                        <p:cond delay="indefinite"/>
                      </p:stCondLst>
                      <p:childTnLst>
                        <p:par>
                          <p:cTn id="16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dur="indefinite" fill="hold">
                      <p:stCondLst>
                        <p:cond delay="indefinite"/>
                      </p:stCondLst>
                      <p:childTnLst>
                        <p:par>
                          <p:cTn id="16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7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dur="indefinite" fill="hold">
                      <p:stCondLst>
                        <p:cond delay="indefinite"/>
                      </p:stCondLst>
                      <p:childTnLst>
                        <p:par>
                          <p:cTn id="1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751040" y="461880"/>
            <a:ext cx="6710400" cy="115884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Классификация пожаров по внешним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признакам гор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206064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ужные пожа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"/>
          <p:cNvSpPr/>
          <p:nvPr/>
        </p:nvSpPr>
        <p:spPr>
          <a:xfrm>
            <a:off x="1403280" y="4460760"/>
            <a:ext cx="1600200" cy="684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рыты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"/>
          <p:cNvSpPr/>
          <p:nvPr/>
        </p:nvSpPr>
        <p:spPr>
          <a:xfrm>
            <a:off x="1403280" y="286056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е пожа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"/>
          <p:cNvSpPr/>
          <p:nvPr/>
        </p:nvSpPr>
        <p:spPr>
          <a:xfrm>
            <a:off x="1403280" y="366084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крыты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"/>
          <p:cNvSpPr/>
          <p:nvPr/>
        </p:nvSpPr>
        <p:spPr>
          <a:xfrm>
            <a:off x="1403280" y="5259240"/>
            <a:ext cx="1728720" cy="1097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временно наружные и внутренние пожа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"/>
          <p:cNvSpPr/>
          <p:nvPr/>
        </p:nvSpPr>
        <p:spPr>
          <a:xfrm>
            <a:off x="3240000" y="2879640"/>
            <a:ext cx="5580000" cy="68580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зникают и развиваются внутри зданий. Могут быть открытыми и скрытым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"/>
          <p:cNvSpPr/>
          <p:nvPr/>
        </p:nvSpPr>
        <p:spPr>
          <a:xfrm>
            <a:off x="3232080" y="1800360"/>
            <a:ext cx="4795920" cy="94608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знаки горения (пламя, дым ) можно установить визуально. ВСЕГДА ОТКРЫТЫЕ ПОЖАР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"/>
          <p:cNvSpPr/>
          <p:nvPr/>
        </p:nvSpPr>
        <p:spPr>
          <a:xfrm>
            <a:off x="3227400" y="3675240"/>
            <a:ext cx="5592600" cy="68580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знаки горения можно установить осмотром помещений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"/>
          <p:cNvSpPr/>
          <p:nvPr/>
        </p:nvSpPr>
        <p:spPr>
          <a:xfrm>
            <a:off x="3232080" y="4460760"/>
            <a:ext cx="5587920" cy="201924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рение протекает в пустотах строительных конструкций, вентиляционных шахтах, внутри торфяной залеж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изнаки горения: 1 выход дыма сквозь щели,  2  нагретость конструкций, 3 изменение цвета штукатурки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"/>
          <p:cNvSpPr/>
          <p:nvPr/>
        </p:nvSpPr>
        <p:spPr>
          <a:xfrm>
            <a:off x="3003480" y="400356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"/>
          <p:cNvSpPr/>
          <p:nvPr/>
        </p:nvSpPr>
        <p:spPr>
          <a:xfrm>
            <a:off x="3003480" y="491796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"/>
          <p:cNvSpPr/>
          <p:nvPr/>
        </p:nvSpPr>
        <p:spPr>
          <a:xfrm>
            <a:off x="3003480" y="3203640"/>
            <a:ext cx="2286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"/>
          <p:cNvSpPr/>
          <p:nvPr/>
        </p:nvSpPr>
        <p:spPr>
          <a:xfrm>
            <a:off x="3003480" y="240336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dur="indefinite" fill="hold">
                      <p:stCondLst>
                        <p:cond delay="indefinite"/>
                      </p:stCondLst>
                      <p:childTnLst>
                        <p:par>
                          <p:cTn id="16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dur="indefinite" fill="hold">
                      <p:stCondLst>
                        <p:cond delay="indefinite"/>
                      </p:stCondLst>
                      <p:childTnLst>
                        <p:par>
                          <p:cTn id="1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6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dur="indefinite" fill="hold">
                      <p:stCondLst>
                        <p:cond delay="indefinite"/>
                      </p:stCondLst>
                      <p:childTnLst>
                        <p:par>
                          <p:cTn id="16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0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3" dur="500" fill="hold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9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dur="indefinite" fill="hold">
                      <p:stCondLst>
                        <p:cond delay="indefinite"/>
                      </p:stCondLst>
                      <p:childTnLst>
                        <p:par>
                          <p:cTn id="17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 fill="hold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dur="indefinite" fill="hold">
                      <p:stCondLst>
                        <p:cond delay="indefinite"/>
                      </p:stCondLst>
                      <p:childTnLst>
                        <p:par>
                          <p:cTn id="17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dur="indefinite" fill="hold">
                      <p:stCondLst>
                        <p:cond delay="indefinite"/>
                      </p:stCondLst>
                      <p:childTnLst>
                        <p:par>
                          <p:cTn id="17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2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5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8" dur="500" fill="hold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dur="indefinite" fill="hold">
                      <p:stCondLst>
                        <p:cond delay="indefinite"/>
                      </p:stCondLst>
                      <p:childTnLst>
                        <p:par>
                          <p:cTn id="17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dur="indefinite" fill="hold">
                      <p:stCondLst>
                        <p:cond delay="indefinite"/>
                      </p:stCondLst>
                      <p:childTnLst>
                        <p:par>
                          <p:cTn id="17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8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dur="indefinite" fill="hold">
                      <p:stCondLst>
                        <p:cond delay="indefinite"/>
                      </p:stCondLst>
                      <p:childTnLst>
                        <p:par>
                          <p:cTn id="17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2" dur="500" fill="hold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5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8" dur="500" fill="hold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dur="indefinite" fill="hold">
                      <p:stCondLst>
                        <p:cond delay="indefinite"/>
                      </p:stCondLst>
                      <p:childTnLst>
                        <p:par>
                          <p:cTn id="17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1000" fill="hold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dur="indefinite" fill="hold">
                      <p:stCondLst>
                        <p:cond delay="indefinite"/>
                      </p:stCondLst>
                      <p:childTnLst>
                        <p:par>
                          <p:cTn id="17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8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dur="indefinite" fill="hold">
                      <p:stCondLst>
                        <p:cond delay="indefinite"/>
                      </p:stCondLst>
                      <p:childTnLst>
                        <p:par>
                          <p:cTn id="17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2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5" dur="500" fill="hold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8" dur="500" fill="hold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dur="indefinite" fill="hold">
                      <p:stCondLst>
                        <p:cond delay="indefinite"/>
                      </p:stCondLst>
                      <p:childTnLst>
                        <p:par>
                          <p:cTn id="18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 fill="hold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dur="indefinite" fill="hold">
                      <p:stCondLst>
                        <p:cond delay="indefinite"/>
                      </p:stCondLst>
                      <p:childTnLst>
                        <p:par>
                          <p:cTn id="18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0" dur="500" fill="hold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dur="indefinite" fill="hold">
                      <p:stCondLst>
                        <p:cond delay="indefinite"/>
                      </p:stCondLst>
                      <p:childTnLst>
                        <p:par>
                          <p:cTn id="18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720720" y="925560"/>
            <a:ext cx="381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1. в зданиях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2. на промышленных сооружения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3. на открытых площадках склад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4. на сгораемых массивах (лесных, степных, торфяных, хлебных полях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5. на транспорт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"/>
          <p:cNvSpPr/>
          <p:nvPr/>
        </p:nvSpPr>
        <p:spPr>
          <a:xfrm>
            <a:off x="714240" y="312840"/>
            <a:ext cx="7925040" cy="64908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ассификация пожаров по месту возникнов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"/>
          <p:cNvSpPr/>
          <p:nvPr/>
        </p:nvSpPr>
        <p:spPr>
          <a:xfrm>
            <a:off x="900000" y="3689280"/>
            <a:ext cx="7740720" cy="792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ассификация  пожаров по охвату 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штабам распростран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808520" y="1103400"/>
            <a:ext cx="2511360" cy="2404800"/>
            <a:chOff x="4808520" y="1103400"/>
            <a:chExt cx="2511360" cy="2404800"/>
          </a:xfrm>
        </p:grpSpPr>
        <p:pic>
          <p:nvPicPr>
            <p:cNvPr id="531" name="" descr=""/>
            <p:cNvPicPr/>
            <p:nvPr/>
          </p:nvPicPr>
          <p:blipFill>
            <a:blip r:embed="rId1"/>
            <a:stretch/>
          </p:blipFill>
          <p:spPr>
            <a:xfrm>
              <a:off x="4808520" y="1103400"/>
              <a:ext cx="2511360" cy="24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4808520" y="1103400"/>
              <a:ext cx="251136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60360" y="4629240"/>
            <a:ext cx="7128000" cy="1130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тдельные ( в здании или сооружени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Массовые ( совокупность отдельных пожаров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хватывающих более 90% зданий комплексной застройки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dur="indefinite" fill="hold">
                      <p:stCondLst>
                        <p:cond delay="indefinite"/>
                      </p:stCondLst>
                      <p:childTnLst>
                        <p:par>
                          <p:cTn id="18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2" dur="1000" fill="hold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dur="indefinite" fill="hold">
                      <p:stCondLst>
                        <p:cond delay="indefinite"/>
                      </p:stCondLst>
                      <p:childTnLst>
                        <p:par>
                          <p:cTn id="18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dur="indefinite" fill="hold">
                      <p:stCondLst>
                        <p:cond delay="indefinite"/>
                      </p:stCondLst>
                      <p:childTnLst>
                        <p:par>
                          <p:cTn id="18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6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dur="indefinite" fill="hold">
                      <p:stCondLst>
                        <p:cond delay="indefinite"/>
                      </p:stCondLst>
                      <p:childTnLst>
                        <p:par>
                          <p:cTn id="18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dur="indefinite" fill="hold">
                      <p:stCondLst>
                        <p:cond delay="indefinite"/>
                      </p:stCondLst>
                      <p:childTnLst>
                        <p:par>
                          <p:cTn id="18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dur="indefinite" fill="hold">
                      <p:stCondLst>
                        <p:cond delay="indefinite"/>
                      </p:stCondLst>
                      <p:childTnLst>
                        <p:par>
                          <p:cTn id="18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dur="indefinite" fill="hold">
                      <p:stCondLst>
                        <p:cond delay="indefinite"/>
                      </p:stCondLst>
                      <p:childTnLst>
                        <p:par>
                          <p:cTn id="18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dur="indefinite" fill="hold">
                      <p:stCondLst>
                        <p:cond delay="indefinite"/>
                      </p:stCondLst>
                      <p:childTnLst>
                        <p:par>
                          <p:cTn id="18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1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7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0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dur="indefinite" fill="hold">
                      <p:stCondLst>
                        <p:cond delay="indefinite"/>
                      </p:stCondLst>
                      <p:childTnLst>
                        <p:par>
                          <p:cTn id="18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468360" y="4724280"/>
            <a:ext cx="1468440" cy="1811520"/>
            <a:chOff x="468360" y="4724280"/>
            <a:chExt cx="1468440" cy="1811520"/>
          </a:xfrm>
        </p:grpSpPr>
        <p:pic>
          <p:nvPicPr>
            <p:cNvPr id="535" name="" descr=""/>
            <p:cNvPicPr/>
            <p:nvPr/>
          </p:nvPicPr>
          <p:blipFill>
            <a:blip r:embed="rId1"/>
            <a:stretch/>
          </p:blipFill>
          <p:spPr>
            <a:xfrm>
              <a:off x="468360" y="4724280"/>
              <a:ext cx="146844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468360" y="4724280"/>
              <a:ext cx="1468440" cy="18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1979640" y="4140360"/>
            <a:ext cx="7164360" cy="25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жаровзрывоопасными  являются промышленные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риятия и объекты,  использующие в производств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рывчатые и легковоспламеняющиеся вещества,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также железнодорожный, трубопроводный, морской,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чной и другой транспорт, используемый для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возки (перекачки ) пожаро- и взрывоопасных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ществ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"/>
          <p:cNvSpPr/>
          <p:nvPr/>
        </p:nvSpPr>
        <p:spPr>
          <a:xfrm>
            <a:off x="539640" y="0"/>
            <a:ext cx="8099640" cy="7905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тегории пожаровзрывоопасности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мышленных производств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90000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   Б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"/>
          <p:cNvSpPr/>
          <p:nvPr/>
        </p:nvSpPr>
        <p:spPr>
          <a:xfrm>
            <a:off x="658800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     Д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"/>
          <p:cNvSpPr/>
          <p:nvPr/>
        </p:nvSpPr>
        <p:spPr>
          <a:xfrm>
            <a:off x="370836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"/>
          <p:cNvSpPr/>
          <p:nvPr/>
        </p:nvSpPr>
        <p:spPr>
          <a:xfrm>
            <a:off x="3419640" y="2879640"/>
            <a:ext cx="1908000" cy="105912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жароопасные производственные процесс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"/>
          <p:cNvSpPr/>
          <p:nvPr/>
        </p:nvSpPr>
        <p:spPr>
          <a:xfrm>
            <a:off x="5940360" y="2700360"/>
            <a:ext cx="2879640" cy="123840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а с непожароопасными  технологическими   процесс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"/>
          <p:cNvSpPr/>
          <p:nvPr/>
        </p:nvSpPr>
        <p:spPr>
          <a:xfrm>
            <a:off x="755640" y="2852640"/>
            <a:ext cx="1871640" cy="105912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зрывоопасные производственные процесс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545" name=""/>
          <p:cNvCxnSpPr>
            <a:stCxn id="541" idx="2"/>
            <a:endCxn id="542" idx="0"/>
          </p:cNvCxnSpPr>
          <p:nvPr/>
        </p:nvCxnSpPr>
        <p:spPr>
          <a:xfrm flipH="1">
            <a:off x="4372920" y="2415960"/>
            <a:ext cx="135720" cy="4640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9" idx="2"/>
            <a:endCxn id="544" idx="0"/>
          </p:cNvCxnSpPr>
          <p:nvPr/>
        </p:nvCxnSpPr>
        <p:spPr>
          <a:xfrm flipH="1">
            <a:off x="1692000" y="2416320"/>
            <a:ext cx="8640" cy="4370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0" idx="2"/>
            <a:endCxn id="543" idx="0"/>
          </p:cNvCxnSpPr>
          <p:nvPr/>
        </p:nvCxnSpPr>
        <p:spPr>
          <a:xfrm flipH="1">
            <a:off x="7380000" y="2415960"/>
            <a:ext cx="8640" cy="28440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3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8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 fill="hold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3" dur="1000" fill="hold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 fill="hold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4" dur="500" fill="hold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7" dur="500" fill="hold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0" dur="500" fill="hold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2" dur="500" fill="hold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5" dur="500" fill="hold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8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4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 fill="hold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0" dur="500" fill="hold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 fill="hold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9280" y="179280"/>
            <a:ext cx="7058160" cy="1224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зрыв это освобождение большого количества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энергии в  ограниченном  объёме за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роткий промежуток времен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1979640" y="1619280"/>
            <a:ext cx="4500360" cy="145404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Виды взрывов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"/>
          <p:cNvSpPr/>
          <p:nvPr/>
        </p:nvSpPr>
        <p:spPr>
          <a:xfrm>
            <a:off x="179280" y="3600360"/>
            <a:ext cx="2519640" cy="5050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ем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"/>
          <p:cNvSpPr/>
          <p:nvPr/>
        </p:nvSpPr>
        <p:spPr>
          <a:xfrm>
            <a:off x="720720" y="4896000"/>
            <a:ext cx="2340000" cy="50472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зем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"/>
          <p:cNvSpPr/>
          <p:nvPr/>
        </p:nvSpPr>
        <p:spPr>
          <a:xfrm>
            <a:off x="2879640" y="5805360"/>
            <a:ext cx="2700360" cy="5050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47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душны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"/>
          <p:cNvSpPr/>
          <p:nvPr/>
        </p:nvSpPr>
        <p:spPr>
          <a:xfrm>
            <a:off x="6227640" y="4746600"/>
            <a:ext cx="2592360" cy="50472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водный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/>
          <p:nvPr/>
        </p:nvSpPr>
        <p:spPr>
          <a:xfrm>
            <a:off x="6696000" y="3240000"/>
            <a:ext cx="2303640" cy="50508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двод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00" name=""/>
          <p:cNvCxnSpPr>
            <a:stCxn id="394" idx="4"/>
            <a:endCxn id="397" idx="0"/>
          </p:cNvCxnSpPr>
          <p:nvPr/>
        </p:nvCxnSpPr>
        <p:spPr>
          <a:xfrm>
            <a:off x="4229280" y="3072960"/>
            <a:ext cx="2160" cy="27324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94" idx="4"/>
            <a:endCxn id="396" idx="0"/>
          </p:cNvCxnSpPr>
          <p:nvPr/>
        </p:nvCxnSpPr>
        <p:spPr>
          <a:xfrm flipH="1">
            <a:off x="1890360" y="3072960"/>
            <a:ext cx="2339280" cy="18234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4" idx="4"/>
            <a:endCxn id="398" idx="0"/>
          </p:cNvCxnSpPr>
          <p:nvPr/>
        </p:nvCxnSpPr>
        <p:spPr>
          <a:xfrm>
            <a:off x="4229280" y="3073320"/>
            <a:ext cx="3294720" cy="16740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4" idx="4"/>
            <a:endCxn id="399" idx="1"/>
          </p:cNvCxnSpPr>
          <p:nvPr/>
        </p:nvCxnSpPr>
        <p:spPr>
          <a:xfrm>
            <a:off x="4229280" y="3073320"/>
            <a:ext cx="2467440" cy="4197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4" idx="4"/>
            <a:endCxn id="395" idx="3"/>
          </p:cNvCxnSpPr>
          <p:nvPr/>
        </p:nvCxnSpPr>
        <p:spPr>
          <a:xfrm flipH="1">
            <a:off x="2698200" y="3072960"/>
            <a:ext cx="1531080" cy="78012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57200" y="179280"/>
            <a:ext cx="829152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Чаще всего пожары и взрывы происходят на предприятиях, использующих в своем производстве взрывчатые и легковоспламеняющиеся веществ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Виды аварий на пожаро- и взрывоопасных объектах: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в зданиях, на коммуникациях и технологическом оборудовании промышленных предприятий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на объектах добычи, переработки и хранения легковоспламеняющихся и взрывчатых веществ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, взрывы на транспорте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в шахтах, подземных и горных выработках, метрополитенах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в зданиях и сооружениях жилого, социально-бытового и культурного назначения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на объектах ,использующих в производстве аварийные химически опасные вещества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на радиационно опасных объектах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dur="indefinite" fill="hold">
                      <p:stCondLst>
                        <p:cond delay="indefinite"/>
                      </p:stCondLst>
                      <p:childTnLst>
                        <p:par>
                          <p:cTn id="19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dur="indefinite" fill="hold">
                      <p:stCondLst>
                        <p:cond delay="indefinite"/>
                      </p:stCondLst>
                      <p:childTnLst>
                        <p:par>
                          <p:cTn id="19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1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dur="indefinite" fill="hold">
                      <p:stCondLst>
                        <p:cond delay="indefinite"/>
                      </p:stCondLst>
                      <p:childTnLst>
                        <p:par>
                          <p:cTn id="20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dur="indefinite" fill="hold">
                      <p:stCondLst>
                        <p:cond delay="indefinite"/>
                      </p:stCondLst>
                      <p:childTnLst>
                        <p:par>
                          <p:cTn id="2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6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dur="indefinite" fill="hold">
                      <p:stCondLst>
                        <p:cond delay="indefinite"/>
                      </p:stCondLst>
                      <p:childTnLst>
                        <p:par>
                          <p:cTn id="20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dur="indefinite" fill="hold">
                      <p:stCondLst>
                        <p:cond delay="indefinite"/>
                      </p:stCondLst>
                      <p:childTnLst>
                        <p:par>
                          <p:cTn id="20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1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2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dur="indefinite" fill="hold">
                      <p:stCondLst>
                        <p:cond delay="indefinite"/>
                      </p:stCondLst>
                      <p:childTnLst>
                        <p:par>
                          <p:cTn id="20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0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dur="indefinite" fill="hold">
                      <p:stCondLst>
                        <p:cond delay="indefinite"/>
                      </p:stCondLst>
                      <p:childTnLst>
                        <p:par>
                          <p:cTn id="20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dur="indefinite" fill="hold">
                      <p:stCondLst>
                        <p:cond delay="indefinite"/>
                      </p:stCondLst>
                      <p:childTnLst>
                        <p:par>
                          <p:cTn id="20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2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2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2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2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dur="indefinite" fill="hold">
                      <p:stCondLst>
                        <p:cond delay="indefinite"/>
                      </p:stCondLst>
                      <p:childTnLst>
                        <p:par>
                          <p:cTn id="20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3" dur="2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4" dur="2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2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2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dur="indefinite" fill="hold">
                      <p:stCondLst>
                        <p:cond delay="indefinite"/>
                      </p:stCondLst>
                      <p:childTnLst>
                        <p:par>
                          <p:cTn id="20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17680" y="258840"/>
            <a:ext cx="8099280" cy="792000"/>
          </a:xfrm>
          <a:prstGeom prst="horizontalScroll">
            <a:avLst>
              <a:gd name="adj" fmla="val 125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ловия, способствующие распространению пожара.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158840"/>
            <a:ext cx="8991720" cy="5048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 Скопление значительного количества горючих веществ 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ов на производственных и складских площадях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 Наличие путей, создающих возможность распространения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мени и продуктов горения на смежные установки и помещ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Внезапное появление факторов, ускоряющих развитие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жар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 Запоздалое обнаружение пожара и сообщение о нём в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жарную часть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 Отсутствие или неисправность стационарных или первичных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ств пожаротуш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 Неправильные действия людей при тушении пожар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dur="indefinite" fill="hold">
                      <p:stCondLst>
                        <p:cond delay="indefinite"/>
                      </p:stCondLst>
                      <p:childTnLst>
                        <p:par>
                          <p:cTn id="20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dur="indefinite" fill="hold">
                      <p:stCondLst>
                        <p:cond delay="indefinite"/>
                      </p:stCondLst>
                      <p:childTnLst>
                        <p:par>
                          <p:cTn id="20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1200240" y="3959280"/>
            <a:ext cx="2400120" cy="1257120"/>
          </a:xfrm>
          <a:prstGeom prst="rightArrowCallout">
            <a:avLst>
              <a:gd name="adj1" fmla="val 21233"/>
              <a:gd name="adj2" fmla="val 25000"/>
              <a:gd name="adj3" fmla="val 47731"/>
              <a:gd name="adj4" fmla="val 6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жаров в зданиях и сооружениях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3494160" y="3843360"/>
            <a:ext cx="2449440" cy="571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строе повышение температур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"/>
          <p:cNvSpPr/>
          <p:nvPr/>
        </p:nvSpPr>
        <p:spPr>
          <a:xfrm>
            <a:off x="3490920" y="4859280"/>
            <a:ext cx="244944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пространение огня скрытыми  путям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"/>
          <p:cNvSpPr/>
          <p:nvPr/>
        </p:nvSpPr>
        <p:spPr>
          <a:xfrm>
            <a:off x="6421320" y="3929040"/>
            <a:ext cx="237492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льное задымление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"/>
          <p:cNvSpPr/>
          <p:nvPr/>
        </p:nvSpPr>
        <p:spPr>
          <a:xfrm>
            <a:off x="6480000" y="4859280"/>
            <a:ext cx="237672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еря конструкциями несущей способност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"/>
          <p:cNvSpPr/>
          <p:nvPr/>
        </p:nvSpPr>
        <p:spPr>
          <a:xfrm>
            <a:off x="179280" y="720720"/>
            <a:ext cx="2565360" cy="2160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орелся пролитый на пол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росин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6480000" y="847800"/>
            <a:ext cx="2683080" cy="20318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ёмно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пролитого керосина огонь распространилс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му помещен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"/>
          <p:cNvSpPr/>
          <p:nvPr/>
        </p:nvSpPr>
        <p:spPr>
          <a:xfrm>
            <a:off x="2951280" y="1982880"/>
            <a:ext cx="3168360" cy="1257120"/>
          </a:xfrm>
          <a:prstGeom prst="ellipse">
            <a:avLst/>
          </a:prstGeom>
          <a:gradFill rotWithShape="0">
            <a:gsLst>
              <a:gs pos="0">
                <a:srgbClr val="477618"/>
              </a:gs>
              <a:gs pos="100000">
                <a:srgbClr val="99ff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остранение пожа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"/>
          <p:cNvSpPr/>
          <p:nvPr/>
        </p:nvSpPr>
        <p:spPr>
          <a:xfrm>
            <a:off x="5470560" y="1674720"/>
            <a:ext cx="1368360" cy="48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"/>
          <p:cNvSpPr/>
          <p:nvPr/>
        </p:nvSpPr>
        <p:spPr>
          <a:xfrm rot="10800000">
            <a:off x="2411280" y="1680840"/>
            <a:ext cx="1368720" cy="485640"/>
          </a:xfrm>
          <a:custGeom>
            <a:avLst/>
            <a:gdLst>
              <a:gd name="textAreaLeft" fmla="*/ 213840 w 1368720"/>
              <a:gd name="textAreaRight" fmla="*/ 1197720 w 1368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1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9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0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2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3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8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9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4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5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0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5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6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 fill="hold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9" dur="500" fill="hold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7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4" dur="500" fill="hold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0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0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4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5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48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53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58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63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68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6253200" y="476280"/>
            <a:ext cx="2882880" cy="4106880"/>
            <a:chOff x="6253200" y="476280"/>
            <a:chExt cx="2882880" cy="4106880"/>
          </a:xfrm>
        </p:grpSpPr>
        <p:graphicFrame>
          <p:nvGraphicFramePr>
            <p:cNvPr id="563" name=""/>
            <p:cNvGraphicFramePr/>
            <p:nvPr/>
          </p:nvGraphicFramePr>
          <p:xfrm>
            <a:off x="6253200" y="476280"/>
            <a:ext cx="2882880" cy="410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53200" y="476280"/>
                      <a:ext cx="2882880" cy="41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5" name=""/>
            <p:cNvSpPr/>
            <p:nvPr/>
          </p:nvSpPr>
          <p:spPr>
            <a:xfrm>
              <a:off x="6253200" y="476280"/>
              <a:ext cx="2882880" cy="41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9528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 Black"/>
              </a:rPr>
              <a:t>Что делать при пожаре в здании: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" y="692280"/>
            <a:ext cx="677880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dur="indefinite" fill="hold">
                      <p:stCondLst>
                        <p:cond delay="indefinite"/>
                      </p:stCondLst>
                      <p:childTnLst>
                        <p:par>
                          <p:cTn id="2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6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7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dur="indefinite" fill="hold">
                      <p:stCondLst>
                        <p:cond delay="indefinite"/>
                      </p:stCondLst>
                      <p:childTnLst>
                        <p:par>
                          <p:cTn id="2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6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dur="indefinite" fill="hold">
                      <p:stCondLst>
                        <p:cond delay="indefinite"/>
                      </p:stCondLst>
                      <p:childTnLst>
                        <p:par>
                          <p:cTn id="2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3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dur="indefinite" fill="hold">
                      <p:stCondLst>
                        <p:cond delay="indefinite"/>
                      </p:stCondLst>
                      <p:childTnLst>
                        <p:par>
                          <p:cTn id="2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dur="indefinite" fill="hold">
                      <p:stCondLst>
                        <p:cond delay="indefinite"/>
                      </p:stCondLst>
                      <p:childTnLst>
                        <p:par>
                          <p:cTn id="2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7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dur="indefinite" fill="hold">
                      <p:stCondLst>
                        <p:cond delay="indefinite"/>
                      </p:stCondLst>
                      <p:childTnLst>
                        <p:par>
                          <p:cTn id="2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3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4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9" dur="2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2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2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2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5" dur="2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6" dur="2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2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2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1" dur="2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2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2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2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7" dur="2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8" dur="2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2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2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dur="indefinite" fill="hold">
                      <p:stCondLst>
                        <p:cond delay="indefinite"/>
                      </p:stCondLst>
                      <p:childTnLst>
                        <p:par>
                          <p:cTn id="2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8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dur="indefinite" fill="hold">
                      <p:stCondLst>
                        <p:cond delay="indefinite"/>
                      </p:stCondLst>
                      <p:childTnLst>
                        <p:par>
                          <p:cTn id="2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dur="indefinite" fill="hold">
                      <p:stCondLst>
                        <p:cond delay="indefinite"/>
                      </p:stCondLst>
                      <p:childTnLst>
                        <p:par>
                          <p:cTn id="2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dur="indefinite" fill="hold">
                      <p:stCondLst>
                        <p:cond delay="indefinite"/>
                      </p:stCondLst>
                      <p:childTnLst>
                        <p:par>
                          <p:cTn id="2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1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dur="indefinite" fill="hold">
                      <p:stCondLst>
                        <p:cond delay="indefinite"/>
                      </p:stCondLst>
                      <p:childTnLst>
                        <p:par>
                          <p:cTn id="2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7" dur="1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dur="indefinite" fill="hold">
                      <p:stCondLst>
                        <p:cond delay="indefinite"/>
                      </p:stCondLst>
                      <p:childTnLst>
                        <p:par>
                          <p:cTn id="2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3" dur="2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4" dur="2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2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2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9" dur="2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2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2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2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5" dur="2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2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2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1" dur="2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2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7" dur="2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8" dur="2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2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dur="indefinite" fill="hold">
                      <p:stCondLst>
                        <p:cond delay="indefinite"/>
                      </p:stCondLst>
                      <p:childTnLst>
                        <p:par>
                          <p:cTn id="2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6" dur="8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8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8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8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dur="indefinite" fill="hold">
                      <p:stCondLst>
                        <p:cond delay="indefinite"/>
                      </p:stCondLst>
                      <p:childTnLst>
                        <p:par>
                          <p:cTn id="2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6" dur="10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dur="indefinite" fill="hold">
                      <p:stCondLst>
                        <p:cond delay="indefinite"/>
                      </p:stCondLst>
                      <p:childTnLst>
                        <p:par>
                          <p:cTn id="2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3" dur="10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dur="indefinite" fill="hold">
                      <p:stCondLst>
                        <p:cond delay="indefinite"/>
                      </p:stCondLst>
                      <p:childTnLst>
                        <p:par>
                          <p:cTn id="2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0" dur="10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1" dur="10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dur="indefinite" fill="hold">
                      <p:stCondLst>
                        <p:cond delay="indefinite"/>
                      </p:stCondLst>
                      <p:childTnLst>
                        <p:par>
                          <p:cTn id="24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0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6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9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5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8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1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4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dur="indefinite" fill="hold">
                      <p:stCondLst>
                        <p:cond delay="indefinite"/>
                      </p:stCondLst>
                      <p:childTnLst>
                        <p:par>
                          <p:cTn id="2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1341360"/>
            <a:ext cx="3686040" cy="5249880"/>
            <a:chOff x="0" y="1341360"/>
            <a:chExt cx="3686040" cy="5249880"/>
          </a:xfrm>
        </p:grpSpPr>
        <p:graphicFrame>
          <p:nvGraphicFramePr>
            <p:cNvPr id="569" name=""/>
            <p:cNvGraphicFramePr/>
            <p:nvPr/>
          </p:nvGraphicFramePr>
          <p:xfrm>
            <a:off x="0" y="1341360"/>
            <a:ext cx="3686040" cy="524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341360"/>
                      <a:ext cx="3686040" cy="524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>
              <a:off x="0" y="1341360"/>
              <a:ext cx="3686040" cy="52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0" y="-209520"/>
            <a:ext cx="89996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2700360" y="741240"/>
            <a:ext cx="626580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25600" indent="-52560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99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e0021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99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479" dur="indefinite" restart="never" nodeType="tmRoot">
          <p:childTnLst>
            <p:seq>
              <p:cTn id="2480" dur="indefinite" nodeType="mainSeq">
                <p:childTnLst>
                  <p:par>
                    <p:cTn id="2481" dur="indefinite" fill="hold">
                      <p:stCondLst>
                        <p:cond delay="indefinite"/>
                      </p:stCondLst>
                      <p:childTnLst>
                        <p:par>
                          <p:cTn id="24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5" dur="8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6" dur="8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dur="indefinite" fill="hold">
                      <p:stCondLst>
                        <p:cond delay="indefinite"/>
                      </p:stCondLst>
                      <p:childTnLst>
                        <p:par>
                          <p:cTn id="2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dur="indefinite" fill="hold">
                      <p:stCondLst>
                        <p:cond delay="indefinite"/>
                      </p:stCondLst>
                      <p:childTnLst>
                        <p:par>
                          <p:cTn id="2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4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3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dur="indefinite" fill="hold">
                      <p:stCondLst>
                        <p:cond delay="indefinite"/>
                      </p:stCondLst>
                      <p:childTnLst>
                        <p:par>
                          <p:cTn id="2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4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8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dur="indefinite" fill="hold">
                      <p:stCondLst>
                        <p:cond delay="indefinite"/>
                      </p:stCondLst>
                      <p:childTnLst>
                        <p:par>
                          <p:cTn id="2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10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dur="indefinite" fill="hold">
                      <p:stCondLst>
                        <p:cond delay="indefinite"/>
                      </p:stCondLst>
                      <p:childTnLst>
                        <p:par>
                          <p:cTn id="25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0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6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2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dur="indefinite" fill="hold">
                      <p:stCondLst>
                        <p:cond delay="indefinite"/>
                      </p:stCondLst>
                      <p:childTnLst>
                        <p:par>
                          <p:cTn id="25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2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4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dur="indefinite" fill="hold">
                      <p:stCondLst>
                        <p:cond delay="indefinite"/>
                      </p:stCondLst>
                      <p:childTnLst>
                        <p:par>
                          <p:cTn id="26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dur="indefinite" fill="hold">
                      <p:stCondLst>
                        <p:cond delay="indefinite"/>
                      </p:stCondLst>
                      <p:childTnLst>
                        <p:par>
                          <p:cTn id="26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5800" y="301680"/>
            <a:ext cx="77724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то не следует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1079640"/>
            <a:ext cx="558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Тушить огонь до прибытия пожарны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Пытаться выйти через задымлённую лестниц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Пользоваться лифтом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Спускаться по водосточным трубам, простыням, верёвкам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Открывать окна и двери (это увеличит приток кислорода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Выпрыгивать из окон верхних этажей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Тушить водой электрические прибор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900000" y="2136600"/>
            <a:ext cx="2235240" cy="3596040"/>
            <a:chOff x="900000" y="2136600"/>
            <a:chExt cx="2235240" cy="3596040"/>
          </a:xfrm>
        </p:grpSpPr>
        <p:graphicFrame>
          <p:nvGraphicFramePr>
            <p:cNvPr id="577" name=""/>
            <p:cNvGraphicFramePr/>
            <p:nvPr/>
          </p:nvGraphicFramePr>
          <p:xfrm>
            <a:off x="900000" y="2136600"/>
            <a:ext cx="2235240" cy="359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0000" y="2136600"/>
                      <a:ext cx="2235240" cy="35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9" name=""/>
            <p:cNvSpPr/>
            <p:nvPr/>
          </p:nvSpPr>
          <p:spPr>
            <a:xfrm>
              <a:off x="900000" y="2136600"/>
              <a:ext cx="2235240" cy="35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wipe dir="u"/>
  </p:transition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dur="indefinite" fill="hold">
                      <p:stCondLst>
                        <p:cond delay="indefinite"/>
                      </p:stCondLst>
                      <p:childTnLst>
                        <p:par>
                          <p:cTn id="26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dur="indefinite" fill="hold">
                      <p:stCondLst>
                        <p:cond delay="indefinite"/>
                      </p:stCondLst>
                      <p:childTnLst>
                        <p:par>
                          <p:cTn id="2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7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8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dur="indefinite" fill="hold">
                      <p:stCondLst>
                        <p:cond delay="indefinite"/>
                      </p:stCondLst>
                      <p:childTnLst>
                        <p:par>
                          <p:cTn id="2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dur="indefinite" fill="hold">
                      <p:stCondLst>
                        <p:cond delay="indefinite"/>
                      </p:stCondLst>
                      <p:childTnLst>
                        <p:par>
                          <p:cTn id="26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8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8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8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8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dur="indefinite" fill="hold">
                      <p:stCondLst>
                        <p:cond delay="indefinite"/>
                      </p:stCondLst>
                      <p:childTnLst>
                        <p:par>
                          <p:cTn id="2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dur="indefinite" fill="hold">
                      <p:stCondLst>
                        <p:cond delay="indefinite"/>
                      </p:stCondLst>
                      <p:childTnLst>
                        <p:par>
                          <p:cTn id="26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9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0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dur="indefinite" fill="hold">
                      <p:stCondLst>
                        <p:cond delay="indefinite"/>
                      </p:stCondLst>
                      <p:childTnLst>
                        <p:par>
                          <p:cTn id="2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8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dur="indefinite" fill="hold">
                      <p:stCondLst>
                        <p:cond delay="indefinite"/>
                      </p:stCondLst>
                      <p:childTnLst>
                        <p:par>
                          <p:cTn id="2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5" dur="8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6" dur="8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8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8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dur="indefinite" fill="hold">
                      <p:stCondLst>
                        <p:cond delay="indefinite"/>
                      </p:stCondLst>
                      <p:childTnLst>
                        <p:par>
                          <p:cTn id="2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4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dur="indefinite" fill="hold">
                      <p:stCondLst>
                        <p:cond delay="indefinite"/>
                      </p:stCondLst>
                      <p:childTnLst>
                        <p:par>
                          <p:cTn id="26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dur="indefinite" fill="hold">
                      <p:stCondLst>
                        <p:cond delay="indefinite"/>
                      </p:stCondLst>
                      <p:childTnLst>
                        <p:par>
                          <p:cTn id="26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dur="indefinite" fill="hold">
                      <p:stCondLst>
                        <p:cond delay="indefinite"/>
                      </p:stCondLst>
                      <p:childTnLst>
                        <p:par>
                          <p:cTn id="27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dur="indefinite" fill="hold">
                      <p:stCondLst>
                        <p:cond delay="indefinite"/>
                      </p:stCondLst>
                      <p:childTnLst>
                        <p:par>
                          <p:cTn id="27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6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dur="indefinite" fill="hold">
                      <p:stCondLst>
                        <p:cond delay="indefinite"/>
                      </p:stCondLst>
                      <p:childTnLst>
                        <p:par>
                          <p:cTn id="27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3" dur="8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4" dur="8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8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dur="indefinite" fill="hold">
                      <p:stCondLst>
                        <p:cond delay="indefinite"/>
                      </p:stCondLst>
                      <p:childTnLst>
                        <p:par>
                          <p:cTn id="27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2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dur="indefinite" fill="hold">
                      <p:stCondLst>
                        <p:cond delay="indefinite"/>
                      </p:stCondLst>
                      <p:childTnLst>
                        <p:par>
                          <p:cTn id="27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2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5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8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1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4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7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dur="indefinite" fill="hold">
                      <p:stCondLst>
                        <p:cond delay="indefinite"/>
                      </p:stCondLst>
                      <p:childTnLst>
                        <p:par>
                          <p:cTn id="27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685800" y="301680"/>
            <a:ext cx="3138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Что делать, есл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"/>
          <p:cNvSpPr/>
          <p:nvPr/>
        </p:nvSpPr>
        <p:spPr>
          <a:xfrm>
            <a:off x="468360" y="907920"/>
            <a:ext cx="757080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1. На человеке загорелась одежд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валите его на земл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тушите на пострадавшем одежду (накинув плотную ткань, залив его водой, забросав снегом, землё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кажите неотложную медицинскую помощ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Вызовите скорую медицинскую помощ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 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2. Горит телевиз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ключите телевизор от электропита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продолжении горения телевизора, накройте его плотной ткань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усилении горения покиньте помещение, плотно закрыв двери и ок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Вызовите пожарную охран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dur="indefinite" fill="hold">
                      <p:stCondLst>
                        <p:cond delay="indefinite"/>
                      </p:stCondLst>
                      <p:childTnLst>
                        <p:par>
                          <p:cTn id="27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1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dur="indefinite" fill="hold">
                      <p:stCondLst>
                        <p:cond delay="indefinite"/>
                      </p:stCondLst>
                      <p:childTnLst>
                        <p:par>
                          <p:cTn id="27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9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dur="indefinite" fill="hold">
                      <p:stCondLst>
                        <p:cond delay="indefinite"/>
                      </p:stCondLst>
                      <p:childTnLst>
                        <p:par>
                          <p:cTn id="27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7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dur="indefinite" fill="hold">
                      <p:stCondLst>
                        <p:cond delay="indefinite"/>
                      </p:stCondLst>
                      <p:childTnLst>
                        <p:par>
                          <p:cTn id="27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5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dur="indefinite" fill="hold">
                      <p:stCondLst>
                        <p:cond delay="indefinite"/>
                      </p:stCondLst>
                      <p:childTnLst>
                        <p:par>
                          <p:cTn id="27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3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9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dur="indefinite" fill="hold">
                      <p:stCondLst>
                        <p:cond delay="indefinite"/>
                      </p:stCondLst>
                      <p:childTnLst>
                        <p:par>
                          <p:cTn id="28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3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8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8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4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7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0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6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dur="indefinite" fill="hold">
                      <p:stCondLst>
                        <p:cond delay="indefinite"/>
                      </p:stCondLst>
                      <p:childTnLst>
                        <p:par>
                          <p:cTn id="28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5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dur="indefinite" fill="hold">
                      <p:stCondLst>
                        <p:cond delay="indefinite"/>
                      </p:stCondLst>
                      <p:childTnLst>
                        <p:par>
                          <p:cTn id="28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dur="indefinite" fill="hold">
                      <p:stCondLst>
                        <p:cond delay="indefinite"/>
                      </p:stCondLst>
                      <p:childTnLst>
                        <p:par>
                          <p:cTn id="28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1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dur="indefinite" fill="hold">
                      <p:stCondLst>
                        <p:cond delay="indefinite"/>
                      </p:stCondLst>
                      <p:childTnLst>
                        <p:par>
                          <p:cTn id="28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9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dur="indefinite" fill="hold">
                      <p:stCondLst>
                        <p:cond delay="indefinite"/>
                      </p:stCondLst>
                      <p:childTnLst>
                        <p:par>
                          <p:cTn id="28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7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8" dur="indefinite" fill="hold">
                      <p:stCondLst>
                        <p:cond delay="indefinite"/>
                      </p:stCondLst>
                      <p:childTnLst>
                        <p:par>
                          <p:cTn id="28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dur="indefinite" fill="hold">
                      <p:stCondLst>
                        <p:cond delay="indefinite"/>
                      </p:stCondLst>
                      <p:childTnLst>
                        <p:par>
                          <p:cTn id="28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6253200" y="476280"/>
            <a:ext cx="2882880" cy="4106880"/>
            <a:chOff x="6253200" y="476280"/>
            <a:chExt cx="2882880" cy="4106880"/>
          </a:xfrm>
        </p:grpSpPr>
        <p:graphicFrame>
          <p:nvGraphicFramePr>
            <p:cNvPr id="583" name=""/>
            <p:cNvGraphicFramePr/>
            <p:nvPr/>
          </p:nvGraphicFramePr>
          <p:xfrm>
            <a:off x="6253200" y="476280"/>
            <a:ext cx="2882880" cy="410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53200" y="476280"/>
                      <a:ext cx="2882880" cy="41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5" name=""/>
            <p:cNvSpPr/>
            <p:nvPr/>
          </p:nvSpPr>
          <p:spPr>
            <a:xfrm>
              <a:off x="6253200" y="476280"/>
              <a:ext cx="2882880" cy="41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9528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Что делать при пожаре в здании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"/>
          <p:cNvSpPr/>
          <p:nvPr/>
        </p:nvSpPr>
        <p:spPr>
          <a:xfrm>
            <a:off x="457200" y="692280"/>
            <a:ext cx="677880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896" dur="indefinite" restart="never" nodeType="tmRoot">
          <p:childTnLst>
            <p:seq>
              <p:cTn id="2897" dur="indefinite" nodeType="mainSeq">
                <p:childTnLst>
                  <p:par>
                    <p:cTn id="2898" dur="indefinite" fill="hold">
                      <p:stCondLst>
                        <p:cond delay="indefinite"/>
                      </p:stCondLst>
                      <p:childTnLst>
                        <p:par>
                          <p:cTn id="28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2" dur="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3" dur="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dur="indefinite" fill="hold">
                      <p:stCondLst>
                        <p:cond delay="indefinite"/>
                      </p:stCondLst>
                      <p:childTnLst>
                        <p:par>
                          <p:cTn id="29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2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3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dur="indefinite" fill="hold">
                      <p:stCondLst>
                        <p:cond delay="indefinite"/>
                      </p:stCondLst>
                      <p:childTnLst>
                        <p:par>
                          <p:cTn id="29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9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0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dur="indefinite" fill="hold">
                      <p:stCondLst>
                        <p:cond delay="indefinite"/>
                      </p:stCondLst>
                      <p:childTnLst>
                        <p:par>
                          <p:cTn id="29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6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7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9" dur="indefinite" fill="hold">
                      <p:stCondLst>
                        <p:cond delay="indefinite"/>
                      </p:stCondLst>
                      <p:childTnLst>
                        <p:par>
                          <p:cTn id="29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3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dur="indefinite" fill="hold">
                      <p:stCondLst>
                        <p:cond delay="indefinite"/>
                      </p:stCondLst>
                      <p:childTnLst>
                        <p:par>
                          <p:cTn id="29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9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0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5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6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7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8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1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2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7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8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9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3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4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5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dur="indefinite" fill="hold">
                      <p:stCondLst>
                        <p:cond delay="indefinite"/>
                      </p:stCondLst>
                      <p:childTnLst>
                        <p:par>
                          <p:cTn id="29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2" dur="8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3" dur="8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8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8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dur="indefinite" fill="hold">
                      <p:stCondLst>
                        <p:cond delay="indefinite"/>
                      </p:stCondLst>
                      <p:childTnLst>
                        <p:par>
                          <p:cTn id="29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2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3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dur="indefinite" fill="hold">
                      <p:stCondLst>
                        <p:cond delay="indefinite"/>
                      </p:stCondLst>
                      <p:childTnLst>
                        <p:par>
                          <p:cTn id="29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0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dur="indefinite" fill="hold">
                      <p:stCondLst>
                        <p:cond delay="indefinite"/>
                      </p:stCondLst>
                      <p:childTnLst>
                        <p:par>
                          <p:cTn id="29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7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dur="indefinite" fill="hold">
                      <p:stCondLst>
                        <p:cond delay="indefinite"/>
                      </p:stCondLst>
                      <p:childTnLst>
                        <p:par>
                          <p:cTn id="30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4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dur="indefinite" fill="hold">
                      <p:stCondLst>
                        <p:cond delay="indefinite"/>
                      </p:stCondLst>
                      <p:childTnLst>
                        <p:par>
                          <p:cTn id="30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9" dur="2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0" dur="2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2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2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5" dur="2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6" dur="2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2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2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1" dur="2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2" dur="2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2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4" dur="2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7" dur="2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8" dur="2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2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2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3" dur="2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4" dur="2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5" dur="2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2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dur="indefinite" fill="hold">
                      <p:stCondLst>
                        <p:cond delay="indefinite"/>
                      </p:stCondLst>
                      <p:childTnLst>
                        <p:par>
                          <p:cTn id="30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2" dur="8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3" dur="8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8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8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dur="indefinite" fill="hold">
                      <p:stCondLst>
                        <p:cond delay="indefinite"/>
                      </p:stCondLst>
                      <p:childTnLst>
                        <p:par>
                          <p:cTn id="30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2" dur="1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1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dur="indefinite" fill="hold">
                      <p:stCondLst>
                        <p:cond delay="indefinite"/>
                      </p:stCondLst>
                      <p:childTnLst>
                        <p:par>
                          <p:cTn id="30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9" dur="1000" fill="hold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dur="indefinite" fill="hold">
                      <p:stCondLst>
                        <p:cond delay="indefinite"/>
                      </p:stCondLst>
                      <p:childTnLst>
                        <p:par>
                          <p:cTn id="30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6" dur="1000" fill="hold"/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7" dur="1000" fill="hold"/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8" dur="1000" fill="hold"/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dur="indefinite" fill="hold">
                      <p:stCondLst>
                        <p:cond delay="indefinite"/>
                      </p:stCondLst>
                      <p:childTnLst>
                        <p:par>
                          <p:cTn id="30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6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9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2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5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8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1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4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7" dur="5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0" dur="5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dur="indefinite" fill="hold">
                      <p:stCondLst>
                        <p:cond delay="indefinite"/>
                      </p:stCondLst>
                      <p:childTnLst>
                        <p:par>
                          <p:cTn id="3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5" dur="indefinite" fill="hold">
                      <p:stCondLst>
                        <p:cond delay="indefinite"/>
                      </p:stCondLst>
                      <p:childTnLst>
                        <p:par>
                          <p:cTn id="3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9" dur="indefinite" fill="hold">
                      <p:stCondLst>
                        <p:cond delay="indefinite"/>
                      </p:stCondLst>
                      <p:childTnLst>
                        <p:par>
                          <p:cTn id="3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0" y="1341360"/>
            <a:ext cx="3686040" cy="5249880"/>
            <a:chOff x="0" y="1341360"/>
            <a:chExt cx="3686040" cy="5249880"/>
          </a:xfrm>
        </p:grpSpPr>
        <p:graphicFrame>
          <p:nvGraphicFramePr>
            <p:cNvPr id="589" name=""/>
            <p:cNvGraphicFramePr/>
            <p:nvPr/>
          </p:nvGraphicFramePr>
          <p:xfrm>
            <a:off x="0" y="1341360"/>
            <a:ext cx="3686040" cy="524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341360"/>
                      <a:ext cx="3686040" cy="524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1" name=""/>
            <p:cNvSpPr/>
            <p:nvPr/>
          </p:nvSpPr>
          <p:spPr>
            <a:xfrm>
              <a:off x="0" y="1341360"/>
              <a:ext cx="3686040" cy="52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0"/>
            <a:ext cx="61563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"/>
          <p:cNvSpPr/>
          <p:nvPr/>
        </p:nvSpPr>
        <p:spPr>
          <a:xfrm>
            <a:off x="2627280" y="476280"/>
            <a:ext cx="626580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25600" indent="-52560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99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99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3113" dur="indefinite" restart="never" nodeType="tmRoot">
          <p:childTnLst>
            <p:seq>
              <p:cTn id="3114" dur="indefinite" nodeType="mainSeq">
                <p:childTnLst>
                  <p:par>
                    <p:cTn id="31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9" dur="8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0" dur="8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8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8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9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0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9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5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1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7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4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8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9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2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3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6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8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4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5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1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3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4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9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0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3" dur="5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6" dur="5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8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0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6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2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8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68360" y="620640"/>
            <a:ext cx="8362800" cy="61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Основными причинами взрывов являются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1. На взрывоопасных предприятиях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разрушения и повреждения производственных емкостей и емкостей, работающих под давление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оведение НИОКР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разрушение  и повреждение аппаратуры и трубопроводов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я технологической дисциплины (превышение температуры и давления, недосмотр и халатность персонала)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сутствие постоянного контроля за исправностью производственного оборудования и аппаратуры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сутствие планово-предупредительных работ по ремонту и обслуживанию оборудования, приборов контрол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d320"/>
                </a:solidFill>
                <a:latin typeface="Arial Black"/>
              </a:rPr>
              <a:t>Особую опасность представляют предприятия химической, нефтеперерабатывающей  промышленности, атомной энергетик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10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324000" y="1268280"/>
            <a:ext cx="3078000" cy="4384800"/>
            <a:chOff x="324000" y="1268280"/>
            <a:chExt cx="3078000" cy="438480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324000" y="1268280"/>
              <a:ext cx="3078000" cy="43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24000" y="1268280"/>
              <a:ext cx="3078000" cy="43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348000" y="1197000"/>
            <a:ext cx="53276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Основными причинами взрывов являютс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В жилых домах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опасное поведение самих граждан, особенно детей и подростков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наиболее часто взрывается бытовой газ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имеют место взрывы  взрывчатых веществ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террористические акт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0" name=""/>
          <p:cNvCxnSpPr>
            <a:stCxn id="411" idx="2"/>
            <a:endCxn id="412" idx="0"/>
          </p:cNvCxnSpPr>
          <p:nvPr/>
        </p:nvCxnSpPr>
        <p:spPr>
          <a:xfrm>
            <a:off x="5327280" y="4654440"/>
            <a:ext cx="469080" cy="12232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1" idx="2"/>
            <a:endCxn id="414" idx="0"/>
          </p:cNvCxnSpPr>
          <p:nvPr/>
        </p:nvCxnSpPr>
        <p:spPr>
          <a:xfrm>
            <a:off x="5327640" y="4654440"/>
            <a:ext cx="2486880" cy="12232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411" idx="2"/>
            <a:endCxn id="416" idx="1"/>
          </p:cNvCxnSpPr>
          <p:nvPr/>
        </p:nvCxnSpPr>
        <p:spPr>
          <a:xfrm>
            <a:off x="5327280" y="4654080"/>
            <a:ext cx="1405440" cy="756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4103640" y="2519280"/>
            <a:ext cx="3816360" cy="1297080"/>
          </a:xfrm>
          <a:custGeom>
            <a:avLst/>
            <a:gdLst>
              <a:gd name="textAreaLeft" fmla="*/ 871200 w 3816360"/>
              <a:gd name="textAreaRight" fmla="*/ 2945160 w 3816360"/>
              <a:gd name="textAreaTop" fmla="*/ 295920 h 1297080"/>
              <a:gd name="textAreaBottom" fmla="*/ 10011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1847"/>
              </a:gs>
              <a:gs pos="50000">
                <a:srgbClr val="ff3399"/>
              </a:gs>
              <a:gs pos="100000">
                <a:srgbClr val="761847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ражающие фактор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зры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"/>
          <p:cNvSpPr/>
          <p:nvPr/>
        </p:nvSpPr>
        <p:spPr>
          <a:xfrm>
            <a:off x="360360" y="360360"/>
            <a:ext cx="7415280" cy="2111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рыв приводит к образованию сильно нагрето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за (плазмы) с очень высоким давлением, которы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расширении оказывает сильное механическо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ействие (давление, разрушение) 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ужающие тел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"/>
          <p:cNvSpPr/>
          <p:nvPr/>
        </p:nvSpPr>
        <p:spPr>
          <a:xfrm>
            <a:off x="900000" y="4076640"/>
            <a:ext cx="2232000" cy="5047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477618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"/>
          <p:cNvSpPr/>
          <p:nvPr/>
        </p:nvSpPr>
        <p:spPr>
          <a:xfrm>
            <a:off x="4211640" y="4149720"/>
            <a:ext cx="2232000" cy="50472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ич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"/>
          <p:cNvSpPr/>
          <p:nvPr/>
        </p:nvSpPr>
        <p:spPr>
          <a:xfrm>
            <a:off x="2124000" y="5229360"/>
            <a:ext cx="1656000" cy="936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здушная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дарна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5229360"/>
            <a:ext cx="1657080" cy="863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колочны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л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"/>
          <p:cNvSpPr/>
          <p:nvPr/>
        </p:nvSpPr>
        <p:spPr>
          <a:xfrm>
            <a:off x="4211640" y="5157720"/>
            <a:ext cx="2233440" cy="576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ушение зда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оруже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6732720" y="5121360"/>
            <a:ext cx="2017440" cy="576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раж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стност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6732720" y="4365720"/>
            <a:ext cx="2017440" cy="576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ёкла, облом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да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4859280" y="5877000"/>
            <a:ext cx="1873440" cy="576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ары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6877080" y="5877000"/>
            <a:ext cx="1873080" cy="576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пл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24" name=""/>
          <p:cNvCxnSpPr>
            <a:stCxn id="419" idx="2"/>
            <a:endCxn id="420" idx="0"/>
          </p:cNvCxnSpPr>
          <p:nvPr/>
        </p:nvCxnSpPr>
        <p:spPr>
          <a:xfrm>
            <a:off x="2016000" y="4581360"/>
            <a:ext cx="937440" cy="648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stCxn id="419" idx="2"/>
            <a:endCxn id="421" idx="0"/>
          </p:cNvCxnSpPr>
          <p:nvPr/>
        </p:nvCxnSpPr>
        <p:spPr>
          <a:xfrm flipH="1">
            <a:off x="1078920" y="4581360"/>
            <a:ext cx="937080" cy="648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1" idx="2"/>
            <a:endCxn id="422" idx="0"/>
          </p:cNvCxnSpPr>
          <p:nvPr/>
        </p:nvCxnSpPr>
        <p:spPr>
          <a:xfrm>
            <a:off x="5327640" y="4654440"/>
            <a:ext cx="2160" cy="50400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11" idx="3"/>
            <a:endCxn id="423" idx="1"/>
          </p:cNvCxnSpPr>
          <p:nvPr/>
        </p:nvCxnSpPr>
        <p:spPr>
          <a:xfrm>
            <a:off x="6443280" y="4401720"/>
            <a:ext cx="289440" cy="2530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7" idx="0"/>
            <a:endCxn id="419" idx="0"/>
          </p:cNvCxnSpPr>
          <p:nvPr/>
        </p:nvCxnSpPr>
        <p:spPr>
          <a:xfrm flipH="1">
            <a:off x="2015640" y="2519280"/>
            <a:ext cx="2090160" cy="155808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17" idx="1"/>
            <a:endCxn id="411" idx="0"/>
          </p:cNvCxnSpPr>
          <p:nvPr/>
        </p:nvCxnSpPr>
        <p:spPr>
          <a:xfrm>
            <a:off x="4105080" y="2518920"/>
            <a:ext cx="1224360" cy="163116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 fill="hold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7" dur="5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dur="indefinite" fill="hold">
                      <p:stCondLst>
                        <p:cond delay="indefinite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fill="hold">
                      <p:stCondLst>
                        <p:cond delay="indefinite"/>
                      </p:stCondLst>
                      <p:childTnLst>
                        <p:par>
                          <p:cTn id="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 fill="hold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 fill="hold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 fill="hold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6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 fill="hold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 fill="hold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dur="indefinite" fill="hold">
                      <p:stCondLst>
                        <p:cond delay="indefinite"/>
                      </p:stCondLst>
                      <p:childTnLst>
                        <p:par>
                          <p:cTn id="4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9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fill="hold">
                      <p:stCondLst>
                        <p:cond delay="indefinite"/>
                      </p:stCondLst>
                      <p:childTnLst>
                        <p:par>
                          <p:cTn id="4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dur="indefinite" fill="hold">
                      <p:stCondLst>
                        <p:cond delay="indefinite"/>
                      </p:stCondLst>
                      <p:childTnLst>
                        <p:par>
                          <p:cTn id="4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5" dur="500" fill="hold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fill="hold">
                      <p:stCondLst>
                        <p:cond delay="indefinite"/>
                      </p:stCondLst>
                      <p:childTnLst>
                        <p:par>
                          <p:cTn id="4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dur="indefinite" fill="hold">
                      <p:stCondLst>
                        <p:cond delay="indefinite"/>
                      </p:stCondLst>
                      <p:childTnLst>
                        <p:par>
                          <p:cTn id="4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 fill="hold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dur="indefinite" fill="hold">
                      <p:stCondLst>
                        <p:cond delay="indefinite"/>
                      </p:stCondLst>
                      <p:childTnLst>
                        <p:par>
                          <p:cTn id="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4" dur="5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dur="indefinite" fill="hold">
                      <p:stCondLst>
                        <p:cond delay="indefinite"/>
                      </p:stCondLst>
                      <p:childTnLst>
                        <p:par>
                          <p:cTn id="5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 fill="hold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dur="indefinite" fill="hold">
                      <p:stCondLst>
                        <p:cond delay="indefinite"/>
                      </p:stCondLst>
                      <p:childTnLst>
                        <p:par>
                          <p:cTn id="5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 fill="hold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dur="indefinite" fill="hold">
                      <p:stCondLst>
                        <p:cond delay="indefinite"/>
                      </p:stCondLst>
                      <p:childTnLst>
                        <p:par>
                          <p:cTn id="5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dur="indefinite" fill="hold">
                      <p:stCondLst>
                        <p:cond delay="indefinite"/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7" dur="500" fill="hold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dur="indefinite" fill="hold">
                      <p:stCondLst>
                        <p:cond delay="indefinite"/>
                      </p:stCondLst>
                      <p:childTnLst>
                        <p:par>
                          <p:cTn id="5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700360" y="907920"/>
            <a:ext cx="338436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взры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567360" y="224028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1847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ческог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вращ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2548080" y="2275920"/>
            <a:ext cx="1368360" cy="1800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1847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зообраз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укт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4744080" y="231156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1847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ь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уков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ффек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6760080" y="231156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1847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щно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обяще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действ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35" name=""/>
          <p:cNvCxnSpPr>
            <a:stCxn id="430" idx="0"/>
            <a:endCxn id="431" idx="3"/>
          </p:cNvCxnSpPr>
          <p:nvPr/>
        </p:nvCxnSpPr>
        <p:spPr>
          <a:xfrm flipH="1">
            <a:off x="1253880" y="907560"/>
            <a:ext cx="4831200" cy="15138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0" idx="1"/>
            <a:endCxn id="434" idx="3"/>
          </p:cNvCxnSpPr>
          <p:nvPr/>
        </p:nvCxnSpPr>
        <p:spPr>
          <a:xfrm>
            <a:off x="6084720" y="907560"/>
            <a:ext cx="1362960" cy="1585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30" idx="2"/>
            <a:endCxn id="432" idx="3"/>
          </p:cNvCxnSpPr>
          <p:nvPr/>
        </p:nvCxnSpPr>
        <p:spPr>
          <a:xfrm flipH="1">
            <a:off x="3233520" y="907560"/>
            <a:ext cx="2851200" cy="1585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0" idx="3"/>
            <a:endCxn id="433" idx="3"/>
          </p:cNvCxnSpPr>
          <p:nvPr/>
        </p:nvCxnSpPr>
        <p:spPr>
          <a:xfrm flipH="1">
            <a:off x="5430600" y="907560"/>
            <a:ext cx="654480" cy="1585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324000" y="4149720"/>
            <a:ext cx="8351640" cy="609480"/>
          </a:xfrm>
          <a:custGeom>
            <a:avLst/>
            <a:gdLst>
              <a:gd name="textAreaLeft" fmla="*/ 2088000 w 8351640"/>
              <a:gd name="textAreaRight" fmla="*/ 6264000 w 8351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472f00"/>
              </a:gs>
              <a:gs pos="50000">
                <a:srgbClr val="996600"/>
              </a:gs>
              <a:gs pos="100000">
                <a:srgbClr val="472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знаки установки взрывного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"/>
          <p:cNvSpPr/>
          <p:nvPr/>
        </p:nvSpPr>
        <p:spPr>
          <a:xfrm>
            <a:off x="647640" y="493092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Торчащие над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землёй «усики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356400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угорки на грунт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"/>
          <p:cNvSpPr/>
          <p:nvPr/>
        </p:nvSpPr>
        <p:spPr>
          <a:xfrm>
            <a:off x="644364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рушение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дернового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ло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"/>
          <p:cNvSpPr/>
          <p:nvPr/>
        </p:nvSpPr>
        <p:spPr>
          <a:xfrm>
            <a:off x="3564000" y="4941720"/>
            <a:ext cx="194472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статки проволоки,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золенты и т.п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501336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тянутые шнур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провода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"/>
          <p:cNvSpPr/>
          <p:nvPr/>
        </p:nvSpPr>
        <p:spPr>
          <a:xfrm>
            <a:off x="360360" y="5002200"/>
            <a:ext cx="234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есхозные сумки,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акеты и др. вещ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dur="indefinite" fill="hold">
                      <p:stCondLst>
                        <p:cond delay="indefinite"/>
                      </p:stCondLst>
                      <p:childTnLst>
                        <p:par>
                          <p:cTn id="5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dur="indefinite" fill="hold">
                      <p:stCondLst>
                        <p:cond delay="indefinite"/>
                      </p:stCondLst>
                      <p:childTnLst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 fill="hold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dur="indefinite" fill="hold">
                      <p:stCondLst>
                        <p:cond delay="indefinite"/>
                      </p:stCondLst>
                      <p:childTnLst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dur="indefinite" fill="hold">
                      <p:stCondLst>
                        <p:cond delay="indefinite"/>
                      </p:stCondLst>
                      <p:childTnLst>
                        <p:par>
                          <p:cTn id="5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" dur="500" fill="hold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dur="indefinite" fill="hold">
                      <p:stCondLst>
                        <p:cond delay="indefinite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dur="indefinite" fill="hold">
                      <p:stCondLst>
                        <p:cond delay="indefinite"/>
                      </p:stCondLst>
                      <p:childTnLst>
                        <p:par>
                          <p:cTn id="5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dur="indefinite" fill="hold">
                      <p:stCondLst>
                        <p:cond delay="indefinite"/>
                      </p:stCondLst>
                      <p:childTnLst>
                        <p:par>
                          <p:cTn id="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dur="indefinite" fill="hold">
                      <p:stCondLst>
                        <p:cond delay="indefinite"/>
                      </p:stCondLst>
                      <p:childTnLst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dur="indefinite" fill="hold">
                      <p:stCondLst>
                        <p:cond delay="indefinite"/>
                      </p:stCondLst>
                      <p:childTnLst>
                        <p:par>
                          <p:cTn id="5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dur="indefinite" fill="hold">
                      <p:stCondLst>
                        <p:cond delay="indefinite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 fill="hold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dur="indefinite" fill="hold">
                      <p:stCondLst>
                        <p:cond delay="indefinite"/>
                      </p:stCondLst>
                      <p:childTnLst>
                        <p:par>
                          <p:cTn id="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dur="indefinite" fill="hold">
                      <p:stCondLst>
                        <p:cond delay="indefinite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" dur="500" fill="hold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dur="indefinite" fill="hold">
                      <p:stCondLst>
                        <p:cond delay="indefinite"/>
                      </p:stCondLst>
                      <p:childTnLst>
                        <p:par>
                          <p:cTn id="5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dur="indefinite" fill="hold">
                      <p:stCondLst>
                        <p:cond delay="indefinite"/>
                      </p:stCondLst>
                      <p:childTnLst>
                        <p:par>
                          <p:cTn id="6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dur="indefinite" fill="hold">
                      <p:stCondLst>
                        <p:cond delay="indefinite"/>
                      </p:stCondLst>
                      <p:childTnLst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dur="indefinite" fill="hold">
                      <p:stCondLst>
                        <p:cond delay="indefinite"/>
                      </p:stCondLst>
                      <p:childTnLst>
                        <p:par>
                          <p:cTn id="6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" dur="5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dur="indefinite" fill="hold">
                      <p:stCondLst>
                        <p:cond delay="indefinite"/>
                      </p:stCondLst>
                      <p:childTnLst>
                        <p:par>
                          <p:cTn id="6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dur="indefinite" fill="hold">
                      <p:stCondLst>
                        <p:cond delay="indefinite"/>
                      </p:stCondLst>
                      <p:childTnLst>
                        <p:par>
                          <p:cTn id="6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dur="indefinite" fill="hold">
                      <p:stCondLst>
                        <p:cond delay="indefinite"/>
                      </p:stCondLst>
                      <p:childTnLst>
                        <p:par>
                          <p:cTn id="6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dur="indefinite" fill="hold">
                      <p:stCondLst>
                        <p:cond delay="indefinite"/>
                      </p:stCondLst>
                      <p:childTnLst>
                        <p:par>
                          <p:cTn id="6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5" dur="5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dur="indefinite" fill="hold">
                      <p:stCondLst>
                        <p:cond delay="indefinite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dur="indefinite" fill="hold">
                      <p:stCondLst>
                        <p:cond delay="indefinite"/>
                      </p:stCondLst>
                      <p:childTnLst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dur="indefinite" fill="hold">
                      <p:stCondLst>
                        <p:cond delay="indefinite"/>
                      </p:stCondLst>
                      <p:childTnLst>
                        <p:par>
                          <p:cTn id="6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dur="indefinite" fill="hold">
                      <p:stCondLst>
                        <p:cond delay="indefinite"/>
                      </p:stCondLst>
                      <p:childTnLst>
                        <p:par>
                          <p:cTn id="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dur="indefinite" fill="hold">
                      <p:stCondLst>
                        <p:cond delay="indefinite"/>
                      </p:stCondLst>
                      <p:childTnLst>
                        <p:par>
                          <p:cTn id="6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dur="indefinite" fill="hold">
                      <p:stCondLst>
                        <p:cond delay="indefinite"/>
                      </p:stCondLst>
                      <p:childTnLst>
                        <p:par>
                          <p:cTn id="6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dur="indefinite" fill="hold">
                      <p:stCondLst>
                        <p:cond delay="indefinite"/>
                      </p:stCondLst>
                      <p:childTnLst>
                        <p:par>
                          <p:cTn id="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dur="indefinite" fill="hold">
                      <p:stCondLst>
                        <p:cond delay="indefinite"/>
                      </p:stCondLst>
                      <p:childTnLst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dur="indefinite" fill="hold">
                      <p:stCondLst>
                        <p:cond delay="indefinite"/>
                      </p:stCondLst>
                      <p:childTnLst>
                        <p:par>
                          <p:cTn id="6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dur="indefinite" fill="hold">
                      <p:stCondLst>
                        <p:cond delay="indefinite"/>
                      </p:stCondLst>
                      <p:childTnLst>
                        <p:par>
                          <p:cTn id="6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dur="indefinite" fill="hold">
                      <p:stCondLst>
                        <p:cond delay="indefinite"/>
                      </p:stCondLst>
                      <p:childTnLst>
                        <p:par>
                          <p:cTn id="6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dur="indefinite" fill="hold">
                      <p:stCondLst>
                        <p:cond delay="indefinite"/>
                      </p:stCondLst>
                      <p:childTnLst>
                        <p:par>
                          <p:cTn id="7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dur="indefinite" fill="hold">
                      <p:stCondLst>
                        <p:cond delay="indefinite"/>
                      </p:stCondLst>
                      <p:childTnLst>
                        <p:par>
                          <p:cTn id="7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dur="indefinite" fill="hold">
                      <p:stCondLst>
                        <p:cond delay="indefinite"/>
                      </p:stCondLst>
                      <p:childTnLst>
                        <p:par>
                          <p:cTn id="7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dur="indefinite" fill="hold">
                      <p:stCondLst>
                        <p:cond delay="indefinite"/>
                      </p:stCondLst>
                      <p:childTnLst>
                        <p:par>
                          <p:cTn id="7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 rot="16200000">
            <a:off x="3219480" y="-2898360"/>
            <a:ext cx="1619280" cy="7416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ушная ударная волна- распространяющаяся с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хзвуковой скоростью тонкая переходн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ь, в которой происходит резкое увелич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и, давления и температуры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74600" y="1681200"/>
          <a:ext cx="8497800" cy="4638240"/>
        </p:xfrm>
        <a:graphic>
          <a:graphicData uri="http://schemas.openxmlformats.org/drawingml/2006/table">
            <a:tbl>
              <a:tblPr/>
              <a:tblGrid>
                <a:gridCol w="2241720"/>
                <a:gridCol w="625608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ы пораж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арактеристика пораже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Лёгк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Лёгкая контузия, временная потеря слуха, ушибы и вывихи конечносте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редне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вмы мозга с потерей сознания, повреждением органов слуха, кровотечение из носа и ушей, сильные переломы и вывихи конеч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яжёл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ильная контузия всего организма, ПОВРЕЖДЕНИЕ внутренних органов и мозга, тяжёлые переломы конечностей. Возможны смертельные исходы.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райне тяжёло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вмы, обычно приводящие к смертельному исходу.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9" name=""/>
          <p:cNvGrpSpPr/>
          <p:nvPr/>
        </p:nvGrpSpPr>
        <p:grpSpPr>
          <a:xfrm>
            <a:off x="7704000" y="260280"/>
            <a:ext cx="1432080" cy="874800"/>
            <a:chOff x="7704000" y="260280"/>
            <a:chExt cx="1432080" cy="874800"/>
          </a:xfrm>
        </p:grpSpPr>
        <p:pic>
          <p:nvPicPr>
            <p:cNvPr id="450" name="" descr=""/>
            <p:cNvPicPr/>
            <p:nvPr/>
          </p:nvPicPr>
          <p:blipFill>
            <a:blip r:embed="rId2"/>
            <a:stretch/>
          </p:blipFill>
          <p:spPr>
            <a:xfrm>
              <a:off x="7704000" y="260280"/>
              <a:ext cx="143208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704000" y="260280"/>
              <a:ext cx="143208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wipe dir="u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dur="indefinite" fill="hold">
                      <p:stCondLst>
                        <p:cond delay="indefinite"/>
                      </p:stCondLst>
                      <p:childTnLst>
                        <p:par>
                          <p:cTn id="7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dur="indefinite" fill="hold">
                      <p:stCondLst>
                        <p:cond delay="indefinite"/>
                      </p:stCondLst>
                      <p:childTnLst>
                        <p:par>
                          <p:cTn id="7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dur="indefinite" fill="hold">
                      <p:stCondLst>
                        <p:cond delay="indefinite"/>
                      </p:stCondLst>
                      <p:childTnLst>
                        <p:par>
                          <p:cTn id="7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 fill="hold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250920" y="404640"/>
            <a:ext cx="2873160" cy="4888080"/>
            <a:chOff x="250920" y="404640"/>
            <a:chExt cx="2873160" cy="4888080"/>
          </a:xfrm>
        </p:grpSpPr>
        <p:graphicFrame>
          <p:nvGraphicFramePr>
            <p:cNvPr id="453" name=""/>
            <p:cNvGraphicFramePr/>
            <p:nvPr/>
          </p:nvGraphicFramePr>
          <p:xfrm>
            <a:off x="250920" y="404640"/>
            <a:ext cx="2873160" cy="488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404640"/>
                      <a:ext cx="2873160" cy="48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5" name=""/>
            <p:cNvSpPr/>
            <p:nvPr/>
          </p:nvSpPr>
          <p:spPr>
            <a:xfrm>
              <a:off x="250920" y="404640"/>
              <a:ext cx="2873160" cy="48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1116000" y="0"/>
            <a:ext cx="763272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Что дел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Lucida Sans Unicode"/>
              </a:rPr>
              <a:t>Обнаружив предмет, похожий на взрывное устройство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Lucida Sans Unicode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трогайте е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создавая паники, предупредите окружающи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Сообщите о находке в милицию, любому должностному лиц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  <a:ea typeface="Lucida Sans Unicode"/>
              </a:rPr>
              <a:t>При угрозе взрыв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подходите к взрывоопасному предмет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медленно покиньте опасное место, предупредите окружающих об опас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Сообщите в милици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Если взрыв неизбежен, лягте, прикрыв голову рук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dur="indefinite" fill="hold">
                      <p:stCondLst>
                        <p:cond delay="indefinite"/>
                      </p:stCondLst>
                      <p:childTnLst>
                        <p:par>
                          <p:cTn id="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dur="indefinite" fill="hold">
                      <p:stCondLst>
                        <p:cond delay="indefinite"/>
                      </p:stCondLst>
                      <p:childTnLst>
                        <p:par>
                          <p:cTn id="7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dur="indefinite" fill="hold">
                      <p:stCondLst>
                        <p:cond delay="indefinite"/>
                      </p:stCondLst>
                      <p:childTnLst>
                        <p:par>
                          <p:cTn id="7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dur="indefinite" fill="hold">
                      <p:stCondLst>
                        <p:cond delay="indefinite"/>
                      </p:stCondLst>
                      <p:childTnLst>
                        <p:par>
                          <p:cTn id="7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dur="indefinite" fill="hold">
                      <p:stCondLst>
                        <p:cond delay="indefinite"/>
                      </p:stCondLst>
                      <p:childTnLst>
                        <p:par>
                          <p:cTn id="7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dur="indefinite" fill="hold">
                      <p:stCondLst>
                        <p:cond delay="indefinite"/>
                      </p:stCondLst>
                      <p:childTnLst>
                        <p:par>
                          <p:cTn id="7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dur="indefinite" fill="hold">
                      <p:stCondLst>
                        <p:cond delay="indefinite"/>
                      </p:stCondLst>
                      <p:childTnLst>
                        <p:par>
                          <p:cTn id="7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dur="indefinite" fill="hold">
                      <p:stCondLst>
                        <p:cond delay="indefinite"/>
                      </p:stCondLst>
                      <p:childTnLst>
                        <p:par>
                          <p:cTn id="8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dur="indefinite" fill="hold">
                      <p:stCondLst>
                        <p:cond delay="indefinite"/>
                      </p:stCondLst>
                      <p:childTnLst>
                        <p:par>
                          <p:cTn id="8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3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dur="indefinite" fill="hold">
                      <p:stCondLst>
                        <p:cond delay="indefinite"/>
                      </p:stCondLst>
                      <p:childTnLst>
                        <p:par>
                          <p:cTn id="8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dur="indefinite" fill="hold">
                      <p:stCondLst>
                        <p:cond delay="indefinite"/>
                      </p:stCondLst>
                      <p:childTnLst>
                        <p:par>
                          <p:cTn id="8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5800" y="22536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Что делать, если вы в завал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981000"/>
            <a:ext cx="640872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 u="sng">
                <a:solidFill>
                  <a:srgbClr val="ff9966"/>
                </a:solidFill>
                <a:uFillTx/>
                <a:latin typeface="Arial Black"/>
              </a:rPr>
              <a:t>Р</a:t>
            </a: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анены, получили травму:</a:t>
            </a:r>
            <a:br>
              <a:rPr sz="2000"/>
            </a:br>
            <a:r>
              <a:rPr b="1" lang="ru-RU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Оцените трав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2. Окажите себе посильную помощ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3. Растирайте придавленные конечност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 Перевернитесь на живот, ослабьте давление на груд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Нет возможности выбраться: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Постарайтесь найти и надеть теплые вещ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 Осмотритесь, нет ли просветов, лазов, проём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Укрепите завал, установите подпорки под конструкцию над ва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  Голосом и стуком привлекайте внимание спасател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Есть возможность выбрать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осмотритесь, нет ли просветов, лазов, проём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 осторожно выбирайтесь из завала, не вызывая нового обвала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выйдите на открытое мест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  зарегистрируйтесь в штабе спасател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0920" y="836640"/>
            <a:ext cx="2577960" cy="4672080"/>
            <a:chOff x="250920" y="836640"/>
            <a:chExt cx="2577960" cy="4672080"/>
          </a:xfrm>
        </p:grpSpPr>
        <p:graphicFrame>
          <p:nvGraphicFramePr>
            <p:cNvPr id="460" name=""/>
            <p:cNvGraphicFramePr/>
            <p:nvPr/>
          </p:nvGraphicFramePr>
          <p:xfrm>
            <a:off x="250920" y="836640"/>
            <a:ext cx="2577960" cy="467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836640"/>
                      <a:ext cx="2577960" cy="467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2" name=""/>
            <p:cNvSpPr/>
            <p:nvPr/>
          </p:nvSpPr>
          <p:spPr>
            <a:xfrm>
              <a:off x="250920" y="836640"/>
              <a:ext cx="2577960" cy="46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wipe dir="u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dur="indefinite" fill="hold">
                      <p:stCondLst>
                        <p:cond delay="indefinite"/>
                      </p:stCondLst>
                      <p:childTnLst>
                        <p:par>
                          <p:cTn id="8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dur="indefinite" fill="hold">
                      <p:stCondLst>
                        <p:cond delay="indefinite"/>
                      </p:stCondLst>
                      <p:childTnLst>
                        <p:par>
                          <p:cTn id="8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dur="indefinite" fill="hold">
                      <p:stCondLst>
                        <p:cond delay="indefinite"/>
                      </p:stCondLst>
                      <p:childTnLst>
                        <p:par>
                          <p:cTn id="8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dur="indefinite" fill="hold">
                      <p:stCondLst>
                        <p:cond delay="indefinite"/>
                      </p:stCondLst>
                      <p:childTnLst>
                        <p:par>
                          <p:cTn id="8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dur="indefinite" fill="hold">
                      <p:stCondLst>
                        <p:cond delay="indefinite"/>
                      </p:stCondLst>
                      <p:childTnLst>
                        <p:par>
                          <p:cTn id="8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6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9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2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5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dur="indefinite" fill="hold">
                      <p:stCondLst>
                        <p:cond delay="indefinite"/>
                      </p:stCondLst>
                      <p:childTnLst>
                        <p:par>
                          <p:cTn id="8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dur="indefinite" fill="hold">
                      <p:stCondLst>
                        <p:cond delay="indefinite"/>
                      </p:stCondLst>
                      <p:childTnLst>
                        <p:par>
                          <p:cTn id="9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8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dur="indefinite" fill="hold">
                      <p:stCondLst>
                        <p:cond delay="indefinite"/>
                      </p:stCondLst>
                      <p:childTnLst>
                        <p:par>
                          <p:cTn id="9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3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