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7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82D-EF2D-476F-AF42-DC07369E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E9D-11D8-4401-A969-2D3DC1BA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BF1-EF02-4960-B867-7F898C92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213-6E6B-41A2-825A-4023C826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DD4-16F2-40B7-B322-FF2AE099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74D-89E4-4D20-A2E4-6581813C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0B2-27B9-41A1-8729-5C1D74FA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801-F0C2-4F5D-BA11-D9F1DE4A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C0F-87BA-4A7D-90C8-401C9A77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D72-9D21-4F7B-AC7A-7A4AD9DE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71C-9BA3-4591-A8B4-A33F1EF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C5C-242A-43B7-8CBF-DCBA3697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B643-3449-42EB-85FD-8C93973DB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елки к новому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607280" cy="674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5067360"/>
            <a:ext cx="255600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4929120"/>
            <a:ext cx="2951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824040"/>
            <a:ext cx="69850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2857680" cy="401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4360" y="333360"/>
            <a:ext cx="6408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вол и крона этой ёлочки не соединены между собой, и если повернуть крону, она начнёт вращаться. Приготовь плотную бумагу или картон для оснований и гофрированную бумагу для веточек (желательно разных оттенков). Немного коричневой гофрированной бумаги понадобится для ство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режи полукруг из плотной бумаги любого цвета с радиусом 15 см и склей из него конус для кр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ежь полоски гофрированной бумаги разных оттенков зелёного цвета размером 2.5х10 см вдоль линий гофр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ути полоску в середине 2 раза. Сложи её попол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144468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270828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делай выпуклую заготовку «лепесток», растягивая оба слоя бум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1368360" cy="9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4797360"/>
            <a:ext cx="6300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клеивай заготовки на конус рядами снизу вверх. Каждый следующий ряд должен наполовину прикрывать предыдущий. «Лепестки» должны быть отогнуты наруж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режи из плотной бумаги четверть круга с радиусом 20 см. Сверни из него конус для ствола. Наметь карандашом место приклеи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зьми коричневую гофрированную бумагу размером вдвое больше площади ствола (приблизительно). Промажь её клеящим карандашом и приклей на заготовку ствола, кроме места для склеивания. Во время приклеивания сжимай бумагу пальцами, формируя продольные складки, напоминающие кору дерева. Сверни и склей ств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ести крону на ствол. Ёлочка готова. Её можно украсить. Можно сделать заснеженную ёлочку, если часть веток или всю крону выполнить из белой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080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56000" y="3048120"/>
            <a:ext cx="3905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76360" y="1159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419640" y="0"/>
            <a:ext cx="2044440" cy="153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580000" y="0"/>
            <a:ext cx="1728720" cy="158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388280" y="189000"/>
            <a:ext cx="1755720" cy="131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08000" y="1844640"/>
            <a:ext cx="2255760" cy="300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556000" y="2205000"/>
            <a:ext cx="2836800" cy="212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5724360" y="227664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6800" cy="2127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3456000" cy="2182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119640" y="260280"/>
            <a:ext cx="3024360" cy="1644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3780000" cy="1209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840360" y="1916280"/>
            <a:ext cx="2303640" cy="371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851280" y="1916280"/>
            <a:ext cx="3413160" cy="19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3357720"/>
            <a:ext cx="3197160" cy="239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203640" y="3860640"/>
            <a:ext cx="2981160" cy="223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6084720" y="4676760"/>
            <a:ext cx="290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4308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6:17:27Z</dcterms:created>
  <dc:creator>User</dc:creator>
  <dc:description/>
  <dc:language>en-US</dc:language>
  <cp:lastModifiedBy>Admin</cp:lastModifiedBy>
  <dcterms:modified xsi:type="dcterms:W3CDTF">2009-12-17T13:59:05Z</dcterms:modified>
  <cp:revision>3</cp:revision>
  <dc:subject/>
  <dc:title>Слайд 1</dc:title>
</cp:coreProperties>
</file>