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982-C12E-4FF5-9280-D7D51600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EAA-833A-4F5B-9660-D398FDB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385-54A6-4E2F-A4FE-D9976875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6F3-39BA-41AD-9E84-FC765923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26F-58BB-4E2E-A09E-A5F33A1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C45-3902-4F99-99B0-8D7E051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09E-E6D0-4724-A520-0432C8BE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FA0-A5BC-4801-93D7-35F2036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789-4F6C-4BE5-819C-3C0B0B21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F43-1589-4750-8555-86BA913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DE0-6B2C-4363-95E8-7DFDC96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B0D-BAA4-4308-BE52-E236885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F26-F05A-41E5-9176-F4AB0CBD0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елки к новому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607280" cy="674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067360"/>
            <a:ext cx="255600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929120"/>
            <a:ext cx="2951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824040"/>
            <a:ext cx="6985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857680" cy="401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333360"/>
            <a:ext cx="6408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вол и крона этой ёлочки не соединены между собой, и если повернуть крону, она начнёт вращаться. Приготовь плотную бумагу или картон для оснований и гофрированную бумагу для веточек (желательно разных оттенков). Немного коричневой гофрированной бумаги понадобится для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ежи полукруг из плотной бумаги любого цвета с радиусом 15 см и склей из него конус для к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жь полоски гофрированной бумаги разных оттенков зелёного цвета размером 2.5х10 см вдоль линий гофр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ути полоску в середине 2 раза. Сложи её попо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144468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270828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делай выпуклую заготовку «лепесток», растягивая оба слоя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1368360" cy="9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4797360"/>
            <a:ext cx="630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клеивай заготовки на конус рядами снизу вверх. Каждый следующий ряд должен наполовину прикрывать предыдущий. «Лепестки» должны быть отогнуты наруж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режи из плотной бумаги четверть круга с радиусом 20 см. Сверни из него конус для ствола. Наметь карандашом место приклеи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ьми коричневую гофрированную бумагу размером вдвое больше площади ствола (приблизительно). Промажь её клеящим карандашом и приклей на заготовку ствола, кроме места для склеивания. Во время приклеивания сжимай бумагу пальцами, формируя продольные складки, напоминающие кору дерева. Сверни и склей ств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ести крону на ствол. Ёлочка готова. Её можно украсить. Можно сделать заснеженную ёлочку, если часть веток или всю крону выполнить из белой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08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90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580000" y="0"/>
            <a:ext cx="172872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388280" y="189000"/>
            <a:ext cx="1755720" cy="131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8000" y="1844640"/>
            <a:ext cx="2255760" cy="300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556000" y="220500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24360" y="2276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456000" cy="218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9640" y="260280"/>
            <a:ext cx="3024360" cy="1644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780000" cy="1209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840360" y="1916280"/>
            <a:ext cx="230364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51280" y="1916280"/>
            <a:ext cx="3413160" cy="19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357720"/>
            <a:ext cx="3197160" cy="239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203640" y="3860640"/>
            <a:ext cx="2981160" cy="22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084720" y="467676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430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6:17:27Z</dcterms:created>
  <dc:creator>User</dc:creator>
  <dc:description/>
  <dc:language>en-US</dc:language>
  <cp:lastModifiedBy>Admin</cp:lastModifiedBy>
  <dcterms:modified xsi:type="dcterms:W3CDTF">2009-12-17T13:59:05Z</dcterms:modified>
  <cp:revision>3</cp:revision>
  <dc:subject/>
  <dc:title>Слайд 1</dc:title>
</cp:coreProperties>
</file>