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7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249-A21E-4E2D-8023-6786D69C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D98-5180-421D-ABAE-43CDC3FB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74F-8D33-410B-BD3E-82A6D07A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97E-D096-4AF7-9D1D-55D6CA31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B06-2939-4B4B-A1E1-3F0B2807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44D-AF2A-4A2C-AA3B-970976D7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9C0-F763-4ADD-AC99-C26E3061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8CE-5F31-4376-82C4-4CD189B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E31-4EB2-44B3-8D05-278AD1E8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FB5-73C7-4E15-9103-7945BD87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090-2923-4FBF-97C7-0AC8976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685-5CC6-41CB-8524-E3601209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8514-D57E-4237-925D-2B0A27E18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елки к новому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607280" cy="6742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5067360"/>
            <a:ext cx="255600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4929120"/>
            <a:ext cx="2951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824040"/>
            <a:ext cx="69850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2857680" cy="401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84360" y="333360"/>
            <a:ext cx="6408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вол и крона этой ёлочки не соединены между собой, и если повернуть крону, она начнёт вращаться. Приготовь плотную бумагу или картон для оснований и гофрированную бумагу для веточек (желательно разных оттенков). Немного коричневой гофрированной бумаги понадобится для ство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режи полукруг из плотной бумаги любого цвета с радиусом 15 см и склей из него конус для кро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ежь полоски гофрированной бумаги разных оттенков зелёного цвета размером 2.5х10 см вдоль линий гофр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рути полоску в середине 2 раза. Сложи её попол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144468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2708280"/>
            <a:ext cx="41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делай выпуклую заготовку «лепесток», растягивая оба слоя бума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1368360" cy="96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43280" y="4797360"/>
            <a:ext cx="63007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клеивай заготовки на конус рядами снизу вверх. Каждый следующий ряд должен наполовину прикрывать предыдущий. «Лепестки» должны быть отогнуты наруж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режи из плотной бумаги четверть круга с радиусом 20 см. Сверни из него конус для ствола. Наметь карандашом место приклеи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зьми коричневую гофрированную бумагу размером вдвое больше площади ствола (приблизительно). Промажь её клеящим карандашом и приклей на заготовку ствола, кроме места для склеивания. Во время приклеивания сжимай бумагу пальцами, формируя продольные складки, напоминающие кору дерева. Сверни и склей ств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ести крону на ствол. Ёлочка готова. Её можно украсить. Можно сделать заснеженную ёлочку, если часть веток или всю крону выполнить из белой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080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56000" y="3048120"/>
            <a:ext cx="3905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76360" y="1159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419640" y="0"/>
            <a:ext cx="2044440" cy="1533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580000" y="0"/>
            <a:ext cx="1728720" cy="158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388280" y="189000"/>
            <a:ext cx="1755720" cy="131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08000" y="1844640"/>
            <a:ext cx="2255760" cy="300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556000" y="2205000"/>
            <a:ext cx="2836800" cy="2127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5724360" y="2276640"/>
            <a:ext cx="28083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6800" cy="2127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3456000" cy="2182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119640" y="260280"/>
            <a:ext cx="3024360" cy="1644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3780000" cy="1209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840360" y="1916280"/>
            <a:ext cx="2303640" cy="3714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851280" y="1916280"/>
            <a:ext cx="3413160" cy="1985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3357720"/>
            <a:ext cx="3197160" cy="2398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203640" y="3860640"/>
            <a:ext cx="2981160" cy="223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6084720" y="4676760"/>
            <a:ext cx="290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4308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6:17:27Z</dcterms:created>
  <dc:creator>User</dc:creator>
  <dc:description/>
  <dc:language>en-US</dc:language>
  <cp:lastModifiedBy>Admin</cp:lastModifiedBy>
  <dcterms:modified xsi:type="dcterms:W3CDTF">2009-12-17T13:59:05Z</dcterms:modified>
  <cp:revision>3</cp:revision>
  <dc:subject/>
  <dc:title>Слайд 1</dc:title>
</cp:coreProperties>
</file>