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5F3-DBEC-4EE1-B810-CA581251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9C8-96C5-4B3D-86AE-A8BBDF5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D93-452B-4E32-8E7C-2053B36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0F0-B849-436A-A316-3DF1A6A8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203-D21D-483F-A9FE-CA4993D3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484-8A58-4598-A3B8-FA1EE3F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B13-267C-42DA-9C7C-D1A7AD87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AE7-09A3-4AE3-9E71-49412E9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B5C0-BF2D-450E-8886-DD994D1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937-B4FD-4486-B656-3121236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759-6F21-476D-8CEC-C4A1870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DB1-DD01-4426-ACBC-0A96835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BF23-3FF1-4571-A1D5-9943DC9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6B6A-EB37-48EF-B35A-3EF1B65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606-79E9-44AF-8A1F-0AF8018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4622-E1A1-46E2-BBFB-0115BF96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1B1-DAC1-4750-8333-99390A30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766-F5C6-4A62-A104-AF447C1F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0B5-E070-4B81-BBCD-DEA62CA8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800-8926-4424-AE0B-64B1E26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62B-04D0-4F24-A1FB-2F0A358A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770-6A90-4B16-88A5-4087060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12A-D9B2-4148-8696-366F5F3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7C4-BEC3-4AD9-A8AE-86F7320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BB8-4563-4B62-B29C-DEE3448FE04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504-D772-4745-9659-8E12423CE42F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Тема: Письменное умножение на двузначное число. Закрепление.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626920" y="3818160"/>
            <a:ext cx="4494600" cy="2214000"/>
            <a:chOff x="2626920" y="3818160"/>
            <a:chExt cx="4494600" cy="2214000"/>
          </a:xfrm>
        </p:grpSpPr>
        <p:sp>
          <p:nvSpPr>
            <p:cNvPr id="345" name=""/>
            <p:cNvSpPr/>
            <p:nvPr/>
          </p:nvSpPr>
          <p:spPr>
            <a:xfrm>
              <a:off x="3007440" y="397440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83800">
              <a:off x="3160080" y="3860640"/>
              <a:ext cx="52308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12360" y="4203360"/>
              <a:ext cx="7632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2779560" y="4546080"/>
              <a:ext cx="1210320" cy="914400"/>
            </a:xfrm>
            <a:custGeom>
              <a:avLst/>
              <a:gdLst>
                <a:gd name="textAreaLeft" fmla="*/ 376560 w 1210320"/>
                <a:gd name="textAreaRight" fmla="*/ 833760 w 121032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626920" y="4546080"/>
              <a:ext cx="6850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64640" y="4546080"/>
              <a:ext cx="6094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1236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464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6008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464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26400" y="4888800"/>
              <a:ext cx="685800" cy="102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88160" y="488916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522040" y="4888800"/>
              <a:ext cx="5328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31520" y="4889160"/>
              <a:ext cx="38052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88720" y="488880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150800" y="591840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1256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444640" y="5689800"/>
              <a:ext cx="766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054840" y="4775040"/>
              <a:ext cx="763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512040" y="5689800"/>
              <a:ext cx="7632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04592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ФИЗКУЛЬТМИНУТКА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43280" y="2000160"/>
            <a:ext cx="30970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УРАВНЕНИЯ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76 (214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вариант – верх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ниж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d = 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983600" y="2199960"/>
            <a:ext cx="4267440" cy="2443680"/>
            <a:chOff x="1983600" y="2199960"/>
            <a:chExt cx="4267440" cy="2443680"/>
          </a:xfrm>
        </p:grpSpPr>
        <p:sp>
          <p:nvSpPr>
            <p:cNvPr id="456" name=""/>
            <p:cNvSpPr/>
            <p:nvPr/>
          </p:nvSpPr>
          <p:spPr>
            <a:xfrm>
              <a:off x="5108040" y="2357640"/>
              <a:ext cx="6876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83800">
              <a:off x="5260680" y="2242440"/>
              <a:ext cx="52524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12960" y="2586240"/>
              <a:ext cx="78120" cy="1123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0800000">
              <a:off x="4879440" y="2928600"/>
              <a:ext cx="1209960" cy="914040"/>
            </a:xfrm>
            <a:custGeom>
              <a:avLst/>
              <a:gdLst>
                <a:gd name="textAreaLeft" fmla="*/ 376560 w 1209960"/>
                <a:gd name="textAreaRight" fmla="*/ 833400 w 120996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72752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524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7000" y="384336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5240" y="3843360"/>
              <a:ext cx="216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5240" y="4071960"/>
              <a:ext cx="15300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4720" y="4071960"/>
              <a:ext cx="15192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59920" y="3843000"/>
              <a:ext cx="10670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0120" y="372852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812760" y="372852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6600" y="384336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336280" y="39574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83600" y="452880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098040" y="3843360"/>
              <a:ext cx="1522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574520" y="361476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049200" y="372924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60680" y="430020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735360" y="430020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Страна «Геометрия»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174 (212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-Богоявленское – записать названия туп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ец-Васильевское записать названия прям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Новое-Козьмодемьяновское записать названия остр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Проверим ответы: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278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Тупоугольные: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ABK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K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А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O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   BMO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C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MKD.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Прямоугольные: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B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D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DKC</a:t>
            </a:r>
            <a:r>
              <a:rPr b="1" lang="en-US" sz="3200" spc="-1" strike="noStrike">
                <a:solidFill>
                  <a:srgbClr val="7e891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3c2f"/>
                </a:solidFill>
                <a:latin typeface="Times New Roman"/>
              </a:rPr>
              <a:t>Остроугольные:     </a:t>
            </a:r>
            <a:r>
              <a:rPr b="1" lang="en-US" sz="3200" spc="-1" strike="noStrike">
                <a:solidFill>
                  <a:srgbClr val="bb3c2f"/>
                </a:solidFill>
                <a:latin typeface="Times New Roman"/>
              </a:rPr>
              <a:t>AKC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9564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8000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2276640"/>
            <a:ext cx="289080" cy="288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400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32720" y="227664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20000" y="177336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27640" y="342900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4581360"/>
            <a:ext cx="289080" cy="28764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164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2 см 6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6 см 7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0 см 5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9 с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7 см 3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 см 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055240" y="415440"/>
            <a:ext cx="4954680" cy="2203200"/>
            <a:chOff x="2055240" y="415440"/>
            <a:chExt cx="4954680" cy="2203200"/>
          </a:xfrm>
        </p:grpSpPr>
        <p:sp>
          <p:nvSpPr>
            <p:cNvPr id="496" name=""/>
            <p:cNvSpPr/>
            <p:nvPr/>
          </p:nvSpPr>
          <p:spPr>
            <a:xfrm>
              <a:off x="5866200" y="549000"/>
              <a:ext cx="687600" cy="449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83800">
              <a:off x="6018840" y="458280"/>
              <a:ext cx="525240" cy="179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71120" y="728280"/>
              <a:ext cx="78120" cy="882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5636880" y="998640"/>
              <a:ext cx="1210680" cy="7196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23920 h 719640"/>
                <a:gd name="textAreaBottom" fmla="*/ 495720 h 71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484600" y="999000"/>
              <a:ext cx="685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3400" y="999000"/>
              <a:ext cx="68652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71120" y="1718640"/>
              <a:ext cx="144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3400" y="1718640"/>
              <a:ext cx="2160" cy="26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8840" y="1898280"/>
              <a:ext cx="153720" cy="8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3400" y="1898280"/>
              <a:ext cx="151920" cy="9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31560" y="1988640"/>
              <a:ext cx="1067400" cy="63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2120" y="1898280"/>
              <a:ext cx="685800" cy="5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884760" y="1898280"/>
              <a:ext cx="83736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8600" y="1988640"/>
              <a:ext cx="685800" cy="44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408280" y="2078280"/>
              <a:ext cx="76248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55240" y="2528280"/>
              <a:ext cx="151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170400" y="1988640"/>
              <a:ext cx="152280" cy="9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646520" y="1808640"/>
              <a:ext cx="1519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121200" y="1898640"/>
              <a:ext cx="153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332680" y="2347920"/>
              <a:ext cx="151920" cy="9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807360" y="2347920"/>
              <a:ext cx="15228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4360" y="692280"/>
          <a:ext cx="7704000" cy="540072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1307b5"/>
                          </a:solidFill>
                          <a:latin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1619280" y="1844640"/>
            <a:ext cx="685800" cy="5731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170028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95640" y="1773360"/>
            <a:ext cx="838440" cy="687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4066920" y="1557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847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133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04000" y="184464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77336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308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8036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164360" y="234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733000">
            <a:off x="748692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5801000">
            <a:off x="669528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733000">
            <a:off x="460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388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9640" y="393372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2360" y="3933720"/>
            <a:ext cx="759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76360" y="3500280"/>
            <a:ext cx="863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63640" y="4149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6728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67280" y="3573360"/>
            <a:ext cx="863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39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56000" y="393372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0800000">
            <a:off x="4355640" y="4005360"/>
            <a:ext cx="228600" cy="226800"/>
          </a:xfrm>
          <a:prstGeom prst="blockArc">
            <a:avLst>
              <a:gd name="adj1" fmla="val 11104082"/>
              <a:gd name="adj2" fmla="val 21295918"/>
              <a:gd name="adj3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733000">
            <a:off x="2158920" y="3824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5985200">
            <a:off x="1367280" y="382428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6839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241600">
            <a:off x="7415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645000"/>
            <a:ext cx="685800" cy="573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6948000" y="335772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22936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547280" y="5013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9236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63640" y="5661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733000">
            <a:off x="2158920" y="5409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440600">
            <a:off x="1367280" y="540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84720" y="2205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7280" y="4941720"/>
            <a:ext cx="685800" cy="573120"/>
          </a:xfrm>
          <a:prstGeom prst="smileyFace">
            <a:avLst>
              <a:gd name="adj" fmla="val -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472428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733000">
            <a:off x="460692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96000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843280" y="1844280"/>
            <a:ext cx="3673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43280" y="2565360"/>
            <a:ext cx="3527280" cy="29527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71640" y="1989000"/>
            <a:ext cx="3600720" cy="115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3429000"/>
            <a:ext cx="28908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429000"/>
            <a:ext cx="28872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8631000">
            <a:off x="4089600" y="3833640"/>
            <a:ext cx="1006200" cy="100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76" y="903"/>
                </a:moveTo>
                <a:arcTo wR="10800" hR="10800" stAng="-6816090" swAng="7580600"/>
                <a:lnTo>
                  <a:pt x="10800" y="10800"/>
                </a:lnTo>
                <a:close/>
              </a:path>
              <a:path fill="none" w="21600" h="21600">
                <a:moveTo>
                  <a:pt x="6476" y="903"/>
                </a:moveTo>
                <a:arcTo wR="10800" hR="10800" stAng="-6816090" swAng="7580600"/>
              </a:path>
            </a:pathLst>
          </a:custGeom>
          <a:noFill/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173, 175 (№211, 213)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24000" y="1700280"/>
          <a:ext cx="8569080" cy="345600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806400"/>
                <a:gridCol w="1106280"/>
                <a:gridCol w="1106640"/>
                <a:gridCol w="1104840"/>
                <a:gridCol w="1106640"/>
                <a:gridCol w="110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7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С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  С</a:t>
                      </a:r>
                      <a:endParaRPr b="0" lang="en-US" sz="4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971640" y="4365720"/>
            <a:ext cx="144360" cy="144360"/>
          </a:xfrm>
          <a:prstGeom prst="ellipse">
            <a:avLst/>
          </a:prstGeom>
          <a:solidFill>
            <a:srgbClr val="0e0f0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0920" y="4076640"/>
            <a:ext cx="7846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Ширина – 1 метр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лина - ?, в 2 раза больше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Р -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981000"/>
            <a:ext cx="475164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981000"/>
            <a:ext cx="0" cy="230508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287160" y="1700640"/>
            <a:ext cx="3353040" cy="3014280"/>
            <a:chOff x="3287160" y="1700640"/>
            <a:chExt cx="3353040" cy="3014280"/>
          </a:xfrm>
        </p:grpSpPr>
        <p:sp>
          <p:nvSpPr>
            <p:cNvPr id="376" name=""/>
            <p:cNvSpPr/>
            <p:nvPr/>
          </p:nvSpPr>
          <p:spPr>
            <a:xfrm>
              <a:off x="4049280" y="185724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583800">
              <a:off x="4201560" y="1743120"/>
              <a:ext cx="523800" cy="226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53840" y="2085840"/>
              <a:ext cx="7668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800000">
              <a:off x="3820680" y="2428560"/>
              <a:ext cx="1210680" cy="9140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92080" y="242892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07200" y="242892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384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720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156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0720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363840" y="39142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49480" y="3686040"/>
              <a:ext cx="45684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16680" y="3686040"/>
              <a:ext cx="53172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30520" y="391464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106680" y="368568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87160" y="46000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487560" y="3571920"/>
              <a:ext cx="15228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573160" y="3571920"/>
              <a:ext cx="1522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353120" y="38005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30360" y="448632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39280" y="43714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07b5"/>
                </a:solidFill>
                <a:latin typeface="Times New Roman"/>
              </a:rPr>
              <a:t>Алгоритм умножения на двузначное число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единиц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перв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десят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втор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дписываю второе неполное произведение под десяткам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Сложу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Читаю отве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f0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343960" y="2030040"/>
            <a:ext cx="4038840" cy="2443680"/>
            <a:chOff x="2343960" y="2030040"/>
            <a:chExt cx="4038840" cy="2443680"/>
          </a:xfrm>
        </p:grpSpPr>
        <p:sp>
          <p:nvSpPr>
            <p:cNvPr id="401" name=""/>
            <p:cNvSpPr/>
            <p:nvPr/>
          </p:nvSpPr>
          <p:spPr>
            <a:xfrm>
              <a:off x="3791880" y="218736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83800">
              <a:off x="3944160" y="2072520"/>
              <a:ext cx="523800" cy="227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96800" y="241632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3563640" y="2759040"/>
              <a:ext cx="1210680" cy="91440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59080" y="275904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080" y="2759040"/>
              <a:ext cx="6091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6800" y="367344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49080" y="3673440"/>
              <a:ext cx="720" cy="34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4160" y="390204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49080" y="3902040"/>
              <a:ext cx="15192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420280" y="36730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1200" y="3558600"/>
              <a:ext cx="68616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73480" y="355860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87320" y="3673440"/>
              <a:ext cx="6861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97360" y="367308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3960" y="43588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30160" y="355860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935240" y="344448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409920" y="35593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621760" y="413028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96080" y="41302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307b5"/>
                </a:solidFill>
                <a:latin typeface="Times New Roman"/>
              </a:rPr>
              <a:t>Решим задачи</a:t>
            </a: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1 (209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Пальто                                    Костю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2см                                          13с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96                                                96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07b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етское пальто – 2 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030920" y="871920"/>
            <a:ext cx="720720" cy="7129800"/>
          </a:xfrm>
          <a:custGeom>
            <a:avLst/>
            <a:gdLst>
              <a:gd name="textAreaLeft" fmla="*/ 0 w 720720"/>
              <a:gd name="textAreaRight" fmla="*/ 260280 w 720720"/>
              <a:gd name="textAreaTop" fmla="*/ 185760 h 7129800"/>
              <a:gd name="textAreaBottom" fmla="*/ 6944040 h 712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2 (210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6 этажей по 20 кварти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Однокомнатных – 27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вухкомнатных – 54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Трёхкомнатных - ? К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71240" y="2061000"/>
            <a:ext cx="4038480" cy="3014280"/>
            <a:chOff x="2271240" y="2061000"/>
            <a:chExt cx="4038480" cy="3014280"/>
          </a:xfrm>
        </p:grpSpPr>
        <p:sp>
          <p:nvSpPr>
            <p:cNvPr id="428" name=""/>
            <p:cNvSpPr/>
            <p:nvPr/>
          </p:nvSpPr>
          <p:spPr>
            <a:xfrm>
              <a:off x="4557240" y="221760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83800">
              <a:off x="4709880" y="2103480"/>
              <a:ext cx="52452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62160" y="244620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4329360" y="2788920"/>
              <a:ext cx="1209600" cy="914040"/>
            </a:xfrm>
            <a:custGeom>
              <a:avLst/>
              <a:gdLst>
                <a:gd name="textAreaLeft" fmla="*/ 376560 w 1209600"/>
                <a:gd name="textAreaRight" fmla="*/ 833040 w 120960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00400" y="27892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4440" y="278928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2160" y="370332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440" y="3703320"/>
              <a:ext cx="144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9880" y="393228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14440" y="393228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347560" y="427464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8120" y="416016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100400" y="416016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4240" y="427500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23920" y="427464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71240" y="496044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157080" y="416016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862160" y="404640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36840" y="416088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548320" y="473184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023000" y="473184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27:10Z</dcterms:created>
  <dc:creator>Власка</dc:creator>
  <dc:description/>
  <dc:language>en-US</dc:language>
  <cp:lastModifiedBy>Власка</cp:lastModifiedBy>
  <dcterms:modified xsi:type="dcterms:W3CDTF">2008-02-25T10:41:23Z</dcterms:modified>
  <cp:revision>4</cp:revision>
  <dc:subject/>
  <dc:title>Тема:</dc:title>
</cp:coreProperties>
</file>