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25A-A8B1-4E95-AC57-E278EA52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2B4-D5A5-4A02-B099-A262737F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DF1-E28F-438D-967F-F037B8FE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103-D554-4E62-803D-10B31944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7F0B-277A-46B3-AB55-BB529B96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98A3-4BBB-4C65-A6BF-FAD0872D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2CE7-F681-434D-A498-C601982E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14CB-28CA-463B-A9E8-1077B498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A18C-588A-49B1-81EC-40FB84B5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B171-69B3-4E49-9A88-7E935164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9B81-0B36-4123-90D5-ADD79B1D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748-F790-42F0-90EB-482D2899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5FB2-7F0D-44DD-9F58-6F50E9F5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4797-743B-4138-879D-3EE5AE1B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74B8-8D16-434F-9CB8-A6882AC4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243F-BC6D-413A-9949-52B93BAA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1562-3041-4366-B26D-15B46E0D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5DB-65CC-4CFC-845E-6CC905B7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513-4067-4051-992F-86F1DD5F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765-5F82-4F58-A670-4479BED2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8B2-9993-4C52-8167-0C783463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3EF-E715-4593-9B53-62F2E465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2A3-BE7F-44F1-93A8-97A0BE6E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C51-BB46-4C14-ABF8-0E5D67C5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88AB-FBCB-4DDF-B38A-F9CB90F06336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7F07-679F-42B1-B098-EF492A5FFD5E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Тема: Письменное умножение на двузначное число. Закрепление.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626920" y="3818160"/>
            <a:ext cx="4494600" cy="2214000"/>
            <a:chOff x="2626920" y="3818160"/>
            <a:chExt cx="4494600" cy="2214000"/>
          </a:xfrm>
        </p:grpSpPr>
        <p:sp>
          <p:nvSpPr>
            <p:cNvPr id="345" name=""/>
            <p:cNvSpPr/>
            <p:nvPr/>
          </p:nvSpPr>
          <p:spPr>
            <a:xfrm>
              <a:off x="3007440" y="3974400"/>
              <a:ext cx="68580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83800">
              <a:off x="3160080" y="3860640"/>
              <a:ext cx="523080" cy="227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12360" y="4203360"/>
              <a:ext cx="76320" cy="1148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0800000">
              <a:off x="2779560" y="4546080"/>
              <a:ext cx="1210320" cy="914400"/>
            </a:xfrm>
            <a:custGeom>
              <a:avLst/>
              <a:gdLst>
                <a:gd name="textAreaLeft" fmla="*/ 376560 w 1210320"/>
                <a:gd name="textAreaRight" fmla="*/ 833760 w 1210320"/>
                <a:gd name="textAreaTop" fmla="*/ 284760 h 914400"/>
                <a:gd name="textAreaBottom" fmla="*/ 629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626920" y="4546080"/>
              <a:ext cx="685080" cy="45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64640" y="4546080"/>
              <a:ext cx="609480" cy="45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12360" y="5460840"/>
              <a:ext cx="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64640" y="5460840"/>
              <a:ext cx="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60080" y="5803560"/>
              <a:ext cx="152280" cy="114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64640" y="5803560"/>
              <a:ext cx="152280" cy="114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226400" y="4888800"/>
              <a:ext cx="685800" cy="102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88160" y="4889160"/>
              <a:ext cx="4568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522040" y="4888800"/>
              <a:ext cx="53280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31520" y="4889160"/>
              <a:ext cx="38052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588720" y="4888800"/>
              <a:ext cx="4568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150800" y="5918400"/>
              <a:ext cx="7560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912560" y="4775040"/>
              <a:ext cx="7560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444640" y="5689800"/>
              <a:ext cx="7668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6054840" y="4775040"/>
              <a:ext cx="7632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512040" y="5689800"/>
              <a:ext cx="7632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045920" y="4775040"/>
              <a:ext cx="7560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ФИЗКУЛЬТМИНУТКА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43280" y="2000160"/>
            <a:ext cx="30970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УРАВНЕНИЯ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176 (214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I 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вариант – верхняя строк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 вариант – нижняя строк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 вариант –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k 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 вариант –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d = 1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983600" y="2199960"/>
            <a:ext cx="4267440" cy="2443680"/>
            <a:chOff x="1983600" y="2199960"/>
            <a:chExt cx="4267440" cy="2443680"/>
          </a:xfrm>
        </p:grpSpPr>
        <p:sp>
          <p:nvSpPr>
            <p:cNvPr id="456" name=""/>
            <p:cNvSpPr/>
            <p:nvPr/>
          </p:nvSpPr>
          <p:spPr>
            <a:xfrm>
              <a:off x="5108040" y="2357640"/>
              <a:ext cx="68760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583800">
              <a:off x="5260680" y="2242440"/>
              <a:ext cx="525240" cy="227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12960" y="2586240"/>
              <a:ext cx="78120" cy="1123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0800000">
              <a:off x="4879440" y="2928600"/>
              <a:ext cx="1209960" cy="914040"/>
            </a:xfrm>
            <a:custGeom>
              <a:avLst/>
              <a:gdLst>
                <a:gd name="textAreaLeft" fmla="*/ 376560 w 1209960"/>
                <a:gd name="textAreaRight" fmla="*/ 833400 w 1209960"/>
                <a:gd name="textAreaTop" fmla="*/ 284400 h 914040"/>
                <a:gd name="textAreaBottom" fmla="*/ 6296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4727520" y="2928960"/>
              <a:ext cx="68580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65240" y="2928960"/>
              <a:ext cx="68580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37000" y="3843360"/>
              <a:ext cx="14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5240" y="3843360"/>
              <a:ext cx="2160" cy="34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65240" y="4071960"/>
              <a:ext cx="153000" cy="11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84720" y="4071960"/>
              <a:ext cx="151920" cy="11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059920" y="3843000"/>
              <a:ext cx="10670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50120" y="3728520"/>
              <a:ext cx="68580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812760" y="3728520"/>
              <a:ext cx="83736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6600" y="3843360"/>
              <a:ext cx="6858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336280" y="3957480"/>
              <a:ext cx="76248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83600" y="4528800"/>
              <a:ext cx="15192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098040" y="3843360"/>
              <a:ext cx="1522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4574520" y="3614760"/>
              <a:ext cx="15192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3049200" y="3729240"/>
              <a:ext cx="15300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60680" y="4300200"/>
              <a:ext cx="151920" cy="11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735360" y="4300200"/>
              <a:ext cx="15228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Страна «Геометрия»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174 (212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Команда с. Хобот-Богоявленское – записать названия тупоугольных треугольник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Команда с. Хоботец-Васильевское записать названия прямоугольных треугольник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Команда с. Новое-Козьмодемьяновское записать названия остроугольных треугольник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Проверим ответы: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278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Тупоугольные: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ABK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BK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А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B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BM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OM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   BMO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BCD</a:t>
            </a:r>
            <a:r>
              <a:rPr b="1" lang="ru-RU" sz="3200" spc="-1" strike="noStrike">
                <a:solidFill>
                  <a:srgbClr val="2d8f4b"/>
                </a:solidFill>
                <a:latin typeface="Times New Roman"/>
              </a:rPr>
              <a:t>,    </a:t>
            </a:r>
            <a:r>
              <a:rPr b="1" lang="en-US" sz="3200" spc="-1" strike="noStrike">
                <a:solidFill>
                  <a:srgbClr val="2d8f4b"/>
                </a:solidFill>
                <a:latin typeface="Times New Roman"/>
              </a:rPr>
              <a:t>MKD.</a:t>
            </a:r>
            <a:r>
              <a:rPr b="1" lang="ru-RU" sz="3200" spc="-1" strike="noStrike">
                <a:solidFill>
                  <a:srgbClr val="1307b5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46a9"/>
                </a:solidFill>
                <a:latin typeface="Times New Roman"/>
              </a:rPr>
              <a:t>Прямоугольные:     </a:t>
            </a:r>
            <a:r>
              <a:rPr b="1" lang="en-US" sz="3200" spc="-1" strike="noStrike">
                <a:solidFill>
                  <a:srgbClr val="4146a9"/>
                </a:solidFill>
                <a:latin typeface="Times New Roman"/>
              </a:rPr>
              <a:t>ABC</a:t>
            </a:r>
            <a:r>
              <a:rPr b="1" lang="ru-RU" sz="3200" spc="-1" strike="noStrike">
                <a:solidFill>
                  <a:srgbClr val="4146a9"/>
                </a:solidFill>
                <a:latin typeface="Times New Roman"/>
              </a:rPr>
              <a:t>,     </a:t>
            </a:r>
            <a:r>
              <a:rPr b="1" lang="en-US" sz="3200" spc="-1" strike="noStrike">
                <a:solidFill>
                  <a:srgbClr val="4146a9"/>
                </a:solidFill>
                <a:latin typeface="Times New Roman"/>
              </a:rPr>
              <a:t>ADC</a:t>
            </a:r>
            <a:r>
              <a:rPr b="1" lang="ru-RU" sz="3200" spc="-1" strike="noStrike">
                <a:solidFill>
                  <a:srgbClr val="4146a9"/>
                </a:solidFill>
                <a:latin typeface="Times New Roman"/>
              </a:rPr>
              <a:t>,     </a:t>
            </a:r>
            <a:r>
              <a:rPr b="1" lang="en-US" sz="3200" spc="-1" strike="noStrike">
                <a:solidFill>
                  <a:srgbClr val="4146a9"/>
                </a:solidFill>
                <a:latin typeface="Times New Roman"/>
              </a:rPr>
              <a:t>DKC</a:t>
            </a:r>
            <a:r>
              <a:rPr b="1" lang="en-US" sz="3200" spc="-1" strike="noStrike">
                <a:solidFill>
                  <a:srgbClr val="7e891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b3c2f"/>
                </a:solidFill>
                <a:latin typeface="Times New Roman"/>
              </a:rPr>
              <a:t>Остроугольные:     </a:t>
            </a:r>
            <a:r>
              <a:rPr b="1" lang="en-US" sz="3200" spc="-1" strike="noStrike">
                <a:solidFill>
                  <a:srgbClr val="bb3c2f"/>
                </a:solidFill>
                <a:latin typeface="Times New Roman"/>
              </a:rPr>
              <a:t>AKC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95640" y="177336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80000" y="177336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5640" y="227664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68360" y="227664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51280" y="2276640"/>
            <a:ext cx="289080" cy="28872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64000" y="227664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32720" y="2276640"/>
            <a:ext cx="28872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020000" y="1773360"/>
            <a:ext cx="28872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427640" y="3429000"/>
            <a:ext cx="28872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56000" y="4581360"/>
            <a:ext cx="289080" cy="28764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342900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451640" y="342900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708280"/>
            <a:ext cx="77724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 звено – 12 см 6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 звено – 6 см 7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 звено – 10 см 5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IV 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звено – 9 с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b5"/>
                </a:solidFill>
                <a:latin typeface="Times New Roman"/>
              </a:rPr>
              <a:t>V </a:t>
            </a: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звено – 7 см 3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461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07b5"/>
                </a:solidFill>
                <a:latin typeface="Times New Roman"/>
              </a:rPr>
              <a:t>46 см 1 мм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055240" y="415440"/>
            <a:ext cx="4954680" cy="2203200"/>
            <a:chOff x="2055240" y="415440"/>
            <a:chExt cx="4954680" cy="2203200"/>
          </a:xfrm>
        </p:grpSpPr>
        <p:sp>
          <p:nvSpPr>
            <p:cNvPr id="496" name=""/>
            <p:cNvSpPr/>
            <p:nvPr/>
          </p:nvSpPr>
          <p:spPr>
            <a:xfrm>
              <a:off x="5866200" y="549000"/>
              <a:ext cx="687600" cy="449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83800">
              <a:off x="6018840" y="458280"/>
              <a:ext cx="525240" cy="179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71120" y="728280"/>
              <a:ext cx="78120" cy="882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0800000">
              <a:off x="5636880" y="998640"/>
              <a:ext cx="1210680" cy="719640"/>
            </a:xfrm>
            <a:custGeom>
              <a:avLst/>
              <a:gdLst>
                <a:gd name="textAreaLeft" fmla="*/ 376920 w 1210680"/>
                <a:gd name="textAreaRight" fmla="*/ 833760 w 1210680"/>
                <a:gd name="textAreaTop" fmla="*/ 223920 h 719640"/>
                <a:gd name="textAreaBottom" fmla="*/ 495720 h 71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484600" y="999000"/>
              <a:ext cx="68580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23400" y="999000"/>
              <a:ext cx="68652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71120" y="1718640"/>
              <a:ext cx="144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23400" y="1718640"/>
              <a:ext cx="2160" cy="26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18840" y="1898280"/>
              <a:ext cx="153720" cy="896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23400" y="1898280"/>
              <a:ext cx="151920" cy="90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131560" y="1988640"/>
              <a:ext cx="1067400" cy="63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2120" y="1898280"/>
              <a:ext cx="685800" cy="54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884760" y="1898280"/>
              <a:ext cx="83736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98600" y="1988640"/>
              <a:ext cx="685800" cy="44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408280" y="2078280"/>
              <a:ext cx="76248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55240" y="2528280"/>
              <a:ext cx="1519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170400" y="1988640"/>
              <a:ext cx="152280" cy="90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646520" y="1808640"/>
              <a:ext cx="151920" cy="87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121200" y="1898640"/>
              <a:ext cx="153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332680" y="2347920"/>
              <a:ext cx="151920" cy="92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807360" y="2347920"/>
              <a:ext cx="15228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684360" y="692280"/>
          <a:ext cx="7704000" cy="5400720"/>
        </p:xfrm>
        <a:graphic>
          <a:graphicData uri="http://schemas.openxmlformats.org/drawingml/2006/table">
            <a:tbl>
              <a:tblPr/>
              <a:tblGrid>
                <a:gridCol w="2568600"/>
                <a:gridCol w="2566800"/>
                <a:gridCol w="2568600"/>
              </a:tblGrid>
              <a:tr h="22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600" spc="-1" strike="noStrike">
                          <a:solidFill>
                            <a:srgbClr val="1307b5"/>
                          </a:solidFill>
                          <a:latin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>
            <a:off x="1619280" y="1844640"/>
            <a:ext cx="685800" cy="5731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9280" y="1700280"/>
            <a:ext cx="6858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95640" y="1773360"/>
            <a:ext cx="838440" cy="6872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0800000">
            <a:off x="4066920" y="1557360"/>
            <a:ext cx="685800" cy="342720"/>
          </a:xfrm>
          <a:custGeom>
            <a:avLst/>
            <a:gdLst>
              <a:gd name="textAreaLeft" fmla="*/ 150840 w 685800"/>
              <a:gd name="textAreaRight" fmla="*/ 534960 w 68580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84720" y="1989000"/>
            <a:ext cx="763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13320" y="1989000"/>
            <a:ext cx="763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04000" y="1844640"/>
            <a:ext cx="863640" cy="72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04000" y="1773360"/>
            <a:ext cx="86364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93080" y="2133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380360" y="2133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164360" y="234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733000">
            <a:off x="7486920" y="2024640"/>
            <a:ext cx="28872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5801000">
            <a:off x="6695280" y="2024640"/>
            <a:ext cx="28872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5733000">
            <a:off x="4606920" y="195300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3886920" y="195300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3645000"/>
            <a:ext cx="863640" cy="72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79640" y="3933720"/>
            <a:ext cx="763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2360" y="3933720"/>
            <a:ext cx="7596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76360" y="3500280"/>
            <a:ext cx="86364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63640" y="4149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067280" y="3645000"/>
            <a:ext cx="863640" cy="72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067280" y="3573360"/>
            <a:ext cx="863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0" y="3933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56000" y="393372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10800000">
            <a:off x="4355640" y="4005360"/>
            <a:ext cx="228600" cy="226800"/>
          </a:xfrm>
          <a:prstGeom prst="blockArc">
            <a:avLst>
              <a:gd name="adj1" fmla="val 11104082"/>
              <a:gd name="adj2" fmla="val 21295918"/>
              <a:gd name="adj3" fmla="val 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733000">
            <a:off x="2158920" y="382464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5985200">
            <a:off x="1367280" y="382428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6839640" y="375336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241600">
            <a:off x="7415640" y="375336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48360" y="3645000"/>
            <a:ext cx="685800" cy="57312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0800000">
            <a:off x="6948000" y="3357720"/>
            <a:ext cx="685800" cy="342720"/>
          </a:xfrm>
          <a:custGeom>
            <a:avLst/>
            <a:gdLst>
              <a:gd name="textAreaLeft" fmla="*/ 150840 w 685800"/>
              <a:gd name="textAreaRight" fmla="*/ 534960 w 68580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5229360"/>
            <a:ext cx="863640" cy="72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0800000">
            <a:off x="1547280" y="5013360"/>
            <a:ext cx="685800" cy="342720"/>
          </a:xfrm>
          <a:custGeom>
            <a:avLst/>
            <a:gdLst>
              <a:gd name="textAreaLeft" fmla="*/ 150840 w 685800"/>
              <a:gd name="textAreaRight" fmla="*/ 534960 w 68580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92360" y="544500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79640" y="544500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763640" y="5661000"/>
            <a:ext cx="228600" cy="227160"/>
          </a:xfrm>
          <a:prstGeom prst="blockArc">
            <a:avLst>
              <a:gd name="adj1" fmla="val 11897303"/>
              <a:gd name="adj2" fmla="val 20502697"/>
              <a:gd name="adj3" fmla="val 10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5733000">
            <a:off x="2158920" y="540900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6440600">
            <a:off x="1367280" y="540864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84720" y="2205000"/>
            <a:ext cx="228600" cy="227160"/>
          </a:xfrm>
          <a:prstGeom prst="blockArc">
            <a:avLst>
              <a:gd name="adj1" fmla="val 11897303"/>
              <a:gd name="adj2" fmla="val 20502697"/>
              <a:gd name="adj3" fmla="val 10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067280" y="4941720"/>
            <a:ext cx="685800" cy="573120"/>
          </a:xfrm>
          <a:prstGeom prst="smileyFace">
            <a:avLst>
              <a:gd name="adj" fmla="val -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95640" y="4724280"/>
            <a:ext cx="86364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733000">
            <a:off x="4606920" y="504864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3960000" y="5048640"/>
            <a:ext cx="289080" cy="360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2843280" y="1844280"/>
            <a:ext cx="3673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43280" y="2565360"/>
            <a:ext cx="3527280" cy="29527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771640" y="1989000"/>
            <a:ext cx="3600720" cy="1152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995640" y="3429000"/>
            <a:ext cx="28908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88000" y="3429000"/>
            <a:ext cx="28872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8631000">
            <a:off x="4089600" y="3833640"/>
            <a:ext cx="1006200" cy="100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76" y="903"/>
                </a:moveTo>
                <a:arcTo wR="10800" hR="10800" stAng="-6816090" swAng="7580600"/>
                <a:lnTo>
                  <a:pt x="10800" y="10800"/>
                </a:lnTo>
                <a:close/>
              </a:path>
              <a:path fill="none" w="21600" h="21600">
                <a:moveTo>
                  <a:pt x="6476" y="903"/>
                </a:moveTo>
                <a:arcTo wR="10800" hR="10800" stAng="-6816090" swAng="7580600"/>
              </a:path>
            </a:pathLst>
          </a:custGeom>
          <a:noFill/>
          <a:ln w="19080">
            <a:solidFill>
              <a:srgbClr val="0e0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07b5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en-US" sz="3600" spc="-1" strike="noStrike">
                <a:solidFill>
                  <a:srgbClr val="1307b5"/>
                </a:solidFill>
                <a:latin typeface="Times New Roman"/>
              </a:rPr>
              <a:t>173, 175 (№211, 213)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421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24000" y="1700280"/>
          <a:ext cx="8569080" cy="3456000"/>
        </p:xfrm>
        <a:graphic>
          <a:graphicData uri="http://schemas.openxmlformats.org/drawingml/2006/table">
            <a:tbl>
              <a:tblPr/>
              <a:tblGrid>
                <a:gridCol w="1439640"/>
                <a:gridCol w="792360"/>
                <a:gridCol w="806400"/>
                <a:gridCol w="1106280"/>
                <a:gridCol w="1106640"/>
                <a:gridCol w="1104840"/>
                <a:gridCol w="1106640"/>
                <a:gridCol w="1106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В</a:t>
                      </a:r>
                      <a:endParaRPr b="0" lang="en-US" sz="7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46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68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6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70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С</a:t>
                      </a:r>
                      <a:endParaRPr b="0" lang="en-US" sz="7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54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00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601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e0f09"/>
                          </a:solidFill>
                          <a:latin typeface="Times New Roman"/>
                        </a:rPr>
                        <a:t>В  С</a:t>
                      </a:r>
                      <a:endParaRPr b="0" lang="en-US" sz="4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971640" y="4365720"/>
            <a:ext cx="144360" cy="144360"/>
          </a:xfrm>
          <a:prstGeom prst="ellipse">
            <a:avLst/>
          </a:prstGeom>
          <a:solidFill>
            <a:srgbClr val="0e0f0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0920" y="4076640"/>
            <a:ext cx="7846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Ширина – 1 метр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Длина - ?, в 2 раза больше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Р - 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68360" y="981000"/>
            <a:ext cx="475164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50920" y="981000"/>
            <a:ext cx="0" cy="2305080"/>
          </a:xfrm>
          <a:prstGeom prst="line">
            <a:avLst/>
          </a:prstGeom>
          <a:ln w="28440">
            <a:solidFill>
              <a:srgbClr val="0e0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e0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97164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287160" y="1700640"/>
            <a:ext cx="3353040" cy="3014280"/>
            <a:chOff x="3287160" y="1700640"/>
            <a:chExt cx="3353040" cy="3014280"/>
          </a:xfrm>
        </p:grpSpPr>
        <p:sp>
          <p:nvSpPr>
            <p:cNvPr id="376" name=""/>
            <p:cNvSpPr/>
            <p:nvPr/>
          </p:nvSpPr>
          <p:spPr>
            <a:xfrm>
              <a:off x="4049280" y="1857240"/>
              <a:ext cx="68580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583800">
              <a:off x="4201560" y="1743120"/>
              <a:ext cx="523800" cy="226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53840" y="2085840"/>
              <a:ext cx="76680" cy="1148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0800000">
              <a:off x="3820680" y="2428560"/>
              <a:ext cx="1210680" cy="914040"/>
            </a:xfrm>
            <a:custGeom>
              <a:avLst/>
              <a:gdLst>
                <a:gd name="textAreaLeft" fmla="*/ 376920 w 1210680"/>
                <a:gd name="textAreaRight" fmla="*/ 833760 w 1210680"/>
                <a:gd name="textAreaTop" fmla="*/ 284400 h 914040"/>
                <a:gd name="textAreaBottom" fmla="*/ 6296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592080" y="2428920"/>
              <a:ext cx="76176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07200" y="2428920"/>
              <a:ext cx="60948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53840" y="3342960"/>
              <a:ext cx="7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07200" y="3342960"/>
              <a:ext cx="7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01560" y="3686040"/>
              <a:ext cx="152280" cy="11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07200" y="3686040"/>
              <a:ext cx="152280" cy="11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363840" y="3914280"/>
              <a:ext cx="106740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49480" y="3686040"/>
              <a:ext cx="45684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116680" y="3686040"/>
              <a:ext cx="53172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30520" y="3914640"/>
              <a:ext cx="6858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106680" y="3685680"/>
              <a:ext cx="4568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87160" y="4600080"/>
              <a:ext cx="15192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487560" y="3571920"/>
              <a:ext cx="15228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573160" y="3571920"/>
              <a:ext cx="1522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4353120" y="3800520"/>
              <a:ext cx="15300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030360" y="4486320"/>
              <a:ext cx="15228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039280" y="4371480"/>
              <a:ext cx="15228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307b5"/>
                </a:solidFill>
                <a:latin typeface="Times New Roman"/>
              </a:rPr>
              <a:t>Алгоритм умножения на двузначное число.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Умножу первый множитель на число единиц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Получу первое неполное произведени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Умножу первый множитель на число десятк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Получу второе неполное произведени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Подписываю второе неполное произведение под десяткам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Сложу неполное произведени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f09"/>
                </a:solidFill>
                <a:latin typeface="Times New Roman"/>
              </a:rPr>
              <a:t>Читаю отве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f0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343960" y="2030040"/>
            <a:ext cx="4038840" cy="2443680"/>
            <a:chOff x="2343960" y="2030040"/>
            <a:chExt cx="4038840" cy="2443680"/>
          </a:xfrm>
        </p:grpSpPr>
        <p:sp>
          <p:nvSpPr>
            <p:cNvPr id="401" name=""/>
            <p:cNvSpPr/>
            <p:nvPr/>
          </p:nvSpPr>
          <p:spPr>
            <a:xfrm>
              <a:off x="3791880" y="2187360"/>
              <a:ext cx="68688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83800">
              <a:off x="3944160" y="2072520"/>
              <a:ext cx="523800" cy="2271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96800" y="2416320"/>
              <a:ext cx="77400" cy="113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0800000">
              <a:off x="3563640" y="2759040"/>
              <a:ext cx="1210680" cy="914400"/>
            </a:xfrm>
            <a:custGeom>
              <a:avLst/>
              <a:gdLst>
                <a:gd name="textAreaLeft" fmla="*/ 376920 w 1210680"/>
                <a:gd name="textAreaRight" fmla="*/ 833760 w 1210680"/>
                <a:gd name="textAreaTop" fmla="*/ 284760 h 914400"/>
                <a:gd name="textAreaBottom" fmla="*/ 629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59080" y="2759040"/>
              <a:ext cx="76176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9080" y="2759040"/>
              <a:ext cx="6091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96800" y="3673440"/>
              <a:ext cx="7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49080" y="3673440"/>
              <a:ext cx="720" cy="34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44160" y="3902040"/>
              <a:ext cx="152280" cy="11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49080" y="3902040"/>
              <a:ext cx="151920" cy="11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420280" y="3673080"/>
              <a:ext cx="106740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11200" y="3558600"/>
              <a:ext cx="68616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173480" y="3558600"/>
              <a:ext cx="83736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87320" y="3673440"/>
              <a:ext cx="686160" cy="57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697360" y="3673080"/>
              <a:ext cx="609120" cy="57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43960" y="4358880"/>
              <a:ext cx="15192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230160" y="3558600"/>
              <a:ext cx="15228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4935240" y="3444480"/>
              <a:ext cx="15192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409920" y="3559320"/>
              <a:ext cx="15300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621760" y="4130280"/>
              <a:ext cx="151920" cy="11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096080" y="4130280"/>
              <a:ext cx="15228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307b5"/>
                </a:solidFill>
                <a:latin typeface="Times New Roman"/>
              </a:rPr>
              <a:t>Решим задачи</a:t>
            </a: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171 (209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Пальто                                    Костю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12см                                          13с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96                                                96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307b5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Детское пальто – 2 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4030920" y="871920"/>
            <a:ext cx="720720" cy="7129800"/>
          </a:xfrm>
          <a:custGeom>
            <a:avLst/>
            <a:gdLst>
              <a:gd name="textAreaLeft" fmla="*/ 0 w 720720"/>
              <a:gd name="textAreaRight" fmla="*/ 260280 w 720720"/>
              <a:gd name="textAreaTop" fmla="*/ 185760 h 7129800"/>
              <a:gd name="textAreaBottom" fmla="*/ 6944040 h 712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№ </a:t>
            </a: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172 (210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16 этажей по 20 квартир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Однокомнатных – 27 кв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Двухкомнатных – 54 кв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07b5"/>
                </a:solidFill>
                <a:latin typeface="Times New Roman"/>
              </a:rPr>
              <a:t>Трёхкомнатных - ? К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71240" y="2061000"/>
            <a:ext cx="4038480" cy="3014280"/>
            <a:chOff x="2271240" y="2061000"/>
            <a:chExt cx="4038480" cy="3014280"/>
          </a:xfrm>
        </p:grpSpPr>
        <p:sp>
          <p:nvSpPr>
            <p:cNvPr id="428" name=""/>
            <p:cNvSpPr/>
            <p:nvPr/>
          </p:nvSpPr>
          <p:spPr>
            <a:xfrm>
              <a:off x="4557240" y="2217600"/>
              <a:ext cx="686880" cy="5713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583800">
              <a:off x="4709880" y="2103480"/>
              <a:ext cx="524520" cy="227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62160" y="2446200"/>
              <a:ext cx="77400" cy="113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0800000">
              <a:off x="4329360" y="2788920"/>
              <a:ext cx="1209600" cy="914040"/>
            </a:xfrm>
            <a:custGeom>
              <a:avLst/>
              <a:gdLst>
                <a:gd name="textAreaLeft" fmla="*/ 376560 w 1209600"/>
                <a:gd name="textAreaRight" fmla="*/ 833040 w 1209600"/>
                <a:gd name="textAreaTop" fmla="*/ 284400 h 914040"/>
                <a:gd name="textAreaBottom" fmla="*/ 6296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646" y="21600"/>
                  </a:lnTo>
                  <a:lnTo>
                    <a:pt x="8954" y="216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100400" y="2789280"/>
              <a:ext cx="76248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14440" y="2789280"/>
              <a:ext cx="60948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62160" y="3703320"/>
              <a:ext cx="14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440" y="3703320"/>
              <a:ext cx="1440" cy="34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9880" y="3932280"/>
              <a:ext cx="152280" cy="11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14440" y="3932280"/>
              <a:ext cx="152280" cy="113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347560" y="4274640"/>
              <a:ext cx="106740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38120" y="4160160"/>
              <a:ext cx="68580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100400" y="4160160"/>
              <a:ext cx="83736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14240" y="4275000"/>
              <a:ext cx="6858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623920" y="4274640"/>
              <a:ext cx="609120" cy="57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71240" y="4960440"/>
              <a:ext cx="15192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157080" y="4160160"/>
              <a:ext cx="152280" cy="11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4862160" y="4046400"/>
              <a:ext cx="15192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3336840" y="4160880"/>
              <a:ext cx="153000" cy="11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548320" y="4731840"/>
              <a:ext cx="151920" cy="11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023000" y="4731840"/>
              <a:ext cx="15228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8:27:10Z</dcterms:created>
  <dc:creator>Власка</dc:creator>
  <dc:description/>
  <dc:language>en-US</dc:language>
  <cp:lastModifiedBy>Власка</cp:lastModifiedBy>
  <dcterms:modified xsi:type="dcterms:W3CDTF">2008-02-25T10:41:23Z</dcterms:modified>
  <cp:revision>4</cp:revision>
  <dc:subject/>
  <dc:title>Тема:</dc:title>
</cp:coreProperties>
</file>