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5C5-A968-4C11-B34F-28CEF090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38E-35F8-48DC-8576-96BD449B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E37-AF79-4A65-85C6-8266A33F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29C-DB40-4C22-84FC-0628D5B4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876B-2D7D-40B3-9858-B85EE4F1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4074-2C0F-4999-9727-D85CCB62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D063-C146-4CC6-97A8-46A24DC8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1B89-DDB6-4BDE-977B-184DEAF0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0854-BCD5-42CF-ACC6-286D5F83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F970-01DC-4B24-A085-4BFABCAE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DD6D-2A79-496C-BB5E-F81F65F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AF4-330E-49BD-AF47-82F43BEA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E0C5-1A76-43CE-9F3B-C2463F8E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F179-DA9E-4E0B-967E-168B5B5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D70F-064B-40E1-8ADD-E58BBAD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591E-4171-4F34-B37E-47C18344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7462-DA5A-4705-A064-772C0F77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CD3E-D7D2-486D-9B8E-CA421D26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86B5-D439-46E8-894A-D44339CF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6E44-BFF8-4D3D-836A-72F3B33A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CCE6-EFBE-49DF-BAC6-32382C73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36BB-B23C-4E00-8BE7-64EAD0D1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BBE-CC2A-49B3-B585-50D919A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0759-97EE-4510-8139-573F93CF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5A36-9EA9-4F76-9B82-0FB977C3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178A2-7E9F-4BBB-B0B0-AB093418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3511-B93E-4151-8BFC-EFD7BF5C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237A8-8198-4F70-9FBF-7D9E5078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B6F26-8366-45EA-BA10-28DBFFD3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984A-57B8-4EAE-8F00-E90AF8FC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13B1-04FD-44BE-ACC1-F0CB52B3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6C78-EE14-4F8D-97F9-5F54402C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2FE1A-3BA0-4CF7-A740-16ED2523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68C-1FC3-4BE4-9DC5-8B4B87C1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3720-2D73-4170-B7E6-4341E66E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D5989-FE6F-401E-85B5-1B183024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9A72-C0FD-4125-AE32-E85B41AD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A047-F672-4D0E-AE33-8C2341C6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A982-8A97-47D5-949C-F4CB13F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9333-28CD-4423-8BE8-FC39919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50BD-5486-49FE-BFF6-6F74FB7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89E0-2C77-43B5-B6DB-93678D6B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01AE-892B-4E6D-8545-E75C5CA5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6126E-63CF-4D08-93DE-C929AE62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B2A-DCE7-4795-AD95-6FB44F4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D625-0E77-4241-BDFF-236AA867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17EB-BF86-479F-A97F-CFAD8C4A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6FC7-3B05-4FDE-BFFA-6051A073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9E057-A98F-447F-8637-1E9B18AA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00FD0-164A-4504-A545-3D5EE97F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1695D-F2A0-4131-9BD4-B1D5778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C8BC-3A58-4EB5-862C-B7F42033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295B5-A97B-4E16-AD81-1A160CA9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4399-A44F-4E31-A3B4-AA5B184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AD21A-69D1-43FF-8DAA-F683395B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BC7-5CCC-4275-848C-2728F3D2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FA274-9457-4CF1-BF5B-418E1C4B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7C3-0FA6-4AAA-BA64-7C077225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A7A-C9DF-4D36-9849-E0BA06D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1DF-91CF-458B-9B7C-607186F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B785-43E6-4371-B8CF-3935C6BDB7F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330F-D231-4026-9AF3-48BD43BE32C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4470-61A7-441F-949B-3814D8872E1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6C2C-1D3D-4DC6-B16F-9AD0C310A77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12AA-4FA2-4EB7-A1F4-C5AB637406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ервая помощь утопающему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1928880" y="2571840"/>
            <a:ext cx="5400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785880" y="1620720"/>
            <a:ext cx="7261200" cy="33958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2805480" y="785880"/>
            <a:ext cx="35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ды уто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Виды утопления.mp3" descr=""/>
          <p:cNvPicPr/>
          <p:nvPr/>
        </p:nvPicPr>
        <p:blipFill>
          <a:blip r:embed="rId2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зна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Содержимое 3" descr=""/>
          <p:cNvPicPr/>
          <p:nvPr/>
        </p:nvPicPr>
        <p:blipFill>
          <a:blip r:embed="rId1"/>
          <a:stretch/>
        </p:blipFill>
        <p:spPr>
          <a:xfrm>
            <a:off x="487440" y="450720"/>
            <a:ext cx="82231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60520" y="317520"/>
            <a:ext cx="8162640" cy="6369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1285920" y="357120"/>
            <a:ext cx="6286320" cy="914400"/>
          </a:xfrm>
          <a:prstGeom prst="rect">
            <a:avLst/>
          </a:prstGeom>
          <a:solidFill>
            <a:srgbClr val="3b6431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ая помощь утопаю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C:\Documents and Settings\Админ\Рабочий стол\6 класс\13утопающий\Виды утопления.JPG"/>
          <p:cNvPicPr/>
          <p:nvPr/>
        </p:nvPicPr>
        <p:blipFill>
          <a:blip r:embed="rId1"/>
          <a:stretch/>
        </p:blipFill>
        <p:spPr>
          <a:xfrm>
            <a:off x="285840" y="428760"/>
            <a:ext cx="86738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ани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Gosha_1.avi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667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Друзья - шестиклассники отдыхали в летнем лагере. В день Нептуна они скинули в речку своего любимого вожатого Витю Топорика. Не знали ребята, что он не умеет плавать. Вожатый, пуская пузыри, скрылся под водой. Мальчишки вытащили Витю на берег. Но как привести его в чувств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А. Подержать под носом нашатырный спир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Verdana"/>
              </a:rPr>
              <a:t>Б. Положить Витю животом через колено, чтобы вылить воду из лёгких и сделать искусственное дых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В. Смазать пятки йодом, а если не поможет – пощекот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Verdana"/>
              </a:rPr>
              <a:t>Г. Оттащить в лагерный медпунк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Стрелка вправо 4"/>
          <p:cNvSpPr/>
          <p:nvPr/>
        </p:nvSpPr>
        <p:spPr>
          <a:xfrm>
            <a:off x="500040" y="2500200"/>
            <a:ext cx="406440" cy="285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783f04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3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18T20:10:58Z</dcterms:modified>
  <cp:revision>5</cp:revision>
  <dc:subject/>
  <dc:title>Первая помощь утопающему</dc:title>
</cp:coreProperties>
</file>