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1B2-603B-4724-B01F-B3BF3A43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D6E-9E44-4E3D-B798-2693BDF2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C7E-4887-463E-9D3C-3CCAE3C7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246-F838-4527-A78B-F48C2BA2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8D0C-FCD5-4821-A623-FF5F9453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5736-571F-4D79-B3C0-4982FD62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283B-69EF-4927-BD2E-D245A3C7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1F87-BD05-4774-B972-5A819743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C8F3-6D4C-4999-8EC0-A333013C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A776-EEC7-41EF-9F6D-396E6A59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7C6D-A72C-4FDC-BB34-CC79BF5E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C5A-A905-4FFD-8228-8E6BF5A4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E454-E7F0-475C-BC16-D56EC70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33DD-A2FE-4D4E-99A5-95DC238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0162-C858-4DA1-9B95-F68D00EC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4D86-2A04-461D-889F-DC26A2A1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F882-0BAF-4CE1-AD15-7F31912D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8220-630F-40FB-A851-C3842AFD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565C-AA54-45A4-A7E9-1560BC8A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8081-EC1A-407E-90A5-329C1D9D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F4FC-356A-4EA8-80D3-89A5CF00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5CD1-00DB-46B0-9D95-E74873C8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DA2-CAA0-4DC8-B9C6-6D9151C2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8B16-DEFE-4771-915E-8C7CBF58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CBB2-0CB4-49B7-AAFC-DCE0DBC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8270-BDFC-42DB-83C5-16BD499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391B-8D95-4634-94BC-18E304B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FDBD-36E0-4EDB-B490-B4FB006D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C97D-2E06-44FB-A024-2A36F7C4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EDEA-91E1-4CD1-94DF-52347E65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EB98-239C-4DA0-AA70-885DC14E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4E23B-5B01-4896-8458-0FFC5D1A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CDF72-1045-43B2-8D2D-A370B51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EBA-774A-4AD5-B971-DF8DA7D6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E480-C477-4D74-8481-D9E95CA9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78956-393B-40DE-BEF2-BCAE8A07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AAD8E-36BD-4875-884D-F9239DD0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EA7B-D503-4E44-8BEB-66998751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81E3F-DFBA-48ED-8696-EEAD81EB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940E-459C-4CF6-AD42-04B45EE9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1DEA-F4DF-44EE-8A6A-613B812A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2926-2F62-4241-8819-493D609B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01C84-B236-4EAA-9D5B-26C606B7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4C553-4DE2-4703-B949-5A9BAFE9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037-433B-47B5-9477-C820CB3E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A6EA1-20B2-401D-B1C7-044A0185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D6981-2CBA-4690-BECA-171A01AB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68E64-D3DA-46DB-9F1A-3142838A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E9352-7C5B-4096-8BD6-BF6AA1EA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3948-F224-49EF-8E0E-E4A4FF13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4EB9B-4187-4F45-B49C-95CC28D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6B9D4-83C0-4858-9702-54A3A23B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14B09-8D93-4AFD-90AE-EBB95BC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BFA9C-12DB-4975-8E18-15B6EE17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E5439-2B26-4718-81C5-59ADF2D3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45E-8F6D-459F-B41D-6D0C47A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E75D-9777-42D6-85E7-4EB03AA5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F39-9ECE-4F42-9353-6C52409A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F37-6075-4CD5-A9EF-A44ADFCB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0CA-8711-4C13-A3BA-8472420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8A09-D5CB-449F-9E8C-946F0C636F2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1E56-6D2D-49AF-BA4E-FAA4D70D823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4FD3-D1E5-4878-B924-9A8EA7647F3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F083-B776-4FC3-A90A-9A4ED6D2504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9496-9CB3-497E-BAB8-8E0DDC28CDC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ервая помощь утопающему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1928880" y="2571840"/>
            <a:ext cx="5400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785880" y="1620720"/>
            <a:ext cx="7261200" cy="33958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2805480" y="785880"/>
            <a:ext cx="35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ды уто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Виды утопления.mp3" descr=""/>
          <p:cNvPicPr/>
          <p:nvPr/>
        </p:nvPicPr>
        <p:blipFill>
          <a:blip r:embed="rId2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зна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Содержимое 3" descr=""/>
          <p:cNvPicPr/>
          <p:nvPr/>
        </p:nvPicPr>
        <p:blipFill>
          <a:blip r:embed="rId1"/>
          <a:stretch/>
        </p:blipFill>
        <p:spPr>
          <a:xfrm>
            <a:off x="487440" y="450720"/>
            <a:ext cx="82231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60520" y="317520"/>
            <a:ext cx="8162640" cy="6369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1285920" y="357120"/>
            <a:ext cx="6286320" cy="914400"/>
          </a:xfrm>
          <a:prstGeom prst="rect">
            <a:avLst/>
          </a:prstGeom>
          <a:solidFill>
            <a:srgbClr val="3b6431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ая помощь утопаю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2" descr="C:\Documents and Settings\Админ\Рабочий стол\6 класс\13утопающий\Виды утопления.JPG"/>
          <p:cNvPicPr/>
          <p:nvPr/>
        </p:nvPicPr>
        <p:blipFill>
          <a:blip r:embed="rId1"/>
          <a:stretch/>
        </p:blipFill>
        <p:spPr>
          <a:xfrm>
            <a:off x="285840" y="428760"/>
            <a:ext cx="86738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ани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Gosha_1.avi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667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221"/>
                </a:solidFill>
                <a:latin typeface="Verdana"/>
              </a:rPr>
              <a:t>Друзья - шестиклассники отдыхали в летнем лагере. В день Нептуна они скинули в речку своего любимого вожатого Витю Топорика. Не знали ребята, что он не умеет плавать. Вожатый, пуская пузыри, скрылся под водой. Мальчишки вытащили Витю на берег. Но как привести его в чувств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221"/>
                </a:solidFill>
                <a:latin typeface="Verdana"/>
              </a:rPr>
              <a:t>А. Подержать под носом нашатырный спир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Verdana"/>
              </a:rPr>
              <a:t>Б. Положить Витю животом через колено, чтобы вылить воду из лёгких и сделать искусственное дых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221"/>
                </a:solidFill>
                <a:latin typeface="Verdana"/>
              </a:rPr>
              <a:t>В. Смазать пятки йодом, а если не поможет – пощекот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Verdana"/>
              </a:rPr>
              <a:t>Г. Оттащить в лагерный медпунк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Стрелка вправо 4"/>
          <p:cNvSpPr/>
          <p:nvPr/>
        </p:nvSpPr>
        <p:spPr>
          <a:xfrm>
            <a:off x="500040" y="2500200"/>
            <a:ext cx="406440" cy="285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783f04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3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18T20:10:58Z</dcterms:modified>
  <cp:revision>5</cp:revision>
  <dc:subject/>
  <dc:title>Первая помощь утопающему</dc:title>
</cp:coreProperties>
</file>