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DD8-B7C6-492E-A99E-D5FEB0ED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E31-53DD-4178-ACF2-27CCD377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2F3-9CEA-4E65-873F-29139E2B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73F-23A8-400F-A30B-F48414C2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AF35-8CC9-490D-ADEB-1AEE1B83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F8F7-18CA-43D8-A49D-C85836F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D13-F800-40C1-9A2F-70BDB353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31B0-BFEC-4962-8126-9DC8F8D9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21C-6495-428A-8683-6C9F67E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C44-A472-4DEA-BB76-F5BA488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0401-2BE9-4480-8F2E-AC13CBC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30D-2E44-4FDB-B4A3-BD52286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C82C-DE76-4852-BC19-33F8D08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D07-7188-4D0A-A203-BDEC8A05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DE0E-CB99-4B7B-9015-2F0B2658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B03C-5264-4338-A6CF-D714D7F6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E1AB-6A11-459C-9D3C-621D3B56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7F31-E2F9-4CD9-8B38-E2ACE121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AB03-56CB-4D3F-A463-D3E44ADC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2792-B37C-4EDD-B4E3-E0153C31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B4FF-5318-4224-86E5-2319C0A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FCCE-57D6-4CED-964D-9A304EC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5175-75A5-44BF-927F-87FB7D23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B55D-3899-4510-A293-FECD45C5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4929C-805B-4A56-BBF6-C3ADCCD2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64CC-E341-4E74-A2A2-953E99B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6D39-DE43-40E1-AB67-03BF1A1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F2BD-58C1-40F4-B673-C83F90E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9B37-1FAD-41C9-999B-EFD6332B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6DA7-2743-4AD2-B7EC-75830CFB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7FF18-D61C-477E-881A-5642A604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C632-3E78-4B4D-A0FF-48A46E8E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C4A2-06CE-4288-BBC5-5019F94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2B6-12DF-41E9-AC5F-CFEDECAA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CBB4-D72F-45FD-9A3C-09FEB01D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24D0-844A-4603-BB32-B808C8C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F6DF3-4B5B-4EB9-AD7A-0793EBE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C6A6-DD62-473F-B9E2-13EDC51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FE00F-994B-46C5-99B6-4A30F3F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CEE8-5D41-472F-9CCD-FFE8802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5B35D-3811-47EF-86ED-2C721C7C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F8DA-CDBE-471D-AD1B-224AC09F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1D83-C23E-455E-9CFA-ECE8DF02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07B72-770B-4C62-9548-DE23688B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00E-0E60-462A-B502-B0601D1A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5EFB-8553-4DA1-91F7-61E16D2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954EA-0B27-4EB4-A470-0554BABE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56777-8BF3-4AFE-B24A-2F22E211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E143-EC08-4771-A06A-C247E368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DB8D-4647-4600-A535-EA5608D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4B12-3C3C-4665-A6CB-239DA28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F92D-68BD-4F11-A509-68960F47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EA28C-07E2-4FDD-9CFF-2D59579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99E6-CB50-4D40-B767-9F9FD919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1DF9-D399-4FE0-9665-C20CC23D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F62-2377-4657-AE93-F969BE2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A65A-D25F-4E49-AA09-E55B9DE8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37C-D831-45BD-BB26-1B2A047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6D6-E3CC-4CDA-95F5-9B8537E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85C-9C92-4D9B-96D9-258B304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32D4-9810-46D9-9C7B-070ACFBB1EF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6FF9-35D2-4E8A-B4D6-A68A6B9E312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D95-5562-41E3-8EBC-F16CCD0C0C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5877-CEDA-4030-8B22-4B73D4AC08C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0AE-286E-40AD-9BF9-AAA04C83164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ервая помощь утопающему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1928880" y="2571840"/>
            <a:ext cx="5400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Содержимое 3" descr=""/>
          <p:cNvPicPr/>
          <p:nvPr/>
        </p:nvPicPr>
        <p:blipFill>
          <a:blip r:embed="rId1"/>
          <a:stretch/>
        </p:blipFill>
        <p:spPr>
          <a:xfrm>
            <a:off x="785880" y="1620720"/>
            <a:ext cx="7261200" cy="33958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805480" y="785880"/>
            <a:ext cx="35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ды уто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Виды утопления.mp3" descr=""/>
          <p:cNvPicPr/>
          <p:nvPr/>
        </p:nvPicPr>
        <p:blipFill>
          <a:blip r:embed="rId2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28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зна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Содержимое 3" descr=""/>
          <p:cNvPicPr/>
          <p:nvPr/>
        </p:nvPicPr>
        <p:blipFill>
          <a:blip r:embed="rId1"/>
          <a:stretch/>
        </p:blipFill>
        <p:spPr>
          <a:xfrm>
            <a:off x="487440" y="450720"/>
            <a:ext cx="82231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60520" y="317520"/>
            <a:ext cx="8162640" cy="6369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1285920" y="357120"/>
            <a:ext cx="6286320" cy="914400"/>
          </a:xfrm>
          <a:prstGeom prst="rect">
            <a:avLst/>
          </a:prstGeom>
          <a:solidFill>
            <a:srgbClr val="3b6431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ая помощь утопа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2" descr="C:\Documents and Settings\Админ\Рабочий стол\6 класс\13утопающий\Виды утопления.JPG"/>
          <p:cNvPicPr/>
          <p:nvPr/>
        </p:nvPicPr>
        <p:blipFill>
          <a:blip r:embed="rId1"/>
          <a:stretch/>
        </p:blipFill>
        <p:spPr>
          <a:xfrm>
            <a:off x="285840" y="428760"/>
            <a:ext cx="86738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ани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Gosha_1.avi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667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Друзья - шестиклассники отдыхали в летнем лагере. В день Нептуна они скинули в речку своего любимого вожатого Витю Топорика. Не знали ребята, что он не умеет плавать. Вожатый, пуская пузыри, скрылся под водой. Мальчишки вытащили Витю на берег. Но как привести его в чувств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А. Подержать под носом нашатырный спир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Б. Положить Витю животом через колено, чтобы вылить воду из лёгких и сделать искусственное дых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74221"/>
                </a:solidFill>
                <a:latin typeface="Verdana"/>
              </a:rPr>
              <a:t>В. Смазать пятки йодом, а если не поможет – пощекот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Verdana"/>
              </a:rPr>
              <a:t>Г. Оттащить в лагерный медпунк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Стрелка вправо 4"/>
          <p:cNvSpPr/>
          <p:nvPr/>
        </p:nvSpPr>
        <p:spPr>
          <a:xfrm>
            <a:off x="500040" y="2500200"/>
            <a:ext cx="406440" cy="285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783f04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18T20:10:58Z</dcterms:modified>
  <cp:revision>5</cp:revision>
  <dc:subject/>
  <dc:title>Первая помощь утопающему</dc:title>
</cp:coreProperties>
</file>