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93D-2CD3-48E9-9FEA-7AFE66BB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0CD-3D95-40E4-9758-2BF51054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7CC-5A0B-4D2E-A347-8B781751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F6E-30D2-4CB6-9BAC-9857A053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F82-E1D6-4029-85A9-9CD5C5E0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19D-299A-4F61-AA54-DCA4C419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8EB-AE55-4DDD-8CB5-4FDA1F38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7E9-9375-4DA6-9AFD-E1B42A93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29E-6DB8-450E-923B-D840BA0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3F2-20D4-4125-BBA6-26872FB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627-5BB1-4B48-A1A5-B9650866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376-69F2-4BE0-A368-3BDAF807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CD84-C008-4730-A089-923DEB973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Georgia"/>
              </a:rPr>
              <a:t>«Перпендикулярные  прямые  в  пространств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Georgia"/>
              </a:rPr>
              <a:t>«Перпендикулярность  прямой  и  плоск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4800" y="1125360"/>
            <a:ext cx="25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 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680640" y="5734080"/>
            <a:ext cx="49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5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2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Что  такое  перпендикулярные  прямые  на 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Дано:  АВС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A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C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– параллелепипед,  угол  В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равен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  30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  Найдите  углы  между  прямыми  АВ  и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АВ  и  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parallelepiped"/>
          <p:cNvPicPr/>
          <p:nvPr/>
        </p:nvPicPr>
        <p:blipFill>
          <a:blip r:embed="rId1"/>
          <a:stretch/>
        </p:blipFill>
        <p:spPr>
          <a:xfrm>
            <a:off x="2771640" y="2276640"/>
            <a:ext cx="4184640" cy="4581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262944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565000" y="3141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49236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42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229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09372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565380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5589000" y="3357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3212640" y="5950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rc 27"/>
          <p:cNvSpPr/>
          <p:nvPr/>
        </p:nvSpPr>
        <p:spPr>
          <a:xfrm>
            <a:off x="3419640" y="5805360"/>
            <a:ext cx="360360" cy="590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25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35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Модель  к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1986120" y="2432160"/>
            <a:ext cx="14040" cy="23940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2000160" y="4856040"/>
            <a:ext cx="2338560" cy="11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1204920" y="4870440"/>
            <a:ext cx="795240" cy="7621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4635360" y="907920"/>
            <a:ext cx="426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Как  называю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ые  АВ  и  В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4194000" y="1844640"/>
            <a:ext cx="493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Найдите  угол 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ми  А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1187280" y="981000"/>
            <a:ext cx="7667640" cy="5516640"/>
          </a:xfrm>
          <a:prstGeom prst="irregularSeal1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В  простран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перпендикулярные  прям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могут  пересек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и  могут  скрещ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Рассмотрим  прямые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,  СС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cc00cc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"/>
          <p:cNvSpPr/>
          <p:nvPr/>
        </p:nvSpPr>
        <p:spPr>
          <a:xfrm>
            <a:off x="1986120" y="2432160"/>
            <a:ext cx="14040" cy="23940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2000160" y="4856040"/>
            <a:ext cx="2338560" cy="11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1"/>
          <p:cNvSpPr/>
          <p:nvPr/>
        </p:nvSpPr>
        <p:spPr>
          <a:xfrm>
            <a:off x="1204920" y="4870440"/>
            <a:ext cx="795240" cy="7621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4788000" y="1125360"/>
            <a:ext cx="403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1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‌ ‌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0"/>
              <p:cNvSpPr txBox="1"/>
              <p:nvPr/>
            </p:nvSpPr>
            <p:spPr>
              <a:xfrm>
                <a:off x="7524720" y="1341360"/>
                <a:ext cx="4096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" name="AutoShape 21"/>
          <p:cNvSpPr/>
          <p:nvPr/>
        </p:nvSpPr>
        <p:spPr>
          <a:xfrm>
            <a:off x="6659640" y="1916280"/>
            <a:ext cx="288720" cy="904680"/>
          </a:xfrm>
          <a:prstGeom prst="downArrow">
            <a:avLst>
              <a:gd name="adj1" fmla="val 50000"/>
              <a:gd name="adj2" fmla="val 7833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5580000" y="2852640"/>
            <a:ext cx="2425680" cy="719280"/>
          </a:xfrm>
          <a:prstGeom prst="rect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    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6659640" y="2997360"/>
                <a:ext cx="409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" name="AutoShape 25"/>
          <p:cNvSpPr/>
          <p:nvPr/>
        </p:nvSpPr>
        <p:spPr>
          <a:xfrm>
            <a:off x="611280" y="981000"/>
            <a:ext cx="8243640" cy="5516640"/>
          </a:xfrm>
          <a:prstGeom prst="irregularSeal1">
            <a:avLst/>
          </a:pr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Если  одна  из  паралл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х 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третьей прямой, то и друг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ая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 этой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8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8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Найдите  угол  между  прямой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прямыми  плоскости  (АВС):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АВ,  А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АС,  В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М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34100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49452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2172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75924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11600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1914480" y="2432160"/>
            <a:ext cx="14400" cy="239400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0"/>
          <p:cNvSpPr/>
          <p:nvPr/>
        </p:nvSpPr>
        <p:spPr>
          <a:xfrm>
            <a:off x="1928880" y="4856040"/>
            <a:ext cx="2338200" cy="11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1133640" y="4870440"/>
            <a:ext cx="795240" cy="7621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478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22208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21524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501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2"/>
          <p:cNvSpPr/>
          <p:nvPr/>
        </p:nvSpPr>
        <p:spPr>
          <a:xfrm>
            <a:off x="1131840" y="4848120"/>
            <a:ext cx="3149640" cy="798480"/>
          </a:xfrm>
          <a:prstGeom prst="pie">
            <a:avLst/>
          </a:pr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3"/>
          <p:cNvSpPr/>
          <p:nvPr/>
        </p:nvSpPr>
        <p:spPr>
          <a:xfrm>
            <a:off x="1930320" y="4862520"/>
            <a:ext cx="1552680" cy="784080"/>
          </a:xfrm>
          <a:prstGeom prst="pie">
            <a:avLst/>
          </a:pr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4"/>
          <p:cNvSpPr/>
          <p:nvPr/>
        </p:nvSpPr>
        <p:spPr>
          <a:xfrm>
            <a:off x="1566720" y="5210280"/>
            <a:ext cx="755640" cy="436320"/>
          </a:xfrm>
          <a:prstGeom prst="pie">
            <a:avLst/>
          </a:pr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2126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1117440" y="4941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5076720" y="4724280"/>
            <a:ext cx="1079640" cy="98604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6040"/>
              <a:gd name="textAreaBottom" fmla="*/ 761040 h 9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6732720" y="335772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9"/>
          <p:cNvSpPr/>
          <p:nvPr/>
        </p:nvSpPr>
        <p:spPr>
          <a:xfrm>
            <a:off x="5292720" y="242100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7524720" y="177336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7380360" y="501336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324000" y="981000"/>
            <a:ext cx="8530920" cy="5516640"/>
          </a:xfrm>
          <a:prstGeom prst="irregularSeal1">
            <a:avLst/>
          </a:prstGeom>
          <a:solidFill>
            <a:srgbClr val="d1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ая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ерпендикулярной  к 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если  она  перпендикулярна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любой  прямой,  леж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в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Теорема: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одна  из  двух  параллельных 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прямых  перпендикулярна  плоскости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то  и  другая  прямая  перпендикулярна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13744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рямая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араллельна   прямой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ерпендикулярна  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2700360" y="292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1" name="Freeform 8"/>
          <p:cNvSpPr/>
          <p:nvPr/>
        </p:nvSpPr>
        <p:spPr>
          <a:xfrm>
            <a:off x="3338640" y="3919680"/>
            <a:ext cx="4628880" cy="16970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6732720" y="285264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6732720" y="462600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6732720" y="561816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5435640" y="3284640"/>
            <a:ext cx="0" cy="1412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5435640" y="5589720"/>
            <a:ext cx="0" cy="10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5435640" y="472428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4211640" y="458136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43708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674244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399708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50"/>
                            </p:stCondLst>
                            <p:childTnLst>
                              <p:par>
                                <p:cTn id="7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4059360" y="1582560"/>
            <a:ext cx="1152360" cy="5616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2651040" y="25430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Freeform 8"/>
          <p:cNvSpPr/>
          <p:nvPr/>
        </p:nvSpPr>
        <p:spPr>
          <a:xfrm>
            <a:off x="1940040" y="3121200"/>
            <a:ext cx="5225760" cy="17413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"/>
          <p:cNvSpPr/>
          <p:nvPr/>
        </p:nvSpPr>
        <p:spPr>
          <a:xfrm>
            <a:off x="4869000" y="2075040"/>
            <a:ext cx="2880" cy="1596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4869000" y="384804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4869000" y="484020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564000" y="1989000"/>
            <a:ext cx="7920" cy="1930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H="1">
            <a:off x="3564000" y="4811760"/>
            <a:ext cx="7920" cy="164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3571920" y="394668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56364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86072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7"/>
          <p:cNvSpPr/>
          <p:nvPr/>
        </p:nvSpPr>
        <p:spPr>
          <a:xfrm>
            <a:off x="4788000" y="2565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4422600" y="1887480"/>
            <a:ext cx="624240" cy="2422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4248000" y="4295880"/>
            <a:ext cx="174600" cy="725400"/>
          </a:xfrm>
          <a:prstGeom prst="pie">
            <a:avLst/>
          </a:prstGeom>
          <a:noFill/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4000680" y="4834080"/>
            <a:ext cx="290160" cy="1160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4005720" y="5516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4059360" y="3149640"/>
            <a:ext cx="1160280" cy="166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4041720" y="1965240"/>
            <a:ext cx="804960" cy="28814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4892760" y="1608120"/>
            <a:ext cx="284040" cy="197316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9"/>
          <p:cNvSpPr/>
          <p:nvPr/>
        </p:nvSpPr>
        <p:spPr>
          <a:xfrm>
            <a:off x="25092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братная  теорема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две   прямые  перпендикулярны  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плоскости,  то  они  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4861080" y="2421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500544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ризнак  перпендикулярности  прямой  и 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прямая  перпендикулярна  к  двум  пересекающимся  прямым,  лежащим  в  плоскости,  то  она  перпендикулярна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"/>
          <p:cNvSpPr/>
          <p:nvPr/>
        </p:nvSpPr>
        <p:spPr>
          <a:xfrm>
            <a:off x="539640" y="4005360"/>
            <a:ext cx="8137800" cy="1920600"/>
          </a:xfrm>
          <a:prstGeom prst="pie">
            <a:avLst/>
          </a:prstGeom>
          <a:solidFill>
            <a:srgbClr val="cfffdf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3375000" y="2895480"/>
            <a:ext cx="1440" cy="19051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8"/>
          <p:cNvSpPr/>
          <p:nvPr/>
        </p:nvSpPr>
        <p:spPr>
          <a:xfrm>
            <a:off x="3359160" y="5973840"/>
            <a:ext cx="1440" cy="88416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3359160" y="4815000"/>
            <a:ext cx="15840" cy="1234800"/>
          </a:xfrm>
          <a:prstGeom prst="pie">
            <a:avLst/>
          </a:prstGeom>
          <a:noFill/>
          <a:ln w="381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06072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"/>
          <p:cNvSpPr/>
          <p:nvPr/>
        </p:nvSpPr>
        <p:spPr>
          <a:xfrm>
            <a:off x="1763640" y="4797360"/>
            <a:ext cx="4103640" cy="7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3"/>
          <p:cNvSpPr/>
          <p:nvPr/>
        </p:nvSpPr>
        <p:spPr>
          <a:xfrm>
            <a:off x="1371600" y="4005360"/>
            <a:ext cx="4495680" cy="1434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58144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050920" y="4292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2989800" y="432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8"/>
          <p:cNvSpPr/>
          <p:nvPr/>
        </p:nvSpPr>
        <p:spPr>
          <a:xfrm>
            <a:off x="1908000" y="4941720"/>
            <a:ext cx="990720" cy="64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702160" y="5084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20"/>
          <p:cNvSpPr/>
          <p:nvPr/>
        </p:nvSpPr>
        <p:spPr>
          <a:xfrm>
            <a:off x="2340000" y="4149720"/>
            <a:ext cx="2565360" cy="168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2412720" y="378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3276720" y="3284640"/>
            <a:ext cx="144360" cy="14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3276720" y="6308640"/>
            <a:ext cx="144360" cy="149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291816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918160" y="633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6"/>
          <p:cNvSpPr/>
          <p:nvPr/>
        </p:nvSpPr>
        <p:spPr>
          <a:xfrm>
            <a:off x="4427640" y="3933720"/>
            <a:ext cx="639720" cy="1919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7"/>
          <p:cNvSpPr/>
          <p:nvPr/>
        </p:nvSpPr>
        <p:spPr>
          <a:xfrm>
            <a:off x="4859280" y="4221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8"/>
          <p:cNvSpPr/>
          <p:nvPr/>
        </p:nvSpPr>
        <p:spPr>
          <a:xfrm>
            <a:off x="4643280" y="4797360"/>
            <a:ext cx="14472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427640" y="5445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79016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00580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2"/>
          <p:cNvSpPr/>
          <p:nvPr/>
        </p:nvSpPr>
        <p:spPr>
          <a:xfrm>
            <a:off x="4502880" y="515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3"/>
          <p:cNvSpPr/>
          <p:nvPr/>
        </p:nvSpPr>
        <p:spPr>
          <a:xfrm>
            <a:off x="3352680" y="3336840"/>
            <a:ext cx="1570320" cy="9763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6"/>
          <p:cNvSpPr/>
          <p:nvPr/>
        </p:nvSpPr>
        <p:spPr>
          <a:xfrm>
            <a:off x="3733920" y="4327560"/>
            <a:ext cx="1218960" cy="1569960"/>
          </a:xfrm>
          <a:prstGeom prst="pie">
            <a:avLst/>
          </a:pr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7"/>
          <p:cNvSpPr/>
          <p:nvPr/>
        </p:nvSpPr>
        <p:spPr>
          <a:xfrm>
            <a:off x="3368520" y="5775480"/>
            <a:ext cx="471600" cy="59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8"/>
          <p:cNvSpPr/>
          <p:nvPr/>
        </p:nvSpPr>
        <p:spPr>
          <a:xfrm>
            <a:off x="3368520" y="3382920"/>
            <a:ext cx="1371600" cy="1494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9"/>
          <p:cNvSpPr/>
          <p:nvPr/>
        </p:nvSpPr>
        <p:spPr>
          <a:xfrm>
            <a:off x="3368520" y="3368520"/>
            <a:ext cx="1143000" cy="2178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40"/>
          <p:cNvSpPr/>
          <p:nvPr/>
        </p:nvSpPr>
        <p:spPr>
          <a:xfrm>
            <a:off x="3336840" y="4876920"/>
            <a:ext cx="1357560" cy="150804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41"/>
          <p:cNvSpPr/>
          <p:nvPr/>
        </p:nvSpPr>
        <p:spPr>
          <a:xfrm>
            <a:off x="3322800" y="5546880"/>
            <a:ext cx="1172880" cy="8236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3"/>
          <p:cNvSpPr/>
          <p:nvPr/>
        </p:nvSpPr>
        <p:spPr>
          <a:xfrm>
            <a:off x="3368520" y="5883120"/>
            <a:ext cx="640080" cy="4572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9:36:08Z</dcterms:created>
  <dc:creator>Каратанова</dc:creator>
  <dc:description/>
  <dc:language>en-US</dc:language>
  <cp:lastModifiedBy>Николай</cp:lastModifiedBy>
  <dcterms:modified xsi:type="dcterms:W3CDTF">2013-04-01T10:53:42Z</dcterms:modified>
  <cp:revision>8</cp:revision>
  <dc:subject/>
  <dc:title>«Перпендикулярные  прямые  в  пространстве»</dc:title>
</cp:coreProperties>
</file>