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AC1-07D8-467A-A484-E385F9C2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8B3-1948-4137-AA39-4921F143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E5C-CCF4-4B01-968B-B767609F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239-249A-4E2D-AA96-5B3315E9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4ED-DEB7-4C18-9283-ADEFF475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802-2400-4039-8F2B-C9B7A099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30E-72CD-455F-881C-095E592B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19B-E859-487C-B152-5B81C651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C4A-052E-4626-83AD-4427CACB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F21-A323-4A7B-9E9B-D5D28A4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249-AB2D-48F6-AAD0-7A92E24C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048-86E7-4A12-8AB6-061974E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F6D8-7A40-443A-8068-241252E5C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e-ka.diary.ru/?favorite&amp;fgroup_id=0&amp;from=260" TargetMode="External"/><Relationship Id="rId2" Type="http://schemas.openxmlformats.org/officeDocument/2006/relationships/hyperlink" Target="http://eti.ru/pictures/wall/mou02.html" TargetMode="External"/><Relationship Id="rId3" Type="http://schemas.openxmlformats.org/officeDocument/2006/relationships/hyperlink" Target="http://paustovskiy.niv.ru/paustovskiy/family/fotografii.htm" TargetMode="External"/><Relationship Id="rId4" Type="http://schemas.openxmlformats.org/officeDocument/2006/relationships/hyperlink" Target="http://museum.tarusa.ru/main/index.phtml?m1.phtml" TargetMode="External"/><Relationship Id="rId5" Type="http://schemas.openxmlformats.org/officeDocument/2006/relationships/hyperlink" Target="http://read.ru/id/437996/" TargetMode="External"/><Relationship Id="rId6" Type="http://schemas.openxmlformats.org/officeDocument/2006/relationships/hyperlink" Target="http://www.labirint.ru/screenshot/goods/221079/29/" TargetMode="External"/><Relationship Id="rId7" Type="http://schemas.openxmlformats.org/officeDocument/2006/relationships/hyperlink" Target="http://www.labirint.ru/screenshot/goods/221079/32/" TargetMode="External"/><Relationship Id="rId8" Type="http://schemas.openxmlformats.org/officeDocument/2006/relationships/hyperlink" Target="http://www.textbook.ru/catalog/410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к литературного чтения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.Паустовский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«Жильцы старого до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89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Муниципаль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средняя общеобразовательная школа №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39640" y="4653000"/>
            <a:ext cx="7940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Автор: Кузьмин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Елена Николаевна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250920" y="404640"/>
            <a:ext cx="324000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се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50920" y="1341360"/>
            <a:ext cx="3240000" cy="57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зап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250920" y="220500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стальный взгл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250920" y="3357720"/>
            <a:ext cx="3240000" cy="863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рушитель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250920" y="443700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вёрд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250920" y="551664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ть как кошка с соба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4859280" y="5445000"/>
            <a:ext cx="396072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имательный, наблюдательный взгл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4716360" y="148428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лиган, проказ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4716360" y="2421000"/>
            <a:ext cx="3961080" cy="718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ыч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4788000" y="3357720"/>
            <a:ext cx="3960720" cy="718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оя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4788000" y="4365720"/>
            <a:ext cx="3960720" cy="718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ожиданно, в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4716360" y="40464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оянно воевать, руг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17"/>
          <p:cNvCxnSpPr>
            <a:endCxn id="86" idx="1"/>
          </p:cNvCxnSpPr>
          <p:nvPr/>
        </p:nvCxnSpPr>
        <p:spPr>
          <a:xfrm>
            <a:off x="3491280" y="1700280"/>
            <a:ext cx="1296360" cy="3024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9" name="Прямая со стрелкой 19"/>
          <p:cNvCxnSpPr>
            <a:endCxn id="84" idx="1"/>
          </p:cNvCxnSpPr>
          <p:nvPr/>
        </p:nvCxnSpPr>
        <p:spPr>
          <a:xfrm>
            <a:off x="3492360" y="620280"/>
            <a:ext cx="1224720" cy="21596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3562920" y="2781360"/>
            <a:ext cx="1152720" cy="29520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1" name="Прямая со стрелкой 23"/>
          <p:cNvCxnSpPr>
            <a:stCxn id="79" idx="3"/>
            <a:endCxn id="83" idx="1"/>
          </p:cNvCxnSpPr>
          <p:nvPr/>
        </p:nvCxnSpPr>
        <p:spPr>
          <a:xfrm flipV="1">
            <a:off x="3490920" y="1844280"/>
            <a:ext cx="1226160" cy="1945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2" name="Прямая со стрелкой 27"/>
          <p:cNvCxnSpPr/>
          <p:nvPr/>
        </p:nvCxnSpPr>
        <p:spPr>
          <a:xfrm flipV="1">
            <a:off x="3492360" y="3715920"/>
            <a:ext cx="1224720" cy="144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3" name="Прямая со стрелкой 30"/>
          <p:cNvCxnSpPr/>
          <p:nvPr/>
        </p:nvCxnSpPr>
        <p:spPr>
          <a:xfrm flipV="1">
            <a:off x="3492360" y="1052280"/>
            <a:ext cx="1224720" cy="4961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4" name="Прямая со стрелкой 33"/>
          <p:cNvCxnSpPr/>
          <p:nvPr/>
        </p:nvCxnSpPr>
        <p:spPr>
          <a:xfrm flipV="1">
            <a:off x="3419640" y="1844280"/>
            <a:ext cx="1297440" cy="1937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бъясни значение клич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4475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Кот  Степан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468360" y="3789360"/>
            <a:ext cx="4824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Такса Фунтик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1655640" y="2565360"/>
            <a:ext cx="748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важное, полное им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одержимое 2"/>
          <p:cNvSpPr/>
          <p:nvPr/>
        </p:nvSpPr>
        <p:spPr>
          <a:xfrm>
            <a:off x="1042920" y="494172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уменьшительное от слова «фунт» (1 фунт = 400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равнит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холод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страх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негодован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любопытст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50920" y="404640"/>
            <a:ext cx="324000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мехну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250920" y="126828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рчавая т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50920" y="234936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тух разъяр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50920" y="350028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отчаянным воп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50920" y="458136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душина под до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4859280" y="5732640"/>
            <a:ext cx="3960720" cy="720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иже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2"/>
          <p:cNvSpPr/>
          <p:nvPr/>
        </p:nvSpPr>
        <p:spPr>
          <a:xfrm>
            <a:off x="4716360" y="148428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пренебрежением, высок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4788000" y="2492280"/>
            <a:ext cx="396072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ло   смеяться, насмешл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788000" y="3357720"/>
            <a:ext cx="3960720" cy="1150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рстие для свободного доступа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4788000" y="4653000"/>
            <a:ext cx="396072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дрявая, вьющая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6"/>
          <p:cNvSpPr/>
          <p:nvPr/>
        </p:nvSpPr>
        <p:spPr>
          <a:xfrm>
            <a:off x="4716360" y="40464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  в сильном гн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19"/>
          <p:cNvCxnSpPr>
            <a:endCxn id="109" idx="1"/>
          </p:cNvCxnSpPr>
          <p:nvPr/>
        </p:nvCxnSpPr>
        <p:spPr>
          <a:xfrm>
            <a:off x="3564000" y="691920"/>
            <a:ext cx="1224720" cy="216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14" name="Прямоугольник 21"/>
          <p:cNvSpPr/>
          <p:nvPr/>
        </p:nvSpPr>
        <p:spPr>
          <a:xfrm>
            <a:off x="250920" y="566100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швырнул с от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24"/>
          <p:cNvCxnSpPr/>
          <p:nvPr/>
        </p:nvCxnSpPr>
        <p:spPr>
          <a:xfrm>
            <a:off x="3491280" y="1700280"/>
            <a:ext cx="1296360" cy="3169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6" name="Прямая со стрелкой 26"/>
          <p:cNvCxnSpPr/>
          <p:nvPr/>
        </p:nvCxnSpPr>
        <p:spPr>
          <a:xfrm flipV="1">
            <a:off x="3492360" y="1124640"/>
            <a:ext cx="1224720" cy="17996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7" name="Прямая со стрелкой 32"/>
          <p:cNvCxnSpPr>
            <a:endCxn id="107" idx="1"/>
          </p:cNvCxnSpPr>
          <p:nvPr/>
        </p:nvCxnSpPr>
        <p:spPr>
          <a:xfrm>
            <a:off x="3491280" y="4076280"/>
            <a:ext cx="1367640" cy="201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8" name="Прямая со стрелкой 35"/>
          <p:cNvCxnSpPr>
            <a:endCxn id="110" idx="1"/>
          </p:cNvCxnSpPr>
          <p:nvPr/>
        </p:nvCxnSpPr>
        <p:spPr>
          <a:xfrm flipV="1">
            <a:off x="3492000" y="3933000"/>
            <a:ext cx="1296360" cy="1080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9" name="Прямая со стрелкой 39"/>
          <p:cNvCxnSpPr/>
          <p:nvPr/>
        </p:nvCxnSpPr>
        <p:spPr>
          <a:xfrm flipV="1">
            <a:off x="3419640" y="2204640"/>
            <a:ext cx="1297440" cy="4393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чём сходств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3640" y="1915920"/>
            <a:ext cx="37800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300" spc="-1" strike="noStrike">
                <a:solidFill>
                  <a:srgbClr val="ffffff"/>
                </a:solidFill>
                <a:latin typeface="Calibri"/>
              </a:rPr>
              <a:t>Гадкий утёнок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916440" cy="2519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980640" y="4292640"/>
            <a:ext cx="189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Фун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14840" t="34883" r="13081" b="4642"/>
          <a:stretch/>
        </p:blipFill>
        <p:spPr>
          <a:xfrm>
            <a:off x="5076720" y="3068640"/>
            <a:ext cx="3327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ение 3-ей части 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добрать загадки о героях рассказ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2" descr=""/>
          <p:cNvPicPr/>
          <p:nvPr/>
        </p:nvPicPr>
        <p:blipFill>
          <a:blip r:embed="rId1"/>
          <a:stretch/>
        </p:blipFill>
        <p:spPr>
          <a:xfrm>
            <a:off x="390600" y="493560"/>
            <a:ext cx="82468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Ссылки на использованный материал в през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e-ka.diary.ru/?favorite&amp;fgroup_id=0&amp;from=2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ti.ru/pictures/wall/mou02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austovskiy.niv.ru/paustovskiy/family/fotografii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useum.tarusa.ru/main/index.phtml?m1.p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read.ru/id/437996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labirint.ru/screenshot/goods/221079/29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abirint.ru/screenshot/goods/221079/32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textbook.ru/catalog/4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community.livejournal.com/kid_home_lib/32097.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www.libex.ru/dimg/8c3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imc.rkc-74.ru/dlrstore/2/2d0a7135-a9b6-faf2-61ef-5e20fd5ded95/0000267G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live4fun.ru/joke/303677/galle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www.blueroebuck.com/hen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rcio.pnzgu.ru/personal/43/3/6/v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skarb.shop.by/403/?page_size=10&amp;page_id=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www.xxlbook.ru/offerlab136089.asp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лан рассказа Б. Емельянова « Игр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лава сама постучалась к нему в воро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2. Игра становится жизнью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3. Мы тимуровцы. Мы делаем своё дел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360" y="1628640"/>
            <a:ext cx="5481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Устный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рассказ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о коте- ворю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Константин Паустов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3138480" cy="49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309564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3280" y="429228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Из рассказа К.Паустовского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«Колотый саха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60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« Нет хуже, когда у человека душа сухая. Вянет от таких жизнь, как трава от осенней рос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Сухая душа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56000" y="3933360"/>
            <a:ext cx="382608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равнодушн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539640" y="1844640"/>
            <a:ext cx="382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ёрств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611280" y="5229360"/>
            <a:ext cx="3827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безразлич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одержимое 2"/>
          <p:cNvSpPr/>
          <p:nvPr/>
        </p:nvSpPr>
        <p:spPr>
          <a:xfrm>
            <a:off x="4788000" y="184464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утк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539640" y="3068640"/>
            <a:ext cx="382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5940360" y="544500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богат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1835280" y="30686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жив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одержимое 2"/>
          <p:cNvSpPr/>
          <p:nvPr/>
        </p:nvSpPr>
        <p:spPr>
          <a:xfrm>
            <a:off x="900000" y="765000"/>
            <a:ext cx="309564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чутк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539640" y="3068640"/>
            <a:ext cx="382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826920" y="4941720"/>
            <a:ext cx="302436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бога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826920" y="2852640"/>
            <a:ext cx="27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живая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889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-42840" y="901800"/>
            <a:ext cx="9478800" cy="2944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1763640" y="47628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Константин Паустовск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227640" y="5229360"/>
            <a:ext cx="2081160" cy="133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1582560" cy="158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rcRect l="48815" t="0" r="6155" b="19044"/>
          <a:stretch/>
        </p:blipFill>
        <p:spPr>
          <a:xfrm>
            <a:off x="6875640" y="263700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539640" y="4581360"/>
            <a:ext cx="1354320" cy="157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6"/>
          <a:stretch/>
        </p:blipFill>
        <p:spPr>
          <a:xfrm>
            <a:off x="2411280" y="4581360"/>
            <a:ext cx="164484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7"/>
          <a:stretch/>
        </p:blipFill>
        <p:spPr>
          <a:xfrm>
            <a:off x="4356000" y="3860640"/>
            <a:ext cx="15955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у котика у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Удивительной кра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за смелы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убки бел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ыйдет котя в огород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полошиться весь народ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 петух, и кур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 деревенской ул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7:29:31Z</dcterms:created>
  <dc:creator>WinStyle</dc:creator>
  <dc:description/>
  <dc:language>en-US</dc:language>
  <cp:lastModifiedBy>WinStyle</cp:lastModifiedBy>
  <dcterms:modified xsi:type="dcterms:W3CDTF">2010-10-15T02:28:50Z</dcterms:modified>
  <cp:revision>14</cp:revision>
  <dc:subject/>
  <dc:title>Слайд 1</dc:title>
</cp:coreProperties>
</file>