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AC3-610C-4AFB-8AA3-4EDFA222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8D6-0DE2-4B67-95D1-274292B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C46-41AA-4D88-B7B0-76D22781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B28-CBAE-447D-95BE-0F0B05E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F95-6A2E-44F4-BC86-CADE3C20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922-E862-406F-A2ED-F350079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320-4B0F-4EB7-BD55-C95DB72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6BC-1412-4867-837F-C53570E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BA5-37CA-4406-9EF4-99671C2B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0C6-BEC2-4387-9476-ACC383E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CF7-B5D6-46D8-B3C2-2B004A1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8BE-7F1D-4FC6-820A-886B2ED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A94C-2E0C-45EC-ACAA-08D535F23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e-ka.diary.ru/?favorite&amp;fgroup_id=0&amp;from=260" TargetMode="External"/><Relationship Id="rId2" Type="http://schemas.openxmlformats.org/officeDocument/2006/relationships/hyperlink" Target="http://eti.ru/pictures/wall/mou02.html" TargetMode="External"/><Relationship Id="rId3" Type="http://schemas.openxmlformats.org/officeDocument/2006/relationships/hyperlink" Target="http://paustovskiy.niv.ru/paustovskiy/family/fotografii.htm" TargetMode="External"/><Relationship Id="rId4" Type="http://schemas.openxmlformats.org/officeDocument/2006/relationships/hyperlink" Target="http://museum.tarusa.ru/main/index.phtml?m1.phtml" TargetMode="External"/><Relationship Id="rId5" Type="http://schemas.openxmlformats.org/officeDocument/2006/relationships/hyperlink" Target="http://read.ru/id/437996/" TargetMode="External"/><Relationship Id="rId6" Type="http://schemas.openxmlformats.org/officeDocument/2006/relationships/hyperlink" Target="http://www.labirint.ru/screenshot/goods/221079/29/" TargetMode="External"/><Relationship Id="rId7" Type="http://schemas.openxmlformats.org/officeDocument/2006/relationships/hyperlink" Target="http://www.labirint.ru/screenshot/goods/221079/32/" TargetMode="External"/><Relationship Id="rId8" Type="http://schemas.openxmlformats.org/officeDocument/2006/relationships/hyperlink" Target="http://www.textbook.ru/catalog/410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.Паустовски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Жильцы старого до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Муниципаль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средняя общеобразовательная школа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39640" y="4653000"/>
            <a:ext cx="7940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Автор: Кузьмин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Елена Николаевна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1341360"/>
            <a:ext cx="3240000" cy="57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зап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50920" y="2205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тальн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250920" y="3357720"/>
            <a:ext cx="3240000" cy="863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рушитель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250920" y="4437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вёрд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920" y="551664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ь как кошка с соб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4859280" y="5445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имательный, наблюдательный взгл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лиган, проказ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4716360" y="2421000"/>
            <a:ext cx="396108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4788000" y="3357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788000" y="4365720"/>
            <a:ext cx="3960720" cy="718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ожиданно, в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оянно воевать, руг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17"/>
          <p:cNvCxnSpPr>
            <a:endCxn id="86" idx="1"/>
          </p:cNvCxnSpPr>
          <p:nvPr/>
        </p:nvCxnSpPr>
        <p:spPr>
          <a:xfrm>
            <a:off x="3491280" y="1700280"/>
            <a:ext cx="1296360" cy="30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9" name="Прямая со стрелкой 19"/>
          <p:cNvCxnSpPr>
            <a:endCxn id="84" idx="1"/>
          </p:cNvCxnSpPr>
          <p:nvPr/>
        </p:nvCxnSpPr>
        <p:spPr>
          <a:xfrm>
            <a:off x="3492360" y="620280"/>
            <a:ext cx="1224720" cy="215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3562920" y="2781360"/>
            <a:ext cx="1152720" cy="2952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1" name="Прямая со стрелкой 23"/>
          <p:cNvCxnSpPr>
            <a:stCxn id="79" idx="3"/>
            <a:endCxn id="83" idx="1"/>
          </p:cNvCxnSpPr>
          <p:nvPr/>
        </p:nvCxnSpPr>
        <p:spPr>
          <a:xfrm flipV="1">
            <a:off x="3490920" y="1844280"/>
            <a:ext cx="1226160" cy="1945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2" name="Прямая со стрелкой 27"/>
          <p:cNvCxnSpPr/>
          <p:nvPr/>
        </p:nvCxnSpPr>
        <p:spPr>
          <a:xfrm flipV="1">
            <a:off x="3492360" y="3715920"/>
            <a:ext cx="1224720" cy="144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Прямая со стрелкой 30"/>
          <p:cNvCxnSpPr/>
          <p:nvPr/>
        </p:nvCxnSpPr>
        <p:spPr>
          <a:xfrm flipV="1">
            <a:off x="3492360" y="1052280"/>
            <a:ext cx="1224720" cy="4961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Прямая со стрелкой 33"/>
          <p:cNvCxnSpPr/>
          <p:nvPr/>
        </p:nvCxnSpPr>
        <p:spPr>
          <a:xfrm flipV="1">
            <a:off x="3419640" y="1844280"/>
            <a:ext cx="1297440" cy="1937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ъясни значение кли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4475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Кот  Степан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468360" y="3789360"/>
            <a:ext cx="482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Такса Фунтик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655640" y="2565360"/>
            <a:ext cx="74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ажное, полное 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1042920" y="494172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уменьшительное от слова «фунт» (1 фунт = 400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равнит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холод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страх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негодов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рожать от любопыт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50920" y="404640"/>
            <a:ext cx="324000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мехну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50920" y="1268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рчавая 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0920" y="2349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х разъяр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0920" y="350028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отчаянным воп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0920" y="458136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ушина под до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4859280" y="5732640"/>
            <a:ext cx="3960720" cy="720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иж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4716360" y="148428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пренебрежением, высок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788000" y="249228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ло   смеяться, насмеш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788000" y="3357720"/>
            <a:ext cx="3960720" cy="115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рстие для свободного доступа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4788000" y="4653000"/>
            <a:ext cx="396072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рявая, вьющая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4716360" y="404640"/>
            <a:ext cx="3961080" cy="719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  в сильном гн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19"/>
          <p:cNvCxnSpPr>
            <a:endCxn id="109" idx="1"/>
          </p:cNvCxnSpPr>
          <p:nvPr/>
        </p:nvCxnSpPr>
        <p:spPr>
          <a:xfrm>
            <a:off x="3564000" y="691920"/>
            <a:ext cx="1224720" cy="216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14" name="Прямоугольник 21"/>
          <p:cNvSpPr/>
          <p:nvPr/>
        </p:nvSpPr>
        <p:spPr>
          <a:xfrm>
            <a:off x="250920" y="5661000"/>
            <a:ext cx="3240000" cy="86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швырнул с от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24"/>
          <p:cNvCxnSpPr/>
          <p:nvPr/>
        </p:nvCxnSpPr>
        <p:spPr>
          <a:xfrm>
            <a:off x="3491280" y="1700280"/>
            <a:ext cx="1296360" cy="3169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6" name="Прямая со стрелкой 26"/>
          <p:cNvCxnSpPr/>
          <p:nvPr/>
        </p:nvCxnSpPr>
        <p:spPr>
          <a:xfrm flipV="1">
            <a:off x="3492360" y="1124640"/>
            <a:ext cx="1224720" cy="179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7" name="Прямая со стрелкой 32"/>
          <p:cNvCxnSpPr>
            <a:endCxn id="107" idx="1"/>
          </p:cNvCxnSpPr>
          <p:nvPr/>
        </p:nvCxnSpPr>
        <p:spPr>
          <a:xfrm>
            <a:off x="3491280" y="4076280"/>
            <a:ext cx="1367640" cy="201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8" name="Прямая со стрелкой 35"/>
          <p:cNvCxnSpPr>
            <a:endCxn id="110" idx="1"/>
          </p:cNvCxnSpPr>
          <p:nvPr/>
        </p:nvCxnSpPr>
        <p:spPr>
          <a:xfrm flipV="1">
            <a:off x="3492000" y="3933000"/>
            <a:ext cx="1296360" cy="1080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9" name="Прямая со стрелкой 39"/>
          <p:cNvCxnSpPr/>
          <p:nvPr/>
        </p:nvCxnSpPr>
        <p:spPr>
          <a:xfrm flipV="1">
            <a:off x="3419640" y="2204640"/>
            <a:ext cx="1297440" cy="4393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чём сходств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3640" y="1915920"/>
            <a:ext cx="37800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Гадкий утёнок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91644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980640" y="4292640"/>
            <a:ext cx="18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ун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14840" t="34883" r="13081" b="4642"/>
          <a:stretch/>
        </p:blipFill>
        <p:spPr>
          <a:xfrm>
            <a:off x="5076720" y="3068640"/>
            <a:ext cx="3327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ение 3-ей части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добрать загадки о героях рассказ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2" descr=""/>
          <p:cNvPicPr/>
          <p:nvPr/>
        </p:nvPicPr>
        <p:blipFill>
          <a:blip r:embed="rId1"/>
          <a:stretch/>
        </p:blipFill>
        <p:spPr>
          <a:xfrm>
            <a:off x="390600" y="493560"/>
            <a:ext cx="82468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сылки на использованный материал в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e-ka.diary.ru/?favorite&amp;fgroup_id=0&amp;from=2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ti.ru/pictures/wall/mou02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ustovskiy.niv.ru/paustovskiy/family/fotografii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useum.tarusa.ru/main/index.phtml?m1.p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ead.ru/id/437996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abirint.ru/screenshot/goods/221079/29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abirint.ru/screenshot/goods/221079/3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textbook.ru/catalog/4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community.livejournal.com/kid_home_lib/32097.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libex.ru/dimg/8c3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imc.rkc-74.ru/dlrstore/2/2d0a7135-a9b6-faf2-61ef-5e20fd5ded95/0000267G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live4fun.ru/joke/303677/gall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blueroebuck.com/hen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rcio.pnzgu.ru/personal/43/3/6/v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skarb.shop.by/403/?page_size=10&amp;page_id=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http://www.xxlbook.ru/offerlab136089.asp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 рассказа Б. Емельянова « Игр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лава сама постучалась к нему в воро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2. Игра становится жизнью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3. Мы тимуровцы. Мы делаем своё дел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360" y="1628640"/>
            <a:ext cx="5481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Устный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ассказ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 коте- ворю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13848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0956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3280" y="429228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Из рассказа К.Паустовского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«Колотый саха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6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« Нет хуже, когда у человека душа сухая. Вянет от таких жизнь, как трава от осенней рос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Сухая душа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56000" y="3933360"/>
            <a:ext cx="382608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авнодуш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39640" y="1844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ёрст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611280" y="5229360"/>
            <a:ext cx="3827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езразлич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4788000" y="184464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5940360" y="544500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835280" y="3068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жив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одержимое 2"/>
          <p:cNvSpPr/>
          <p:nvPr/>
        </p:nvSpPr>
        <p:spPr>
          <a:xfrm>
            <a:off x="900000" y="765000"/>
            <a:ext cx="30956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утк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539640" y="3068640"/>
            <a:ext cx="382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826920" y="4941720"/>
            <a:ext cx="3024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ога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826920" y="285264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живая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889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-42840" y="901800"/>
            <a:ext cx="94788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763640" y="47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онстантин Паусто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227640" y="5229360"/>
            <a:ext cx="2081160" cy="133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1582560" cy="158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rcRect l="48815" t="0" r="6155" b="19044"/>
          <a:stretch/>
        </p:blipFill>
        <p:spPr>
          <a:xfrm>
            <a:off x="6875640" y="263700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539640" y="4581360"/>
            <a:ext cx="1354320" cy="157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2411280" y="4581360"/>
            <a:ext cx="164484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7"/>
          <a:stretch/>
        </p:blipFill>
        <p:spPr>
          <a:xfrm>
            <a:off x="4356000" y="3860640"/>
            <a:ext cx="1595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у котика у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дивительной кра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за смел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убки бел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йдет котя в огород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полошиться весь народ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петух, и кур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деревенской у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7:29:31Z</dcterms:created>
  <dc:creator>WinStyle</dc:creator>
  <dc:description/>
  <dc:language>en-US</dc:language>
  <cp:lastModifiedBy>WinStyle</cp:lastModifiedBy>
  <dcterms:modified xsi:type="dcterms:W3CDTF">2010-10-15T02:28:50Z</dcterms:modified>
  <cp:revision>14</cp:revision>
  <dc:subject/>
  <dc:title>Слайд 1</dc:title>
</cp:coreProperties>
</file>